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5E7-AAC4-417D-980A-0F8EC24D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822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49360"/>
            <a:ext cx="822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11D-3228-4B36-8B50-53B5736E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0FA-D31B-4CFC-86C5-02D54FB8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912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912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4936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4936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4936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52D-11BE-4445-BBF1-E1D9853C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9120"/>
            <a:ext cx="8229600" cy="28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725-2BEB-4705-86F7-AC9805D3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82296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335-33CA-444C-BF78-B60591B0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F23-F496-48AB-B5E5-BDA59DFA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06F-D700-4D5F-BB25-61F8FA07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0632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72D-728F-48BD-817D-6F886FE1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14E-2A82-4DE1-8E47-ABD4EEE3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C86-0F24-4D30-A599-18DE873F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49360"/>
            <a:ext cx="822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FC7-761B-46A2-83D4-3B092252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169920" y="187200"/>
            <a:ext cx="8802720" cy="468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9120"/>
            <a:ext cx="82296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97520" indent="-19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65720" indent="-153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72080" indent="-153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78440" indent="-153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78440" indent="-153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78440" indent="-153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8282-8AC6-4D14-862B-67049EAA58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1FCF-9E22-41A0-9D32-A8CA21AF07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7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69920" y="187200"/>
            <a:ext cx="8802720" cy="468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173160" y="577800"/>
            <a:ext cx="8797680" cy="4159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2" descr=""/>
          <p:cNvPicPr/>
          <p:nvPr/>
        </p:nvPicPr>
        <p:blipFill>
          <a:blip r:embed="rId3"/>
          <a:stretch/>
        </p:blipFill>
        <p:spPr>
          <a:xfrm>
            <a:off x="5942160" y="771480"/>
            <a:ext cx="2590560" cy="3708360"/>
          </a:xfrm>
          <a:prstGeom prst="rect">
            <a:avLst/>
          </a:prstGeom>
          <a:ln w="0">
            <a:noFill/>
          </a:ln>
        </p:spPr>
      </p:pic>
      <p:sp>
        <p:nvSpPr>
          <p:cNvPr id="47" name="矩形 15"/>
          <p:cNvSpPr/>
          <p:nvPr/>
        </p:nvSpPr>
        <p:spPr>
          <a:xfrm>
            <a:off x="270000" y="163836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高端大气商务报告</a:t>
            </a:r>
            <a:r>
              <a:rPr b="1" lang="en-US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PPT</a:t>
            </a: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3132000" y="247968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时间：</a:t>
            </a:r>
            <a:r>
              <a:rPr b="1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2012</a:t>
            </a: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年某月某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地点：</a:t>
            </a:r>
            <a:r>
              <a:rPr b="1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××××××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演讲人：某某某</a:t>
            </a:r>
            <a:r>
              <a:rPr b="1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77560" y="43275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911F-1FAD-4154-8390-A3F1FF102A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63440" y="557280"/>
            <a:ext cx="8815320" cy="4179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2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2760840" y="627120"/>
            <a:ext cx="35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以留白切割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755640" y="1708200"/>
            <a:ext cx="2521080" cy="1150920"/>
            <a:chOff x="755640" y="1708200"/>
            <a:chExt cx="2521080" cy="1150920"/>
          </a:xfrm>
        </p:grpSpPr>
        <p:sp>
          <p:nvSpPr>
            <p:cNvPr id="55" name="直接连接符 3"/>
            <p:cNvSpPr/>
            <p:nvPr/>
          </p:nvSpPr>
          <p:spPr>
            <a:xfrm>
              <a:off x="755640" y="1708200"/>
              <a:ext cx="0" cy="1150920"/>
            </a:xfrm>
            <a:prstGeom prst="line">
              <a:avLst/>
            </a:prstGeom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24"/>
            <p:cNvSpPr/>
            <p:nvPr/>
          </p:nvSpPr>
          <p:spPr>
            <a:xfrm>
              <a:off x="3276720" y="1708200"/>
              <a:ext cx="0" cy="1150920"/>
            </a:xfrm>
            <a:prstGeom prst="line">
              <a:avLst/>
            </a:prstGeom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16"/>
          <p:cNvSpPr/>
          <p:nvPr/>
        </p:nvSpPr>
        <p:spPr>
          <a:xfrm>
            <a:off x="3590640" y="1255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此处可键入副标题，亦可留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7"/>
          <p:cNvSpPr/>
          <p:nvPr/>
        </p:nvSpPr>
        <p:spPr>
          <a:xfrm>
            <a:off x="4067280" y="1925640"/>
            <a:ext cx="4724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如何添加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50000"/>
              </a:lnSpc>
              <a:buClr>
                <a:srgbClr val="bfbfb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点击  视图幻灯片母版  进入幻灯片母版视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50000"/>
              </a:lnSpc>
              <a:buClr>
                <a:srgbClr val="bfbfb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在幻灯片母版视图中，在幻灯片相应位置添加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50000"/>
              </a:lnSpc>
              <a:buClr>
                <a:srgbClr val="bfbfb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保存，添加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完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9"/>
          <p:cNvSpPr/>
          <p:nvPr/>
        </p:nvSpPr>
        <p:spPr>
          <a:xfrm>
            <a:off x="395280" y="3360600"/>
            <a:ext cx="338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2"/>
          <a:srcRect l="0" t="21144" r="0" b="0"/>
          <a:stretch/>
        </p:blipFill>
        <p:spPr>
          <a:xfrm>
            <a:off x="466560" y="2425680"/>
            <a:ext cx="3168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B258-3975-44D0-95C8-A2C8B83212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4807080" y="1635120"/>
            <a:ext cx="2607120" cy="3188160"/>
            <a:chOff x="4807080" y="1635120"/>
            <a:chExt cx="2607120" cy="3188160"/>
          </a:xfrm>
        </p:grpSpPr>
        <p:sp>
          <p:nvSpPr>
            <p:cNvPr id="63" name="矩形 3"/>
            <p:cNvSpPr/>
            <p:nvPr/>
          </p:nvSpPr>
          <p:spPr>
            <a:xfrm>
              <a:off x="6532200" y="22852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4"/>
            <p:cNvSpPr/>
            <p:nvPr/>
          </p:nvSpPr>
          <p:spPr>
            <a:xfrm>
              <a:off x="4942080" y="371592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5"/>
            <p:cNvSpPr/>
            <p:nvPr/>
          </p:nvSpPr>
          <p:spPr>
            <a:xfrm>
              <a:off x="7126920" y="42084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6"/>
            <p:cNvSpPr/>
            <p:nvPr/>
          </p:nvSpPr>
          <p:spPr>
            <a:xfrm>
              <a:off x="6766560" y="45162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7"/>
            <p:cNvSpPr/>
            <p:nvPr/>
          </p:nvSpPr>
          <p:spPr>
            <a:xfrm>
              <a:off x="4807080" y="226476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"/>
            <p:cNvSpPr/>
            <p:nvPr/>
          </p:nvSpPr>
          <p:spPr>
            <a:xfrm>
              <a:off x="5280480" y="1873080"/>
              <a:ext cx="45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9"/>
            <p:cNvSpPr/>
            <p:nvPr/>
          </p:nvSpPr>
          <p:spPr>
            <a:xfrm>
              <a:off x="5875560" y="1635120"/>
              <a:ext cx="30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矩形 20"/>
          <p:cNvSpPr/>
          <p:nvPr/>
        </p:nvSpPr>
        <p:spPr>
          <a:xfrm>
            <a:off x="555480" y="1812960"/>
            <a:ext cx="4724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2760840" y="627120"/>
            <a:ext cx="35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图表文字皆了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2"/>
          <p:cNvSpPr/>
          <p:nvPr/>
        </p:nvSpPr>
        <p:spPr>
          <a:xfrm>
            <a:off x="3590640" y="1255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此处可键入副标题，亦可留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63440" y="546120"/>
            <a:ext cx="881532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9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2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图片排布与独特版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60720" y="415584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图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7000" y="415584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图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9"/>
          <p:cNvSpPr/>
          <p:nvPr/>
        </p:nvSpPr>
        <p:spPr>
          <a:xfrm>
            <a:off x="395280" y="3360600"/>
            <a:ext cx="338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内容占位符 13" descr=""/>
          <p:cNvPicPr/>
          <p:nvPr/>
        </p:nvPicPr>
        <p:blipFill>
          <a:blip r:embed="rId2"/>
          <a:stretch/>
        </p:blipFill>
        <p:spPr>
          <a:xfrm>
            <a:off x="179280" y="1563840"/>
            <a:ext cx="4392720" cy="2592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0" name="内容占位符 32" descr=""/>
          <p:cNvPicPr/>
          <p:nvPr/>
        </p:nvPicPr>
        <p:blipFill>
          <a:blip r:embed="rId3"/>
          <a:stretch/>
        </p:blipFill>
        <p:spPr>
          <a:xfrm>
            <a:off x="4572000" y="1563840"/>
            <a:ext cx="4392720" cy="2592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0400-7325-48D3-A13D-72F03796A3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456240" y="699840"/>
            <a:ext cx="249408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原创 </a:t>
            </a:r>
            <a:r>
              <a:rPr b="1" lang="en-US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by </a:t>
            </a:r>
            <a:r>
              <a:rPr b="1" lang="zh-CN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唧</a:t>
            </a:r>
            <a:r>
              <a:rPr b="1" lang="en-US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and</a:t>
            </a:r>
            <a:r>
              <a:rPr b="1" lang="zh-CN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图片占位符 1" descr=""/>
          <p:cNvPicPr/>
          <p:nvPr/>
        </p:nvPicPr>
        <p:blipFill>
          <a:blip r:embed="rId1"/>
          <a:srcRect l="0" t="5838" r="0" b="5838"/>
          <a:stretch/>
        </p:blipFill>
        <p:spPr>
          <a:xfrm>
            <a:off x="179280" y="627120"/>
            <a:ext cx="6276960" cy="4157640"/>
          </a:xfrm>
          <a:prstGeom prst="rect">
            <a:avLst/>
          </a:prstGeom>
          <a:ln w="0">
            <a:noFill/>
          </a:ln>
        </p:spPr>
      </p:pic>
      <p:sp>
        <p:nvSpPr>
          <p:cNvPr id="84" name="矩形 34"/>
          <p:cNvSpPr/>
          <p:nvPr/>
        </p:nvSpPr>
        <p:spPr>
          <a:xfrm>
            <a:off x="4620240" y="1709640"/>
            <a:ext cx="3245400" cy="7034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  </a:t>
            </a:r>
            <a:r>
              <a:rPr b="1" lang="zh-CN" sz="40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谢   谢   观   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9:51:00Z</dcterms:created>
  <dc:creator>ppt宝藏</dc:creator>
  <dc:description/>
  <cp:keywords/>
  <dc:language>en-US</dc:language>
  <cp:lastModifiedBy>a</cp:lastModifiedBy>
  <dcterms:modified xsi:type="dcterms:W3CDTF">2015-07-25T12:36:03Z</dcterms:modified>
  <cp:revision>3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