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9E7B8-9187-445E-B09D-223BB9651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F84E0-59B2-4536-ACB0-EBA0166A9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21B5A-BBE6-4522-8059-11EBB86D8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52B25-A7AA-4778-A2EB-35DDFA421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CBC47-E8A1-491C-8082-9125E96CA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0131C-9A43-4858-BE0C-D4569E198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16BBA-1659-42FF-885F-917712256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97699-C8AD-4643-88F7-16EF2C5E2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058A2-5373-491E-BF58-D3C7EBD93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E57AD-815C-478C-A476-FA792DC5D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041BE-7833-4406-B0B2-F359DCB89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485AA-ADBD-4936-AF4E-9852AB79C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FDBDF-C1F0-4D72-8888-AF0A8E01959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1071720" y="256536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点击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3016440" y="280512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点击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5321520" y="227664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点击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7375680" y="278136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点击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79280" y="645336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757240" y="765000"/>
            <a:ext cx="323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感恩老师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2"/>
          <p:cNvSpPr/>
          <p:nvPr/>
        </p:nvSpPr>
        <p:spPr>
          <a:xfrm>
            <a:off x="1403280" y="1700280"/>
            <a:ext cx="345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点击添加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3"/>
          <p:cNvSpPr/>
          <p:nvPr/>
        </p:nvSpPr>
        <p:spPr>
          <a:xfrm>
            <a:off x="2562120" y="318780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点击添加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1769760" y="462744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点击添加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5877000" y="2755800"/>
            <a:ext cx="128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6"/>
          <p:cNvSpPr/>
          <p:nvPr/>
        </p:nvSpPr>
        <p:spPr>
          <a:xfrm>
            <a:off x="6855480" y="42210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7"/>
          <p:cNvSpPr/>
          <p:nvPr/>
        </p:nvSpPr>
        <p:spPr>
          <a:xfrm>
            <a:off x="5816520" y="5734080"/>
            <a:ext cx="98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95280" y="5734080"/>
            <a:ext cx="443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免费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模板下载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5364000" y="1413000"/>
            <a:ext cx="345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点击添加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6588000" y="4076640"/>
            <a:ext cx="226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点击添加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108000" y="3502080"/>
            <a:ext cx="23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点击添加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739800" y="5780160"/>
            <a:ext cx="260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点击添加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6"/>
          <p:cNvSpPr/>
          <p:nvPr/>
        </p:nvSpPr>
        <p:spPr>
          <a:xfrm>
            <a:off x="6372360" y="5950080"/>
            <a:ext cx="238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点击添加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80DA7-FB33-431F-A5DD-9BF7D44DB14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13T11:53:25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6T09:25:32Z</dcterms:modified>
  <cp:revision>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