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7524720" y="542880"/>
            <a:ext cx="617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3080" y="6453360"/>
            <a:ext cx="44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3" descr=""/>
          <p:cNvPicPr/>
          <p:nvPr/>
        </p:nvPicPr>
        <p:blipFill>
          <a:blip r:embed="rId2"/>
          <a:stretch/>
        </p:blipFill>
        <p:spPr>
          <a:xfrm>
            <a:off x="-165240" y="-73080"/>
            <a:ext cx="913788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4047120" y="1557360"/>
            <a:ext cx="2314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您像一支蜡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虽然细弱，但有一分热，发一分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照亮了别人，耗尽了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这无私的奉献， 令人用志不忘。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只因有您的谆谆教诲，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人生路上才得以一次次凯旋。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老师您辛苦了！</a:t>
            </a:r>
            <a:br>
              <a:rPr sz="2800"/>
            </a:br>
            <a:r>
              <a:rPr b="0" lang="zh-CN" sz="2800" spc="-1" strike="noStrike">
                <a:solidFill>
                  <a:srgbClr val="e82084"/>
                </a:solidFill>
                <a:latin typeface="汉仪中宋简"/>
                <a:ea typeface="汉仪中宋简"/>
              </a:rPr>
              <a:t>教师节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47:01Z</dcterms:created>
  <dc:creator>ppt5u</dc:creator>
  <dc:description>PPT无忧（www.ppt5u.com）专业PPT资源网站，免费提供精美的PPT模板，课件，素材下载以及PPT相关技巧。
</dc:description>
  <cp:keywords>PPT模板 PPT专业模板 精品PPT模板</cp:keywords>
  <dc:language>en-US</dc:language>
  <cp:lastModifiedBy>news</cp:lastModifiedBy>
  <dcterms:modified xsi:type="dcterms:W3CDTF">2015-07-20T11:08:57Z</dcterms:modified>
  <cp:revision>14</cp:revision>
  <dc:subject>PPT无忧专业PPT资源网站</dc:subject>
  <dc:title>教师节PPT模板免费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