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B543-EE7E-46A6-A1DE-55084C72E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527A-C2FC-4463-A0DB-2ADD04B4B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191808-F1CB-4F27-9DE2-92A74182B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796BDE-2F66-4D11-9615-766B6FD1E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250920" y="259920"/>
            <a:ext cx="77040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ED22F6-C4A2-4B10-A08B-2E891AABD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06D21E-DE96-425D-8870-81EA52F9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E9FE3E-2CAF-4245-978B-37C62A4D2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68C24E-04BF-4ADC-B0D9-AE8C0EDE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BE109A-6D47-4DA2-9EB2-B04CFBEC0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7A9857-0A38-48FC-99F4-FF0E094C0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216C91-B66B-4715-B735-66CF6FBAD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B0BEB8-95CC-4AAE-A1D2-9DDD0F548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BEB3-BBEA-49C0-BAB4-92C980575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DEE24F-356B-4B67-ABF3-6B1AC1EA6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09163A-8236-459C-B55A-6FA169075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4EBA65-2668-45AD-B2D5-A5347B4B8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F3093E-1FBB-4E61-AE1F-B882DFAC6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250920" y="259920"/>
            <a:ext cx="77040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017F2A-F82E-4F89-A4EC-EC2D9C4A0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C89912-E438-4974-A572-ABED8FD8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7A12DE-F86D-4248-A87C-1DC0E57A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E4B197-73CD-4E17-82C7-4513F449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B71B80-4236-4D8D-997D-06E30E2FD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92C263-5E27-4BD2-859A-96986BF69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30A8-8D73-4EDE-A300-A50880EF3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752E85-ABBF-4A17-9D75-42A472E04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331836-E95F-46E0-B048-CDE0C56FE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872E16-5893-4D97-A206-47AAACC9A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78921D-1912-402A-B82C-75BBF01C5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111F43-09A6-4986-AC18-9A92B87BE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BCB054-454C-4673-8474-481DBDCF3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250920" y="259920"/>
            <a:ext cx="77040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E3FA18-88FF-4BCB-996F-1E547056F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7C260C-6244-4BD4-94FD-3FC53166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D1BC0D-7600-4326-952C-F3BC4235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5FEA6F-5912-449F-ADCF-6B0688AA9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F218F-8F1A-43CF-998B-AF1BBD0CB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EC97BD-9A34-47DC-B135-CD278F8DD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0C267F-1014-4D58-A3E0-5D2781732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F9A3A6-BBDA-401E-BB3D-FF7F3E515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3DCD4D-C613-40F4-954A-130FFDEF7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1B91C7-6CF4-436B-9A42-D46AE6830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6B2DF1-C3DC-4B72-A374-5B590A42F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AFFDA2-1FE3-41A1-A9D6-5397DE28C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7AEFCE-C0FB-43D4-A2BE-99B8839FB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250920" y="259920"/>
            <a:ext cx="77040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C54A55-2C6D-4C89-A97B-EC50F27BC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73AB9C-47FA-47C9-A06D-88706A4B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6BAE0-AF75-445A-85EB-978F0E13E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F309A4-849D-42BC-92EA-CE70B6A54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2AB200-311C-4EAA-8094-3A9A3F06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76ECED-B8EB-4D52-AF72-2441674D1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13060D-BEC8-4A0D-8C57-1690E2195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A9AE51-C0AD-4F11-8C71-87CCFC8F0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92BF9-8150-4178-91B3-F18243B3B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E88A3-7098-4E46-B0F0-462B18E11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9E097-FD52-4022-B57F-41A232AC9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50920" y="259920"/>
            <a:ext cx="77040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113B7-0796-40BF-AEF7-B062AAB40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0ADFF-3F0F-49BB-947B-372DD584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97E4-1A87-4692-BC88-B03CD0762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4C8CC-31C9-42AE-9ED1-6708D9324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CF145-CC90-41AC-9619-7071566E4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E14BD-23FF-4A5D-8929-F38F97DEE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FD15C-742A-49EF-9E38-ECC93DF47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E622A-082F-4B6A-8E05-1E57D1025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39390-FCCE-45B0-809C-2AA1AC612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9013F-DE4A-4FF4-A2FA-B224B5B37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80C83-DCD4-433D-AC63-19FFD772D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8EAD8-6ABE-48AE-8CA6-9691FB1B1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D548D-135E-4FD7-BAC4-67522518D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DDFC-2E6D-404C-BF29-ECE05245E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50920" y="259920"/>
            <a:ext cx="77040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3964A-0301-44C6-9C23-D30D7733B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F080C-372D-4A90-BED2-31349CA32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4472B-9DF9-47E3-B4B6-192D6A2C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9CECC-8E0A-4A23-BA68-2F1524CDA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27791-DCEB-4482-8B82-D2DD47C13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5EC71-2F33-4366-A59F-26E67848A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33570-4C55-4C5B-953E-92DDB5F6D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6A8B2-C69D-451E-BF8F-2F656B538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EB747-E414-4C0B-BD5B-7D3592B33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0F26D-810F-4606-84EC-7ED12EAD2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CC99-0ECF-46E5-ADB3-4F377C654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C6CDE-1991-4C96-ADBD-F7B859F76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A24EA-D77C-4801-BC91-36720586B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250920" y="259920"/>
            <a:ext cx="77040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CB40E-F246-4D6E-862C-DCA0AB36F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BEEB8-550F-4294-B50B-B2789F62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1FC5A-43BB-4659-B716-90E2B5BC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CDCAF-D4AB-44E6-B6C8-E22EBEA7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F33E1-E79B-4793-B186-91D25ACE0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5D99B-81A9-4999-A39D-03E68A63F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0A5F1-2229-4D32-8350-F6AFCDA0C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5E372-B0CE-4E6C-BB99-BC4AC705C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9056-AD3D-4943-80E9-BB1D274FC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87ED6A-D2B9-4C40-AF65-CB5964857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25D007-B6B6-4EDA-A992-7B8B2B089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FFD9B6-E2DB-420A-A29C-C810F2A74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C05BC-1428-4E4E-80A4-60FD50396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250920" y="259920"/>
            <a:ext cx="77040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ACADFE-3D7A-4706-B2BF-39FC3D776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D5EFE-7384-44B5-AC22-552FDF18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DC167-AF16-4021-9BA1-C93422767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735F99-1744-4699-9819-E581CF15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B5C705-3264-40AE-8D2A-EE828B66E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0247B-C18D-4FDD-934B-6239D5793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50920" y="259920"/>
            <a:ext cx="77040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8A15-298C-4737-B81D-972D33A2D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D0FB8-B183-403B-B05D-ACE984DB1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B517E5-F1A1-482A-83E3-B3C73CBB8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F0DF90-41E6-4932-A2F1-09B897EF1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47A2F-15CA-4DE7-9904-12835D470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B6FCB6-5509-460A-8325-9B6A384DC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644F12-0180-43A8-9B9F-825100969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250920" y="259920"/>
            <a:ext cx="77040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10C82B-7F75-4D3B-83FA-DC5351F60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7104F6-A566-4F22-A381-F6EFA95D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1E4DD1-D0A4-4605-8296-3383CE7A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89AB7D-6E69-4C6D-B3FB-085EE1C0F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A607-1EC0-411A-B732-AC76F073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BF06BB-6139-42B8-B3F7-86D99001C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3E0FD0-EBE3-45A7-9B73-9E0A7E95E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590313-69EC-4708-A2F6-37694DA4F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B9A45A-1790-4FE4-85B3-BD1DE7D52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95CFCF-E3BD-4358-BF28-4C7B602AE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1EEC58-B98A-40A0-9F06-7BA75BFAD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24300F-6E03-4B58-958D-99B0C60B2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D9233F-D4E3-4A56-9A59-5945C2E8D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250920" y="259920"/>
            <a:ext cx="77040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DF5B5B-D2C1-466B-87F0-26058D85F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21897D-77A6-407F-8F06-534293C9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DD26-37FD-4B8B-9219-B0C384EDF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7A0FC6-6214-45F5-AD42-D82F4F02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CB31DC-5A01-42FD-9C2B-3C419D34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C6329F-86F6-4D48-98DF-406F29370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6B38AA-321C-4F45-8219-60584EE23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34D426-D96A-4648-A957-CD7EC0F8A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E4E154-8EFA-4C36-8DEB-2EC032DFA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893FBB-E0CF-40BE-965C-DB74987BA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F7C520-CDF2-4B47-81A7-AFE02C9E3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3419D1-25DF-448B-B3C1-C045D38FE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BEF09D-B507-4815-B575-52044CFDA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37F9-B3ED-48B4-ABEF-F803E203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50920" y="259920"/>
            <a:ext cx="77040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4D4AFD-F4C2-4CC1-BD02-BD1996F80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C9715A-4E59-4BE1-90A8-70829BAD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D1A47C-7E3A-4E1C-929E-0DF7DE96D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E691F6-11CF-4ED8-9C14-383A76524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DD0F27-2121-4B41-B13B-916CFE12E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7B1E17-321A-4156-939A-C0532ADEE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179A08-4E87-4F28-A1CA-47D4CF198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09E247-DC99-44D3-A363-68E10DFD4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EBC5FB-C90D-4C55-9275-2F35BB89B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02CEFA-68F7-422A-9718-DA52256A2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b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cc33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c3300"/>
                </a:solidFill>
                <a:latin typeface="Times New Roman"/>
              </a:rPr>
              <a:t>素彩网</a:t>
            </a:r>
            <a:r>
              <a:rPr b="0" lang="en-US" sz="1400" spc="-1" strike="noStrike">
                <a:solidFill>
                  <a:srgbClr val="cc3300"/>
                </a:solidFill>
                <a:latin typeface="Times New Roman"/>
              </a:rPr>
              <a:t>http://www.sc115.com-ppt</a:t>
            </a:r>
            <a:r>
              <a:rPr b="0" lang="zh-CN" sz="1400" spc="-1" strike="noStrike">
                <a:solidFill>
                  <a:srgbClr val="cc3300"/>
                </a:solidFill>
                <a:latin typeface="Times New Roman"/>
              </a:rPr>
              <a:t>模板免费下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47977-7801-4BCF-90DD-5E8BECDAE8D2}" type="slidenum">
              <a:rPr b="0" lang="en-US" sz="1400" spc="-1" strike="noStrike">
                <a:solidFill>
                  <a:srgbClr val="cc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7" descr="b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8B7B9-4779-4209-8D95-E0A6F3B38CD5}" type="slidenum">
              <a:rPr b="0" lang="en-US" sz="1400" spc="-1" strike="noStrike">
                <a:solidFill>
                  <a:srgbClr val="cc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7" descr="b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6B36C-45CC-4109-B474-DDDAC87B2E31}" type="slidenum">
              <a:rPr b="0" lang="en-US" sz="1400" spc="-1" strike="noStrike">
                <a:solidFill>
                  <a:srgbClr val="cc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7" descr="b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EFF1B-CB99-4FC4-8726-284769AC105C}" type="slidenum">
              <a:rPr b="0" lang="en-US" sz="1400" spc="-1" strike="noStrike">
                <a:solidFill>
                  <a:srgbClr val="cc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素彩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sc115.com-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免费下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C5926-FB94-42F3-97E2-FD0E98F40A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b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28CAD-22CE-4AD2-9BD7-96ED330ECDB6}" type="slidenum">
              <a:rPr b="0" lang="en-US" sz="1400" spc="-1" strike="noStrike">
                <a:solidFill>
                  <a:srgbClr val="cc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7" descr="b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E5F0A-2F82-4E18-BFDC-093223D28469}" type="slidenum">
              <a:rPr b="0" lang="en-US" sz="1400" spc="-1" strike="noStrike">
                <a:solidFill>
                  <a:srgbClr val="cc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7" descr="b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F4E73-7A56-4B6C-8E96-E4043FC6CFCA}" type="slidenum">
              <a:rPr b="0" lang="en-US" sz="1400" spc="-1" strike="noStrike">
                <a:solidFill>
                  <a:srgbClr val="cc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7" descr="b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C9892-EF0D-4296-B567-13CEB7CA9170}" type="slidenum">
              <a:rPr b="0" lang="en-US" sz="1400" spc="-1" strike="noStrike">
                <a:solidFill>
                  <a:srgbClr val="cc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7" descr="b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0E4C8-B0EC-44E5-9C6D-19FDF304544E}" type="slidenum">
              <a:rPr b="0" lang="en-US" sz="1400" spc="-1" strike="noStrike">
                <a:solidFill>
                  <a:srgbClr val="cc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7" descr="b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0BBE0-C126-4BB0-BF21-61170A3CFBC4}" type="slidenum">
              <a:rPr b="0" lang="en-US" sz="1400" spc="-1" strike="noStrike">
                <a:solidFill>
                  <a:srgbClr val="cc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b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9D9C6-CE18-4FE2-B0C7-ABE0C3ED690C}" type="slidenum">
              <a:rPr b="0" lang="en-US" sz="1400" spc="-1" strike="noStrike">
                <a:solidFill>
                  <a:srgbClr val="cc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26560" y="4437000"/>
            <a:ext cx="701676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1116000" y="5445000"/>
            <a:ext cx="64008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6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0800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985840" y="4428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感恩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971640" y="5661000"/>
            <a:ext cx="496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1" lang="en-US" sz="14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 </a:t>
            </a:r>
            <a:r>
              <a:rPr b="1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1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4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1" lang="en-US" sz="14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1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BB28A-9174-45EA-8772-4249C46CE5C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3T13:08:28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9:11:07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