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B2F-6F04-4F3E-B15B-425A66D1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79B-41E0-4053-A666-BC432361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8C1-82A4-48E1-9CA1-DF46B6D4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7AA-1DA5-403E-8869-C113F88F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411-481C-4519-ADB2-DE4D6802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E19-F4B7-4B84-9BDC-176AADC5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C9A-5EF1-40B6-8812-C011FCA5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916-F754-495A-BD69-2DFA2991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A7F-B16A-43B1-B516-91E31EDB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201-5C8A-448B-AA95-02380AF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F91-387B-44CA-973F-D73FB81E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D9D-4A75-4B28-A738-1C153A3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0" r="0" b="28081"/>
          <a:stretch/>
        </p:blipFill>
        <p:spPr>
          <a:xfrm>
            <a:off x="0" y="2749680"/>
            <a:ext cx="9144000" cy="4109760"/>
          </a:xfrm>
          <a:prstGeom prst="rect">
            <a:avLst/>
          </a:prstGeom>
          <a:ln w="0">
            <a:noFill/>
          </a:ln>
        </p:spPr>
      </p:pic>
      <p:sp>
        <p:nvSpPr>
          <p:cNvPr id="1" name="矩形 8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989D-F0C5-4020-B53E-B7A9DDBA1910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3119-FC42-47B2-8E66-9F217578E10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1"/>
          <a:srcRect l="16562" t="0" r="0" b="0"/>
          <a:stretch/>
        </p:blipFill>
        <p:spPr>
          <a:xfrm>
            <a:off x="-3492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7236000" y="4508640"/>
            <a:ext cx="122364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443640" y="4869000"/>
            <a:ext cx="122400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3"/>
          <p:cNvSpPr/>
          <p:nvPr/>
        </p:nvSpPr>
        <p:spPr>
          <a:xfrm>
            <a:off x="7236000" y="4508640"/>
            <a:ext cx="190800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5"/>
          <p:cNvSpPr/>
          <p:nvPr/>
        </p:nvSpPr>
        <p:spPr>
          <a:xfrm>
            <a:off x="7236000" y="4508640"/>
            <a:ext cx="0" cy="36036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7"/>
          <p:cNvSpPr/>
          <p:nvPr/>
        </p:nvSpPr>
        <p:spPr>
          <a:xfrm flipH="1">
            <a:off x="6443280" y="4869000"/>
            <a:ext cx="792360" cy="144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9"/>
          <p:cNvSpPr/>
          <p:nvPr/>
        </p:nvSpPr>
        <p:spPr>
          <a:xfrm>
            <a:off x="6443640" y="4869000"/>
            <a:ext cx="1440" cy="36036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21"/>
          <p:cNvSpPr/>
          <p:nvPr/>
        </p:nvSpPr>
        <p:spPr>
          <a:xfrm flipH="1">
            <a:off x="-360" y="5187960"/>
            <a:ext cx="6443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6200" y="522900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cfc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34680" y="4808160"/>
            <a:ext cx="7824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华文细黑"/>
                <a:ea typeface="华文细黑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300720" y="150840"/>
            <a:ext cx="71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2480" y="333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感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9097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E33-E81E-40AE-889F-4D7A0251BB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7:3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24:3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