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5040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8A89-11C2-4697-8E44-77B89B50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7B53-051B-484B-BDFE-028C6ECA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7086-75C4-4105-A6F9-ED3CBF46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4E4A-2D33-4733-B60E-752050EF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E97-DDA1-429D-8DEA-6B0C6693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467-6A8E-4813-83F6-32520EE9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BF7C-46BB-409C-A2BC-E8FF1DD1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722-816D-4A39-B65D-7CD166B6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5218-3479-47B3-BF4A-ED07C69D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C5BB-28B2-425B-BB2C-F168FCAA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D3B-DA08-4D49-84F2-C0010522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5A3-FBE7-49C1-9379-432482EA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粗宋简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717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E056-8645-434C-AEF7-0E7BF44702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1.png"/><Relationship Id="rId14" Type="http://schemas.openxmlformats.org/officeDocument/2006/relationships/image" Target="../media/image7.png"/><Relationship Id="rId15" Type="http://schemas.openxmlformats.org/officeDocument/2006/relationships/image" Target="../media/image1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457280" y="584280"/>
            <a:ext cx="720720" cy="825120"/>
            <a:chOff x="-1457280" y="584280"/>
            <a:chExt cx="720720" cy="825120"/>
          </a:xfrm>
        </p:grpSpPr>
        <p:sp>
          <p:nvSpPr>
            <p:cNvPr id="42" name="矩形 10"/>
            <p:cNvSpPr/>
            <p:nvPr/>
          </p:nvSpPr>
          <p:spPr>
            <a:xfrm>
              <a:off x="-1457280" y="629280"/>
              <a:ext cx="720720" cy="7207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TextBox 11"/>
            <p:cNvSpPr/>
            <p:nvPr/>
          </p:nvSpPr>
          <p:spPr>
            <a:xfrm>
              <a:off x="-1360800" y="584280"/>
              <a:ext cx="549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</a:rPr>
                <a:t>P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-1684440" y="2639880"/>
            <a:ext cx="1174680" cy="1419480"/>
            <a:chOff x="-1684440" y="2639880"/>
            <a:chExt cx="1174680" cy="1419480"/>
          </a:xfrm>
        </p:grpSpPr>
        <p:sp>
          <p:nvSpPr>
            <p:cNvPr id="45" name="矩形 23"/>
            <p:cNvSpPr/>
            <p:nvPr/>
          </p:nvSpPr>
          <p:spPr>
            <a:xfrm>
              <a:off x="-1684080" y="2760120"/>
              <a:ext cx="1174320" cy="1299240"/>
            </a:xfrm>
            <a:custGeom>
              <a:avLst/>
              <a:gdLst/>
              <a:ahLst/>
              <a:rect l="l" t="t" r="r" b="b"/>
              <a:pathLst>
                <a:path w="1172921" h="1299019">
                  <a:moveTo>
                    <a:pt x="0" y="0"/>
                  </a:moveTo>
                  <a:lnTo>
                    <a:pt x="1172921" y="0"/>
                  </a:lnTo>
                  <a:lnTo>
                    <a:pt x="957021" y="1299019"/>
                  </a:lnTo>
                  <a:lnTo>
                    <a:pt x="254000" y="12863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bfbfbf"/>
              </a:solidFill>
              <a:round/>
            </a:ln>
            <a:effectLst>
              <a:outerShdw dist="317356" dir="5279084" blurRad="0" rotWithShape="0">
                <a:srgbClr val="000000">
                  <a:alpha val="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椭圆 24"/>
            <p:cNvSpPr/>
            <p:nvPr/>
          </p:nvSpPr>
          <p:spPr>
            <a:xfrm>
              <a:off x="-1684440" y="2639880"/>
              <a:ext cx="1174680" cy="240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9220680" y="200880"/>
            <a:ext cx="4808880" cy="3729600"/>
            <a:chOff x="9220680" y="200880"/>
            <a:chExt cx="4808880" cy="3729600"/>
          </a:xfrm>
        </p:grpSpPr>
        <p:pic>
          <p:nvPicPr>
            <p:cNvPr id="48" name="Picture 2" descr=""/>
            <p:cNvPicPr/>
            <p:nvPr/>
          </p:nvPicPr>
          <p:blipFill>
            <a:blip r:embed="rId1"/>
            <a:stretch/>
          </p:blipFill>
          <p:spPr>
            <a:xfrm rot="19651200">
              <a:off x="10474200" y="1299240"/>
              <a:ext cx="55476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" descr=""/>
            <p:cNvPicPr/>
            <p:nvPr/>
          </p:nvPicPr>
          <p:blipFill>
            <a:blip r:embed="rId2"/>
            <a:stretch/>
          </p:blipFill>
          <p:spPr>
            <a:xfrm rot="1147200">
              <a:off x="12364920" y="870120"/>
              <a:ext cx="55476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" descr=""/>
            <p:cNvPicPr/>
            <p:nvPr/>
          </p:nvPicPr>
          <p:blipFill>
            <a:blip r:embed="rId3"/>
            <a:stretch/>
          </p:blipFill>
          <p:spPr>
            <a:xfrm rot="1147200">
              <a:off x="12989160" y="318600"/>
              <a:ext cx="89496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" descr=""/>
            <p:cNvPicPr/>
            <p:nvPr/>
          </p:nvPicPr>
          <p:blipFill>
            <a:blip r:embed="rId4"/>
            <a:stretch/>
          </p:blipFill>
          <p:spPr>
            <a:xfrm rot="18949800">
              <a:off x="10457280" y="744480"/>
              <a:ext cx="55476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2" descr=""/>
            <p:cNvPicPr/>
            <p:nvPr/>
          </p:nvPicPr>
          <p:blipFill>
            <a:blip r:embed="rId5"/>
            <a:stretch/>
          </p:blipFill>
          <p:spPr>
            <a:xfrm rot="18949800">
              <a:off x="11071080" y="1324080"/>
              <a:ext cx="40428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2" descr=""/>
            <p:cNvPicPr/>
            <p:nvPr/>
          </p:nvPicPr>
          <p:blipFill>
            <a:blip r:embed="rId6"/>
            <a:stretch/>
          </p:blipFill>
          <p:spPr>
            <a:xfrm>
              <a:off x="11549520" y="1191600"/>
              <a:ext cx="515160" cy="59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2" descr=""/>
            <p:cNvPicPr/>
            <p:nvPr/>
          </p:nvPicPr>
          <p:blipFill>
            <a:blip r:embed="rId7"/>
            <a:stretch/>
          </p:blipFill>
          <p:spPr>
            <a:xfrm rot="18742200">
              <a:off x="9457560" y="421920"/>
              <a:ext cx="89532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2" descr=""/>
            <p:cNvPicPr/>
            <p:nvPr/>
          </p:nvPicPr>
          <p:blipFill>
            <a:blip r:embed="rId8"/>
            <a:stretch/>
          </p:blipFill>
          <p:spPr>
            <a:xfrm rot="1147200">
              <a:off x="12125520" y="1926360"/>
              <a:ext cx="277200" cy="32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2" descr=""/>
            <p:cNvPicPr/>
            <p:nvPr/>
          </p:nvPicPr>
          <p:blipFill>
            <a:blip r:embed="rId9"/>
            <a:stretch/>
          </p:blipFill>
          <p:spPr>
            <a:xfrm rot="1147200">
              <a:off x="11723040" y="2123640"/>
              <a:ext cx="277200" cy="32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2" descr=""/>
            <p:cNvPicPr/>
            <p:nvPr/>
          </p:nvPicPr>
          <p:blipFill>
            <a:blip r:embed="rId10"/>
            <a:stretch/>
          </p:blipFill>
          <p:spPr>
            <a:xfrm rot="17347200">
              <a:off x="11373120" y="1825560"/>
              <a:ext cx="27720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3" descr=""/>
            <p:cNvPicPr/>
            <p:nvPr/>
          </p:nvPicPr>
          <p:blipFill>
            <a:blip r:embed="rId11"/>
            <a:stretch/>
          </p:blipFill>
          <p:spPr>
            <a:xfrm>
              <a:off x="11055240" y="2414160"/>
              <a:ext cx="1200240" cy="151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2" descr=""/>
            <p:cNvPicPr/>
            <p:nvPr/>
          </p:nvPicPr>
          <p:blipFill>
            <a:blip r:embed="rId12"/>
            <a:stretch/>
          </p:blipFill>
          <p:spPr>
            <a:xfrm rot="6547200">
              <a:off x="11146680" y="2008800"/>
              <a:ext cx="27720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" descr=""/>
            <p:cNvPicPr/>
            <p:nvPr/>
          </p:nvPicPr>
          <p:blipFill>
            <a:blip r:embed="rId13"/>
            <a:stretch/>
          </p:blipFill>
          <p:spPr>
            <a:xfrm rot="2148000">
              <a:off x="12170880" y="1443960"/>
              <a:ext cx="55476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" descr=""/>
            <p:cNvPicPr/>
            <p:nvPr/>
          </p:nvPicPr>
          <p:blipFill>
            <a:blip r:embed="rId14"/>
            <a:stretch/>
          </p:blipFill>
          <p:spPr>
            <a:xfrm rot="19602600">
              <a:off x="10695600" y="1870920"/>
              <a:ext cx="44640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2" descr=""/>
            <p:cNvPicPr/>
            <p:nvPr/>
          </p:nvPicPr>
          <p:blipFill>
            <a:blip r:embed="rId15"/>
            <a:stretch/>
          </p:blipFill>
          <p:spPr>
            <a:xfrm rot="2977800">
              <a:off x="12791520" y="1237320"/>
              <a:ext cx="554760" cy="642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Picture 4" descr=""/>
          <p:cNvPicPr/>
          <p:nvPr/>
        </p:nvPicPr>
        <p:blipFill>
          <a:blip r:embed="rId16"/>
          <a:stretch/>
        </p:blipFill>
        <p:spPr>
          <a:xfrm>
            <a:off x="2828880" y="709560"/>
            <a:ext cx="3486240" cy="2700360"/>
          </a:xfrm>
          <a:prstGeom prst="rect">
            <a:avLst/>
          </a:prstGeom>
          <a:ln w="0">
            <a:noFill/>
          </a:ln>
        </p:spPr>
      </p:pic>
      <p:sp>
        <p:nvSpPr>
          <p:cNvPr id="64" name="直接连接符 32"/>
          <p:cNvSpPr/>
          <p:nvPr/>
        </p:nvSpPr>
        <p:spPr>
          <a:xfrm>
            <a:off x="3600360" y="3409920"/>
            <a:ext cx="194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36"/>
          <p:cNvSpPr/>
          <p:nvPr/>
        </p:nvSpPr>
        <p:spPr>
          <a:xfrm>
            <a:off x="3600360" y="3983040"/>
            <a:ext cx="194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117360" y="4546440"/>
            <a:ext cx="46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2473920" y="9360"/>
            <a:ext cx="363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各类证书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"/>
          <p:cNvPicPr/>
          <p:nvPr/>
        </p:nvPicPr>
        <p:blipFill>
          <a:blip r:embed="rId1"/>
          <a:stretch/>
        </p:blipFill>
        <p:spPr>
          <a:xfrm>
            <a:off x="444600" y="1238400"/>
            <a:ext cx="4016160" cy="25635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"/>
          <p:cNvSpPr/>
          <p:nvPr/>
        </p:nvSpPr>
        <p:spPr>
          <a:xfrm>
            <a:off x="4854600" y="21956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配色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：橙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4938480" y="2548080"/>
            <a:ext cx="10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排版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：上下居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5187960" y="2946240"/>
            <a:ext cx="17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特色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：灰色用于解说，不突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5244120" y="3286080"/>
            <a:ext cx="287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otes :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如果是平时演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则可以把关键字换成橙色或黑色加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444600" y="1390680"/>
            <a:ext cx="4016160" cy="2259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4813200" y="2227320"/>
            <a:ext cx="6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配色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：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4896720" y="25797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排版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：右对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5146200" y="29782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特色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：就是简洁，却不简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928760" y="3357720"/>
            <a:ext cx="272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otes :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是的，本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有模仿嫌疑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_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1940040" y="-487440"/>
            <a:ext cx="2001600" cy="60166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4896720" y="2227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配色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：黄灰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4854600" y="25797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排版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：不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396400" y="297828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特色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：元素突出的白色图片和便笺式标注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5122440" y="3319560"/>
            <a:ext cx="229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otes :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多下一些元素图片挺不错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39320"/>
            <a:ext cx="82072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粗宋简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933480"/>
            <a:ext cx="8928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244440"/>
            <a:ext cx="1388880" cy="2570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59C4-489F-4960-823A-2E0A9C58CB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234160" y="674640"/>
            <a:ext cx="5156640" cy="3303720"/>
            <a:chOff x="2234160" y="674640"/>
            <a:chExt cx="5156640" cy="3303720"/>
          </a:xfrm>
        </p:grpSpPr>
        <p:sp>
          <p:nvSpPr>
            <p:cNvPr id="69" name="TextBox 3"/>
            <p:cNvSpPr/>
            <p:nvPr/>
          </p:nvSpPr>
          <p:spPr>
            <a:xfrm>
              <a:off x="4406040" y="674640"/>
              <a:ext cx="2984760" cy="33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在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设计中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排版配色总是让人爱恨交织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好的页面赏心悦目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糟的页面触目惊心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而页面设计最简单也最有效的提高方式就是多看多思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这些精选的图片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有的颜色搭配清新宜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有的版式设计落落大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希望在跟曹将一起观赏后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下次您在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设计时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</a:rPr>
                <a:t>能灵光一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234160" y="679680"/>
              <a:ext cx="911880" cy="1080360"/>
              <a:chOff x="2234160" y="679680"/>
              <a:chExt cx="911880" cy="1080360"/>
            </a:xfrm>
          </p:grpSpPr>
          <p:sp>
            <p:nvSpPr>
              <p:cNvPr id="71" name="直接连接符 5"/>
              <p:cNvSpPr/>
              <p:nvPr/>
            </p:nvSpPr>
            <p:spPr>
              <a:xfrm>
                <a:off x="3146040" y="808200"/>
                <a:ext cx="0" cy="8643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TextBox 6"/>
              <p:cNvSpPr/>
              <p:nvPr/>
            </p:nvSpPr>
            <p:spPr>
              <a:xfrm flipH="1">
                <a:off x="2233800" y="679680"/>
                <a:ext cx="911880" cy="10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方正粗宋简体"/>
                    <a:ea typeface="方正粗宋简体"/>
                  </a:rPr>
                  <a:t>关于图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369200" y="4038480"/>
            <a:ext cx="9810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"/>
          <p:cNvPicPr/>
          <p:nvPr/>
        </p:nvPicPr>
        <p:blipFill>
          <a:blip r:embed="rId1"/>
          <a:srcRect l="0" t="0" r="3019" b="0"/>
          <a:stretch/>
        </p:blipFill>
        <p:spPr>
          <a:xfrm>
            <a:off x="444600" y="979560"/>
            <a:ext cx="4016160" cy="308124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4854600" y="22273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配色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：红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4938480" y="2579760"/>
            <a:ext cx="10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排版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：上下居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5059440" y="2978280"/>
            <a:ext cx="226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特色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：红色块并没有喧宾夺主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反而落落大方，简单明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5590800" y="3562200"/>
            <a:ext cx="229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otes :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可以在红色区域用白色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（建议手写体）作说明，但字一定要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444600" y="1203480"/>
            <a:ext cx="4016160" cy="263340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4854960" y="2368440"/>
            <a:ext cx="3036240" cy="1452960"/>
            <a:chOff x="4854960" y="2368440"/>
            <a:chExt cx="3036240" cy="1452960"/>
          </a:xfrm>
        </p:grpSpPr>
        <p:sp>
          <p:nvSpPr>
            <p:cNvPr id="81" name="TextBox 2"/>
            <p:cNvSpPr/>
            <p:nvPr/>
          </p:nvSpPr>
          <p:spPr>
            <a:xfrm>
              <a:off x="4854960" y="23684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Calibri"/>
                </a:rPr>
                <a:t>配色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：红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Box 3"/>
            <p:cNvSpPr/>
            <p:nvPr/>
          </p:nvSpPr>
          <p:spPr>
            <a:xfrm>
              <a:off x="4938120" y="2721600"/>
              <a:ext cx="10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Calibri"/>
                </a:rPr>
                <a:t>排版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：上下居中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4"/>
            <p:cNvSpPr/>
            <p:nvPr/>
          </p:nvSpPr>
          <p:spPr>
            <a:xfrm>
              <a:off x="5021280" y="3120840"/>
              <a:ext cx="12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Calibri"/>
                </a:rPr>
                <a:t>特色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：右上方的备注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6"/>
            <p:cNvSpPr/>
            <p:nvPr/>
          </p:nvSpPr>
          <p:spPr>
            <a:xfrm>
              <a:off x="5158080" y="3484080"/>
              <a:ext cx="273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Notes :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好的文案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好的图片（最好有人）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444600" y="1014480"/>
            <a:ext cx="4016160" cy="301140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4755960" y="2655720"/>
            <a:ext cx="3312360" cy="1440360"/>
            <a:chOff x="4755960" y="2655720"/>
            <a:chExt cx="3312360" cy="1440360"/>
          </a:xfrm>
        </p:grpSpPr>
        <p:sp>
          <p:nvSpPr>
            <p:cNvPr id="87" name="TextBox 2"/>
            <p:cNvSpPr/>
            <p:nvPr/>
          </p:nvSpPr>
          <p:spPr>
            <a:xfrm>
              <a:off x="4755960" y="2655720"/>
              <a:ext cx="182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Calibri"/>
                </a:rPr>
                <a:t>配色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：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[1]G[80]B[95]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3"/>
            <p:cNvSpPr/>
            <p:nvPr/>
          </p:nvSpPr>
          <p:spPr>
            <a:xfrm>
              <a:off x="4938480" y="3008520"/>
              <a:ext cx="10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Calibri"/>
                </a:rPr>
                <a:t>排版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：上下居中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4"/>
            <p:cNvSpPr/>
            <p:nvPr/>
          </p:nvSpPr>
          <p:spPr>
            <a:xfrm>
              <a:off x="5354640" y="3407040"/>
              <a:ext cx="225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Calibri"/>
                </a:rPr>
                <a:t>特色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：上下两条线让整个页面切为宽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6"/>
            <p:cNvSpPr/>
            <p:nvPr/>
          </p:nvSpPr>
          <p:spPr>
            <a:xfrm>
              <a:off x="5289120" y="3758760"/>
              <a:ext cx="27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Notes :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没有好图，那么把关键字放大也不错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"/>
          <p:cNvPicPr/>
          <p:nvPr/>
        </p:nvPicPr>
        <p:blipFill>
          <a:blip r:embed="rId1"/>
          <a:stretch/>
        </p:blipFill>
        <p:spPr>
          <a:xfrm>
            <a:off x="444600" y="1263600"/>
            <a:ext cx="4016160" cy="251316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4854960" y="2411280"/>
            <a:ext cx="3376440" cy="1458000"/>
            <a:chOff x="4854960" y="2411280"/>
            <a:chExt cx="3376440" cy="1458000"/>
          </a:xfrm>
        </p:grpSpPr>
        <p:sp>
          <p:nvSpPr>
            <p:cNvPr id="93" name="TextBox 2"/>
            <p:cNvSpPr/>
            <p:nvPr/>
          </p:nvSpPr>
          <p:spPr>
            <a:xfrm>
              <a:off x="4854960" y="241128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Calibri"/>
                </a:rPr>
                <a:t>配色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：红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3"/>
            <p:cNvSpPr/>
            <p:nvPr/>
          </p:nvSpPr>
          <p:spPr>
            <a:xfrm>
              <a:off x="4938120" y="2764080"/>
              <a:ext cx="10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Calibri"/>
                </a:rPr>
                <a:t>排版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：上下居中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4"/>
            <p:cNvSpPr/>
            <p:nvPr/>
          </p:nvSpPr>
          <p:spPr>
            <a:xfrm>
              <a:off x="5306760" y="3162960"/>
              <a:ext cx="270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Calibri"/>
                </a:rPr>
                <a:t>特色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：将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logo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淡化处理，再放大，二次强调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6"/>
            <p:cNvSpPr/>
            <p:nvPr/>
          </p:nvSpPr>
          <p:spPr>
            <a:xfrm>
              <a:off x="5330520" y="3531960"/>
              <a:ext cx="290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Notes :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如果没有左上的色块，画面会严重右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"/>
          <p:cNvPicPr/>
          <p:nvPr/>
        </p:nvPicPr>
        <p:blipFill>
          <a:blip r:embed="rId1"/>
          <a:stretch/>
        </p:blipFill>
        <p:spPr>
          <a:xfrm>
            <a:off x="444600" y="1954080"/>
            <a:ext cx="4016160" cy="113220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4938480" y="1946160"/>
            <a:ext cx="2669040" cy="1427760"/>
            <a:chOff x="4938480" y="1946160"/>
            <a:chExt cx="2669040" cy="1427760"/>
          </a:xfrm>
        </p:grpSpPr>
        <p:sp>
          <p:nvSpPr>
            <p:cNvPr id="99" name="TextBox 2"/>
            <p:cNvSpPr/>
            <p:nvPr/>
          </p:nvSpPr>
          <p:spPr>
            <a:xfrm>
              <a:off x="5271120" y="1946160"/>
              <a:ext cx="200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Calibri"/>
                </a:rPr>
                <a:t>配色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：水绿，墨绿，橙黄，红，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3"/>
            <p:cNvSpPr/>
            <p:nvPr/>
          </p:nvSpPr>
          <p:spPr>
            <a:xfrm>
              <a:off x="4938480" y="2298960"/>
              <a:ext cx="10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Calibri"/>
                </a:rPr>
                <a:t>排版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：上下居中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Box 4"/>
            <p:cNvSpPr/>
            <p:nvPr/>
          </p:nvSpPr>
          <p:spPr>
            <a:xfrm>
              <a:off x="5354280" y="2697840"/>
              <a:ext cx="225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Calibri"/>
                </a:rPr>
                <a:t>特色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：不同颜色不同部分的圆表示过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Box 6"/>
            <p:cNvSpPr/>
            <p:nvPr/>
          </p:nvSpPr>
          <p:spPr>
            <a:xfrm>
              <a:off x="5039280" y="3036600"/>
              <a:ext cx="20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Notes :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灰可以跟所有颜色融合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"/>
          <p:cNvPicPr/>
          <p:nvPr/>
        </p:nvPicPr>
        <p:blipFill>
          <a:blip r:embed="rId1"/>
          <a:stretch/>
        </p:blipFill>
        <p:spPr>
          <a:xfrm>
            <a:off x="444600" y="1265400"/>
            <a:ext cx="4016160" cy="250956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4855320" y="2160720"/>
            <a:ext cx="2739240" cy="1686600"/>
            <a:chOff x="4855320" y="2160720"/>
            <a:chExt cx="2739240" cy="1686600"/>
          </a:xfrm>
        </p:grpSpPr>
        <p:sp>
          <p:nvSpPr>
            <p:cNvPr id="105" name="TextBox 2"/>
            <p:cNvSpPr/>
            <p:nvPr/>
          </p:nvSpPr>
          <p:spPr>
            <a:xfrm>
              <a:off x="4855320" y="21607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Calibri"/>
                </a:rPr>
                <a:t>配色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：蓝黄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3"/>
            <p:cNvSpPr/>
            <p:nvPr/>
          </p:nvSpPr>
          <p:spPr>
            <a:xfrm>
              <a:off x="4938480" y="2513520"/>
              <a:ext cx="10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Calibri"/>
                </a:rPr>
                <a:t>排版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：上下居中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Box 4"/>
            <p:cNvSpPr/>
            <p:nvPr/>
          </p:nvSpPr>
          <p:spPr>
            <a:xfrm>
              <a:off x="5265720" y="2912040"/>
              <a:ext cx="232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Calibri"/>
                </a:rPr>
                <a:t>特色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：蓝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深蓝，同色系制造出层次感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6"/>
            <p:cNvSpPr/>
            <p:nvPr/>
          </p:nvSpPr>
          <p:spPr>
            <a:xfrm>
              <a:off x="5164560" y="3266640"/>
              <a:ext cx="2413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Notes :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图片宽屏展示总能产生震撼，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            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可以用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【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裁剪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】</a:t>
              </a:r>
              <a:r>
                <a:rPr b="0" lang="zh-CN" sz="1600" spc="-1" strike="noStrike">
                  <a:solidFill>
                    <a:srgbClr val="000000"/>
                  </a:solidFill>
                  <a:latin typeface="Calibri"/>
                </a:rPr>
                <a:t>工具实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"/>
          <p:cNvPicPr/>
          <p:nvPr/>
        </p:nvPicPr>
        <p:blipFill>
          <a:blip r:embed="rId1"/>
          <a:stretch/>
        </p:blipFill>
        <p:spPr>
          <a:xfrm>
            <a:off x="444600" y="1278000"/>
            <a:ext cx="4016160" cy="2484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4760280" y="2227320"/>
            <a:ext cx="223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配色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[112]G[197]B[190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4938480" y="2579760"/>
            <a:ext cx="10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排版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：上下居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5438160" y="2978280"/>
            <a:ext cx="24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特色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：用主题色的色块于上下构造宽屏效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5202000" y="3319560"/>
            <a:ext cx="275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otes :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这个配色不推荐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文字竖直排列适合设计字或毛笔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622440" y="4456080"/>
            <a:ext cx="5643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05:25:1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0:34:24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