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7E3-FAB2-4B66-A5F5-3E6E057D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1DA-D871-4F83-8AF3-987812E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D7B-B82D-4803-B820-DB184FBB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C65-005E-4921-9BE1-3E2BD35F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602-9B12-40AC-A746-1AAA80B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11F-CCF9-4C2B-ACD3-22000F3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DFD-5B36-49CC-BDDF-B9D2B1FC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DC3-2059-4C71-8273-89FD6A1F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59C-C3F8-4379-A1B9-1A88343A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93F-ADC1-467E-89EB-75CAB07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D9D-9B0A-4ADB-96F2-66514D1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341-8135-4BA6-A004-FC2C7F2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4CB-B1D2-4357-B05E-AD3A26FAF8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8FCE-5827-4A81-ADC0-2C6923E99D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1160" y="716040"/>
            <a:ext cx="900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6880" y="3141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钢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1" descr="bg3_03.png"/>
          <p:cNvPicPr/>
          <p:nvPr/>
        </p:nvPicPr>
        <p:blipFill>
          <a:blip r:embed="rId1"/>
          <a:stretch/>
        </p:blipFill>
        <p:spPr>
          <a:xfrm>
            <a:off x="0" y="5210280"/>
            <a:ext cx="2467080" cy="1647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bg3_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857160" y="58428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Elephant"/>
              </a:rPr>
              <a:t>Enter you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53020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D19-51B3-4DF4-8963-656944CAE9ED}" type="slidenum">
              <a:t>2</a:t>
            </a:fld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4111560" y="3068640"/>
            <a:ext cx="571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Elephant"/>
              </a:rPr>
              <a:t>Thank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0B8-4A67-42A7-9992-53C0BEFB6EBC}" type="slidenum">
              <a:t>3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7C8-D237-4469-ABE9-C984ADEDEE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1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2:0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