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24036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2403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2403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9075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9075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2403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2403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2403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90756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2403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0756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2403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24036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24036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403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2403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9075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9075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2403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2403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240360"/>
            <a:ext cx="264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2403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2403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907560"/>
            <a:ext cx="40158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240360"/>
            <a:ext cx="8229600" cy="213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0756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24360" y="456732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96000" y="52308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37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80880" y="2852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钢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522936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508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314172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9:33:36Z</dcterms:modified>
  <cp:revision>5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8001000000000001024140</vt:lpwstr>
  </property>
</Properties>
</file>