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9B3-AE16-4E7C-90FB-9A9D8FB8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3159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071-BB43-4A4F-A24F-67D7A3BC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315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315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CAD-7803-445A-ADB9-FAB1518F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6094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6094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315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315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315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35C-8099-42F0-939F-8CF6B6A9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D87A-189C-4F6B-AA86-1E1CB45D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348D-5838-4B0D-8EE6-821B7D10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4941-B679-4A8F-81BB-CC9C8003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B751-91D9-4608-9C56-5AF57DFC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DE4E-B8AF-4A86-BB62-B798FE4C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EAF3-BDDF-40D8-A0EB-8C1C9EB5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315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B066-97C4-4A2F-86E6-13E0507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49B-5524-46D7-BEFF-341F96ED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315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0F83-28D5-44F0-8BA3-650FDC0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3159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4434-F782-4819-81F9-D3B400B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3159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E107-8366-4126-A952-AD2E7A00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315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315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8B92-6984-4657-85CB-ACA3E7AE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6094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6094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315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315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315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11BE-F022-4B81-BA39-AE05E839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449-5103-4F76-85D4-1A53F8E8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2DC-87CF-4FE0-8067-55C9DFA1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329-383D-4997-93B7-90997F89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4B7-F4B2-490B-896A-F743F152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315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9F9-60FB-4972-92DC-3AAD7ADA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315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FAF-AB18-4AB9-949F-282F35E0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3159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98B-398D-4E3B-8DF2-1B3B032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094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6AB1-0F4D-490A-B09A-A31AA776D3A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5603760" y="4815000"/>
            <a:ext cx="3692520" cy="23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819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65DD-4DED-4498-9ABD-7619B78DF77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335232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8120" y="3581280"/>
            <a:ext cx="3317760" cy="2587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617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42080" y="76320"/>
            <a:ext cx="40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钢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免费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819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335232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943600"/>
            <a:ext cx="49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4BB-5A48-45DE-8572-C837DB35C7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28:1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