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D50-3C03-4921-9547-7381739E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9CE-DB77-44CC-8853-162953F5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60A-9537-4A0F-A441-E686F7AE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DE4-4DBF-4FCF-A37C-F101303A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791-0903-4CCC-8C47-F8E0F3D1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DFE-11C0-448C-B246-72677FEF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B08-9754-47B5-A9CD-ABFC3C78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EC3-895E-41F3-A5AD-0E68DB32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716-C159-41F8-BF0F-994F791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AD8-3CE5-46DE-89A9-D446DB36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6BC-369F-4ED9-89F5-5528093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699-442E-4E33-ACF6-80C2AC24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EEE5-B985-48CA-BCB5-27FE52C4B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8088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人简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1575000"/>
          </a:xfrm>
          <a:prstGeom prst="rect">
            <a:avLst/>
          </a:prstGeom>
          <a:ln w="0">
            <a:noFill/>
          </a:ln>
        </p:spPr>
      </p:pic>
      <p:pic>
        <p:nvPicPr>
          <p:cNvPr id="45" name="矩形 4" descr=""/>
          <p:cNvPicPr/>
          <p:nvPr/>
        </p:nvPicPr>
        <p:blipFill>
          <a:blip r:embed="rId3"/>
          <a:stretch/>
        </p:blipFill>
        <p:spPr>
          <a:xfrm>
            <a:off x="2498760" y="2163600"/>
            <a:ext cx="4859280" cy="1702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84360" y="566100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1E4-0E1F-49C2-AA7B-1DDB0AC92C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31:01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