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B42E-706D-484F-93E5-AEBCBA02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61AF-AE8E-4B24-931E-DF2D5E5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3896-B41D-4FCB-830F-CCF0D013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B3A4-E53C-4E46-8306-53B771DD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7415-474A-4A0F-9650-1EE4767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E323-BC52-4791-B6FD-94D7C19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0869-3820-4015-BE08-CB4DBCF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5E71-0997-42C8-9AA3-283AD5E8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2826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BB82-E8C8-401B-B4B1-28D4113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D449-8044-44CF-A833-DE4C3A39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32F7-6F45-4C93-9ED4-DFFD251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69EB-193A-4340-A265-473179A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同侧圆角矩形 8"/>
          <p:cNvSpPr/>
          <p:nvPr/>
        </p:nvSpPr>
        <p:spPr>
          <a:xfrm flipV="1">
            <a:off x="-2880" y="-27720"/>
            <a:ext cx="9144000" cy="6891480"/>
          </a:xfrm>
          <a:prstGeom prst="pie">
            <a:avLst/>
          </a:prstGeom>
          <a:solidFill>
            <a:srgbClr val="eeb2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3060720" y="2205000"/>
            <a:ext cx="6083280" cy="4653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rcRect l="0" t="0" r="14489" b="12893"/>
          <a:stretch/>
        </p:blipFill>
        <p:spPr>
          <a:xfrm>
            <a:off x="0" y="692280"/>
            <a:ext cx="8664480" cy="46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"/>
          <p:cNvPicPr/>
          <p:nvPr/>
        </p:nvPicPr>
        <p:blipFill>
          <a:blip r:embed="rId4"/>
          <a:srcRect l="6185" t="16981" r="12709" b="9748"/>
          <a:stretch/>
        </p:blipFill>
        <p:spPr>
          <a:xfrm>
            <a:off x="611280" y="6308640"/>
            <a:ext cx="8218440" cy="19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1366136C-F442-4ADD-BF39-B1F24671EE48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0"/>
          <p:cNvSpPr/>
          <p:nvPr/>
        </p:nvSpPr>
        <p:spPr>
          <a:xfrm>
            <a:off x="446040" y="739800"/>
            <a:ext cx="8197920" cy="55688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2490" t="0" r="21220" b="9748"/>
          <a:stretch/>
        </p:blipFill>
        <p:spPr>
          <a:xfrm>
            <a:off x="1449360" y="4724280"/>
            <a:ext cx="7694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矩形 16"/>
          <p:cNvSpPr/>
          <p:nvPr/>
        </p:nvSpPr>
        <p:spPr>
          <a:xfrm>
            <a:off x="1579680" y="2276640"/>
            <a:ext cx="7589880" cy="25923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6" descr=""/>
          <p:cNvPicPr/>
          <p:nvPr/>
        </p:nvPicPr>
        <p:blipFill>
          <a:blip r:embed="rId2"/>
          <a:srcRect l="0" t="0" r="10874" b="25683"/>
          <a:stretch/>
        </p:blipFill>
        <p:spPr>
          <a:xfrm flipH="1">
            <a:off x="-360" y="0"/>
            <a:ext cx="738036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83280" y="5896080"/>
            <a:ext cx="3060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82560" y="2491920"/>
            <a:ext cx="6048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6526080"/>
            <a:ext cx="46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6996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6EA4ACAA-FD38-4027-89CC-0345937F89C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0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0c8">
                <a:alpha val="27000"/>
              </a:srgbClr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www.1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0A0C78BA-CC31-49DD-934E-432FF907AD8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4720" y="909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9757" b="9748"/>
          <a:stretch/>
        </p:blipFill>
        <p:spPr>
          <a:xfrm>
            <a:off x="-34920" y="5084640"/>
            <a:ext cx="9142560" cy="108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18"/>
          <p:cNvSpPr/>
          <p:nvPr/>
        </p:nvSpPr>
        <p:spPr>
          <a:xfrm>
            <a:off x="0" y="2133720"/>
            <a:ext cx="9142560" cy="29829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5913360"/>
            <a:ext cx="306072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1681200" y="1268280"/>
            <a:ext cx="7461360" cy="5588280"/>
          </a:xfrm>
          <a:prstGeom prst="rect">
            <a:avLst/>
          </a:prstGeom>
          <a:ln w="0">
            <a:noFill/>
          </a:ln>
        </p:spPr>
      </p:pic>
      <p:sp>
        <p:nvSpPr>
          <p:cNvPr id="112" name="标题 3"/>
          <p:cNvSpPr/>
          <p:nvPr/>
        </p:nvSpPr>
        <p:spPr>
          <a:xfrm>
            <a:off x="0" y="2670120"/>
            <a:ext cx="86612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副标题 4"/>
          <p:cNvSpPr/>
          <p:nvPr/>
        </p:nvSpPr>
        <p:spPr>
          <a:xfrm>
            <a:off x="0" y="3473280"/>
            <a:ext cx="867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466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4572000" y="587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EEA9-9568-4AF1-8712-38B969617F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2:20Z</dcterms:modified>
  <cp:revision>3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