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B82-48B8-4768-BCF7-86F8280F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1B0-A8BF-41A3-9A89-6559877B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3B1-99D7-40B4-BE13-FBA9918C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EB4-64B1-41CB-AFBC-65149DDB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1636-8D91-477E-9306-AA09A176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26C9-D044-46D7-93F8-814A0153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CB71-9F76-4CFA-A4E1-1F174646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875A-50A9-4D31-A4EC-B55C7118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94D7-8C1E-44C7-B49A-285945A2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F9C4-637D-4FC4-B72A-D820FC39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664A-FEE2-4697-83C5-4C8DB527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D05-E9E4-44D4-BD9C-C76B63AD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BC3C-D861-4701-9244-7DCC5263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5B7B-250C-4974-A0A3-BF74BEAD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7B20-1DEF-4F31-A0C7-8E6BBE0F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0723-1830-438F-AF8D-14FE7381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41C7-0862-4608-B42F-F617D0E6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41CD-57B9-4360-93DC-8D580F0B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BEA7-0BF9-4CA3-8974-220C979C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20B0-C23B-45A9-A13A-CE7BDCE6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A78E-1A56-4109-87EA-9CBA71F0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1E53-7693-458E-80F2-E5260F43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6EC-B308-4760-B636-D0B09108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499C-FCD4-479C-BFDD-21274E81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7D4F-2F08-41A7-8A7D-26D1A51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E37A-434F-4665-96D3-B0BD2D9F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613B-B376-4068-844A-AE0F4A8A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61FC-D782-4189-9F22-B18AEB8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4756-D959-4519-92F1-318A40B4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A702-261C-4497-8409-75EA25FC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6AD-31B1-4F10-B40D-82F2EB06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553-56D9-42B4-A887-34EC32C8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444-BC4B-4CB2-BA58-6E937D2D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C74-28DE-4D71-9529-16F5BC7F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1DA-C15B-409E-9DD8-7878E520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FA8-1EBC-4967-895A-ACDA46E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A056-AA2B-4948-AB5F-41189EC1B8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8675-88AB-4AE8-B644-24E16C1184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8E69-835A-4FD7-BCD6-E9AE2ED6A7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64880" y="1701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搞笑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E59E-05FE-4039-89C7-9B74492240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  <a:ea typeface="迷你简稚艺"/>
              </a:rPr>
              <a:t>还好我是个胖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360" y="2204640"/>
            <a:ext cx="8217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无聊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起床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寂寞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上课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难过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11491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  <a:ea typeface="迷你简稚艺"/>
              </a:rPr>
              <a:t>每个人心中，都有一只妖孽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55640" y="2204640"/>
            <a:ext cx="59785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天晚上在家里上网，旺旺突然跳了出来窗口来对我说：“亲，我怀孕了”哥顿时一惊，心说自己没闯什么祸吧？ 正发愣，那人又说：“明天去医院检查。” 心想你丫到底是谁，难道还要我陪你去检查，想讹我不成？正琢磨着，那人又说：“只能后天给你发货了” 靠，原来下午在丫那里买过东西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1080" y="2565360"/>
            <a:ext cx="266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迷你简毡笔黑"/>
              </a:rPr>
              <a:t>小明一岁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8280" y="1917360"/>
            <a:ext cx="8145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迷你简毡笔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小明一岁时，他第一次喊爷爷，于是爷爷死了。没多久他第一次喊妈妈，于是妈妈死了。再后来，他喊爸爸，于是隔壁的王木匠死了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.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一位清华博士指出，这个笑话有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bug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，喊爷爷时应该是隔壁王木匠的爹死掉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.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而一位交大的同学指出：隔壁木匠的母亲知道这不是个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bug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21440" y="3860640"/>
            <a:ext cx="15303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19173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有多少人跟我一样，喜欢“挖鼻屎”这个表情？有的请转发！！！ </a:t>
            </a:r>
            <a:r>
              <a:rPr b="1" lang="en-US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挖鼻屎</a:t>
            </a:r>
            <a:r>
              <a:rPr b="1" lang="en-US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]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97440" y="3349800"/>
            <a:ext cx="114912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8360" y="1412640"/>
            <a:ext cx="2521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把图向左旋转</a:t>
            </a:r>
            <a:r>
              <a:rPr b="1" lang="en-US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度，有意外发生哦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72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后的</a:t>
            </a:r>
            <a:r>
              <a:rPr b="1" lang="en-US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个小悲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天凌晨才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不够睡钱不够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开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起不来，周末睡不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狂想去远方旅游，却只能在近郊瞎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疑自己抑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觉自己亚健康，只能亚下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些不着边际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知道自己是成熟还是世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前认为特鄙视的事变得能接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76360" y="177336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迷你简毡笔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偶像剧里的故事多么让人憧憬，但是，这年头，能在宿舍楼下默默等着你，给你送上温热的早饭午饭晚饭，不管严寒酷暑刮风下雨总会很耐心的男人，只会是</a:t>
            </a:r>
            <a:r>
              <a:rPr b="0" lang="en-US" sz="20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——</a:t>
            </a:r>
            <a:r>
              <a:rPr b="0" lang="zh-CN" sz="20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送外卖的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4720" y="1773360"/>
            <a:ext cx="2138040" cy="2230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0864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35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708000" y="1844640"/>
            <a:ext cx="496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方正少儿_GBK"/>
                <a:ea typeface="方正少儿_GBK"/>
              </a:rPr>
              <a:t> </a:t>
            </a:r>
            <a:r>
              <a:rPr b="0" lang="zh-CN" sz="2400" spc="-1" strike="noStrike">
                <a:solidFill>
                  <a:srgbClr val="336699"/>
                </a:solidFill>
                <a:latin typeface="方正少儿_GBK"/>
                <a:ea typeface="方正少儿_GBK"/>
              </a:rPr>
              <a:t>两头牛在一起吃草，青牛问黑牛：“喂你的草是什么味道？”黑牛道：“草莓味！”青牛靠过来吃了一口，愤怒地喊到“你骗我！”黑牛轻蔑地看他一眼，回道：“笨蛋，我说草没味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2720" y="2205000"/>
            <a:ext cx="3260880" cy="302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 rot="5400000">
            <a:off x="2363400" y="2325600"/>
            <a:ext cx="1729080" cy="33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草莓味儿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360"/>
                            </p:stCondLst>
                            <p:childTnLst>
                              <p:par>
                                <p:cTn id="2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3:42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27:1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3407000000000001024140</vt:lpwstr>
  </property>
</Properties>
</file>