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4400" spc="-1" strike="noStrike">
                <a:solidFill>
                  <a:srgbClr val="2b312b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176574-E07D-4841-95D0-4F06F7328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C54C1C-D261-4605-A207-A0248A7DE8C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66E16B-B9E6-40F3-8F7B-9E0BAFE50C6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E3F24C-F6EC-4677-A267-25F01FF27D7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4E7408-DB4A-4A1A-B424-414AE856631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2DC54AF8-C611-4E47-BCF4-6371E8A1773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04AD4C-4A98-4830-B474-31EEAFA3738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1861A4-8B69-4CA3-9020-B21D25837F3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5B580C-E196-4891-AEB4-1DE48902E5D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2FD-BE12-4E49-9D57-F6D4C1A5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BD1-626C-4C3D-B1AF-4FFFBD54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DA2-FA49-4505-88BB-32C20F8C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D5E-9B57-4696-8C7B-A5E7740E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F6D-46CA-4CCD-8CB8-46F97E59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045-11FF-4068-883D-E3B55F0F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2F0-D9A7-4D03-B7DE-45E96439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82A-B9E7-417C-A2D3-E42057FC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45D-1F51-432B-A586-D3BBE8A3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691-036E-4A1C-935A-83D9E48D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183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4DE-0B68-421F-ABAD-B7C3A66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50480" y="413064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2416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91120" y="4130640"/>
            <a:ext cx="263484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0480" y="1600200"/>
            <a:ext cx="399312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183160" cy="23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931-9EDE-4E8E-83CD-BD99A635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IMG_2216"/>
          <p:cNvPicPr/>
          <p:nvPr/>
        </p:nvPicPr>
        <p:blipFill>
          <a:blip r:embed="rId3"/>
          <a:stretch/>
        </p:blipFill>
        <p:spPr>
          <a:xfrm>
            <a:off x="0" y="-20520"/>
            <a:ext cx="9143640" cy="687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524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2b312b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CD4067-F9B8-448D-AE56-337D7D1FED67}" type="slidenum">
              <a:rPr b="0" lang="en-GB" sz="1400" spc="-1" strike="noStrike">
                <a:solidFill>
                  <a:srgbClr val="2b312b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160" cy="4844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  <a:ea typeface="MS PGothic"/>
              </a:rPr>
              <a:t>Click to edit Master text styles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Second level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  <a:ea typeface="MS PGothic"/>
              </a:rPr>
              <a:t>Third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our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tarSymbol"/>
              <a:buChar char="»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if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2b312b"/>
                </a:solidFill>
                <a:latin typeface="Arial"/>
              </a:rPr>
              <a:t>Click to edit the title text format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Click to edit Master text styles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  <a:ea typeface="MS PGothic"/>
              </a:rPr>
              <a:t>Second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Third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Fourth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2b312b"/>
              </a:buClr>
              <a:buFont typeface="StarSymbol"/>
              <a:buChar char="»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Fifth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Click to edit Master text styles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  <a:ea typeface="MS PGothic"/>
              </a:rPr>
              <a:t>Second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Third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Fourth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2b312b"/>
              </a:buClr>
              <a:buFont typeface="StarSymbol"/>
              <a:buChar char="»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Fifth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Click to edit the outline text format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Second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Third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Fourth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Fifth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Sixth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</a:rPr>
              <a:t>Seventh Outline Level</a:t>
            </a:r>
            <a:endParaRPr b="0" lang="en-GB" sz="18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1" descr="IMG_2216-2"/>
          <p:cNvPicPr/>
          <p:nvPr/>
        </p:nvPicPr>
        <p:blipFill>
          <a:blip r:embed="rId2"/>
          <a:stretch/>
        </p:blipFill>
        <p:spPr>
          <a:xfrm>
            <a:off x="0" y="33480"/>
            <a:ext cx="9143640" cy="68241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Click to edit Master title sty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  <a:ea typeface="MS PGothic"/>
              </a:rPr>
              <a:t>Click to edit Master text styles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Second level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  <a:ea typeface="MS PGothic"/>
              </a:rPr>
              <a:t>Third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our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tarSymbol"/>
              <a:buChar char="»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if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3200" spc="-1" strike="noStrike">
                <a:solidFill>
                  <a:srgbClr val="2b312b"/>
                </a:solidFill>
                <a:latin typeface="Arial"/>
                <a:ea typeface="MS PGothic"/>
              </a:rPr>
              <a:t>Click to edit Master text styles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Second level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2b312b"/>
                </a:solidFill>
                <a:latin typeface="Arial"/>
                <a:ea typeface="MS PGothic"/>
              </a:rPr>
              <a:t>Third level</a:t>
            </a:r>
            <a:endParaRPr b="0" lang="en-GB" sz="2400" spc="-1" strike="noStrike">
              <a:solidFill>
                <a:srgbClr val="2b312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our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b312b"/>
              </a:buClr>
              <a:buFont typeface="StarSymbol"/>
              <a:buChar char="»"/>
            </a:pPr>
            <a:r>
              <a:rPr b="0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Fifth level</a:t>
            </a:r>
            <a:endParaRPr b="0" lang="en-GB" sz="20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524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MS PGothic"/>
              </a:rPr>
              <a:t>红白玫瑰背景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MS PGothic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MS PGothic"/>
              </a:rPr>
              <a:t>模板</a:t>
            </a:r>
            <a:endParaRPr b="0" lang="en-GB" sz="40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692280" y="5237280"/>
            <a:ext cx="777528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  <a:ea typeface="MS PGothic"/>
            </a:endParaRPr>
          </a:p>
        </p:txBody>
      </p:sp>
      <p:sp>
        <p:nvSpPr>
          <p:cNvPr id="287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53880"/>
            <a:ext cx="82278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80721"/>
                </a:solidFill>
                <a:latin typeface="Arial"/>
                <a:ea typeface="MS PGothic"/>
              </a:rPr>
              <a:t> </a:t>
            </a:r>
            <a:r>
              <a:rPr b="0" lang="en-US" sz="4400" spc="-1" strike="noStrike">
                <a:solidFill>
                  <a:srgbClr val="c80721"/>
                </a:solidFill>
                <a:latin typeface="Arial"/>
                <a:ea typeface="MS PGothic"/>
              </a:rPr>
              <a:t>Example bullet point slid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79400"/>
            <a:ext cx="8257680" cy="4844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2b312b"/>
                </a:solidFill>
                <a:latin typeface="Arial"/>
                <a:ea typeface="MS PGothic"/>
              </a:rPr>
              <a:t>Bullet point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2b312b"/>
                </a:solidFill>
                <a:latin typeface="Arial"/>
                <a:ea typeface="MS PGothic"/>
              </a:rPr>
              <a:t>Bullet point</a:t>
            </a:r>
            <a:endParaRPr b="0" lang="en-GB" sz="3200" spc="-1" strike="noStrike">
              <a:solidFill>
                <a:srgbClr val="2b312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2b312b"/>
                </a:solidFill>
                <a:latin typeface="Arial"/>
                <a:ea typeface="MS PGothic"/>
              </a:rPr>
              <a:t>Sub Bullet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719520" y="2556000"/>
            <a:ext cx="826560" cy="610920"/>
          </a:xfrm>
          <a:prstGeom prst="rect">
            <a:avLst/>
          </a:prstGeom>
          <a:solidFill>
            <a:schemeClr val="tx1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795920" y="2556000"/>
            <a:ext cx="826560" cy="610920"/>
          </a:xfrm>
          <a:prstGeom prst="rect">
            <a:avLst/>
          </a:prstGeom>
          <a:solidFill>
            <a:schemeClr val="bg2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666880" y="4170240"/>
            <a:ext cx="826560" cy="61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735360" y="4170240"/>
            <a:ext cx="826560" cy="6109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4803840" y="4170240"/>
            <a:ext cx="826560" cy="610920"/>
          </a:xfrm>
          <a:prstGeom prst="rect">
            <a:avLst/>
          </a:prstGeom>
          <a:solidFill>
            <a:schemeClr val="hlink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5873760" y="4170240"/>
            <a:ext cx="826560" cy="6109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5856120" y="2556000"/>
            <a:ext cx="826560" cy="610920"/>
          </a:xfrm>
          <a:prstGeom prst="rect">
            <a:avLst/>
          </a:prstGeom>
          <a:solidFill>
            <a:schemeClr val="tx2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2651040" y="2556000"/>
            <a:ext cx="826560" cy="610920"/>
          </a:xfrm>
          <a:prstGeom prst="rect">
            <a:avLst/>
          </a:prstGeom>
          <a:solidFill>
            <a:schemeClr val="bg1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433600" y="1916280"/>
            <a:ext cx="1264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762000" y="1793880"/>
            <a:ext cx="74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4700880" y="1916280"/>
            <a:ext cx="101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5990760" y="1793880"/>
            <a:ext cx="55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2836080" y="3530520"/>
            <a:ext cx="543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3717000" y="3540240"/>
            <a:ext cx="802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7"/>
          <p:cNvSpPr/>
          <p:nvPr/>
        </p:nvSpPr>
        <p:spPr>
          <a:xfrm>
            <a:off x="4719600" y="341784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8"/>
          <p:cNvSpPr/>
          <p:nvPr/>
        </p:nvSpPr>
        <p:spPr>
          <a:xfrm>
            <a:off x="5800680" y="341640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2b312b"/>
                </a:solidFill>
                <a:latin typeface="Arial"/>
                <a:ea typeface="MS PGothic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65160" y="274680"/>
            <a:ext cx="81784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80721"/>
                </a:solidFill>
                <a:latin typeface="Arial"/>
                <a:ea typeface="MS PGothic"/>
              </a:rPr>
              <a:t>Colour Schem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Sample Graph (3 colours)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graphicFrame>
        <p:nvGraphicFramePr>
          <p:cNvPr id="308" name="Object 2"/>
          <p:cNvGraphicFramePr/>
          <p:nvPr/>
        </p:nvGraphicFramePr>
        <p:xfrm>
          <a:off x="1347840" y="1700280"/>
          <a:ext cx="6725880" cy="3736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1700280"/>
                    <a:ext cx="6725880" cy="37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Picture slid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96880" y="1504800"/>
            <a:ext cx="5017680" cy="4844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Bullet 1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Bullet 2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</p:txBody>
      </p:sp>
      <p:pic>
        <p:nvPicPr>
          <p:cNvPr id="312" name="Picture 8" descr="IMG_2216-3"/>
          <p:cNvPicPr/>
          <p:nvPr/>
        </p:nvPicPr>
        <p:blipFill>
          <a:blip r:embed="rId1"/>
          <a:stretch/>
        </p:blipFill>
        <p:spPr>
          <a:xfrm>
            <a:off x="6321600" y="1590840"/>
            <a:ext cx="2079360" cy="2501640"/>
          </a:xfrm>
          <a:prstGeom prst="rect">
            <a:avLst/>
          </a:prstGeom>
          <a:ln w="57150">
            <a:solidFill>
              <a:srgbClr val="2b312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Process Flow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731880" y="3087720"/>
            <a:ext cx="1375920" cy="2354040"/>
          </a:xfrm>
          <a:prstGeom prst="rect">
            <a:avLst/>
          </a:prstGeom>
          <a:solidFill>
            <a:srgbClr val="748ed6"/>
          </a:solidFill>
          <a:ln w="12700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2266920" y="3087720"/>
            <a:ext cx="1375920" cy="2354040"/>
          </a:xfrm>
          <a:prstGeom prst="rect">
            <a:avLst/>
          </a:prstGeom>
          <a:solidFill>
            <a:srgbClr val="009193"/>
          </a:solidFill>
          <a:ln w="12700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776760" y="3087720"/>
            <a:ext cx="1375920" cy="2354040"/>
          </a:xfrm>
          <a:prstGeom prst="rect">
            <a:avLst/>
          </a:prstGeom>
          <a:solidFill>
            <a:srgbClr val="99ccff"/>
          </a:solidFill>
          <a:ln w="12700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5284800" y="3087720"/>
            <a:ext cx="1375920" cy="2354040"/>
          </a:xfrm>
          <a:prstGeom prst="rect">
            <a:avLst/>
          </a:prstGeom>
          <a:solidFill>
            <a:srgbClr val="ffab57"/>
          </a:solidFill>
          <a:ln w="12700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796080" y="3087720"/>
            <a:ext cx="1375920" cy="2354040"/>
          </a:xfrm>
          <a:prstGeom prst="rect">
            <a:avLst/>
          </a:prstGeom>
          <a:solidFill>
            <a:srgbClr val="ffc993"/>
          </a:solidFill>
          <a:ln w="12700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2b312b"/>
              </a:buClr>
              <a:buFont typeface="Symbol" charset="2"/>
              <a:buChar char=""/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>
            <a:off x="2266920" y="1614600"/>
            <a:ext cx="1854000" cy="12697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700">
            <a:solidFill>
              <a:srgbClr val="2b31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20" name="Freeform 9"/>
          <p:cNvSpPr/>
          <p:nvPr/>
        </p:nvSpPr>
        <p:spPr>
          <a:xfrm>
            <a:off x="731880" y="1614600"/>
            <a:ext cx="1898280" cy="1269720"/>
          </a:xfrm>
          <a:custGeom>
            <a:avLst/>
            <a:gdLst>
              <a:gd name="textAreaLeft" fmla="*/ 0 w 1898280"/>
              <a:gd name="textAreaRight" fmla="*/ 1898640 w 189828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700">
            <a:solidFill>
              <a:srgbClr val="2b31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21" name="Freeform 1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700">
            <a:solidFill>
              <a:srgbClr val="2b31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22" name="Freeform 11"/>
          <p:cNvSpPr/>
          <p:nvPr/>
        </p:nvSpPr>
        <p:spPr>
          <a:xfrm>
            <a:off x="5284800" y="1614600"/>
            <a:ext cx="1856880" cy="1269720"/>
          </a:xfrm>
          <a:custGeom>
            <a:avLst/>
            <a:gdLst>
              <a:gd name="textAreaLeft" fmla="*/ 0 w 1856880"/>
              <a:gd name="textAreaRight" fmla="*/ 1857240 w 185688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700">
            <a:solidFill>
              <a:srgbClr val="2b31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23" name="Freeform 12"/>
          <p:cNvSpPr/>
          <p:nvPr/>
        </p:nvSpPr>
        <p:spPr>
          <a:xfrm>
            <a:off x="6796080" y="1614600"/>
            <a:ext cx="1854000" cy="12697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700">
            <a:solidFill>
              <a:srgbClr val="2b31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2918520" y="2066760"/>
            <a:ext cx="63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1034280" y="2065320"/>
            <a:ext cx="88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4449240" y="2066760"/>
            <a:ext cx="68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5973480" y="2065320"/>
            <a:ext cx="60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7368120" y="2066760"/>
            <a:ext cx="1068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Example of a table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graphicFrame>
        <p:nvGraphicFramePr>
          <p:cNvPr id="330" name="Group 31"/>
          <p:cNvGraphicFramePr/>
          <p:nvPr/>
        </p:nvGraphicFramePr>
        <p:xfrm>
          <a:off x="1865160" y="1400040"/>
          <a:ext cx="5584320" cy="3495240"/>
        </p:xfrm>
        <a:graphic>
          <a:graphicData uri="http://schemas.openxmlformats.org/drawingml/2006/table">
            <a:tbl>
              <a:tblPr/>
              <a:tblGrid>
                <a:gridCol w="2792160"/>
                <a:gridCol w="2792160"/>
              </a:tblGrid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400" spc="-1" strike="noStrike">
                          <a:solidFill>
                            <a:srgbClr val="2b312b"/>
                          </a:solidFill>
                          <a:latin typeface="Arial"/>
                          <a:ea typeface="ＭＳ Ｐゴシック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400" spc="-1" strike="noStrike">
                          <a:solidFill>
                            <a:srgbClr val="2b312b"/>
                          </a:solidFill>
                          <a:latin typeface="Arial"/>
                          <a:ea typeface="ＭＳ Ｐゴシック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80721"/>
                      </a:solidFill>
                    </a:lnL>
                    <a:lnR w="12240">
                      <a:solidFill>
                        <a:srgbClr val="c80721"/>
                      </a:solidFill>
                    </a:lnR>
                    <a:lnT w="12240">
                      <a:solidFill>
                        <a:srgbClr val="c80721"/>
                      </a:solidFill>
                    </a:lnT>
                    <a:lnB w="12240">
                      <a:solidFill>
                        <a:srgbClr val="c807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Text Box 29"/>
          <p:cNvSpPr/>
          <p:nvPr/>
        </p:nvSpPr>
        <p:spPr>
          <a:xfrm>
            <a:off x="1844640" y="5072040"/>
            <a:ext cx="5627160" cy="638280"/>
          </a:xfrm>
          <a:prstGeom prst="rect">
            <a:avLst/>
          </a:prstGeom>
          <a:solidFill>
            <a:schemeClr val="bg1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Note: </a:t>
            </a: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PowerPoint does not allow you to have nice </a:t>
            </a:r>
            <a:br>
              <a:rPr sz="1800"/>
            </a:br>
            <a:r>
              <a:rPr b="0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default tables - but you can cut and paste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211320" y="62416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48282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48282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Examples of default styles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63800" cy="2722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b312b"/>
              </a:buClr>
              <a:buFont typeface="Symbol" charset="2"/>
              <a:buChar char=""/>
            </a:pPr>
            <a:r>
              <a:rPr b="0" lang="en-GB" sz="2800" spc="-1" strike="noStrike">
                <a:solidFill>
                  <a:srgbClr val="2b312b"/>
                </a:solidFill>
                <a:latin typeface="Arial"/>
                <a:ea typeface="MS PGothic"/>
              </a:rPr>
              <a:t>Text and lines are like this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82829"/>
              </a:buClr>
              <a:buFont typeface="Symbol" charset="2"/>
              <a:buChar char=""/>
            </a:pPr>
            <a:r>
              <a:rPr b="0" lang="en-GB" sz="2800" spc="-1" strike="noStrike" u="sng">
                <a:solidFill>
                  <a:schemeClr val="hlink"/>
                </a:solidFill>
                <a:uFillTx/>
                <a:latin typeface="Arial"/>
                <a:ea typeface="MS PGothic"/>
              </a:rPr>
              <a:t>Hyperlinks like this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c5949"/>
              </a:buClr>
              <a:buFont typeface="Symbol" charset="2"/>
              <a:buChar char=""/>
            </a:pPr>
            <a:r>
              <a:rPr b="0" lang="en-GB" sz="2800" spc="-1" strike="noStrike" u="sng">
                <a:solidFill>
                  <a:schemeClr val="folHlink"/>
                </a:solidFill>
                <a:uFillTx/>
                <a:latin typeface="Arial"/>
                <a:ea typeface="MS PGothic"/>
              </a:rPr>
              <a:t>Visited hyperlinks like this</a:t>
            </a:r>
            <a:endParaRPr b="0" lang="en-GB" sz="2800" spc="-1" strike="noStrike">
              <a:solidFill>
                <a:srgbClr val="2b312b"/>
              </a:solidFill>
              <a:latin typeface="Arial"/>
            </a:endParaRPr>
          </a:p>
        </p:txBody>
      </p:sp>
      <p:graphicFrame>
        <p:nvGraphicFramePr>
          <p:cNvPr id="335" name="Group 17"/>
          <p:cNvGraphicFramePr/>
          <p:nvPr/>
        </p:nvGraphicFramePr>
        <p:xfrm>
          <a:off x="5418000" y="1793880"/>
          <a:ext cx="3155760" cy="1857240"/>
        </p:xfrm>
        <a:graphic>
          <a:graphicData uri="http://schemas.openxmlformats.org/drawingml/2006/table">
            <a:tbl>
              <a:tblPr/>
              <a:tblGrid>
                <a:gridCol w="1577880"/>
                <a:gridCol w="15778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1800" spc="-1" strike="noStrike">
                          <a:solidFill>
                            <a:srgbClr val="2b312b"/>
                          </a:solidFill>
                          <a:latin typeface="Arial"/>
                          <a:ea typeface="ＭＳ Ｐゴシック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2b312b"/>
                      </a:solidFill>
                    </a:lnL>
                    <a:lnR w="12240">
                      <a:solidFill>
                        <a:srgbClr val="2b312b"/>
                      </a:solidFill>
                    </a:lnR>
                    <a:lnT w="28080">
                      <a:solidFill>
                        <a:srgbClr val="2b312b"/>
                      </a:solidFill>
                    </a:lnT>
                    <a:lnB w="12240">
                      <a:solidFill>
                        <a:srgbClr val="2b312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2b312b"/>
                      </a:solidFill>
                    </a:lnL>
                    <a:lnR w="28080">
                      <a:solidFill>
                        <a:srgbClr val="2b312b"/>
                      </a:solidFill>
                    </a:lnR>
                    <a:lnT w="28080">
                      <a:solidFill>
                        <a:srgbClr val="2b312b"/>
                      </a:solidFill>
                    </a:lnT>
                    <a:lnB w="12240">
                      <a:solidFill>
                        <a:srgbClr val="2b312b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28080">
                      <a:solidFill>
                        <a:srgbClr val="2b312b"/>
                      </a:solidFill>
                    </a:lnL>
                    <a:lnR w="12240">
                      <a:solidFill>
                        <a:srgbClr val="2b312b"/>
                      </a:solidFill>
                    </a:lnR>
                    <a:lnT w="12240">
                      <a:solidFill>
                        <a:srgbClr val="2b312b"/>
                      </a:solidFill>
                    </a:lnT>
                    <a:lnB w="28080">
                      <a:solidFill>
                        <a:srgbClr val="2b312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2b312b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t" marL="91440" marR="91440">
                    <a:lnL w="12240">
                      <a:solidFill>
                        <a:srgbClr val="2b312b"/>
                      </a:solidFill>
                    </a:lnL>
                    <a:lnR w="28080">
                      <a:solidFill>
                        <a:srgbClr val="2b312b"/>
                      </a:solidFill>
                    </a:lnR>
                    <a:lnT w="12240">
                      <a:solidFill>
                        <a:srgbClr val="2b312b"/>
                      </a:solidFill>
                    </a:lnT>
                    <a:lnB w="28080">
                      <a:solidFill>
                        <a:srgbClr val="2b312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Rectangle 15"/>
          <p:cNvSpPr/>
          <p:nvPr/>
        </p:nvSpPr>
        <p:spPr>
          <a:xfrm>
            <a:off x="2050920" y="4030560"/>
            <a:ext cx="2231640" cy="1368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2b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4930920" y="4030560"/>
            <a:ext cx="2231640" cy="1368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2b312b"/>
            </a:solidFill>
            <a:miter/>
          </a:ln>
          <a:effectLst>
            <a:outerShdw algn="ctr" blurRad="63360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539640" y="1268280"/>
            <a:ext cx="820872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b312b"/>
              </a:solidFill>
              <a:latin typeface="Arial"/>
              <a:ea typeface="MS PGothic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831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c80721"/>
                </a:solidFill>
                <a:latin typeface="Arial"/>
                <a:ea typeface="MS PGothic"/>
              </a:rPr>
              <a:t>Use of templates</a:t>
            </a:r>
            <a:endParaRPr b="0" lang="en-GB" sz="4400" spc="-1" strike="noStrike">
              <a:solidFill>
                <a:srgbClr val="2b312b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589040" y="1359000"/>
            <a:ext cx="6386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GB" sz="2000" spc="-1" strike="noStrike">
                <a:solidFill>
                  <a:srgbClr val="2b312b"/>
                </a:solidFill>
                <a:latin typeface="Arial"/>
                <a:ea typeface="MS PGothic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461960" y="2930400"/>
            <a:ext cx="3409560" cy="24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2b312b"/>
                </a:solidFill>
                <a:uFillTx/>
                <a:latin typeface="Arial"/>
                <a:ea typeface="MS PGothic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Use these templates for your present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1400" spc="-1" strike="noStrike">
                <a:solidFill>
                  <a:srgbClr val="2b312b"/>
                </a:solidFill>
                <a:latin typeface="Arial"/>
                <a:ea typeface="MS PGothic"/>
              </a:rPr>
              <a:t>If you like these templates, we would always appreciate a link back to our </a:t>
            </a:r>
            <a:br>
              <a:rPr sz="1400"/>
            </a:br>
            <a:r>
              <a:rPr b="0" lang="en-US" sz="1400" spc="-1" strike="noStrike">
                <a:solidFill>
                  <a:srgbClr val="2b312b"/>
                </a:solidFill>
                <a:latin typeface="Arial"/>
                <a:ea typeface="MS PGothic"/>
              </a:rPr>
              <a:t>website. Many than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807080" y="2930400"/>
            <a:ext cx="3639600" cy="20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2b312b"/>
                </a:solidFill>
                <a:uFillTx/>
                <a:latin typeface="Arial"/>
                <a:ea typeface="MS PGothic"/>
              </a:rPr>
              <a:t>Don’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Resell or distribute these templ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Put these templates on a website for download. This includes uploading </a:t>
            </a:r>
            <a:br>
              <a:rPr sz="1400"/>
            </a:b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them onto file sharing networks like Slideshare, Myspace, Facebook, </a:t>
            </a:r>
            <a:br>
              <a:rPr sz="1400"/>
            </a:b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bit torrent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2b312b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Pass off any of our created </a:t>
            </a:r>
            <a:br>
              <a:rPr sz="1400"/>
            </a:b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content as your own wor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208160" y="5127480"/>
            <a:ext cx="7056000" cy="582840"/>
          </a:xfrm>
          <a:prstGeom prst="rect">
            <a:avLst/>
          </a:prstGeom>
          <a:solidFill>
            <a:schemeClr val="bg1">
              <a:alpha val="7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360"/>
              </a:spcBef>
            </a:pPr>
            <a:r>
              <a:rPr b="1" lang="en-GB" sz="1800" spc="-1" strike="noStrike">
                <a:solidFill>
                  <a:srgbClr val="2b312b"/>
                </a:solidFill>
                <a:latin typeface="Arial"/>
                <a:ea typeface="MS PGothic"/>
              </a:rPr>
              <a:t>You can find many more free PowerPoint templates on the Presentation Magazine web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1589040" y="2189160"/>
            <a:ext cx="6291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GB" sz="1400" spc="-1" strike="noStrike">
                <a:solidFill>
                  <a:srgbClr val="2b312b"/>
                </a:solidFill>
                <a:latin typeface="Arial"/>
                <a:ea typeface="MS PGothic"/>
              </a:rPr>
              <a:t>We have put a lot of work into developing all these templates and retain the copyright in them. You can use them freely providing that you do not redistribute or sell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Default Design">
  <a:themeElements>
    <a:clrScheme name="">
      <a:dk1>
        <a:srgbClr val="2b312b"/>
      </a:dk1>
      <a:lt1>
        <a:srgbClr val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80721"/>
      </a:dk2>
      <a:lt2>
        <a:srgbClr val="60454b"/>
      </a:lt2>
      <a:accent1>
        <a:srgbClr val="771b25"/>
      </a:accent1>
      <a:accent2>
        <a:srgbClr val="da9297"/>
      </a:accent2>
      <a:accent3>
        <a:srgbClr val="ffffff"/>
      </a:accent3>
      <a:accent4>
        <a:srgbClr val="232823"/>
      </a:accent4>
      <a:accent5>
        <a:srgbClr val="bdabac"/>
      </a:accent5>
      <a:accent6>
        <a:srgbClr val="c58488"/>
      </a:accent6>
      <a:hlink>
        <a:srgbClr val="482829"/>
      </a:hlink>
      <a:folHlink>
        <a:srgbClr val="9c594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  <Words>277</Words>
  <Paragraphs>78</Paragraphs>
  <Company>Clearly Presented Lt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23:05:01Z</dcterms:created>
  <dc:creator>www.pptbz.com</dc:creator>
  <dc:description/>
  <cp:keywords>Romantic valentines celebration</cp:keywords>
  <dc:language>en-US</dc:language>
  <cp:lastModifiedBy>a</cp:lastModifiedBy>
  <dcterms:modified xsi:type="dcterms:W3CDTF">2015-07-25T12:18:38Z</dcterms:modified>
  <cp:revision>89</cp:revision>
  <dc:subject/>
  <dc:title>Red rose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全屏显示(4:3)</vt:lpwstr>
  </property>
  <property fmtid="{D5CDD505-2E9C-101B-9397-08002B2CF9AE}" pid="4" name="Slides">
    <vt:r8>9</vt:r8>
  </property>
</Properties>
</file>