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C9D-8C46-464B-B67B-DA2B4A77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22312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3AA-6AEB-41B0-9B5A-AC7956F8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48940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3E9-D853-477C-A21E-DEF511C3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7192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6296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77192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6296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F06-5310-441D-930F-1FF0C38D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8681-A9B0-4217-84B2-FCB448CC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0A27-3B5C-4F57-AD02-5657512E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7B09-256F-4ECA-B2BD-978E89E0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A281-AAA9-400D-AA16-076FC7DE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D79C-31E5-4427-80ED-2570C252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1520" cy="21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2FD5-8E42-42FA-9E09-F37768B2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38CA-60AF-4302-A1E9-551FE6AF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91F-E337-4B79-8297-5EB6AC26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8940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9C46-DC4F-40DA-BFCA-E8CC1895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C922-EB4A-452C-BB50-96914623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22312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1C30-32BA-4C83-87FC-CF743109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48940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8310-9386-40AA-BF2D-6F0E2B26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7192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6296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77192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6296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9E01-2337-458D-963A-4A7CE850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C1A7-93F1-42AA-A7F2-C7DB970B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4F503-FCC7-4F7C-A84E-ED41C811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F30C3-8474-4087-BFAC-773D6F0A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E5856-8F67-4757-ABB7-02631707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3A86-F01C-4919-A795-C02ACA97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00C-6864-4158-A5B2-F5798DFA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1520" cy="21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89CA-A4A1-44DF-AA02-6CA3A59B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91F80-230A-4B98-B9DF-9D78046A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48940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89825-71F7-4F6A-A5AA-A0ABD692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4D2C2-518B-4FCE-A861-3B128E3C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22312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DBCAA-9922-4361-94AA-0BFA076F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48940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44916-FBB4-4BFE-A7C9-17E976FB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77192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16296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177192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316296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A30E-F40E-452A-838C-9FE252CA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F95E-0092-4999-AFBA-1C6F52C4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4FD06-4614-49FE-8DBD-03168735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F2030-2CB8-4DC3-AF73-5EA824D1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D97-7407-453A-97A4-2C814452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C80C0-87FC-4B4A-825B-81882415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A342C-3E6A-4AF4-9A79-491D6A6E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1520" cy="21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7CBC4-7A2D-4071-9D3A-02290D07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89BC8-BE47-4D2E-818D-15796131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8940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5B6AF-6050-427F-97EC-4061697C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4DAD2-2B77-4179-A929-C1C28A74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80880" y="22312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6642C-9135-42C2-8301-FA66051C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48940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BEF68-0C84-409E-B507-DBDA1548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77192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16296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8088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177192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316296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CD72E-49DC-46D5-BCD8-76AF4378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FC8-7421-4855-AE49-B2AF7598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1520" cy="21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CBF-E21D-4702-A8CB-C14C31A9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168-464B-4C56-AD57-EC1AAB15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48940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DCA-ECC0-40B2-A035-DBE1D512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B9D-AC21-402C-AA03-236F9E34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3640" cy="552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8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6689880"/>
            <a:ext cx="213336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689880"/>
            <a:ext cx="213336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2E7715-E8E6-4A64-BAEA-51F1310F65A5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15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1520" cy="5486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61080"/>
            <a:ext cx="2133360" cy="19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689880"/>
            <a:ext cx="2133360" cy="136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1E6F15-E0C7-4A34-8EB1-1C3109F62A6A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15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4114440" cy="5486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838080"/>
            <a:ext cx="4114440" cy="5486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0" y="6661080"/>
            <a:ext cx="2133360" cy="19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7010280" y="6689880"/>
            <a:ext cx="2133360" cy="136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3EECFB-E4CC-409E-B9C6-2BEDCC739E0A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15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648320" y="838080"/>
            <a:ext cx="4114440" cy="2666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380880" y="3657600"/>
            <a:ext cx="4114440" cy="2666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648320" y="3657600"/>
            <a:ext cx="4114440" cy="2666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dt" idx="10"/>
          </p:nvPr>
        </p:nvSpPr>
        <p:spPr>
          <a:xfrm>
            <a:off x="0" y="6661080"/>
            <a:ext cx="2133360" cy="19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 type="ftr" idx="11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8"/>
          <p:cNvSpPr>
            <a:spLocks noGrp="1"/>
          </p:cNvSpPr>
          <p:nvPr>
            <p:ph type="sldNum" idx="12"/>
          </p:nvPr>
        </p:nvSpPr>
        <p:spPr>
          <a:xfrm>
            <a:off x="7010280" y="6689880"/>
            <a:ext cx="2133360" cy="136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B3E259-41B0-4B4F-B750-2072E729DF3B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6705360" cy="1676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  <a:ea typeface="宋体"/>
              </a:rPr>
              <a:t>Industry Old Pi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590920" y="2209680"/>
            <a:ext cx="3885840" cy="38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mpact"/>
                <a:ea typeface="宋体"/>
              </a:rPr>
              <a:t>Your Subtitle Goe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1839960" y="3357720"/>
            <a:ext cx="57841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49" strike="noStrike">
                <a:solidFill>
                  <a:srgbClr val="fdfdfe"/>
                </a:solidFill>
                <a:latin typeface="Arial"/>
              </a:rPr>
              <a:t>红色背景老工业管道工商业</a:t>
            </a:r>
            <a:r>
              <a:rPr b="1" lang="en-US" sz="4000" spc="49" strike="noStrike">
                <a:solidFill>
                  <a:srgbClr val="fdfdfe"/>
                </a:solidFill>
                <a:latin typeface="Arial"/>
              </a:rPr>
              <a:t>PPT</a:t>
            </a:r>
            <a:r>
              <a:rPr b="1" lang="zh-CN" sz="4000" spc="49" strike="noStrike">
                <a:solidFill>
                  <a:srgbClr val="fdfdfe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971800" y="1295280"/>
            <a:ext cx="3733560" cy="41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76720" y="1752480"/>
            <a:ext cx="5638320" cy="3657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4097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304776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ff9933"/>
                </a:solidFill>
                <a:latin typeface="Impac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5790960" cy="3657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152280" y="944640"/>
            <a:ext cx="2437920" cy="92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438280" y="2286000"/>
            <a:ext cx="647712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228600" y="2209680"/>
            <a:ext cx="2437920" cy="92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7"/>
          <p:cNvSpPr/>
          <p:nvPr/>
        </p:nvSpPr>
        <p:spPr>
          <a:xfrm>
            <a:off x="2668680" y="639720"/>
            <a:ext cx="12387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8"/>
          <p:cNvSpPr/>
          <p:nvPr/>
        </p:nvSpPr>
        <p:spPr>
          <a:xfrm>
            <a:off x="4268880" y="639720"/>
            <a:ext cx="12934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9"/>
          <p:cNvSpPr/>
          <p:nvPr/>
        </p:nvSpPr>
        <p:spPr>
          <a:xfrm>
            <a:off x="5867280" y="639720"/>
            <a:ext cx="12754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0"/>
          <p:cNvSpPr/>
          <p:nvPr/>
        </p:nvSpPr>
        <p:spPr>
          <a:xfrm>
            <a:off x="7201440" y="639720"/>
            <a:ext cx="17859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2" descr="industry_old_pipes_qx"/>
          <p:cNvPicPr/>
          <p:nvPr/>
        </p:nvPicPr>
        <p:blipFill>
          <a:blip r:embed="rId1"/>
          <a:stretch/>
        </p:blipFill>
        <p:spPr>
          <a:xfrm>
            <a:off x="2514600" y="914400"/>
            <a:ext cx="1544400" cy="1158480"/>
          </a:xfrm>
          <a:prstGeom prst="rect">
            <a:avLst/>
          </a:prstGeom>
          <a:ln w="6350">
            <a:solidFill>
              <a:srgbClr val="000000"/>
            </a:solidFill>
            <a:miter/>
          </a:ln>
        </p:spPr>
      </p:pic>
      <p:pic>
        <p:nvPicPr>
          <p:cNvPr id="185" name="Picture 103" descr="industry_old_pipes_sld_sld"/>
          <p:cNvPicPr/>
          <p:nvPr/>
        </p:nvPicPr>
        <p:blipFill>
          <a:blip r:embed="rId2"/>
          <a:stretch/>
        </p:blipFill>
        <p:spPr>
          <a:xfrm>
            <a:off x="4114800" y="914400"/>
            <a:ext cx="1544400" cy="1158480"/>
          </a:xfrm>
          <a:prstGeom prst="rect">
            <a:avLst/>
          </a:prstGeom>
          <a:ln w="6350">
            <a:solidFill>
              <a:srgbClr val="000000"/>
            </a:solidFill>
            <a:miter/>
          </a:ln>
        </p:spPr>
      </p:pic>
      <p:pic>
        <p:nvPicPr>
          <p:cNvPr id="186" name="Picture 104" descr="industry_old_pipes_prt"/>
          <p:cNvPicPr/>
          <p:nvPr/>
        </p:nvPicPr>
        <p:blipFill>
          <a:blip r:embed="rId3"/>
          <a:stretch/>
        </p:blipFill>
        <p:spPr>
          <a:xfrm>
            <a:off x="5715000" y="914400"/>
            <a:ext cx="1544400" cy="1158480"/>
          </a:xfrm>
          <a:prstGeom prst="rect">
            <a:avLst/>
          </a:prstGeom>
          <a:ln w="6350">
            <a:solidFill>
              <a:srgbClr val="000000"/>
            </a:solidFill>
            <a:miter/>
          </a:ln>
        </p:spPr>
      </p:pic>
      <p:pic>
        <p:nvPicPr>
          <p:cNvPr id="187" name="Picture 105" descr="industry_old_pipes_trs"/>
          <p:cNvPicPr/>
          <p:nvPr/>
        </p:nvPicPr>
        <p:blipFill>
          <a:blip r:embed="rId4"/>
          <a:stretch/>
        </p:blipFill>
        <p:spPr>
          <a:xfrm>
            <a:off x="7315200" y="914400"/>
            <a:ext cx="1544400" cy="1158480"/>
          </a:xfrm>
          <a:prstGeom prst="rect">
            <a:avLst/>
          </a:prstGeom>
          <a:ln w="635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192041342187">
  <a:themeElements>
    <a:clrScheme name="industry_old_pipes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192041342187">
  <a:themeElements>
    <a:clrScheme name="industry_old_pipes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192041342187">
  <a:themeElements>
    <a:clrScheme name="industry_old_pipes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192041342187">
  <a:themeElements>
    <a:clrScheme name="industry_old_pipes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192041342187</Template>
  <TotalTime>10</TotalTime>
  <Application>LibreOffice/7.4.7.2$Linux_X86_64 LibreOffice_project/40$Build-2</Application>
  <AppVersion>15.0000</AppVersion>
  <Words>90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5:17:50Z</dcterms:created>
  <dc:creator>ppt宝藏</dc:creator>
  <dc:description/>
  <dc:language>en-US</dc:language>
  <cp:lastModifiedBy>a</cp:lastModifiedBy>
  <dcterms:modified xsi:type="dcterms:W3CDTF">2015-07-25T12:32:52Z</dcterms:modified>
  <cp:revision>2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