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B48A-3A6C-4D89-9B13-A604133D0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7E8B-F0C3-428E-8963-7327AF2CE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7D44-4C61-4B3D-980A-A72EDCEB3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F191-97AC-4FA7-9008-3E558F5D6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91EA-8497-41E7-9640-E47A803A7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0231-CE82-4D13-B194-611CFD8AA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228F-A24A-41E4-A731-52B6B84B5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26DE-FB11-4098-9F98-D079EB50F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-36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6857-F04C-4F22-8677-5C7007E15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C9CE-0039-4C00-8B09-1B039CC4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7C12-94A5-494E-9879-9AE9F40D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B3B4-30E6-4C7A-B625-5A6B6C58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65800"/>
            <a:ext cx="1905120" cy="4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65800"/>
            <a:ext cx="2895840" cy="4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65800"/>
            <a:ext cx="1905120" cy="4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PMingLiU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B0B37-93F0-4A80-AE17-0114B0A570F0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0"/>
            <a:ext cx="795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PMingLiU"/>
              </a:rPr>
              <a:t>黑色商务人才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PMingLiU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PMingLiU"/>
              </a:rPr>
              <a:t>模版完整版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Times New Roman"/>
              <a:ea typeface="PMingLiU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Times New Roman"/>
              <a:ea typeface="PMingLi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Times New Roman"/>
              <a:ea typeface="PMingLiU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Times New Roman"/>
              <a:ea typeface="PMingLi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6T08:18:25Z</dcterms:created>
  <dc:creator>ppt宝藏</dc:creator>
  <dc:description/>
  <dc:language>en-US</dc:language>
  <cp:lastModifiedBy>a</cp:lastModifiedBy>
  <dcterms:modified xsi:type="dcterms:W3CDTF">2015-07-25T06:33:32Z</dcterms:modified>
  <cp:revision>7</cp:revision>
  <dc:subject/>
  <dc:title>www.pptbz.com</dc:title>
</cp:coreProperties>
</file>