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510-1DE1-4753-877F-325B8FC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FF9-4B31-47EE-B04A-4B5A7D9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42E-B2D5-4817-B07E-A3C361DE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0F0-3492-4A32-BF3E-F03BA51B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11C-0DAD-43DA-AF0D-4CDBD87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F08-7E54-40A6-80C0-7F176D23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C1D-4D8E-46AA-933D-4FB4DA4F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D6C-AB40-4782-87E7-ED2BF40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C4F-3F3F-4823-B649-E1D88A03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8EF-1C18-47B1-AF11-FB67350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FD1-0A38-425C-A19E-0B47F723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25D-651D-4B6B-97A1-B6868CBC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8687-DD91-4D22-AA84-AD1836C540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897560" y="21337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灰色问号主题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00040" y="2428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069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926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88160" y="25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71508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519840" y="25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140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640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997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734040" y="25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783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3497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6355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187280" y="630864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519840" y="25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312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5212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498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5283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76920" y="2500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97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7069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5355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cp:keywords/>
  <dc:language>en-US</dc:language>
  <cp:lastModifiedBy>a</cp:lastModifiedBy>
  <dcterms:modified xsi:type="dcterms:W3CDTF">2015-07-25T12:12:17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