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C80-5599-406A-98CD-BA20E9AA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C41-CCFD-4CB2-8698-D0CAA3F7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CDC-0081-44A7-9FE7-4F7D50B9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9E6-DC98-45BA-846F-6E0F9D17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3E85-E1B5-4ED7-A730-9872CCCC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01DD-C77F-4E1F-9A02-161E2652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CCB1-3150-41CA-BED3-1CE78D19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E094-A5B3-4AF3-BB04-75B09EDD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8CD6-68BB-4FC8-BEA5-635D3D84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C032-F911-4252-B98D-2E98514A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B6C8-5153-40BE-BBD3-C56A5A7F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420-5B49-4C11-BEEC-BC59C4B1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479F-CC09-487E-AB82-F4707DB9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1376-C888-48AE-9F21-48F33B1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586C-0B69-45D7-A4AC-2D60D532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B0FD-ED75-4CD4-B3D4-D7087794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6F48-883C-4861-8175-291F4803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3085-4A20-4C49-A037-9942D2B7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3D93-B21E-4106-BD87-652B2FA6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F2BE4-E778-44E3-A30E-1DF23621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3F9D-3951-4999-9663-2A2407DF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3B60-6FE8-433B-A0EE-BB4ED3EA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0F6-3C40-4F5D-8411-217FD4DE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68BE8-88F6-4881-AD6A-6FD4ACB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26ED-E0CC-4DD5-83FC-F55ED368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BA2D-AAB7-4CE4-ACA5-B7B4DD7E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1D5E4-A9BE-4D72-9843-0FEAE41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60BD-3ED1-43E1-8E18-F3E81F54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417A-4D42-4F6C-8356-2A67A098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74D6B-59C0-4F8E-8958-3BD42A16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692-D8C8-41FD-8454-16B004A5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676-57E4-43D9-8FA9-00DA8180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50F-1BAD-4E13-AE96-6C110980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F6B-FF36-4118-BFC6-352FC6AB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075-699D-4E38-9CAF-3A72C6FC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920-526F-4B8A-966D-E2145A21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bf9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55C9D7-CD9F-477C-AA08-15E93DC13804}" type="slidenum"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Click to edit the title text format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a0a0a"/>
                </a:solidFill>
                <a:latin typeface="微软雅黑"/>
              </a:rPr>
              <a:t>Click to edit the outline text format</a:t>
            </a: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a0a0a"/>
                </a:solidFill>
                <a:latin typeface="微软雅黑"/>
              </a:rPr>
              <a:t>Second Outline Level</a:t>
            </a:r>
            <a:endParaRPr b="0" lang="en-US" sz="1500" spc="-1" strike="noStrike">
              <a:solidFill>
                <a:srgbClr val="0a0a0a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Third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Fourth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bf9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6178FC-8761-431C-8892-50786208188E}" type="slidenum"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Click to edit the title text format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a0a0a"/>
                </a:solidFill>
                <a:latin typeface="微软雅黑"/>
              </a:rPr>
              <a:t>Click to edit the outline text format</a:t>
            </a: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a0a0a"/>
                </a:solidFill>
                <a:latin typeface="微软雅黑"/>
              </a:rPr>
              <a:t>Second Outline Level</a:t>
            </a:r>
            <a:endParaRPr b="0" lang="en-US" sz="1500" spc="-1" strike="noStrike">
              <a:solidFill>
                <a:srgbClr val="0a0a0a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Third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Fourth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63D355-05CC-4ECF-87DC-D703F7D2CDEC}" type="slidenum"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0" y="0"/>
            <a:ext cx="9143640" cy="6181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bf90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8" name="任意多边形 7"/>
          <p:cNvSpPr/>
          <p:nvPr/>
        </p:nvSpPr>
        <p:spPr>
          <a:xfrm rot="18991200">
            <a:off x="12960" y="239400"/>
            <a:ext cx="1046880" cy="138960"/>
          </a:xfrm>
          <a:custGeom>
            <a:avLst/>
            <a:gdLst>
              <a:gd name="textAreaLeft" fmla="*/ 0 w 1046880"/>
              <a:gd name="textAreaRight" fmla="*/ 1047240 w 1046880"/>
              <a:gd name="textAreaTop" fmla="*/ 0 h 138960"/>
              <a:gd name="textAreaBottom" fmla="*/ 139320 h 13896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Click to edit the title text format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a0a0a"/>
                </a:solidFill>
                <a:latin typeface="微软雅黑"/>
              </a:rPr>
              <a:t>Click to edit the outline text format</a:t>
            </a:r>
            <a:endParaRPr b="0" lang="en-US" sz="2100" spc="-1" strike="noStrike">
              <a:solidFill>
                <a:srgbClr val="0a0a0a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a0a0a"/>
                </a:solidFill>
                <a:latin typeface="微软雅黑"/>
              </a:rPr>
              <a:t>Second Outline Level</a:t>
            </a:r>
            <a:endParaRPr b="0" lang="en-US" sz="1500" spc="-1" strike="noStrike">
              <a:solidFill>
                <a:srgbClr val="0a0a0a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Third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a0a0a"/>
                </a:solidFill>
                <a:latin typeface="微软雅黑"/>
              </a:rPr>
              <a:t>Fourth Outline Level</a:t>
            </a:r>
            <a:endParaRPr b="0" lang="en-US" sz="1350" spc="-1" strike="noStrike">
              <a:solidFill>
                <a:srgbClr val="0a0a0a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a0a0a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a0a0a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任意多边形 13"/>
          <p:cNvSpPr/>
          <p:nvPr/>
        </p:nvSpPr>
        <p:spPr>
          <a:xfrm rot="18991200">
            <a:off x="1715760" y="1404000"/>
            <a:ext cx="7160040" cy="1224360"/>
          </a:xfrm>
          <a:custGeom>
            <a:avLst/>
            <a:gdLst>
              <a:gd name="textAreaLeft" fmla="*/ 0 w 7160040"/>
              <a:gd name="textAreaRight" fmla="*/ 7160400 w 7160040"/>
              <a:gd name="textAreaTop" fmla="*/ 0 h 1224360"/>
              <a:gd name="textAreaBottom" fmla="*/ 1224720 h 1224360"/>
            </a:gdLst>
            <a:ahLst/>
            <a:rect l="textAreaLeft" t="textAreaTop" r="textAreaRight" b="textAreaBottom"/>
            <a:pathLst>
              <a:path w="7160457" h="1224801">
                <a:moveTo>
                  <a:pt x="5868996" y="0"/>
                </a:moveTo>
                <a:lnTo>
                  <a:pt x="7160457" y="1224801"/>
                </a:lnTo>
                <a:lnTo>
                  <a:pt x="1278775" y="1224800"/>
                </a:lnTo>
                <a:lnTo>
                  <a:pt x="0" y="12032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8" name="任意多边形 18"/>
          <p:cNvSpPr/>
          <p:nvPr/>
        </p:nvSpPr>
        <p:spPr>
          <a:xfrm rot="18991200">
            <a:off x="2619720" y="3171240"/>
            <a:ext cx="5443560" cy="724680"/>
          </a:xfrm>
          <a:custGeom>
            <a:avLst/>
            <a:gdLst>
              <a:gd name="textAreaLeft" fmla="*/ 0 w 5443560"/>
              <a:gd name="textAreaRight" fmla="*/ 5443920 w 5443560"/>
              <a:gd name="textAreaTop" fmla="*/ 0 h 724680"/>
              <a:gd name="textAreaBottom" fmla="*/ 725040 h 72468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9" name="任意多边形 19"/>
          <p:cNvSpPr/>
          <p:nvPr/>
        </p:nvSpPr>
        <p:spPr>
          <a:xfrm rot="18991200">
            <a:off x="4375080" y="4299480"/>
            <a:ext cx="2311200" cy="307440"/>
          </a:xfrm>
          <a:custGeom>
            <a:avLst/>
            <a:gdLst>
              <a:gd name="textAreaLeft" fmla="*/ 0 w 2311200"/>
              <a:gd name="textAreaRight" fmla="*/ 2311560 w 2311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0" name="文本框 21"/>
          <p:cNvSpPr/>
          <p:nvPr/>
        </p:nvSpPr>
        <p:spPr>
          <a:xfrm rot="18981600">
            <a:off x="3215160" y="1642680"/>
            <a:ext cx="4245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简约橙色背景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2"/>
          <p:cNvSpPr/>
          <p:nvPr/>
        </p:nvSpPr>
        <p:spPr>
          <a:xfrm rot="18981600">
            <a:off x="4577400" y="3058200"/>
            <a:ext cx="200988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添加幻灯片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3"/>
          <p:cNvSpPr/>
          <p:nvPr/>
        </p:nvSpPr>
        <p:spPr>
          <a:xfrm rot="18981600">
            <a:off x="6495120" y="2541600"/>
            <a:ext cx="1689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2">
                    <a:lumMod val="50000"/>
                  </a:schemeClr>
                </a:solidFill>
                <a:latin typeface="微软雅黑"/>
                <a:ea typeface="微软雅黑"/>
              </a:rPr>
              <a:t>此处添加公司名称或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27"/>
          <p:cNvGrpSpPr/>
          <p:nvPr/>
        </p:nvGrpSpPr>
        <p:grpSpPr>
          <a:xfrm>
            <a:off x="565920" y="479880"/>
            <a:ext cx="882360" cy="906480"/>
            <a:chOff x="565920" y="479880"/>
            <a:chExt cx="882360" cy="906480"/>
          </a:xfrm>
        </p:grpSpPr>
        <p:sp>
          <p:nvSpPr>
            <p:cNvPr id="134" name="矩形 25"/>
            <p:cNvSpPr/>
            <p:nvPr/>
          </p:nvSpPr>
          <p:spPr>
            <a:xfrm>
              <a:off x="565920" y="479880"/>
              <a:ext cx="882360" cy="882360"/>
            </a:xfrm>
            <a:prstGeom prst="rect">
              <a:avLst/>
            </a:prstGeom>
            <a:noFill/>
            <a:ln>
              <a:solidFill>
                <a:srgbClr val="0a0a0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pic>
          <p:nvPicPr>
            <p:cNvPr id="135" name="图片 26" descr=""/>
            <p:cNvPicPr/>
            <p:nvPr/>
          </p:nvPicPr>
          <p:blipFill>
            <a:blip r:embed="rId1"/>
            <a:stretch/>
          </p:blipFill>
          <p:spPr>
            <a:xfrm>
              <a:off x="653760" y="539280"/>
              <a:ext cx="706680" cy="84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矩形 12"/>
          <p:cNvSpPr/>
          <p:nvPr/>
        </p:nvSpPr>
        <p:spPr>
          <a:xfrm>
            <a:off x="254160" y="46350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a0a0a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a0a0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a0a0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任意多边形 2"/>
          <p:cNvSpPr/>
          <p:nvPr/>
        </p:nvSpPr>
        <p:spPr>
          <a:xfrm rot="18991200">
            <a:off x="-366840" y="901440"/>
            <a:ext cx="3936960" cy="52380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8" name="文本框 3"/>
          <p:cNvSpPr/>
          <p:nvPr/>
        </p:nvSpPr>
        <p:spPr>
          <a:xfrm rot="18981600">
            <a:off x="735480" y="1479240"/>
            <a:ext cx="546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5"/>
          <p:cNvSpPr/>
          <p:nvPr/>
        </p:nvSpPr>
        <p:spPr>
          <a:xfrm rot="18981600">
            <a:off x="1073520" y="757080"/>
            <a:ext cx="14277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 rot="18991200">
            <a:off x="-218160" y="2357280"/>
            <a:ext cx="2311200" cy="307440"/>
          </a:xfrm>
          <a:custGeom>
            <a:avLst/>
            <a:gdLst>
              <a:gd name="textAreaLeft" fmla="*/ 0 w 2311200"/>
              <a:gd name="textAreaRight" fmla="*/ 2311560 w 2311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41" name="组合 24"/>
          <p:cNvGrpSpPr/>
          <p:nvPr/>
        </p:nvGrpSpPr>
        <p:grpSpPr>
          <a:xfrm>
            <a:off x="4146840" y="757440"/>
            <a:ext cx="3337560" cy="699120"/>
            <a:chOff x="4146840" y="757440"/>
            <a:chExt cx="3337560" cy="699120"/>
          </a:xfrm>
        </p:grpSpPr>
        <p:sp>
          <p:nvSpPr>
            <p:cNvPr id="142" name="文本框 8"/>
            <p:cNvSpPr/>
            <p:nvPr/>
          </p:nvSpPr>
          <p:spPr>
            <a:xfrm>
              <a:off x="5474520" y="871920"/>
              <a:ext cx="2009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处添加目录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组合 11"/>
            <p:cNvGrpSpPr/>
            <p:nvPr/>
          </p:nvGrpSpPr>
          <p:grpSpPr>
            <a:xfrm>
              <a:off x="4146840" y="757440"/>
              <a:ext cx="701280" cy="699120"/>
              <a:chOff x="4146840" y="757440"/>
              <a:chExt cx="701280" cy="699120"/>
            </a:xfrm>
          </p:grpSpPr>
          <p:sp>
            <p:nvSpPr>
              <p:cNvPr id="144" name="任意多边形 9"/>
              <p:cNvSpPr/>
              <p:nvPr/>
            </p:nvSpPr>
            <p:spPr>
              <a:xfrm rot="18991200">
                <a:off x="4366800" y="1090440"/>
                <a:ext cx="529560" cy="7020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5443899" h="724955">
                    <a:moveTo>
                      <a:pt x="4679488" y="0"/>
                    </a:moveTo>
                    <a:lnTo>
                      <a:pt x="5443899" y="724955"/>
                    </a:lnTo>
                    <a:lnTo>
                      <a:pt x="764412" y="7249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45" name="文本框 10"/>
              <p:cNvSpPr/>
              <p:nvPr/>
            </p:nvSpPr>
            <p:spPr>
              <a:xfrm>
                <a:off x="4146840" y="757440"/>
                <a:ext cx="47052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a0a0a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组合 25"/>
          <p:cNvGrpSpPr/>
          <p:nvPr/>
        </p:nvGrpSpPr>
        <p:grpSpPr>
          <a:xfrm>
            <a:off x="3551400" y="1682280"/>
            <a:ext cx="3337200" cy="699120"/>
            <a:chOff x="3551400" y="1682280"/>
            <a:chExt cx="3337200" cy="699120"/>
          </a:xfrm>
        </p:grpSpPr>
        <p:sp>
          <p:nvSpPr>
            <p:cNvPr id="147" name="文本框 12"/>
            <p:cNvSpPr/>
            <p:nvPr/>
          </p:nvSpPr>
          <p:spPr>
            <a:xfrm>
              <a:off x="4878720" y="1796760"/>
              <a:ext cx="2009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处添加目录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组合 13"/>
            <p:cNvGrpSpPr/>
            <p:nvPr/>
          </p:nvGrpSpPr>
          <p:grpSpPr>
            <a:xfrm>
              <a:off x="3551400" y="1682280"/>
              <a:ext cx="700920" cy="699120"/>
              <a:chOff x="3551400" y="1682280"/>
              <a:chExt cx="700920" cy="699120"/>
            </a:xfrm>
          </p:grpSpPr>
          <p:sp>
            <p:nvSpPr>
              <p:cNvPr id="149" name="任意多边形 14"/>
              <p:cNvSpPr/>
              <p:nvPr/>
            </p:nvSpPr>
            <p:spPr>
              <a:xfrm rot="18991200">
                <a:off x="3771000" y="2015280"/>
                <a:ext cx="529560" cy="7020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5443899" h="724955">
                    <a:moveTo>
                      <a:pt x="4679488" y="0"/>
                    </a:moveTo>
                    <a:lnTo>
                      <a:pt x="5443899" y="724955"/>
                    </a:lnTo>
                    <a:lnTo>
                      <a:pt x="764412" y="7249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50" name="文本框 15"/>
              <p:cNvSpPr/>
              <p:nvPr/>
            </p:nvSpPr>
            <p:spPr>
              <a:xfrm>
                <a:off x="3551400" y="1682280"/>
                <a:ext cx="47052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a0a0a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组合 26"/>
          <p:cNvGrpSpPr/>
          <p:nvPr/>
        </p:nvGrpSpPr>
        <p:grpSpPr>
          <a:xfrm>
            <a:off x="2955600" y="2607120"/>
            <a:ext cx="3337560" cy="699120"/>
            <a:chOff x="2955600" y="2607120"/>
            <a:chExt cx="3337560" cy="699120"/>
          </a:xfrm>
        </p:grpSpPr>
        <p:sp>
          <p:nvSpPr>
            <p:cNvPr id="152" name="文本框 16"/>
            <p:cNvSpPr/>
            <p:nvPr/>
          </p:nvSpPr>
          <p:spPr>
            <a:xfrm>
              <a:off x="4283280" y="2721600"/>
              <a:ext cx="2009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处添加目录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组合 17"/>
            <p:cNvGrpSpPr/>
            <p:nvPr/>
          </p:nvGrpSpPr>
          <p:grpSpPr>
            <a:xfrm>
              <a:off x="2955600" y="2607120"/>
              <a:ext cx="701280" cy="699120"/>
              <a:chOff x="2955600" y="2607120"/>
              <a:chExt cx="701280" cy="699120"/>
            </a:xfrm>
          </p:grpSpPr>
          <p:sp>
            <p:nvSpPr>
              <p:cNvPr id="154" name="任意多边形 18"/>
              <p:cNvSpPr/>
              <p:nvPr/>
            </p:nvSpPr>
            <p:spPr>
              <a:xfrm rot="18991200">
                <a:off x="3175560" y="2940120"/>
                <a:ext cx="529560" cy="7020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5443899" h="724955">
                    <a:moveTo>
                      <a:pt x="4679488" y="0"/>
                    </a:moveTo>
                    <a:lnTo>
                      <a:pt x="5443899" y="724955"/>
                    </a:lnTo>
                    <a:lnTo>
                      <a:pt x="764412" y="7249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55" name="文本框 19"/>
              <p:cNvSpPr/>
              <p:nvPr/>
            </p:nvSpPr>
            <p:spPr>
              <a:xfrm>
                <a:off x="2955600" y="2607120"/>
                <a:ext cx="47052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a0a0a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组合 27"/>
          <p:cNvGrpSpPr/>
          <p:nvPr/>
        </p:nvGrpSpPr>
        <p:grpSpPr>
          <a:xfrm>
            <a:off x="2360160" y="3532320"/>
            <a:ext cx="3337200" cy="699120"/>
            <a:chOff x="2360160" y="3532320"/>
            <a:chExt cx="3337200" cy="699120"/>
          </a:xfrm>
        </p:grpSpPr>
        <p:sp>
          <p:nvSpPr>
            <p:cNvPr id="157" name="文本框 20"/>
            <p:cNvSpPr/>
            <p:nvPr/>
          </p:nvSpPr>
          <p:spPr>
            <a:xfrm>
              <a:off x="3687480" y="3646440"/>
              <a:ext cx="2009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处添加目录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21"/>
            <p:cNvGrpSpPr/>
            <p:nvPr/>
          </p:nvGrpSpPr>
          <p:grpSpPr>
            <a:xfrm>
              <a:off x="2360160" y="3532320"/>
              <a:ext cx="700920" cy="699120"/>
              <a:chOff x="2360160" y="3532320"/>
              <a:chExt cx="700920" cy="699120"/>
            </a:xfrm>
          </p:grpSpPr>
          <p:sp>
            <p:nvSpPr>
              <p:cNvPr id="159" name="任意多边形 22"/>
              <p:cNvSpPr/>
              <p:nvPr/>
            </p:nvSpPr>
            <p:spPr>
              <a:xfrm rot="18991200">
                <a:off x="2579760" y="3865320"/>
                <a:ext cx="529560" cy="70200"/>
              </a:xfrm>
              <a:custGeom>
                <a:avLst/>
                <a:gdLst>
                  <a:gd name="textAreaLeft" fmla="*/ 0 w 529560"/>
                  <a:gd name="textAreaRight" fmla="*/ 529920 w 5295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5443899" h="724955">
                    <a:moveTo>
                      <a:pt x="4679488" y="0"/>
                    </a:moveTo>
                    <a:lnTo>
                      <a:pt x="5443899" y="724955"/>
                    </a:lnTo>
                    <a:lnTo>
                      <a:pt x="764412" y="7249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0" name="文本框 23"/>
              <p:cNvSpPr/>
              <p:nvPr/>
            </p:nvSpPr>
            <p:spPr>
              <a:xfrm>
                <a:off x="2360160" y="3532320"/>
                <a:ext cx="47052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0a0a0a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"/>
          <p:cNvSpPr/>
          <p:nvPr/>
        </p:nvSpPr>
        <p:spPr>
          <a:xfrm>
            <a:off x="1359720" y="11592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a0a0a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>
            <a:off x="331560" y="2612520"/>
            <a:ext cx="8420040" cy="356760"/>
          </a:xfrm>
          <a:custGeom>
            <a:avLst/>
            <a:gdLst>
              <a:gd name="textAreaLeft" fmla="*/ 0 w 8420040"/>
              <a:gd name="textAreaRight" fmla="*/ 8420400 w 8420040"/>
              <a:gd name="textAreaTop" fmla="*/ 0 h 356760"/>
              <a:gd name="textAreaBottom" fmla="*/ 357120 h 356760"/>
            </a:gdLst>
            <a:ahLst/>
            <a:rect l="textAreaLeft" t="textAreaTop" r="textAreaRight" b="textAreaBottom"/>
            <a:pathLst>
              <a:path w="7709727" h="357051">
                <a:moveTo>
                  <a:pt x="0" y="0"/>
                </a:moveTo>
                <a:lnTo>
                  <a:pt x="7531202" y="0"/>
                </a:lnTo>
                <a:lnTo>
                  <a:pt x="7709727" y="178526"/>
                </a:lnTo>
                <a:lnTo>
                  <a:pt x="7531202" y="357051"/>
                </a:lnTo>
                <a:lnTo>
                  <a:pt x="0" y="357051"/>
                </a:lnTo>
                <a:lnTo>
                  <a:pt x="178525" y="178526"/>
                </a:lnTo>
                <a:close/>
              </a:path>
            </a:pathLst>
          </a:cu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63" name="组合 3"/>
          <p:cNvGrpSpPr/>
          <p:nvPr/>
        </p:nvGrpSpPr>
        <p:grpSpPr>
          <a:xfrm>
            <a:off x="908640" y="2246760"/>
            <a:ext cx="1088280" cy="1088280"/>
            <a:chOff x="908640" y="2246760"/>
            <a:chExt cx="1088280" cy="1088280"/>
          </a:xfrm>
        </p:grpSpPr>
        <p:grpSp>
          <p:nvGrpSpPr>
            <p:cNvPr id="164" name="组合 4"/>
            <p:cNvGrpSpPr/>
            <p:nvPr/>
          </p:nvGrpSpPr>
          <p:grpSpPr>
            <a:xfrm>
              <a:off x="908640" y="2246760"/>
              <a:ext cx="1088280" cy="1088280"/>
              <a:chOff x="908640" y="2246760"/>
              <a:chExt cx="1088280" cy="1088280"/>
            </a:xfrm>
          </p:grpSpPr>
          <p:sp>
            <p:nvSpPr>
              <p:cNvPr id="165" name="椭圆 7"/>
              <p:cNvSpPr/>
              <p:nvPr/>
            </p:nvSpPr>
            <p:spPr>
              <a:xfrm>
                <a:off x="908640" y="2246760"/>
                <a:ext cx="1088280" cy="108828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6" name="椭圆 8"/>
              <p:cNvSpPr/>
              <p:nvPr/>
            </p:nvSpPr>
            <p:spPr>
              <a:xfrm>
                <a:off x="1004400" y="2342520"/>
                <a:ext cx="896760" cy="89676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 w="38100">
                <a:solidFill>
                  <a:srgbClr val="0a0a0a">
                    <a:lumMod val="90000"/>
                    <a:lumOff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67" name="文本框 5"/>
            <p:cNvSpPr/>
            <p:nvPr/>
          </p:nvSpPr>
          <p:spPr>
            <a:xfrm>
              <a:off x="1305720" y="2428920"/>
              <a:ext cx="29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6"/>
            <p:cNvSpPr/>
            <p:nvPr/>
          </p:nvSpPr>
          <p:spPr>
            <a:xfrm>
              <a:off x="1278360" y="2813400"/>
              <a:ext cx="348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9"/>
          <p:cNvGrpSpPr/>
          <p:nvPr/>
        </p:nvGrpSpPr>
        <p:grpSpPr>
          <a:xfrm>
            <a:off x="2458440" y="2246760"/>
            <a:ext cx="1088280" cy="1088280"/>
            <a:chOff x="2458440" y="2246760"/>
            <a:chExt cx="1088280" cy="1088280"/>
          </a:xfrm>
        </p:grpSpPr>
        <p:grpSp>
          <p:nvGrpSpPr>
            <p:cNvPr id="170" name="组合 10"/>
            <p:cNvGrpSpPr/>
            <p:nvPr/>
          </p:nvGrpSpPr>
          <p:grpSpPr>
            <a:xfrm>
              <a:off x="2458440" y="2246760"/>
              <a:ext cx="1088280" cy="1088280"/>
              <a:chOff x="2458440" y="2246760"/>
              <a:chExt cx="1088280" cy="1088280"/>
            </a:xfrm>
          </p:grpSpPr>
          <p:sp>
            <p:nvSpPr>
              <p:cNvPr id="171" name="椭圆 13"/>
              <p:cNvSpPr/>
              <p:nvPr/>
            </p:nvSpPr>
            <p:spPr>
              <a:xfrm>
                <a:off x="2458440" y="2246760"/>
                <a:ext cx="1088280" cy="108828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2" name="椭圆 14"/>
              <p:cNvSpPr/>
              <p:nvPr/>
            </p:nvSpPr>
            <p:spPr>
              <a:xfrm>
                <a:off x="2554200" y="2342520"/>
                <a:ext cx="896760" cy="896760"/>
              </a:xfrm>
              <a:prstGeom prst="ellipse">
                <a:avLst/>
              </a:prstGeom>
              <a:solidFill>
                <a:schemeClr val="accent2"/>
              </a:solidFill>
              <a:ln w="38100">
                <a:solidFill>
                  <a:srgbClr val="ffc000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73" name="文本框 11"/>
            <p:cNvSpPr/>
            <p:nvPr/>
          </p:nvSpPr>
          <p:spPr>
            <a:xfrm>
              <a:off x="2857680" y="2428920"/>
              <a:ext cx="29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2830320" y="2813400"/>
              <a:ext cx="348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5"/>
          <p:cNvGrpSpPr/>
          <p:nvPr/>
        </p:nvGrpSpPr>
        <p:grpSpPr>
          <a:xfrm>
            <a:off x="4007880" y="2246760"/>
            <a:ext cx="1088280" cy="1088280"/>
            <a:chOff x="4007880" y="2246760"/>
            <a:chExt cx="1088280" cy="1088280"/>
          </a:xfrm>
        </p:grpSpPr>
        <p:grpSp>
          <p:nvGrpSpPr>
            <p:cNvPr id="176" name="组合 16"/>
            <p:cNvGrpSpPr/>
            <p:nvPr/>
          </p:nvGrpSpPr>
          <p:grpSpPr>
            <a:xfrm>
              <a:off x="4007880" y="2246760"/>
              <a:ext cx="1088280" cy="1088280"/>
              <a:chOff x="4007880" y="2246760"/>
              <a:chExt cx="1088280" cy="1088280"/>
            </a:xfrm>
          </p:grpSpPr>
          <p:sp>
            <p:nvSpPr>
              <p:cNvPr id="177" name="椭圆 19"/>
              <p:cNvSpPr/>
              <p:nvPr/>
            </p:nvSpPr>
            <p:spPr>
              <a:xfrm>
                <a:off x="4007880" y="2246760"/>
                <a:ext cx="1088280" cy="108828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8" name="椭圆 20"/>
              <p:cNvSpPr/>
              <p:nvPr/>
            </p:nvSpPr>
            <p:spPr>
              <a:xfrm>
                <a:off x="4104000" y="2342520"/>
                <a:ext cx="896760" cy="89676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 w="38100">
                <a:solidFill>
                  <a:srgbClr val="0a0a0a">
                    <a:lumMod val="90000"/>
                    <a:lumOff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79" name="文本框 17"/>
            <p:cNvSpPr/>
            <p:nvPr/>
          </p:nvSpPr>
          <p:spPr>
            <a:xfrm>
              <a:off x="4405320" y="2428920"/>
              <a:ext cx="29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18"/>
            <p:cNvSpPr/>
            <p:nvPr/>
          </p:nvSpPr>
          <p:spPr>
            <a:xfrm>
              <a:off x="4377960" y="2813400"/>
              <a:ext cx="348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1"/>
          <p:cNvGrpSpPr/>
          <p:nvPr/>
        </p:nvGrpSpPr>
        <p:grpSpPr>
          <a:xfrm>
            <a:off x="5557680" y="2246760"/>
            <a:ext cx="1088280" cy="1088280"/>
            <a:chOff x="5557680" y="2246760"/>
            <a:chExt cx="1088280" cy="1088280"/>
          </a:xfrm>
        </p:grpSpPr>
        <p:grpSp>
          <p:nvGrpSpPr>
            <p:cNvPr id="182" name="组合 22"/>
            <p:cNvGrpSpPr/>
            <p:nvPr/>
          </p:nvGrpSpPr>
          <p:grpSpPr>
            <a:xfrm>
              <a:off x="5557680" y="2246760"/>
              <a:ext cx="1088280" cy="1088280"/>
              <a:chOff x="5557680" y="2246760"/>
              <a:chExt cx="1088280" cy="1088280"/>
            </a:xfrm>
          </p:grpSpPr>
          <p:sp>
            <p:nvSpPr>
              <p:cNvPr id="183" name="椭圆 25"/>
              <p:cNvSpPr/>
              <p:nvPr/>
            </p:nvSpPr>
            <p:spPr>
              <a:xfrm>
                <a:off x="5557680" y="2246760"/>
                <a:ext cx="1088280" cy="108828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84" name="椭圆 26"/>
              <p:cNvSpPr/>
              <p:nvPr/>
            </p:nvSpPr>
            <p:spPr>
              <a:xfrm>
                <a:off x="5653440" y="2342520"/>
                <a:ext cx="896760" cy="896760"/>
              </a:xfrm>
              <a:prstGeom prst="ellipse">
                <a:avLst/>
              </a:prstGeom>
              <a:solidFill>
                <a:schemeClr val="accent2"/>
              </a:solidFill>
              <a:ln w="38100">
                <a:solidFill>
                  <a:srgbClr val="ffc000">
                    <a:lumMod val="7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85" name="文本框 23"/>
            <p:cNvSpPr/>
            <p:nvPr/>
          </p:nvSpPr>
          <p:spPr>
            <a:xfrm>
              <a:off x="5957280" y="2428920"/>
              <a:ext cx="29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24"/>
            <p:cNvSpPr/>
            <p:nvPr/>
          </p:nvSpPr>
          <p:spPr>
            <a:xfrm>
              <a:off x="5929920" y="2813400"/>
              <a:ext cx="348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7"/>
          <p:cNvGrpSpPr/>
          <p:nvPr/>
        </p:nvGrpSpPr>
        <p:grpSpPr>
          <a:xfrm>
            <a:off x="7107480" y="2246760"/>
            <a:ext cx="1088280" cy="1088280"/>
            <a:chOff x="7107480" y="2246760"/>
            <a:chExt cx="1088280" cy="1088280"/>
          </a:xfrm>
        </p:grpSpPr>
        <p:grpSp>
          <p:nvGrpSpPr>
            <p:cNvPr id="188" name="组合 28"/>
            <p:cNvGrpSpPr/>
            <p:nvPr/>
          </p:nvGrpSpPr>
          <p:grpSpPr>
            <a:xfrm>
              <a:off x="7107480" y="2246760"/>
              <a:ext cx="1088280" cy="1088280"/>
              <a:chOff x="7107480" y="2246760"/>
              <a:chExt cx="1088280" cy="1088280"/>
            </a:xfrm>
          </p:grpSpPr>
          <p:sp>
            <p:nvSpPr>
              <p:cNvPr id="189" name="椭圆 31"/>
              <p:cNvSpPr/>
              <p:nvPr/>
            </p:nvSpPr>
            <p:spPr>
              <a:xfrm>
                <a:off x="7107480" y="2246760"/>
                <a:ext cx="1088280" cy="108828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90" name="椭圆 32"/>
              <p:cNvSpPr/>
              <p:nvPr/>
            </p:nvSpPr>
            <p:spPr>
              <a:xfrm>
                <a:off x="7203240" y="2342520"/>
                <a:ext cx="896760" cy="89676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 w="38100">
                <a:solidFill>
                  <a:srgbClr val="0a0a0a">
                    <a:lumMod val="90000"/>
                    <a:lumOff val="1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91" name="文本框 29"/>
            <p:cNvSpPr/>
            <p:nvPr/>
          </p:nvSpPr>
          <p:spPr>
            <a:xfrm>
              <a:off x="7504920" y="2428920"/>
              <a:ext cx="293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30"/>
            <p:cNvSpPr/>
            <p:nvPr/>
          </p:nvSpPr>
          <p:spPr>
            <a:xfrm>
              <a:off x="7477200" y="2813400"/>
              <a:ext cx="3484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3"/>
          <p:cNvGrpSpPr/>
          <p:nvPr/>
        </p:nvGrpSpPr>
        <p:grpSpPr>
          <a:xfrm>
            <a:off x="567000" y="1047600"/>
            <a:ext cx="1771560" cy="808200"/>
            <a:chOff x="567000" y="1047600"/>
            <a:chExt cx="1771560" cy="808200"/>
          </a:xfrm>
        </p:grpSpPr>
        <p:sp>
          <p:nvSpPr>
            <p:cNvPr id="194" name="TextBox 81"/>
            <p:cNvSpPr/>
            <p:nvPr/>
          </p:nvSpPr>
          <p:spPr>
            <a:xfrm>
              <a:off x="567000" y="1047600"/>
              <a:ext cx="1771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82"/>
            <p:cNvSpPr/>
            <p:nvPr/>
          </p:nvSpPr>
          <p:spPr>
            <a:xfrm>
              <a:off x="646920" y="1286640"/>
              <a:ext cx="169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36"/>
          <p:cNvGrpSpPr/>
          <p:nvPr/>
        </p:nvGrpSpPr>
        <p:grpSpPr>
          <a:xfrm>
            <a:off x="3666240" y="1047600"/>
            <a:ext cx="1771560" cy="808200"/>
            <a:chOff x="3666240" y="1047600"/>
            <a:chExt cx="1771560" cy="808200"/>
          </a:xfrm>
        </p:grpSpPr>
        <p:sp>
          <p:nvSpPr>
            <p:cNvPr id="197" name="TextBox 81"/>
            <p:cNvSpPr/>
            <p:nvPr/>
          </p:nvSpPr>
          <p:spPr>
            <a:xfrm>
              <a:off x="3666240" y="1047600"/>
              <a:ext cx="1771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82"/>
            <p:cNvSpPr/>
            <p:nvPr/>
          </p:nvSpPr>
          <p:spPr>
            <a:xfrm>
              <a:off x="3746160" y="1286640"/>
              <a:ext cx="169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39"/>
          <p:cNvGrpSpPr/>
          <p:nvPr/>
        </p:nvGrpSpPr>
        <p:grpSpPr>
          <a:xfrm>
            <a:off x="6765840" y="1047600"/>
            <a:ext cx="1771560" cy="808200"/>
            <a:chOff x="6765840" y="1047600"/>
            <a:chExt cx="1771560" cy="808200"/>
          </a:xfrm>
        </p:grpSpPr>
        <p:sp>
          <p:nvSpPr>
            <p:cNvPr id="200" name="TextBox 81"/>
            <p:cNvSpPr/>
            <p:nvPr/>
          </p:nvSpPr>
          <p:spPr>
            <a:xfrm>
              <a:off x="6765840" y="1047600"/>
              <a:ext cx="1771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chemeClr val="accent1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82"/>
            <p:cNvSpPr/>
            <p:nvPr/>
          </p:nvSpPr>
          <p:spPr>
            <a:xfrm>
              <a:off x="6845760" y="1286640"/>
              <a:ext cx="169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2"/>
          <p:cNvGrpSpPr/>
          <p:nvPr/>
        </p:nvGrpSpPr>
        <p:grpSpPr>
          <a:xfrm>
            <a:off x="2116800" y="3587760"/>
            <a:ext cx="1771560" cy="808200"/>
            <a:chOff x="2116800" y="3587760"/>
            <a:chExt cx="1771560" cy="808200"/>
          </a:xfrm>
        </p:grpSpPr>
        <p:sp>
          <p:nvSpPr>
            <p:cNvPr id="203" name="TextBox 81"/>
            <p:cNvSpPr/>
            <p:nvPr/>
          </p:nvSpPr>
          <p:spPr>
            <a:xfrm>
              <a:off x="2116800" y="3587760"/>
              <a:ext cx="1771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82"/>
            <p:cNvSpPr/>
            <p:nvPr/>
          </p:nvSpPr>
          <p:spPr>
            <a:xfrm>
              <a:off x="2196360" y="3826800"/>
              <a:ext cx="169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45"/>
          <p:cNvGrpSpPr/>
          <p:nvPr/>
        </p:nvGrpSpPr>
        <p:grpSpPr>
          <a:xfrm>
            <a:off x="5216040" y="3587760"/>
            <a:ext cx="1771560" cy="808200"/>
            <a:chOff x="5216040" y="3587760"/>
            <a:chExt cx="1771560" cy="808200"/>
          </a:xfrm>
        </p:grpSpPr>
        <p:sp>
          <p:nvSpPr>
            <p:cNvPr id="206" name="TextBox 81"/>
            <p:cNvSpPr/>
            <p:nvPr/>
          </p:nvSpPr>
          <p:spPr>
            <a:xfrm>
              <a:off x="5216040" y="3587760"/>
              <a:ext cx="1771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82"/>
            <p:cNvSpPr/>
            <p:nvPr/>
          </p:nvSpPr>
          <p:spPr>
            <a:xfrm>
              <a:off x="5295960" y="3826800"/>
              <a:ext cx="169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4"/>
          <p:cNvSpPr/>
          <p:nvPr/>
        </p:nvSpPr>
        <p:spPr>
          <a:xfrm>
            <a:off x="1359720" y="11592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a0a0a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5" descr=""/>
          <p:cNvPicPr/>
          <p:nvPr/>
        </p:nvPicPr>
        <p:blipFill>
          <a:blip r:embed="rId1"/>
          <a:stretch/>
        </p:blipFill>
        <p:spPr>
          <a:xfrm>
            <a:off x="4665600" y="846360"/>
            <a:ext cx="2569680" cy="171324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6" descr=""/>
          <p:cNvPicPr/>
          <p:nvPr/>
        </p:nvPicPr>
        <p:blipFill>
          <a:blip r:embed="rId2"/>
          <a:stretch/>
        </p:blipFill>
        <p:spPr>
          <a:xfrm>
            <a:off x="1908000" y="2731320"/>
            <a:ext cx="2569680" cy="17132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7" descr=""/>
          <p:cNvPicPr/>
          <p:nvPr/>
        </p:nvPicPr>
        <p:blipFill>
          <a:blip r:embed="rId3"/>
          <a:stretch/>
        </p:blipFill>
        <p:spPr>
          <a:xfrm>
            <a:off x="1908000" y="846360"/>
            <a:ext cx="2569680" cy="17132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8" descr=""/>
          <p:cNvPicPr/>
          <p:nvPr/>
        </p:nvPicPr>
        <p:blipFill>
          <a:blip r:embed="rId4"/>
          <a:stretch/>
        </p:blipFill>
        <p:spPr>
          <a:xfrm>
            <a:off x="4665600" y="2731320"/>
            <a:ext cx="2569680" cy="1713240"/>
          </a:xfrm>
          <a:prstGeom prst="rect">
            <a:avLst/>
          </a:prstGeom>
          <a:ln w="0">
            <a:noFill/>
          </a:ln>
        </p:spPr>
      </p:pic>
      <p:grpSp>
        <p:nvGrpSpPr>
          <p:cNvPr id="213" name="组合 9"/>
          <p:cNvGrpSpPr/>
          <p:nvPr/>
        </p:nvGrpSpPr>
        <p:grpSpPr>
          <a:xfrm>
            <a:off x="3757680" y="1830960"/>
            <a:ext cx="1628640" cy="1628640"/>
            <a:chOff x="3757680" y="1830960"/>
            <a:chExt cx="1628640" cy="1628640"/>
          </a:xfrm>
        </p:grpSpPr>
        <p:sp>
          <p:nvSpPr>
            <p:cNvPr id="214" name="矩形 10"/>
            <p:cNvSpPr/>
            <p:nvPr/>
          </p:nvSpPr>
          <p:spPr>
            <a:xfrm rot="2700000">
              <a:off x="3996000" y="2069280"/>
              <a:ext cx="1151640" cy="1151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5" name="矩形 11"/>
            <p:cNvSpPr/>
            <p:nvPr/>
          </p:nvSpPr>
          <p:spPr>
            <a:xfrm rot="2700000">
              <a:off x="4122000" y="2195280"/>
              <a:ext cx="899640" cy="8996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16" name="文本框 12"/>
            <p:cNvSpPr/>
            <p:nvPr/>
          </p:nvSpPr>
          <p:spPr>
            <a:xfrm>
              <a:off x="4271760" y="2514960"/>
              <a:ext cx="6001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关键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文本框 13"/>
          <p:cNvSpPr/>
          <p:nvPr/>
        </p:nvSpPr>
        <p:spPr>
          <a:xfrm>
            <a:off x="1526760" y="4610520"/>
            <a:ext cx="6089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请在此处添加正文并根据需要调整字体大小，建议采用</a:t>
            </a:r>
            <a:r>
              <a:rPr b="0" lang="en-US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1.5</a:t>
            </a:r>
            <a:r>
              <a:rPr b="0" lang="zh-CN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倍行距和居中对齐方式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14"/>
          <p:cNvGrpSpPr/>
          <p:nvPr/>
        </p:nvGrpSpPr>
        <p:grpSpPr>
          <a:xfrm>
            <a:off x="7422840" y="835920"/>
            <a:ext cx="1296000" cy="570240"/>
            <a:chOff x="7422840" y="835920"/>
            <a:chExt cx="1296000" cy="570240"/>
          </a:xfrm>
        </p:grpSpPr>
        <p:sp>
          <p:nvSpPr>
            <p:cNvPr id="219" name="文本框 15"/>
            <p:cNvSpPr/>
            <p:nvPr/>
          </p:nvSpPr>
          <p:spPr>
            <a:xfrm>
              <a:off x="7423200" y="846000"/>
              <a:ext cx="12729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直接连接符 16"/>
            <p:cNvCxnSpPr/>
            <p:nvPr/>
          </p:nvCxnSpPr>
          <p:spPr>
            <a:xfrm>
              <a:off x="7422840" y="835920"/>
              <a:ext cx="1296360" cy="360"/>
            </a:xfrm>
            <a:prstGeom prst="straightConnector1">
              <a:avLst/>
            </a:prstGeom>
            <a:ln w="19050">
              <a:solidFill>
                <a:srgbClr val="ffc000"/>
              </a:solidFill>
            </a:ln>
          </p:spPr>
        </p:cxnSp>
      </p:grpSp>
      <p:grpSp>
        <p:nvGrpSpPr>
          <p:cNvPr id="221" name="组合 17"/>
          <p:cNvGrpSpPr/>
          <p:nvPr/>
        </p:nvGrpSpPr>
        <p:grpSpPr>
          <a:xfrm>
            <a:off x="7400160" y="2731320"/>
            <a:ext cx="1296000" cy="570240"/>
            <a:chOff x="7400160" y="2731320"/>
            <a:chExt cx="1296000" cy="570240"/>
          </a:xfrm>
        </p:grpSpPr>
        <p:sp>
          <p:nvSpPr>
            <p:cNvPr id="222" name="文本框 18"/>
            <p:cNvSpPr/>
            <p:nvPr/>
          </p:nvSpPr>
          <p:spPr>
            <a:xfrm>
              <a:off x="7400160" y="2741400"/>
              <a:ext cx="12729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" name="直接连接符 19"/>
            <p:cNvCxnSpPr/>
            <p:nvPr/>
          </p:nvCxnSpPr>
          <p:spPr>
            <a:xfrm>
              <a:off x="7400160" y="2731320"/>
              <a:ext cx="1296360" cy="360"/>
            </a:xfrm>
            <a:prstGeom prst="straightConnector1">
              <a:avLst/>
            </a:prstGeom>
            <a:ln w="19050">
              <a:solidFill>
                <a:srgbClr val="ffc000"/>
              </a:solidFill>
            </a:ln>
          </p:spPr>
        </p:cxnSp>
      </p:grpSp>
      <p:grpSp>
        <p:nvGrpSpPr>
          <p:cNvPr id="224" name="组合 20"/>
          <p:cNvGrpSpPr/>
          <p:nvPr/>
        </p:nvGrpSpPr>
        <p:grpSpPr>
          <a:xfrm>
            <a:off x="447480" y="846000"/>
            <a:ext cx="1296000" cy="570240"/>
            <a:chOff x="447480" y="846000"/>
            <a:chExt cx="1296000" cy="570240"/>
          </a:xfrm>
        </p:grpSpPr>
        <p:sp>
          <p:nvSpPr>
            <p:cNvPr id="225" name="文本框 21"/>
            <p:cNvSpPr/>
            <p:nvPr/>
          </p:nvSpPr>
          <p:spPr>
            <a:xfrm>
              <a:off x="447840" y="856080"/>
              <a:ext cx="12729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直接连接符 22"/>
            <p:cNvCxnSpPr/>
            <p:nvPr/>
          </p:nvCxnSpPr>
          <p:spPr>
            <a:xfrm>
              <a:off x="447480" y="846000"/>
              <a:ext cx="1296360" cy="360"/>
            </a:xfrm>
            <a:prstGeom prst="straightConnector1">
              <a:avLst/>
            </a:prstGeom>
            <a:ln w="19050">
              <a:solidFill>
                <a:srgbClr val="ffc000"/>
              </a:solidFill>
            </a:ln>
          </p:spPr>
        </p:cxnSp>
      </p:grpSp>
      <p:grpSp>
        <p:nvGrpSpPr>
          <p:cNvPr id="227" name="组合 23"/>
          <p:cNvGrpSpPr/>
          <p:nvPr/>
        </p:nvGrpSpPr>
        <p:grpSpPr>
          <a:xfrm>
            <a:off x="424800" y="2741040"/>
            <a:ext cx="1296000" cy="570600"/>
            <a:chOff x="424800" y="2741040"/>
            <a:chExt cx="1296000" cy="570600"/>
          </a:xfrm>
        </p:grpSpPr>
        <p:sp>
          <p:nvSpPr>
            <p:cNvPr id="228" name="文本框 24"/>
            <p:cNvSpPr/>
            <p:nvPr/>
          </p:nvSpPr>
          <p:spPr>
            <a:xfrm>
              <a:off x="424800" y="2751480"/>
              <a:ext cx="12729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直接连接符 25"/>
            <p:cNvCxnSpPr/>
            <p:nvPr/>
          </p:nvCxnSpPr>
          <p:spPr>
            <a:xfrm>
              <a:off x="424800" y="2741040"/>
              <a:ext cx="1296360" cy="360"/>
            </a:xfrm>
            <a:prstGeom prst="straightConnector1">
              <a:avLst/>
            </a:prstGeom>
            <a:ln w="19050">
              <a:solidFill>
                <a:srgbClr val="ffc000"/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"/>
          <p:cNvSpPr/>
          <p:nvPr/>
        </p:nvSpPr>
        <p:spPr>
          <a:xfrm>
            <a:off x="1359720" y="11592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a0a0a"/>
                </a:solidFill>
                <a:latin typeface="微软雅黑"/>
                <a:ea typeface="微软雅黑"/>
              </a:rPr>
              <a:t>请在此处添加幻灯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48"/>
          <p:cNvSpPr/>
          <p:nvPr/>
        </p:nvSpPr>
        <p:spPr>
          <a:xfrm>
            <a:off x="3300480" y="1454040"/>
            <a:ext cx="2490480" cy="2490480"/>
          </a:xfrm>
          <a:custGeom>
            <a:avLst/>
            <a:gdLst>
              <a:gd name="textAreaLeft" fmla="*/ 0 w 2490480"/>
              <a:gd name="textAreaRight" fmla="*/ 2490840 w 2490480"/>
              <a:gd name="textAreaTop" fmla="*/ 0 h 2490480"/>
              <a:gd name="textAreaBottom" fmla="*/ 2490840 h 2490480"/>
            </a:gdLst>
            <a:ahLst/>
            <a:rect l="textAreaLeft" t="textAreaTop" r="textAreaRight" b="textAreaBottom"/>
            <a:pathLst>
              <a:path w="2490788" h="2490788">
                <a:moveTo>
                  <a:pt x="1245393" y="116680"/>
                </a:moveTo>
                <a:cubicBezTo>
                  <a:pt x="622022" y="116680"/>
                  <a:pt x="116680" y="622022"/>
                  <a:pt x="116680" y="1245393"/>
                </a:cubicBezTo>
                <a:cubicBezTo>
                  <a:pt x="116680" y="1868764"/>
                  <a:pt x="622022" y="2374106"/>
                  <a:pt x="1245393" y="2374106"/>
                </a:cubicBezTo>
                <a:cubicBezTo>
                  <a:pt x="1868764" y="2374106"/>
                  <a:pt x="2374106" y="1868764"/>
                  <a:pt x="2374106" y="1245393"/>
                </a:cubicBezTo>
                <a:cubicBezTo>
                  <a:pt x="2374106" y="622022"/>
                  <a:pt x="1868764" y="116680"/>
                  <a:pt x="1245393" y="116680"/>
                </a:cubicBezTo>
                <a:close/>
                <a:moveTo>
                  <a:pt x="1245394" y="0"/>
                </a:moveTo>
                <a:cubicBezTo>
                  <a:pt x="1933206" y="0"/>
                  <a:pt x="2490788" y="557582"/>
                  <a:pt x="2490788" y="1245394"/>
                </a:cubicBezTo>
                <a:cubicBezTo>
                  <a:pt x="2490788" y="1933206"/>
                  <a:pt x="1933206" y="2490788"/>
                  <a:pt x="1245394" y="2490788"/>
                </a:cubicBezTo>
                <a:cubicBezTo>
                  <a:pt x="557582" y="2490788"/>
                  <a:pt x="0" y="1933206"/>
                  <a:pt x="0" y="1245394"/>
                </a:cubicBezTo>
                <a:cubicBezTo>
                  <a:pt x="0" y="557582"/>
                  <a:pt x="557582" y="0"/>
                  <a:pt x="1245394" y="0"/>
                </a:cubicBez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232" name="组合 49"/>
          <p:cNvGrpSpPr/>
          <p:nvPr/>
        </p:nvGrpSpPr>
        <p:grpSpPr>
          <a:xfrm>
            <a:off x="4077720" y="1125720"/>
            <a:ext cx="935640" cy="935640"/>
            <a:chOff x="4077720" y="1125720"/>
            <a:chExt cx="935640" cy="935640"/>
          </a:xfrm>
        </p:grpSpPr>
        <p:grpSp>
          <p:nvGrpSpPr>
            <p:cNvPr id="233" name="组合 50"/>
            <p:cNvGrpSpPr/>
            <p:nvPr/>
          </p:nvGrpSpPr>
          <p:grpSpPr>
            <a:xfrm>
              <a:off x="4077720" y="1125720"/>
              <a:ext cx="935640" cy="935640"/>
              <a:chOff x="4077720" y="1125720"/>
              <a:chExt cx="935640" cy="935640"/>
            </a:xfrm>
          </p:grpSpPr>
          <p:sp>
            <p:nvSpPr>
              <p:cNvPr id="234" name="椭圆 52"/>
              <p:cNvSpPr/>
              <p:nvPr/>
            </p:nvSpPr>
            <p:spPr>
              <a:xfrm>
                <a:off x="4077720" y="1125720"/>
                <a:ext cx="935640" cy="93564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35" name="椭圆 53"/>
              <p:cNvSpPr/>
              <p:nvPr/>
            </p:nvSpPr>
            <p:spPr>
              <a:xfrm>
                <a:off x="4149720" y="1197720"/>
                <a:ext cx="791640" cy="79164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36" name="文本框 51"/>
            <p:cNvSpPr/>
            <p:nvPr/>
          </p:nvSpPr>
          <p:spPr>
            <a:xfrm>
              <a:off x="4443840" y="1298520"/>
              <a:ext cx="203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54"/>
          <p:cNvGrpSpPr/>
          <p:nvPr/>
        </p:nvGrpSpPr>
        <p:grpSpPr>
          <a:xfrm>
            <a:off x="3141720" y="2849760"/>
            <a:ext cx="935640" cy="935640"/>
            <a:chOff x="3141720" y="2849760"/>
            <a:chExt cx="935640" cy="935640"/>
          </a:xfrm>
        </p:grpSpPr>
        <p:grpSp>
          <p:nvGrpSpPr>
            <p:cNvPr id="238" name="组合 55"/>
            <p:cNvGrpSpPr/>
            <p:nvPr/>
          </p:nvGrpSpPr>
          <p:grpSpPr>
            <a:xfrm>
              <a:off x="3141720" y="2849760"/>
              <a:ext cx="935640" cy="935640"/>
              <a:chOff x="3141720" y="2849760"/>
              <a:chExt cx="935640" cy="935640"/>
            </a:xfrm>
          </p:grpSpPr>
          <p:sp>
            <p:nvSpPr>
              <p:cNvPr id="239" name="椭圆 57"/>
              <p:cNvSpPr/>
              <p:nvPr/>
            </p:nvSpPr>
            <p:spPr>
              <a:xfrm>
                <a:off x="3141720" y="2849760"/>
                <a:ext cx="935640" cy="93564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40" name="椭圆 58"/>
              <p:cNvSpPr/>
              <p:nvPr/>
            </p:nvSpPr>
            <p:spPr>
              <a:xfrm>
                <a:off x="3213720" y="2921760"/>
                <a:ext cx="791640" cy="79164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41" name="文本框 56"/>
            <p:cNvSpPr/>
            <p:nvPr/>
          </p:nvSpPr>
          <p:spPr>
            <a:xfrm>
              <a:off x="3507840" y="3056040"/>
              <a:ext cx="203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59"/>
          <p:cNvGrpSpPr/>
          <p:nvPr/>
        </p:nvGrpSpPr>
        <p:grpSpPr>
          <a:xfrm>
            <a:off x="5013720" y="2849760"/>
            <a:ext cx="935640" cy="935640"/>
            <a:chOff x="5013720" y="2849760"/>
            <a:chExt cx="935640" cy="935640"/>
          </a:xfrm>
        </p:grpSpPr>
        <p:grpSp>
          <p:nvGrpSpPr>
            <p:cNvPr id="243" name="组合 60"/>
            <p:cNvGrpSpPr/>
            <p:nvPr/>
          </p:nvGrpSpPr>
          <p:grpSpPr>
            <a:xfrm>
              <a:off x="5013720" y="2849760"/>
              <a:ext cx="935640" cy="935640"/>
              <a:chOff x="5013720" y="2849760"/>
              <a:chExt cx="935640" cy="935640"/>
            </a:xfrm>
          </p:grpSpPr>
          <p:sp>
            <p:nvSpPr>
              <p:cNvPr id="244" name="椭圆 62"/>
              <p:cNvSpPr/>
              <p:nvPr/>
            </p:nvSpPr>
            <p:spPr>
              <a:xfrm>
                <a:off x="5013720" y="2849760"/>
                <a:ext cx="935640" cy="935640"/>
              </a:xfrm>
              <a:prstGeom prst="ellipse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45" name="椭圆 63"/>
              <p:cNvSpPr/>
              <p:nvPr/>
            </p:nvSpPr>
            <p:spPr>
              <a:xfrm>
                <a:off x="5085720" y="2921760"/>
                <a:ext cx="791640" cy="791640"/>
              </a:xfrm>
              <a:prstGeom prst="ellipse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35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46" name="文本框 61"/>
            <p:cNvSpPr/>
            <p:nvPr/>
          </p:nvSpPr>
          <p:spPr>
            <a:xfrm>
              <a:off x="5379840" y="3056040"/>
              <a:ext cx="203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矩形 64"/>
          <p:cNvSpPr/>
          <p:nvPr/>
        </p:nvSpPr>
        <p:spPr>
          <a:xfrm>
            <a:off x="3764160" y="2469960"/>
            <a:ext cx="156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a0a0a"/>
                </a:solidFill>
                <a:latin typeface="微软雅黑"/>
                <a:ea typeface="微软雅黑"/>
              </a:rPr>
              <a:t>此处添加关键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65"/>
          <p:cNvGrpSpPr/>
          <p:nvPr/>
        </p:nvGrpSpPr>
        <p:grpSpPr>
          <a:xfrm>
            <a:off x="543240" y="2609640"/>
            <a:ext cx="2307240" cy="603000"/>
            <a:chOff x="543240" y="2609640"/>
            <a:chExt cx="2307240" cy="603000"/>
          </a:xfrm>
        </p:grpSpPr>
        <p:sp>
          <p:nvSpPr>
            <p:cNvPr id="249" name="TextBox 81"/>
            <p:cNvSpPr/>
            <p:nvPr/>
          </p:nvSpPr>
          <p:spPr>
            <a:xfrm>
              <a:off x="543240" y="2609640"/>
              <a:ext cx="23072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82"/>
            <p:cNvSpPr/>
            <p:nvPr/>
          </p:nvSpPr>
          <p:spPr>
            <a:xfrm>
              <a:off x="623160" y="2883240"/>
              <a:ext cx="22273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请在此添加正文并根据需要调整字体大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68"/>
          <p:cNvGrpSpPr/>
          <p:nvPr/>
        </p:nvGrpSpPr>
        <p:grpSpPr>
          <a:xfrm>
            <a:off x="6240960" y="2609640"/>
            <a:ext cx="2307240" cy="603000"/>
            <a:chOff x="6240960" y="2609640"/>
            <a:chExt cx="2307240" cy="603000"/>
          </a:xfrm>
        </p:grpSpPr>
        <p:sp>
          <p:nvSpPr>
            <p:cNvPr id="252" name="TextBox 81"/>
            <p:cNvSpPr/>
            <p:nvPr/>
          </p:nvSpPr>
          <p:spPr>
            <a:xfrm>
              <a:off x="6240960" y="2609640"/>
              <a:ext cx="23072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82"/>
            <p:cNvSpPr/>
            <p:nvPr/>
          </p:nvSpPr>
          <p:spPr>
            <a:xfrm>
              <a:off x="6320520" y="2883240"/>
              <a:ext cx="222732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请在此添加正文并根据需要调整字体大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71"/>
          <p:cNvGrpSpPr/>
          <p:nvPr/>
        </p:nvGrpSpPr>
        <p:grpSpPr>
          <a:xfrm>
            <a:off x="5586840" y="829800"/>
            <a:ext cx="2961360" cy="603000"/>
            <a:chOff x="5586840" y="829800"/>
            <a:chExt cx="2961360" cy="603000"/>
          </a:xfrm>
        </p:grpSpPr>
        <p:sp>
          <p:nvSpPr>
            <p:cNvPr id="255" name="TextBox 81"/>
            <p:cNvSpPr/>
            <p:nvPr/>
          </p:nvSpPr>
          <p:spPr>
            <a:xfrm>
              <a:off x="5586840" y="829800"/>
              <a:ext cx="2199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在此处添加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82"/>
            <p:cNvSpPr/>
            <p:nvPr/>
          </p:nvSpPr>
          <p:spPr>
            <a:xfrm>
              <a:off x="5663160" y="1103400"/>
              <a:ext cx="288504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请在此添加正文并根据需要调整字体大小，建议采用</a:t>
              </a:r>
              <a:r>
                <a:rPr b="0" lang="en-US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1.5</a:t>
              </a:r>
              <a:r>
                <a:rPr b="0" lang="zh-CN" sz="1050" spc="-1" strike="noStrike">
                  <a:solidFill>
                    <a:srgbClr val="0a0a0a"/>
                  </a:solidFill>
                  <a:latin typeface="微软雅黑"/>
                  <a:ea typeface="微软雅黑"/>
                </a:rPr>
                <a:t>倍行距和两端对齐方式。请在此添加正文并根据需要调整字体大小。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文本框 74"/>
          <p:cNvSpPr/>
          <p:nvPr/>
        </p:nvSpPr>
        <p:spPr>
          <a:xfrm>
            <a:off x="1526760" y="4175280"/>
            <a:ext cx="6089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请在此处添加正文并根据需要调整字体大小，建议采用</a:t>
            </a:r>
            <a:r>
              <a:rPr b="0" lang="en-US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1.5</a:t>
            </a:r>
            <a:r>
              <a:rPr b="0" lang="zh-CN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倍行距和居中对齐方式。请在此处添加正文并根据需要调整字体大小，建议采用</a:t>
            </a:r>
            <a:r>
              <a:rPr b="0" lang="en-US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1.5</a:t>
            </a:r>
            <a:r>
              <a:rPr b="0" lang="zh-CN" sz="1100" spc="-1" strike="noStrike">
                <a:solidFill>
                  <a:srgbClr val="5976a5"/>
                </a:solidFill>
                <a:latin typeface="微软雅黑"/>
                <a:ea typeface="微软雅黑"/>
              </a:rPr>
              <a:t>倍行距和居中对齐方式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任意多边形 13"/>
          <p:cNvSpPr/>
          <p:nvPr/>
        </p:nvSpPr>
        <p:spPr>
          <a:xfrm rot="18991200">
            <a:off x="1715760" y="1404000"/>
            <a:ext cx="7160040" cy="1224360"/>
          </a:xfrm>
          <a:custGeom>
            <a:avLst/>
            <a:gdLst>
              <a:gd name="textAreaLeft" fmla="*/ 0 w 7160040"/>
              <a:gd name="textAreaRight" fmla="*/ 7160400 w 7160040"/>
              <a:gd name="textAreaTop" fmla="*/ 0 h 1224360"/>
              <a:gd name="textAreaBottom" fmla="*/ 1224720 h 1224360"/>
            </a:gdLst>
            <a:ahLst/>
            <a:rect l="textAreaLeft" t="textAreaTop" r="textAreaRight" b="textAreaBottom"/>
            <a:pathLst>
              <a:path w="7160457" h="1224801">
                <a:moveTo>
                  <a:pt x="5868996" y="0"/>
                </a:moveTo>
                <a:lnTo>
                  <a:pt x="7160457" y="1224801"/>
                </a:lnTo>
                <a:lnTo>
                  <a:pt x="1278775" y="1224800"/>
                </a:lnTo>
                <a:lnTo>
                  <a:pt x="0" y="12032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59" name="任意多边形 18"/>
          <p:cNvSpPr/>
          <p:nvPr/>
        </p:nvSpPr>
        <p:spPr>
          <a:xfrm rot="18991200">
            <a:off x="2744640" y="3666240"/>
            <a:ext cx="4076280" cy="542520"/>
          </a:xfrm>
          <a:custGeom>
            <a:avLst/>
            <a:gdLst>
              <a:gd name="textAreaLeft" fmla="*/ 0 w 4076280"/>
              <a:gd name="textAreaRight" fmla="*/ 4076640 w 4076280"/>
              <a:gd name="textAreaTop" fmla="*/ 0 h 542520"/>
              <a:gd name="textAreaBottom" fmla="*/ 542880 h 542520"/>
            </a:gdLst>
            <a:ahLst/>
            <a:rect l="textAreaLeft" t="textAreaTop" r="textAreaRight" b="textAreaBottom"/>
            <a:pathLst>
              <a:path w="5443899" h="724955">
                <a:moveTo>
                  <a:pt x="4679488" y="0"/>
                </a:moveTo>
                <a:lnTo>
                  <a:pt x="5443899" y="724955"/>
                </a:lnTo>
                <a:lnTo>
                  <a:pt x="764412" y="724955"/>
                </a:lnTo>
                <a:lnTo>
                  <a:pt x="0" y="0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60" name="文本框 21"/>
          <p:cNvSpPr/>
          <p:nvPr/>
        </p:nvSpPr>
        <p:spPr>
          <a:xfrm rot="18981600">
            <a:off x="4377240" y="1716480"/>
            <a:ext cx="1629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599" strike="noStrike">
                <a:solidFill>
                  <a:srgbClr val="ffffff"/>
                </a:solidFill>
                <a:latin typeface="微软雅黑"/>
                <a:ea typeface="微软雅黑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2"/>
          <p:cNvSpPr/>
          <p:nvPr/>
        </p:nvSpPr>
        <p:spPr>
          <a:xfrm rot="18981600">
            <a:off x="4178520" y="3616560"/>
            <a:ext cx="152208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请在此处添加公司或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灰风配色1">
      <a:dk1>
        <a:srgbClr val="0a0a0a"/>
      </a:dk1>
      <a:lt1>
        <a:srgbClr val="ffffff"/>
      </a:lt1>
      <a:dk2>
        <a:srgbClr val="5976a5"/>
      </a:dk2>
      <a:lt2>
        <a:srgbClr val="ecf0f1"/>
      </a:lt2>
      <a:accent1>
        <a:srgbClr val="0072c6"/>
      </a:accent1>
      <a:accent2>
        <a:srgbClr val="ffc000"/>
      </a:accent2>
      <a:accent3>
        <a:srgbClr val="dc3c00"/>
      </a:accent3>
      <a:accent4>
        <a:srgbClr val="7fba00"/>
      </a:accent4>
      <a:accent5>
        <a:srgbClr val="3bbeb4"/>
      </a:accent5>
      <a:accent6>
        <a:srgbClr val="7030a0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灰风配色1">
      <a:dk1>
        <a:srgbClr val="0a0a0a"/>
      </a:dk1>
      <a:lt1>
        <a:srgbClr val="ffffff"/>
      </a:lt1>
      <a:dk2>
        <a:srgbClr val="5976a5"/>
      </a:dk2>
      <a:lt2>
        <a:srgbClr val="ecf0f1"/>
      </a:lt2>
      <a:accent1>
        <a:srgbClr val="0072c6"/>
      </a:accent1>
      <a:accent2>
        <a:srgbClr val="ffc000"/>
      </a:accent2>
      <a:accent3>
        <a:srgbClr val="dc3c00"/>
      </a:accent3>
      <a:accent4>
        <a:srgbClr val="7fba00"/>
      </a:accent4>
      <a:accent5>
        <a:srgbClr val="3bbeb4"/>
      </a:accent5>
      <a:accent6>
        <a:srgbClr val="7030a0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灰风配色1">
      <a:dk1>
        <a:srgbClr val="0a0a0a"/>
      </a:dk1>
      <a:lt1>
        <a:srgbClr val="ffffff"/>
      </a:lt1>
      <a:dk2>
        <a:srgbClr val="5976a5"/>
      </a:dk2>
      <a:lt2>
        <a:srgbClr val="ecf0f1"/>
      </a:lt2>
      <a:accent1>
        <a:srgbClr val="0072c6"/>
      </a:accent1>
      <a:accent2>
        <a:srgbClr val="ffc000"/>
      </a:accent2>
      <a:accent3>
        <a:srgbClr val="dc3c00"/>
      </a:accent3>
      <a:accent4>
        <a:srgbClr val="7fba00"/>
      </a:accent4>
      <a:accent5>
        <a:srgbClr val="3bbeb4"/>
      </a:accent5>
      <a:accent6>
        <a:srgbClr val="7030a0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60</TotalTime>
  <Application>LibreOffice/7.4.7.2$Linux_X86_64 LibreOffice_project/40$Build-2</Application>
  <AppVersion>15.0000</AppVersion>
  <Words>468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03:08:07Z</dcterms:created>
  <dc:creator>www.pptbz.com</dc:creator>
  <dc:description/>
  <dc:language>en-US</dc:language>
  <cp:lastModifiedBy>a</cp:lastModifiedBy>
  <dcterms:modified xsi:type="dcterms:W3CDTF">2015-07-25T12:27:47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6</vt:r8>
  </property>
</Properties>
</file>