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961D-DC05-453E-A79F-29C46BF842EA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898-4554-47EF-8FBB-FE7D8F59A898}" type="slidenum">
              <a:rPr b="0" lang="fr-CA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D4B-9D6C-42B3-917C-48E7789B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35F-2BD0-405B-9143-C079FA2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113-6F65-4583-8FF1-6D297886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40A-7B0E-4749-8868-8054E2C4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88A-BE34-4FE6-8125-8B2CD9DE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1B6-5016-4081-B9C3-AE96446C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6B3-5890-4B50-B2D7-B052DFB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8FE-C726-4F04-8E74-7977C615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40E0-EEBE-4451-A8EF-6C8E9696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57C-ED8C-4579-8E96-F395A0D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EA0-AE47-4FCB-991C-8ABE3AE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9B8-9CC1-4610-9BAF-61C6DF8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4419-48AB-41A9-A6D8-DE6261A97C78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7890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b214"/>
                </a:solidFill>
                <a:latin typeface="超世纪粗行书"/>
                <a:ea typeface="超世纪粗行书"/>
              </a:rPr>
              <a:t>金条金融</a:t>
            </a:r>
            <a:r>
              <a:rPr b="0" lang="en-US" sz="4000" spc="-1" strike="noStrike">
                <a:solidFill>
                  <a:srgbClr val="edb214"/>
                </a:solidFill>
                <a:latin typeface="超世纪粗行书"/>
                <a:ea typeface="超世纪粗行书"/>
              </a:rPr>
              <a:t>PPT</a:t>
            </a:r>
            <a:r>
              <a:rPr b="0" lang="zh-CN" sz="4000" spc="-1" strike="noStrike">
                <a:solidFill>
                  <a:srgbClr val="edb214"/>
                </a:solidFill>
                <a:latin typeface="超世纪粗行书"/>
                <a:ea typeface="超世纪粗行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6721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6721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6721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96721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7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9672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57:28Z</dcterms:created>
  <dc:creator>Admin</dc:creator>
  <dc:description/>
  <dc:language>en-US</dc:language>
  <cp:lastModifiedBy>王玉清</cp:lastModifiedBy>
  <dcterms:modified xsi:type="dcterms:W3CDTF">2016-02-15T04:36:54Z</dcterms:modified>
  <cp:revision>7</cp:revision>
  <dc:subject/>
  <dc:title>PRESENTATION  NAME</dc:title>
</cp:coreProperties>
</file>