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DA7-0282-436B-A4C1-A4CF5A87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01D-8A4B-4B1A-8CE6-897903DB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E14-3673-4E54-B6E1-ADAAAF32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CA6-F033-4E5F-BC29-0D666DCB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F9F-D98A-4EB1-899F-A3BD6E29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CC6-D681-4AB3-A90C-E740D12D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DF5-E6D4-41E3-8D59-1A56570B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013-27E9-4A47-878B-AAE93CF0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482-3C43-4926-9D96-4D5D971C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D84-13FB-4310-ABD9-0175698F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4B2-42E3-4A52-8B32-5363293D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71C-D315-4E2F-9FBF-B5002C66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1280"/>
              <a:ext cx="914400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7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1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7850-7C57-488F-BF7F-967C2AA6205D}" type="slidenum">
              <a:rPr b="1" lang="zh-CN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5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908000" y="393372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主办：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WPS offi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908000" y="446868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12.10.19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908000" y="502596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作者：小</a:t>
            </a: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仔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0" y="299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Simple, Powerful and fr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2008440" y="78264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rebuchet MS"/>
              </a:rPr>
              <a:t>快乐清新办公商务</a:t>
            </a:r>
            <a:r>
              <a:rPr b="0" lang="zh-CN" sz="4000" spc="-1" strike="noStrike">
                <a:solidFill>
                  <a:srgbClr val="000000"/>
                </a:solidFill>
                <a:latin typeface="Trebuchet MS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rebuchet MS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3"/>
          <p:cNvGrpSpPr/>
          <p:nvPr/>
        </p:nvGrpSpPr>
        <p:grpSpPr>
          <a:xfrm>
            <a:off x="480960" y="944640"/>
            <a:ext cx="5018040" cy="609480"/>
            <a:chOff x="480960" y="944640"/>
            <a:chExt cx="5018040" cy="609480"/>
          </a:xfrm>
        </p:grpSpPr>
        <p:pic>
          <p:nvPicPr>
            <p:cNvPr id="60" name="圆角矩形​​ 5" descr=""/>
            <p:cNvPicPr/>
            <p:nvPr/>
          </p:nvPicPr>
          <p:blipFill>
            <a:blip r:embed="rId2"/>
            <a:stretch/>
          </p:blipFill>
          <p:spPr>
            <a:xfrm>
              <a:off x="480960" y="944640"/>
              <a:ext cx="5018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5"/>
            <p:cNvSpPr/>
            <p:nvPr/>
          </p:nvSpPr>
          <p:spPr>
            <a:xfrm>
              <a:off x="563400" y="1005120"/>
              <a:ext cx="48484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2" name="TextBox 6"/>
          <p:cNvSpPr/>
          <p:nvPr/>
        </p:nvSpPr>
        <p:spPr>
          <a:xfrm>
            <a:off x="611280" y="10098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说中的目录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对角圆角矩形 3"/>
          <p:cNvSpPr/>
          <p:nvPr/>
        </p:nvSpPr>
        <p:spPr>
          <a:xfrm>
            <a:off x="1116000" y="1773360"/>
            <a:ext cx="6912000" cy="503280"/>
          </a:xfrm>
          <a:prstGeom prst="pie">
            <a:avLst/>
          </a:prstGeom>
          <a:solidFill>
            <a:srgbClr val="94c60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1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快乐吗？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对角圆角矩形 9"/>
          <p:cNvSpPr/>
          <p:nvPr/>
        </p:nvSpPr>
        <p:spPr>
          <a:xfrm>
            <a:off x="1116000" y="2637000"/>
            <a:ext cx="6912000" cy="504720"/>
          </a:xfrm>
          <a:prstGeom prst="pie">
            <a:avLst/>
          </a:prstGeom>
          <a:solidFill>
            <a:srgbClr val="94c60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2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很快乐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对角圆角矩形 10"/>
          <p:cNvSpPr/>
          <p:nvPr/>
        </p:nvSpPr>
        <p:spPr>
          <a:xfrm>
            <a:off x="1116000" y="3429000"/>
            <a:ext cx="6912000" cy="504720"/>
          </a:xfrm>
          <a:prstGeom prst="pie">
            <a:avLst/>
          </a:prstGeom>
          <a:solidFill>
            <a:srgbClr val="94c60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3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办公吗？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对角圆角矩形 11"/>
          <p:cNvSpPr/>
          <p:nvPr/>
        </p:nvSpPr>
        <p:spPr>
          <a:xfrm>
            <a:off x="1116000" y="4221000"/>
            <a:ext cx="6912000" cy="503280"/>
          </a:xfrm>
          <a:prstGeom prst="pie">
            <a:avLst/>
          </a:prstGeom>
          <a:solidFill>
            <a:srgbClr val="94c60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4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办公的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对角圆角矩形 13"/>
          <p:cNvSpPr/>
          <p:nvPr/>
        </p:nvSpPr>
        <p:spPr>
          <a:xfrm>
            <a:off x="1116000" y="5084640"/>
            <a:ext cx="6912000" cy="503280"/>
          </a:xfrm>
          <a:prstGeom prst="pie">
            <a:avLst/>
          </a:prstGeom>
          <a:solidFill>
            <a:srgbClr val="94c60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5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乐办公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2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pic>
        <p:nvPicPr>
          <p:cNvPr id="69" name="圆角矩形​​ 3" descr=""/>
          <p:cNvPicPr/>
          <p:nvPr/>
        </p:nvPicPr>
        <p:blipFill>
          <a:blip r:embed="rId2"/>
          <a:stretch/>
        </p:blipFill>
        <p:spPr>
          <a:xfrm>
            <a:off x="1852560" y="2614680"/>
            <a:ext cx="5291280" cy="168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2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3"/>
          <p:cNvGrpSpPr/>
          <p:nvPr/>
        </p:nvGrpSpPr>
        <p:grpSpPr>
          <a:xfrm>
            <a:off x="480960" y="944640"/>
            <a:ext cx="5018040" cy="609480"/>
            <a:chOff x="480960" y="944640"/>
            <a:chExt cx="5018040" cy="609480"/>
          </a:xfrm>
        </p:grpSpPr>
        <p:pic>
          <p:nvPicPr>
            <p:cNvPr id="72" name="圆角矩形​​ 3" descr=""/>
            <p:cNvPicPr/>
            <p:nvPr/>
          </p:nvPicPr>
          <p:blipFill>
            <a:blip r:embed="rId2"/>
            <a:stretch/>
          </p:blipFill>
          <p:spPr>
            <a:xfrm>
              <a:off x="480960" y="944640"/>
              <a:ext cx="5018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5"/>
            <p:cNvSpPr/>
            <p:nvPr/>
          </p:nvSpPr>
          <p:spPr>
            <a:xfrm>
              <a:off x="563400" y="1005120"/>
              <a:ext cx="48484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TextBox 6"/>
          <p:cNvSpPr/>
          <p:nvPr/>
        </p:nvSpPr>
        <p:spPr>
          <a:xfrm>
            <a:off x="611280" y="10098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快乐吗？我很快乐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971640" y="1844640"/>
            <a:ext cx="7056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快乐吗？我很快乐！我们一起快乐办公吧！好的好的。那我们一起去关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@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仔   的新浪微博吧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好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是传说中的内容页，你发现了吗？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恩恩，我发现了的说，这里确实是内容页啊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我们应该怎么办？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点内容呗，把内容页填满啊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啊，这么麻烦的啊，好吧，现在满了吧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恩恩，撤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2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1368360" y="424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4a510"/>
                </a:solidFill>
                <a:latin typeface="微软雅黑"/>
                <a:ea typeface="微软雅黑"/>
              </a:rPr>
              <a:t>你快乐吗？结束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3368520" y="1039680"/>
            <a:ext cx="2408400" cy="3219480"/>
            <a:chOff x="3368520" y="1039680"/>
            <a:chExt cx="2408400" cy="3219480"/>
          </a:xfrm>
        </p:grpSpPr>
        <p:pic>
          <p:nvPicPr>
            <p:cNvPr id="79" name="图片 15" descr=""/>
            <p:cNvPicPr/>
            <p:nvPr/>
          </p:nvPicPr>
          <p:blipFill>
            <a:blip r:embed="rId2"/>
            <a:stretch/>
          </p:blipFill>
          <p:spPr>
            <a:xfrm>
              <a:off x="3368520" y="1039680"/>
              <a:ext cx="240840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67"/>
            <p:cNvSpPr/>
            <p:nvPr/>
          </p:nvSpPr>
          <p:spPr>
            <a:xfrm rot="20589000">
              <a:off x="3953880" y="2309760"/>
              <a:ext cx="130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谢谢聆听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1:09:45Z</dcterms:created>
  <dc:creator>haixiao91</dc:creator>
  <dc:description/>
  <cp:keywords/>
  <dc:language>en-US</dc:language>
  <cp:lastModifiedBy>a</cp:lastModifiedBy>
  <dcterms:modified xsi:type="dcterms:W3CDTF">2015-07-25T07:48:39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