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1B7-9E6B-49FE-BFA0-03A5830C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8AF-145C-4A7E-8EF8-FFB2406D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468-033F-4D93-8F76-3F524101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B57-CD75-4BEC-BAC8-5C90CC37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BAE-7984-42D1-831C-2533059E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D83-12F3-4F41-BD4B-AA2009B5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2FF-B262-4F90-A638-B4467C2E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3FC-C620-4773-BE43-01C98692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201-186A-4556-A184-EA24680A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C09-7E67-4539-86AD-F325AACF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B2A-B9C2-4C6A-BA1F-CC02CC5D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3CF-40BB-4FBB-BAC7-4E916279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1FD3-6D4E-4058-A51D-8862146AF1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5997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4283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1405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43549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2556360" y="907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328608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212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854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6498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140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997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142884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64840" y="3500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283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498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8364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636560" y="6618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997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4426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069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997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997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354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a</cp:lastModifiedBy>
  <dcterms:modified xsi:type="dcterms:W3CDTF">2015-07-25T02:46:41Z</dcterms:modified>
  <cp:revision>38</cp:revision>
  <dc:subject/>
  <dc:title>www.pptbz.com</dc:title>
</cp:coreProperties>
</file>