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EDF0-D062-4575-97E2-F59770EA3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B926-D1BE-403A-91BF-C0AD8D920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B765-7127-4826-9DBE-84AD00A26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75ED-4ADA-4DFB-AFF9-B9F92B0A5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3FB0-263C-4A18-B85B-A78E46675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A688-FB78-4618-B744-6790729C5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0662-DEFC-499D-85CA-409E40A29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3BB1-18D1-4CD6-AE55-6DE6EECA9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3CF2-3A63-4792-A01C-6E1BF68B6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F7FB-0116-4C39-9BD5-E883C6ED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A2FE-845C-463A-924B-E6C1C379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D81F-77D1-4FD8-8D24-D5C1B5AD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7DC9247-1ED1-4F95-9A04-D559B37E0612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539640" y="476640"/>
            <a:ext cx="842472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美元地球金融</a:t>
            </a:r>
            <a:r>
              <a:rPr b="0" lang="en-US" sz="4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组合 116"/>
          <p:cNvGrpSpPr/>
          <p:nvPr/>
        </p:nvGrpSpPr>
        <p:grpSpPr>
          <a:xfrm>
            <a:off x="511200" y="1857240"/>
            <a:ext cx="1688040" cy="3110400"/>
            <a:chOff x="511200" y="1857240"/>
            <a:chExt cx="1688040" cy="3110400"/>
          </a:xfrm>
        </p:grpSpPr>
        <p:sp>
          <p:nvSpPr>
            <p:cNvPr id="237" name="Rectangle 13 copy"/>
            <p:cNvSpPr/>
            <p:nvPr/>
          </p:nvSpPr>
          <p:spPr>
            <a:xfrm>
              <a:off x="511560" y="1857240"/>
              <a:ext cx="1687680" cy="3110400"/>
            </a:xfrm>
            <a:prstGeom prst="rect">
              <a:avLst/>
            </a:prstGeom>
            <a:solidFill>
              <a:srgbClr val="0c77b7"/>
            </a:solidFill>
            <a:ln>
              <a:noFill/>
            </a:ln>
            <a:effectLst>
              <a:outerShdw algn="tl" blurRad="76320" dir="2700000" dist="75858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38" name="矩形 8"/>
            <p:cNvSpPr/>
            <p:nvPr/>
          </p:nvSpPr>
          <p:spPr>
            <a:xfrm>
              <a:off x="511560" y="1857240"/>
              <a:ext cx="1687680" cy="3110400"/>
            </a:xfrm>
            <a:prstGeom prst="rect">
              <a:avLst/>
            </a:prstGeom>
            <a:solidFill>
              <a:srgbClr val="0c77b7"/>
            </a:solidFill>
            <a:ln>
              <a:noFill/>
            </a:ln>
            <a:effectLst>
              <a:innerShdw blurRad="152400" dir="8100000" dist="38100">
                <a:schemeClr val="accent1">
                  <a:lumMod val="50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39" name="矩形 9"/>
            <p:cNvSpPr/>
            <p:nvPr/>
          </p:nvSpPr>
          <p:spPr>
            <a:xfrm>
              <a:off x="511560" y="1857240"/>
              <a:ext cx="1687680" cy="862560"/>
            </a:xfrm>
            <a:prstGeom prst="rect">
              <a:avLst/>
            </a:prstGeom>
            <a:solidFill>
              <a:srgbClr val="0c77b7"/>
            </a:solidFill>
            <a:ln>
              <a:noFill/>
            </a:ln>
            <a:effectLst>
              <a:innerShdw blurRad="152400" dir="18900000" dist="38100">
                <a:schemeClr val="accent1">
                  <a:lumMod val="50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cxnSp>
          <p:nvCxnSpPr>
            <p:cNvPr id="240" name="直接连接符 10"/>
            <p:cNvCxnSpPr/>
            <p:nvPr/>
          </p:nvCxnSpPr>
          <p:spPr>
            <a:xfrm>
              <a:off x="511200" y="2719800"/>
              <a:ext cx="1688400" cy="360"/>
            </a:xfrm>
            <a:prstGeom prst="straightConnector1">
              <a:avLst/>
            </a:prstGeom>
            <a:ln w="25400">
              <a:solidFill>
                <a:srgbClr val="ffffff"/>
              </a:solidFill>
              <a:round/>
            </a:ln>
          </p:spPr>
        </p:cxnSp>
      </p:grpSp>
      <p:grpSp>
        <p:nvGrpSpPr>
          <p:cNvPr id="241" name="组合 117"/>
          <p:cNvGrpSpPr/>
          <p:nvPr/>
        </p:nvGrpSpPr>
        <p:grpSpPr>
          <a:xfrm>
            <a:off x="1691280" y="2517480"/>
            <a:ext cx="104400" cy="398160"/>
            <a:chOff x="1691280" y="2517480"/>
            <a:chExt cx="104400" cy="398160"/>
          </a:xfrm>
        </p:grpSpPr>
        <p:grpSp>
          <p:nvGrpSpPr>
            <p:cNvPr id="242" name="组合 125"/>
            <p:cNvGrpSpPr/>
            <p:nvPr/>
          </p:nvGrpSpPr>
          <p:grpSpPr>
            <a:xfrm>
              <a:off x="1691280" y="2517480"/>
              <a:ext cx="104400" cy="195840"/>
              <a:chOff x="1691280" y="2517480"/>
              <a:chExt cx="104400" cy="195840"/>
            </a:xfrm>
          </p:grpSpPr>
          <p:sp>
            <p:nvSpPr>
              <p:cNvPr id="243" name="椭圆 16"/>
              <p:cNvSpPr/>
              <p:nvPr/>
            </p:nvSpPr>
            <p:spPr>
              <a:xfrm>
                <a:off x="1691280" y="251748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244" name="直接连接符 17"/>
              <p:cNvCxnSpPr/>
              <p:nvPr/>
            </p:nvCxnSpPr>
            <p:spPr>
              <a:xfrm flipH="1">
                <a:off x="1742400" y="2621880"/>
                <a:ext cx="1440" cy="9180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  <p:grpSp>
          <p:nvGrpSpPr>
            <p:cNvPr id="245" name="组合 126"/>
            <p:cNvGrpSpPr/>
            <p:nvPr/>
          </p:nvGrpSpPr>
          <p:grpSpPr>
            <a:xfrm>
              <a:off x="1691280" y="2720160"/>
              <a:ext cx="104400" cy="195480"/>
              <a:chOff x="1691280" y="2720160"/>
              <a:chExt cx="104400" cy="195480"/>
            </a:xfrm>
          </p:grpSpPr>
          <p:sp>
            <p:nvSpPr>
              <p:cNvPr id="246" name="椭圆 14"/>
              <p:cNvSpPr/>
              <p:nvPr/>
            </p:nvSpPr>
            <p:spPr>
              <a:xfrm flipV="1">
                <a:off x="1691280" y="281124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247" name="直接连接符 15"/>
              <p:cNvCxnSpPr/>
              <p:nvPr/>
            </p:nvCxnSpPr>
            <p:spPr>
              <a:xfrm flipH="1" flipV="1">
                <a:off x="1742400" y="2720160"/>
                <a:ext cx="144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</p:grpSp>
      <p:grpSp>
        <p:nvGrpSpPr>
          <p:cNvPr id="248" name="组合 118"/>
          <p:cNvGrpSpPr/>
          <p:nvPr/>
        </p:nvGrpSpPr>
        <p:grpSpPr>
          <a:xfrm>
            <a:off x="918720" y="2520720"/>
            <a:ext cx="104400" cy="398520"/>
            <a:chOff x="918720" y="2520720"/>
            <a:chExt cx="104400" cy="398520"/>
          </a:xfrm>
        </p:grpSpPr>
        <p:grpSp>
          <p:nvGrpSpPr>
            <p:cNvPr id="249" name="组合 119"/>
            <p:cNvGrpSpPr/>
            <p:nvPr/>
          </p:nvGrpSpPr>
          <p:grpSpPr>
            <a:xfrm>
              <a:off x="918720" y="2520720"/>
              <a:ext cx="104400" cy="195840"/>
              <a:chOff x="918720" y="2520720"/>
              <a:chExt cx="104400" cy="195840"/>
            </a:xfrm>
          </p:grpSpPr>
          <p:sp>
            <p:nvSpPr>
              <p:cNvPr id="250" name="椭圆 23"/>
              <p:cNvSpPr/>
              <p:nvPr/>
            </p:nvSpPr>
            <p:spPr>
              <a:xfrm>
                <a:off x="918720" y="252072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251" name="直接连接符 24"/>
              <p:cNvCxnSpPr/>
              <p:nvPr/>
            </p:nvCxnSpPr>
            <p:spPr>
              <a:xfrm flipH="1">
                <a:off x="969840" y="2625480"/>
                <a:ext cx="144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  <p:grpSp>
          <p:nvGrpSpPr>
            <p:cNvPr id="252" name="组合 120"/>
            <p:cNvGrpSpPr/>
            <p:nvPr/>
          </p:nvGrpSpPr>
          <p:grpSpPr>
            <a:xfrm>
              <a:off x="918720" y="2723400"/>
              <a:ext cx="104400" cy="195840"/>
              <a:chOff x="918720" y="2723400"/>
              <a:chExt cx="104400" cy="195840"/>
            </a:xfrm>
          </p:grpSpPr>
          <p:sp>
            <p:nvSpPr>
              <p:cNvPr id="253" name="椭圆 21"/>
              <p:cNvSpPr/>
              <p:nvPr/>
            </p:nvSpPr>
            <p:spPr>
              <a:xfrm flipV="1">
                <a:off x="918720" y="281484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254" name="直接连接符 22"/>
              <p:cNvCxnSpPr/>
              <p:nvPr/>
            </p:nvCxnSpPr>
            <p:spPr>
              <a:xfrm flipH="1" flipV="1">
                <a:off x="969840" y="2723400"/>
                <a:ext cx="144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</p:grpSp>
      <p:grpSp>
        <p:nvGrpSpPr>
          <p:cNvPr id="255" name="组合 96"/>
          <p:cNvGrpSpPr/>
          <p:nvPr/>
        </p:nvGrpSpPr>
        <p:grpSpPr>
          <a:xfrm>
            <a:off x="2660040" y="1857240"/>
            <a:ext cx="1688040" cy="3110400"/>
            <a:chOff x="2660040" y="1857240"/>
            <a:chExt cx="1688040" cy="3110400"/>
          </a:xfrm>
        </p:grpSpPr>
        <p:sp>
          <p:nvSpPr>
            <p:cNvPr id="256" name="Rectangle 13 copy"/>
            <p:cNvSpPr/>
            <p:nvPr/>
          </p:nvSpPr>
          <p:spPr>
            <a:xfrm>
              <a:off x="2660040" y="1857240"/>
              <a:ext cx="1687680" cy="3110400"/>
            </a:xfrm>
            <a:prstGeom prst="rect">
              <a:avLst/>
            </a:prstGeom>
            <a:solidFill>
              <a:srgbClr val="c29a5f"/>
            </a:solidFill>
            <a:ln>
              <a:noFill/>
            </a:ln>
            <a:effectLst>
              <a:outerShdw algn="tl" blurRad="76320" dir="2700000" dist="75858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57" name="矩形 27"/>
            <p:cNvSpPr/>
            <p:nvPr/>
          </p:nvSpPr>
          <p:spPr>
            <a:xfrm>
              <a:off x="2660040" y="1857240"/>
              <a:ext cx="1687680" cy="3110400"/>
            </a:xfrm>
            <a:prstGeom prst="rect">
              <a:avLst/>
            </a:prstGeom>
            <a:solidFill>
              <a:srgbClr val="c29a5f"/>
            </a:solidFill>
            <a:ln>
              <a:noFill/>
            </a:ln>
            <a:effectLst>
              <a:innerShdw blurRad="152400" dir="8100000" dist="38100">
                <a:schemeClr val="accent1">
                  <a:lumMod val="50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58" name="矩形 28"/>
            <p:cNvSpPr/>
            <p:nvPr/>
          </p:nvSpPr>
          <p:spPr>
            <a:xfrm>
              <a:off x="2660040" y="1857240"/>
              <a:ext cx="1687680" cy="862560"/>
            </a:xfrm>
            <a:prstGeom prst="rect">
              <a:avLst/>
            </a:prstGeom>
            <a:solidFill>
              <a:srgbClr val="c29a5f"/>
            </a:solidFill>
            <a:ln>
              <a:noFill/>
            </a:ln>
            <a:effectLst>
              <a:innerShdw blurRad="152400" dir="18900000" dist="38100">
                <a:schemeClr val="accent1">
                  <a:lumMod val="50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cxnSp>
          <p:nvCxnSpPr>
            <p:cNvPr id="259" name="直接连接符 29"/>
            <p:cNvCxnSpPr/>
            <p:nvPr/>
          </p:nvCxnSpPr>
          <p:spPr>
            <a:xfrm>
              <a:off x="2660040" y="2719800"/>
              <a:ext cx="1688400" cy="360"/>
            </a:xfrm>
            <a:prstGeom prst="straightConnector1">
              <a:avLst/>
            </a:prstGeom>
            <a:ln w="25400">
              <a:solidFill>
                <a:srgbClr val="ffffff"/>
              </a:solidFill>
              <a:round/>
            </a:ln>
          </p:spPr>
        </p:cxnSp>
      </p:grpSp>
      <p:grpSp>
        <p:nvGrpSpPr>
          <p:cNvPr id="260" name="组合 97"/>
          <p:cNvGrpSpPr/>
          <p:nvPr/>
        </p:nvGrpSpPr>
        <p:grpSpPr>
          <a:xfrm>
            <a:off x="3840120" y="2517480"/>
            <a:ext cx="104400" cy="398160"/>
            <a:chOff x="3840120" y="2517480"/>
            <a:chExt cx="104400" cy="398160"/>
          </a:xfrm>
        </p:grpSpPr>
        <p:grpSp>
          <p:nvGrpSpPr>
            <p:cNvPr id="261" name="组合 105"/>
            <p:cNvGrpSpPr/>
            <p:nvPr/>
          </p:nvGrpSpPr>
          <p:grpSpPr>
            <a:xfrm>
              <a:off x="3840120" y="2517480"/>
              <a:ext cx="104400" cy="195840"/>
              <a:chOff x="3840120" y="2517480"/>
              <a:chExt cx="104400" cy="195840"/>
            </a:xfrm>
          </p:grpSpPr>
          <p:sp>
            <p:nvSpPr>
              <p:cNvPr id="262" name="椭圆 35"/>
              <p:cNvSpPr/>
              <p:nvPr/>
            </p:nvSpPr>
            <p:spPr>
              <a:xfrm>
                <a:off x="3840120" y="251748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263" name="直接连接符 36"/>
              <p:cNvCxnSpPr/>
              <p:nvPr/>
            </p:nvCxnSpPr>
            <p:spPr>
              <a:xfrm flipH="1">
                <a:off x="3890880" y="2621880"/>
                <a:ext cx="1800" cy="9180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  <p:grpSp>
          <p:nvGrpSpPr>
            <p:cNvPr id="264" name="组合 106"/>
            <p:cNvGrpSpPr/>
            <p:nvPr/>
          </p:nvGrpSpPr>
          <p:grpSpPr>
            <a:xfrm>
              <a:off x="3840120" y="2720160"/>
              <a:ext cx="104400" cy="195480"/>
              <a:chOff x="3840120" y="2720160"/>
              <a:chExt cx="104400" cy="195480"/>
            </a:xfrm>
          </p:grpSpPr>
          <p:sp>
            <p:nvSpPr>
              <p:cNvPr id="265" name="椭圆 33"/>
              <p:cNvSpPr/>
              <p:nvPr/>
            </p:nvSpPr>
            <p:spPr>
              <a:xfrm flipV="1">
                <a:off x="3840120" y="281124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266" name="直接连接符 34"/>
              <p:cNvCxnSpPr/>
              <p:nvPr/>
            </p:nvCxnSpPr>
            <p:spPr>
              <a:xfrm flipH="1" flipV="1">
                <a:off x="3890880" y="2720160"/>
                <a:ext cx="180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</p:grpSp>
      <p:grpSp>
        <p:nvGrpSpPr>
          <p:cNvPr id="267" name="组合 98"/>
          <p:cNvGrpSpPr/>
          <p:nvPr/>
        </p:nvGrpSpPr>
        <p:grpSpPr>
          <a:xfrm>
            <a:off x="3067560" y="2520720"/>
            <a:ext cx="104400" cy="398520"/>
            <a:chOff x="3067560" y="2520720"/>
            <a:chExt cx="104400" cy="398520"/>
          </a:xfrm>
        </p:grpSpPr>
        <p:grpSp>
          <p:nvGrpSpPr>
            <p:cNvPr id="268" name="组合 99"/>
            <p:cNvGrpSpPr/>
            <p:nvPr/>
          </p:nvGrpSpPr>
          <p:grpSpPr>
            <a:xfrm>
              <a:off x="3067560" y="2520720"/>
              <a:ext cx="104400" cy="195840"/>
              <a:chOff x="3067560" y="2520720"/>
              <a:chExt cx="104400" cy="195840"/>
            </a:xfrm>
          </p:grpSpPr>
          <p:sp>
            <p:nvSpPr>
              <p:cNvPr id="269" name="椭圆 42"/>
              <p:cNvSpPr/>
              <p:nvPr/>
            </p:nvSpPr>
            <p:spPr>
              <a:xfrm>
                <a:off x="3067560" y="252072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270" name="直接连接符 43"/>
              <p:cNvCxnSpPr/>
              <p:nvPr/>
            </p:nvCxnSpPr>
            <p:spPr>
              <a:xfrm flipH="1">
                <a:off x="3118320" y="2625480"/>
                <a:ext cx="180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  <p:grpSp>
          <p:nvGrpSpPr>
            <p:cNvPr id="271" name="组合 100"/>
            <p:cNvGrpSpPr/>
            <p:nvPr/>
          </p:nvGrpSpPr>
          <p:grpSpPr>
            <a:xfrm>
              <a:off x="3067560" y="2723400"/>
              <a:ext cx="104400" cy="195840"/>
              <a:chOff x="3067560" y="2723400"/>
              <a:chExt cx="104400" cy="195840"/>
            </a:xfrm>
          </p:grpSpPr>
          <p:sp>
            <p:nvSpPr>
              <p:cNvPr id="272" name="椭圆 40"/>
              <p:cNvSpPr/>
              <p:nvPr/>
            </p:nvSpPr>
            <p:spPr>
              <a:xfrm flipV="1">
                <a:off x="3067560" y="281484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273" name="直接连接符 41"/>
              <p:cNvCxnSpPr/>
              <p:nvPr/>
            </p:nvCxnSpPr>
            <p:spPr>
              <a:xfrm flipH="1" flipV="1">
                <a:off x="3118320" y="2723400"/>
                <a:ext cx="180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</p:grpSp>
      <p:grpSp>
        <p:nvGrpSpPr>
          <p:cNvPr id="274" name="组合 76"/>
          <p:cNvGrpSpPr/>
          <p:nvPr/>
        </p:nvGrpSpPr>
        <p:grpSpPr>
          <a:xfrm>
            <a:off x="4807080" y="1857240"/>
            <a:ext cx="1688400" cy="3110400"/>
            <a:chOff x="4807080" y="1857240"/>
            <a:chExt cx="1688400" cy="3110400"/>
          </a:xfrm>
        </p:grpSpPr>
        <p:sp>
          <p:nvSpPr>
            <p:cNvPr id="275" name="Rectangle 13 copy"/>
            <p:cNvSpPr/>
            <p:nvPr/>
          </p:nvSpPr>
          <p:spPr>
            <a:xfrm>
              <a:off x="4807440" y="1857240"/>
              <a:ext cx="1687680" cy="3110400"/>
            </a:xfrm>
            <a:prstGeom prst="rect">
              <a:avLst/>
            </a:prstGeom>
            <a:solidFill>
              <a:srgbClr val="0c77b7"/>
            </a:solidFill>
            <a:ln>
              <a:noFill/>
            </a:ln>
            <a:effectLst>
              <a:outerShdw algn="tl" blurRad="76320" dir="2700000" dist="75858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76" name="矩形 46"/>
            <p:cNvSpPr/>
            <p:nvPr/>
          </p:nvSpPr>
          <p:spPr>
            <a:xfrm>
              <a:off x="4807440" y="1857240"/>
              <a:ext cx="1688040" cy="3110400"/>
            </a:xfrm>
            <a:prstGeom prst="rect">
              <a:avLst/>
            </a:prstGeom>
            <a:solidFill>
              <a:srgbClr val="0c77b7"/>
            </a:solidFill>
            <a:ln>
              <a:noFill/>
            </a:ln>
            <a:effectLst>
              <a:innerShdw blurRad="152400" dir="8100000" dist="38100">
                <a:schemeClr val="accent1">
                  <a:lumMod val="50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77" name="矩形 47"/>
            <p:cNvSpPr/>
            <p:nvPr/>
          </p:nvSpPr>
          <p:spPr>
            <a:xfrm>
              <a:off x="4807440" y="1857240"/>
              <a:ext cx="1688040" cy="862560"/>
            </a:xfrm>
            <a:prstGeom prst="rect">
              <a:avLst/>
            </a:prstGeom>
            <a:solidFill>
              <a:srgbClr val="0c77b7"/>
            </a:solidFill>
            <a:ln>
              <a:noFill/>
            </a:ln>
            <a:effectLst>
              <a:innerShdw blurRad="152400" dir="18900000" dist="38100">
                <a:schemeClr val="accent1">
                  <a:lumMod val="50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cxnSp>
          <p:nvCxnSpPr>
            <p:cNvPr id="278" name="直接连接符 48"/>
            <p:cNvCxnSpPr/>
            <p:nvPr/>
          </p:nvCxnSpPr>
          <p:spPr>
            <a:xfrm>
              <a:off x="4807080" y="2719800"/>
              <a:ext cx="1688400" cy="360"/>
            </a:xfrm>
            <a:prstGeom prst="straightConnector1">
              <a:avLst/>
            </a:prstGeom>
            <a:ln w="25400">
              <a:solidFill>
                <a:srgbClr val="ffffff"/>
              </a:solidFill>
              <a:round/>
            </a:ln>
          </p:spPr>
        </p:cxnSp>
      </p:grpSp>
      <p:grpSp>
        <p:nvGrpSpPr>
          <p:cNvPr id="279" name="组合 77"/>
          <p:cNvGrpSpPr/>
          <p:nvPr/>
        </p:nvGrpSpPr>
        <p:grpSpPr>
          <a:xfrm>
            <a:off x="5987520" y="2517480"/>
            <a:ext cx="104400" cy="398160"/>
            <a:chOff x="5987520" y="2517480"/>
            <a:chExt cx="104400" cy="398160"/>
          </a:xfrm>
        </p:grpSpPr>
        <p:grpSp>
          <p:nvGrpSpPr>
            <p:cNvPr id="280" name="组合 85"/>
            <p:cNvGrpSpPr/>
            <p:nvPr/>
          </p:nvGrpSpPr>
          <p:grpSpPr>
            <a:xfrm>
              <a:off x="5987520" y="2517480"/>
              <a:ext cx="104400" cy="195840"/>
              <a:chOff x="5987520" y="2517480"/>
              <a:chExt cx="104400" cy="195840"/>
            </a:xfrm>
          </p:grpSpPr>
          <p:sp>
            <p:nvSpPr>
              <p:cNvPr id="281" name="椭圆 54"/>
              <p:cNvSpPr/>
              <p:nvPr/>
            </p:nvSpPr>
            <p:spPr>
              <a:xfrm>
                <a:off x="5987520" y="251748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282" name="直接连接符 55"/>
              <p:cNvCxnSpPr/>
              <p:nvPr/>
            </p:nvCxnSpPr>
            <p:spPr>
              <a:xfrm flipH="1">
                <a:off x="6038280" y="2621880"/>
                <a:ext cx="1800" cy="9180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  <p:grpSp>
          <p:nvGrpSpPr>
            <p:cNvPr id="283" name="组合 86"/>
            <p:cNvGrpSpPr/>
            <p:nvPr/>
          </p:nvGrpSpPr>
          <p:grpSpPr>
            <a:xfrm>
              <a:off x="5987520" y="2720160"/>
              <a:ext cx="104400" cy="195480"/>
              <a:chOff x="5987520" y="2720160"/>
              <a:chExt cx="104400" cy="195480"/>
            </a:xfrm>
          </p:grpSpPr>
          <p:sp>
            <p:nvSpPr>
              <p:cNvPr id="284" name="椭圆 52"/>
              <p:cNvSpPr/>
              <p:nvPr/>
            </p:nvSpPr>
            <p:spPr>
              <a:xfrm flipV="1">
                <a:off x="5987520" y="281124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285" name="直接连接符 53"/>
              <p:cNvCxnSpPr/>
              <p:nvPr/>
            </p:nvCxnSpPr>
            <p:spPr>
              <a:xfrm flipH="1" flipV="1">
                <a:off x="6038280" y="2720160"/>
                <a:ext cx="180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</p:grpSp>
      <p:grpSp>
        <p:nvGrpSpPr>
          <p:cNvPr id="286" name="组合 78"/>
          <p:cNvGrpSpPr/>
          <p:nvPr/>
        </p:nvGrpSpPr>
        <p:grpSpPr>
          <a:xfrm>
            <a:off x="5214600" y="2520720"/>
            <a:ext cx="104400" cy="398520"/>
            <a:chOff x="5214600" y="2520720"/>
            <a:chExt cx="104400" cy="398520"/>
          </a:xfrm>
        </p:grpSpPr>
        <p:grpSp>
          <p:nvGrpSpPr>
            <p:cNvPr id="287" name="组合 79"/>
            <p:cNvGrpSpPr/>
            <p:nvPr/>
          </p:nvGrpSpPr>
          <p:grpSpPr>
            <a:xfrm>
              <a:off x="5214600" y="2520720"/>
              <a:ext cx="104400" cy="195840"/>
              <a:chOff x="5214600" y="2520720"/>
              <a:chExt cx="104400" cy="195840"/>
            </a:xfrm>
          </p:grpSpPr>
          <p:sp>
            <p:nvSpPr>
              <p:cNvPr id="288" name="椭圆 61"/>
              <p:cNvSpPr/>
              <p:nvPr/>
            </p:nvSpPr>
            <p:spPr>
              <a:xfrm>
                <a:off x="5214600" y="252072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289" name="直接连接符 62"/>
              <p:cNvCxnSpPr/>
              <p:nvPr/>
            </p:nvCxnSpPr>
            <p:spPr>
              <a:xfrm flipH="1">
                <a:off x="5265720" y="2625480"/>
                <a:ext cx="144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  <p:grpSp>
          <p:nvGrpSpPr>
            <p:cNvPr id="290" name="组合 80"/>
            <p:cNvGrpSpPr/>
            <p:nvPr/>
          </p:nvGrpSpPr>
          <p:grpSpPr>
            <a:xfrm>
              <a:off x="5214600" y="2723400"/>
              <a:ext cx="104400" cy="195840"/>
              <a:chOff x="5214600" y="2723400"/>
              <a:chExt cx="104400" cy="195840"/>
            </a:xfrm>
          </p:grpSpPr>
          <p:sp>
            <p:nvSpPr>
              <p:cNvPr id="291" name="椭圆 59"/>
              <p:cNvSpPr/>
              <p:nvPr/>
            </p:nvSpPr>
            <p:spPr>
              <a:xfrm flipV="1">
                <a:off x="5214600" y="281484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292" name="直接连接符 60"/>
              <p:cNvCxnSpPr/>
              <p:nvPr/>
            </p:nvCxnSpPr>
            <p:spPr>
              <a:xfrm flipH="1" flipV="1">
                <a:off x="5265720" y="2723400"/>
                <a:ext cx="144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</p:grpSp>
      <p:grpSp>
        <p:nvGrpSpPr>
          <p:cNvPr id="293" name="组合 22"/>
          <p:cNvGrpSpPr/>
          <p:nvPr/>
        </p:nvGrpSpPr>
        <p:grpSpPr>
          <a:xfrm>
            <a:off x="6955560" y="1857240"/>
            <a:ext cx="1688400" cy="3110400"/>
            <a:chOff x="6955560" y="1857240"/>
            <a:chExt cx="1688400" cy="3110400"/>
          </a:xfrm>
        </p:grpSpPr>
        <p:sp>
          <p:nvSpPr>
            <p:cNvPr id="294" name="Rectangle 13 copy"/>
            <p:cNvSpPr/>
            <p:nvPr/>
          </p:nvSpPr>
          <p:spPr>
            <a:xfrm>
              <a:off x="6955920" y="1857240"/>
              <a:ext cx="1687680" cy="3110400"/>
            </a:xfrm>
            <a:prstGeom prst="rect">
              <a:avLst/>
            </a:prstGeom>
            <a:solidFill>
              <a:srgbClr val="c29a5f"/>
            </a:solidFill>
            <a:ln>
              <a:noFill/>
            </a:ln>
            <a:effectLst>
              <a:outerShdw algn="tl" blurRad="76320" dir="2700000" dist="75858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95" name="矩形 65"/>
            <p:cNvSpPr/>
            <p:nvPr/>
          </p:nvSpPr>
          <p:spPr>
            <a:xfrm>
              <a:off x="6955920" y="1857240"/>
              <a:ext cx="1687680" cy="3110400"/>
            </a:xfrm>
            <a:prstGeom prst="rect">
              <a:avLst/>
            </a:prstGeom>
            <a:solidFill>
              <a:srgbClr val="c29a5f"/>
            </a:solidFill>
            <a:ln>
              <a:noFill/>
            </a:ln>
            <a:effectLst>
              <a:innerShdw blurRad="152400" dir="8100000" dist="38100">
                <a:schemeClr val="accent1">
                  <a:lumMod val="50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96" name="矩形 66"/>
            <p:cNvSpPr/>
            <p:nvPr/>
          </p:nvSpPr>
          <p:spPr>
            <a:xfrm>
              <a:off x="6955920" y="1857240"/>
              <a:ext cx="1687680" cy="862560"/>
            </a:xfrm>
            <a:prstGeom prst="rect">
              <a:avLst/>
            </a:prstGeom>
            <a:solidFill>
              <a:srgbClr val="c29a5f"/>
            </a:solidFill>
            <a:ln>
              <a:noFill/>
            </a:ln>
            <a:effectLst>
              <a:innerShdw blurRad="152400" dir="18900000" dist="38100">
                <a:schemeClr val="accent1">
                  <a:lumMod val="50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cxnSp>
          <p:nvCxnSpPr>
            <p:cNvPr id="297" name="直接连接符 67"/>
            <p:cNvCxnSpPr/>
            <p:nvPr/>
          </p:nvCxnSpPr>
          <p:spPr>
            <a:xfrm>
              <a:off x="6955560" y="2719800"/>
              <a:ext cx="1688760" cy="360"/>
            </a:xfrm>
            <a:prstGeom prst="straightConnector1">
              <a:avLst/>
            </a:prstGeom>
            <a:ln w="25400">
              <a:solidFill>
                <a:srgbClr val="ffffff"/>
              </a:solidFill>
              <a:round/>
            </a:ln>
          </p:spPr>
        </p:cxnSp>
      </p:grpSp>
      <p:grpSp>
        <p:nvGrpSpPr>
          <p:cNvPr id="298" name="组合 46"/>
          <p:cNvGrpSpPr/>
          <p:nvPr/>
        </p:nvGrpSpPr>
        <p:grpSpPr>
          <a:xfrm>
            <a:off x="8135640" y="2517480"/>
            <a:ext cx="104400" cy="398160"/>
            <a:chOff x="8135640" y="2517480"/>
            <a:chExt cx="104400" cy="398160"/>
          </a:xfrm>
        </p:grpSpPr>
        <p:grpSp>
          <p:nvGrpSpPr>
            <p:cNvPr id="299" name="组合 42"/>
            <p:cNvGrpSpPr/>
            <p:nvPr/>
          </p:nvGrpSpPr>
          <p:grpSpPr>
            <a:xfrm>
              <a:off x="8135640" y="2517480"/>
              <a:ext cx="104400" cy="195840"/>
              <a:chOff x="8135640" y="2517480"/>
              <a:chExt cx="104400" cy="195840"/>
            </a:xfrm>
          </p:grpSpPr>
          <p:sp>
            <p:nvSpPr>
              <p:cNvPr id="300" name="椭圆 73"/>
              <p:cNvSpPr/>
              <p:nvPr/>
            </p:nvSpPr>
            <p:spPr>
              <a:xfrm>
                <a:off x="8135640" y="251748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301" name="直接连接符 40"/>
              <p:cNvCxnSpPr/>
              <p:nvPr/>
            </p:nvCxnSpPr>
            <p:spPr>
              <a:xfrm flipH="1">
                <a:off x="8186760" y="2621880"/>
                <a:ext cx="1440" cy="9180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  <p:grpSp>
          <p:nvGrpSpPr>
            <p:cNvPr id="302" name="组合 43"/>
            <p:cNvGrpSpPr/>
            <p:nvPr/>
          </p:nvGrpSpPr>
          <p:grpSpPr>
            <a:xfrm>
              <a:off x="8135640" y="2720160"/>
              <a:ext cx="104400" cy="195480"/>
              <a:chOff x="8135640" y="2720160"/>
              <a:chExt cx="104400" cy="195480"/>
            </a:xfrm>
          </p:grpSpPr>
          <p:sp>
            <p:nvSpPr>
              <p:cNvPr id="303" name="椭圆 71"/>
              <p:cNvSpPr/>
              <p:nvPr/>
            </p:nvSpPr>
            <p:spPr>
              <a:xfrm flipV="1">
                <a:off x="8135640" y="281124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304" name="直接连接符 72"/>
              <p:cNvCxnSpPr/>
              <p:nvPr/>
            </p:nvCxnSpPr>
            <p:spPr>
              <a:xfrm flipH="1" flipV="1">
                <a:off x="8186760" y="2720160"/>
                <a:ext cx="144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</p:grpSp>
      <p:grpSp>
        <p:nvGrpSpPr>
          <p:cNvPr id="305" name="组合 47"/>
          <p:cNvGrpSpPr/>
          <p:nvPr/>
        </p:nvGrpSpPr>
        <p:grpSpPr>
          <a:xfrm>
            <a:off x="7363080" y="2520720"/>
            <a:ext cx="104400" cy="398520"/>
            <a:chOff x="7363080" y="2520720"/>
            <a:chExt cx="104400" cy="398520"/>
          </a:xfrm>
        </p:grpSpPr>
        <p:grpSp>
          <p:nvGrpSpPr>
            <p:cNvPr id="306" name="组合 48"/>
            <p:cNvGrpSpPr/>
            <p:nvPr/>
          </p:nvGrpSpPr>
          <p:grpSpPr>
            <a:xfrm>
              <a:off x="7363080" y="2520720"/>
              <a:ext cx="104400" cy="195840"/>
              <a:chOff x="7363080" y="2520720"/>
              <a:chExt cx="104400" cy="195840"/>
            </a:xfrm>
          </p:grpSpPr>
          <p:sp>
            <p:nvSpPr>
              <p:cNvPr id="307" name="椭圆 80"/>
              <p:cNvSpPr/>
              <p:nvPr/>
            </p:nvSpPr>
            <p:spPr>
              <a:xfrm>
                <a:off x="7363080" y="252072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308" name="直接连接符 81"/>
              <p:cNvCxnSpPr/>
              <p:nvPr/>
            </p:nvCxnSpPr>
            <p:spPr>
              <a:xfrm flipH="1">
                <a:off x="7414200" y="2625480"/>
                <a:ext cx="144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  <p:grpSp>
          <p:nvGrpSpPr>
            <p:cNvPr id="309" name="组合 49"/>
            <p:cNvGrpSpPr/>
            <p:nvPr/>
          </p:nvGrpSpPr>
          <p:grpSpPr>
            <a:xfrm>
              <a:off x="7363080" y="2723400"/>
              <a:ext cx="104400" cy="195840"/>
              <a:chOff x="7363080" y="2723400"/>
              <a:chExt cx="104400" cy="195840"/>
            </a:xfrm>
          </p:grpSpPr>
          <p:sp>
            <p:nvSpPr>
              <p:cNvPr id="310" name="椭圆 50"/>
              <p:cNvSpPr/>
              <p:nvPr/>
            </p:nvSpPr>
            <p:spPr>
              <a:xfrm flipV="1">
                <a:off x="7363080" y="281484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311" name="直接连接符 51"/>
              <p:cNvCxnSpPr/>
              <p:nvPr/>
            </p:nvCxnSpPr>
            <p:spPr>
              <a:xfrm flipH="1" flipV="1">
                <a:off x="7414200" y="2723400"/>
                <a:ext cx="144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</p:grpSp>
      <p:sp>
        <p:nvSpPr>
          <p:cNvPr id="312" name="矩形 12"/>
          <p:cNvSpPr/>
          <p:nvPr/>
        </p:nvSpPr>
        <p:spPr>
          <a:xfrm>
            <a:off x="2997360" y="3571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13"/>
          <p:cNvSpPr/>
          <p:nvPr/>
        </p:nvSpPr>
        <p:spPr>
          <a:xfrm>
            <a:off x="728352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14"/>
          <p:cNvSpPr/>
          <p:nvPr/>
        </p:nvSpPr>
        <p:spPr>
          <a:xfrm>
            <a:off x="5140440" y="3571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15"/>
          <p:cNvSpPr/>
          <p:nvPr/>
        </p:nvSpPr>
        <p:spPr>
          <a:xfrm>
            <a:off x="854280" y="3571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组合 12"/>
          <p:cNvGrpSpPr/>
          <p:nvPr/>
        </p:nvGrpSpPr>
        <p:grpSpPr>
          <a:xfrm>
            <a:off x="2719800" y="1435320"/>
            <a:ext cx="3923640" cy="707400"/>
            <a:chOff x="2719800" y="1435320"/>
            <a:chExt cx="3923640" cy="707400"/>
          </a:xfrm>
        </p:grpSpPr>
        <p:sp>
          <p:nvSpPr>
            <p:cNvPr id="44" name="圆角矩形 9"/>
            <p:cNvSpPr/>
            <p:nvPr/>
          </p:nvSpPr>
          <p:spPr>
            <a:xfrm>
              <a:off x="2979720" y="1665360"/>
              <a:ext cx="3663720" cy="477360"/>
            </a:xfrm>
            <a:prstGeom prst="roundRect">
              <a:avLst>
                <a:gd name="adj" fmla="val 16667"/>
              </a:avLst>
            </a:prstGeom>
            <a:solidFill>
              <a:srgbClr val="c29a5f"/>
            </a:solidFill>
            <a:ln w="38100">
              <a:solidFill>
                <a:srgbClr val="0c77b7"/>
              </a:solidFill>
              <a:prstDash val="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45" name="矩形 29"/>
            <p:cNvSpPr/>
            <p:nvPr/>
          </p:nvSpPr>
          <p:spPr>
            <a:xfrm rot="20431200">
              <a:off x="2733480" y="1546200"/>
              <a:ext cx="701640" cy="204120"/>
            </a:xfrm>
            <a:prstGeom prst="rect">
              <a:avLst/>
            </a:prstGeom>
            <a:solidFill>
              <a:srgbClr val="0c77b7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46" name="组合 13"/>
          <p:cNvGrpSpPr/>
          <p:nvPr/>
        </p:nvGrpSpPr>
        <p:grpSpPr>
          <a:xfrm>
            <a:off x="2719800" y="2292480"/>
            <a:ext cx="3923640" cy="707400"/>
            <a:chOff x="2719800" y="2292480"/>
            <a:chExt cx="3923640" cy="707400"/>
          </a:xfrm>
        </p:grpSpPr>
        <p:sp>
          <p:nvSpPr>
            <p:cNvPr id="47" name="圆角矩形 14"/>
            <p:cNvSpPr/>
            <p:nvPr/>
          </p:nvSpPr>
          <p:spPr>
            <a:xfrm>
              <a:off x="2979720" y="2522520"/>
              <a:ext cx="3663720" cy="477360"/>
            </a:xfrm>
            <a:prstGeom prst="roundRect">
              <a:avLst>
                <a:gd name="adj" fmla="val 16667"/>
              </a:avLst>
            </a:prstGeom>
            <a:solidFill>
              <a:srgbClr val="c29a5f"/>
            </a:solidFill>
            <a:ln w="38100">
              <a:solidFill>
                <a:srgbClr val="0c77b7"/>
              </a:solidFill>
              <a:prstDash val="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48" name="矩形 29"/>
            <p:cNvSpPr/>
            <p:nvPr/>
          </p:nvSpPr>
          <p:spPr>
            <a:xfrm rot="20431200">
              <a:off x="2733480" y="2403360"/>
              <a:ext cx="701640" cy="204120"/>
            </a:xfrm>
            <a:prstGeom prst="rect">
              <a:avLst/>
            </a:prstGeom>
            <a:solidFill>
              <a:srgbClr val="0c77b7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49" name="组合 16"/>
          <p:cNvGrpSpPr/>
          <p:nvPr/>
        </p:nvGrpSpPr>
        <p:grpSpPr>
          <a:xfrm>
            <a:off x="2719800" y="3149640"/>
            <a:ext cx="3923640" cy="707400"/>
            <a:chOff x="2719800" y="3149640"/>
            <a:chExt cx="3923640" cy="707400"/>
          </a:xfrm>
        </p:grpSpPr>
        <p:sp>
          <p:nvSpPr>
            <p:cNvPr id="50" name="圆角矩形 17"/>
            <p:cNvSpPr/>
            <p:nvPr/>
          </p:nvSpPr>
          <p:spPr>
            <a:xfrm>
              <a:off x="2979720" y="3379680"/>
              <a:ext cx="3663720" cy="477360"/>
            </a:xfrm>
            <a:prstGeom prst="roundRect">
              <a:avLst>
                <a:gd name="adj" fmla="val 16667"/>
              </a:avLst>
            </a:prstGeom>
            <a:solidFill>
              <a:srgbClr val="c29a5f"/>
            </a:solidFill>
            <a:ln w="38100">
              <a:solidFill>
                <a:srgbClr val="0c77b7"/>
              </a:solidFill>
              <a:prstDash val="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51" name="矩形 29"/>
            <p:cNvSpPr/>
            <p:nvPr/>
          </p:nvSpPr>
          <p:spPr>
            <a:xfrm rot="20431200">
              <a:off x="2733480" y="3260520"/>
              <a:ext cx="701640" cy="204120"/>
            </a:xfrm>
            <a:prstGeom prst="rect">
              <a:avLst/>
            </a:prstGeom>
            <a:solidFill>
              <a:srgbClr val="0c77b7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52" name="组合 19"/>
          <p:cNvGrpSpPr/>
          <p:nvPr/>
        </p:nvGrpSpPr>
        <p:grpSpPr>
          <a:xfrm>
            <a:off x="2719800" y="4006800"/>
            <a:ext cx="3923640" cy="707760"/>
            <a:chOff x="2719800" y="4006800"/>
            <a:chExt cx="3923640" cy="707760"/>
          </a:xfrm>
        </p:grpSpPr>
        <p:sp>
          <p:nvSpPr>
            <p:cNvPr id="53" name="圆角矩形 20"/>
            <p:cNvSpPr/>
            <p:nvPr/>
          </p:nvSpPr>
          <p:spPr>
            <a:xfrm>
              <a:off x="2979720" y="4237200"/>
              <a:ext cx="3663720" cy="477360"/>
            </a:xfrm>
            <a:prstGeom prst="roundRect">
              <a:avLst>
                <a:gd name="adj" fmla="val 16667"/>
              </a:avLst>
            </a:prstGeom>
            <a:solidFill>
              <a:srgbClr val="c29a5f"/>
            </a:solidFill>
            <a:ln w="38100">
              <a:solidFill>
                <a:srgbClr val="0c77b7"/>
              </a:solidFill>
              <a:prstDash val="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54" name="矩形 29"/>
            <p:cNvSpPr/>
            <p:nvPr/>
          </p:nvSpPr>
          <p:spPr>
            <a:xfrm rot="20431200">
              <a:off x="2733480" y="4117680"/>
              <a:ext cx="701640" cy="204120"/>
            </a:xfrm>
            <a:prstGeom prst="rect">
              <a:avLst/>
            </a:prstGeom>
            <a:solidFill>
              <a:srgbClr val="0c77b7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5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2"/>
          <p:cNvSpPr/>
          <p:nvPr/>
        </p:nvSpPr>
        <p:spPr>
          <a:xfrm>
            <a:off x="500040" y="500040"/>
            <a:ext cx="99972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20"/>
          <p:cNvSpPr/>
          <p:nvPr/>
        </p:nvSpPr>
        <p:spPr>
          <a:xfrm>
            <a:off x="4211640" y="34164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21"/>
          <p:cNvSpPr/>
          <p:nvPr/>
        </p:nvSpPr>
        <p:spPr>
          <a:xfrm>
            <a:off x="4213080" y="2571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22"/>
          <p:cNvSpPr/>
          <p:nvPr/>
        </p:nvSpPr>
        <p:spPr>
          <a:xfrm>
            <a:off x="4211640" y="4286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21"/>
          <p:cNvSpPr/>
          <p:nvPr/>
        </p:nvSpPr>
        <p:spPr>
          <a:xfrm>
            <a:off x="4211640" y="1714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5"/>
          <p:cNvSpPr/>
          <p:nvPr/>
        </p:nvSpPr>
        <p:spPr>
          <a:xfrm>
            <a:off x="4373640" y="3164040"/>
            <a:ext cx="1366560" cy="1160280"/>
          </a:xfrm>
          <a:custGeom>
            <a:avLst/>
            <a:gdLst>
              <a:gd name="textAreaLeft" fmla="*/ 0 w 1366560"/>
              <a:gd name="textAreaRight" fmla="*/ 1366920 w 1366560"/>
              <a:gd name="textAreaTop" fmla="*/ 0 h 1160280"/>
              <a:gd name="textAreaBottom" fmla="*/ 1160640 h 1160280"/>
            </a:gdLst>
            <a:ahLst/>
            <a:rect l="textAreaLeft" t="textAreaTop" r="textAreaRight" b="textAreaBottom"/>
            <a:pathLst>
              <a:path w="2539" h="2160">
                <a:moveTo>
                  <a:pt x="1993" y="0"/>
                </a:moveTo>
                <a:lnTo>
                  <a:pt x="1993" y="0"/>
                </a:lnTo>
                <a:lnTo>
                  <a:pt x="1962" y="5"/>
                </a:lnTo>
                <a:lnTo>
                  <a:pt x="1935" y="13"/>
                </a:lnTo>
                <a:lnTo>
                  <a:pt x="1910" y="23"/>
                </a:lnTo>
                <a:lnTo>
                  <a:pt x="1888" y="38"/>
                </a:lnTo>
                <a:lnTo>
                  <a:pt x="1879" y="45"/>
                </a:lnTo>
                <a:lnTo>
                  <a:pt x="1870" y="52"/>
                </a:lnTo>
                <a:lnTo>
                  <a:pt x="1863" y="61"/>
                </a:lnTo>
                <a:lnTo>
                  <a:pt x="1857" y="70"/>
                </a:lnTo>
                <a:lnTo>
                  <a:pt x="1852" y="79"/>
                </a:lnTo>
                <a:lnTo>
                  <a:pt x="1848" y="90"/>
                </a:lnTo>
                <a:lnTo>
                  <a:pt x="1847" y="99"/>
                </a:lnTo>
                <a:lnTo>
                  <a:pt x="1847" y="110"/>
                </a:lnTo>
                <a:lnTo>
                  <a:pt x="1847" y="110"/>
                </a:lnTo>
                <a:lnTo>
                  <a:pt x="1847" y="123"/>
                </a:lnTo>
                <a:lnTo>
                  <a:pt x="1850" y="133"/>
                </a:lnTo>
                <a:lnTo>
                  <a:pt x="1856" y="144"/>
                </a:lnTo>
                <a:lnTo>
                  <a:pt x="1861" y="153"/>
                </a:lnTo>
                <a:lnTo>
                  <a:pt x="1877" y="173"/>
                </a:lnTo>
                <a:lnTo>
                  <a:pt x="1895" y="189"/>
                </a:lnTo>
                <a:lnTo>
                  <a:pt x="1912" y="207"/>
                </a:lnTo>
                <a:lnTo>
                  <a:pt x="1928" y="225"/>
                </a:lnTo>
                <a:lnTo>
                  <a:pt x="1933" y="236"/>
                </a:lnTo>
                <a:lnTo>
                  <a:pt x="1939" y="245"/>
                </a:lnTo>
                <a:lnTo>
                  <a:pt x="1942" y="258"/>
                </a:lnTo>
                <a:lnTo>
                  <a:pt x="1942" y="269"/>
                </a:lnTo>
                <a:lnTo>
                  <a:pt x="1942" y="269"/>
                </a:lnTo>
                <a:lnTo>
                  <a:pt x="1942" y="281"/>
                </a:lnTo>
                <a:lnTo>
                  <a:pt x="1939" y="292"/>
                </a:lnTo>
                <a:lnTo>
                  <a:pt x="1935" y="303"/>
                </a:lnTo>
                <a:lnTo>
                  <a:pt x="1930" y="312"/>
                </a:lnTo>
                <a:lnTo>
                  <a:pt x="1922" y="323"/>
                </a:lnTo>
                <a:lnTo>
                  <a:pt x="1913" y="332"/>
                </a:lnTo>
                <a:lnTo>
                  <a:pt x="1904" y="339"/>
                </a:lnTo>
                <a:lnTo>
                  <a:pt x="1894" y="348"/>
                </a:lnTo>
                <a:lnTo>
                  <a:pt x="1881" y="355"/>
                </a:lnTo>
                <a:lnTo>
                  <a:pt x="1868" y="361"/>
                </a:lnTo>
                <a:lnTo>
                  <a:pt x="1854" y="366"/>
                </a:lnTo>
                <a:lnTo>
                  <a:pt x="1839" y="371"/>
                </a:lnTo>
                <a:lnTo>
                  <a:pt x="1823" y="375"/>
                </a:lnTo>
                <a:lnTo>
                  <a:pt x="1807" y="379"/>
                </a:lnTo>
                <a:lnTo>
                  <a:pt x="1791" y="380"/>
                </a:lnTo>
                <a:lnTo>
                  <a:pt x="1773" y="380"/>
                </a:lnTo>
                <a:lnTo>
                  <a:pt x="1773" y="380"/>
                </a:lnTo>
                <a:lnTo>
                  <a:pt x="1756" y="380"/>
                </a:lnTo>
                <a:lnTo>
                  <a:pt x="1740" y="379"/>
                </a:lnTo>
                <a:lnTo>
                  <a:pt x="1724" y="375"/>
                </a:lnTo>
                <a:lnTo>
                  <a:pt x="1708" y="371"/>
                </a:lnTo>
                <a:lnTo>
                  <a:pt x="1693" y="366"/>
                </a:lnTo>
                <a:lnTo>
                  <a:pt x="1679" y="361"/>
                </a:lnTo>
                <a:lnTo>
                  <a:pt x="1666" y="355"/>
                </a:lnTo>
                <a:lnTo>
                  <a:pt x="1654" y="348"/>
                </a:lnTo>
                <a:lnTo>
                  <a:pt x="1643" y="339"/>
                </a:lnTo>
                <a:lnTo>
                  <a:pt x="1634" y="332"/>
                </a:lnTo>
                <a:lnTo>
                  <a:pt x="1625" y="323"/>
                </a:lnTo>
                <a:lnTo>
                  <a:pt x="1618" y="312"/>
                </a:lnTo>
                <a:lnTo>
                  <a:pt x="1612" y="303"/>
                </a:lnTo>
                <a:lnTo>
                  <a:pt x="1607" y="292"/>
                </a:lnTo>
                <a:lnTo>
                  <a:pt x="1605" y="281"/>
                </a:lnTo>
                <a:lnTo>
                  <a:pt x="1605" y="269"/>
                </a:lnTo>
                <a:lnTo>
                  <a:pt x="1605" y="269"/>
                </a:lnTo>
                <a:lnTo>
                  <a:pt x="1605" y="258"/>
                </a:lnTo>
                <a:lnTo>
                  <a:pt x="1609" y="245"/>
                </a:lnTo>
                <a:lnTo>
                  <a:pt x="1614" y="236"/>
                </a:lnTo>
                <a:lnTo>
                  <a:pt x="1619" y="225"/>
                </a:lnTo>
                <a:lnTo>
                  <a:pt x="1636" y="207"/>
                </a:lnTo>
                <a:lnTo>
                  <a:pt x="1652" y="189"/>
                </a:lnTo>
                <a:lnTo>
                  <a:pt x="1670" y="173"/>
                </a:lnTo>
                <a:lnTo>
                  <a:pt x="1686" y="153"/>
                </a:lnTo>
                <a:lnTo>
                  <a:pt x="1692" y="144"/>
                </a:lnTo>
                <a:lnTo>
                  <a:pt x="1697" y="133"/>
                </a:lnTo>
                <a:lnTo>
                  <a:pt x="1701" y="123"/>
                </a:lnTo>
                <a:lnTo>
                  <a:pt x="1701" y="110"/>
                </a:lnTo>
                <a:lnTo>
                  <a:pt x="1701" y="110"/>
                </a:lnTo>
                <a:lnTo>
                  <a:pt x="1701" y="99"/>
                </a:lnTo>
                <a:lnTo>
                  <a:pt x="1699" y="90"/>
                </a:lnTo>
                <a:lnTo>
                  <a:pt x="1695" y="79"/>
                </a:lnTo>
                <a:lnTo>
                  <a:pt x="1690" y="70"/>
                </a:lnTo>
                <a:lnTo>
                  <a:pt x="1684" y="61"/>
                </a:lnTo>
                <a:lnTo>
                  <a:pt x="1677" y="52"/>
                </a:lnTo>
                <a:lnTo>
                  <a:pt x="1668" y="45"/>
                </a:lnTo>
                <a:lnTo>
                  <a:pt x="1659" y="38"/>
                </a:lnTo>
                <a:lnTo>
                  <a:pt x="1637" y="23"/>
                </a:lnTo>
                <a:lnTo>
                  <a:pt x="1612" y="13"/>
                </a:lnTo>
                <a:lnTo>
                  <a:pt x="1585" y="5"/>
                </a:lnTo>
                <a:lnTo>
                  <a:pt x="1555" y="0"/>
                </a:lnTo>
                <a:lnTo>
                  <a:pt x="379" y="0"/>
                </a:lnTo>
                <a:lnTo>
                  <a:pt x="379" y="1185"/>
                </a:lnTo>
                <a:lnTo>
                  <a:pt x="379" y="1185"/>
                </a:lnTo>
                <a:lnTo>
                  <a:pt x="374" y="1213"/>
                </a:lnTo>
                <a:lnTo>
                  <a:pt x="366" y="1240"/>
                </a:lnTo>
                <a:lnTo>
                  <a:pt x="356" y="1264"/>
                </a:lnTo>
                <a:lnTo>
                  <a:pt x="341" y="1284"/>
                </a:lnTo>
                <a:lnTo>
                  <a:pt x="325" y="1302"/>
                </a:lnTo>
                <a:lnTo>
                  <a:pt x="318" y="1307"/>
                </a:lnTo>
                <a:lnTo>
                  <a:pt x="309" y="1314"/>
                </a:lnTo>
                <a:lnTo>
                  <a:pt x="300" y="1318"/>
                </a:lnTo>
                <a:lnTo>
                  <a:pt x="289" y="1322"/>
                </a:lnTo>
                <a:lnTo>
                  <a:pt x="280" y="1323"/>
                </a:lnTo>
                <a:lnTo>
                  <a:pt x="269" y="1323"/>
                </a:lnTo>
                <a:lnTo>
                  <a:pt x="269" y="1323"/>
                </a:lnTo>
                <a:lnTo>
                  <a:pt x="258" y="1323"/>
                </a:lnTo>
                <a:lnTo>
                  <a:pt x="246" y="1320"/>
                </a:lnTo>
                <a:lnTo>
                  <a:pt x="237" y="1316"/>
                </a:lnTo>
                <a:lnTo>
                  <a:pt x="226" y="1309"/>
                </a:lnTo>
                <a:lnTo>
                  <a:pt x="208" y="1295"/>
                </a:lnTo>
                <a:lnTo>
                  <a:pt x="190" y="1277"/>
                </a:lnTo>
                <a:lnTo>
                  <a:pt x="173" y="1258"/>
                </a:lnTo>
                <a:lnTo>
                  <a:pt x="154" y="1242"/>
                </a:lnTo>
                <a:lnTo>
                  <a:pt x="145" y="1237"/>
                </a:lnTo>
                <a:lnTo>
                  <a:pt x="134" y="1231"/>
                </a:lnTo>
                <a:lnTo>
                  <a:pt x="123" y="1228"/>
                </a:lnTo>
                <a:lnTo>
                  <a:pt x="110" y="1228"/>
                </a:lnTo>
                <a:lnTo>
                  <a:pt x="110" y="1228"/>
                </a:lnTo>
                <a:lnTo>
                  <a:pt x="100" y="1228"/>
                </a:lnTo>
                <a:lnTo>
                  <a:pt x="89" y="1231"/>
                </a:lnTo>
                <a:lnTo>
                  <a:pt x="78" y="1235"/>
                </a:lnTo>
                <a:lnTo>
                  <a:pt x="67" y="1240"/>
                </a:lnTo>
                <a:lnTo>
                  <a:pt x="58" y="1248"/>
                </a:lnTo>
                <a:lnTo>
                  <a:pt x="49" y="1257"/>
                </a:lnTo>
                <a:lnTo>
                  <a:pt x="40" y="1266"/>
                </a:lnTo>
                <a:lnTo>
                  <a:pt x="33" y="1277"/>
                </a:lnTo>
                <a:lnTo>
                  <a:pt x="26" y="1289"/>
                </a:lnTo>
                <a:lnTo>
                  <a:pt x="18" y="1302"/>
                </a:lnTo>
                <a:lnTo>
                  <a:pt x="13" y="1316"/>
                </a:lnTo>
                <a:lnTo>
                  <a:pt x="8" y="1331"/>
                </a:lnTo>
                <a:lnTo>
                  <a:pt x="4" y="1347"/>
                </a:lnTo>
                <a:lnTo>
                  <a:pt x="2" y="1363"/>
                </a:lnTo>
                <a:lnTo>
                  <a:pt x="0" y="1379"/>
                </a:lnTo>
                <a:lnTo>
                  <a:pt x="0" y="1397"/>
                </a:lnTo>
                <a:lnTo>
                  <a:pt x="0" y="1397"/>
                </a:lnTo>
                <a:lnTo>
                  <a:pt x="0" y="1414"/>
                </a:lnTo>
                <a:lnTo>
                  <a:pt x="2" y="1432"/>
                </a:lnTo>
                <a:lnTo>
                  <a:pt x="4" y="1448"/>
                </a:lnTo>
                <a:lnTo>
                  <a:pt x="8" y="1462"/>
                </a:lnTo>
                <a:lnTo>
                  <a:pt x="13" y="1478"/>
                </a:lnTo>
                <a:lnTo>
                  <a:pt x="18" y="1491"/>
                </a:lnTo>
                <a:lnTo>
                  <a:pt x="26" y="1504"/>
                </a:lnTo>
                <a:lnTo>
                  <a:pt x="33" y="1516"/>
                </a:lnTo>
                <a:lnTo>
                  <a:pt x="40" y="1527"/>
                </a:lnTo>
                <a:lnTo>
                  <a:pt x="49" y="1538"/>
                </a:lnTo>
                <a:lnTo>
                  <a:pt x="58" y="1545"/>
                </a:lnTo>
                <a:lnTo>
                  <a:pt x="67" y="1552"/>
                </a:lnTo>
                <a:lnTo>
                  <a:pt x="78" y="1558"/>
                </a:lnTo>
                <a:lnTo>
                  <a:pt x="89" y="1563"/>
                </a:lnTo>
                <a:lnTo>
                  <a:pt x="100" y="1565"/>
                </a:lnTo>
                <a:lnTo>
                  <a:pt x="110" y="1567"/>
                </a:lnTo>
                <a:lnTo>
                  <a:pt x="110" y="1567"/>
                </a:lnTo>
                <a:lnTo>
                  <a:pt x="123" y="1565"/>
                </a:lnTo>
                <a:lnTo>
                  <a:pt x="134" y="1561"/>
                </a:lnTo>
                <a:lnTo>
                  <a:pt x="145" y="1558"/>
                </a:lnTo>
                <a:lnTo>
                  <a:pt x="154" y="1551"/>
                </a:lnTo>
                <a:lnTo>
                  <a:pt x="173" y="1536"/>
                </a:lnTo>
                <a:lnTo>
                  <a:pt x="190" y="1518"/>
                </a:lnTo>
                <a:lnTo>
                  <a:pt x="208" y="1500"/>
                </a:lnTo>
                <a:lnTo>
                  <a:pt x="226" y="1484"/>
                </a:lnTo>
                <a:lnTo>
                  <a:pt x="237" y="1478"/>
                </a:lnTo>
                <a:lnTo>
                  <a:pt x="247" y="1473"/>
                </a:lnTo>
                <a:lnTo>
                  <a:pt x="258" y="1471"/>
                </a:lnTo>
                <a:lnTo>
                  <a:pt x="269" y="1469"/>
                </a:lnTo>
                <a:lnTo>
                  <a:pt x="269" y="1469"/>
                </a:lnTo>
                <a:lnTo>
                  <a:pt x="280" y="1469"/>
                </a:lnTo>
                <a:lnTo>
                  <a:pt x="289" y="1473"/>
                </a:lnTo>
                <a:lnTo>
                  <a:pt x="300" y="1475"/>
                </a:lnTo>
                <a:lnTo>
                  <a:pt x="309" y="1480"/>
                </a:lnTo>
                <a:lnTo>
                  <a:pt x="318" y="1486"/>
                </a:lnTo>
                <a:lnTo>
                  <a:pt x="325" y="1493"/>
                </a:lnTo>
                <a:lnTo>
                  <a:pt x="341" y="1509"/>
                </a:lnTo>
                <a:lnTo>
                  <a:pt x="354" y="1531"/>
                </a:lnTo>
                <a:lnTo>
                  <a:pt x="366" y="1554"/>
                </a:lnTo>
                <a:lnTo>
                  <a:pt x="374" y="1579"/>
                </a:lnTo>
                <a:lnTo>
                  <a:pt x="379" y="1608"/>
                </a:lnTo>
                <a:lnTo>
                  <a:pt x="379" y="2160"/>
                </a:lnTo>
                <a:lnTo>
                  <a:pt x="379" y="2160"/>
                </a:lnTo>
                <a:lnTo>
                  <a:pt x="435" y="2160"/>
                </a:lnTo>
                <a:lnTo>
                  <a:pt x="491" y="2158"/>
                </a:lnTo>
                <a:lnTo>
                  <a:pt x="545" y="2155"/>
                </a:lnTo>
                <a:lnTo>
                  <a:pt x="599" y="2149"/>
                </a:lnTo>
                <a:lnTo>
                  <a:pt x="655" y="2144"/>
                </a:lnTo>
                <a:lnTo>
                  <a:pt x="707" y="2137"/>
                </a:lnTo>
                <a:lnTo>
                  <a:pt x="761" y="2128"/>
                </a:lnTo>
                <a:lnTo>
                  <a:pt x="814" y="2117"/>
                </a:lnTo>
                <a:lnTo>
                  <a:pt x="868" y="2106"/>
                </a:lnTo>
                <a:lnTo>
                  <a:pt x="918" y="2093"/>
                </a:lnTo>
                <a:lnTo>
                  <a:pt x="970" y="2079"/>
                </a:lnTo>
                <a:lnTo>
                  <a:pt x="1021" y="2064"/>
                </a:lnTo>
                <a:lnTo>
                  <a:pt x="1071" y="2046"/>
                </a:lnTo>
                <a:lnTo>
                  <a:pt x="1122" y="2030"/>
                </a:lnTo>
                <a:lnTo>
                  <a:pt x="1171" y="2010"/>
                </a:lnTo>
                <a:lnTo>
                  <a:pt x="1219" y="1991"/>
                </a:lnTo>
                <a:lnTo>
                  <a:pt x="1268" y="1971"/>
                </a:lnTo>
                <a:lnTo>
                  <a:pt x="1315" y="1947"/>
                </a:lnTo>
                <a:lnTo>
                  <a:pt x="1362" y="1924"/>
                </a:lnTo>
                <a:lnTo>
                  <a:pt x="1409" y="1900"/>
                </a:lnTo>
                <a:lnTo>
                  <a:pt x="1454" y="1875"/>
                </a:lnTo>
                <a:lnTo>
                  <a:pt x="1499" y="1848"/>
                </a:lnTo>
                <a:lnTo>
                  <a:pt x="1544" y="1821"/>
                </a:lnTo>
                <a:lnTo>
                  <a:pt x="1587" y="1792"/>
                </a:lnTo>
                <a:lnTo>
                  <a:pt x="1630" y="1762"/>
                </a:lnTo>
                <a:lnTo>
                  <a:pt x="1672" y="1731"/>
                </a:lnTo>
                <a:lnTo>
                  <a:pt x="1713" y="1700"/>
                </a:lnTo>
                <a:lnTo>
                  <a:pt x="1753" y="1668"/>
                </a:lnTo>
                <a:lnTo>
                  <a:pt x="1793" y="1634"/>
                </a:lnTo>
                <a:lnTo>
                  <a:pt x="1832" y="1599"/>
                </a:lnTo>
                <a:lnTo>
                  <a:pt x="1870" y="1565"/>
                </a:lnTo>
                <a:lnTo>
                  <a:pt x="1906" y="1529"/>
                </a:lnTo>
                <a:lnTo>
                  <a:pt x="1942" y="1491"/>
                </a:lnTo>
                <a:lnTo>
                  <a:pt x="1978" y="1453"/>
                </a:lnTo>
                <a:lnTo>
                  <a:pt x="2013" y="1414"/>
                </a:lnTo>
                <a:lnTo>
                  <a:pt x="2045" y="1374"/>
                </a:lnTo>
                <a:lnTo>
                  <a:pt x="2079" y="1334"/>
                </a:lnTo>
                <a:lnTo>
                  <a:pt x="2110" y="1293"/>
                </a:lnTo>
                <a:lnTo>
                  <a:pt x="2141" y="1251"/>
                </a:lnTo>
                <a:lnTo>
                  <a:pt x="2169" y="1208"/>
                </a:lnTo>
                <a:lnTo>
                  <a:pt x="2198" y="1165"/>
                </a:lnTo>
                <a:lnTo>
                  <a:pt x="2227" y="1121"/>
                </a:lnTo>
                <a:lnTo>
                  <a:pt x="2252" y="1076"/>
                </a:lnTo>
                <a:lnTo>
                  <a:pt x="2278" y="1030"/>
                </a:lnTo>
                <a:lnTo>
                  <a:pt x="2303" y="984"/>
                </a:lnTo>
                <a:lnTo>
                  <a:pt x="2326" y="938"/>
                </a:lnTo>
                <a:lnTo>
                  <a:pt x="2348" y="889"/>
                </a:lnTo>
                <a:lnTo>
                  <a:pt x="2370" y="842"/>
                </a:lnTo>
                <a:lnTo>
                  <a:pt x="2389" y="793"/>
                </a:lnTo>
                <a:lnTo>
                  <a:pt x="2407" y="743"/>
                </a:lnTo>
                <a:lnTo>
                  <a:pt x="2425" y="694"/>
                </a:lnTo>
                <a:lnTo>
                  <a:pt x="2442" y="644"/>
                </a:lnTo>
                <a:lnTo>
                  <a:pt x="2458" y="591"/>
                </a:lnTo>
                <a:lnTo>
                  <a:pt x="2470" y="541"/>
                </a:lnTo>
                <a:lnTo>
                  <a:pt x="2483" y="489"/>
                </a:lnTo>
                <a:lnTo>
                  <a:pt x="2496" y="436"/>
                </a:lnTo>
                <a:lnTo>
                  <a:pt x="2505" y="382"/>
                </a:lnTo>
                <a:lnTo>
                  <a:pt x="2514" y="330"/>
                </a:lnTo>
                <a:lnTo>
                  <a:pt x="2521" y="276"/>
                </a:lnTo>
                <a:lnTo>
                  <a:pt x="2528" y="222"/>
                </a:lnTo>
                <a:lnTo>
                  <a:pt x="2534" y="166"/>
                </a:lnTo>
                <a:lnTo>
                  <a:pt x="2537" y="112"/>
                </a:lnTo>
                <a:lnTo>
                  <a:pt x="2539" y="56"/>
                </a:lnTo>
                <a:lnTo>
                  <a:pt x="2539" y="0"/>
                </a:lnTo>
                <a:lnTo>
                  <a:pt x="1993" y="0"/>
                </a:lnTo>
                <a:close/>
              </a:path>
            </a:pathLst>
          </a:custGeom>
          <a:solidFill>
            <a:srgbClr val="0c7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Freeform 6"/>
          <p:cNvSpPr/>
          <p:nvPr/>
        </p:nvSpPr>
        <p:spPr>
          <a:xfrm>
            <a:off x="4568760" y="2000160"/>
            <a:ext cx="1161720" cy="1364760"/>
          </a:xfrm>
          <a:custGeom>
            <a:avLst/>
            <a:gdLst>
              <a:gd name="textAreaLeft" fmla="*/ 0 w 1161720"/>
              <a:gd name="textAreaRight" fmla="*/ 1162080 w 1161720"/>
              <a:gd name="textAreaTop" fmla="*/ 0 h 1364760"/>
              <a:gd name="textAreaBottom" fmla="*/ 1365120 h 1364760"/>
            </a:gdLst>
            <a:ahLst/>
            <a:rect l="textAreaLeft" t="textAreaTop" r="textAreaRight" b="textAreaBottom"/>
            <a:pathLst>
              <a:path w="2160" h="2540">
                <a:moveTo>
                  <a:pt x="1614" y="2160"/>
                </a:moveTo>
                <a:lnTo>
                  <a:pt x="2160" y="2160"/>
                </a:lnTo>
                <a:lnTo>
                  <a:pt x="2160" y="2160"/>
                </a:lnTo>
                <a:lnTo>
                  <a:pt x="2160" y="2104"/>
                </a:lnTo>
                <a:lnTo>
                  <a:pt x="2158" y="2050"/>
                </a:lnTo>
                <a:lnTo>
                  <a:pt x="2155" y="1994"/>
                </a:lnTo>
                <a:lnTo>
                  <a:pt x="2149" y="1940"/>
                </a:lnTo>
                <a:lnTo>
                  <a:pt x="2142" y="1886"/>
                </a:lnTo>
                <a:lnTo>
                  <a:pt x="2135" y="1832"/>
                </a:lnTo>
                <a:lnTo>
                  <a:pt x="2126" y="1778"/>
                </a:lnTo>
                <a:lnTo>
                  <a:pt x="2117" y="1725"/>
                </a:lnTo>
                <a:lnTo>
                  <a:pt x="2104" y="1673"/>
                </a:lnTo>
                <a:lnTo>
                  <a:pt x="2091" y="1621"/>
                </a:lnTo>
                <a:lnTo>
                  <a:pt x="2079" y="1569"/>
                </a:lnTo>
                <a:lnTo>
                  <a:pt x="2063" y="1518"/>
                </a:lnTo>
                <a:lnTo>
                  <a:pt x="2046" y="1468"/>
                </a:lnTo>
                <a:lnTo>
                  <a:pt x="2028" y="1417"/>
                </a:lnTo>
                <a:lnTo>
                  <a:pt x="2010" y="1368"/>
                </a:lnTo>
                <a:lnTo>
                  <a:pt x="1991" y="1320"/>
                </a:lnTo>
                <a:lnTo>
                  <a:pt x="1969" y="1271"/>
                </a:lnTo>
                <a:lnTo>
                  <a:pt x="1947" y="1224"/>
                </a:lnTo>
                <a:lnTo>
                  <a:pt x="1924" y="1177"/>
                </a:lnTo>
                <a:lnTo>
                  <a:pt x="1899" y="1130"/>
                </a:lnTo>
                <a:lnTo>
                  <a:pt x="1873" y="1085"/>
                </a:lnTo>
                <a:lnTo>
                  <a:pt x="1848" y="1040"/>
                </a:lnTo>
                <a:lnTo>
                  <a:pt x="1819" y="995"/>
                </a:lnTo>
                <a:lnTo>
                  <a:pt x="1790" y="952"/>
                </a:lnTo>
                <a:lnTo>
                  <a:pt x="1762" y="911"/>
                </a:lnTo>
                <a:lnTo>
                  <a:pt x="1731" y="867"/>
                </a:lnTo>
                <a:lnTo>
                  <a:pt x="1700" y="828"/>
                </a:lnTo>
                <a:lnTo>
                  <a:pt x="1666" y="786"/>
                </a:lnTo>
                <a:lnTo>
                  <a:pt x="1634" y="746"/>
                </a:lnTo>
                <a:lnTo>
                  <a:pt x="1599" y="709"/>
                </a:lnTo>
                <a:lnTo>
                  <a:pt x="1563" y="671"/>
                </a:lnTo>
                <a:lnTo>
                  <a:pt x="1527" y="633"/>
                </a:lnTo>
                <a:lnTo>
                  <a:pt x="1491" y="597"/>
                </a:lnTo>
                <a:lnTo>
                  <a:pt x="1453" y="561"/>
                </a:lnTo>
                <a:lnTo>
                  <a:pt x="1414" y="526"/>
                </a:lnTo>
                <a:lnTo>
                  <a:pt x="1374" y="494"/>
                </a:lnTo>
                <a:lnTo>
                  <a:pt x="1334" y="462"/>
                </a:lnTo>
                <a:lnTo>
                  <a:pt x="1293" y="429"/>
                </a:lnTo>
                <a:lnTo>
                  <a:pt x="1251" y="398"/>
                </a:lnTo>
                <a:lnTo>
                  <a:pt x="1208" y="370"/>
                </a:lnTo>
                <a:lnTo>
                  <a:pt x="1165" y="341"/>
                </a:lnTo>
                <a:lnTo>
                  <a:pt x="1120" y="314"/>
                </a:lnTo>
                <a:lnTo>
                  <a:pt x="1075" y="287"/>
                </a:lnTo>
                <a:lnTo>
                  <a:pt x="1030" y="261"/>
                </a:lnTo>
                <a:lnTo>
                  <a:pt x="983" y="236"/>
                </a:lnTo>
                <a:lnTo>
                  <a:pt x="936" y="213"/>
                </a:lnTo>
                <a:lnTo>
                  <a:pt x="889" y="191"/>
                </a:lnTo>
                <a:lnTo>
                  <a:pt x="840" y="169"/>
                </a:lnTo>
                <a:lnTo>
                  <a:pt x="792" y="150"/>
                </a:lnTo>
                <a:lnTo>
                  <a:pt x="743" y="132"/>
                </a:lnTo>
                <a:lnTo>
                  <a:pt x="692" y="114"/>
                </a:lnTo>
                <a:lnTo>
                  <a:pt x="642" y="97"/>
                </a:lnTo>
                <a:lnTo>
                  <a:pt x="591" y="83"/>
                </a:lnTo>
                <a:lnTo>
                  <a:pt x="539" y="69"/>
                </a:lnTo>
                <a:lnTo>
                  <a:pt x="489" y="56"/>
                </a:lnTo>
                <a:lnTo>
                  <a:pt x="435" y="43"/>
                </a:lnTo>
                <a:lnTo>
                  <a:pt x="382" y="34"/>
                </a:lnTo>
                <a:lnTo>
                  <a:pt x="328" y="25"/>
                </a:lnTo>
                <a:lnTo>
                  <a:pt x="276" y="18"/>
                </a:lnTo>
                <a:lnTo>
                  <a:pt x="220" y="11"/>
                </a:lnTo>
                <a:lnTo>
                  <a:pt x="166" y="7"/>
                </a:lnTo>
                <a:lnTo>
                  <a:pt x="112" y="4"/>
                </a:lnTo>
                <a:lnTo>
                  <a:pt x="56" y="0"/>
                </a:lnTo>
                <a:lnTo>
                  <a:pt x="0" y="0"/>
                </a:lnTo>
                <a:lnTo>
                  <a:pt x="0" y="546"/>
                </a:lnTo>
                <a:lnTo>
                  <a:pt x="0" y="546"/>
                </a:lnTo>
                <a:lnTo>
                  <a:pt x="4" y="577"/>
                </a:lnTo>
                <a:lnTo>
                  <a:pt x="13" y="604"/>
                </a:lnTo>
                <a:lnTo>
                  <a:pt x="23" y="629"/>
                </a:lnTo>
                <a:lnTo>
                  <a:pt x="36" y="651"/>
                </a:lnTo>
                <a:lnTo>
                  <a:pt x="43" y="660"/>
                </a:lnTo>
                <a:lnTo>
                  <a:pt x="52" y="669"/>
                </a:lnTo>
                <a:lnTo>
                  <a:pt x="61" y="676"/>
                </a:lnTo>
                <a:lnTo>
                  <a:pt x="70" y="682"/>
                </a:lnTo>
                <a:lnTo>
                  <a:pt x="79" y="687"/>
                </a:lnTo>
                <a:lnTo>
                  <a:pt x="90" y="691"/>
                </a:lnTo>
                <a:lnTo>
                  <a:pt x="99" y="692"/>
                </a:lnTo>
                <a:lnTo>
                  <a:pt x="110" y="694"/>
                </a:lnTo>
                <a:lnTo>
                  <a:pt x="110" y="694"/>
                </a:lnTo>
                <a:lnTo>
                  <a:pt x="123" y="692"/>
                </a:lnTo>
                <a:lnTo>
                  <a:pt x="133" y="689"/>
                </a:lnTo>
                <a:lnTo>
                  <a:pt x="144" y="685"/>
                </a:lnTo>
                <a:lnTo>
                  <a:pt x="153" y="678"/>
                </a:lnTo>
                <a:lnTo>
                  <a:pt x="171" y="664"/>
                </a:lnTo>
                <a:lnTo>
                  <a:pt x="189" y="645"/>
                </a:lnTo>
                <a:lnTo>
                  <a:pt x="207" y="627"/>
                </a:lnTo>
                <a:lnTo>
                  <a:pt x="225" y="611"/>
                </a:lnTo>
                <a:lnTo>
                  <a:pt x="234" y="606"/>
                </a:lnTo>
                <a:lnTo>
                  <a:pt x="245" y="600"/>
                </a:lnTo>
                <a:lnTo>
                  <a:pt x="256" y="597"/>
                </a:lnTo>
                <a:lnTo>
                  <a:pt x="269" y="597"/>
                </a:lnTo>
                <a:lnTo>
                  <a:pt x="269" y="597"/>
                </a:lnTo>
                <a:lnTo>
                  <a:pt x="279" y="597"/>
                </a:lnTo>
                <a:lnTo>
                  <a:pt x="290" y="600"/>
                </a:lnTo>
                <a:lnTo>
                  <a:pt x="301" y="604"/>
                </a:lnTo>
                <a:lnTo>
                  <a:pt x="312" y="609"/>
                </a:lnTo>
                <a:lnTo>
                  <a:pt x="321" y="617"/>
                </a:lnTo>
                <a:lnTo>
                  <a:pt x="330" y="626"/>
                </a:lnTo>
                <a:lnTo>
                  <a:pt x="339" y="635"/>
                </a:lnTo>
                <a:lnTo>
                  <a:pt x="348" y="645"/>
                </a:lnTo>
                <a:lnTo>
                  <a:pt x="355" y="658"/>
                </a:lnTo>
                <a:lnTo>
                  <a:pt x="361" y="671"/>
                </a:lnTo>
                <a:lnTo>
                  <a:pt x="366" y="685"/>
                </a:lnTo>
                <a:lnTo>
                  <a:pt x="371" y="700"/>
                </a:lnTo>
                <a:lnTo>
                  <a:pt x="375" y="716"/>
                </a:lnTo>
                <a:lnTo>
                  <a:pt x="377" y="732"/>
                </a:lnTo>
                <a:lnTo>
                  <a:pt x="379" y="748"/>
                </a:lnTo>
                <a:lnTo>
                  <a:pt x="380" y="766"/>
                </a:lnTo>
                <a:lnTo>
                  <a:pt x="380" y="766"/>
                </a:lnTo>
                <a:lnTo>
                  <a:pt x="379" y="783"/>
                </a:lnTo>
                <a:lnTo>
                  <a:pt x="377" y="801"/>
                </a:lnTo>
                <a:lnTo>
                  <a:pt x="375" y="817"/>
                </a:lnTo>
                <a:lnTo>
                  <a:pt x="371" y="831"/>
                </a:lnTo>
                <a:lnTo>
                  <a:pt x="366" y="847"/>
                </a:lnTo>
                <a:lnTo>
                  <a:pt x="361" y="860"/>
                </a:lnTo>
                <a:lnTo>
                  <a:pt x="355" y="874"/>
                </a:lnTo>
                <a:lnTo>
                  <a:pt x="348" y="885"/>
                </a:lnTo>
                <a:lnTo>
                  <a:pt x="339" y="896"/>
                </a:lnTo>
                <a:lnTo>
                  <a:pt x="330" y="907"/>
                </a:lnTo>
                <a:lnTo>
                  <a:pt x="321" y="914"/>
                </a:lnTo>
                <a:lnTo>
                  <a:pt x="312" y="921"/>
                </a:lnTo>
                <a:lnTo>
                  <a:pt x="301" y="929"/>
                </a:lnTo>
                <a:lnTo>
                  <a:pt x="290" y="932"/>
                </a:lnTo>
                <a:lnTo>
                  <a:pt x="279" y="934"/>
                </a:lnTo>
                <a:lnTo>
                  <a:pt x="269" y="936"/>
                </a:lnTo>
                <a:lnTo>
                  <a:pt x="269" y="936"/>
                </a:lnTo>
                <a:lnTo>
                  <a:pt x="256" y="934"/>
                </a:lnTo>
                <a:lnTo>
                  <a:pt x="245" y="930"/>
                </a:lnTo>
                <a:lnTo>
                  <a:pt x="234" y="927"/>
                </a:lnTo>
                <a:lnTo>
                  <a:pt x="225" y="920"/>
                </a:lnTo>
                <a:lnTo>
                  <a:pt x="207" y="905"/>
                </a:lnTo>
                <a:lnTo>
                  <a:pt x="189" y="887"/>
                </a:lnTo>
                <a:lnTo>
                  <a:pt x="171" y="869"/>
                </a:lnTo>
                <a:lnTo>
                  <a:pt x="153" y="853"/>
                </a:lnTo>
                <a:lnTo>
                  <a:pt x="144" y="847"/>
                </a:lnTo>
                <a:lnTo>
                  <a:pt x="133" y="842"/>
                </a:lnTo>
                <a:lnTo>
                  <a:pt x="123" y="840"/>
                </a:lnTo>
                <a:lnTo>
                  <a:pt x="110" y="838"/>
                </a:lnTo>
                <a:lnTo>
                  <a:pt x="110" y="838"/>
                </a:lnTo>
                <a:lnTo>
                  <a:pt x="99" y="838"/>
                </a:lnTo>
                <a:lnTo>
                  <a:pt x="90" y="842"/>
                </a:lnTo>
                <a:lnTo>
                  <a:pt x="79" y="846"/>
                </a:lnTo>
                <a:lnTo>
                  <a:pt x="70" y="849"/>
                </a:lnTo>
                <a:lnTo>
                  <a:pt x="61" y="856"/>
                </a:lnTo>
                <a:lnTo>
                  <a:pt x="52" y="864"/>
                </a:lnTo>
                <a:lnTo>
                  <a:pt x="43" y="871"/>
                </a:lnTo>
                <a:lnTo>
                  <a:pt x="36" y="882"/>
                </a:lnTo>
                <a:lnTo>
                  <a:pt x="23" y="903"/>
                </a:lnTo>
                <a:lnTo>
                  <a:pt x="13" y="929"/>
                </a:lnTo>
                <a:lnTo>
                  <a:pt x="4" y="956"/>
                </a:lnTo>
                <a:lnTo>
                  <a:pt x="0" y="986"/>
                </a:lnTo>
                <a:lnTo>
                  <a:pt x="0" y="2160"/>
                </a:lnTo>
                <a:lnTo>
                  <a:pt x="1176" y="2160"/>
                </a:lnTo>
                <a:lnTo>
                  <a:pt x="1176" y="2160"/>
                </a:lnTo>
                <a:lnTo>
                  <a:pt x="1206" y="2165"/>
                </a:lnTo>
                <a:lnTo>
                  <a:pt x="1233" y="2173"/>
                </a:lnTo>
                <a:lnTo>
                  <a:pt x="1258" y="2183"/>
                </a:lnTo>
                <a:lnTo>
                  <a:pt x="1280" y="2198"/>
                </a:lnTo>
                <a:lnTo>
                  <a:pt x="1289" y="2205"/>
                </a:lnTo>
                <a:lnTo>
                  <a:pt x="1298" y="2212"/>
                </a:lnTo>
                <a:lnTo>
                  <a:pt x="1305" y="2221"/>
                </a:lnTo>
                <a:lnTo>
                  <a:pt x="1311" y="2230"/>
                </a:lnTo>
                <a:lnTo>
                  <a:pt x="1316" y="2239"/>
                </a:lnTo>
                <a:lnTo>
                  <a:pt x="1320" y="2250"/>
                </a:lnTo>
                <a:lnTo>
                  <a:pt x="1322" y="2259"/>
                </a:lnTo>
                <a:lnTo>
                  <a:pt x="1322" y="2270"/>
                </a:lnTo>
                <a:lnTo>
                  <a:pt x="1322" y="2270"/>
                </a:lnTo>
                <a:lnTo>
                  <a:pt x="1322" y="2283"/>
                </a:lnTo>
                <a:lnTo>
                  <a:pt x="1318" y="2293"/>
                </a:lnTo>
                <a:lnTo>
                  <a:pt x="1313" y="2304"/>
                </a:lnTo>
                <a:lnTo>
                  <a:pt x="1307" y="2313"/>
                </a:lnTo>
                <a:lnTo>
                  <a:pt x="1291" y="2333"/>
                </a:lnTo>
                <a:lnTo>
                  <a:pt x="1273" y="2349"/>
                </a:lnTo>
                <a:lnTo>
                  <a:pt x="1257" y="2367"/>
                </a:lnTo>
                <a:lnTo>
                  <a:pt x="1240" y="2385"/>
                </a:lnTo>
                <a:lnTo>
                  <a:pt x="1235" y="2396"/>
                </a:lnTo>
                <a:lnTo>
                  <a:pt x="1230" y="2405"/>
                </a:lnTo>
                <a:lnTo>
                  <a:pt x="1226" y="2418"/>
                </a:lnTo>
                <a:lnTo>
                  <a:pt x="1226" y="2429"/>
                </a:lnTo>
                <a:lnTo>
                  <a:pt x="1226" y="2429"/>
                </a:lnTo>
                <a:lnTo>
                  <a:pt x="1226" y="2441"/>
                </a:lnTo>
                <a:lnTo>
                  <a:pt x="1228" y="2452"/>
                </a:lnTo>
                <a:lnTo>
                  <a:pt x="1233" y="2463"/>
                </a:lnTo>
                <a:lnTo>
                  <a:pt x="1239" y="2472"/>
                </a:lnTo>
                <a:lnTo>
                  <a:pt x="1246" y="2483"/>
                </a:lnTo>
                <a:lnTo>
                  <a:pt x="1255" y="2492"/>
                </a:lnTo>
                <a:lnTo>
                  <a:pt x="1264" y="2499"/>
                </a:lnTo>
                <a:lnTo>
                  <a:pt x="1275" y="2508"/>
                </a:lnTo>
                <a:lnTo>
                  <a:pt x="1287" y="2515"/>
                </a:lnTo>
                <a:lnTo>
                  <a:pt x="1300" y="2521"/>
                </a:lnTo>
                <a:lnTo>
                  <a:pt x="1314" y="2526"/>
                </a:lnTo>
                <a:lnTo>
                  <a:pt x="1329" y="2531"/>
                </a:lnTo>
                <a:lnTo>
                  <a:pt x="1345" y="2535"/>
                </a:lnTo>
                <a:lnTo>
                  <a:pt x="1361" y="2539"/>
                </a:lnTo>
                <a:lnTo>
                  <a:pt x="1377" y="2540"/>
                </a:lnTo>
                <a:lnTo>
                  <a:pt x="1394" y="2540"/>
                </a:lnTo>
                <a:lnTo>
                  <a:pt x="1394" y="2540"/>
                </a:lnTo>
                <a:lnTo>
                  <a:pt x="1412" y="2540"/>
                </a:lnTo>
                <a:lnTo>
                  <a:pt x="1428" y="2539"/>
                </a:lnTo>
                <a:lnTo>
                  <a:pt x="1444" y="2535"/>
                </a:lnTo>
                <a:lnTo>
                  <a:pt x="1460" y="2531"/>
                </a:lnTo>
                <a:lnTo>
                  <a:pt x="1475" y="2526"/>
                </a:lnTo>
                <a:lnTo>
                  <a:pt x="1489" y="2521"/>
                </a:lnTo>
                <a:lnTo>
                  <a:pt x="1502" y="2515"/>
                </a:lnTo>
                <a:lnTo>
                  <a:pt x="1515" y="2508"/>
                </a:lnTo>
                <a:lnTo>
                  <a:pt x="1525" y="2499"/>
                </a:lnTo>
                <a:lnTo>
                  <a:pt x="1534" y="2492"/>
                </a:lnTo>
                <a:lnTo>
                  <a:pt x="1543" y="2483"/>
                </a:lnTo>
                <a:lnTo>
                  <a:pt x="1551" y="2472"/>
                </a:lnTo>
                <a:lnTo>
                  <a:pt x="1556" y="2463"/>
                </a:lnTo>
                <a:lnTo>
                  <a:pt x="1560" y="2452"/>
                </a:lnTo>
                <a:lnTo>
                  <a:pt x="1563" y="2441"/>
                </a:lnTo>
                <a:lnTo>
                  <a:pt x="1563" y="2429"/>
                </a:lnTo>
                <a:lnTo>
                  <a:pt x="1563" y="2429"/>
                </a:lnTo>
                <a:lnTo>
                  <a:pt x="1563" y="2418"/>
                </a:lnTo>
                <a:lnTo>
                  <a:pt x="1560" y="2405"/>
                </a:lnTo>
                <a:lnTo>
                  <a:pt x="1554" y="2396"/>
                </a:lnTo>
                <a:lnTo>
                  <a:pt x="1549" y="2385"/>
                </a:lnTo>
                <a:lnTo>
                  <a:pt x="1533" y="2367"/>
                </a:lnTo>
                <a:lnTo>
                  <a:pt x="1516" y="2349"/>
                </a:lnTo>
                <a:lnTo>
                  <a:pt x="1498" y="2333"/>
                </a:lnTo>
                <a:lnTo>
                  <a:pt x="1482" y="2313"/>
                </a:lnTo>
                <a:lnTo>
                  <a:pt x="1477" y="2304"/>
                </a:lnTo>
                <a:lnTo>
                  <a:pt x="1471" y="2293"/>
                </a:lnTo>
                <a:lnTo>
                  <a:pt x="1468" y="2283"/>
                </a:lnTo>
                <a:lnTo>
                  <a:pt x="1468" y="2270"/>
                </a:lnTo>
                <a:lnTo>
                  <a:pt x="1468" y="2270"/>
                </a:lnTo>
                <a:lnTo>
                  <a:pt x="1468" y="2259"/>
                </a:lnTo>
                <a:lnTo>
                  <a:pt x="1469" y="2250"/>
                </a:lnTo>
                <a:lnTo>
                  <a:pt x="1473" y="2239"/>
                </a:lnTo>
                <a:lnTo>
                  <a:pt x="1478" y="2230"/>
                </a:lnTo>
                <a:lnTo>
                  <a:pt x="1484" y="2221"/>
                </a:lnTo>
                <a:lnTo>
                  <a:pt x="1491" y="2212"/>
                </a:lnTo>
                <a:lnTo>
                  <a:pt x="1500" y="2205"/>
                </a:lnTo>
                <a:lnTo>
                  <a:pt x="1509" y="2198"/>
                </a:lnTo>
                <a:lnTo>
                  <a:pt x="1531" y="2183"/>
                </a:lnTo>
                <a:lnTo>
                  <a:pt x="1556" y="2173"/>
                </a:lnTo>
                <a:lnTo>
                  <a:pt x="1583" y="2165"/>
                </a:lnTo>
                <a:lnTo>
                  <a:pt x="1614" y="2160"/>
                </a:lnTo>
                <a:lnTo>
                  <a:pt x="1614" y="2160"/>
                </a:lnTo>
                <a:close/>
              </a:path>
            </a:pathLst>
          </a:custGeom>
          <a:solidFill>
            <a:srgbClr val="c29a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Freeform 7"/>
          <p:cNvSpPr/>
          <p:nvPr/>
        </p:nvSpPr>
        <p:spPr>
          <a:xfrm>
            <a:off x="3441600" y="2960640"/>
            <a:ext cx="1161720" cy="1363320"/>
          </a:xfrm>
          <a:custGeom>
            <a:avLst/>
            <a:gdLst>
              <a:gd name="textAreaLeft" fmla="*/ 0 w 1161720"/>
              <a:gd name="textAreaRight" fmla="*/ 1162080 w 1161720"/>
              <a:gd name="textAreaTop" fmla="*/ 0 h 1363320"/>
              <a:gd name="textAreaBottom" fmla="*/ 1363680 h 1363320"/>
            </a:gdLst>
            <a:ahLst/>
            <a:rect l="textAreaLeft" t="textAreaTop" r="textAreaRight" b="textAreaBottom"/>
            <a:pathLst>
              <a:path w="2160" h="2537">
                <a:moveTo>
                  <a:pt x="2050" y="1846"/>
                </a:moveTo>
                <a:lnTo>
                  <a:pt x="2050" y="1846"/>
                </a:lnTo>
                <a:lnTo>
                  <a:pt x="2039" y="1848"/>
                </a:lnTo>
                <a:lnTo>
                  <a:pt x="2028" y="1850"/>
                </a:lnTo>
                <a:lnTo>
                  <a:pt x="2018" y="1855"/>
                </a:lnTo>
                <a:lnTo>
                  <a:pt x="2007" y="1861"/>
                </a:lnTo>
                <a:lnTo>
                  <a:pt x="1989" y="1877"/>
                </a:lnTo>
                <a:lnTo>
                  <a:pt x="1971" y="1895"/>
                </a:lnTo>
                <a:lnTo>
                  <a:pt x="1954" y="1913"/>
                </a:lnTo>
                <a:lnTo>
                  <a:pt x="1935" y="1928"/>
                </a:lnTo>
                <a:lnTo>
                  <a:pt x="1926" y="1935"/>
                </a:lnTo>
                <a:lnTo>
                  <a:pt x="1915" y="1938"/>
                </a:lnTo>
                <a:lnTo>
                  <a:pt x="1904" y="1942"/>
                </a:lnTo>
                <a:lnTo>
                  <a:pt x="1891" y="1944"/>
                </a:lnTo>
                <a:lnTo>
                  <a:pt x="1891" y="1944"/>
                </a:lnTo>
                <a:lnTo>
                  <a:pt x="1881" y="1942"/>
                </a:lnTo>
                <a:lnTo>
                  <a:pt x="1870" y="1940"/>
                </a:lnTo>
                <a:lnTo>
                  <a:pt x="1859" y="1935"/>
                </a:lnTo>
                <a:lnTo>
                  <a:pt x="1848" y="1929"/>
                </a:lnTo>
                <a:lnTo>
                  <a:pt x="1839" y="1922"/>
                </a:lnTo>
                <a:lnTo>
                  <a:pt x="1830" y="1915"/>
                </a:lnTo>
                <a:lnTo>
                  <a:pt x="1821" y="1904"/>
                </a:lnTo>
                <a:lnTo>
                  <a:pt x="1814" y="1893"/>
                </a:lnTo>
                <a:lnTo>
                  <a:pt x="1807" y="1881"/>
                </a:lnTo>
                <a:lnTo>
                  <a:pt x="1799" y="1868"/>
                </a:lnTo>
                <a:lnTo>
                  <a:pt x="1794" y="1855"/>
                </a:lnTo>
                <a:lnTo>
                  <a:pt x="1789" y="1839"/>
                </a:lnTo>
                <a:lnTo>
                  <a:pt x="1785" y="1825"/>
                </a:lnTo>
                <a:lnTo>
                  <a:pt x="1783" y="1809"/>
                </a:lnTo>
                <a:lnTo>
                  <a:pt x="1781" y="1791"/>
                </a:lnTo>
                <a:lnTo>
                  <a:pt x="1781" y="1774"/>
                </a:lnTo>
                <a:lnTo>
                  <a:pt x="1781" y="1774"/>
                </a:lnTo>
                <a:lnTo>
                  <a:pt x="1781" y="1756"/>
                </a:lnTo>
                <a:lnTo>
                  <a:pt x="1783" y="1740"/>
                </a:lnTo>
                <a:lnTo>
                  <a:pt x="1785" y="1724"/>
                </a:lnTo>
                <a:lnTo>
                  <a:pt x="1789" y="1708"/>
                </a:lnTo>
                <a:lnTo>
                  <a:pt x="1794" y="1693"/>
                </a:lnTo>
                <a:lnTo>
                  <a:pt x="1799" y="1679"/>
                </a:lnTo>
                <a:lnTo>
                  <a:pt x="1807" y="1666"/>
                </a:lnTo>
                <a:lnTo>
                  <a:pt x="1814" y="1654"/>
                </a:lnTo>
                <a:lnTo>
                  <a:pt x="1821" y="1643"/>
                </a:lnTo>
                <a:lnTo>
                  <a:pt x="1830" y="1634"/>
                </a:lnTo>
                <a:lnTo>
                  <a:pt x="1839" y="1625"/>
                </a:lnTo>
                <a:lnTo>
                  <a:pt x="1848" y="1617"/>
                </a:lnTo>
                <a:lnTo>
                  <a:pt x="1859" y="1612"/>
                </a:lnTo>
                <a:lnTo>
                  <a:pt x="1870" y="1608"/>
                </a:lnTo>
                <a:lnTo>
                  <a:pt x="1881" y="1605"/>
                </a:lnTo>
                <a:lnTo>
                  <a:pt x="1891" y="1605"/>
                </a:lnTo>
                <a:lnTo>
                  <a:pt x="1891" y="1605"/>
                </a:lnTo>
                <a:lnTo>
                  <a:pt x="1904" y="1605"/>
                </a:lnTo>
                <a:lnTo>
                  <a:pt x="1915" y="1608"/>
                </a:lnTo>
                <a:lnTo>
                  <a:pt x="1926" y="1614"/>
                </a:lnTo>
                <a:lnTo>
                  <a:pt x="1935" y="1619"/>
                </a:lnTo>
                <a:lnTo>
                  <a:pt x="1954" y="1635"/>
                </a:lnTo>
                <a:lnTo>
                  <a:pt x="1971" y="1654"/>
                </a:lnTo>
                <a:lnTo>
                  <a:pt x="1989" y="1672"/>
                </a:lnTo>
                <a:lnTo>
                  <a:pt x="2007" y="1686"/>
                </a:lnTo>
                <a:lnTo>
                  <a:pt x="2018" y="1693"/>
                </a:lnTo>
                <a:lnTo>
                  <a:pt x="2027" y="1697"/>
                </a:lnTo>
                <a:lnTo>
                  <a:pt x="2039" y="1700"/>
                </a:lnTo>
                <a:lnTo>
                  <a:pt x="2050" y="1700"/>
                </a:lnTo>
                <a:lnTo>
                  <a:pt x="2050" y="1700"/>
                </a:lnTo>
                <a:lnTo>
                  <a:pt x="2061" y="1700"/>
                </a:lnTo>
                <a:lnTo>
                  <a:pt x="2070" y="1699"/>
                </a:lnTo>
                <a:lnTo>
                  <a:pt x="2081" y="1695"/>
                </a:lnTo>
                <a:lnTo>
                  <a:pt x="2090" y="1691"/>
                </a:lnTo>
                <a:lnTo>
                  <a:pt x="2099" y="1684"/>
                </a:lnTo>
                <a:lnTo>
                  <a:pt x="2106" y="1679"/>
                </a:lnTo>
                <a:lnTo>
                  <a:pt x="2122" y="1661"/>
                </a:lnTo>
                <a:lnTo>
                  <a:pt x="2137" y="1641"/>
                </a:lnTo>
                <a:lnTo>
                  <a:pt x="2147" y="1617"/>
                </a:lnTo>
                <a:lnTo>
                  <a:pt x="2155" y="1590"/>
                </a:lnTo>
                <a:lnTo>
                  <a:pt x="2160" y="1562"/>
                </a:lnTo>
                <a:lnTo>
                  <a:pt x="2160" y="377"/>
                </a:lnTo>
                <a:lnTo>
                  <a:pt x="968" y="377"/>
                </a:lnTo>
                <a:lnTo>
                  <a:pt x="968" y="377"/>
                </a:lnTo>
                <a:lnTo>
                  <a:pt x="941" y="372"/>
                </a:lnTo>
                <a:lnTo>
                  <a:pt x="916" y="363"/>
                </a:lnTo>
                <a:lnTo>
                  <a:pt x="894" y="352"/>
                </a:lnTo>
                <a:lnTo>
                  <a:pt x="874" y="339"/>
                </a:lnTo>
                <a:lnTo>
                  <a:pt x="858" y="323"/>
                </a:lnTo>
                <a:lnTo>
                  <a:pt x="847" y="307"/>
                </a:lnTo>
                <a:lnTo>
                  <a:pt x="844" y="298"/>
                </a:lnTo>
                <a:lnTo>
                  <a:pt x="840" y="289"/>
                </a:lnTo>
                <a:lnTo>
                  <a:pt x="838" y="280"/>
                </a:lnTo>
                <a:lnTo>
                  <a:pt x="837" y="269"/>
                </a:lnTo>
                <a:lnTo>
                  <a:pt x="837" y="269"/>
                </a:lnTo>
                <a:lnTo>
                  <a:pt x="838" y="258"/>
                </a:lnTo>
                <a:lnTo>
                  <a:pt x="842" y="247"/>
                </a:lnTo>
                <a:lnTo>
                  <a:pt x="846" y="236"/>
                </a:lnTo>
                <a:lnTo>
                  <a:pt x="853" y="226"/>
                </a:lnTo>
                <a:lnTo>
                  <a:pt x="867" y="208"/>
                </a:lnTo>
                <a:lnTo>
                  <a:pt x="885" y="189"/>
                </a:lnTo>
                <a:lnTo>
                  <a:pt x="903" y="173"/>
                </a:lnTo>
                <a:lnTo>
                  <a:pt x="920" y="153"/>
                </a:lnTo>
                <a:lnTo>
                  <a:pt x="925" y="144"/>
                </a:lnTo>
                <a:lnTo>
                  <a:pt x="930" y="134"/>
                </a:lnTo>
                <a:lnTo>
                  <a:pt x="934" y="123"/>
                </a:lnTo>
                <a:lnTo>
                  <a:pt x="934" y="110"/>
                </a:lnTo>
                <a:lnTo>
                  <a:pt x="934" y="110"/>
                </a:lnTo>
                <a:lnTo>
                  <a:pt x="934" y="99"/>
                </a:lnTo>
                <a:lnTo>
                  <a:pt x="930" y="89"/>
                </a:lnTo>
                <a:lnTo>
                  <a:pt x="927" y="78"/>
                </a:lnTo>
                <a:lnTo>
                  <a:pt x="921" y="67"/>
                </a:lnTo>
                <a:lnTo>
                  <a:pt x="914" y="58"/>
                </a:lnTo>
                <a:lnTo>
                  <a:pt x="905" y="49"/>
                </a:lnTo>
                <a:lnTo>
                  <a:pt x="896" y="40"/>
                </a:lnTo>
                <a:lnTo>
                  <a:pt x="885" y="33"/>
                </a:lnTo>
                <a:lnTo>
                  <a:pt x="873" y="25"/>
                </a:lnTo>
                <a:lnTo>
                  <a:pt x="860" y="18"/>
                </a:lnTo>
                <a:lnTo>
                  <a:pt x="846" y="13"/>
                </a:lnTo>
                <a:lnTo>
                  <a:pt x="831" y="9"/>
                </a:lnTo>
                <a:lnTo>
                  <a:pt x="815" y="4"/>
                </a:lnTo>
                <a:lnTo>
                  <a:pt x="799" y="2"/>
                </a:lnTo>
                <a:lnTo>
                  <a:pt x="783" y="0"/>
                </a:lnTo>
                <a:lnTo>
                  <a:pt x="764" y="0"/>
                </a:lnTo>
                <a:lnTo>
                  <a:pt x="764" y="0"/>
                </a:lnTo>
                <a:lnTo>
                  <a:pt x="748" y="0"/>
                </a:lnTo>
                <a:lnTo>
                  <a:pt x="730" y="2"/>
                </a:lnTo>
                <a:lnTo>
                  <a:pt x="714" y="4"/>
                </a:lnTo>
                <a:lnTo>
                  <a:pt x="700" y="9"/>
                </a:lnTo>
                <a:lnTo>
                  <a:pt x="683" y="13"/>
                </a:lnTo>
                <a:lnTo>
                  <a:pt x="671" y="18"/>
                </a:lnTo>
                <a:lnTo>
                  <a:pt x="656" y="25"/>
                </a:lnTo>
                <a:lnTo>
                  <a:pt x="645" y="33"/>
                </a:lnTo>
                <a:lnTo>
                  <a:pt x="635" y="40"/>
                </a:lnTo>
                <a:lnTo>
                  <a:pt x="624" y="49"/>
                </a:lnTo>
                <a:lnTo>
                  <a:pt x="617" y="58"/>
                </a:lnTo>
                <a:lnTo>
                  <a:pt x="609" y="67"/>
                </a:lnTo>
                <a:lnTo>
                  <a:pt x="604" y="78"/>
                </a:lnTo>
                <a:lnTo>
                  <a:pt x="599" y="89"/>
                </a:lnTo>
                <a:lnTo>
                  <a:pt x="597" y="99"/>
                </a:lnTo>
                <a:lnTo>
                  <a:pt x="595" y="110"/>
                </a:lnTo>
                <a:lnTo>
                  <a:pt x="595" y="110"/>
                </a:lnTo>
                <a:lnTo>
                  <a:pt x="597" y="123"/>
                </a:lnTo>
                <a:lnTo>
                  <a:pt x="600" y="134"/>
                </a:lnTo>
                <a:lnTo>
                  <a:pt x="604" y="144"/>
                </a:lnTo>
                <a:lnTo>
                  <a:pt x="611" y="153"/>
                </a:lnTo>
                <a:lnTo>
                  <a:pt x="626" y="173"/>
                </a:lnTo>
                <a:lnTo>
                  <a:pt x="644" y="189"/>
                </a:lnTo>
                <a:lnTo>
                  <a:pt x="662" y="208"/>
                </a:lnTo>
                <a:lnTo>
                  <a:pt x="678" y="226"/>
                </a:lnTo>
                <a:lnTo>
                  <a:pt x="683" y="236"/>
                </a:lnTo>
                <a:lnTo>
                  <a:pt x="689" y="247"/>
                </a:lnTo>
                <a:lnTo>
                  <a:pt x="691" y="258"/>
                </a:lnTo>
                <a:lnTo>
                  <a:pt x="692" y="269"/>
                </a:lnTo>
                <a:lnTo>
                  <a:pt x="692" y="269"/>
                </a:lnTo>
                <a:lnTo>
                  <a:pt x="692" y="280"/>
                </a:lnTo>
                <a:lnTo>
                  <a:pt x="691" y="289"/>
                </a:lnTo>
                <a:lnTo>
                  <a:pt x="687" y="298"/>
                </a:lnTo>
                <a:lnTo>
                  <a:pt x="682" y="307"/>
                </a:lnTo>
                <a:lnTo>
                  <a:pt x="671" y="323"/>
                </a:lnTo>
                <a:lnTo>
                  <a:pt x="654" y="339"/>
                </a:lnTo>
                <a:lnTo>
                  <a:pt x="636" y="352"/>
                </a:lnTo>
                <a:lnTo>
                  <a:pt x="613" y="363"/>
                </a:lnTo>
                <a:lnTo>
                  <a:pt x="590" y="372"/>
                </a:lnTo>
                <a:lnTo>
                  <a:pt x="563" y="377"/>
                </a:lnTo>
                <a:lnTo>
                  <a:pt x="0" y="377"/>
                </a:lnTo>
                <a:lnTo>
                  <a:pt x="0" y="377"/>
                </a:lnTo>
                <a:lnTo>
                  <a:pt x="0" y="433"/>
                </a:lnTo>
                <a:lnTo>
                  <a:pt x="2" y="489"/>
                </a:lnTo>
                <a:lnTo>
                  <a:pt x="5" y="543"/>
                </a:lnTo>
                <a:lnTo>
                  <a:pt x="11" y="599"/>
                </a:lnTo>
                <a:lnTo>
                  <a:pt x="16" y="653"/>
                </a:lnTo>
                <a:lnTo>
                  <a:pt x="25" y="707"/>
                </a:lnTo>
                <a:lnTo>
                  <a:pt x="32" y="759"/>
                </a:lnTo>
                <a:lnTo>
                  <a:pt x="43" y="813"/>
                </a:lnTo>
                <a:lnTo>
                  <a:pt x="54" y="866"/>
                </a:lnTo>
                <a:lnTo>
                  <a:pt x="67" y="918"/>
                </a:lnTo>
                <a:lnTo>
                  <a:pt x="81" y="968"/>
                </a:lnTo>
                <a:lnTo>
                  <a:pt x="97" y="1021"/>
                </a:lnTo>
                <a:lnTo>
                  <a:pt x="114" y="1071"/>
                </a:lnTo>
                <a:lnTo>
                  <a:pt x="130" y="1120"/>
                </a:lnTo>
                <a:lnTo>
                  <a:pt x="150" y="1170"/>
                </a:lnTo>
                <a:lnTo>
                  <a:pt x="169" y="1219"/>
                </a:lnTo>
                <a:lnTo>
                  <a:pt x="191" y="1266"/>
                </a:lnTo>
                <a:lnTo>
                  <a:pt x="213" y="1315"/>
                </a:lnTo>
                <a:lnTo>
                  <a:pt x="236" y="1361"/>
                </a:lnTo>
                <a:lnTo>
                  <a:pt x="260" y="1407"/>
                </a:lnTo>
                <a:lnTo>
                  <a:pt x="285" y="1453"/>
                </a:lnTo>
                <a:lnTo>
                  <a:pt x="312" y="1498"/>
                </a:lnTo>
                <a:lnTo>
                  <a:pt x="341" y="1542"/>
                </a:lnTo>
                <a:lnTo>
                  <a:pt x="368" y="1585"/>
                </a:lnTo>
                <a:lnTo>
                  <a:pt x="398" y="1628"/>
                </a:lnTo>
                <a:lnTo>
                  <a:pt x="429" y="1670"/>
                </a:lnTo>
                <a:lnTo>
                  <a:pt x="460" y="1711"/>
                </a:lnTo>
                <a:lnTo>
                  <a:pt x="492" y="1751"/>
                </a:lnTo>
                <a:lnTo>
                  <a:pt x="526" y="1791"/>
                </a:lnTo>
                <a:lnTo>
                  <a:pt x="561" y="1830"/>
                </a:lnTo>
                <a:lnTo>
                  <a:pt x="597" y="1868"/>
                </a:lnTo>
                <a:lnTo>
                  <a:pt x="633" y="1906"/>
                </a:lnTo>
                <a:lnTo>
                  <a:pt x="669" y="1942"/>
                </a:lnTo>
                <a:lnTo>
                  <a:pt x="707" y="1976"/>
                </a:lnTo>
                <a:lnTo>
                  <a:pt x="746" y="2011"/>
                </a:lnTo>
                <a:lnTo>
                  <a:pt x="786" y="2045"/>
                </a:lnTo>
                <a:lnTo>
                  <a:pt x="826" y="2077"/>
                </a:lnTo>
                <a:lnTo>
                  <a:pt x="867" y="2108"/>
                </a:lnTo>
                <a:lnTo>
                  <a:pt x="909" y="2139"/>
                </a:lnTo>
                <a:lnTo>
                  <a:pt x="952" y="2169"/>
                </a:lnTo>
                <a:lnTo>
                  <a:pt x="995" y="2198"/>
                </a:lnTo>
                <a:lnTo>
                  <a:pt x="1040" y="2225"/>
                </a:lnTo>
                <a:lnTo>
                  <a:pt x="1085" y="2252"/>
                </a:lnTo>
                <a:lnTo>
                  <a:pt x="1130" y="2277"/>
                </a:lnTo>
                <a:lnTo>
                  <a:pt x="1176" y="2301"/>
                </a:lnTo>
                <a:lnTo>
                  <a:pt x="1222" y="2324"/>
                </a:lnTo>
                <a:lnTo>
                  <a:pt x="1271" y="2348"/>
                </a:lnTo>
                <a:lnTo>
                  <a:pt x="1320" y="2368"/>
                </a:lnTo>
                <a:lnTo>
                  <a:pt x="1368" y="2387"/>
                </a:lnTo>
                <a:lnTo>
                  <a:pt x="1417" y="2407"/>
                </a:lnTo>
                <a:lnTo>
                  <a:pt x="1468" y="2423"/>
                </a:lnTo>
                <a:lnTo>
                  <a:pt x="1518" y="2441"/>
                </a:lnTo>
                <a:lnTo>
                  <a:pt x="1569" y="2456"/>
                </a:lnTo>
                <a:lnTo>
                  <a:pt x="1619" y="2470"/>
                </a:lnTo>
                <a:lnTo>
                  <a:pt x="1671" y="2483"/>
                </a:lnTo>
                <a:lnTo>
                  <a:pt x="1724" y="2494"/>
                </a:lnTo>
                <a:lnTo>
                  <a:pt x="1778" y="2505"/>
                </a:lnTo>
                <a:lnTo>
                  <a:pt x="1830" y="2514"/>
                </a:lnTo>
                <a:lnTo>
                  <a:pt x="1884" y="2521"/>
                </a:lnTo>
                <a:lnTo>
                  <a:pt x="1938" y="2526"/>
                </a:lnTo>
                <a:lnTo>
                  <a:pt x="1994" y="2532"/>
                </a:lnTo>
                <a:lnTo>
                  <a:pt x="2048" y="2535"/>
                </a:lnTo>
                <a:lnTo>
                  <a:pt x="2104" y="2537"/>
                </a:lnTo>
                <a:lnTo>
                  <a:pt x="2160" y="2537"/>
                </a:lnTo>
                <a:lnTo>
                  <a:pt x="2160" y="1985"/>
                </a:lnTo>
                <a:lnTo>
                  <a:pt x="2160" y="1985"/>
                </a:lnTo>
                <a:lnTo>
                  <a:pt x="2155" y="1956"/>
                </a:lnTo>
                <a:lnTo>
                  <a:pt x="2147" y="1931"/>
                </a:lnTo>
                <a:lnTo>
                  <a:pt x="2135" y="1908"/>
                </a:lnTo>
                <a:lnTo>
                  <a:pt x="2122" y="1886"/>
                </a:lnTo>
                <a:lnTo>
                  <a:pt x="2106" y="1870"/>
                </a:lnTo>
                <a:lnTo>
                  <a:pt x="2099" y="1863"/>
                </a:lnTo>
                <a:lnTo>
                  <a:pt x="2090" y="1857"/>
                </a:lnTo>
                <a:lnTo>
                  <a:pt x="2081" y="1852"/>
                </a:lnTo>
                <a:lnTo>
                  <a:pt x="2070" y="1850"/>
                </a:lnTo>
                <a:lnTo>
                  <a:pt x="2061" y="1846"/>
                </a:lnTo>
                <a:lnTo>
                  <a:pt x="2050" y="1846"/>
                </a:lnTo>
                <a:lnTo>
                  <a:pt x="2050" y="1846"/>
                </a:lnTo>
                <a:close/>
              </a:path>
            </a:pathLst>
          </a:custGeom>
          <a:solidFill>
            <a:srgbClr val="c29a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Freeform 8"/>
          <p:cNvSpPr/>
          <p:nvPr/>
        </p:nvSpPr>
        <p:spPr>
          <a:xfrm>
            <a:off x="3436920" y="2000160"/>
            <a:ext cx="1364760" cy="1163160"/>
          </a:xfrm>
          <a:custGeom>
            <a:avLst/>
            <a:gdLst>
              <a:gd name="textAreaLeft" fmla="*/ 0 w 1364760"/>
              <a:gd name="textAreaRight" fmla="*/ 1365120 w 1364760"/>
              <a:gd name="textAreaTop" fmla="*/ 0 h 1163160"/>
              <a:gd name="textAreaBottom" fmla="*/ 1163520 h 1163160"/>
            </a:gdLst>
            <a:ahLst/>
            <a:rect l="textAreaLeft" t="textAreaTop" r="textAreaRight" b="textAreaBottom"/>
            <a:pathLst>
              <a:path w="2540" h="2160">
                <a:moveTo>
                  <a:pt x="2429" y="597"/>
                </a:moveTo>
                <a:lnTo>
                  <a:pt x="2429" y="597"/>
                </a:lnTo>
                <a:lnTo>
                  <a:pt x="2416" y="597"/>
                </a:lnTo>
                <a:lnTo>
                  <a:pt x="2405" y="600"/>
                </a:lnTo>
                <a:lnTo>
                  <a:pt x="2394" y="606"/>
                </a:lnTo>
                <a:lnTo>
                  <a:pt x="2385" y="611"/>
                </a:lnTo>
                <a:lnTo>
                  <a:pt x="2367" y="627"/>
                </a:lnTo>
                <a:lnTo>
                  <a:pt x="2349" y="645"/>
                </a:lnTo>
                <a:lnTo>
                  <a:pt x="2331" y="664"/>
                </a:lnTo>
                <a:lnTo>
                  <a:pt x="2313" y="678"/>
                </a:lnTo>
                <a:lnTo>
                  <a:pt x="2304" y="685"/>
                </a:lnTo>
                <a:lnTo>
                  <a:pt x="2293" y="689"/>
                </a:lnTo>
                <a:lnTo>
                  <a:pt x="2283" y="692"/>
                </a:lnTo>
                <a:lnTo>
                  <a:pt x="2270" y="694"/>
                </a:lnTo>
                <a:lnTo>
                  <a:pt x="2270" y="694"/>
                </a:lnTo>
                <a:lnTo>
                  <a:pt x="2259" y="692"/>
                </a:lnTo>
                <a:lnTo>
                  <a:pt x="2250" y="691"/>
                </a:lnTo>
                <a:lnTo>
                  <a:pt x="2239" y="687"/>
                </a:lnTo>
                <a:lnTo>
                  <a:pt x="2230" y="682"/>
                </a:lnTo>
                <a:lnTo>
                  <a:pt x="2221" y="676"/>
                </a:lnTo>
                <a:lnTo>
                  <a:pt x="2212" y="669"/>
                </a:lnTo>
                <a:lnTo>
                  <a:pt x="2203" y="660"/>
                </a:lnTo>
                <a:lnTo>
                  <a:pt x="2196" y="651"/>
                </a:lnTo>
                <a:lnTo>
                  <a:pt x="2183" y="629"/>
                </a:lnTo>
                <a:lnTo>
                  <a:pt x="2173" y="604"/>
                </a:lnTo>
                <a:lnTo>
                  <a:pt x="2164" y="577"/>
                </a:lnTo>
                <a:lnTo>
                  <a:pt x="2160" y="546"/>
                </a:lnTo>
                <a:lnTo>
                  <a:pt x="2160" y="0"/>
                </a:lnTo>
                <a:lnTo>
                  <a:pt x="2160" y="0"/>
                </a:lnTo>
                <a:lnTo>
                  <a:pt x="2104" y="0"/>
                </a:lnTo>
                <a:lnTo>
                  <a:pt x="2048" y="4"/>
                </a:lnTo>
                <a:lnTo>
                  <a:pt x="1994" y="7"/>
                </a:lnTo>
                <a:lnTo>
                  <a:pt x="1938" y="11"/>
                </a:lnTo>
                <a:lnTo>
                  <a:pt x="1884" y="18"/>
                </a:lnTo>
                <a:lnTo>
                  <a:pt x="1830" y="25"/>
                </a:lnTo>
                <a:lnTo>
                  <a:pt x="1778" y="34"/>
                </a:lnTo>
                <a:lnTo>
                  <a:pt x="1724" y="43"/>
                </a:lnTo>
                <a:lnTo>
                  <a:pt x="1671" y="56"/>
                </a:lnTo>
                <a:lnTo>
                  <a:pt x="1619" y="69"/>
                </a:lnTo>
                <a:lnTo>
                  <a:pt x="1569" y="83"/>
                </a:lnTo>
                <a:lnTo>
                  <a:pt x="1518" y="97"/>
                </a:lnTo>
                <a:lnTo>
                  <a:pt x="1468" y="114"/>
                </a:lnTo>
                <a:lnTo>
                  <a:pt x="1417" y="132"/>
                </a:lnTo>
                <a:lnTo>
                  <a:pt x="1368" y="150"/>
                </a:lnTo>
                <a:lnTo>
                  <a:pt x="1320" y="169"/>
                </a:lnTo>
                <a:lnTo>
                  <a:pt x="1271" y="191"/>
                </a:lnTo>
                <a:lnTo>
                  <a:pt x="1222" y="213"/>
                </a:lnTo>
                <a:lnTo>
                  <a:pt x="1176" y="236"/>
                </a:lnTo>
                <a:lnTo>
                  <a:pt x="1130" y="261"/>
                </a:lnTo>
                <a:lnTo>
                  <a:pt x="1085" y="287"/>
                </a:lnTo>
                <a:lnTo>
                  <a:pt x="1040" y="314"/>
                </a:lnTo>
                <a:lnTo>
                  <a:pt x="995" y="341"/>
                </a:lnTo>
                <a:lnTo>
                  <a:pt x="952" y="370"/>
                </a:lnTo>
                <a:lnTo>
                  <a:pt x="909" y="398"/>
                </a:lnTo>
                <a:lnTo>
                  <a:pt x="867" y="429"/>
                </a:lnTo>
                <a:lnTo>
                  <a:pt x="826" y="462"/>
                </a:lnTo>
                <a:lnTo>
                  <a:pt x="786" y="494"/>
                </a:lnTo>
                <a:lnTo>
                  <a:pt x="746" y="526"/>
                </a:lnTo>
                <a:lnTo>
                  <a:pt x="707" y="561"/>
                </a:lnTo>
                <a:lnTo>
                  <a:pt x="669" y="597"/>
                </a:lnTo>
                <a:lnTo>
                  <a:pt x="633" y="633"/>
                </a:lnTo>
                <a:lnTo>
                  <a:pt x="597" y="671"/>
                </a:lnTo>
                <a:lnTo>
                  <a:pt x="561" y="709"/>
                </a:lnTo>
                <a:lnTo>
                  <a:pt x="526" y="746"/>
                </a:lnTo>
                <a:lnTo>
                  <a:pt x="492" y="786"/>
                </a:lnTo>
                <a:lnTo>
                  <a:pt x="460" y="828"/>
                </a:lnTo>
                <a:lnTo>
                  <a:pt x="429" y="867"/>
                </a:lnTo>
                <a:lnTo>
                  <a:pt x="398" y="911"/>
                </a:lnTo>
                <a:lnTo>
                  <a:pt x="368" y="952"/>
                </a:lnTo>
                <a:lnTo>
                  <a:pt x="341" y="995"/>
                </a:lnTo>
                <a:lnTo>
                  <a:pt x="312" y="1040"/>
                </a:lnTo>
                <a:lnTo>
                  <a:pt x="285" y="1085"/>
                </a:lnTo>
                <a:lnTo>
                  <a:pt x="260" y="1130"/>
                </a:lnTo>
                <a:lnTo>
                  <a:pt x="236" y="1177"/>
                </a:lnTo>
                <a:lnTo>
                  <a:pt x="213" y="1224"/>
                </a:lnTo>
                <a:lnTo>
                  <a:pt x="191" y="1271"/>
                </a:lnTo>
                <a:lnTo>
                  <a:pt x="169" y="1320"/>
                </a:lnTo>
                <a:lnTo>
                  <a:pt x="150" y="1368"/>
                </a:lnTo>
                <a:lnTo>
                  <a:pt x="130" y="1417"/>
                </a:lnTo>
                <a:lnTo>
                  <a:pt x="114" y="1468"/>
                </a:lnTo>
                <a:lnTo>
                  <a:pt x="97" y="1518"/>
                </a:lnTo>
                <a:lnTo>
                  <a:pt x="81" y="1569"/>
                </a:lnTo>
                <a:lnTo>
                  <a:pt x="67" y="1621"/>
                </a:lnTo>
                <a:lnTo>
                  <a:pt x="54" y="1673"/>
                </a:lnTo>
                <a:lnTo>
                  <a:pt x="43" y="1725"/>
                </a:lnTo>
                <a:lnTo>
                  <a:pt x="32" y="1778"/>
                </a:lnTo>
                <a:lnTo>
                  <a:pt x="25" y="1832"/>
                </a:lnTo>
                <a:lnTo>
                  <a:pt x="16" y="1886"/>
                </a:lnTo>
                <a:lnTo>
                  <a:pt x="11" y="1940"/>
                </a:lnTo>
                <a:lnTo>
                  <a:pt x="5" y="1994"/>
                </a:lnTo>
                <a:lnTo>
                  <a:pt x="2" y="2050"/>
                </a:lnTo>
                <a:lnTo>
                  <a:pt x="0" y="2104"/>
                </a:lnTo>
                <a:lnTo>
                  <a:pt x="0" y="2160"/>
                </a:lnTo>
                <a:lnTo>
                  <a:pt x="563" y="2160"/>
                </a:lnTo>
                <a:lnTo>
                  <a:pt x="563" y="2160"/>
                </a:lnTo>
                <a:lnTo>
                  <a:pt x="590" y="2155"/>
                </a:lnTo>
                <a:lnTo>
                  <a:pt x="613" y="2146"/>
                </a:lnTo>
                <a:lnTo>
                  <a:pt x="636" y="2135"/>
                </a:lnTo>
                <a:lnTo>
                  <a:pt x="654" y="2122"/>
                </a:lnTo>
                <a:lnTo>
                  <a:pt x="671" y="2106"/>
                </a:lnTo>
                <a:lnTo>
                  <a:pt x="682" y="2090"/>
                </a:lnTo>
                <a:lnTo>
                  <a:pt x="687" y="2081"/>
                </a:lnTo>
                <a:lnTo>
                  <a:pt x="691" y="2072"/>
                </a:lnTo>
                <a:lnTo>
                  <a:pt x="692" y="2063"/>
                </a:lnTo>
                <a:lnTo>
                  <a:pt x="692" y="2052"/>
                </a:lnTo>
                <a:lnTo>
                  <a:pt x="692" y="2052"/>
                </a:lnTo>
                <a:lnTo>
                  <a:pt x="691" y="2041"/>
                </a:lnTo>
                <a:lnTo>
                  <a:pt x="689" y="2030"/>
                </a:lnTo>
                <a:lnTo>
                  <a:pt x="683" y="2019"/>
                </a:lnTo>
                <a:lnTo>
                  <a:pt x="678" y="2009"/>
                </a:lnTo>
                <a:lnTo>
                  <a:pt x="662" y="1991"/>
                </a:lnTo>
                <a:lnTo>
                  <a:pt x="644" y="1972"/>
                </a:lnTo>
                <a:lnTo>
                  <a:pt x="626" y="1956"/>
                </a:lnTo>
                <a:lnTo>
                  <a:pt x="611" y="1936"/>
                </a:lnTo>
                <a:lnTo>
                  <a:pt x="604" y="1927"/>
                </a:lnTo>
                <a:lnTo>
                  <a:pt x="600" y="1917"/>
                </a:lnTo>
                <a:lnTo>
                  <a:pt x="597" y="1906"/>
                </a:lnTo>
                <a:lnTo>
                  <a:pt x="595" y="1893"/>
                </a:lnTo>
                <a:lnTo>
                  <a:pt x="595" y="1893"/>
                </a:lnTo>
                <a:lnTo>
                  <a:pt x="597" y="1882"/>
                </a:lnTo>
                <a:lnTo>
                  <a:pt x="599" y="1872"/>
                </a:lnTo>
                <a:lnTo>
                  <a:pt x="604" y="1861"/>
                </a:lnTo>
                <a:lnTo>
                  <a:pt x="609" y="1850"/>
                </a:lnTo>
                <a:lnTo>
                  <a:pt x="617" y="1841"/>
                </a:lnTo>
                <a:lnTo>
                  <a:pt x="624" y="1832"/>
                </a:lnTo>
                <a:lnTo>
                  <a:pt x="635" y="1823"/>
                </a:lnTo>
                <a:lnTo>
                  <a:pt x="645" y="1816"/>
                </a:lnTo>
                <a:lnTo>
                  <a:pt x="656" y="1808"/>
                </a:lnTo>
                <a:lnTo>
                  <a:pt x="671" y="1801"/>
                </a:lnTo>
                <a:lnTo>
                  <a:pt x="683" y="1796"/>
                </a:lnTo>
                <a:lnTo>
                  <a:pt x="700" y="1792"/>
                </a:lnTo>
                <a:lnTo>
                  <a:pt x="714" y="1787"/>
                </a:lnTo>
                <a:lnTo>
                  <a:pt x="730" y="1785"/>
                </a:lnTo>
                <a:lnTo>
                  <a:pt x="748" y="1783"/>
                </a:lnTo>
                <a:lnTo>
                  <a:pt x="764" y="1783"/>
                </a:lnTo>
                <a:lnTo>
                  <a:pt x="764" y="1783"/>
                </a:lnTo>
                <a:lnTo>
                  <a:pt x="783" y="1783"/>
                </a:lnTo>
                <a:lnTo>
                  <a:pt x="799" y="1785"/>
                </a:lnTo>
                <a:lnTo>
                  <a:pt x="815" y="1787"/>
                </a:lnTo>
                <a:lnTo>
                  <a:pt x="831" y="1792"/>
                </a:lnTo>
                <a:lnTo>
                  <a:pt x="846" y="1796"/>
                </a:lnTo>
                <a:lnTo>
                  <a:pt x="860" y="1801"/>
                </a:lnTo>
                <a:lnTo>
                  <a:pt x="873" y="1808"/>
                </a:lnTo>
                <a:lnTo>
                  <a:pt x="885" y="1816"/>
                </a:lnTo>
                <a:lnTo>
                  <a:pt x="896" y="1823"/>
                </a:lnTo>
                <a:lnTo>
                  <a:pt x="905" y="1832"/>
                </a:lnTo>
                <a:lnTo>
                  <a:pt x="914" y="1841"/>
                </a:lnTo>
                <a:lnTo>
                  <a:pt x="921" y="1850"/>
                </a:lnTo>
                <a:lnTo>
                  <a:pt x="927" y="1861"/>
                </a:lnTo>
                <a:lnTo>
                  <a:pt x="930" y="1872"/>
                </a:lnTo>
                <a:lnTo>
                  <a:pt x="934" y="1882"/>
                </a:lnTo>
                <a:lnTo>
                  <a:pt x="934" y="1893"/>
                </a:lnTo>
                <a:lnTo>
                  <a:pt x="934" y="1893"/>
                </a:lnTo>
                <a:lnTo>
                  <a:pt x="934" y="1906"/>
                </a:lnTo>
                <a:lnTo>
                  <a:pt x="930" y="1917"/>
                </a:lnTo>
                <a:lnTo>
                  <a:pt x="925" y="1927"/>
                </a:lnTo>
                <a:lnTo>
                  <a:pt x="920" y="1936"/>
                </a:lnTo>
                <a:lnTo>
                  <a:pt x="903" y="1956"/>
                </a:lnTo>
                <a:lnTo>
                  <a:pt x="885" y="1972"/>
                </a:lnTo>
                <a:lnTo>
                  <a:pt x="867" y="1991"/>
                </a:lnTo>
                <a:lnTo>
                  <a:pt x="853" y="2009"/>
                </a:lnTo>
                <a:lnTo>
                  <a:pt x="846" y="2019"/>
                </a:lnTo>
                <a:lnTo>
                  <a:pt x="842" y="2030"/>
                </a:lnTo>
                <a:lnTo>
                  <a:pt x="838" y="2041"/>
                </a:lnTo>
                <a:lnTo>
                  <a:pt x="837" y="2052"/>
                </a:lnTo>
                <a:lnTo>
                  <a:pt x="837" y="2052"/>
                </a:lnTo>
                <a:lnTo>
                  <a:pt x="838" y="2063"/>
                </a:lnTo>
                <a:lnTo>
                  <a:pt x="840" y="2072"/>
                </a:lnTo>
                <a:lnTo>
                  <a:pt x="844" y="2081"/>
                </a:lnTo>
                <a:lnTo>
                  <a:pt x="847" y="2090"/>
                </a:lnTo>
                <a:lnTo>
                  <a:pt x="858" y="2106"/>
                </a:lnTo>
                <a:lnTo>
                  <a:pt x="874" y="2122"/>
                </a:lnTo>
                <a:lnTo>
                  <a:pt x="894" y="2135"/>
                </a:lnTo>
                <a:lnTo>
                  <a:pt x="916" y="2146"/>
                </a:lnTo>
                <a:lnTo>
                  <a:pt x="941" y="2155"/>
                </a:lnTo>
                <a:lnTo>
                  <a:pt x="968" y="2160"/>
                </a:lnTo>
                <a:lnTo>
                  <a:pt x="2160" y="2160"/>
                </a:lnTo>
                <a:lnTo>
                  <a:pt x="2160" y="986"/>
                </a:lnTo>
                <a:lnTo>
                  <a:pt x="2160" y="986"/>
                </a:lnTo>
                <a:lnTo>
                  <a:pt x="2164" y="956"/>
                </a:lnTo>
                <a:lnTo>
                  <a:pt x="2173" y="929"/>
                </a:lnTo>
                <a:lnTo>
                  <a:pt x="2183" y="903"/>
                </a:lnTo>
                <a:lnTo>
                  <a:pt x="2196" y="882"/>
                </a:lnTo>
                <a:lnTo>
                  <a:pt x="2203" y="871"/>
                </a:lnTo>
                <a:lnTo>
                  <a:pt x="2212" y="864"/>
                </a:lnTo>
                <a:lnTo>
                  <a:pt x="2221" y="856"/>
                </a:lnTo>
                <a:lnTo>
                  <a:pt x="2230" y="849"/>
                </a:lnTo>
                <a:lnTo>
                  <a:pt x="2239" y="846"/>
                </a:lnTo>
                <a:lnTo>
                  <a:pt x="2250" y="842"/>
                </a:lnTo>
                <a:lnTo>
                  <a:pt x="2259" y="838"/>
                </a:lnTo>
                <a:lnTo>
                  <a:pt x="2270" y="838"/>
                </a:lnTo>
                <a:lnTo>
                  <a:pt x="2270" y="838"/>
                </a:lnTo>
                <a:lnTo>
                  <a:pt x="2283" y="840"/>
                </a:lnTo>
                <a:lnTo>
                  <a:pt x="2293" y="842"/>
                </a:lnTo>
                <a:lnTo>
                  <a:pt x="2304" y="847"/>
                </a:lnTo>
                <a:lnTo>
                  <a:pt x="2313" y="853"/>
                </a:lnTo>
                <a:lnTo>
                  <a:pt x="2331" y="869"/>
                </a:lnTo>
                <a:lnTo>
                  <a:pt x="2349" y="887"/>
                </a:lnTo>
                <a:lnTo>
                  <a:pt x="2367" y="905"/>
                </a:lnTo>
                <a:lnTo>
                  <a:pt x="2385" y="920"/>
                </a:lnTo>
                <a:lnTo>
                  <a:pt x="2394" y="927"/>
                </a:lnTo>
                <a:lnTo>
                  <a:pt x="2405" y="930"/>
                </a:lnTo>
                <a:lnTo>
                  <a:pt x="2416" y="934"/>
                </a:lnTo>
                <a:lnTo>
                  <a:pt x="2429" y="936"/>
                </a:lnTo>
                <a:lnTo>
                  <a:pt x="2429" y="936"/>
                </a:lnTo>
                <a:lnTo>
                  <a:pt x="2439" y="934"/>
                </a:lnTo>
                <a:lnTo>
                  <a:pt x="2450" y="932"/>
                </a:lnTo>
                <a:lnTo>
                  <a:pt x="2461" y="929"/>
                </a:lnTo>
                <a:lnTo>
                  <a:pt x="2472" y="921"/>
                </a:lnTo>
                <a:lnTo>
                  <a:pt x="2481" y="914"/>
                </a:lnTo>
                <a:lnTo>
                  <a:pt x="2490" y="907"/>
                </a:lnTo>
                <a:lnTo>
                  <a:pt x="2499" y="896"/>
                </a:lnTo>
                <a:lnTo>
                  <a:pt x="2508" y="885"/>
                </a:lnTo>
                <a:lnTo>
                  <a:pt x="2515" y="874"/>
                </a:lnTo>
                <a:lnTo>
                  <a:pt x="2521" y="860"/>
                </a:lnTo>
                <a:lnTo>
                  <a:pt x="2526" y="847"/>
                </a:lnTo>
                <a:lnTo>
                  <a:pt x="2531" y="831"/>
                </a:lnTo>
                <a:lnTo>
                  <a:pt x="2535" y="817"/>
                </a:lnTo>
                <a:lnTo>
                  <a:pt x="2537" y="801"/>
                </a:lnTo>
                <a:lnTo>
                  <a:pt x="2539" y="783"/>
                </a:lnTo>
                <a:lnTo>
                  <a:pt x="2540" y="766"/>
                </a:lnTo>
                <a:lnTo>
                  <a:pt x="2540" y="766"/>
                </a:lnTo>
                <a:lnTo>
                  <a:pt x="2539" y="748"/>
                </a:lnTo>
                <a:lnTo>
                  <a:pt x="2537" y="732"/>
                </a:lnTo>
                <a:lnTo>
                  <a:pt x="2535" y="716"/>
                </a:lnTo>
                <a:lnTo>
                  <a:pt x="2531" y="700"/>
                </a:lnTo>
                <a:lnTo>
                  <a:pt x="2526" y="685"/>
                </a:lnTo>
                <a:lnTo>
                  <a:pt x="2521" y="671"/>
                </a:lnTo>
                <a:lnTo>
                  <a:pt x="2515" y="658"/>
                </a:lnTo>
                <a:lnTo>
                  <a:pt x="2508" y="645"/>
                </a:lnTo>
                <a:lnTo>
                  <a:pt x="2499" y="635"/>
                </a:lnTo>
                <a:lnTo>
                  <a:pt x="2490" y="626"/>
                </a:lnTo>
                <a:lnTo>
                  <a:pt x="2481" y="617"/>
                </a:lnTo>
                <a:lnTo>
                  <a:pt x="2472" y="609"/>
                </a:lnTo>
                <a:lnTo>
                  <a:pt x="2461" y="604"/>
                </a:lnTo>
                <a:lnTo>
                  <a:pt x="2450" y="600"/>
                </a:lnTo>
                <a:lnTo>
                  <a:pt x="2439" y="597"/>
                </a:lnTo>
                <a:lnTo>
                  <a:pt x="2429" y="597"/>
                </a:lnTo>
                <a:lnTo>
                  <a:pt x="2429" y="597"/>
                </a:lnTo>
                <a:close/>
              </a:path>
            </a:pathLst>
          </a:custGeom>
          <a:solidFill>
            <a:srgbClr val="0c7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直接连接符 18"/>
          <p:cNvCxnSpPr/>
          <p:nvPr/>
        </p:nvCxnSpPr>
        <p:spPr>
          <a:xfrm>
            <a:off x="947520" y="2225520"/>
            <a:ext cx="2667240" cy="360"/>
          </a:xfrm>
          <a:prstGeom prst="straightConnector1">
            <a:avLst/>
          </a:prstGeom>
          <a:ln w="25400">
            <a:solidFill>
              <a:srgbClr val="0c77b7"/>
            </a:solidFill>
            <a:prstDash val="sysDash"/>
            <a:round/>
          </a:ln>
        </p:spPr>
      </p:cxnSp>
      <p:sp>
        <p:nvSpPr>
          <p:cNvPr id="74" name="椭圆 15"/>
          <p:cNvSpPr/>
          <p:nvPr/>
        </p:nvSpPr>
        <p:spPr>
          <a:xfrm>
            <a:off x="3557520" y="2165400"/>
            <a:ext cx="114120" cy="109080"/>
          </a:xfrm>
          <a:prstGeom prst="ellipse">
            <a:avLst/>
          </a:prstGeom>
          <a:solidFill>
            <a:srgbClr val="0c77b7"/>
          </a:solidFill>
          <a:ln w="381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75" name="椭圆 16"/>
          <p:cNvSpPr/>
          <p:nvPr/>
        </p:nvSpPr>
        <p:spPr>
          <a:xfrm>
            <a:off x="5594400" y="2165400"/>
            <a:ext cx="112320" cy="109080"/>
          </a:xfrm>
          <a:prstGeom prst="ellipse">
            <a:avLst/>
          </a:prstGeom>
          <a:solidFill>
            <a:srgbClr val="c29a5f"/>
          </a:solidFill>
          <a:ln w="381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cxnSp>
        <p:nvCxnSpPr>
          <p:cNvPr id="76" name="直接连接符 22"/>
          <p:cNvCxnSpPr>
            <a:stCxn id="75" idx="6"/>
          </p:cNvCxnSpPr>
          <p:nvPr/>
        </p:nvCxnSpPr>
        <p:spPr>
          <a:xfrm>
            <a:off x="5706720" y="2220840"/>
            <a:ext cx="2667600" cy="360"/>
          </a:xfrm>
          <a:prstGeom prst="straightConnector1">
            <a:avLst/>
          </a:prstGeom>
          <a:ln w="25400">
            <a:solidFill>
              <a:srgbClr val="c29a5f"/>
            </a:solidFill>
            <a:prstDash val="sysDash"/>
            <a:round/>
          </a:ln>
        </p:spPr>
      </p:cxnSp>
      <p:sp>
        <p:nvSpPr>
          <p:cNvPr id="77" name="椭圆 18"/>
          <p:cNvSpPr/>
          <p:nvPr/>
        </p:nvSpPr>
        <p:spPr>
          <a:xfrm>
            <a:off x="5567400" y="4071960"/>
            <a:ext cx="110880" cy="109080"/>
          </a:xfrm>
          <a:prstGeom prst="ellipse">
            <a:avLst/>
          </a:prstGeom>
          <a:solidFill>
            <a:srgbClr val="0c77b7"/>
          </a:solidFill>
          <a:ln w="381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cxnSp>
        <p:nvCxnSpPr>
          <p:cNvPr id="78" name="直接连接符 25"/>
          <p:cNvCxnSpPr>
            <a:stCxn id="77" idx="6"/>
          </p:cNvCxnSpPr>
          <p:nvPr/>
        </p:nvCxnSpPr>
        <p:spPr>
          <a:xfrm>
            <a:off x="5678280" y="4127400"/>
            <a:ext cx="2670480" cy="360"/>
          </a:xfrm>
          <a:prstGeom prst="straightConnector1">
            <a:avLst/>
          </a:prstGeom>
          <a:ln w="25400">
            <a:solidFill>
              <a:srgbClr val="0c77b7"/>
            </a:solidFill>
            <a:prstDash val="sysDash"/>
            <a:round/>
          </a:ln>
        </p:spPr>
      </p:cxnSp>
      <p:cxnSp>
        <p:nvCxnSpPr>
          <p:cNvPr id="79" name="直接连接符 27"/>
          <p:cNvCxnSpPr/>
          <p:nvPr/>
        </p:nvCxnSpPr>
        <p:spPr>
          <a:xfrm>
            <a:off x="928440" y="4151160"/>
            <a:ext cx="2667600" cy="360"/>
          </a:xfrm>
          <a:prstGeom prst="straightConnector1">
            <a:avLst/>
          </a:prstGeom>
          <a:ln w="25400">
            <a:solidFill>
              <a:srgbClr val="c29a5f"/>
            </a:solidFill>
            <a:prstDash val="sysDash"/>
            <a:round/>
          </a:ln>
        </p:spPr>
      </p:cxnSp>
      <p:sp>
        <p:nvSpPr>
          <p:cNvPr id="80" name="椭圆 21"/>
          <p:cNvSpPr/>
          <p:nvPr/>
        </p:nvSpPr>
        <p:spPr>
          <a:xfrm>
            <a:off x="3538440" y="4091040"/>
            <a:ext cx="114120" cy="109080"/>
          </a:xfrm>
          <a:prstGeom prst="ellipse">
            <a:avLst/>
          </a:prstGeom>
          <a:solidFill>
            <a:srgbClr val="c29a5f"/>
          </a:solidFill>
          <a:ln w="381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81" name="矩形 12"/>
          <p:cNvSpPr/>
          <p:nvPr/>
        </p:nvSpPr>
        <p:spPr>
          <a:xfrm>
            <a:off x="2211480" y="4286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3"/>
          <p:cNvSpPr/>
          <p:nvPr/>
        </p:nvSpPr>
        <p:spPr>
          <a:xfrm>
            <a:off x="6068880" y="4286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4"/>
          <p:cNvSpPr/>
          <p:nvPr/>
        </p:nvSpPr>
        <p:spPr>
          <a:xfrm>
            <a:off x="6140520" y="2286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5"/>
          <p:cNvSpPr/>
          <p:nvPr/>
        </p:nvSpPr>
        <p:spPr>
          <a:xfrm>
            <a:off x="2139840" y="2214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椭圆 2"/>
          <p:cNvSpPr/>
          <p:nvPr/>
        </p:nvSpPr>
        <p:spPr>
          <a:xfrm rot="10800000">
            <a:off x="6985440" y="3454560"/>
            <a:ext cx="921960" cy="753840"/>
          </a:xfrm>
          <a:custGeom>
            <a:avLst/>
            <a:gdLst>
              <a:gd name="textAreaLeft" fmla="*/ 0 w 921960"/>
              <a:gd name="textAreaRight" fmla="*/ 922320 w 921960"/>
              <a:gd name="textAreaTop" fmla="*/ 0 h 753840"/>
              <a:gd name="textAreaBottom" fmla="*/ 754200 h 753840"/>
            </a:gdLst>
            <a:ahLst/>
            <a:rect l="textAreaLeft" t="textAreaTop" r="textAreaRight" b="textAreaBottom"/>
            <a:pathLst>
              <a:path w="1281095" h="1045028">
                <a:moveTo>
                  <a:pt x="522514" y="0"/>
                </a:moveTo>
                <a:cubicBezTo>
                  <a:pt x="778529" y="0"/>
                  <a:pt x="991539" y="184122"/>
                  <a:pt x="1035434" y="427341"/>
                </a:cubicBezTo>
                <a:lnTo>
                  <a:pt x="1281095" y="530977"/>
                </a:lnTo>
                <a:lnTo>
                  <a:pt x="1036611" y="606006"/>
                </a:lnTo>
                <a:cubicBezTo>
                  <a:pt x="998262" y="855039"/>
                  <a:pt x="782576" y="1045028"/>
                  <a:pt x="522514" y="1045028"/>
                </a:cubicBezTo>
                <a:cubicBezTo>
                  <a:pt x="233937" y="1045028"/>
                  <a:pt x="0" y="811091"/>
                  <a:pt x="0" y="522514"/>
                </a:cubicBezTo>
                <a:cubicBezTo>
                  <a:pt x="0" y="233937"/>
                  <a:pt x="233937" y="0"/>
                  <a:pt x="522514" y="0"/>
                </a:cubicBezTo>
                <a:close/>
              </a:path>
            </a:pathLst>
          </a:custGeom>
          <a:solidFill>
            <a:srgbClr val="0c77b7"/>
          </a:solidFill>
          <a:ln>
            <a:noFill/>
          </a:ln>
          <a:effectLst>
            <a:outerShdw algn="t" blurRad="50760" dir="5400000" dist="38160" rotWithShape="0">
              <a:srgbClr val="000000">
                <a:alpha val="18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1" name="圆角矩形 65"/>
          <p:cNvSpPr/>
          <p:nvPr/>
        </p:nvSpPr>
        <p:spPr>
          <a:xfrm rot="10800000">
            <a:off x="4175280" y="3611880"/>
            <a:ext cx="2757240" cy="471240"/>
          </a:xfrm>
          <a:custGeom>
            <a:avLst/>
            <a:gdLst>
              <a:gd name="textAreaLeft" fmla="*/ 0 w 2757240"/>
              <a:gd name="textAreaRight" fmla="*/ 2757600 w 2757240"/>
              <a:gd name="textAreaTop" fmla="*/ 0 h 471240"/>
              <a:gd name="textAreaBottom" fmla="*/ 471600 h 471240"/>
            </a:gdLst>
            <a:ahLst/>
            <a:rect l="textAreaLeft" t="textAreaTop" r="textAreaRight" b="textAreaBottom"/>
            <a:pathLst>
              <a:path w="2880223" h="492200">
                <a:moveTo>
                  <a:pt x="2880223" y="492200"/>
                </a:moveTo>
                <a:lnTo>
                  <a:pt x="1621044" y="492200"/>
                </a:lnTo>
                <a:lnTo>
                  <a:pt x="1047424" y="492200"/>
                </a:lnTo>
                <a:lnTo>
                  <a:pt x="246100" y="492200"/>
                </a:lnTo>
                <a:cubicBezTo>
                  <a:pt x="110183" y="492200"/>
                  <a:pt x="0" y="382017"/>
                  <a:pt x="0" y="246100"/>
                </a:cubicBezTo>
                <a:cubicBezTo>
                  <a:pt x="0" y="110183"/>
                  <a:pt x="110183" y="0"/>
                  <a:pt x="246100" y="0"/>
                </a:cubicBezTo>
                <a:lnTo>
                  <a:pt x="1047424" y="0"/>
                </a:lnTo>
                <a:lnTo>
                  <a:pt x="1621044" y="0"/>
                </a:lnTo>
                <a:lnTo>
                  <a:pt x="2880223" y="0"/>
                </a:lnTo>
                <a:close/>
              </a:path>
            </a:pathLst>
          </a:custGeom>
          <a:solidFill>
            <a:srgbClr val="c29a5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92" name="椭圆 2"/>
          <p:cNvSpPr/>
          <p:nvPr/>
        </p:nvSpPr>
        <p:spPr>
          <a:xfrm>
            <a:off x="1373040" y="1806480"/>
            <a:ext cx="923400" cy="752040"/>
          </a:xfrm>
          <a:custGeom>
            <a:avLst/>
            <a:gdLst>
              <a:gd name="textAreaLeft" fmla="*/ 0 w 923400"/>
              <a:gd name="textAreaRight" fmla="*/ 923760 w 923400"/>
              <a:gd name="textAreaTop" fmla="*/ 0 h 752040"/>
              <a:gd name="textAreaBottom" fmla="*/ 752400 h 752040"/>
            </a:gdLst>
            <a:ahLst/>
            <a:rect l="textAreaLeft" t="textAreaTop" r="textAreaRight" b="textAreaBottom"/>
            <a:pathLst>
              <a:path w="1281095" h="1045028">
                <a:moveTo>
                  <a:pt x="522514" y="0"/>
                </a:moveTo>
                <a:cubicBezTo>
                  <a:pt x="778529" y="0"/>
                  <a:pt x="991539" y="184122"/>
                  <a:pt x="1035434" y="427341"/>
                </a:cubicBezTo>
                <a:lnTo>
                  <a:pt x="1281095" y="530977"/>
                </a:lnTo>
                <a:lnTo>
                  <a:pt x="1036611" y="606006"/>
                </a:lnTo>
                <a:cubicBezTo>
                  <a:pt x="998262" y="855039"/>
                  <a:pt x="782576" y="1045028"/>
                  <a:pt x="522514" y="1045028"/>
                </a:cubicBezTo>
                <a:cubicBezTo>
                  <a:pt x="233937" y="1045028"/>
                  <a:pt x="0" y="811091"/>
                  <a:pt x="0" y="522514"/>
                </a:cubicBezTo>
                <a:cubicBezTo>
                  <a:pt x="0" y="233937"/>
                  <a:pt x="233937" y="0"/>
                  <a:pt x="522514" y="0"/>
                </a:cubicBezTo>
                <a:close/>
              </a:path>
            </a:pathLst>
          </a:custGeom>
          <a:solidFill>
            <a:srgbClr val="0c77b7"/>
          </a:solidFill>
          <a:ln>
            <a:noFill/>
          </a:ln>
          <a:effectLst>
            <a:outerShdw algn="t" blurRad="50760" dir="5400000" dist="38160" rotWithShape="0">
              <a:srgbClr val="000000">
                <a:alpha val="18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3" name="圆角矩形 15"/>
          <p:cNvSpPr/>
          <p:nvPr/>
        </p:nvSpPr>
        <p:spPr>
          <a:xfrm>
            <a:off x="2362320" y="1940040"/>
            <a:ext cx="3530160" cy="471240"/>
          </a:xfrm>
          <a:custGeom>
            <a:avLst/>
            <a:gdLst>
              <a:gd name="textAreaLeft" fmla="*/ 0 w 3530160"/>
              <a:gd name="textAreaRight" fmla="*/ 3530520 w 3530160"/>
              <a:gd name="textAreaTop" fmla="*/ 0 h 471240"/>
              <a:gd name="textAreaBottom" fmla="*/ 471600 h 471240"/>
            </a:gdLst>
            <a:ahLst/>
            <a:rect l="textAreaLeft" t="textAreaTop" r="textAreaRight" b="textAreaBottom"/>
            <a:pathLst>
              <a:path w="3688747" h="492200">
                <a:moveTo>
                  <a:pt x="246100" y="0"/>
                </a:moveTo>
                <a:lnTo>
                  <a:pt x="1568164" y="0"/>
                </a:lnTo>
                <a:lnTo>
                  <a:pt x="1621044" y="0"/>
                </a:lnTo>
                <a:lnTo>
                  <a:pt x="3688747" y="0"/>
                </a:lnTo>
                <a:lnTo>
                  <a:pt x="3688747" y="492200"/>
                </a:lnTo>
                <a:lnTo>
                  <a:pt x="1621044" y="492200"/>
                </a:lnTo>
                <a:lnTo>
                  <a:pt x="1568164" y="492200"/>
                </a:lnTo>
                <a:lnTo>
                  <a:pt x="246100" y="492200"/>
                </a:lnTo>
                <a:cubicBezTo>
                  <a:pt x="110183" y="492200"/>
                  <a:pt x="0" y="382017"/>
                  <a:pt x="0" y="246100"/>
                </a:cubicBezTo>
                <a:cubicBezTo>
                  <a:pt x="0" y="110183"/>
                  <a:pt x="110183" y="0"/>
                  <a:pt x="246100" y="0"/>
                </a:cubicBezTo>
                <a:close/>
              </a:path>
            </a:pathLst>
          </a:custGeom>
          <a:solidFill>
            <a:srgbClr val="c29a5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94" name="椭圆 2"/>
          <p:cNvSpPr/>
          <p:nvPr/>
        </p:nvSpPr>
        <p:spPr>
          <a:xfrm>
            <a:off x="1373040" y="2924280"/>
            <a:ext cx="923400" cy="753840"/>
          </a:xfrm>
          <a:custGeom>
            <a:avLst/>
            <a:gdLst>
              <a:gd name="textAreaLeft" fmla="*/ 0 w 923400"/>
              <a:gd name="textAreaRight" fmla="*/ 923760 w 923400"/>
              <a:gd name="textAreaTop" fmla="*/ 0 h 753840"/>
              <a:gd name="textAreaBottom" fmla="*/ 754200 h 753840"/>
            </a:gdLst>
            <a:ahLst/>
            <a:rect l="textAreaLeft" t="textAreaTop" r="textAreaRight" b="textAreaBottom"/>
            <a:pathLst>
              <a:path w="1281095" h="1045028">
                <a:moveTo>
                  <a:pt x="522514" y="0"/>
                </a:moveTo>
                <a:cubicBezTo>
                  <a:pt x="778529" y="0"/>
                  <a:pt x="991539" y="184122"/>
                  <a:pt x="1035434" y="427341"/>
                </a:cubicBezTo>
                <a:lnTo>
                  <a:pt x="1281095" y="530977"/>
                </a:lnTo>
                <a:lnTo>
                  <a:pt x="1036611" y="606006"/>
                </a:lnTo>
                <a:cubicBezTo>
                  <a:pt x="998262" y="855039"/>
                  <a:pt x="782576" y="1045028"/>
                  <a:pt x="522514" y="1045028"/>
                </a:cubicBezTo>
                <a:cubicBezTo>
                  <a:pt x="233937" y="1045028"/>
                  <a:pt x="0" y="811091"/>
                  <a:pt x="0" y="522514"/>
                </a:cubicBezTo>
                <a:cubicBezTo>
                  <a:pt x="0" y="233937"/>
                  <a:pt x="233937" y="0"/>
                  <a:pt x="522514" y="0"/>
                </a:cubicBezTo>
                <a:close/>
              </a:path>
            </a:pathLst>
          </a:custGeom>
          <a:solidFill>
            <a:srgbClr val="0c77b7"/>
          </a:solidFill>
          <a:ln>
            <a:noFill/>
          </a:ln>
          <a:effectLst>
            <a:outerShdw algn="t" blurRad="50760" dir="5400000" dist="38160" rotWithShape="0">
              <a:srgbClr val="000000">
                <a:alpha val="18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5" name="圆角矩形 29"/>
          <p:cNvSpPr/>
          <p:nvPr/>
        </p:nvSpPr>
        <p:spPr>
          <a:xfrm>
            <a:off x="2352600" y="3054240"/>
            <a:ext cx="3530160" cy="471240"/>
          </a:xfrm>
          <a:custGeom>
            <a:avLst/>
            <a:gdLst>
              <a:gd name="textAreaLeft" fmla="*/ 0 w 3530160"/>
              <a:gd name="textAreaRight" fmla="*/ 3530520 w 3530160"/>
              <a:gd name="textAreaTop" fmla="*/ 0 h 471240"/>
              <a:gd name="textAreaBottom" fmla="*/ 471600 h 471240"/>
            </a:gdLst>
            <a:ahLst/>
            <a:rect l="textAreaLeft" t="textAreaTop" r="textAreaRight" b="textAreaBottom"/>
            <a:pathLst>
              <a:path w="3688747" h="492200">
                <a:moveTo>
                  <a:pt x="246100" y="0"/>
                </a:moveTo>
                <a:lnTo>
                  <a:pt x="1047422" y="0"/>
                </a:lnTo>
                <a:lnTo>
                  <a:pt x="1621044" y="0"/>
                </a:lnTo>
                <a:lnTo>
                  <a:pt x="3688747" y="0"/>
                </a:lnTo>
                <a:lnTo>
                  <a:pt x="3688747" y="492200"/>
                </a:lnTo>
                <a:lnTo>
                  <a:pt x="1621044" y="492200"/>
                </a:lnTo>
                <a:lnTo>
                  <a:pt x="1047422" y="492200"/>
                </a:lnTo>
                <a:lnTo>
                  <a:pt x="246100" y="492200"/>
                </a:lnTo>
                <a:cubicBezTo>
                  <a:pt x="110183" y="492200"/>
                  <a:pt x="0" y="382017"/>
                  <a:pt x="0" y="246100"/>
                </a:cubicBezTo>
                <a:cubicBezTo>
                  <a:pt x="0" y="110183"/>
                  <a:pt x="110183" y="0"/>
                  <a:pt x="246100" y="0"/>
                </a:cubicBezTo>
                <a:close/>
              </a:path>
            </a:pathLst>
          </a:custGeom>
          <a:solidFill>
            <a:srgbClr val="c29a5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96" name="椭圆 2"/>
          <p:cNvSpPr/>
          <p:nvPr/>
        </p:nvSpPr>
        <p:spPr>
          <a:xfrm>
            <a:off x="1373040" y="4041720"/>
            <a:ext cx="923400" cy="753840"/>
          </a:xfrm>
          <a:custGeom>
            <a:avLst/>
            <a:gdLst>
              <a:gd name="textAreaLeft" fmla="*/ 0 w 923400"/>
              <a:gd name="textAreaRight" fmla="*/ 923760 w 923400"/>
              <a:gd name="textAreaTop" fmla="*/ 0 h 753840"/>
              <a:gd name="textAreaBottom" fmla="*/ 754200 h 753840"/>
            </a:gdLst>
            <a:ahLst/>
            <a:rect l="textAreaLeft" t="textAreaTop" r="textAreaRight" b="textAreaBottom"/>
            <a:pathLst>
              <a:path w="1281095" h="1045028">
                <a:moveTo>
                  <a:pt x="522514" y="0"/>
                </a:moveTo>
                <a:cubicBezTo>
                  <a:pt x="778529" y="0"/>
                  <a:pt x="991539" y="184122"/>
                  <a:pt x="1035434" y="427341"/>
                </a:cubicBezTo>
                <a:lnTo>
                  <a:pt x="1281095" y="530977"/>
                </a:lnTo>
                <a:lnTo>
                  <a:pt x="1036611" y="606006"/>
                </a:lnTo>
                <a:cubicBezTo>
                  <a:pt x="998262" y="855039"/>
                  <a:pt x="782576" y="1045028"/>
                  <a:pt x="522514" y="1045028"/>
                </a:cubicBezTo>
                <a:cubicBezTo>
                  <a:pt x="233937" y="1045028"/>
                  <a:pt x="0" y="811091"/>
                  <a:pt x="0" y="522514"/>
                </a:cubicBezTo>
                <a:cubicBezTo>
                  <a:pt x="0" y="233937"/>
                  <a:pt x="233937" y="0"/>
                  <a:pt x="522514" y="0"/>
                </a:cubicBezTo>
                <a:close/>
              </a:path>
            </a:pathLst>
          </a:custGeom>
          <a:solidFill>
            <a:srgbClr val="0c77b7"/>
          </a:solidFill>
          <a:ln>
            <a:noFill/>
          </a:ln>
          <a:effectLst>
            <a:outerShdw algn="t" blurRad="50760" dir="5400000" dist="38160" rotWithShape="0">
              <a:srgbClr val="000000">
                <a:alpha val="18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7" name="圆角矩形 38"/>
          <p:cNvSpPr/>
          <p:nvPr/>
        </p:nvSpPr>
        <p:spPr>
          <a:xfrm>
            <a:off x="2340000" y="4168800"/>
            <a:ext cx="3530160" cy="471240"/>
          </a:xfrm>
          <a:custGeom>
            <a:avLst/>
            <a:gdLst>
              <a:gd name="textAreaLeft" fmla="*/ 0 w 3530160"/>
              <a:gd name="textAreaRight" fmla="*/ 3530520 w 3530160"/>
              <a:gd name="textAreaTop" fmla="*/ 0 h 471240"/>
              <a:gd name="textAreaBottom" fmla="*/ 471600 h 471240"/>
            </a:gdLst>
            <a:ahLst/>
            <a:rect l="textAreaLeft" t="textAreaTop" r="textAreaRight" b="textAreaBottom"/>
            <a:pathLst>
              <a:path w="3688747" h="492200">
                <a:moveTo>
                  <a:pt x="246100" y="0"/>
                </a:moveTo>
                <a:lnTo>
                  <a:pt x="1047422" y="0"/>
                </a:lnTo>
                <a:lnTo>
                  <a:pt x="1621044" y="0"/>
                </a:lnTo>
                <a:lnTo>
                  <a:pt x="3688747" y="0"/>
                </a:lnTo>
                <a:lnTo>
                  <a:pt x="3688747" y="492200"/>
                </a:lnTo>
                <a:lnTo>
                  <a:pt x="1621044" y="492200"/>
                </a:lnTo>
                <a:lnTo>
                  <a:pt x="1047422" y="492200"/>
                </a:lnTo>
                <a:lnTo>
                  <a:pt x="246100" y="492200"/>
                </a:lnTo>
                <a:cubicBezTo>
                  <a:pt x="110183" y="492200"/>
                  <a:pt x="0" y="382017"/>
                  <a:pt x="0" y="246100"/>
                </a:cubicBezTo>
                <a:cubicBezTo>
                  <a:pt x="0" y="110183"/>
                  <a:pt x="110183" y="0"/>
                  <a:pt x="246100" y="0"/>
                </a:cubicBezTo>
                <a:close/>
              </a:path>
            </a:pathLst>
          </a:custGeom>
          <a:solidFill>
            <a:srgbClr val="c29a5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98" name="椭圆 2"/>
          <p:cNvSpPr/>
          <p:nvPr/>
        </p:nvSpPr>
        <p:spPr>
          <a:xfrm rot="10800000">
            <a:off x="6985440" y="2340360"/>
            <a:ext cx="921960" cy="752040"/>
          </a:xfrm>
          <a:custGeom>
            <a:avLst/>
            <a:gdLst>
              <a:gd name="textAreaLeft" fmla="*/ 0 w 921960"/>
              <a:gd name="textAreaRight" fmla="*/ 922320 w 921960"/>
              <a:gd name="textAreaTop" fmla="*/ 0 h 752040"/>
              <a:gd name="textAreaBottom" fmla="*/ 752400 h 752040"/>
            </a:gdLst>
            <a:ahLst/>
            <a:rect l="textAreaLeft" t="textAreaTop" r="textAreaRight" b="textAreaBottom"/>
            <a:pathLst>
              <a:path w="1281095" h="1045028">
                <a:moveTo>
                  <a:pt x="522514" y="0"/>
                </a:moveTo>
                <a:cubicBezTo>
                  <a:pt x="778529" y="0"/>
                  <a:pt x="991539" y="184122"/>
                  <a:pt x="1035434" y="427341"/>
                </a:cubicBezTo>
                <a:lnTo>
                  <a:pt x="1281095" y="530977"/>
                </a:lnTo>
                <a:lnTo>
                  <a:pt x="1036611" y="606006"/>
                </a:lnTo>
                <a:cubicBezTo>
                  <a:pt x="998262" y="855039"/>
                  <a:pt x="782576" y="1045028"/>
                  <a:pt x="522514" y="1045028"/>
                </a:cubicBezTo>
                <a:cubicBezTo>
                  <a:pt x="233937" y="1045028"/>
                  <a:pt x="0" y="811091"/>
                  <a:pt x="0" y="522514"/>
                </a:cubicBezTo>
                <a:cubicBezTo>
                  <a:pt x="0" y="233937"/>
                  <a:pt x="233937" y="0"/>
                  <a:pt x="522514" y="0"/>
                </a:cubicBezTo>
                <a:close/>
              </a:path>
            </a:pathLst>
          </a:custGeom>
          <a:solidFill>
            <a:srgbClr val="0c77b7"/>
          </a:solidFill>
          <a:ln>
            <a:noFill/>
          </a:ln>
          <a:effectLst>
            <a:outerShdw algn="t" blurRad="50760" dir="5400000" dist="38160" rotWithShape="0">
              <a:srgbClr val="000000">
                <a:alpha val="18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9" name="圆角矩形 56"/>
          <p:cNvSpPr/>
          <p:nvPr/>
        </p:nvSpPr>
        <p:spPr>
          <a:xfrm rot="10800000">
            <a:off x="4175280" y="2497320"/>
            <a:ext cx="2757240" cy="471240"/>
          </a:xfrm>
          <a:custGeom>
            <a:avLst/>
            <a:gdLst>
              <a:gd name="textAreaLeft" fmla="*/ 0 w 2757240"/>
              <a:gd name="textAreaRight" fmla="*/ 2757600 w 2757240"/>
              <a:gd name="textAreaTop" fmla="*/ 0 h 471240"/>
              <a:gd name="textAreaBottom" fmla="*/ 471600 h 471240"/>
            </a:gdLst>
            <a:ahLst/>
            <a:rect l="textAreaLeft" t="textAreaTop" r="textAreaRight" b="textAreaBottom"/>
            <a:pathLst>
              <a:path w="2880222" h="492200">
                <a:moveTo>
                  <a:pt x="2880222" y="492200"/>
                </a:moveTo>
                <a:lnTo>
                  <a:pt x="1621044" y="492200"/>
                </a:lnTo>
                <a:lnTo>
                  <a:pt x="1047424" y="492200"/>
                </a:lnTo>
                <a:lnTo>
                  <a:pt x="246100" y="492200"/>
                </a:lnTo>
                <a:cubicBezTo>
                  <a:pt x="110183" y="492200"/>
                  <a:pt x="0" y="382017"/>
                  <a:pt x="0" y="246100"/>
                </a:cubicBezTo>
                <a:cubicBezTo>
                  <a:pt x="0" y="110183"/>
                  <a:pt x="110183" y="0"/>
                  <a:pt x="246100" y="0"/>
                </a:cubicBezTo>
                <a:lnTo>
                  <a:pt x="1047424" y="0"/>
                </a:lnTo>
                <a:lnTo>
                  <a:pt x="1621044" y="0"/>
                </a:lnTo>
                <a:lnTo>
                  <a:pt x="2880222" y="0"/>
                </a:lnTo>
                <a:close/>
              </a:path>
            </a:pathLst>
          </a:custGeom>
          <a:solidFill>
            <a:srgbClr val="c29a5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0" name="椭圆 2"/>
          <p:cNvSpPr/>
          <p:nvPr/>
        </p:nvSpPr>
        <p:spPr>
          <a:xfrm rot="10800000">
            <a:off x="6985440" y="4570920"/>
            <a:ext cx="921960" cy="752040"/>
          </a:xfrm>
          <a:custGeom>
            <a:avLst/>
            <a:gdLst>
              <a:gd name="textAreaLeft" fmla="*/ 0 w 921960"/>
              <a:gd name="textAreaRight" fmla="*/ 922320 w 921960"/>
              <a:gd name="textAreaTop" fmla="*/ 0 h 752040"/>
              <a:gd name="textAreaBottom" fmla="*/ 752400 h 752040"/>
            </a:gdLst>
            <a:ahLst/>
            <a:rect l="textAreaLeft" t="textAreaTop" r="textAreaRight" b="textAreaBottom"/>
            <a:pathLst>
              <a:path w="1281095" h="1045028">
                <a:moveTo>
                  <a:pt x="522514" y="0"/>
                </a:moveTo>
                <a:cubicBezTo>
                  <a:pt x="778529" y="0"/>
                  <a:pt x="991539" y="184122"/>
                  <a:pt x="1035434" y="427341"/>
                </a:cubicBezTo>
                <a:lnTo>
                  <a:pt x="1281095" y="530977"/>
                </a:lnTo>
                <a:lnTo>
                  <a:pt x="1036611" y="606006"/>
                </a:lnTo>
                <a:cubicBezTo>
                  <a:pt x="998262" y="855039"/>
                  <a:pt x="782576" y="1045028"/>
                  <a:pt x="522514" y="1045028"/>
                </a:cubicBezTo>
                <a:cubicBezTo>
                  <a:pt x="233937" y="1045028"/>
                  <a:pt x="0" y="811091"/>
                  <a:pt x="0" y="522514"/>
                </a:cubicBezTo>
                <a:cubicBezTo>
                  <a:pt x="0" y="233937"/>
                  <a:pt x="233937" y="0"/>
                  <a:pt x="522514" y="0"/>
                </a:cubicBezTo>
                <a:close/>
              </a:path>
            </a:pathLst>
          </a:custGeom>
          <a:solidFill>
            <a:srgbClr val="0c77b7"/>
          </a:solidFill>
          <a:ln>
            <a:noFill/>
          </a:ln>
          <a:effectLst>
            <a:outerShdw algn="t" blurRad="50760" dir="5400000" dist="38160" rotWithShape="0">
              <a:srgbClr val="000000">
                <a:alpha val="18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1" name="圆角矩形 74"/>
          <p:cNvSpPr/>
          <p:nvPr/>
        </p:nvSpPr>
        <p:spPr>
          <a:xfrm rot="10800000">
            <a:off x="4175280" y="4726080"/>
            <a:ext cx="2757240" cy="471240"/>
          </a:xfrm>
          <a:custGeom>
            <a:avLst/>
            <a:gdLst>
              <a:gd name="textAreaLeft" fmla="*/ 0 w 2757240"/>
              <a:gd name="textAreaRight" fmla="*/ 2757600 w 2757240"/>
              <a:gd name="textAreaTop" fmla="*/ 0 h 471240"/>
              <a:gd name="textAreaBottom" fmla="*/ 471600 h 471240"/>
            </a:gdLst>
            <a:ahLst/>
            <a:rect l="textAreaLeft" t="textAreaTop" r="textAreaRight" b="textAreaBottom"/>
            <a:pathLst>
              <a:path w="2880223" h="492200">
                <a:moveTo>
                  <a:pt x="2880223" y="492200"/>
                </a:moveTo>
                <a:lnTo>
                  <a:pt x="1621043" y="492200"/>
                </a:lnTo>
                <a:lnTo>
                  <a:pt x="1047423" y="492200"/>
                </a:lnTo>
                <a:lnTo>
                  <a:pt x="246100" y="492200"/>
                </a:lnTo>
                <a:cubicBezTo>
                  <a:pt x="110183" y="492200"/>
                  <a:pt x="0" y="382017"/>
                  <a:pt x="0" y="246100"/>
                </a:cubicBezTo>
                <a:cubicBezTo>
                  <a:pt x="0" y="110183"/>
                  <a:pt x="110183" y="0"/>
                  <a:pt x="246100" y="0"/>
                </a:cubicBezTo>
                <a:lnTo>
                  <a:pt x="1047423" y="0"/>
                </a:lnTo>
                <a:lnTo>
                  <a:pt x="1621043" y="0"/>
                </a:lnTo>
                <a:lnTo>
                  <a:pt x="2880223" y="0"/>
                </a:lnTo>
                <a:close/>
              </a:path>
            </a:pathLst>
          </a:custGeom>
          <a:solidFill>
            <a:srgbClr val="c29a5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2" name="空心弧 24"/>
          <p:cNvSpPr/>
          <p:nvPr/>
        </p:nvSpPr>
        <p:spPr>
          <a:xfrm rot="16200000">
            <a:off x="1265400" y="1708200"/>
            <a:ext cx="947520" cy="947520"/>
          </a:xfrm>
          <a:prstGeom prst="blockArc">
            <a:avLst>
              <a:gd name="adj1" fmla="val 10800000"/>
              <a:gd name="adj2" fmla="val 21538784"/>
              <a:gd name="adj3" fmla="val 4631"/>
            </a:avLst>
          </a:prstGeom>
          <a:solidFill>
            <a:srgbClr val="0c77b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3" name="空心弧 25"/>
          <p:cNvSpPr/>
          <p:nvPr/>
        </p:nvSpPr>
        <p:spPr>
          <a:xfrm rot="16200000">
            <a:off x="1265400" y="2826000"/>
            <a:ext cx="947520" cy="947520"/>
          </a:xfrm>
          <a:prstGeom prst="blockArc">
            <a:avLst>
              <a:gd name="adj1" fmla="val 10800000"/>
              <a:gd name="adj2" fmla="val 21538784"/>
              <a:gd name="adj3" fmla="val 4631"/>
            </a:avLst>
          </a:prstGeom>
          <a:solidFill>
            <a:srgbClr val="0c77b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4" name="空心弧 26"/>
          <p:cNvSpPr/>
          <p:nvPr/>
        </p:nvSpPr>
        <p:spPr>
          <a:xfrm rot="16200000">
            <a:off x="1265400" y="3948480"/>
            <a:ext cx="947520" cy="947520"/>
          </a:xfrm>
          <a:prstGeom prst="blockArc">
            <a:avLst>
              <a:gd name="adj1" fmla="val 10800000"/>
              <a:gd name="adj2" fmla="val 21538784"/>
              <a:gd name="adj3" fmla="val 4631"/>
            </a:avLst>
          </a:prstGeom>
          <a:solidFill>
            <a:srgbClr val="0c77b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grpSp>
        <p:nvGrpSpPr>
          <p:cNvPr id="105" name="组合 124"/>
          <p:cNvGrpSpPr/>
          <p:nvPr/>
        </p:nvGrpSpPr>
        <p:grpSpPr>
          <a:xfrm>
            <a:off x="7074000" y="2252520"/>
            <a:ext cx="947520" cy="3174840"/>
            <a:chOff x="7074000" y="2252520"/>
            <a:chExt cx="947520" cy="3174840"/>
          </a:xfrm>
        </p:grpSpPr>
        <p:sp>
          <p:nvSpPr>
            <p:cNvPr id="106" name="空心弧 28"/>
            <p:cNvSpPr/>
            <p:nvPr/>
          </p:nvSpPr>
          <p:spPr>
            <a:xfrm rot="5400000">
              <a:off x="7074000" y="4479840"/>
              <a:ext cx="947520" cy="947520"/>
            </a:xfrm>
            <a:prstGeom prst="blockArc">
              <a:avLst>
                <a:gd name="adj1" fmla="val 10800000"/>
                <a:gd name="adj2" fmla="val 21538784"/>
                <a:gd name="adj3" fmla="val 4631"/>
              </a:avLst>
            </a:prstGeom>
            <a:solidFill>
              <a:srgbClr val="0c77b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07" name="空心弧 29"/>
            <p:cNvSpPr/>
            <p:nvPr/>
          </p:nvSpPr>
          <p:spPr>
            <a:xfrm rot="5400000">
              <a:off x="7074720" y="3358080"/>
              <a:ext cx="945720" cy="947520"/>
            </a:xfrm>
            <a:prstGeom prst="blockArc">
              <a:avLst>
                <a:gd name="adj1" fmla="val 10800000"/>
                <a:gd name="adj2" fmla="val 21538784"/>
                <a:gd name="adj3" fmla="val 4631"/>
              </a:avLst>
            </a:prstGeom>
            <a:solidFill>
              <a:srgbClr val="0c77b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08" name="空心弧 30"/>
            <p:cNvSpPr/>
            <p:nvPr/>
          </p:nvSpPr>
          <p:spPr>
            <a:xfrm rot="5400000">
              <a:off x="7074000" y="2252520"/>
              <a:ext cx="947520" cy="947520"/>
            </a:xfrm>
            <a:prstGeom prst="blockArc">
              <a:avLst>
                <a:gd name="adj1" fmla="val 10800000"/>
                <a:gd name="adj2" fmla="val 21538784"/>
                <a:gd name="adj3" fmla="val 4631"/>
              </a:avLst>
            </a:prstGeom>
            <a:solidFill>
              <a:srgbClr val="0c77b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09" name="椭圆 31"/>
          <p:cNvSpPr/>
          <p:nvPr/>
        </p:nvSpPr>
        <p:spPr>
          <a:xfrm>
            <a:off x="2417760" y="2065320"/>
            <a:ext cx="180720" cy="18072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outerShdw algn="t" blurRad="50760" dir="5400000" dist="38160" rotWithShape="0">
              <a:srgbClr val="000000">
                <a:alpha val="18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0" name="任意多边形 32"/>
          <p:cNvSpPr/>
          <p:nvPr/>
        </p:nvSpPr>
        <p:spPr>
          <a:xfrm>
            <a:off x="2487600" y="2116080"/>
            <a:ext cx="41040" cy="78840"/>
          </a:xfrm>
          <a:custGeom>
            <a:avLst/>
            <a:gdLst>
              <a:gd name="textAreaLeft" fmla="*/ 0 w 41040"/>
              <a:gd name="textAreaRight" fmla="*/ 41400 w 41040"/>
              <a:gd name="textAreaTop" fmla="*/ 0 h 78840"/>
              <a:gd name="textAreaBottom" fmla="*/ 79200 h 78840"/>
            </a:gdLst>
            <a:ahLst/>
            <a:rect l="textAreaLeft" t="textAreaTop" r="textAreaRight" b="textAreaBottom"/>
            <a:pathLst>
              <a:path w="857250" h="1571625">
                <a:moveTo>
                  <a:pt x="66675" y="0"/>
                </a:moveTo>
                <a:lnTo>
                  <a:pt x="857250" y="790575"/>
                </a:lnTo>
                <a:lnTo>
                  <a:pt x="0" y="1571625"/>
                </a:lnTo>
              </a:path>
            </a:pathLst>
          </a:custGeom>
          <a:solidFill>
            <a:srgbClr val="c29a5f"/>
          </a:solidFill>
          <a:ln>
            <a:noFill/>
          </a:ln>
          <a:effectLst>
            <a:outerShdw algn="t" blurRad="50760" dir="5400000" dist="38160" rotWithShape="0">
              <a:srgbClr val="000000">
                <a:alpha val="18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1" name="椭圆 33"/>
          <p:cNvSpPr/>
          <p:nvPr/>
        </p:nvSpPr>
        <p:spPr>
          <a:xfrm>
            <a:off x="2417760" y="3195720"/>
            <a:ext cx="180720" cy="18072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outerShdw algn="t" blurRad="50760" dir="5400000" dist="38160" rotWithShape="0">
              <a:srgbClr val="000000">
                <a:alpha val="18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2" name="任意多边形 34"/>
          <p:cNvSpPr/>
          <p:nvPr/>
        </p:nvSpPr>
        <p:spPr>
          <a:xfrm>
            <a:off x="2487600" y="3246480"/>
            <a:ext cx="41040" cy="78840"/>
          </a:xfrm>
          <a:custGeom>
            <a:avLst/>
            <a:gdLst>
              <a:gd name="textAreaLeft" fmla="*/ 0 w 41040"/>
              <a:gd name="textAreaRight" fmla="*/ 41400 w 41040"/>
              <a:gd name="textAreaTop" fmla="*/ 0 h 78840"/>
              <a:gd name="textAreaBottom" fmla="*/ 79200 h 78840"/>
            </a:gdLst>
            <a:ahLst/>
            <a:rect l="textAreaLeft" t="textAreaTop" r="textAreaRight" b="textAreaBottom"/>
            <a:pathLst>
              <a:path w="857250" h="1571625">
                <a:moveTo>
                  <a:pt x="66675" y="0"/>
                </a:moveTo>
                <a:lnTo>
                  <a:pt x="857250" y="790575"/>
                </a:lnTo>
                <a:lnTo>
                  <a:pt x="0" y="1571625"/>
                </a:lnTo>
              </a:path>
            </a:pathLst>
          </a:custGeom>
          <a:solidFill>
            <a:srgbClr val="c29a5f"/>
          </a:solidFill>
          <a:ln>
            <a:noFill/>
          </a:ln>
          <a:effectLst>
            <a:outerShdw algn="t" blurRad="50760" dir="5400000" dist="38160" rotWithShape="0">
              <a:srgbClr val="000000">
                <a:alpha val="18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3" name="椭圆 35"/>
          <p:cNvSpPr/>
          <p:nvPr/>
        </p:nvSpPr>
        <p:spPr>
          <a:xfrm>
            <a:off x="2417760" y="4313160"/>
            <a:ext cx="180720" cy="18072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outerShdw algn="t" blurRad="50760" dir="5400000" dist="38160" rotWithShape="0">
              <a:srgbClr val="000000">
                <a:alpha val="18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4" name="任意多边形 36"/>
          <p:cNvSpPr/>
          <p:nvPr/>
        </p:nvSpPr>
        <p:spPr>
          <a:xfrm>
            <a:off x="2487600" y="4363920"/>
            <a:ext cx="41040" cy="78840"/>
          </a:xfrm>
          <a:custGeom>
            <a:avLst/>
            <a:gdLst>
              <a:gd name="textAreaLeft" fmla="*/ 0 w 41040"/>
              <a:gd name="textAreaRight" fmla="*/ 41400 w 41040"/>
              <a:gd name="textAreaTop" fmla="*/ 0 h 78840"/>
              <a:gd name="textAreaBottom" fmla="*/ 79200 h 78840"/>
            </a:gdLst>
            <a:ahLst/>
            <a:rect l="textAreaLeft" t="textAreaTop" r="textAreaRight" b="textAreaBottom"/>
            <a:pathLst>
              <a:path w="857250" h="1571625">
                <a:moveTo>
                  <a:pt x="66675" y="0"/>
                </a:moveTo>
                <a:lnTo>
                  <a:pt x="857250" y="790575"/>
                </a:lnTo>
                <a:lnTo>
                  <a:pt x="0" y="1571625"/>
                </a:lnTo>
              </a:path>
            </a:pathLst>
          </a:custGeom>
          <a:solidFill>
            <a:srgbClr val="c29a5f"/>
          </a:solidFill>
          <a:ln>
            <a:noFill/>
          </a:ln>
          <a:effectLst>
            <a:outerShdw algn="t" blurRad="50760" dir="5400000" dist="38160" rotWithShape="0">
              <a:srgbClr val="000000">
                <a:alpha val="18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5" name="椭圆 37"/>
          <p:cNvSpPr/>
          <p:nvPr/>
        </p:nvSpPr>
        <p:spPr>
          <a:xfrm rot="10800000">
            <a:off x="6648840" y="4866120"/>
            <a:ext cx="178920" cy="18072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outerShdw algn="t" blurRad="50760" dir="5400000" dist="38160" rotWithShape="0">
              <a:srgbClr val="000000">
                <a:alpha val="18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6" name="任意多边形 38"/>
          <p:cNvSpPr/>
          <p:nvPr/>
        </p:nvSpPr>
        <p:spPr>
          <a:xfrm rot="10800000">
            <a:off x="6717240" y="4916880"/>
            <a:ext cx="42480" cy="78840"/>
          </a:xfrm>
          <a:custGeom>
            <a:avLst/>
            <a:gdLst>
              <a:gd name="textAreaLeft" fmla="*/ 0 w 42480"/>
              <a:gd name="textAreaRight" fmla="*/ 42840 w 42480"/>
              <a:gd name="textAreaTop" fmla="*/ 0 h 78840"/>
              <a:gd name="textAreaBottom" fmla="*/ 79200 h 78840"/>
            </a:gdLst>
            <a:ahLst/>
            <a:rect l="textAreaLeft" t="textAreaTop" r="textAreaRight" b="textAreaBottom"/>
            <a:pathLst>
              <a:path w="857250" h="1571625">
                <a:moveTo>
                  <a:pt x="66675" y="0"/>
                </a:moveTo>
                <a:lnTo>
                  <a:pt x="857250" y="790575"/>
                </a:lnTo>
                <a:lnTo>
                  <a:pt x="0" y="1571625"/>
                </a:lnTo>
              </a:path>
            </a:pathLst>
          </a:custGeom>
          <a:solidFill>
            <a:srgbClr val="c29a5f"/>
          </a:solidFill>
          <a:ln>
            <a:noFill/>
          </a:ln>
          <a:effectLst>
            <a:outerShdw algn="t" blurRad="50760" dir="5400000" dist="38160" rotWithShape="0">
              <a:srgbClr val="000000">
                <a:alpha val="18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7" name="椭圆 39"/>
          <p:cNvSpPr/>
          <p:nvPr/>
        </p:nvSpPr>
        <p:spPr>
          <a:xfrm rot="10800000">
            <a:off x="6648840" y="3735720"/>
            <a:ext cx="178920" cy="18072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outerShdw algn="t" blurRad="50760" dir="5400000" dist="38160" rotWithShape="0">
              <a:srgbClr val="000000">
                <a:alpha val="18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8" name="任意多边形 40"/>
          <p:cNvSpPr/>
          <p:nvPr/>
        </p:nvSpPr>
        <p:spPr>
          <a:xfrm rot="10800000">
            <a:off x="6717240" y="3786840"/>
            <a:ext cx="42480" cy="78840"/>
          </a:xfrm>
          <a:custGeom>
            <a:avLst/>
            <a:gdLst>
              <a:gd name="textAreaLeft" fmla="*/ 0 w 42480"/>
              <a:gd name="textAreaRight" fmla="*/ 42840 w 42480"/>
              <a:gd name="textAreaTop" fmla="*/ 0 h 78840"/>
              <a:gd name="textAreaBottom" fmla="*/ 79200 h 78840"/>
            </a:gdLst>
            <a:ahLst/>
            <a:rect l="textAreaLeft" t="textAreaTop" r="textAreaRight" b="textAreaBottom"/>
            <a:pathLst>
              <a:path w="857250" h="1571625">
                <a:moveTo>
                  <a:pt x="66675" y="0"/>
                </a:moveTo>
                <a:lnTo>
                  <a:pt x="857250" y="790575"/>
                </a:lnTo>
                <a:lnTo>
                  <a:pt x="0" y="1571625"/>
                </a:lnTo>
              </a:path>
            </a:pathLst>
          </a:custGeom>
          <a:solidFill>
            <a:srgbClr val="c29a5f"/>
          </a:solidFill>
          <a:ln>
            <a:noFill/>
          </a:ln>
          <a:effectLst>
            <a:outerShdw algn="t" blurRad="50760" dir="5400000" dist="38160" rotWithShape="0">
              <a:srgbClr val="000000">
                <a:alpha val="18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9" name="椭圆 41"/>
          <p:cNvSpPr/>
          <p:nvPr/>
        </p:nvSpPr>
        <p:spPr>
          <a:xfrm rot="10800000">
            <a:off x="6648840" y="2617920"/>
            <a:ext cx="178920" cy="18072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outerShdw algn="t" blurRad="50760" dir="5400000" dist="38160" rotWithShape="0">
              <a:srgbClr val="000000">
                <a:alpha val="18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0" name="任意多边形 42"/>
          <p:cNvSpPr/>
          <p:nvPr/>
        </p:nvSpPr>
        <p:spPr>
          <a:xfrm rot="10800000">
            <a:off x="6717240" y="2669040"/>
            <a:ext cx="42480" cy="78840"/>
          </a:xfrm>
          <a:custGeom>
            <a:avLst/>
            <a:gdLst>
              <a:gd name="textAreaLeft" fmla="*/ 0 w 42480"/>
              <a:gd name="textAreaRight" fmla="*/ 42840 w 42480"/>
              <a:gd name="textAreaTop" fmla="*/ 0 h 78840"/>
              <a:gd name="textAreaBottom" fmla="*/ 79200 h 78840"/>
            </a:gdLst>
            <a:ahLst/>
            <a:rect l="textAreaLeft" t="textAreaTop" r="textAreaRight" b="textAreaBottom"/>
            <a:pathLst>
              <a:path w="857250" h="1571625">
                <a:moveTo>
                  <a:pt x="66675" y="0"/>
                </a:moveTo>
                <a:lnTo>
                  <a:pt x="857250" y="790575"/>
                </a:lnTo>
                <a:lnTo>
                  <a:pt x="0" y="1571625"/>
                </a:lnTo>
              </a:path>
            </a:pathLst>
          </a:custGeom>
          <a:solidFill>
            <a:srgbClr val="c29a5f"/>
          </a:solidFill>
          <a:ln>
            <a:noFill/>
          </a:ln>
          <a:effectLst>
            <a:outerShdw algn="t" blurRad="50760" dir="5400000" dist="38160" rotWithShape="0">
              <a:srgbClr val="000000">
                <a:alpha val="18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1" name="矩形 12"/>
          <p:cNvSpPr/>
          <p:nvPr/>
        </p:nvSpPr>
        <p:spPr>
          <a:xfrm>
            <a:off x="4711680" y="3695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3"/>
          <p:cNvSpPr/>
          <p:nvPr/>
        </p:nvSpPr>
        <p:spPr>
          <a:xfrm>
            <a:off x="3211560" y="42084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4"/>
          <p:cNvSpPr/>
          <p:nvPr/>
        </p:nvSpPr>
        <p:spPr>
          <a:xfrm>
            <a:off x="4997520" y="4780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5"/>
          <p:cNvSpPr/>
          <p:nvPr/>
        </p:nvSpPr>
        <p:spPr>
          <a:xfrm>
            <a:off x="3354480" y="30654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5"/>
          <p:cNvSpPr/>
          <p:nvPr/>
        </p:nvSpPr>
        <p:spPr>
          <a:xfrm>
            <a:off x="4783320" y="25653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5"/>
          <p:cNvSpPr/>
          <p:nvPr/>
        </p:nvSpPr>
        <p:spPr>
          <a:xfrm>
            <a:off x="3354480" y="1994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椭圆 20"/>
          <p:cNvSpPr/>
          <p:nvPr/>
        </p:nvSpPr>
        <p:spPr>
          <a:xfrm>
            <a:off x="2428920" y="785880"/>
            <a:ext cx="4777920" cy="4777920"/>
          </a:xfrm>
          <a:prstGeom prst="ellipse">
            <a:avLst/>
          </a:prstGeom>
          <a:noFill/>
          <a:ln w="57150">
            <a:solidFill>
              <a:srgbClr val="0c77b7"/>
            </a:solidFill>
            <a:miter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3" name="饼形 21"/>
          <p:cNvSpPr/>
          <p:nvPr/>
        </p:nvSpPr>
        <p:spPr>
          <a:xfrm rot="14176800">
            <a:off x="2469960" y="903600"/>
            <a:ext cx="4669920" cy="4669920"/>
          </a:xfrm>
          <a:prstGeom prst="pie">
            <a:avLst>
              <a:gd name="adj1" fmla="val 0"/>
              <a:gd name="adj2" fmla="val 4105722"/>
            </a:avLst>
          </a:prstGeom>
          <a:solidFill>
            <a:srgbClr val="0c77b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4" name="饼形 22"/>
          <p:cNvSpPr/>
          <p:nvPr/>
        </p:nvSpPr>
        <p:spPr>
          <a:xfrm rot="20581800">
            <a:off x="2552760" y="969480"/>
            <a:ext cx="4538160" cy="4538160"/>
          </a:xfrm>
          <a:prstGeom prst="pie">
            <a:avLst>
              <a:gd name="adj1" fmla="val 21006379"/>
              <a:gd name="adj2" fmla="val 2956049"/>
            </a:avLst>
          </a:prstGeom>
          <a:solidFill>
            <a:srgbClr val="c29a5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5" name="饼形 23"/>
          <p:cNvSpPr/>
          <p:nvPr/>
        </p:nvSpPr>
        <p:spPr>
          <a:xfrm rot="3190200">
            <a:off x="2575080" y="974520"/>
            <a:ext cx="4487400" cy="4487400"/>
          </a:xfrm>
          <a:prstGeom prst="pie">
            <a:avLst>
              <a:gd name="adj1" fmla="val 0"/>
              <a:gd name="adj2" fmla="val 4105722"/>
            </a:avLst>
          </a:prstGeom>
          <a:solidFill>
            <a:srgbClr val="0c77b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6" name="饼形 24"/>
          <p:cNvSpPr/>
          <p:nvPr/>
        </p:nvSpPr>
        <p:spPr>
          <a:xfrm rot="8505600">
            <a:off x="2562480" y="919080"/>
            <a:ext cx="4524120" cy="4527360"/>
          </a:xfrm>
          <a:prstGeom prst="pie">
            <a:avLst>
              <a:gd name="adj1" fmla="val 0"/>
              <a:gd name="adj2" fmla="val 4105722"/>
            </a:avLst>
          </a:prstGeom>
          <a:solidFill>
            <a:srgbClr val="c29a5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2120" bIns="-42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7" name="椭圆 25"/>
          <p:cNvSpPr/>
          <p:nvPr/>
        </p:nvSpPr>
        <p:spPr>
          <a:xfrm>
            <a:off x="4044960" y="2428920"/>
            <a:ext cx="1545840" cy="1545840"/>
          </a:xfrm>
          <a:prstGeom prst="ellipse">
            <a:avLst/>
          </a:prstGeom>
          <a:solidFill>
            <a:srgbClr val="c29a5f"/>
          </a:solidFill>
          <a:ln w="127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8" name="矩形 12"/>
          <p:cNvSpPr/>
          <p:nvPr/>
        </p:nvSpPr>
        <p:spPr>
          <a:xfrm>
            <a:off x="4427640" y="4572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3"/>
          <p:cNvSpPr/>
          <p:nvPr/>
        </p:nvSpPr>
        <p:spPr>
          <a:xfrm>
            <a:off x="578340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4"/>
          <p:cNvSpPr/>
          <p:nvPr/>
        </p:nvSpPr>
        <p:spPr>
          <a:xfrm>
            <a:off x="2854440" y="31305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5"/>
          <p:cNvSpPr/>
          <p:nvPr/>
        </p:nvSpPr>
        <p:spPr>
          <a:xfrm>
            <a:off x="4284720" y="1500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圆角矩形 6"/>
          <p:cNvSpPr/>
          <p:nvPr/>
        </p:nvSpPr>
        <p:spPr>
          <a:xfrm>
            <a:off x="1246320" y="3195720"/>
            <a:ext cx="6552720" cy="2808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9d9d9"/>
              </a:gs>
              <a:gs pos="100000">
                <a:srgbClr val="f2f2f2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grpSp>
        <p:nvGrpSpPr>
          <p:cNvPr id="149" name="组合 11"/>
          <p:cNvGrpSpPr/>
          <p:nvPr/>
        </p:nvGrpSpPr>
        <p:grpSpPr>
          <a:xfrm>
            <a:off x="2577960" y="2940120"/>
            <a:ext cx="791640" cy="791640"/>
            <a:chOff x="2577960" y="2940120"/>
            <a:chExt cx="791640" cy="791640"/>
          </a:xfrm>
        </p:grpSpPr>
        <p:sp>
          <p:nvSpPr>
            <p:cNvPr id="150" name="椭圆 8"/>
            <p:cNvSpPr/>
            <p:nvPr/>
          </p:nvSpPr>
          <p:spPr>
            <a:xfrm>
              <a:off x="2577960" y="2940120"/>
              <a:ext cx="791640" cy="791640"/>
            </a:xfrm>
            <a:prstGeom prst="ellipse">
              <a:avLst/>
            </a:prstGeom>
            <a:solidFill>
              <a:srgbClr val="0c77b7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51" name="椭圆 9"/>
            <p:cNvSpPr/>
            <p:nvPr/>
          </p:nvSpPr>
          <p:spPr>
            <a:xfrm>
              <a:off x="2614680" y="2976840"/>
              <a:ext cx="718920" cy="718920"/>
            </a:xfrm>
            <a:prstGeom prst="ellipse">
              <a:avLst/>
            </a:prstGeom>
            <a:solidFill>
              <a:srgbClr val="0c77b7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152" name="组合 14"/>
          <p:cNvGrpSpPr/>
          <p:nvPr/>
        </p:nvGrpSpPr>
        <p:grpSpPr>
          <a:xfrm>
            <a:off x="4091040" y="2940120"/>
            <a:ext cx="791640" cy="791640"/>
            <a:chOff x="4091040" y="2940120"/>
            <a:chExt cx="791640" cy="791640"/>
          </a:xfrm>
        </p:grpSpPr>
        <p:sp>
          <p:nvSpPr>
            <p:cNvPr id="153" name="椭圆 11"/>
            <p:cNvSpPr/>
            <p:nvPr/>
          </p:nvSpPr>
          <p:spPr>
            <a:xfrm>
              <a:off x="4091040" y="2940120"/>
              <a:ext cx="791640" cy="791640"/>
            </a:xfrm>
            <a:prstGeom prst="ellipse">
              <a:avLst/>
            </a:prstGeom>
            <a:solidFill>
              <a:srgbClr val="c29a5f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54" name="椭圆 12"/>
            <p:cNvSpPr/>
            <p:nvPr/>
          </p:nvSpPr>
          <p:spPr>
            <a:xfrm>
              <a:off x="4127400" y="2976840"/>
              <a:ext cx="718920" cy="718920"/>
            </a:xfrm>
            <a:prstGeom prst="ellipse">
              <a:avLst/>
            </a:prstGeom>
            <a:solidFill>
              <a:srgbClr val="c29a5f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155" name="组合 17"/>
          <p:cNvGrpSpPr/>
          <p:nvPr/>
        </p:nvGrpSpPr>
        <p:grpSpPr>
          <a:xfrm>
            <a:off x="1209600" y="2940120"/>
            <a:ext cx="791640" cy="791640"/>
            <a:chOff x="1209600" y="2940120"/>
            <a:chExt cx="791640" cy="791640"/>
          </a:xfrm>
        </p:grpSpPr>
        <p:sp>
          <p:nvSpPr>
            <p:cNvPr id="156" name="椭圆 14"/>
            <p:cNvSpPr/>
            <p:nvPr/>
          </p:nvSpPr>
          <p:spPr>
            <a:xfrm>
              <a:off x="1209600" y="2940120"/>
              <a:ext cx="791640" cy="791640"/>
            </a:xfrm>
            <a:prstGeom prst="ellipse">
              <a:avLst/>
            </a:prstGeom>
            <a:solidFill>
              <a:srgbClr val="c29a5f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57" name="椭圆 15"/>
            <p:cNvSpPr/>
            <p:nvPr/>
          </p:nvSpPr>
          <p:spPr>
            <a:xfrm>
              <a:off x="1246320" y="2976840"/>
              <a:ext cx="718920" cy="718920"/>
            </a:xfrm>
            <a:prstGeom prst="ellipse">
              <a:avLst/>
            </a:prstGeom>
            <a:solidFill>
              <a:srgbClr val="c29a5f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158" name="组合 20"/>
          <p:cNvGrpSpPr/>
          <p:nvPr/>
        </p:nvGrpSpPr>
        <p:grpSpPr>
          <a:xfrm>
            <a:off x="5530680" y="2940120"/>
            <a:ext cx="791640" cy="791640"/>
            <a:chOff x="5530680" y="2940120"/>
            <a:chExt cx="791640" cy="791640"/>
          </a:xfrm>
        </p:grpSpPr>
        <p:sp>
          <p:nvSpPr>
            <p:cNvPr id="159" name="椭圆 17"/>
            <p:cNvSpPr/>
            <p:nvPr/>
          </p:nvSpPr>
          <p:spPr>
            <a:xfrm>
              <a:off x="5530680" y="2940120"/>
              <a:ext cx="791640" cy="791640"/>
            </a:xfrm>
            <a:prstGeom prst="ellipse">
              <a:avLst/>
            </a:prstGeom>
            <a:solidFill>
              <a:srgbClr val="0c77b7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60" name="椭圆 18"/>
            <p:cNvSpPr/>
            <p:nvPr/>
          </p:nvSpPr>
          <p:spPr>
            <a:xfrm>
              <a:off x="5567400" y="2976840"/>
              <a:ext cx="718920" cy="718920"/>
            </a:xfrm>
            <a:prstGeom prst="ellipse">
              <a:avLst/>
            </a:prstGeom>
            <a:solidFill>
              <a:srgbClr val="0c77b7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161" name="组合 23"/>
          <p:cNvGrpSpPr/>
          <p:nvPr/>
        </p:nvGrpSpPr>
        <p:grpSpPr>
          <a:xfrm>
            <a:off x="7043760" y="2940120"/>
            <a:ext cx="791640" cy="791640"/>
            <a:chOff x="7043760" y="2940120"/>
            <a:chExt cx="791640" cy="791640"/>
          </a:xfrm>
        </p:grpSpPr>
        <p:sp>
          <p:nvSpPr>
            <p:cNvPr id="162" name="椭圆 20"/>
            <p:cNvSpPr/>
            <p:nvPr/>
          </p:nvSpPr>
          <p:spPr>
            <a:xfrm>
              <a:off x="7043760" y="2940120"/>
              <a:ext cx="791640" cy="791640"/>
            </a:xfrm>
            <a:prstGeom prst="ellipse">
              <a:avLst/>
            </a:prstGeom>
            <a:solidFill>
              <a:srgbClr val="c29a5f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63" name="椭圆 21"/>
            <p:cNvSpPr/>
            <p:nvPr/>
          </p:nvSpPr>
          <p:spPr>
            <a:xfrm>
              <a:off x="7080120" y="2976840"/>
              <a:ext cx="718920" cy="718920"/>
            </a:xfrm>
            <a:prstGeom prst="ellipse">
              <a:avLst/>
            </a:prstGeom>
            <a:solidFill>
              <a:srgbClr val="c29a5f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164" name="右箭头 22"/>
          <p:cNvSpPr/>
          <p:nvPr/>
        </p:nvSpPr>
        <p:spPr>
          <a:xfrm>
            <a:off x="2219400" y="3243240"/>
            <a:ext cx="286920" cy="20124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tx1">
              <a:lumMod val="65000"/>
              <a:lumOff val="35000"/>
            </a:schemeClr>
          </a:solidFill>
          <a:ln>
            <a:solidFill>
              <a:srgbClr val="ffffff"/>
            </a:solidFill>
            <a:round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65" name="右箭头 23"/>
          <p:cNvSpPr/>
          <p:nvPr/>
        </p:nvSpPr>
        <p:spPr>
          <a:xfrm>
            <a:off x="3586320" y="3243240"/>
            <a:ext cx="288720" cy="20124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tx1">
              <a:lumMod val="65000"/>
              <a:lumOff val="35000"/>
            </a:schemeClr>
          </a:solidFill>
          <a:ln>
            <a:solidFill>
              <a:srgbClr val="ffffff"/>
            </a:solidFill>
            <a:round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66" name="右箭头 24"/>
          <p:cNvSpPr/>
          <p:nvPr/>
        </p:nvSpPr>
        <p:spPr>
          <a:xfrm>
            <a:off x="5099040" y="3243240"/>
            <a:ext cx="286920" cy="20124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tx1">
              <a:lumMod val="65000"/>
              <a:lumOff val="35000"/>
            </a:schemeClr>
          </a:solidFill>
          <a:ln>
            <a:solidFill>
              <a:srgbClr val="ffffff"/>
            </a:solidFill>
            <a:round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67" name="右箭头 25"/>
          <p:cNvSpPr/>
          <p:nvPr/>
        </p:nvSpPr>
        <p:spPr>
          <a:xfrm>
            <a:off x="6610320" y="3243240"/>
            <a:ext cx="288720" cy="20124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tx1">
              <a:lumMod val="65000"/>
              <a:lumOff val="35000"/>
            </a:schemeClr>
          </a:solidFill>
          <a:ln>
            <a:solidFill>
              <a:srgbClr val="ffffff"/>
            </a:solidFill>
            <a:round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68" name="TextBox 26"/>
          <p:cNvSpPr/>
          <p:nvPr/>
        </p:nvSpPr>
        <p:spPr>
          <a:xfrm>
            <a:off x="714240" y="3970440"/>
            <a:ext cx="1711080" cy="337680"/>
          </a:xfrm>
          <a:prstGeom prst="rect">
            <a:avLst/>
          </a:prstGeom>
          <a:solidFill>
            <a:srgbClr val="c29a5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1" lang="en-US" sz="16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69" name="TextBox 27"/>
          <p:cNvSpPr/>
          <p:nvPr/>
        </p:nvSpPr>
        <p:spPr>
          <a:xfrm>
            <a:off x="3659040" y="3970440"/>
            <a:ext cx="1711080" cy="337680"/>
          </a:xfrm>
          <a:prstGeom prst="rect">
            <a:avLst/>
          </a:prstGeom>
          <a:solidFill>
            <a:srgbClr val="c29a5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1" lang="en-US" sz="16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70" name="TextBox 28"/>
          <p:cNvSpPr/>
          <p:nvPr/>
        </p:nvSpPr>
        <p:spPr>
          <a:xfrm>
            <a:off x="6627960" y="3970440"/>
            <a:ext cx="1711080" cy="337680"/>
          </a:xfrm>
          <a:prstGeom prst="rect">
            <a:avLst/>
          </a:prstGeom>
          <a:solidFill>
            <a:srgbClr val="c29a5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1" lang="en-US" sz="16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71" name="TextBox 29"/>
          <p:cNvSpPr/>
          <p:nvPr/>
        </p:nvSpPr>
        <p:spPr>
          <a:xfrm>
            <a:off x="2146320" y="2436840"/>
            <a:ext cx="1711080" cy="337680"/>
          </a:xfrm>
          <a:prstGeom prst="rect">
            <a:avLst/>
          </a:prstGeom>
          <a:solidFill>
            <a:srgbClr val="0c77b7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1" lang="en-US" sz="16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72" name="TextBox 30"/>
          <p:cNvSpPr/>
          <p:nvPr/>
        </p:nvSpPr>
        <p:spPr>
          <a:xfrm>
            <a:off x="5099040" y="2436840"/>
            <a:ext cx="1711080" cy="337680"/>
          </a:xfrm>
          <a:prstGeom prst="rect">
            <a:avLst/>
          </a:prstGeom>
          <a:solidFill>
            <a:srgbClr val="0c77b7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1" lang="en-US" sz="16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73" name="矩形 31"/>
          <p:cNvSpPr/>
          <p:nvPr/>
        </p:nvSpPr>
        <p:spPr>
          <a:xfrm>
            <a:off x="2165400" y="1285920"/>
            <a:ext cx="1714320" cy="1071360"/>
          </a:xfrm>
          <a:prstGeom prst="rect">
            <a:avLst/>
          </a:prstGeom>
          <a:solidFill>
            <a:srgbClr val="0c77b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74" name="矩形 32"/>
          <p:cNvSpPr/>
          <p:nvPr/>
        </p:nvSpPr>
        <p:spPr>
          <a:xfrm>
            <a:off x="5094360" y="1285920"/>
            <a:ext cx="1714320" cy="1071360"/>
          </a:xfrm>
          <a:prstGeom prst="rect">
            <a:avLst/>
          </a:prstGeom>
          <a:solidFill>
            <a:srgbClr val="0c77b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75" name="矩形 33"/>
          <p:cNvSpPr/>
          <p:nvPr/>
        </p:nvSpPr>
        <p:spPr>
          <a:xfrm>
            <a:off x="736560" y="4357800"/>
            <a:ext cx="1714320" cy="1071360"/>
          </a:xfrm>
          <a:prstGeom prst="rect">
            <a:avLst/>
          </a:prstGeom>
          <a:solidFill>
            <a:srgbClr val="c29a5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76" name="矩形 34"/>
          <p:cNvSpPr/>
          <p:nvPr/>
        </p:nvSpPr>
        <p:spPr>
          <a:xfrm>
            <a:off x="3665520" y="4357800"/>
            <a:ext cx="1714320" cy="1071360"/>
          </a:xfrm>
          <a:prstGeom prst="rect">
            <a:avLst/>
          </a:prstGeom>
          <a:solidFill>
            <a:srgbClr val="c29a5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77" name="矩形 35"/>
          <p:cNvSpPr/>
          <p:nvPr/>
        </p:nvSpPr>
        <p:spPr>
          <a:xfrm>
            <a:off x="6665760" y="4357800"/>
            <a:ext cx="1714320" cy="1071360"/>
          </a:xfrm>
          <a:prstGeom prst="rect">
            <a:avLst/>
          </a:prstGeom>
          <a:solidFill>
            <a:srgbClr val="c29a5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78" name="矩形 12"/>
          <p:cNvSpPr/>
          <p:nvPr/>
        </p:nvSpPr>
        <p:spPr>
          <a:xfrm>
            <a:off x="4070520" y="4572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13"/>
          <p:cNvSpPr/>
          <p:nvPr/>
        </p:nvSpPr>
        <p:spPr>
          <a:xfrm>
            <a:off x="6997680" y="4643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14"/>
          <p:cNvSpPr/>
          <p:nvPr/>
        </p:nvSpPr>
        <p:spPr>
          <a:xfrm>
            <a:off x="5426280" y="1643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15"/>
          <p:cNvSpPr/>
          <p:nvPr/>
        </p:nvSpPr>
        <p:spPr>
          <a:xfrm>
            <a:off x="1141560" y="4643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14"/>
          <p:cNvSpPr/>
          <p:nvPr/>
        </p:nvSpPr>
        <p:spPr>
          <a:xfrm>
            <a:off x="2497320" y="1643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700"/>
                            </p:stCondLst>
                            <p:childTnLst>
                              <p:par>
                                <p:cTn id="2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" dur="100" fill="hold"/>
                                        <p:tgtEl>
                                          <p:spTgt spid="155"/>
                                        </p:tgtEl>
                                      </p:cBhvr>
                                      <p:by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24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25" dur="100" fill="hold"/>
                                        <p:tgtEl>
                                          <p:spTgt spid="155"/>
                                        </p:tgtEl>
                                      </p:cBhvr>
                                      <p:by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100" fill="hold"/>
                                        <p:tgtEl>
                                          <p:spTgt spid="155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30" dur="100" fill="hold"/>
                                        <p:tgtEl>
                                          <p:spTgt spid="155"/>
                                        </p:tgtEl>
                                      </p:cBhvr>
                                      <p:by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3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8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300"/>
                            </p:stCondLst>
                            <p:childTnLst>
                              <p:par>
                                <p:cTn id="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" dur="100" fill="hold"/>
                                        <p:tgtEl>
                                          <p:spTgt spid="149"/>
                                        </p:tgtEl>
                                      </p:cBhvr>
                                      <p:by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48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49" dur="100" fill="hold"/>
                                        <p:tgtEl>
                                          <p:spTgt spid="149"/>
                                        </p:tgtEl>
                                      </p:cBhvr>
                                      <p:by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800"/>
                            </p:stCondLst>
                            <p:childTnLst>
                              <p:par>
                                <p:cTn id="5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" dur="100" fill="hold"/>
                                        <p:tgtEl>
                                          <p:spTgt spid="149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54" dur="100" fill="hold"/>
                                        <p:tgtEl>
                                          <p:spTgt spid="149"/>
                                        </p:tgtEl>
                                      </p:cBhvr>
                                      <p:by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1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6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100"/>
                            </p:stCondLst>
                            <p:childTnLst>
                              <p:par>
                                <p:cTn id="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300"/>
                            </p:stCondLst>
                            <p:childTnLst>
                              <p:par>
                                <p:cTn id="7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" dur="100" fill="hold"/>
                                        <p:tgtEl>
                                          <p:spTgt spid="152"/>
                                        </p:tgtEl>
                                      </p:cBhvr>
                                      <p:by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73" dur="100" fill="hold"/>
                                        <p:tgtEl>
                                          <p:spTgt spid="152"/>
                                        </p:tgtEl>
                                      </p:cBhvr>
                                      <p:by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600"/>
                            </p:stCondLst>
                            <p:childTnLst>
                              <p:par>
                                <p:cTn id="7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" dur="100" fill="hold"/>
                                        <p:tgtEl>
                                          <p:spTgt spid="152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78" dur="100" fill="hold"/>
                                        <p:tgtEl>
                                          <p:spTgt spid="152"/>
                                        </p:tgtEl>
                                      </p:cBhvr>
                                      <p:by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9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4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90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100"/>
                            </p:stCondLst>
                            <p:childTnLst>
                              <p:par>
                                <p:cTn id="9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5" dur="100" fill="hold"/>
                                        <p:tgtEl>
                                          <p:spTgt spid="158"/>
                                        </p:tgtEl>
                                      </p:cBhvr>
                                      <p:by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97" dur="100" fill="hold"/>
                                        <p:tgtEl>
                                          <p:spTgt spid="158"/>
                                        </p:tgtEl>
                                      </p:cBhvr>
                                      <p:by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6400"/>
                            </p:stCondLst>
                            <p:childTnLst>
                              <p:par>
                                <p:cTn id="9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0" dur="100" fill="hold"/>
                                        <p:tgtEl>
                                          <p:spTgt spid="158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02" dur="100" fill="hold"/>
                                        <p:tgtEl>
                                          <p:spTgt spid="158"/>
                                        </p:tgtEl>
                                      </p:cBhvr>
                                      <p:by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69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7400"/>
                            </p:stCondLst>
                            <p:childTnLst>
                              <p:par>
                                <p:cTn id="1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7600"/>
                            </p:stCondLst>
                            <p:childTnLst>
                              <p:par>
                                <p:cTn id="11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8" dur="100" fill="hold"/>
                                        <p:tgtEl>
                                          <p:spTgt spid="161"/>
                                        </p:tgtEl>
                                      </p:cBhvr>
                                      <p:by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20" dur="100" fill="hold"/>
                                        <p:tgtEl>
                                          <p:spTgt spid="161"/>
                                        </p:tgtEl>
                                      </p:cBhvr>
                                      <p:by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7900"/>
                            </p:stCondLst>
                            <p:childTnLst>
                              <p:par>
                                <p:cTn id="12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3" dur="100" fill="hold"/>
                                        <p:tgtEl>
                                          <p:spTgt spid="161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4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25" dur="100" fill="hold"/>
                                        <p:tgtEl>
                                          <p:spTgt spid="161"/>
                                        </p:tgtEl>
                                      </p:cBhvr>
                                      <p:by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82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圆角矩形 6"/>
          <p:cNvSpPr/>
          <p:nvPr/>
        </p:nvSpPr>
        <p:spPr>
          <a:xfrm>
            <a:off x="795240" y="1717560"/>
            <a:ext cx="1852200" cy="3854160"/>
          </a:xfrm>
          <a:prstGeom prst="roundRect">
            <a:avLst>
              <a:gd name="adj" fmla="val 16667"/>
            </a:avLst>
          </a:prstGeom>
          <a:noFill/>
          <a:ln w="38100">
            <a:solidFill>
              <a:srgbClr val="c29a5f"/>
            </a:solidFill>
            <a:miter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89" name="圆角矩形 7"/>
          <p:cNvSpPr/>
          <p:nvPr/>
        </p:nvSpPr>
        <p:spPr>
          <a:xfrm>
            <a:off x="988920" y="2747880"/>
            <a:ext cx="1464840" cy="301320"/>
          </a:xfrm>
          <a:prstGeom prst="roundRect">
            <a:avLst>
              <a:gd name="adj" fmla="val 16667"/>
            </a:avLst>
          </a:prstGeom>
          <a:solidFill>
            <a:srgbClr val="c29a5f"/>
          </a:solidFill>
          <a:ln w="127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90" name="圆角矩形 8"/>
          <p:cNvSpPr/>
          <p:nvPr/>
        </p:nvSpPr>
        <p:spPr>
          <a:xfrm>
            <a:off x="3552840" y="1717560"/>
            <a:ext cx="1852200" cy="3854160"/>
          </a:xfrm>
          <a:prstGeom prst="roundRect">
            <a:avLst>
              <a:gd name="adj" fmla="val 16667"/>
            </a:avLst>
          </a:prstGeom>
          <a:noFill/>
          <a:ln w="38100">
            <a:solidFill>
              <a:srgbClr val="0c77b7"/>
            </a:solidFill>
            <a:miter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91" name="圆角矩形 9"/>
          <p:cNvSpPr/>
          <p:nvPr/>
        </p:nvSpPr>
        <p:spPr>
          <a:xfrm>
            <a:off x="3746520" y="2747880"/>
            <a:ext cx="1464840" cy="301320"/>
          </a:xfrm>
          <a:prstGeom prst="roundRect">
            <a:avLst>
              <a:gd name="adj" fmla="val 16667"/>
            </a:avLst>
          </a:prstGeom>
          <a:solidFill>
            <a:srgbClr val="0c77b7"/>
          </a:solidFill>
          <a:ln w="127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92" name="圆角矩形 10"/>
          <p:cNvSpPr/>
          <p:nvPr/>
        </p:nvSpPr>
        <p:spPr>
          <a:xfrm>
            <a:off x="6434280" y="1717560"/>
            <a:ext cx="1852200" cy="3854160"/>
          </a:xfrm>
          <a:prstGeom prst="roundRect">
            <a:avLst>
              <a:gd name="adj" fmla="val 16667"/>
            </a:avLst>
          </a:prstGeom>
          <a:noFill/>
          <a:ln w="38100">
            <a:solidFill>
              <a:srgbClr val="c29a5f"/>
            </a:solidFill>
            <a:miter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93" name="圆角矩形 11"/>
          <p:cNvSpPr/>
          <p:nvPr/>
        </p:nvSpPr>
        <p:spPr>
          <a:xfrm>
            <a:off x="6627960" y="2747880"/>
            <a:ext cx="1464840" cy="301320"/>
          </a:xfrm>
          <a:prstGeom prst="roundRect">
            <a:avLst>
              <a:gd name="adj" fmla="val 16667"/>
            </a:avLst>
          </a:prstGeom>
          <a:solidFill>
            <a:srgbClr val="c29a5f"/>
          </a:solidFill>
          <a:ln w="127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94" name="矩形 12"/>
          <p:cNvSpPr/>
          <p:nvPr/>
        </p:nvSpPr>
        <p:spPr>
          <a:xfrm>
            <a:off x="4008600" y="3932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13"/>
          <p:cNvSpPr/>
          <p:nvPr/>
        </p:nvSpPr>
        <p:spPr>
          <a:xfrm>
            <a:off x="6935760" y="40035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4"/>
          <p:cNvSpPr/>
          <p:nvPr/>
        </p:nvSpPr>
        <p:spPr>
          <a:xfrm>
            <a:off x="4006800" y="21463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5"/>
          <p:cNvSpPr/>
          <p:nvPr/>
        </p:nvSpPr>
        <p:spPr>
          <a:xfrm>
            <a:off x="1220760" y="40035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组合 31"/>
          <p:cNvGrpSpPr/>
          <p:nvPr/>
        </p:nvGrpSpPr>
        <p:grpSpPr>
          <a:xfrm>
            <a:off x="984240" y="3821040"/>
            <a:ext cx="2487240" cy="2108160"/>
            <a:chOff x="984240" y="3821040"/>
            <a:chExt cx="2487240" cy="2108160"/>
          </a:xfrm>
        </p:grpSpPr>
        <p:sp>
          <p:nvSpPr>
            <p:cNvPr id="204" name="矩形 7"/>
            <p:cNvSpPr/>
            <p:nvPr/>
          </p:nvSpPr>
          <p:spPr>
            <a:xfrm flipV="1">
              <a:off x="984240" y="3821040"/>
              <a:ext cx="2487240" cy="1593360"/>
            </a:xfrm>
            <a:prstGeom prst="rect">
              <a:avLst/>
            </a:prstGeom>
            <a:solidFill>
              <a:srgbClr val="0c77b7"/>
            </a:solidFill>
            <a:ln w="254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Bodoni MT"/>
                <a:ea typeface="微软雅黑"/>
              </a:endParaRPr>
            </a:p>
          </p:txBody>
        </p:sp>
        <p:sp>
          <p:nvSpPr>
            <p:cNvPr id="205" name="等腰三角形 8"/>
            <p:cNvSpPr/>
            <p:nvPr/>
          </p:nvSpPr>
          <p:spPr>
            <a:xfrm flipV="1">
              <a:off x="984240" y="5415120"/>
              <a:ext cx="2487240" cy="514080"/>
            </a:xfrm>
            <a:prstGeom prst="triangle">
              <a:avLst>
                <a:gd name="adj" fmla="val 50000"/>
              </a:avLst>
            </a:prstGeom>
            <a:solidFill>
              <a:srgbClr val="0c77b7"/>
            </a:solidFill>
            <a:ln w="254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Bodoni MT"/>
                <a:ea typeface="微软雅黑"/>
              </a:endParaRPr>
            </a:p>
          </p:txBody>
        </p:sp>
      </p:grpSp>
      <p:sp>
        <p:nvSpPr>
          <p:cNvPr id="206" name="矩形 13"/>
          <p:cNvSpPr/>
          <p:nvPr/>
        </p:nvSpPr>
        <p:spPr>
          <a:xfrm>
            <a:off x="3897360" y="2320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14"/>
          <p:cNvSpPr/>
          <p:nvPr/>
        </p:nvSpPr>
        <p:spPr>
          <a:xfrm>
            <a:off x="3968640" y="40356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8" name="Straight Connector 57"/>
          <p:cNvCxnSpPr/>
          <p:nvPr/>
        </p:nvCxnSpPr>
        <p:spPr>
          <a:xfrm>
            <a:off x="3286080" y="2211120"/>
            <a:ext cx="4929480" cy="360"/>
          </a:xfrm>
          <a:prstGeom prst="straightConnector1">
            <a:avLst/>
          </a:prstGeom>
          <a:ln w="15875">
            <a:solidFill>
              <a:srgbClr val="c29a5f"/>
            </a:solidFill>
            <a:prstDash val="dashDot"/>
            <a:round/>
            <a:headEnd len="sm" type="oval" w="sm"/>
            <a:tailEnd len="sm" type="oval" w="sm"/>
          </a:ln>
        </p:spPr>
      </p:cxnSp>
      <p:grpSp>
        <p:nvGrpSpPr>
          <p:cNvPr id="209" name="组合 31"/>
          <p:cNvGrpSpPr/>
          <p:nvPr/>
        </p:nvGrpSpPr>
        <p:grpSpPr>
          <a:xfrm>
            <a:off x="1014480" y="1419120"/>
            <a:ext cx="2487240" cy="2107800"/>
            <a:chOff x="1014480" y="1419120"/>
            <a:chExt cx="2487240" cy="2107800"/>
          </a:xfrm>
        </p:grpSpPr>
        <p:sp>
          <p:nvSpPr>
            <p:cNvPr id="210" name="矩形 13"/>
            <p:cNvSpPr/>
            <p:nvPr/>
          </p:nvSpPr>
          <p:spPr>
            <a:xfrm>
              <a:off x="1014480" y="1933560"/>
              <a:ext cx="2487240" cy="1593360"/>
            </a:xfrm>
            <a:prstGeom prst="rect">
              <a:avLst/>
            </a:prstGeom>
            <a:solidFill>
              <a:srgbClr val="c29a5f"/>
            </a:solidFill>
            <a:ln w="254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Bodoni MT"/>
                <a:ea typeface="微软雅黑"/>
              </a:endParaRPr>
            </a:p>
          </p:txBody>
        </p:sp>
        <p:sp>
          <p:nvSpPr>
            <p:cNvPr id="211" name="等腰三角形 14"/>
            <p:cNvSpPr/>
            <p:nvPr/>
          </p:nvSpPr>
          <p:spPr>
            <a:xfrm>
              <a:off x="1014480" y="1419120"/>
              <a:ext cx="2487240" cy="514080"/>
            </a:xfrm>
            <a:prstGeom prst="triangle">
              <a:avLst>
                <a:gd name="adj" fmla="val 50000"/>
              </a:avLst>
            </a:prstGeom>
            <a:solidFill>
              <a:srgbClr val="c29a5f"/>
            </a:solidFill>
            <a:ln w="254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Bodoni MT"/>
                <a:ea typeface="微软雅黑"/>
              </a:endParaRPr>
            </a:p>
          </p:txBody>
        </p:sp>
      </p:grpSp>
      <p:cxnSp>
        <p:nvCxnSpPr>
          <p:cNvPr id="212" name="Straight Connector 57"/>
          <p:cNvCxnSpPr/>
          <p:nvPr/>
        </p:nvCxnSpPr>
        <p:spPr>
          <a:xfrm>
            <a:off x="3286080" y="3919320"/>
            <a:ext cx="4900680" cy="360"/>
          </a:xfrm>
          <a:prstGeom prst="straightConnector1">
            <a:avLst/>
          </a:prstGeom>
          <a:ln w="15875">
            <a:solidFill>
              <a:srgbClr val="0c77b7"/>
            </a:solidFill>
            <a:prstDash val="dashDot"/>
            <a:round/>
            <a:headEnd len="sm" type="oval" w="sm"/>
            <a:tailEnd len="sm" type="oval" w="sm"/>
          </a:ln>
        </p:spPr>
      </p:cxnSp>
      <p:sp>
        <p:nvSpPr>
          <p:cNvPr id="213" name="矩形 13"/>
          <p:cNvSpPr/>
          <p:nvPr/>
        </p:nvSpPr>
        <p:spPr>
          <a:xfrm>
            <a:off x="5997600" y="2286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14"/>
          <p:cNvSpPr/>
          <p:nvPr/>
        </p:nvSpPr>
        <p:spPr>
          <a:xfrm>
            <a:off x="6068880" y="4000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13"/>
          <p:cNvSpPr/>
          <p:nvPr/>
        </p:nvSpPr>
        <p:spPr>
          <a:xfrm>
            <a:off x="1711440" y="2558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14"/>
          <p:cNvSpPr/>
          <p:nvPr/>
        </p:nvSpPr>
        <p:spPr>
          <a:xfrm>
            <a:off x="1782720" y="42735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波形 6"/>
          <p:cNvSpPr/>
          <p:nvPr/>
        </p:nvSpPr>
        <p:spPr>
          <a:xfrm rot="5400000">
            <a:off x="3750840" y="2464920"/>
            <a:ext cx="3357360" cy="1856880"/>
          </a:xfrm>
          <a:prstGeom prst="wave">
            <a:avLst>
              <a:gd name="adj1" fmla="val 12500"/>
              <a:gd name="adj2" fmla="val 0"/>
            </a:avLst>
          </a:prstGeom>
          <a:solidFill>
            <a:srgbClr val="c29a5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23" name="波形 7"/>
          <p:cNvSpPr/>
          <p:nvPr/>
        </p:nvSpPr>
        <p:spPr>
          <a:xfrm rot="5400000">
            <a:off x="2250360" y="2464920"/>
            <a:ext cx="3357360" cy="1856880"/>
          </a:xfrm>
          <a:prstGeom prst="wave">
            <a:avLst>
              <a:gd name="adj1" fmla="val 12500"/>
              <a:gd name="adj2" fmla="val 0"/>
            </a:avLst>
          </a:prstGeom>
          <a:solidFill>
            <a:srgbClr val="0c77b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24" name="波形 8"/>
          <p:cNvSpPr/>
          <p:nvPr/>
        </p:nvSpPr>
        <p:spPr>
          <a:xfrm rot="5400000">
            <a:off x="750240" y="2464920"/>
            <a:ext cx="3357360" cy="1856880"/>
          </a:xfrm>
          <a:prstGeom prst="wave">
            <a:avLst>
              <a:gd name="adj1" fmla="val 12500"/>
              <a:gd name="adj2" fmla="val 0"/>
            </a:avLst>
          </a:prstGeom>
          <a:solidFill>
            <a:srgbClr val="c29a5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25" name="波形 9"/>
          <p:cNvSpPr/>
          <p:nvPr/>
        </p:nvSpPr>
        <p:spPr>
          <a:xfrm rot="5400000">
            <a:off x="5250960" y="2464920"/>
            <a:ext cx="3357360" cy="1856880"/>
          </a:xfrm>
          <a:prstGeom prst="wave">
            <a:avLst>
              <a:gd name="adj1" fmla="val 12500"/>
              <a:gd name="adj2" fmla="val 0"/>
            </a:avLst>
          </a:prstGeom>
          <a:solidFill>
            <a:srgbClr val="0c77b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26" name="矩形 12"/>
          <p:cNvSpPr/>
          <p:nvPr/>
        </p:nvSpPr>
        <p:spPr>
          <a:xfrm>
            <a:off x="1925640" y="2357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3"/>
          <p:cNvSpPr/>
          <p:nvPr/>
        </p:nvSpPr>
        <p:spPr>
          <a:xfrm>
            <a:off x="6640560" y="3500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4"/>
          <p:cNvSpPr/>
          <p:nvPr/>
        </p:nvSpPr>
        <p:spPr>
          <a:xfrm>
            <a:off x="5068800" y="2357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15"/>
          <p:cNvSpPr/>
          <p:nvPr/>
        </p:nvSpPr>
        <p:spPr>
          <a:xfrm>
            <a:off x="3354480" y="4214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6</TotalTime>
  <Application>LibreOffice/7.4.7.2$Linux_X86_64 LibreOffice_project/40$Build-2</Application>
  <AppVersion>15.0000</AppVersion>
  <Words>274</Words>
  <Paragraphs>9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王玉清</cp:lastModifiedBy>
  <dcterms:modified xsi:type="dcterms:W3CDTF">2016-02-15T04:07:56Z</dcterms:modified>
  <cp:revision>29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0</vt:r8>
  </property>
</Properties>
</file>