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448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80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448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80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3840" y="76320"/>
            <a:ext cx="86868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448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18040" y="15238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448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18040" y="37134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3840" y="76320"/>
            <a:ext cx="86868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0320" y="37134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52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15238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7134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3840" y="763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3840" y="763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040" y="1828800"/>
            <a:ext cx="78472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美元热气球金融</a:t>
            </a:r>
            <a:r>
              <a:rPr b="0" lang="en-US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840" y="763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7380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价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6:23:11Z</dcterms:created>
  <dc:creator>SmileTemplates.com</dc:creator>
  <dc:description/>
  <dc:language>en-US</dc:language>
  <cp:lastModifiedBy>王玉清</cp:lastModifiedBy>
  <cp:lastPrinted>1899-12-30T00:00:00Z</cp:lastPrinted>
  <dcterms:modified xsi:type="dcterms:W3CDTF">2016-02-15T03:53:42Z</dcterms:modified>
  <cp:revision>19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