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3212-FED6-4467-BF24-CA48E2B88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44FC-0258-4A79-B758-55B3F6E0A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2695-B24B-4DB9-AA54-234C774FA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06C1-94B0-4712-A2CD-78D86E6EE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4346-FB44-47C4-A5D3-A264BA426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BF6-5850-4279-996D-416FBB823F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C5E7-7794-42FE-AAC4-F31B05BDF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6C73-B10F-40E1-A1E6-74529E093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0BE9-BA12-48CA-AB76-68BBB5169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D78-1B1E-48C4-B2F9-610E8032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019F-7C10-45B9-871F-3B694C265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9778-767C-45C6-A3B4-F1AE2134F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bg2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73280" y="2003400"/>
            <a:ext cx="7668720" cy="3395160"/>
            <a:chOff x="773280" y="2003400"/>
            <a:chExt cx="7668720" cy="3395160"/>
          </a:xfrm>
        </p:grpSpPr>
        <p:sp>
          <p:nvSpPr>
            <p:cNvPr id="3" name="Freeform 42"/>
            <p:cNvSpPr/>
            <p:nvPr/>
          </p:nvSpPr>
          <p:spPr>
            <a:xfrm>
              <a:off x="953280" y="2003400"/>
              <a:ext cx="4453200" cy="19537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43"/>
            <p:cNvSpPr/>
            <p:nvPr/>
          </p:nvSpPr>
          <p:spPr>
            <a:xfrm>
              <a:off x="4054680" y="2603520"/>
              <a:ext cx="513720" cy="598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44"/>
            <p:cNvSpPr/>
            <p:nvPr/>
          </p:nvSpPr>
          <p:spPr>
            <a:xfrm>
              <a:off x="773280" y="3038040"/>
              <a:ext cx="1545840" cy="184932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45"/>
            <p:cNvSpPr/>
            <p:nvPr/>
          </p:nvSpPr>
          <p:spPr>
            <a:xfrm>
              <a:off x="3666240" y="4245120"/>
              <a:ext cx="932040" cy="72792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5431680" y="2084400"/>
              <a:ext cx="3010320" cy="331416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937440" y="2476800"/>
              <a:ext cx="273960" cy="2390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2125080" y="4288680"/>
              <a:ext cx="170280" cy="34236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3276360" y="3835440"/>
              <a:ext cx="721800" cy="42984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3592800" y="3807360"/>
              <a:ext cx="383400" cy="33264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3970080" y="3924720"/>
              <a:ext cx="617040" cy="34380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3767760" y="3492720"/>
              <a:ext cx="219240" cy="35640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53"/>
            <p:cNvSpPr/>
            <p:nvPr/>
          </p:nvSpPr>
          <p:spPr>
            <a:xfrm>
              <a:off x="4380840" y="499212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54"/>
            <p:cNvSpPr/>
            <p:nvPr/>
          </p:nvSpPr>
          <p:spPr>
            <a:xfrm>
              <a:off x="4855320" y="4851720"/>
              <a:ext cx="292680" cy="33084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55"/>
            <p:cNvSpPr/>
            <p:nvPr/>
          </p:nvSpPr>
          <p:spPr>
            <a:xfrm>
              <a:off x="7303320" y="3391560"/>
              <a:ext cx="419760" cy="1594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56"/>
            <p:cNvSpPr/>
            <p:nvPr/>
          </p:nvSpPr>
          <p:spPr>
            <a:xfrm>
              <a:off x="3680280" y="3378960"/>
              <a:ext cx="36000" cy="34200"/>
            </a:xfrm>
            <a:prstGeom prst="ellipse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2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836640" y="6524280"/>
            <a:ext cx="1440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297645D-A5AC-41AC-B89A-FA38691EBC7C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7"/>
          <p:cNvSpPr/>
          <p:nvPr/>
        </p:nvSpPr>
        <p:spPr>
          <a:xfrm>
            <a:off x="7074000" y="220680"/>
            <a:ext cx="13888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>
            <a:hlinkClick r:id="rId2"/>
          </p:cNvPr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3"/>
          </p:cNvPr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>
            <a:hlinkClick r:id="rId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>
            <a:hlinkClick r:id="rId5"/>
          </p:cNvPr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png-0056"/>
          <p:cNvPicPr/>
          <p:nvPr/>
        </p:nvPicPr>
        <p:blipFill>
          <a:blip r:embed="rId6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png-0002"/>
          <p:cNvPicPr/>
          <p:nvPr/>
        </p:nvPicPr>
        <p:blipFill>
          <a:blip r:embed="rId7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64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481480"/>
              <a:ext cx="57636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1">
            <a:hlinkClick r:id="rId10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>
            <a:hlinkClick r:id="rId11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76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3"/>
            <p:cNvSpPr/>
            <p:nvPr/>
          </p:nvSpPr>
          <p:spPr>
            <a:xfrm>
              <a:off x="335016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1" descr="bg1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7175520" y="574560"/>
            <a:ext cx="13888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426960" y="3949560"/>
            <a:ext cx="540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0"/>
          <p:cNvSpPr txBox="1"/>
          <p:nvPr/>
        </p:nvSpPr>
        <p:spPr>
          <a:xfrm>
            <a:off x="-3662640" y="3125160"/>
            <a:ext cx="410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1f1f1f">
                        <a:alpha val="0"/>
                      </a:srgbClr>
                    </a:gs>
                    <a:gs pos="100000">
                      <a:srgbClr val="000000">
                        <a:alpha val="14117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1f1f1f">
                      <a:alpha val="0"/>
                    </a:srgbClr>
                  </a:gs>
                  <a:gs pos="100000">
                    <a:srgbClr val="000000">
                      <a:alpha val="14117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57" name="矩形 1" descr=""/>
          <p:cNvPicPr/>
          <p:nvPr/>
        </p:nvPicPr>
        <p:blipFill>
          <a:blip r:embed="rId1"/>
          <a:stretch/>
        </p:blipFill>
        <p:spPr>
          <a:xfrm>
            <a:off x="738360" y="1036800"/>
            <a:ext cx="71308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83664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7399370-BF5D-4CFE-BEEF-F6409224247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83664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C75EA57-192F-4CDF-85E2-A232B5AC11F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g3"/>
          <p:cNvPicPr/>
          <p:nvPr/>
        </p:nvPicPr>
        <p:blipFill>
          <a:blip r:embed="rId1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945040" y="4052880"/>
            <a:ext cx="2903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5913360" y="2795760"/>
            <a:ext cx="2465280" cy="1044000"/>
            <a:chOff x="5913360" y="2795760"/>
            <a:chExt cx="2465280" cy="1044000"/>
          </a:xfrm>
        </p:grpSpPr>
        <p:sp>
          <p:nvSpPr>
            <p:cNvPr id="165" name="WordArt 4"/>
            <p:cNvSpPr txBox="1"/>
            <p:nvPr/>
          </p:nvSpPr>
          <p:spPr>
            <a:xfrm>
              <a:off x="5913360" y="2795760"/>
              <a:ext cx="2465280" cy="60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1f1f1f"/>
                      </a:gs>
                    </a:gsLst>
                    <a:lin ang="18900000"/>
                  </a:gradFill>
                  <a:latin typeface="黑体"/>
                </a:rPr>
                <a:t>谢谢观赏</a:t>
              </a:r>
              <a:endPara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1f1f1f"/>
                    </a:gs>
                  </a:gsLst>
                  <a:lin ang="18900000"/>
                </a:gradFill>
                <a:latin typeface="黑体"/>
                <a:ea typeface="黑体"/>
              </a:endParaRPr>
            </a:p>
          </p:txBody>
        </p:sp>
        <p:sp>
          <p:nvSpPr>
            <p:cNvPr id="166" name="WordArt 5"/>
            <p:cNvSpPr txBox="1"/>
            <p:nvPr/>
          </p:nvSpPr>
          <p:spPr>
            <a:xfrm>
              <a:off x="3448080" y="3017520"/>
              <a:ext cx="246528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1f1f1f">
                          <a:alpha val="0"/>
                        </a:srgbClr>
                      </a:gs>
                      <a:gs pos="100000">
                        <a:srgbClr val="000000">
                          <a:alpha val="14117"/>
                        </a:srgbClr>
                      </a:gs>
                    </a:gsLst>
                    <a:lin ang="5400000"/>
                  </a:gradFill>
                  <a:latin typeface="黑体"/>
                </a:rPr>
                <a:t>谢谢观赏</a:t>
              </a:r>
              <a:endPara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f1f1f">
                        <a:alpha val="0"/>
                      </a:srgbClr>
                    </a:gs>
                    <a:gs pos="100000">
                      <a:srgbClr val="000000">
                        <a:alpha val="14117"/>
                      </a:srgbClr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js1211</dc:creator>
  <dc:description/>
  <dc:language>en-US</dc:language>
  <cp:lastModifiedBy>王玉清</cp:lastModifiedBy>
  <cp:lastPrinted>1899-12-30T00:00:00Z</cp:lastPrinted>
  <dcterms:modified xsi:type="dcterms:W3CDTF">2016-02-15T03:48:20Z</dcterms:modified>
  <cp:revision>18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