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7786-56B1-47A6-9C17-A3AD791B85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A687-E02C-451A-886B-678D882917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4AD5-5DC2-454F-866B-87334FDEAE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F124-192B-46E4-93A4-E48A0118B1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4D4-1762-4D32-AD7A-347737F9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7E7-7C68-45B6-B432-F3BDAFF9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247-F170-4DFD-B521-7C974FF7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178-B08F-41BF-A864-F24AB8C9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F81-2F8F-4D2D-A3F0-682BCEA7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878-28FB-47CA-879F-A6CC75D0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AAD-2D9D-4035-B50A-1FB3477A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3BF-91D5-4BEA-8045-AAAF2D96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03F-4553-417A-A70A-9AA76D61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6AA-3DAE-4DDB-B542-AF350A87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2ED-1AB0-4E9A-A31B-40D7871F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B3F-AA6F-4F7F-A263-609AAD41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F51B-2A91-4429-9629-BCB09DBEC3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9"/>
          <p:cNvGrpSpPr/>
          <p:nvPr/>
        </p:nvGrpSpPr>
        <p:grpSpPr>
          <a:xfrm>
            <a:off x="4197240" y="660240"/>
            <a:ext cx="3776760" cy="3392640"/>
            <a:chOff x="4197240" y="660240"/>
            <a:chExt cx="3776760" cy="3392640"/>
          </a:xfrm>
        </p:grpSpPr>
        <p:sp>
          <p:nvSpPr>
            <p:cNvPr id="49" name="任意多边形 4"/>
            <p:cNvSpPr/>
            <p:nvPr/>
          </p:nvSpPr>
          <p:spPr>
            <a:xfrm>
              <a:off x="4781880" y="1105560"/>
              <a:ext cx="2650320" cy="2514600"/>
            </a:xfrm>
            <a:custGeom>
              <a:avLst/>
              <a:gdLst/>
              <a:ahLst/>
              <a:rect l="l" t="t" r="r" b="b"/>
              <a:pathLst>
                <a:path w="2650672" h="2514600">
                  <a:moveTo>
                    <a:pt x="171450" y="0"/>
                  </a:moveTo>
                  <a:lnTo>
                    <a:pt x="2650672" y="4536"/>
                  </a:lnTo>
                  <a:cubicBezTo>
                    <a:pt x="2649765" y="841224"/>
                    <a:pt x="2625411" y="1677912"/>
                    <a:pt x="2624504" y="2514600"/>
                  </a:cubicBezTo>
                  <a:lnTo>
                    <a:pt x="0" y="2495550"/>
                  </a:lnTo>
                  <a:lnTo>
                    <a:pt x="18143" y="19050"/>
                  </a:lnTo>
                  <a:lnTo>
                    <a:pt x="17145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5"/>
            <p:cNvSpPr/>
            <p:nvPr/>
          </p:nvSpPr>
          <p:spPr>
            <a:xfrm>
              <a:off x="7399440" y="1155600"/>
              <a:ext cx="574560" cy="2426040"/>
            </a:xfrm>
            <a:custGeom>
              <a:avLst/>
              <a:gdLst/>
              <a:ahLst/>
              <a:rect l="l" t="t" r="r" b="b"/>
              <a:pathLst>
                <a:path w="575178" h="2425467">
                  <a:moveTo>
                    <a:pt x="37911" y="4510"/>
                  </a:moveTo>
                  <a:cubicBezTo>
                    <a:pt x="8603" y="51402"/>
                    <a:pt x="32050" y="266325"/>
                    <a:pt x="26188" y="661002"/>
                  </a:cubicBezTo>
                  <a:cubicBezTo>
                    <a:pt x="20326" y="1055679"/>
                    <a:pt x="-8982" y="2151787"/>
                    <a:pt x="2741" y="2372572"/>
                  </a:cubicBezTo>
                  <a:cubicBezTo>
                    <a:pt x="14464" y="2593357"/>
                    <a:pt x="76988" y="2056048"/>
                    <a:pt x="96526" y="1985710"/>
                  </a:cubicBezTo>
                  <a:cubicBezTo>
                    <a:pt x="116064" y="1915372"/>
                    <a:pt x="98480" y="1987664"/>
                    <a:pt x="119972" y="1950541"/>
                  </a:cubicBezTo>
                  <a:cubicBezTo>
                    <a:pt x="141464" y="1913418"/>
                    <a:pt x="188357" y="1817680"/>
                    <a:pt x="225480" y="1762972"/>
                  </a:cubicBezTo>
                  <a:cubicBezTo>
                    <a:pt x="262603" y="1708264"/>
                    <a:pt x="305588" y="1634018"/>
                    <a:pt x="342711" y="1622295"/>
                  </a:cubicBezTo>
                  <a:cubicBezTo>
                    <a:pt x="379834" y="1610572"/>
                    <a:pt x="416957" y="1700448"/>
                    <a:pt x="448218" y="1692633"/>
                  </a:cubicBezTo>
                  <a:cubicBezTo>
                    <a:pt x="479480" y="1684818"/>
                    <a:pt x="510742" y="1657464"/>
                    <a:pt x="530280" y="1575403"/>
                  </a:cubicBezTo>
                  <a:cubicBezTo>
                    <a:pt x="549818" y="1493342"/>
                    <a:pt x="561541" y="1329218"/>
                    <a:pt x="565449" y="1200264"/>
                  </a:cubicBezTo>
                  <a:cubicBezTo>
                    <a:pt x="569357" y="1071310"/>
                    <a:pt x="590849" y="911095"/>
                    <a:pt x="553726" y="801680"/>
                  </a:cubicBezTo>
                  <a:cubicBezTo>
                    <a:pt x="516603" y="692265"/>
                    <a:pt x="401326" y="614111"/>
                    <a:pt x="342711" y="543772"/>
                  </a:cubicBezTo>
                  <a:cubicBezTo>
                    <a:pt x="284096" y="473434"/>
                    <a:pt x="252834" y="469526"/>
                    <a:pt x="202034" y="379649"/>
                  </a:cubicBezTo>
                  <a:cubicBezTo>
                    <a:pt x="151234" y="289772"/>
                    <a:pt x="67219" y="-42382"/>
                    <a:pt x="37911" y="4510"/>
                  </a:cubicBez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9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6"/>
            <p:cNvSpPr/>
            <p:nvPr/>
          </p:nvSpPr>
          <p:spPr>
            <a:xfrm>
              <a:off x="4784400" y="660240"/>
              <a:ext cx="2679840" cy="536400"/>
            </a:xfrm>
            <a:custGeom>
              <a:avLst/>
              <a:gdLst/>
              <a:ahLst/>
              <a:rect l="l" t="t" r="r" b="b"/>
              <a:pathLst>
                <a:path w="2679224" h="537139">
                  <a:moveTo>
                    <a:pt x="17327" y="455077"/>
                  </a:moveTo>
                  <a:cubicBezTo>
                    <a:pt x="44681" y="433585"/>
                    <a:pt x="154098" y="394508"/>
                    <a:pt x="193175" y="384739"/>
                  </a:cubicBezTo>
                  <a:cubicBezTo>
                    <a:pt x="232252" y="374970"/>
                    <a:pt x="212713" y="398416"/>
                    <a:pt x="251790" y="396462"/>
                  </a:cubicBezTo>
                  <a:cubicBezTo>
                    <a:pt x="290867" y="394508"/>
                    <a:pt x="386605" y="392554"/>
                    <a:pt x="427636" y="373015"/>
                  </a:cubicBezTo>
                  <a:cubicBezTo>
                    <a:pt x="468667" y="353476"/>
                    <a:pt x="472575" y="318308"/>
                    <a:pt x="497975" y="279231"/>
                  </a:cubicBezTo>
                  <a:cubicBezTo>
                    <a:pt x="523375" y="240154"/>
                    <a:pt x="554636" y="160046"/>
                    <a:pt x="580036" y="138554"/>
                  </a:cubicBezTo>
                  <a:cubicBezTo>
                    <a:pt x="605436" y="117062"/>
                    <a:pt x="626929" y="134646"/>
                    <a:pt x="650375" y="150277"/>
                  </a:cubicBezTo>
                  <a:cubicBezTo>
                    <a:pt x="673821" y="165908"/>
                    <a:pt x="705082" y="204985"/>
                    <a:pt x="720713" y="232339"/>
                  </a:cubicBezTo>
                  <a:cubicBezTo>
                    <a:pt x="736344" y="259693"/>
                    <a:pt x="734390" y="290954"/>
                    <a:pt x="744159" y="314400"/>
                  </a:cubicBezTo>
                  <a:cubicBezTo>
                    <a:pt x="753928" y="337846"/>
                    <a:pt x="773467" y="355430"/>
                    <a:pt x="779329" y="373015"/>
                  </a:cubicBezTo>
                  <a:cubicBezTo>
                    <a:pt x="785191" y="390600"/>
                    <a:pt x="769560" y="417954"/>
                    <a:pt x="779329" y="419908"/>
                  </a:cubicBezTo>
                  <a:cubicBezTo>
                    <a:pt x="789098" y="421862"/>
                    <a:pt x="832083" y="404277"/>
                    <a:pt x="837944" y="384739"/>
                  </a:cubicBezTo>
                  <a:cubicBezTo>
                    <a:pt x="843805" y="365201"/>
                    <a:pt x="822313" y="328077"/>
                    <a:pt x="814498" y="302677"/>
                  </a:cubicBezTo>
                  <a:cubicBezTo>
                    <a:pt x="806683" y="277277"/>
                    <a:pt x="796913" y="251877"/>
                    <a:pt x="791052" y="232339"/>
                  </a:cubicBezTo>
                  <a:cubicBezTo>
                    <a:pt x="785191" y="212801"/>
                    <a:pt x="771514" y="204984"/>
                    <a:pt x="779329" y="185446"/>
                  </a:cubicBezTo>
                  <a:cubicBezTo>
                    <a:pt x="787144" y="165908"/>
                    <a:pt x="816452" y="136600"/>
                    <a:pt x="837944" y="115108"/>
                  </a:cubicBezTo>
                  <a:cubicBezTo>
                    <a:pt x="859436" y="93616"/>
                    <a:pt x="880928" y="66261"/>
                    <a:pt x="908282" y="56492"/>
                  </a:cubicBezTo>
                  <a:cubicBezTo>
                    <a:pt x="935636" y="46723"/>
                    <a:pt x="935636" y="62353"/>
                    <a:pt x="1002067" y="56492"/>
                  </a:cubicBezTo>
                  <a:cubicBezTo>
                    <a:pt x="1068498" y="50631"/>
                    <a:pt x="1236529" y="21323"/>
                    <a:pt x="1306867" y="21323"/>
                  </a:cubicBezTo>
                  <a:cubicBezTo>
                    <a:pt x="1377205" y="21323"/>
                    <a:pt x="1328360" y="58446"/>
                    <a:pt x="1424098" y="56492"/>
                  </a:cubicBezTo>
                  <a:cubicBezTo>
                    <a:pt x="1519836" y="54538"/>
                    <a:pt x="1777744" y="15461"/>
                    <a:pt x="1881298" y="9600"/>
                  </a:cubicBezTo>
                  <a:cubicBezTo>
                    <a:pt x="1984852" y="3738"/>
                    <a:pt x="1984852" y="-13846"/>
                    <a:pt x="2045421" y="21323"/>
                  </a:cubicBezTo>
                  <a:cubicBezTo>
                    <a:pt x="2105990" y="56492"/>
                    <a:pt x="2168513" y="154184"/>
                    <a:pt x="2244713" y="220615"/>
                  </a:cubicBezTo>
                  <a:cubicBezTo>
                    <a:pt x="2320913" y="287046"/>
                    <a:pt x="2432282" y="378877"/>
                    <a:pt x="2502621" y="419908"/>
                  </a:cubicBezTo>
                  <a:cubicBezTo>
                    <a:pt x="2572960" y="460939"/>
                    <a:pt x="2664790" y="449216"/>
                    <a:pt x="2666744" y="466800"/>
                  </a:cubicBezTo>
                  <a:cubicBezTo>
                    <a:pt x="2668698" y="484384"/>
                    <a:pt x="2740990" y="513692"/>
                    <a:pt x="2514344" y="525415"/>
                  </a:cubicBezTo>
                  <a:cubicBezTo>
                    <a:pt x="2287698" y="537138"/>
                    <a:pt x="1306867" y="537139"/>
                    <a:pt x="1306867" y="537139"/>
                  </a:cubicBezTo>
                  <a:lnTo>
                    <a:pt x="216621" y="537139"/>
                  </a:lnTo>
                  <a:cubicBezTo>
                    <a:pt x="3652" y="533231"/>
                    <a:pt x="62267" y="527369"/>
                    <a:pt x="29052" y="513692"/>
                  </a:cubicBezTo>
                  <a:cubicBezTo>
                    <a:pt x="-4163" y="500015"/>
                    <a:pt x="-10027" y="476569"/>
                    <a:pt x="17327" y="455077"/>
                  </a:cubicBez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9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7"/>
            <p:cNvSpPr/>
            <p:nvPr/>
          </p:nvSpPr>
          <p:spPr>
            <a:xfrm>
              <a:off x="4197240" y="1168200"/>
              <a:ext cx="635040" cy="2467080"/>
            </a:xfrm>
            <a:custGeom>
              <a:avLst/>
              <a:gdLst/>
              <a:ahLst/>
              <a:rect l="l" t="t" r="r" b="b"/>
              <a:pathLst>
                <a:path w="634547" h="2467997">
                  <a:moveTo>
                    <a:pt x="621359" y="63898"/>
                  </a:moveTo>
                  <a:cubicBezTo>
                    <a:pt x="609635" y="-188148"/>
                    <a:pt x="365405" y="380421"/>
                    <a:pt x="281389" y="474206"/>
                  </a:cubicBezTo>
                  <a:cubicBezTo>
                    <a:pt x="197374" y="567991"/>
                    <a:pt x="148527" y="526960"/>
                    <a:pt x="117266" y="626606"/>
                  </a:cubicBezTo>
                  <a:cubicBezTo>
                    <a:pt x="86004" y="726252"/>
                    <a:pt x="113358" y="915775"/>
                    <a:pt x="93820" y="1072083"/>
                  </a:cubicBezTo>
                  <a:cubicBezTo>
                    <a:pt x="74282" y="1228391"/>
                    <a:pt x="-1918" y="1437452"/>
                    <a:pt x="36" y="1564452"/>
                  </a:cubicBezTo>
                  <a:cubicBezTo>
                    <a:pt x="1990" y="1691452"/>
                    <a:pt x="46928" y="1730529"/>
                    <a:pt x="105543" y="1834083"/>
                  </a:cubicBezTo>
                  <a:cubicBezTo>
                    <a:pt x="164158" y="1937637"/>
                    <a:pt x="277482" y="2115437"/>
                    <a:pt x="351728" y="2185775"/>
                  </a:cubicBezTo>
                  <a:cubicBezTo>
                    <a:pt x="425974" y="2256113"/>
                    <a:pt x="529528" y="2211175"/>
                    <a:pt x="551020" y="2256113"/>
                  </a:cubicBezTo>
                  <a:cubicBezTo>
                    <a:pt x="572512" y="2301052"/>
                    <a:pt x="472867" y="2431960"/>
                    <a:pt x="480682" y="2455406"/>
                  </a:cubicBezTo>
                  <a:cubicBezTo>
                    <a:pt x="488497" y="2478852"/>
                    <a:pt x="572512" y="2474944"/>
                    <a:pt x="597912" y="2396790"/>
                  </a:cubicBezTo>
                  <a:cubicBezTo>
                    <a:pt x="623312" y="2318636"/>
                    <a:pt x="629174" y="2375298"/>
                    <a:pt x="633082" y="1986483"/>
                  </a:cubicBezTo>
                  <a:cubicBezTo>
                    <a:pt x="636990" y="1597668"/>
                    <a:pt x="633083" y="315944"/>
                    <a:pt x="621359" y="63898"/>
                  </a:cubicBez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8"/>
            <p:cNvSpPr/>
            <p:nvPr/>
          </p:nvSpPr>
          <p:spPr>
            <a:xfrm>
              <a:off x="4754520" y="3567240"/>
              <a:ext cx="2643480" cy="485640"/>
            </a:xfrm>
            <a:custGeom>
              <a:avLst/>
              <a:gdLst/>
              <a:ahLst/>
              <a:rect l="l" t="t" r="r" b="b"/>
              <a:pathLst>
                <a:path w="2643928" h="485460">
                  <a:moveTo>
                    <a:pt x="75115" y="102543"/>
                  </a:moveTo>
                  <a:cubicBezTo>
                    <a:pt x="96607" y="100589"/>
                    <a:pt x="94653" y="108404"/>
                    <a:pt x="133730" y="102543"/>
                  </a:cubicBezTo>
                  <a:cubicBezTo>
                    <a:pt x="172807" y="96682"/>
                    <a:pt x="266591" y="55651"/>
                    <a:pt x="309576" y="67374"/>
                  </a:cubicBezTo>
                  <a:cubicBezTo>
                    <a:pt x="352561" y="79097"/>
                    <a:pt x="334977" y="163113"/>
                    <a:pt x="391638" y="172882"/>
                  </a:cubicBezTo>
                  <a:lnTo>
                    <a:pt x="649545" y="125989"/>
                  </a:lnTo>
                  <a:cubicBezTo>
                    <a:pt x="698391" y="118174"/>
                    <a:pt x="669084" y="106450"/>
                    <a:pt x="684715" y="125989"/>
                  </a:cubicBezTo>
                  <a:cubicBezTo>
                    <a:pt x="700346" y="145528"/>
                    <a:pt x="690576" y="196328"/>
                    <a:pt x="743330" y="243220"/>
                  </a:cubicBezTo>
                  <a:cubicBezTo>
                    <a:pt x="796084" y="290112"/>
                    <a:pt x="903546" y="372174"/>
                    <a:pt x="1001238" y="407343"/>
                  </a:cubicBezTo>
                  <a:cubicBezTo>
                    <a:pt x="1098930" y="442512"/>
                    <a:pt x="1161453" y="446420"/>
                    <a:pt x="1329484" y="454235"/>
                  </a:cubicBezTo>
                  <a:cubicBezTo>
                    <a:pt x="1497515" y="462050"/>
                    <a:pt x="1872653" y="450327"/>
                    <a:pt x="2009422" y="454235"/>
                  </a:cubicBezTo>
                  <a:cubicBezTo>
                    <a:pt x="2146191" y="458143"/>
                    <a:pt x="2123054" y="503185"/>
                    <a:pt x="2150099" y="477682"/>
                  </a:cubicBezTo>
                  <a:cubicBezTo>
                    <a:pt x="2177144" y="452179"/>
                    <a:pt x="2150304" y="359835"/>
                    <a:pt x="2171694" y="301219"/>
                  </a:cubicBezTo>
                  <a:cubicBezTo>
                    <a:pt x="2193084" y="242603"/>
                    <a:pt x="2199974" y="168871"/>
                    <a:pt x="2278436" y="125989"/>
                  </a:cubicBezTo>
                  <a:cubicBezTo>
                    <a:pt x="2356899" y="83107"/>
                    <a:pt x="2667766" y="59559"/>
                    <a:pt x="2642469" y="43928"/>
                  </a:cubicBezTo>
                  <a:cubicBezTo>
                    <a:pt x="2617172" y="28297"/>
                    <a:pt x="2456853" y="38067"/>
                    <a:pt x="2126653" y="32205"/>
                  </a:cubicBezTo>
                  <a:lnTo>
                    <a:pt x="661269" y="8758"/>
                  </a:lnTo>
                  <a:cubicBezTo>
                    <a:pt x="321300" y="4850"/>
                    <a:pt x="196254" y="-8827"/>
                    <a:pt x="86838" y="8758"/>
                  </a:cubicBezTo>
                  <a:cubicBezTo>
                    <a:pt x="-22578" y="26343"/>
                    <a:pt x="868" y="96681"/>
                    <a:pt x="4776" y="114266"/>
                  </a:cubicBezTo>
                  <a:cubicBezTo>
                    <a:pt x="8684" y="131851"/>
                    <a:pt x="53623" y="104497"/>
                    <a:pt x="75115" y="102543"/>
                  </a:cubicBez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75" dir="6659923" blurRad="0" rotWithShape="0">
                <a:srgbClr val="000000">
                  <a:alpha val="9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6"/>
          <p:cNvGrpSpPr/>
          <p:nvPr/>
        </p:nvGrpSpPr>
        <p:grpSpPr>
          <a:xfrm>
            <a:off x="2381040" y="5156640"/>
            <a:ext cx="7591320" cy="1603800"/>
            <a:chOff x="2381040" y="5156640"/>
            <a:chExt cx="7591320" cy="1603800"/>
          </a:xfrm>
        </p:grpSpPr>
        <p:sp>
          <p:nvSpPr>
            <p:cNvPr id="55" name="任意多边形 12"/>
            <p:cNvSpPr/>
            <p:nvPr/>
          </p:nvSpPr>
          <p:spPr>
            <a:xfrm>
              <a:off x="3179880" y="5241600"/>
              <a:ext cx="6179040" cy="1209960"/>
            </a:xfrm>
            <a:custGeom>
              <a:avLst/>
              <a:gdLst/>
              <a:ahLst/>
              <a:rect l="l" t="t" r="r" b="b"/>
              <a:pathLst>
                <a:path w="6179293" h="1640914">
                  <a:moveTo>
                    <a:pt x="0" y="114077"/>
                  </a:moveTo>
                  <a:cubicBezTo>
                    <a:pt x="199189" y="63277"/>
                    <a:pt x="398379" y="12477"/>
                    <a:pt x="593558" y="17824"/>
                  </a:cubicBezTo>
                  <a:cubicBezTo>
                    <a:pt x="788737" y="23171"/>
                    <a:pt x="1032042" y="138140"/>
                    <a:pt x="1171074" y="146161"/>
                  </a:cubicBezTo>
                  <a:cubicBezTo>
                    <a:pt x="1310106" y="154182"/>
                    <a:pt x="1334169" y="57929"/>
                    <a:pt x="1427748" y="65950"/>
                  </a:cubicBezTo>
                  <a:cubicBezTo>
                    <a:pt x="1521327" y="73971"/>
                    <a:pt x="1644317" y="191613"/>
                    <a:pt x="1732548" y="194287"/>
                  </a:cubicBezTo>
                  <a:cubicBezTo>
                    <a:pt x="1820779" y="196961"/>
                    <a:pt x="1882274" y="95360"/>
                    <a:pt x="1957137" y="81992"/>
                  </a:cubicBezTo>
                  <a:cubicBezTo>
                    <a:pt x="2032000" y="68624"/>
                    <a:pt x="2125580" y="95361"/>
                    <a:pt x="2181727" y="114077"/>
                  </a:cubicBezTo>
                  <a:cubicBezTo>
                    <a:pt x="2237874" y="132793"/>
                    <a:pt x="2224505" y="167550"/>
                    <a:pt x="2294021" y="194287"/>
                  </a:cubicBezTo>
                  <a:cubicBezTo>
                    <a:pt x="2363537" y="221024"/>
                    <a:pt x="2510589" y="274498"/>
                    <a:pt x="2598821" y="274498"/>
                  </a:cubicBezTo>
                  <a:cubicBezTo>
                    <a:pt x="2687053" y="274498"/>
                    <a:pt x="2756569" y="237066"/>
                    <a:pt x="2823411" y="194287"/>
                  </a:cubicBezTo>
                  <a:cubicBezTo>
                    <a:pt x="2890253" y="151508"/>
                    <a:pt x="2959769" y="47234"/>
                    <a:pt x="2999874" y="17824"/>
                  </a:cubicBezTo>
                  <a:cubicBezTo>
                    <a:pt x="3039979" y="-11586"/>
                    <a:pt x="3064042" y="17824"/>
                    <a:pt x="3064042" y="17824"/>
                  </a:cubicBezTo>
                  <a:cubicBezTo>
                    <a:pt x="3112168" y="17824"/>
                    <a:pt x="3229811" y="-22281"/>
                    <a:pt x="3288632" y="17824"/>
                  </a:cubicBezTo>
                  <a:cubicBezTo>
                    <a:pt x="3347453" y="57929"/>
                    <a:pt x="3339432" y="210330"/>
                    <a:pt x="3416969" y="258456"/>
                  </a:cubicBezTo>
                  <a:cubicBezTo>
                    <a:pt x="3494506" y="306582"/>
                    <a:pt x="3660274" y="309256"/>
                    <a:pt x="3753853" y="306582"/>
                  </a:cubicBezTo>
                  <a:cubicBezTo>
                    <a:pt x="3847432" y="303908"/>
                    <a:pt x="3930316" y="274498"/>
                    <a:pt x="3978442" y="242414"/>
                  </a:cubicBezTo>
                  <a:cubicBezTo>
                    <a:pt x="4026568" y="210330"/>
                    <a:pt x="4023895" y="140814"/>
                    <a:pt x="4042611" y="114077"/>
                  </a:cubicBezTo>
                  <a:cubicBezTo>
                    <a:pt x="4061327" y="87340"/>
                    <a:pt x="4026569" y="87339"/>
                    <a:pt x="4090737" y="81992"/>
                  </a:cubicBezTo>
                  <a:cubicBezTo>
                    <a:pt x="4154905" y="76644"/>
                    <a:pt x="4309979" y="73971"/>
                    <a:pt x="4427621" y="81992"/>
                  </a:cubicBezTo>
                  <a:cubicBezTo>
                    <a:pt x="4545263" y="90013"/>
                    <a:pt x="4678948" y="79319"/>
                    <a:pt x="4796590" y="130119"/>
                  </a:cubicBezTo>
                  <a:cubicBezTo>
                    <a:pt x="4914232" y="180919"/>
                    <a:pt x="5039895" y="378771"/>
                    <a:pt x="5133474" y="386792"/>
                  </a:cubicBezTo>
                  <a:cubicBezTo>
                    <a:pt x="5227053" y="394813"/>
                    <a:pt x="5296568" y="215676"/>
                    <a:pt x="5358063" y="178245"/>
                  </a:cubicBezTo>
                  <a:cubicBezTo>
                    <a:pt x="5419558" y="140814"/>
                    <a:pt x="5408863" y="164877"/>
                    <a:pt x="5502442" y="162203"/>
                  </a:cubicBezTo>
                  <a:cubicBezTo>
                    <a:pt x="5596021" y="159529"/>
                    <a:pt x="5919537" y="162203"/>
                    <a:pt x="5919537" y="162203"/>
                  </a:cubicBezTo>
                  <a:cubicBezTo>
                    <a:pt x="6026484" y="162203"/>
                    <a:pt x="6104022" y="132793"/>
                    <a:pt x="6144127" y="162203"/>
                  </a:cubicBezTo>
                  <a:cubicBezTo>
                    <a:pt x="6184232" y="191614"/>
                    <a:pt x="6165516" y="258456"/>
                    <a:pt x="6160169" y="338666"/>
                  </a:cubicBezTo>
                  <a:cubicBezTo>
                    <a:pt x="6154822" y="418876"/>
                    <a:pt x="6120063" y="539192"/>
                    <a:pt x="6112042" y="643466"/>
                  </a:cubicBezTo>
                  <a:cubicBezTo>
                    <a:pt x="6104021" y="747740"/>
                    <a:pt x="6101347" y="865382"/>
                    <a:pt x="6112042" y="964308"/>
                  </a:cubicBezTo>
                  <a:cubicBezTo>
                    <a:pt x="6122737" y="1063234"/>
                    <a:pt x="6194927" y="1146119"/>
                    <a:pt x="6176211" y="1237024"/>
                  </a:cubicBezTo>
                  <a:cubicBezTo>
                    <a:pt x="6157495" y="1327929"/>
                    <a:pt x="6029158" y="1453593"/>
                    <a:pt x="5999748" y="1509740"/>
                  </a:cubicBezTo>
                  <a:cubicBezTo>
                    <a:pt x="5970338" y="1565887"/>
                    <a:pt x="6079959" y="1568561"/>
                    <a:pt x="5999748" y="1573908"/>
                  </a:cubicBezTo>
                  <a:cubicBezTo>
                    <a:pt x="5919537" y="1579255"/>
                    <a:pt x="5646821" y="1539150"/>
                    <a:pt x="5518484" y="1541824"/>
                  </a:cubicBezTo>
                  <a:cubicBezTo>
                    <a:pt x="5390147" y="1544498"/>
                    <a:pt x="5363411" y="1581929"/>
                    <a:pt x="5229727" y="1589950"/>
                  </a:cubicBezTo>
                  <a:cubicBezTo>
                    <a:pt x="5096043" y="1597971"/>
                    <a:pt x="4839368" y="1619360"/>
                    <a:pt x="4716379" y="1589950"/>
                  </a:cubicBezTo>
                  <a:cubicBezTo>
                    <a:pt x="4593390" y="1560540"/>
                    <a:pt x="4614779" y="1426855"/>
                    <a:pt x="4491790" y="1413487"/>
                  </a:cubicBezTo>
                  <a:cubicBezTo>
                    <a:pt x="4368801" y="1400119"/>
                    <a:pt x="4104105" y="1480330"/>
                    <a:pt x="3978442" y="1509740"/>
                  </a:cubicBezTo>
                  <a:cubicBezTo>
                    <a:pt x="3852779" y="1539150"/>
                    <a:pt x="3852779" y="1592624"/>
                    <a:pt x="3737811" y="1589950"/>
                  </a:cubicBezTo>
                  <a:cubicBezTo>
                    <a:pt x="3622843" y="1587276"/>
                    <a:pt x="3424990" y="1509740"/>
                    <a:pt x="3288632" y="1493698"/>
                  </a:cubicBezTo>
                  <a:cubicBezTo>
                    <a:pt x="3152274" y="1477656"/>
                    <a:pt x="3039979" y="1480330"/>
                    <a:pt x="2919663" y="1493698"/>
                  </a:cubicBezTo>
                  <a:cubicBezTo>
                    <a:pt x="2799347" y="1507066"/>
                    <a:pt x="2695074" y="1549845"/>
                    <a:pt x="2566737" y="1573908"/>
                  </a:cubicBezTo>
                  <a:cubicBezTo>
                    <a:pt x="2438400" y="1597971"/>
                    <a:pt x="2235200" y="1654119"/>
                    <a:pt x="2149642" y="1638077"/>
                  </a:cubicBezTo>
                  <a:cubicBezTo>
                    <a:pt x="2064084" y="1622035"/>
                    <a:pt x="2133600" y="1499045"/>
                    <a:pt x="2053390" y="1477656"/>
                  </a:cubicBezTo>
                  <a:cubicBezTo>
                    <a:pt x="1973180" y="1456267"/>
                    <a:pt x="1799389" y="1483003"/>
                    <a:pt x="1668379" y="1509740"/>
                  </a:cubicBezTo>
                  <a:cubicBezTo>
                    <a:pt x="1537369" y="1536477"/>
                    <a:pt x="1355558" y="1627382"/>
                    <a:pt x="1267327" y="1638077"/>
                  </a:cubicBezTo>
                  <a:cubicBezTo>
                    <a:pt x="1179096" y="1648772"/>
                    <a:pt x="1235243" y="1597971"/>
                    <a:pt x="1138990" y="1573908"/>
                  </a:cubicBezTo>
                  <a:cubicBezTo>
                    <a:pt x="1042737" y="1549845"/>
                    <a:pt x="879642" y="1507066"/>
                    <a:pt x="689811" y="1493698"/>
                  </a:cubicBezTo>
                  <a:cubicBezTo>
                    <a:pt x="499980" y="1480330"/>
                    <a:pt x="10695" y="1552520"/>
                    <a:pt x="1" y="1493699"/>
                  </a:cubicBezTo>
                  <a:cubicBezTo>
                    <a:pt x="1" y="1033825"/>
                    <a:pt x="0" y="573951"/>
                    <a:pt x="0" y="1140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3"/>
            <p:cNvSpPr/>
            <p:nvPr/>
          </p:nvSpPr>
          <p:spPr>
            <a:xfrm>
              <a:off x="3179880" y="5341320"/>
              <a:ext cx="6179040" cy="1008720"/>
            </a:xfrm>
            <a:custGeom>
              <a:avLst/>
              <a:gdLst/>
              <a:ahLst/>
              <a:rect l="l" t="t" r="r" b="b"/>
              <a:pathLst>
                <a:path w="6179293" h="1640914">
                  <a:moveTo>
                    <a:pt x="0" y="114077"/>
                  </a:moveTo>
                  <a:cubicBezTo>
                    <a:pt x="199189" y="63277"/>
                    <a:pt x="398379" y="12477"/>
                    <a:pt x="593558" y="17824"/>
                  </a:cubicBezTo>
                  <a:cubicBezTo>
                    <a:pt x="788737" y="23171"/>
                    <a:pt x="1032042" y="138140"/>
                    <a:pt x="1171074" y="146161"/>
                  </a:cubicBezTo>
                  <a:cubicBezTo>
                    <a:pt x="1310106" y="154182"/>
                    <a:pt x="1334169" y="57929"/>
                    <a:pt x="1427748" y="65950"/>
                  </a:cubicBezTo>
                  <a:cubicBezTo>
                    <a:pt x="1521327" y="73971"/>
                    <a:pt x="1644317" y="191613"/>
                    <a:pt x="1732548" y="194287"/>
                  </a:cubicBezTo>
                  <a:cubicBezTo>
                    <a:pt x="1820779" y="196961"/>
                    <a:pt x="1882274" y="95360"/>
                    <a:pt x="1957137" y="81992"/>
                  </a:cubicBezTo>
                  <a:cubicBezTo>
                    <a:pt x="2032000" y="68624"/>
                    <a:pt x="2125580" y="95361"/>
                    <a:pt x="2181727" y="114077"/>
                  </a:cubicBezTo>
                  <a:cubicBezTo>
                    <a:pt x="2237874" y="132793"/>
                    <a:pt x="2224505" y="167550"/>
                    <a:pt x="2294021" y="194287"/>
                  </a:cubicBezTo>
                  <a:cubicBezTo>
                    <a:pt x="2363537" y="221024"/>
                    <a:pt x="2510589" y="274498"/>
                    <a:pt x="2598821" y="274498"/>
                  </a:cubicBezTo>
                  <a:cubicBezTo>
                    <a:pt x="2687053" y="274498"/>
                    <a:pt x="2756569" y="237066"/>
                    <a:pt x="2823411" y="194287"/>
                  </a:cubicBezTo>
                  <a:cubicBezTo>
                    <a:pt x="2890253" y="151508"/>
                    <a:pt x="2959769" y="47234"/>
                    <a:pt x="2999874" y="17824"/>
                  </a:cubicBezTo>
                  <a:cubicBezTo>
                    <a:pt x="3039979" y="-11586"/>
                    <a:pt x="3064042" y="17824"/>
                    <a:pt x="3064042" y="17824"/>
                  </a:cubicBezTo>
                  <a:cubicBezTo>
                    <a:pt x="3112168" y="17824"/>
                    <a:pt x="3229811" y="-22281"/>
                    <a:pt x="3288632" y="17824"/>
                  </a:cubicBezTo>
                  <a:cubicBezTo>
                    <a:pt x="3347453" y="57929"/>
                    <a:pt x="3339432" y="210330"/>
                    <a:pt x="3416969" y="258456"/>
                  </a:cubicBezTo>
                  <a:cubicBezTo>
                    <a:pt x="3494506" y="306582"/>
                    <a:pt x="3660274" y="309256"/>
                    <a:pt x="3753853" y="306582"/>
                  </a:cubicBezTo>
                  <a:cubicBezTo>
                    <a:pt x="3847432" y="303908"/>
                    <a:pt x="3930316" y="274498"/>
                    <a:pt x="3978442" y="242414"/>
                  </a:cubicBezTo>
                  <a:cubicBezTo>
                    <a:pt x="4026568" y="210330"/>
                    <a:pt x="4023895" y="140814"/>
                    <a:pt x="4042611" y="114077"/>
                  </a:cubicBezTo>
                  <a:cubicBezTo>
                    <a:pt x="4061327" y="87340"/>
                    <a:pt x="4026569" y="87339"/>
                    <a:pt x="4090737" y="81992"/>
                  </a:cubicBezTo>
                  <a:cubicBezTo>
                    <a:pt x="4154905" y="76644"/>
                    <a:pt x="4309979" y="73971"/>
                    <a:pt x="4427621" y="81992"/>
                  </a:cubicBezTo>
                  <a:cubicBezTo>
                    <a:pt x="4545263" y="90013"/>
                    <a:pt x="4678948" y="79319"/>
                    <a:pt x="4796590" y="130119"/>
                  </a:cubicBezTo>
                  <a:cubicBezTo>
                    <a:pt x="4914232" y="180919"/>
                    <a:pt x="5039895" y="378771"/>
                    <a:pt x="5133474" y="386792"/>
                  </a:cubicBezTo>
                  <a:cubicBezTo>
                    <a:pt x="5227053" y="394813"/>
                    <a:pt x="5296568" y="215676"/>
                    <a:pt x="5358063" y="178245"/>
                  </a:cubicBezTo>
                  <a:cubicBezTo>
                    <a:pt x="5419558" y="140814"/>
                    <a:pt x="5408863" y="164877"/>
                    <a:pt x="5502442" y="162203"/>
                  </a:cubicBezTo>
                  <a:cubicBezTo>
                    <a:pt x="5596021" y="159529"/>
                    <a:pt x="5919537" y="162203"/>
                    <a:pt x="5919537" y="162203"/>
                  </a:cubicBezTo>
                  <a:cubicBezTo>
                    <a:pt x="6026484" y="162203"/>
                    <a:pt x="6104022" y="132793"/>
                    <a:pt x="6144127" y="162203"/>
                  </a:cubicBezTo>
                  <a:cubicBezTo>
                    <a:pt x="6184232" y="191614"/>
                    <a:pt x="6165516" y="258456"/>
                    <a:pt x="6160169" y="338666"/>
                  </a:cubicBezTo>
                  <a:cubicBezTo>
                    <a:pt x="6154822" y="418876"/>
                    <a:pt x="6120063" y="539192"/>
                    <a:pt x="6112042" y="643466"/>
                  </a:cubicBezTo>
                  <a:cubicBezTo>
                    <a:pt x="6104021" y="747740"/>
                    <a:pt x="6101347" y="865382"/>
                    <a:pt x="6112042" y="964308"/>
                  </a:cubicBezTo>
                  <a:cubicBezTo>
                    <a:pt x="6122737" y="1063234"/>
                    <a:pt x="6194927" y="1146119"/>
                    <a:pt x="6176211" y="1237024"/>
                  </a:cubicBezTo>
                  <a:cubicBezTo>
                    <a:pt x="6157495" y="1327929"/>
                    <a:pt x="6029158" y="1453593"/>
                    <a:pt x="5999748" y="1509740"/>
                  </a:cubicBezTo>
                  <a:cubicBezTo>
                    <a:pt x="5970338" y="1565887"/>
                    <a:pt x="6079959" y="1568561"/>
                    <a:pt x="5999748" y="1573908"/>
                  </a:cubicBezTo>
                  <a:cubicBezTo>
                    <a:pt x="5919537" y="1579255"/>
                    <a:pt x="5646821" y="1539150"/>
                    <a:pt x="5518484" y="1541824"/>
                  </a:cubicBezTo>
                  <a:cubicBezTo>
                    <a:pt x="5390147" y="1544498"/>
                    <a:pt x="5363411" y="1581929"/>
                    <a:pt x="5229727" y="1589950"/>
                  </a:cubicBezTo>
                  <a:cubicBezTo>
                    <a:pt x="5096043" y="1597971"/>
                    <a:pt x="4839368" y="1619360"/>
                    <a:pt x="4716379" y="1589950"/>
                  </a:cubicBezTo>
                  <a:cubicBezTo>
                    <a:pt x="4593390" y="1560540"/>
                    <a:pt x="4614779" y="1426855"/>
                    <a:pt x="4491790" y="1413487"/>
                  </a:cubicBezTo>
                  <a:cubicBezTo>
                    <a:pt x="4368801" y="1400119"/>
                    <a:pt x="4104105" y="1480330"/>
                    <a:pt x="3978442" y="1509740"/>
                  </a:cubicBezTo>
                  <a:cubicBezTo>
                    <a:pt x="3852779" y="1539150"/>
                    <a:pt x="3852779" y="1592624"/>
                    <a:pt x="3737811" y="1589950"/>
                  </a:cubicBezTo>
                  <a:cubicBezTo>
                    <a:pt x="3622843" y="1587276"/>
                    <a:pt x="3424990" y="1509740"/>
                    <a:pt x="3288632" y="1493698"/>
                  </a:cubicBezTo>
                  <a:cubicBezTo>
                    <a:pt x="3152274" y="1477656"/>
                    <a:pt x="3039979" y="1480330"/>
                    <a:pt x="2919663" y="1493698"/>
                  </a:cubicBezTo>
                  <a:cubicBezTo>
                    <a:pt x="2799347" y="1507066"/>
                    <a:pt x="2695074" y="1549845"/>
                    <a:pt x="2566737" y="1573908"/>
                  </a:cubicBezTo>
                  <a:cubicBezTo>
                    <a:pt x="2438400" y="1597971"/>
                    <a:pt x="2235200" y="1654119"/>
                    <a:pt x="2149642" y="1638077"/>
                  </a:cubicBezTo>
                  <a:cubicBezTo>
                    <a:pt x="2064084" y="1622035"/>
                    <a:pt x="2133600" y="1499045"/>
                    <a:pt x="2053390" y="1477656"/>
                  </a:cubicBezTo>
                  <a:cubicBezTo>
                    <a:pt x="1973180" y="1456267"/>
                    <a:pt x="1799389" y="1483003"/>
                    <a:pt x="1668379" y="1509740"/>
                  </a:cubicBezTo>
                  <a:cubicBezTo>
                    <a:pt x="1537369" y="1536477"/>
                    <a:pt x="1355558" y="1627382"/>
                    <a:pt x="1267327" y="1638077"/>
                  </a:cubicBezTo>
                  <a:cubicBezTo>
                    <a:pt x="1179096" y="1648772"/>
                    <a:pt x="1235243" y="1597971"/>
                    <a:pt x="1138990" y="1573908"/>
                  </a:cubicBezTo>
                  <a:cubicBezTo>
                    <a:pt x="1042737" y="1549845"/>
                    <a:pt x="879642" y="1507066"/>
                    <a:pt x="689811" y="1493698"/>
                  </a:cubicBezTo>
                  <a:cubicBezTo>
                    <a:pt x="499980" y="1480330"/>
                    <a:pt x="10695" y="1552520"/>
                    <a:pt x="1" y="1493699"/>
                  </a:cubicBezTo>
                  <a:cubicBezTo>
                    <a:pt x="1" y="1033825"/>
                    <a:pt x="0" y="573951"/>
                    <a:pt x="0" y="114077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图片 14" descr=""/>
            <p:cNvPicPr/>
            <p:nvPr/>
          </p:nvPicPr>
          <p:blipFill>
            <a:blip r:embed="rId4"/>
            <a:stretch/>
          </p:blipFill>
          <p:spPr>
            <a:xfrm rot="21321000">
              <a:off x="8921520" y="5194080"/>
              <a:ext cx="990360" cy="1528560"/>
            </a:xfrm>
            <a:prstGeom prst="rect">
              <a:avLst/>
            </a:prstGeom>
            <a:ln w="0">
              <a:noFill/>
            </a:ln>
            <a:effectLst>
              <a:outerShdw dist="88972" dir="2513029" blurRad="0" rotWithShape="0">
                <a:srgbClr val="000000">
                  <a:alpha val="71000"/>
                </a:srgbClr>
              </a:outerShdw>
            </a:effectLst>
          </p:spPr>
        </p:pic>
        <p:pic>
          <p:nvPicPr>
            <p:cNvPr id="58" name="图片 15" descr=""/>
            <p:cNvPicPr/>
            <p:nvPr/>
          </p:nvPicPr>
          <p:blipFill>
            <a:blip r:embed="rId5"/>
            <a:stretch/>
          </p:blipFill>
          <p:spPr>
            <a:xfrm flipH="1" rot="279000">
              <a:off x="2441160" y="5194080"/>
              <a:ext cx="990360" cy="1528560"/>
            </a:xfrm>
            <a:prstGeom prst="rect">
              <a:avLst/>
            </a:prstGeom>
            <a:ln w="0">
              <a:noFill/>
            </a:ln>
            <a:effectLst>
              <a:outerShdw dist="88972" dir="2513029" blurRad="0" rotWithShape="0">
                <a:srgbClr val="000000">
                  <a:alpha val="71000"/>
                </a:srgbClr>
              </a:outerShdw>
            </a:effectLst>
          </p:spPr>
        </p:pic>
      </p:grpSp>
      <p:sp>
        <p:nvSpPr>
          <p:cNvPr id="59" name="矩形 17"/>
          <p:cNvSpPr/>
          <p:nvPr/>
        </p:nvSpPr>
        <p:spPr>
          <a:xfrm>
            <a:off x="4157640" y="1125360"/>
            <a:ext cx="3882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请在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放置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3333600" y="5492880"/>
            <a:ext cx="55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在此放置您的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3277800" y="14760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欧美风大图背景撕纸效果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7"/>
          <p:cNvGrpSpPr/>
          <p:nvPr/>
        </p:nvGrpSpPr>
        <p:grpSpPr>
          <a:xfrm>
            <a:off x="-96840" y="2417040"/>
            <a:ext cx="12515760" cy="2585160"/>
            <a:chOff x="-96840" y="2417040"/>
            <a:chExt cx="12515760" cy="2585160"/>
          </a:xfrm>
        </p:grpSpPr>
        <p:grpSp>
          <p:nvGrpSpPr>
            <p:cNvPr id="64" name="组合 1"/>
            <p:cNvGrpSpPr/>
            <p:nvPr/>
          </p:nvGrpSpPr>
          <p:grpSpPr>
            <a:xfrm>
              <a:off x="-96840" y="2455920"/>
              <a:ext cx="12515760" cy="1914840"/>
              <a:chOff x="-96840" y="2455920"/>
              <a:chExt cx="12515760" cy="1914840"/>
            </a:xfrm>
          </p:grpSpPr>
          <p:sp>
            <p:nvSpPr>
              <p:cNvPr id="65" name="任意多边形 2"/>
              <p:cNvSpPr/>
              <p:nvPr/>
            </p:nvSpPr>
            <p:spPr>
              <a:xfrm>
                <a:off x="-86400" y="2529000"/>
                <a:ext cx="12356640" cy="1824840"/>
              </a:xfrm>
              <a:custGeom>
                <a:avLst/>
                <a:gdLst/>
                <a:ahLst/>
                <a:rect l="l" t="t" r="r" b="b"/>
                <a:pathLst>
                  <a:path w="10696126" h="2391826">
                    <a:moveTo>
                      <a:pt x="86581" y="249852"/>
                    </a:moveTo>
                    <a:cubicBezTo>
                      <a:pt x="97019" y="-98789"/>
                      <a:pt x="46915" y="51524"/>
                      <a:pt x="74055" y="61962"/>
                    </a:cubicBezTo>
                    <a:cubicBezTo>
                      <a:pt x="101195" y="72400"/>
                      <a:pt x="197227" y="285342"/>
                      <a:pt x="249419" y="312482"/>
                    </a:cubicBezTo>
                    <a:cubicBezTo>
                      <a:pt x="301611" y="339622"/>
                      <a:pt x="345453" y="239414"/>
                      <a:pt x="387206" y="224800"/>
                    </a:cubicBezTo>
                    <a:cubicBezTo>
                      <a:pt x="428960" y="210186"/>
                      <a:pt x="476976" y="220625"/>
                      <a:pt x="499940" y="224800"/>
                    </a:cubicBezTo>
                    <a:cubicBezTo>
                      <a:pt x="522904" y="228975"/>
                      <a:pt x="504115" y="231063"/>
                      <a:pt x="524992" y="249852"/>
                    </a:cubicBezTo>
                    <a:cubicBezTo>
                      <a:pt x="545869" y="268641"/>
                      <a:pt x="604323" y="331271"/>
                      <a:pt x="625200" y="337534"/>
                    </a:cubicBezTo>
                    <a:cubicBezTo>
                      <a:pt x="646077" y="343797"/>
                      <a:pt x="641901" y="302044"/>
                      <a:pt x="650252" y="287430"/>
                    </a:cubicBezTo>
                    <a:cubicBezTo>
                      <a:pt x="658603" y="272816"/>
                      <a:pt x="660691" y="245677"/>
                      <a:pt x="675304" y="249852"/>
                    </a:cubicBezTo>
                    <a:cubicBezTo>
                      <a:pt x="689917" y="254027"/>
                      <a:pt x="717057" y="304131"/>
                      <a:pt x="737934" y="312482"/>
                    </a:cubicBezTo>
                    <a:cubicBezTo>
                      <a:pt x="758811" y="320833"/>
                      <a:pt x="781776" y="304131"/>
                      <a:pt x="800565" y="299956"/>
                    </a:cubicBezTo>
                    <a:cubicBezTo>
                      <a:pt x="819354" y="295781"/>
                      <a:pt x="827705" y="289518"/>
                      <a:pt x="850669" y="287430"/>
                    </a:cubicBezTo>
                    <a:cubicBezTo>
                      <a:pt x="873633" y="285342"/>
                      <a:pt x="900773" y="279079"/>
                      <a:pt x="938351" y="287430"/>
                    </a:cubicBezTo>
                    <a:cubicBezTo>
                      <a:pt x="975929" y="295781"/>
                      <a:pt x="1034384" y="335446"/>
                      <a:pt x="1076137" y="337534"/>
                    </a:cubicBezTo>
                    <a:cubicBezTo>
                      <a:pt x="1117890" y="339622"/>
                      <a:pt x="1155468" y="310394"/>
                      <a:pt x="1188871" y="299956"/>
                    </a:cubicBezTo>
                    <a:cubicBezTo>
                      <a:pt x="1222274" y="289518"/>
                      <a:pt x="1257765" y="270729"/>
                      <a:pt x="1276554" y="274904"/>
                    </a:cubicBezTo>
                    <a:cubicBezTo>
                      <a:pt x="1295343" y="279079"/>
                      <a:pt x="1272379" y="316657"/>
                      <a:pt x="1301606" y="325008"/>
                    </a:cubicBezTo>
                    <a:cubicBezTo>
                      <a:pt x="1330833" y="333359"/>
                      <a:pt x="1416428" y="329183"/>
                      <a:pt x="1451918" y="325008"/>
                    </a:cubicBezTo>
                    <a:cubicBezTo>
                      <a:pt x="1487408" y="320833"/>
                      <a:pt x="1499934" y="320833"/>
                      <a:pt x="1514548" y="299956"/>
                    </a:cubicBezTo>
                    <a:cubicBezTo>
                      <a:pt x="1529162" y="279079"/>
                      <a:pt x="1518723" y="212274"/>
                      <a:pt x="1539600" y="199748"/>
                    </a:cubicBezTo>
                    <a:cubicBezTo>
                      <a:pt x="1560477" y="187222"/>
                      <a:pt x="1612668" y="220625"/>
                      <a:pt x="1639808" y="224800"/>
                    </a:cubicBezTo>
                    <a:cubicBezTo>
                      <a:pt x="1666948" y="228975"/>
                      <a:pt x="1660686" y="231063"/>
                      <a:pt x="1702439" y="224800"/>
                    </a:cubicBezTo>
                    <a:cubicBezTo>
                      <a:pt x="1744192" y="218537"/>
                      <a:pt x="1844400" y="201836"/>
                      <a:pt x="1890329" y="187222"/>
                    </a:cubicBezTo>
                    <a:cubicBezTo>
                      <a:pt x="1936258" y="172608"/>
                      <a:pt x="1948784" y="130855"/>
                      <a:pt x="1978011" y="137118"/>
                    </a:cubicBezTo>
                    <a:cubicBezTo>
                      <a:pt x="2007238" y="143381"/>
                      <a:pt x="2040641" y="210186"/>
                      <a:pt x="2065693" y="224800"/>
                    </a:cubicBezTo>
                    <a:cubicBezTo>
                      <a:pt x="2090745" y="239414"/>
                      <a:pt x="2128323" y="224800"/>
                      <a:pt x="2128323" y="224800"/>
                    </a:cubicBezTo>
                    <a:cubicBezTo>
                      <a:pt x="2151287" y="224800"/>
                      <a:pt x="2184691" y="216449"/>
                      <a:pt x="2203480" y="224800"/>
                    </a:cubicBezTo>
                    <a:cubicBezTo>
                      <a:pt x="2222269" y="233151"/>
                      <a:pt x="2220181" y="272816"/>
                      <a:pt x="2241058" y="274904"/>
                    </a:cubicBezTo>
                    <a:cubicBezTo>
                      <a:pt x="2261935" y="276992"/>
                      <a:pt x="2295337" y="254027"/>
                      <a:pt x="2328740" y="237326"/>
                    </a:cubicBezTo>
                    <a:cubicBezTo>
                      <a:pt x="2362143" y="220625"/>
                      <a:pt x="2403896" y="180959"/>
                      <a:pt x="2441474" y="174696"/>
                    </a:cubicBezTo>
                    <a:cubicBezTo>
                      <a:pt x="2479052" y="168433"/>
                      <a:pt x="2512455" y="189310"/>
                      <a:pt x="2554208" y="199748"/>
                    </a:cubicBezTo>
                    <a:cubicBezTo>
                      <a:pt x="2595961" y="210186"/>
                      <a:pt x="2643979" y="231063"/>
                      <a:pt x="2691995" y="237326"/>
                    </a:cubicBezTo>
                    <a:cubicBezTo>
                      <a:pt x="2740012" y="243589"/>
                      <a:pt x="2802641" y="245677"/>
                      <a:pt x="2842307" y="237326"/>
                    </a:cubicBezTo>
                    <a:cubicBezTo>
                      <a:pt x="2881973" y="228975"/>
                      <a:pt x="2890323" y="187222"/>
                      <a:pt x="2929989" y="187222"/>
                    </a:cubicBezTo>
                    <a:cubicBezTo>
                      <a:pt x="2969655" y="187222"/>
                      <a:pt x="3044811" y="228975"/>
                      <a:pt x="3080302" y="237326"/>
                    </a:cubicBezTo>
                    <a:cubicBezTo>
                      <a:pt x="3115793" y="245677"/>
                      <a:pt x="3142932" y="237326"/>
                      <a:pt x="3142932" y="237326"/>
                    </a:cubicBezTo>
                    <a:cubicBezTo>
                      <a:pt x="3170072" y="237326"/>
                      <a:pt x="3213913" y="224800"/>
                      <a:pt x="3243140" y="237326"/>
                    </a:cubicBezTo>
                    <a:cubicBezTo>
                      <a:pt x="3272367" y="249852"/>
                      <a:pt x="3286981" y="304131"/>
                      <a:pt x="3318296" y="312482"/>
                    </a:cubicBezTo>
                    <a:cubicBezTo>
                      <a:pt x="3349611" y="320833"/>
                      <a:pt x="3401803" y="304131"/>
                      <a:pt x="3431030" y="287430"/>
                    </a:cubicBezTo>
                    <a:cubicBezTo>
                      <a:pt x="3460257" y="270729"/>
                      <a:pt x="3466520" y="210186"/>
                      <a:pt x="3493660" y="212274"/>
                    </a:cubicBezTo>
                    <a:cubicBezTo>
                      <a:pt x="3520800" y="214362"/>
                      <a:pt x="3568817" y="285342"/>
                      <a:pt x="3593869" y="299956"/>
                    </a:cubicBezTo>
                    <a:cubicBezTo>
                      <a:pt x="3618921" y="314570"/>
                      <a:pt x="3631447" y="306219"/>
                      <a:pt x="3643973" y="299956"/>
                    </a:cubicBezTo>
                    <a:cubicBezTo>
                      <a:pt x="3656499" y="293693"/>
                      <a:pt x="3652324" y="281167"/>
                      <a:pt x="3669025" y="262378"/>
                    </a:cubicBezTo>
                    <a:cubicBezTo>
                      <a:pt x="3685726" y="243589"/>
                      <a:pt x="3727480" y="189310"/>
                      <a:pt x="3744181" y="187222"/>
                    </a:cubicBezTo>
                    <a:cubicBezTo>
                      <a:pt x="3760882" y="185134"/>
                      <a:pt x="3746269" y="233151"/>
                      <a:pt x="3769233" y="249852"/>
                    </a:cubicBezTo>
                    <a:cubicBezTo>
                      <a:pt x="3792197" y="266553"/>
                      <a:pt x="3844389" y="281167"/>
                      <a:pt x="3881967" y="287430"/>
                    </a:cubicBezTo>
                    <a:cubicBezTo>
                      <a:pt x="3919545" y="293693"/>
                      <a:pt x="3969650" y="291605"/>
                      <a:pt x="3994702" y="287430"/>
                    </a:cubicBezTo>
                    <a:cubicBezTo>
                      <a:pt x="4019754" y="283255"/>
                      <a:pt x="4007228" y="254027"/>
                      <a:pt x="4032280" y="262378"/>
                    </a:cubicBezTo>
                    <a:cubicBezTo>
                      <a:pt x="4057332" y="270729"/>
                      <a:pt x="4115787" y="331271"/>
                      <a:pt x="4145014" y="337534"/>
                    </a:cubicBezTo>
                    <a:cubicBezTo>
                      <a:pt x="4174241" y="343797"/>
                      <a:pt x="4184680" y="320833"/>
                      <a:pt x="4207644" y="299956"/>
                    </a:cubicBezTo>
                    <a:cubicBezTo>
                      <a:pt x="4230608" y="279079"/>
                      <a:pt x="4255660" y="216449"/>
                      <a:pt x="4282800" y="212274"/>
                    </a:cubicBezTo>
                    <a:cubicBezTo>
                      <a:pt x="4309940" y="208099"/>
                      <a:pt x="4334992" y="270729"/>
                      <a:pt x="4370482" y="274904"/>
                    </a:cubicBezTo>
                    <a:cubicBezTo>
                      <a:pt x="4405972" y="279079"/>
                      <a:pt x="4464428" y="251940"/>
                      <a:pt x="4495743" y="237326"/>
                    </a:cubicBezTo>
                    <a:cubicBezTo>
                      <a:pt x="4527058" y="222712"/>
                      <a:pt x="4535409" y="178871"/>
                      <a:pt x="4558373" y="187222"/>
                    </a:cubicBezTo>
                    <a:cubicBezTo>
                      <a:pt x="4581337" y="195573"/>
                      <a:pt x="4612652" y="272816"/>
                      <a:pt x="4633529" y="287430"/>
                    </a:cubicBezTo>
                    <a:cubicBezTo>
                      <a:pt x="4654406" y="302044"/>
                      <a:pt x="4660669" y="293693"/>
                      <a:pt x="4683633" y="274904"/>
                    </a:cubicBezTo>
                    <a:cubicBezTo>
                      <a:pt x="4706597" y="256115"/>
                      <a:pt x="4740000" y="183047"/>
                      <a:pt x="4771315" y="174696"/>
                    </a:cubicBezTo>
                    <a:cubicBezTo>
                      <a:pt x="4802630" y="166345"/>
                      <a:pt x="4844383" y="216449"/>
                      <a:pt x="4871523" y="224800"/>
                    </a:cubicBezTo>
                    <a:cubicBezTo>
                      <a:pt x="4898663" y="233151"/>
                      <a:pt x="4907014" y="233151"/>
                      <a:pt x="4934154" y="224800"/>
                    </a:cubicBezTo>
                    <a:cubicBezTo>
                      <a:pt x="4961294" y="216449"/>
                      <a:pt x="4982170" y="197660"/>
                      <a:pt x="5034362" y="174696"/>
                    </a:cubicBezTo>
                    <a:cubicBezTo>
                      <a:pt x="5086554" y="151732"/>
                      <a:pt x="5201375" y="114154"/>
                      <a:pt x="5247304" y="87014"/>
                    </a:cubicBezTo>
                    <a:cubicBezTo>
                      <a:pt x="5293233" y="59874"/>
                      <a:pt x="5291145" y="24384"/>
                      <a:pt x="5309934" y="11858"/>
                    </a:cubicBezTo>
                    <a:cubicBezTo>
                      <a:pt x="5328723" y="-668"/>
                      <a:pt x="5328724" y="-6931"/>
                      <a:pt x="5360039" y="11858"/>
                    </a:cubicBezTo>
                    <a:cubicBezTo>
                      <a:pt x="5391354" y="30647"/>
                      <a:pt x="5460247" y="107891"/>
                      <a:pt x="5497825" y="124592"/>
                    </a:cubicBezTo>
                    <a:cubicBezTo>
                      <a:pt x="5535403" y="141293"/>
                      <a:pt x="5558367" y="124592"/>
                      <a:pt x="5585507" y="112066"/>
                    </a:cubicBezTo>
                    <a:cubicBezTo>
                      <a:pt x="5612647" y="99540"/>
                      <a:pt x="5631436" y="49436"/>
                      <a:pt x="5660663" y="49436"/>
                    </a:cubicBezTo>
                    <a:cubicBezTo>
                      <a:pt x="5689890" y="49436"/>
                      <a:pt x="5725381" y="93277"/>
                      <a:pt x="5760871" y="112066"/>
                    </a:cubicBezTo>
                    <a:cubicBezTo>
                      <a:pt x="5796361" y="130855"/>
                      <a:pt x="5838115" y="153819"/>
                      <a:pt x="5873606" y="162170"/>
                    </a:cubicBezTo>
                    <a:cubicBezTo>
                      <a:pt x="5909097" y="170521"/>
                      <a:pt x="5930851" y="169019"/>
                      <a:pt x="5973814" y="162170"/>
                    </a:cubicBezTo>
                    <a:cubicBezTo>
                      <a:pt x="6016777" y="155321"/>
                      <a:pt x="6079195" y="114811"/>
                      <a:pt x="6131387" y="121074"/>
                    </a:cubicBezTo>
                    <a:cubicBezTo>
                      <a:pt x="6183579" y="127337"/>
                      <a:pt x="6246422" y="197074"/>
                      <a:pt x="6286965" y="199748"/>
                    </a:cubicBezTo>
                    <a:cubicBezTo>
                      <a:pt x="6327508" y="202422"/>
                      <a:pt x="6341244" y="147556"/>
                      <a:pt x="6374647" y="137118"/>
                    </a:cubicBezTo>
                    <a:cubicBezTo>
                      <a:pt x="6408050" y="126680"/>
                      <a:pt x="6449803" y="128767"/>
                      <a:pt x="6487381" y="137118"/>
                    </a:cubicBezTo>
                    <a:cubicBezTo>
                      <a:pt x="6524959" y="145469"/>
                      <a:pt x="6568800" y="174696"/>
                      <a:pt x="6600115" y="187222"/>
                    </a:cubicBezTo>
                    <a:cubicBezTo>
                      <a:pt x="6631430" y="199748"/>
                      <a:pt x="6650219" y="218537"/>
                      <a:pt x="6675271" y="212274"/>
                    </a:cubicBezTo>
                    <a:cubicBezTo>
                      <a:pt x="6700323" y="206011"/>
                      <a:pt x="6725376" y="166345"/>
                      <a:pt x="6750428" y="149644"/>
                    </a:cubicBezTo>
                    <a:cubicBezTo>
                      <a:pt x="6775480" y="132943"/>
                      <a:pt x="6781743" y="122504"/>
                      <a:pt x="6825584" y="112066"/>
                    </a:cubicBezTo>
                    <a:cubicBezTo>
                      <a:pt x="6869425" y="101628"/>
                      <a:pt x="6961282" y="76576"/>
                      <a:pt x="7013474" y="87014"/>
                    </a:cubicBezTo>
                    <a:cubicBezTo>
                      <a:pt x="7065666" y="97452"/>
                      <a:pt x="7099068" y="160082"/>
                      <a:pt x="7138734" y="174696"/>
                    </a:cubicBezTo>
                    <a:cubicBezTo>
                      <a:pt x="7178400" y="189310"/>
                      <a:pt x="7218066" y="178871"/>
                      <a:pt x="7251469" y="174696"/>
                    </a:cubicBezTo>
                    <a:cubicBezTo>
                      <a:pt x="7284872" y="170521"/>
                      <a:pt x="7303661" y="157995"/>
                      <a:pt x="7339151" y="149644"/>
                    </a:cubicBezTo>
                    <a:cubicBezTo>
                      <a:pt x="7374641" y="141293"/>
                      <a:pt x="7424745" y="116241"/>
                      <a:pt x="7464411" y="124592"/>
                    </a:cubicBezTo>
                    <a:cubicBezTo>
                      <a:pt x="7504077" y="132943"/>
                      <a:pt x="7545830" y="187222"/>
                      <a:pt x="7577145" y="199748"/>
                    </a:cubicBezTo>
                    <a:cubicBezTo>
                      <a:pt x="7608460" y="212274"/>
                      <a:pt x="7623075" y="212274"/>
                      <a:pt x="7652302" y="199748"/>
                    </a:cubicBezTo>
                    <a:cubicBezTo>
                      <a:pt x="7681529" y="187222"/>
                      <a:pt x="7719107" y="132943"/>
                      <a:pt x="7752510" y="124592"/>
                    </a:cubicBezTo>
                    <a:cubicBezTo>
                      <a:pt x="7785913" y="116241"/>
                      <a:pt x="7815140" y="128767"/>
                      <a:pt x="7852718" y="149644"/>
                    </a:cubicBezTo>
                    <a:cubicBezTo>
                      <a:pt x="7890296" y="170521"/>
                      <a:pt x="7938312" y="233151"/>
                      <a:pt x="7977978" y="249852"/>
                    </a:cubicBezTo>
                    <a:cubicBezTo>
                      <a:pt x="8017644" y="266553"/>
                      <a:pt x="8048959" y="254027"/>
                      <a:pt x="8090713" y="249852"/>
                    </a:cubicBezTo>
                    <a:cubicBezTo>
                      <a:pt x="8132467" y="245677"/>
                      <a:pt x="8195096" y="222712"/>
                      <a:pt x="8228499" y="224800"/>
                    </a:cubicBezTo>
                    <a:cubicBezTo>
                      <a:pt x="8261902" y="226888"/>
                      <a:pt x="8257726" y="260290"/>
                      <a:pt x="8291129" y="262378"/>
                    </a:cubicBezTo>
                    <a:cubicBezTo>
                      <a:pt x="8324532" y="264466"/>
                      <a:pt x="8380899" y="251940"/>
                      <a:pt x="8428915" y="237326"/>
                    </a:cubicBezTo>
                    <a:cubicBezTo>
                      <a:pt x="8476932" y="222712"/>
                      <a:pt x="8541650" y="172608"/>
                      <a:pt x="8579228" y="174696"/>
                    </a:cubicBezTo>
                    <a:cubicBezTo>
                      <a:pt x="8616806" y="176784"/>
                      <a:pt x="8625157" y="235238"/>
                      <a:pt x="8654384" y="249852"/>
                    </a:cubicBezTo>
                    <a:cubicBezTo>
                      <a:pt x="8683611" y="264466"/>
                      <a:pt x="8721189" y="270729"/>
                      <a:pt x="8754592" y="262378"/>
                    </a:cubicBezTo>
                    <a:cubicBezTo>
                      <a:pt x="8787995" y="254027"/>
                      <a:pt x="8825573" y="216449"/>
                      <a:pt x="8854800" y="199748"/>
                    </a:cubicBezTo>
                    <a:cubicBezTo>
                      <a:pt x="8884027" y="183047"/>
                      <a:pt x="8906992" y="157995"/>
                      <a:pt x="8929956" y="162170"/>
                    </a:cubicBezTo>
                    <a:cubicBezTo>
                      <a:pt x="8952920" y="166345"/>
                      <a:pt x="8959184" y="214362"/>
                      <a:pt x="8992587" y="224800"/>
                    </a:cubicBezTo>
                    <a:cubicBezTo>
                      <a:pt x="9025990" y="235238"/>
                      <a:pt x="9090707" y="235238"/>
                      <a:pt x="9130373" y="224800"/>
                    </a:cubicBezTo>
                    <a:cubicBezTo>
                      <a:pt x="9170039" y="214362"/>
                      <a:pt x="9197178" y="172608"/>
                      <a:pt x="9230581" y="162170"/>
                    </a:cubicBezTo>
                    <a:cubicBezTo>
                      <a:pt x="9263984" y="151732"/>
                      <a:pt x="9291123" y="153819"/>
                      <a:pt x="9330789" y="162170"/>
                    </a:cubicBezTo>
                    <a:cubicBezTo>
                      <a:pt x="9370455" y="170521"/>
                      <a:pt x="9433086" y="197660"/>
                      <a:pt x="9468576" y="212274"/>
                    </a:cubicBezTo>
                    <a:cubicBezTo>
                      <a:pt x="9504067" y="226888"/>
                      <a:pt x="9514505" y="258203"/>
                      <a:pt x="9543732" y="249852"/>
                    </a:cubicBezTo>
                    <a:cubicBezTo>
                      <a:pt x="9572959" y="241501"/>
                      <a:pt x="9606362" y="193485"/>
                      <a:pt x="9643940" y="162170"/>
                    </a:cubicBezTo>
                    <a:cubicBezTo>
                      <a:pt x="9681518" y="130855"/>
                      <a:pt x="9729534" y="64050"/>
                      <a:pt x="9769200" y="61962"/>
                    </a:cubicBezTo>
                    <a:cubicBezTo>
                      <a:pt x="9808866" y="59874"/>
                      <a:pt x="9846443" y="141293"/>
                      <a:pt x="9881934" y="149644"/>
                    </a:cubicBezTo>
                    <a:cubicBezTo>
                      <a:pt x="9917425" y="157995"/>
                      <a:pt x="9952916" y="109978"/>
                      <a:pt x="9982143" y="112066"/>
                    </a:cubicBezTo>
                    <a:cubicBezTo>
                      <a:pt x="10011370" y="114154"/>
                      <a:pt x="10019721" y="162170"/>
                      <a:pt x="10057299" y="162170"/>
                    </a:cubicBezTo>
                    <a:cubicBezTo>
                      <a:pt x="10094877" y="162170"/>
                      <a:pt x="10170033" y="105803"/>
                      <a:pt x="10207611" y="112066"/>
                    </a:cubicBezTo>
                    <a:cubicBezTo>
                      <a:pt x="10245189" y="118329"/>
                      <a:pt x="10253540" y="185134"/>
                      <a:pt x="10282767" y="199748"/>
                    </a:cubicBezTo>
                    <a:cubicBezTo>
                      <a:pt x="10311995" y="214362"/>
                      <a:pt x="10347486" y="212274"/>
                      <a:pt x="10382976" y="199748"/>
                    </a:cubicBezTo>
                    <a:cubicBezTo>
                      <a:pt x="10418466" y="187222"/>
                      <a:pt x="10451869" y="135030"/>
                      <a:pt x="10495710" y="124592"/>
                    </a:cubicBezTo>
                    <a:cubicBezTo>
                      <a:pt x="10539551" y="114154"/>
                      <a:pt x="10612619" y="120417"/>
                      <a:pt x="10646022" y="137118"/>
                    </a:cubicBezTo>
                    <a:cubicBezTo>
                      <a:pt x="10679425" y="153819"/>
                      <a:pt x="10696126" y="151732"/>
                      <a:pt x="10696126" y="224800"/>
                    </a:cubicBezTo>
                    <a:cubicBezTo>
                      <a:pt x="10696126" y="297868"/>
                      <a:pt x="10681512" y="245677"/>
                      <a:pt x="10646022" y="575529"/>
                    </a:cubicBezTo>
                    <a:cubicBezTo>
                      <a:pt x="10610532" y="905381"/>
                      <a:pt x="10545814" y="1909550"/>
                      <a:pt x="10483184" y="2203912"/>
                    </a:cubicBezTo>
                    <a:cubicBezTo>
                      <a:pt x="10420554" y="2498274"/>
                      <a:pt x="10320345" y="2318735"/>
                      <a:pt x="10270241" y="2341699"/>
                    </a:cubicBezTo>
                    <a:cubicBezTo>
                      <a:pt x="10220137" y="2364663"/>
                      <a:pt x="10224312" y="2358400"/>
                      <a:pt x="10182559" y="2341699"/>
                    </a:cubicBezTo>
                    <a:cubicBezTo>
                      <a:pt x="10140806" y="2324998"/>
                      <a:pt x="10069825" y="2262367"/>
                      <a:pt x="10019721" y="2241490"/>
                    </a:cubicBezTo>
                    <a:cubicBezTo>
                      <a:pt x="9969617" y="2220613"/>
                      <a:pt x="9934126" y="2233139"/>
                      <a:pt x="9881934" y="2216438"/>
                    </a:cubicBezTo>
                    <a:cubicBezTo>
                      <a:pt x="9829742" y="2199737"/>
                      <a:pt x="9758762" y="2149633"/>
                      <a:pt x="9706570" y="2141282"/>
                    </a:cubicBezTo>
                    <a:cubicBezTo>
                      <a:pt x="9654378" y="2132931"/>
                      <a:pt x="9633502" y="2162159"/>
                      <a:pt x="9568784" y="2166334"/>
                    </a:cubicBezTo>
                    <a:cubicBezTo>
                      <a:pt x="9504066" y="2170509"/>
                      <a:pt x="9318263" y="2166334"/>
                      <a:pt x="9318263" y="2166334"/>
                    </a:cubicBezTo>
                    <a:cubicBezTo>
                      <a:pt x="9232669" y="2166334"/>
                      <a:pt x="9109496" y="2185123"/>
                      <a:pt x="9055217" y="2166334"/>
                    </a:cubicBezTo>
                    <a:cubicBezTo>
                      <a:pt x="9000938" y="2147545"/>
                      <a:pt x="9013464" y="2059863"/>
                      <a:pt x="8992587" y="2053600"/>
                    </a:cubicBezTo>
                    <a:cubicBezTo>
                      <a:pt x="8971710" y="2047337"/>
                      <a:pt x="8948745" y="2109967"/>
                      <a:pt x="8929956" y="2128756"/>
                    </a:cubicBezTo>
                    <a:cubicBezTo>
                      <a:pt x="8911167" y="2147545"/>
                      <a:pt x="8919518" y="2151720"/>
                      <a:pt x="8879852" y="2166334"/>
                    </a:cubicBezTo>
                    <a:cubicBezTo>
                      <a:pt x="8840186" y="2180948"/>
                      <a:pt x="8742066" y="2203912"/>
                      <a:pt x="8691962" y="2216438"/>
                    </a:cubicBezTo>
                    <a:cubicBezTo>
                      <a:pt x="8641858" y="2228964"/>
                      <a:pt x="8620982" y="2231052"/>
                      <a:pt x="8579228" y="2241490"/>
                    </a:cubicBezTo>
                    <a:cubicBezTo>
                      <a:pt x="8537475" y="2251929"/>
                      <a:pt x="8508246" y="2287420"/>
                      <a:pt x="8441441" y="2279069"/>
                    </a:cubicBezTo>
                    <a:cubicBezTo>
                      <a:pt x="8374636" y="2270718"/>
                      <a:pt x="8276515" y="2206000"/>
                      <a:pt x="8178395" y="2191386"/>
                    </a:cubicBezTo>
                    <a:cubicBezTo>
                      <a:pt x="8080275" y="2176772"/>
                      <a:pt x="7965452" y="2203912"/>
                      <a:pt x="7852718" y="2191386"/>
                    </a:cubicBezTo>
                    <a:cubicBezTo>
                      <a:pt x="7739984" y="2178860"/>
                      <a:pt x="7600109" y="2118318"/>
                      <a:pt x="7501989" y="2116230"/>
                    </a:cubicBezTo>
                    <a:cubicBezTo>
                      <a:pt x="7403869" y="2114142"/>
                      <a:pt x="7263995" y="2178860"/>
                      <a:pt x="7263995" y="2178860"/>
                    </a:cubicBezTo>
                    <a:cubicBezTo>
                      <a:pt x="7199277" y="2195561"/>
                      <a:pt x="7163786" y="2224789"/>
                      <a:pt x="7113682" y="2216438"/>
                    </a:cubicBezTo>
                    <a:cubicBezTo>
                      <a:pt x="7063578" y="2208087"/>
                      <a:pt x="7019737" y="2143370"/>
                      <a:pt x="6963370" y="2128756"/>
                    </a:cubicBezTo>
                    <a:cubicBezTo>
                      <a:pt x="6907003" y="2114142"/>
                      <a:pt x="6813058" y="2105792"/>
                      <a:pt x="6775480" y="2128756"/>
                    </a:cubicBezTo>
                    <a:cubicBezTo>
                      <a:pt x="6737902" y="2151720"/>
                      <a:pt x="6748340" y="2228964"/>
                      <a:pt x="6737902" y="2266542"/>
                    </a:cubicBezTo>
                    <a:cubicBezTo>
                      <a:pt x="6727464" y="2304120"/>
                      <a:pt x="6744165" y="2339611"/>
                      <a:pt x="6712850" y="2354225"/>
                    </a:cubicBezTo>
                    <a:cubicBezTo>
                      <a:pt x="6681535" y="2368839"/>
                      <a:pt x="6614729" y="2347962"/>
                      <a:pt x="6550011" y="2354225"/>
                    </a:cubicBezTo>
                    <a:cubicBezTo>
                      <a:pt x="6485293" y="2360488"/>
                      <a:pt x="6372880" y="2390970"/>
                      <a:pt x="6324543" y="2391803"/>
                    </a:cubicBezTo>
                    <a:cubicBezTo>
                      <a:pt x="6276206" y="2392636"/>
                      <a:pt x="6289459" y="2370721"/>
                      <a:pt x="6259991" y="2359222"/>
                    </a:cubicBezTo>
                    <a:cubicBezTo>
                      <a:pt x="6230523" y="2347723"/>
                      <a:pt x="6187243" y="2337741"/>
                      <a:pt x="6147737" y="2322808"/>
                    </a:cubicBezTo>
                    <a:cubicBezTo>
                      <a:pt x="6108231" y="2307875"/>
                      <a:pt x="6085347" y="2274826"/>
                      <a:pt x="6022957" y="2269624"/>
                    </a:cubicBezTo>
                    <a:lnTo>
                      <a:pt x="5773397" y="2291595"/>
                    </a:lnTo>
                    <a:cubicBezTo>
                      <a:pt x="5696313" y="2297345"/>
                      <a:pt x="5623085" y="2318735"/>
                      <a:pt x="5560455" y="2304121"/>
                    </a:cubicBezTo>
                    <a:cubicBezTo>
                      <a:pt x="5497825" y="2289507"/>
                      <a:pt x="5462335" y="2226877"/>
                      <a:pt x="5397617" y="2203912"/>
                    </a:cubicBezTo>
                    <a:cubicBezTo>
                      <a:pt x="5332899" y="2180948"/>
                      <a:pt x="5232691" y="2162159"/>
                      <a:pt x="5172148" y="2166334"/>
                    </a:cubicBezTo>
                    <a:cubicBezTo>
                      <a:pt x="5111605" y="2170509"/>
                      <a:pt x="5117869" y="2216438"/>
                      <a:pt x="5034362" y="2228964"/>
                    </a:cubicBezTo>
                    <a:cubicBezTo>
                      <a:pt x="4950855" y="2241490"/>
                      <a:pt x="4729562" y="2266542"/>
                      <a:pt x="4671107" y="2241490"/>
                    </a:cubicBezTo>
                    <a:cubicBezTo>
                      <a:pt x="4612652" y="2216438"/>
                      <a:pt x="4704510" y="2105792"/>
                      <a:pt x="4683633" y="2078652"/>
                    </a:cubicBezTo>
                    <a:cubicBezTo>
                      <a:pt x="4662756" y="2051512"/>
                      <a:pt x="4583425" y="2057775"/>
                      <a:pt x="4545847" y="2078652"/>
                    </a:cubicBezTo>
                    <a:cubicBezTo>
                      <a:pt x="4508269" y="2099529"/>
                      <a:pt x="4499918" y="2170509"/>
                      <a:pt x="4458165" y="2203912"/>
                    </a:cubicBezTo>
                    <a:cubicBezTo>
                      <a:pt x="4416412" y="2237315"/>
                      <a:pt x="4345430" y="2268631"/>
                      <a:pt x="4295326" y="2279069"/>
                    </a:cubicBezTo>
                    <a:cubicBezTo>
                      <a:pt x="4245222" y="2289507"/>
                      <a:pt x="4226433" y="2264454"/>
                      <a:pt x="4157540" y="2266542"/>
                    </a:cubicBezTo>
                    <a:cubicBezTo>
                      <a:pt x="4088647" y="2268630"/>
                      <a:pt x="3955035" y="2281157"/>
                      <a:pt x="3881967" y="2291595"/>
                    </a:cubicBezTo>
                    <a:cubicBezTo>
                      <a:pt x="3808899" y="2302033"/>
                      <a:pt x="3783847" y="2329173"/>
                      <a:pt x="3719129" y="2329173"/>
                    </a:cubicBezTo>
                    <a:cubicBezTo>
                      <a:pt x="3654411" y="2329173"/>
                      <a:pt x="3583430" y="2312472"/>
                      <a:pt x="3493660" y="2291595"/>
                    </a:cubicBezTo>
                    <a:cubicBezTo>
                      <a:pt x="3403890" y="2270718"/>
                      <a:pt x="3243140" y="2216438"/>
                      <a:pt x="3180510" y="2203912"/>
                    </a:cubicBezTo>
                    <a:cubicBezTo>
                      <a:pt x="3117880" y="2191386"/>
                      <a:pt x="3159633" y="2222701"/>
                      <a:pt x="3117880" y="2216438"/>
                    </a:cubicBezTo>
                    <a:cubicBezTo>
                      <a:pt x="3076127" y="2210175"/>
                      <a:pt x="2988444" y="2199737"/>
                      <a:pt x="2929989" y="2166334"/>
                    </a:cubicBezTo>
                    <a:cubicBezTo>
                      <a:pt x="2871534" y="2132931"/>
                      <a:pt x="2825606" y="2026460"/>
                      <a:pt x="2767151" y="2016022"/>
                    </a:cubicBezTo>
                    <a:cubicBezTo>
                      <a:pt x="2708696" y="2005584"/>
                      <a:pt x="2639802" y="2072389"/>
                      <a:pt x="2579260" y="2103704"/>
                    </a:cubicBezTo>
                    <a:cubicBezTo>
                      <a:pt x="2518718" y="2135019"/>
                      <a:pt x="2454000" y="2201824"/>
                      <a:pt x="2403896" y="2203912"/>
                    </a:cubicBezTo>
                    <a:cubicBezTo>
                      <a:pt x="2353792" y="2206000"/>
                      <a:pt x="2335003" y="2122493"/>
                      <a:pt x="2278636" y="2116230"/>
                    </a:cubicBezTo>
                    <a:cubicBezTo>
                      <a:pt x="2222269" y="2109967"/>
                      <a:pt x="2122060" y="2149633"/>
                      <a:pt x="2065693" y="2166334"/>
                    </a:cubicBezTo>
                    <a:cubicBezTo>
                      <a:pt x="2009326" y="2183035"/>
                      <a:pt x="2003063" y="2214350"/>
                      <a:pt x="1940433" y="2216438"/>
                    </a:cubicBezTo>
                    <a:cubicBezTo>
                      <a:pt x="1877803" y="2218526"/>
                      <a:pt x="1758806" y="2178860"/>
                      <a:pt x="1689913" y="2178860"/>
                    </a:cubicBezTo>
                    <a:cubicBezTo>
                      <a:pt x="1621020" y="2178860"/>
                      <a:pt x="1527074" y="2216438"/>
                      <a:pt x="1527074" y="2216438"/>
                    </a:cubicBezTo>
                    <a:cubicBezTo>
                      <a:pt x="1472795" y="2228964"/>
                      <a:pt x="1403902" y="2268630"/>
                      <a:pt x="1364236" y="2254016"/>
                    </a:cubicBezTo>
                    <a:cubicBezTo>
                      <a:pt x="1324570" y="2239402"/>
                      <a:pt x="1320395" y="2132931"/>
                      <a:pt x="1289080" y="2128756"/>
                    </a:cubicBezTo>
                    <a:cubicBezTo>
                      <a:pt x="1257765" y="2124581"/>
                      <a:pt x="1218098" y="2197649"/>
                      <a:pt x="1176345" y="2228964"/>
                    </a:cubicBezTo>
                    <a:cubicBezTo>
                      <a:pt x="1134592" y="2260279"/>
                      <a:pt x="1094926" y="2308296"/>
                      <a:pt x="1038559" y="2316647"/>
                    </a:cubicBezTo>
                    <a:cubicBezTo>
                      <a:pt x="982192" y="2324998"/>
                      <a:pt x="894510" y="2285332"/>
                      <a:pt x="838143" y="2279069"/>
                    </a:cubicBezTo>
                    <a:cubicBezTo>
                      <a:pt x="781776" y="2272806"/>
                      <a:pt x="735847" y="2270718"/>
                      <a:pt x="700356" y="2279069"/>
                    </a:cubicBezTo>
                    <a:cubicBezTo>
                      <a:pt x="664865" y="2287420"/>
                      <a:pt x="666953" y="2335436"/>
                      <a:pt x="625200" y="2329173"/>
                    </a:cubicBezTo>
                    <a:cubicBezTo>
                      <a:pt x="583447" y="2322910"/>
                      <a:pt x="499940" y="2251928"/>
                      <a:pt x="449836" y="2241490"/>
                    </a:cubicBezTo>
                    <a:cubicBezTo>
                      <a:pt x="399732" y="2231052"/>
                      <a:pt x="349628" y="2249841"/>
                      <a:pt x="324576" y="2266542"/>
                    </a:cubicBezTo>
                    <a:cubicBezTo>
                      <a:pt x="299524" y="2283244"/>
                      <a:pt x="312049" y="2339611"/>
                      <a:pt x="299523" y="2341699"/>
                    </a:cubicBezTo>
                    <a:cubicBezTo>
                      <a:pt x="286997" y="2343787"/>
                      <a:pt x="276559" y="2295771"/>
                      <a:pt x="249419" y="2279069"/>
                    </a:cubicBezTo>
                    <a:cubicBezTo>
                      <a:pt x="222279" y="2262368"/>
                      <a:pt x="176351" y="2247753"/>
                      <a:pt x="136685" y="2241490"/>
                    </a:cubicBezTo>
                    <a:cubicBezTo>
                      <a:pt x="97019" y="2235227"/>
                      <a:pt x="32302" y="2256104"/>
                      <a:pt x="11425" y="2241490"/>
                    </a:cubicBezTo>
                    <a:cubicBezTo>
                      <a:pt x="-9452" y="2226876"/>
                      <a:pt x="3074" y="2487835"/>
                      <a:pt x="11425" y="2153808"/>
                    </a:cubicBezTo>
                    <a:cubicBezTo>
                      <a:pt x="19776" y="1819781"/>
                      <a:pt x="76143" y="598493"/>
                      <a:pt x="86581" y="2498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任意多边形 3"/>
              <p:cNvSpPr/>
              <p:nvPr/>
            </p:nvSpPr>
            <p:spPr>
              <a:xfrm>
                <a:off x="-96840" y="2583000"/>
                <a:ext cx="12356640" cy="1749240"/>
              </a:xfrm>
              <a:custGeom>
                <a:avLst/>
                <a:gdLst/>
                <a:ahLst/>
                <a:rect l="l" t="t" r="r" b="b"/>
                <a:pathLst>
                  <a:path w="10696126" h="2391818">
                    <a:moveTo>
                      <a:pt x="86581" y="249852"/>
                    </a:moveTo>
                    <a:cubicBezTo>
                      <a:pt x="97019" y="-98789"/>
                      <a:pt x="46915" y="51524"/>
                      <a:pt x="74055" y="61962"/>
                    </a:cubicBezTo>
                    <a:cubicBezTo>
                      <a:pt x="101195" y="72400"/>
                      <a:pt x="197227" y="285342"/>
                      <a:pt x="249419" y="312482"/>
                    </a:cubicBezTo>
                    <a:cubicBezTo>
                      <a:pt x="301611" y="339622"/>
                      <a:pt x="345453" y="239414"/>
                      <a:pt x="387206" y="224800"/>
                    </a:cubicBezTo>
                    <a:cubicBezTo>
                      <a:pt x="428960" y="210186"/>
                      <a:pt x="476976" y="220625"/>
                      <a:pt x="499940" y="224800"/>
                    </a:cubicBezTo>
                    <a:cubicBezTo>
                      <a:pt x="522904" y="228975"/>
                      <a:pt x="504115" y="231063"/>
                      <a:pt x="524992" y="249852"/>
                    </a:cubicBezTo>
                    <a:cubicBezTo>
                      <a:pt x="545869" y="268641"/>
                      <a:pt x="604323" y="331271"/>
                      <a:pt x="625200" y="337534"/>
                    </a:cubicBezTo>
                    <a:cubicBezTo>
                      <a:pt x="646077" y="343797"/>
                      <a:pt x="641901" y="302044"/>
                      <a:pt x="650252" y="287430"/>
                    </a:cubicBezTo>
                    <a:cubicBezTo>
                      <a:pt x="658603" y="272816"/>
                      <a:pt x="660691" y="245677"/>
                      <a:pt x="675304" y="249852"/>
                    </a:cubicBezTo>
                    <a:cubicBezTo>
                      <a:pt x="689917" y="254027"/>
                      <a:pt x="717057" y="304131"/>
                      <a:pt x="737934" y="312482"/>
                    </a:cubicBezTo>
                    <a:cubicBezTo>
                      <a:pt x="758811" y="320833"/>
                      <a:pt x="781776" y="304131"/>
                      <a:pt x="800565" y="299956"/>
                    </a:cubicBezTo>
                    <a:cubicBezTo>
                      <a:pt x="819354" y="295781"/>
                      <a:pt x="827705" y="289518"/>
                      <a:pt x="850669" y="287430"/>
                    </a:cubicBezTo>
                    <a:cubicBezTo>
                      <a:pt x="873633" y="285342"/>
                      <a:pt x="900773" y="279079"/>
                      <a:pt x="938351" y="287430"/>
                    </a:cubicBezTo>
                    <a:cubicBezTo>
                      <a:pt x="975929" y="295781"/>
                      <a:pt x="1034384" y="335446"/>
                      <a:pt x="1076137" y="337534"/>
                    </a:cubicBezTo>
                    <a:cubicBezTo>
                      <a:pt x="1117890" y="339622"/>
                      <a:pt x="1155468" y="310394"/>
                      <a:pt x="1188871" y="299956"/>
                    </a:cubicBezTo>
                    <a:cubicBezTo>
                      <a:pt x="1222274" y="289518"/>
                      <a:pt x="1257765" y="270729"/>
                      <a:pt x="1276554" y="274904"/>
                    </a:cubicBezTo>
                    <a:cubicBezTo>
                      <a:pt x="1295343" y="279079"/>
                      <a:pt x="1272379" y="316657"/>
                      <a:pt x="1301606" y="325008"/>
                    </a:cubicBezTo>
                    <a:cubicBezTo>
                      <a:pt x="1330833" y="333359"/>
                      <a:pt x="1416428" y="329183"/>
                      <a:pt x="1451918" y="325008"/>
                    </a:cubicBezTo>
                    <a:cubicBezTo>
                      <a:pt x="1487408" y="320833"/>
                      <a:pt x="1499934" y="320833"/>
                      <a:pt x="1514548" y="299956"/>
                    </a:cubicBezTo>
                    <a:cubicBezTo>
                      <a:pt x="1529162" y="279079"/>
                      <a:pt x="1518723" y="212274"/>
                      <a:pt x="1539600" y="199748"/>
                    </a:cubicBezTo>
                    <a:cubicBezTo>
                      <a:pt x="1560477" y="187222"/>
                      <a:pt x="1612668" y="220625"/>
                      <a:pt x="1639808" y="224800"/>
                    </a:cubicBezTo>
                    <a:cubicBezTo>
                      <a:pt x="1666948" y="228975"/>
                      <a:pt x="1660686" y="231063"/>
                      <a:pt x="1702439" y="224800"/>
                    </a:cubicBezTo>
                    <a:cubicBezTo>
                      <a:pt x="1744192" y="218537"/>
                      <a:pt x="1844400" y="201836"/>
                      <a:pt x="1890329" y="187222"/>
                    </a:cubicBezTo>
                    <a:cubicBezTo>
                      <a:pt x="1936258" y="172608"/>
                      <a:pt x="1948784" y="130855"/>
                      <a:pt x="1978011" y="137118"/>
                    </a:cubicBezTo>
                    <a:cubicBezTo>
                      <a:pt x="2007238" y="143381"/>
                      <a:pt x="2040641" y="210186"/>
                      <a:pt x="2065693" y="224800"/>
                    </a:cubicBezTo>
                    <a:cubicBezTo>
                      <a:pt x="2090745" y="239414"/>
                      <a:pt x="2128323" y="224800"/>
                      <a:pt x="2128323" y="224800"/>
                    </a:cubicBezTo>
                    <a:cubicBezTo>
                      <a:pt x="2151287" y="224800"/>
                      <a:pt x="2184691" y="216449"/>
                      <a:pt x="2203480" y="224800"/>
                    </a:cubicBezTo>
                    <a:cubicBezTo>
                      <a:pt x="2222269" y="233151"/>
                      <a:pt x="2220181" y="272816"/>
                      <a:pt x="2241058" y="274904"/>
                    </a:cubicBezTo>
                    <a:cubicBezTo>
                      <a:pt x="2261935" y="276992"/>
                      <a:pt x="2295337" y="254027"/>
                      <a:pt x="2328740" y="237326"/>
                    </a:cubicBezTo>
                    <a:cubicBezTo>
                      <a:pt x="2362143" y="220625"/>
                      <a:pt x="2403896" y="180959"/>
                      <a:pt x="2441474" y="174696"/>
                    </a:cubicBezTo>
                    <a:cubicBezTo>
                      <a:pt x="2479052" y="168433"/>
                      <a:pt x="2512455" y="189310"/>
                      <a:pt x="2554208" y="199748"/>
                    </a:cubicBezTo>
                    <a:cubicBezTo>
                      <a:pt x="2595961" y="210186"/>
                      <a:pt x="2643979" y="231063"/>
                      <a:pt x="2691995" y="237326"/>
                    </a:cubicBezTo>
                    <a:cubicBezTo>
                      <a:pt x="2740012" y="243589"/>
                      <a:pt x="2802641" y="245677"/>
                      <a:pt x="2842307" y="237326"/>
                    </a:cubicBezTo>
                    <a:cubicBezTo>
                      <a:pt x="2881973" y="228975"/>
                      <a:pt x="2890323" y="187222"/>
                      <a:pt x="2929989" y="187222"/>
                    </a:cubicBezTo>
                    <a:cubicBezTo>
                      <a:pt x="2969655" y="187222"/>
                      <a:pt x="3044811" y="228975"/>
                      <a:pt x="3080302" y="237326"/>
                    </a:cubicBezTo>
                    <a:cubicBezTo>
                      <a:pt x="3115793" y="245677"/>
                      <a:pt x="3142932" y="237326"/>
                      <a:pt x="3142932" y="237326"/>
                    </a:cubicBezTo>
                    <a:cubicBezTo>
                      <a:pt x="3170072" y="237326"/>
                      <a:pt x="3213913" y="224800"/>
                      <a:pt x="3243140" y="237326"/>
                    </a:cubicBezTo>
                    <a:cubicBezTo>
                      <a:pt x="3272367" y="249852"/>
                      <a:pt x="3286981" y="304131"/>
                      <a:pt x="3318296" y="312482"/>
                    </a:cubicBezTo>
                    <a:cubicBezTo>
                      <a:pt x="3349611" y="320833"/>
                      <a:pt x="3401803" y="304131"/>
                      <a:pt x="3431030" y="287430"/>
                    </a:cubicBezTo>
                    <a:cubicBezTo>
                      <a:pt x="3460257" y="270729"/>
                      <a:pt x="3466520" y="210186"/>
                      <a:pt x="3493660" y="212274"/>
                    </a:cubicBezTo>
                    <a:cubicBezTo>
                      <a:pt x="3520800" y="214362"/>
                      <a:pt x="3568817" y="285342"/>
                      <a:pt x="3593869" y="299956"/>
                    </a:cubicBezTo>
                    <a:cubicBezTo>
                      <a:pt x="3618921" y="314570"/>
                      <a:pt x="3631447" y="306219"/>
                      <a:pt x="3643973" y="299956"/>
                    </a:cubicBezTo>
                    <a:cubicBezTo>
                      <a:pt x="3656499" y="293693"/>
                      <a:pt x="3652324" y="281167"/>
                      <a:pt x="3669025" y="262378"/>
                    </a:cubicBezTo>
                    <a:cubicBezTo>
                      <a:pt x="3685726" y="243589"/>
                      <a:pt x="3727480" y="189310"/>
                      <a:pt x="3744181" y="187222"/>
                    </a:cubicBezTo>
                    <a:cubicBezTo>
                      <a:pt x="3760882" y="185134"/>
                      <a:pt x="3746269" y="233151"/>
                      <a:pt x="3769233" y="249852"/>
                    </a:cubicBezTo>
                    <a:cubicBezTo>
                      <a:pt x="3792197" y="266553"/>
                      <a:pt x="3844389" y="281167"/>
                      <a:pt x="3881967" y="287430"/>
                    </a:cubicBezTo>
                    <a:cubicBezTo>
                      <a:pt x="3919545" y="293693"/>
                      <a:pt x="3969650" y="291605"/>
                      <a:pt x="3994702" y="287430"/>
                    </a:cubicBezTo>
                    <a:cubicBezTo>
                      <a:pt x="4019754" y="283255"/>
                      <a:pt x="4007228" y="254027"/>
                      <a:pt x="4032280" y="262378"/>
                    </a:cubicBezTo>
                    <a:cubicBezTo>
                      <a:pt x="4057332" y="270729"/>
                      <a:pt x="4115787" y="331271"/>
                      <a:pt x="4145014" y="337534"/>
                    </a:cubicBezTo>
                    <a:cubicBezTo>
                      <a:pt x="4174241" y="343797"/>
                      <a:pt x="4184680" y="320833"/>
                      <a:pt x="4207644" y="299956"/>
                    </a:cubicBezTo>
                    <a:cubicBezTo>
                      <a:pt x="4230608" y="279079"/>
                      <a:pt x="4255660" y="216449"/>
                      <a:pt x="4282800" y="212274"/>
                    </a:cubicBezTo>
                    <a:cubicBezTo>
                      <a:pt x="4309940" y="208099"/>
                      <a:pt x="4334992" y="270729"/>
                      <a:pt x="4370482" y="274904"/>
                    </a:cubicBezTo>
                    <a:cubicBezTo>
                      <a:pt x="4405972" y="279079"/>
                      <a:pt x="4464428" y="251940"/>
                      <a:pt x="4495743" y="237326"/>
                    </a:cubicBezTo>
                    <a:cubicBezTo>
                      <a:pt x="4527058" y="222712"/>
                      <a:pt x="4535409" y="178871"/>
                      <a:pt x="4558373" y="187222"/>
                    </a:cubicBezTo>
                    <a:cubicBezTo>
                      <a:pt x="4581337" y="195573"/>
                      <a:pt x="4612652" y="272816"/>
                      <a:pt x="4633529" y="287430"/>
                    </a:cubicBezTo>
                    <a:cubicBezTo>
                      <a:pt x="4654406" y="302044"/>
                      <a:pt x="4660669" y="293693"/>
                      <a:pt x="4683633" y="274904"/>
                    </a:cubicBezTo>
                    <a:cubicBezTo>
                      <a:pt x="4706597" y="256115"/>
                      <a:pt x="4740000" y="183047"/>
                      <a:pt x="4771315" y="174696"/>
                    </a:cubicBezTo>
                    <a:cubicBezTo>
                      <a:pt x="4802630" y="166345"/>
                      <a:pt x="4844383" y="216449"/>
                      <a:pt x="4871523" y="224800"/>
                    </a:cubicBezTo>
                    <a:cubicBezTo>
                      <a:pt x="4898663" y="233151"/>
                      <a:pt x="4907014" y="233151"/>
                      <a:pt x="4934154" y="224800"/>
                    </a:cubicBezTo>
                    <a:cubicBezTo>
                      <a:pt x="4961294" y="216449"/>
                      <a:pt x="4982170" y="197660"/>
                      <a:pt x="5034362" y="174696"/>
                    </a:cubicBezTo>
                    <a:cubicBezTo>
                      <a:pt x="5086554" y="151732"/>
                      <a:pt x="5201375" y="114154"/>
                      <a:pt x="5247304" y="87014"/>
                    </a:cubicBezTo>
                    <a:cubicBezTo>
                      <a:pt x="5293233" y="59874"/>
                      <a:pt x="5291145" y="24384"/>
                      <a:pt x="5309934" y="11858"/>
                    </a:cubicBezTo>
                    <a:cubicBezTo>
                      <a:pt x="5328723" y="-668"/>
                      <a:pt x="5328724" y="-6931"/>
                      <a:pt x="5360039" y="11858"/>
                    </a:cubicBezTo>
                    <a:cubicBezTo>
                      <a:pt x="5391354" y="30647"/>
                      <a:pt x="5460247" y="107891"/>
                      <a:pt x="5497825" y="124592"/>
                    </a:cubicBezTo>
                    <a:cubicBezTo>
                      <a:pt x="5535403" y="141293"/>
                      <a:pt x="5558367" y="124592"/>
                      <a:pt x="5585507" y="112066"/>
                    </a:cubicBezTo>
                    <a:cubicBezTo>
                      <a:pt x="5612647" y="99540"/>
                      <a:pt x="5631436" y="49436"/>
                      <a:pt x="5660663" y="49436"/>
                    </a:cubicBezTo>
                    <a:cubicBezTo>
                      <a:pt x="5689890" y="49436"/>
                      <a:pt x="5725381" y="93277"/>
                      <a:pt x="5760871" y="112066"/>
                    </a:cubicBezTo>
                    <a:cubicBezTo>
                      <a:pt x="5796361" y="130855"/>
                      <a:pt x="5838115" y="153819"/>
                      <a:pt x="5873606" y="162170"/>
                    </a:cubicBezTo>
                    <a:cubicBezTo>
                      <a:pt x="5909097" y="170521"/>
                      <a:pt x="5936954" y="165122"/>
                      <a:pt x="5973814" y="162170"/>
                    </a:cubicBezTo>
                    <a:cubicBezTo>
                      <a:pt x="6010674" y="159218"/>
                      <a:pt x="6042573" y="138193"/>
                      <a:pt x="6094765" y="144456"/>
                    </a:cubicBezTo>
                    <a:cubicBezTo>
                      <a:pt x="6146957" y="150719"/>
                      <a:pt x="6240318" y="200971"/>
                      <a:pt x="6286965" y="199748"/>
                    </a:cubicBezTo>
                    <a:cubicBezTo>
                      <a:pt x="6333612" y="198525"/>
                      <a:pt x="6341244" y="147556"/>
                      <a:pt x="6374647" y="137118"/>
                    </a:cubicBezTo>
                    <a:cubicBezTo>
                      <a:pt x="6408050" y="126680"/>
                      <a:pt x="6449803" y="128767"/>
                      <a:pt x="6487381" y="137118"/>
                    </a:cubicBezTo>
                    <a:cubicBezTo>
                      <a:pt x="6524959" y="145469"/>
                      <a:pt x="6568800" y="174696"/>
                      <a:pt x="6600115" y="187222"/>
                    </a:cubicBezTo>
                    <a:cubicBezTo>
                      <a:pt x="6631430" y="199748"/>
                      <a:pt x="6650219" y="218537"/>
                      <a:pt x="6675271" y="212274"/>
                    </a:cubicBezTo>
                    <a:cubicBezTo>
                      <a:pt x="6700323" y="206011"/>
                      <a:pt x="6725376" y="166345"/>
                      <a:pt x="6750428" y="149644"/>
                    </a:cubicBezTo>
                    <a:cubicBezTo>
                      <a:pt x="6775480" y="132943"/>
                      <a:pt x="6781743" y="122504"/>
                      <a:pt x="6825584" y="112066"/>
                    </a:cubicBezTo>
                    <a:cubicBezTo>
                      <a:pt x="6869425" y="101628"/>
                      <a:pt x="6961282" y="76576"/>
                      <a:pt x="7013474" y="87014"/>
                    </a:cubicBezTo>
                    <a:cubicBezTo>
                      <a:pt x="7065666" y="97452"/>
                      <a:pt x="7099068" y="160082"/>
                      <a:pt x="7138734" y="174696"/>
                    </a:cubicBezTo>
                    <a:cubicBezTo>
                      <a:pt x="7178400" y="189310"/>
                      <a:pt x="7218066" y="178871"/>
                      <a:pt x="7251469" y="174696"/>
                    </a:cubicBezTo>
                    <a:cubicBezTo>
                      <a:pt x="7284872" y="170521"/>
                      <a:pt x="7303661" y="157995"/>
                      <a:pt x="7339151" y="149644"/>
                    </a:cubicBezTo>
                    <a:cubicBezTo>
                      <a:pt x="7374641" y="141293"/>
                      <a:pt x="7424745" y="116241"/>
                      <a:pt x="7464411" y="124592"/>
                    </a:cubicBezTo>
                    <a:cubicBezTo>
                      <a:pt x="7504077" y="132943"/>
                      <a:pt x="7545830" y="187222"/>
                      <a:pt x="7577145" y="199748"/>
                    </a:cubicBezTo>
                    <a:cubicBezTo>
                      <a:pt x="7608460" y="212274"/>
                      <a:pt x="7623075" y="212274"/>
                      <a:pt x="7652302" y="199748"/>
                    </a:cubicBezTo>
                    <a:cubicBezTo>
                      <a:pt x="7681529" y="187222"/>
                      <a:pt x="7719107" y="132943"/>
                      <a:pt x="7752510" y="124592"/>
                    </a:cubicBezTo>
                    <a:cubicBezTo>
                      <a:pt x="7785913" y="116241"/>
                      <a:pt x="7815140" y="128767"/>
                      <a:pt x="7852718" y="149644"/>
                    </a:cubicBezTo>
                    <a:cubicBezTo>
                      <a:pt x="7890296" y="170521"/>
                      <a:pt x="7938312" y="233151"/>
                      <a:pt x="7977978" y="249852"/>
                    </a:cubicBezTo>
                    <a:cubicBezTo>
                      <a:pt x="8017644" y="266553"/>
                      <a:pt x="8048959" y="254027"/>
                      <a:pt x="8090713" y="249852"/>
                    </a:cubicBezTo>
                    <a:cubicBezTo>
                      <a:pt x="8132467" y="245677"/>
                      <a:pt x="8195096" y="222712"/>
                      <a:pt x="8228499" y="224800"/>
                    </a:cubicBezTo>
                    <a:cubicBezTo>
                      <a:pt x="8261902" y="226888"/>
                      <a:pt x="8257726" y="260290"/>
                      <a:pt x="8291129" y="262378"/>
                    </a:cubicBezTo>
                    <a:cubicBezTo>
                      <a:pt x="8324532" y="264466"/>
                      <a:pt x="8380899" y="251940"/>
                      <a:pt x="8428915" y="237326"/>
                    </a:cubicBezTo>
                    <a:cubicBezTo>
                      <a:pt x="8476932" y="222712"/>
                      <a:pt x="8541650" y="172608"/>
                      <a:pt x="8579228" y="174696"/>
                    </a:cubicBezTo>
                    <a:cubicBezTo>
                      <a:pt x="8616806" y="176784"/>
                      <a:pt x="8625157" y="235238"/>
                      <a:pt x="8654384" y="249852"/>
                    </a:cubicBezTo>
                    <a:cubicBezTo>
                      <a:pt x="8683611" y="264466"/>
                      <a:pt x="8721189" y="270729"/>
                      <a:pt x="8754592" y="262378"/>
                    </a:cubicBezTo>
                    <a:cubicBezTo>
                      <a:pt x="8787995" y="254027"/>
                      <a:pt x="8825573" y="216449"/>
                      <a:pt x="8854800" y="199748"/>
                    </a:cubicBezTo>
                    <a:cubicBezTo>
                      <a:pt x="8884027" y="183047"/>
                      <a:pt x="8906992" y="157995"/>
                      <a:pt x="8929956" y="162170"/>
                    </a:cubicBezTo>
                    <a:cubicBezTo>
                      <a:pt x="8952920" y="166345"/>
                      <a:pt x="8959184" y="214362"/>
                      <a:pt x="8992587" y="224800"/>
                    </a:cubicBezTo>
                    <a:cubicBezTo>
                      <a:pt x="9025990" y="235238"/>
                      <a:pt x="9090707" y="235238"/>
                      <a:pt x="9130373" y="224800"/>
                    </a:cubicBezTo>
                    <a:cubicBezTo>
                      <a:pt x="9170039" y="214362"/>
                      <a:pt x="9197178" y="172608"/>
                      <a:pt x="9230581" y="162170"/>
                    </a:cubicBezTo>
                    <a:cubicBezTo>
                      <a:pt x="9263984" y="151732"/>
                      <a:pt x="9291123" y="153819"/>
                      <a:pt x="9330789" y="162170"/>
                    </a:cubicBezTo>
                    <a:cubicBezTo>
                      <a:pt x="9370455" y="170521"/>
                      <a:pt x="9433086" y="197660"/>
                      <a:pt x="9468576" y="212274"/>
                    </a:cubicBezTo>
                    <a:cubicBezTo>
                      <a:pt x="9504067" y="226888"/>
                      <a:pt x="9514505" y="258203"/>
                      <a:pt x="9543732" y="249852"/>
                    </a:cubicBezTo>
                    <a:cubicBezTo>
                      <a:pt x="9572959" y="241501"/>
                      <a:pt x="9606362" y="193485"/>
                      <a:pt x="9643940" y="162170"/>
                    </a:cubicBezTo>
                    <a:cubicBezTo>
                      <a:pt x="9681518" y="130855"/>
                      <a:pt x="9729534" y="64050"/>
                      <a:pt x="9769200" y="61962"/>
                    </a:cubicBezTo>
                    <a:cubicBezTo>
                      <a:pt x="9808866" y="59874"/>
                      <a:pt x="9846443" y="141293"/>
                      <a:pt x="9881934" y="149644"/>
                    </a:cubicBezTo>
                    <a:cubicBezTo>
                      <a:pt x="9917425" y="157995"/>
                      <a:pt x="9952916" y="109978"/>
                      <a:pt x="9982143" y="112066"/>
                    </a:cubicBezTo>
                    <a:cubicBezTo>
                      <a:pt x="10011370" y="114154"/>
                      <a:pt x="10019721" y="162170"/>
                      <a:pt x="10057299" y="162170"/>
                    </a:cubicBezTo>
                    <a:cubicBezTo>
                      <a:pt x="10094877" y="162170"/>
                      <a:pt x="10170033" y="105803"/>
                      <a:pt x="10207611" y="112066"/>
                    </a:cubicBezTo>
                    <a:cubicBezTo>
                      <a:pt x="10245189" y="118329"/>
                      <a:pt x="10253540" y="185134"/>
                      <a:pt x="10282767" y="199748"/>
                    </a:cubicBezTo>
                    <a:cubicBezTo>
                      <a:pt x="10311995" y="214362"/>
                      <a:pt x="10347486" y="212274"/>
                      <a:pt x="10382976" y="199748"/>
                    </a:cubicBezTo>
                    <a:cubicBezTo>
                      <a:pt x="10418466" y="187222"/>
                      <a:pt x="10451869" y="135030"/>
                      <a:pt x="10495710" y="124592"/>
                    </a:cubicBezTo>
                    <a:cubicBezTo>
                      <a:pt x="10539551" y="114154"/>
                      <a:pt x="10612619" y="120417"/>
                      <a:pt x="10646022" y="137118"/>
                    </a:cubicBezTo>
                    <a:cubicBezTo>
                      <a:pt x="10679425" y="153819"/>
                      <a:pt x="10696126" y="151732"/>
                      <a:pt x="10696126" y="224800"/>
                    </a:cubicBezTo>
                    <a:cubicBezTo>
                      <a:pt x="10696126" y="297868"/>
                      <a:pt x="10681512" y="245677"/>
                      <a:pt x="10646022" y="575529"/>
                    </a:cubicBezTo>
                    <a:cubicBezTo>
                      <a:pt x="10610532" y="905381"/>
                      <a:pt x="10545814" y="1909550"/>
                      <a:pt x="10483184" y="2203912"/>
                    </a:cubicBezTo>
                    <a:cubicBezTo>
                      <a:pt x="10420554" y="2498274"/>
                      <a:pt x="10320345" y="2318735"/>
                      <a:pt x="10270241" y="2341699"/>
                    </a:cubicBezTo>
                    <a:cubicBezTo>
                      <a:pt x="10220137" y="2364663"/>
                      <a:pt x="10224312" y="2358400"/>
                      <a:pt x="10182559" y="2341699"/>
                    </a:cubicBezTo>
                    <a:cubicBezTo>
                      <a:pt x="10140806" y="2324998"/>
                      <a:pt x="10069825" y="2262367"/>
                      <a:pt x="10019721" y="2241490"/>
                    </a:cubicBezTo>
                    <a:cubicBezTo>
                      <a:pt x="9969617" y="2220613"/>
                      <a:pt x="9934126" y="2233139"/>
                      <a:pt x="9881934" y="2216438"/>
                    </a:cubicBezTo>
                    <a:cubicBezTo>
                      <a:pt x="9829742" y="2199737"/>
                      <a:pt x="9758762" y="2149633"/>
                      <a:pt x="9706570" y="2141282"/>
                    </a:cubicBezTo>
                    <a:cubicBezTo>
                      <a:pt x="9654378" y="2132931"/>
                      <a:pt x="9633502" y="2162159"/>
                      <a:pt x="9568784" y="2166334"/>
                    </a:cubicBezTo>
                    <a:cubicBezTo>
                      <a:pt x="9504066" y="2170509"/>
                      <a:pt x="9318263" y="2166334"/>
                      <a:pt x="9318263" y="2166334"/>
                    </a:cubicBezTo>
                    <a:cubicBezTo>
                      <a:pt x="9232669" y="2166334"/>
                      <a:pt x="9109496" y="2185123"/>
                      <a:pt x="9055217" y="2166334"/>
                    </a:cubicBezTo>
                    <a:cubicBezTo>
                      <a:pt x="9000938" y="2147545"/>
                      <a:pt x="9013464" y="2059863"/>
                      <a:pt x="8992587" y="2053600"/>
                    </a:cubicBezTo>
                    <a:cubicBezTo>
                      <a:pt x="8971710" y="2047337"/>
                      <a:pt x="8948745" y="2109967"/>
                      <a:pt x="8929956" y="2128756"/>
                    </a:cubicBezTo>
                    <a:cubicBezTo>
                      <a:pt x="8911167" y="2147545"/>
                      <a:pt x="8919518" y="2151720"/>
                      <a:pt x="8879852" y="2166334"/>
                    </a:cubicBezTo>
                    <a:cubicBezTo>
                      <a:pt x="8840186" y="2180948"/>
                      <a:pt x="8742066" y="2203912"/>
                      <a:pt x="8691962" y="2216438"/>
                    </a:cubicBezTo>
                    <a:cubicBezTo>
                      <a:pt x="8641858" y="2228964"/>
                      <a:pt x="8620982" y="2231052"/>
                      <a:pt x="8579228" y="2241490"/>
                    </a:cubicBezTo>
                    <a:cubicBezTo>
                      <a:pt x="8537475" y="2251929"/>
                      <a:pt x="8508246" y="2287420"/>
                      <a:pt x="8441441" y="2279069"/>
                    </a:cubicBezTo>
                    <a:cubicBezTo>
                      <a:pt x="8374636" y="2270718"/>
                      <a:pt x="8276515" y="2206000"/>
                      <a:pt x="8178395" y="2191386"/>
                    </a:cubicBezTo>
                    <a:cubicBezTo>
                      <a:pt x="8080275" y="2176772"/>
                      <a:pt x="7965452" y="2203912"/>
                      <a:pt x="7852718" y="2191386"/>
                    </a:cubicBezTo>
                    <a:cubicBezTo>
                      <a:pt x="7739984" y="2178860"/>
                      <a:pt x="7600109" y="2118318"/>
                      <a:pt x="7501989" y="2116230"/>
                    </a:cubicBezTo>
                    <a:cubicBezTo>
                      <a:pt x="7403869" y="2114142"/>
                      <a:pt x="7263995" y="2178860"/>
                      <a:pt x="7263995" y="2178860"/>
                    </a:cubicBezTo>
                    <a:cubicBezTo>
                      <a:pt x="7199277" y="2195561"/>
                      <a:pt x="7163786" y="2224789"/>
                      <a:pt x="7113682" y="2216438"/>
                    </a:cubicBezTo>
                    <a:cubicBezTo>
                      <a:pt x="7063578" y="2208087"/>
                      <a:pt x="7019737" y="2143370"/>
                      <a:pt x="6963370" y="2128756"/>
                    </a:cubicBezTo>
                    <a:cubicBezTo>
                      <a:pt x="6907003" y="2114142"/>
                      <a:pt x="6813058" y="2105792"/>
                      <a:pt x="6775480" y="2128756"/>
                    </a:cubicBezTo>
                    <a:cubicBezTo>
                      <a:pt x="6737902" y="2151720"/>
                      <a:pt x="6748340" y="2228964"/>
                      <a:pt x="6737902" y="2266542"/>
                    </a:cubicBezTo>
                    <a:cubicBezTo>
                      <a:pt x="6727464" y="2304120"/>
                      <a:pt x="6744165" y="2339611"/>
                      <a:pt x="6712850" y="2354225"/>
                    </a:cubicBezTo>
                    <a:cubicBezTo>
                      <a:pt x="6681535" y="2368839"/>
                      <a:pt x="6614729" y="2347962"/>
                      <a:pt x="6550011" y="2354225"/>
                    </a:cubicBezTo>
                    <a:cubicBezTo>
                      <a:pt x="6485293" y="2360488"/>
                      <a:pt x="6374980" y="2391089"/>
                      <a:pt x="6324543" y="2391803"/>
                    </a:cubicBezTo>
                    <a:cubicBezTo>
                      <a:pt x="6274106" y="2392517"/>
                      <a:pt x="6284859" y="2368016"/>
                      <a:pt x="6247390" y="2358512"/>
                    </a:cubicBezTo>
                    <a:cubicBezTo>
                      <a:pt x="6209921" y="2349008"/>
                      <a:pt x="6145324" y="2345931"/>
                      <a:pt x="6099728" y="2334778"/>
                    </a:cubicBezTo>
                    <a:cubicBezTo>
                      <a:pt x="6054132" y="2323625"/>
                      <a:pt x="6028202" y="2298792"/>
                      <a:pt x="5973814" y="2291595"/>
                    </a:cubicBezTo>
                    <a:cubicBezTo>
                      <a:pt x="5919426" y="2284398"/>
                      <a:pt x="5842290" y="2289507"/>
                      <a:pt x="5773397" y="2291595"/>
                    </a:cubicBezTo>
                    <a:cubicBezTo>
                      <a:pt x="5704504" y="2293683"/>
                      <a:pt x="5623085" y="2318735"/>
                      <a:pt x="5560455" y="2304121"/>
                    </a:cubicBezTo>
                    <a:cubicBezTo>
                      <a:pt x="5497825" y="2289507"/>
                      <a:pt x="5462335" y="2226877"/>
                      <a:pt x="5397617" y="2203912"/>
                    </a:cubicBezTo>
                    <a:cubicBezTo>
                      <a:pt x="5332899" y="2180948"/>
                      <a:pt x="5232691" y="2162159"/>
                      <a:pt x="5172148" y="2166334"/>
                    </a:cubicBezTo>
                    <a:cubicBezTo>
                      <a:pt x="5111605" y="2170509"/>
                      <a:pt x="5117869" y="2216438"/>
                      <a:pt x="5034362" y="2228964"/>
                    </a:cubicBezTo>
                    <a:cubicBezTo>
                      <a:pt x="4950855" y="2241490"/>
                      <a:pt x="4738545" y="2251373"/>
                      <a:pt x="4671107" y="2241490"/>
                    </a:cubicBezTo>
                    <a:cubicBezTo>
                      <a:pt x="4603669" y="2231608"/>
                      <a:pt x="4664085" y="2177847"/>
                      <a:pt x="4629734" y="2169669"/>
                    </a:cubicBezTo>
                    <a:cubicBezTo>
                      <a:pt x="4595383" y="2161491"/>
                      <a:pt x="4493593" y="2186716"/>
                      <a:pt x="4464998" y="2192423"/>
                    </a:cubicBezTo>
                    <a:cubicBezTo>
                      <a:pt x="4436403" y="2198130"/>
                      <a:pt x="4486444" y="2189471"/>
                      <a:pt x="4458165" y="2203912"/>
                    </a:cubicBezTo>
                    <a:cubicBezTo>
                      <a:pt x="4429886" y="2218353"/>
                      <a:pt x="4345430" y="2268631"/>
                      <a:pt x="4295326" y="2279069"/>
                    </a:cubicBezTo>
                    <a:cubicBezTo>
                      <a:pt x="4245222" y="2289507"/>
                      <a:pt x="4226433" y="2264454"/>
                      <a:pt x="4157540" y="2266542"/>
                    </a:cubicBezTo>
                    <a:cubicBezTo>
                      <a:pt x="4088647" y="2268630"/>
                      <a:pt x="3955035" y="2281157"/>
                      <a:pt x="3881967" y="2291595"/>
                    </a:cubicBezTo>
                    <a:cubicBezTo>
                      <a:pt x="3808899" y="2302033"/>
                      <a:pt x="3783847" y="2329173"/>
                      <a:pt x="3719129" y="2329173"/>
                    </a:cubicBezTo>
                    <a:cubicBezTo>
                      <a:pt x="3654411" y="2329173"/>
                      <a:pt x="3583430" y="2312472"/>
                      <a:pt x="3493660" y="2291595"/>
                    </a:cubicBezTo>
                    <a:cubicBezTo>
                      <a:pt x="3403890" y="2270718"/>
                      <a:pt x="3243140" y="2216438"/>
                      <a:pt x="3180510" y="2203912"/>
                    </a:cubicBezTo>
                    <a:cubicBezTo>
                      <a:pt x="3117880" y="2191386"/>
                      <a:pt x="3159633" y="2222701"/>
                      <a:pt x="3117880" y="2216438"/>
                    </a:cubicBezTo>
                    <a:cubicBezTo>
                      <a:pt x="3076127" y="2210175"/>
                      <a:pt x="2988444" y="2199737"/>
                      <a:pt x="2929989" y="2166334"/>
                    </a:cubicBezTo>
                    <a:cubicBezTo>
                      <a:pt x="2871534" y="2132931"/>
                      <a:pt x="2825606" y="2026460"/>
                      <a:pt x="2767151" y="2016022"/>
                    </a:cubicBezTo>
                    <a:cubicBezTo>
                      <a:pt x="2708696" y="2005584"/>
                      <a:pt x="2639802" y="2072389"/>
                      <a:pt x="2579260" y="2103704"/>
                    </a:cubicBezTo>
                    <a:cubicBezTo>
                      <a:pt x="2518718" y="2135019"/>
                      <a:pt x="2454000" y="2201824"/>
                      <a:pt x="2403896" y="2203912"/>
                    </a:cubicBezTo>
                    <a:cubicBezTo>
                      <a:pt x="2353792" y="2206000"/>
                      <a:pt x="2335003" y="2122493"/>
                      <a:pt x="2278636" y="2116230"/>
                    </a:cubicBezTo>
                    <a:cubicBezTo>
                      <a:pt x="2222269" y="2109967"/>
                      <a:pt x="2122060" y="2149633"/>
                      <a:pt x="2065693" y="2166334"/>
                    </a:cubicBezTo>
                    <a:cubicBezTo>
                      <a:pt x="2009326" y="2183035"/>
                      <a:pt x="2003063" y="2214350"/>
                      <a:pt x="1940433" y="2216438"/>
                    </a:cubicBezTo>
                    <a:cubicBezTo>
                      <a:pt x="1877803" y="2218526"/>
                      <a:pt x="1758806" y="2178860"/>
                      <a:pt x="1689913" y="2178860"/>
                    </a:cubicBezTo>
                    <a:cubicBezTo>
                      <a:pt x="1621020" y="2178860"/>
                      <a:pt x="1527074" y="2216438"/>
                      <a:pt x="1527074" y="2216438"/>
                    </a:cubicBezTo>
                    <a:cubicBezTo>
                      <a:pt x="1472795" y="2228964"/>
                      <a:pt x="1403902" y="2268630"/>
                      <a:pt x="1364236" y="2254016"/>
                    </a:cubicBezTo>
                    <a:cubicBezTo>
                      <a:pt x="1324570" y="2239402"/>
                      <a:pt x="1320395" y="2132931"/>
                      <a:pt x="1289080" y="2128756"/>
                    </a:cubicBezTo>
                    <a:cubicBezTo>
                      <a:pt x="1257765" y="2124581"/>
                      <a:pt x="1218098" y="2197649"/>
                      <a:pt x="1176345" y="2228964"/>
                    </a:cubicBezTo>
                    <a:cubicBezTo>
                      <a:pt x="1134592" y="2260279"/>
                      <a:pt x="1094926" y="2308296"/>
                      <a:pt x="1038559" y="2316647"/>
                    </a:cubicBezTo>
                    <a:cubicBezTo>
                      <a:pt x="982192" y="2324998"/>
                      <a:pt x="894510" y="2285332"/>
                      <a:pt x="838143" y="2279069"/>
                    </a:cubicBezTo>
                    <a:cubicBezTo>
                      <a:pt x="781776" y="2272806"/>
                      <a:pt x="735847" y="2270718"/>
                      <a:pt x="700356" y="2279069"/>
                    </a:cubicBezTo>
                    <a:cubicBezTo>
                      <a:pt x="664865" y="2287420"/>
                      <a:pt x="666953" y="2335436"/>
                      <a:pt x="625200" y="2329173"/>
                    </a:cubicBezTo>
                    <a:cubicBezTo>
                      <a:pt x="583447" y="2322910"/>
                      <a:pt x="499940" y="2251928"/>
                      <a:pt x="449836" y="2241490"/>
                    </a:cubicBezTo>
                    <a:cubicBezTo>
                      <a:pt x="399732" y="2231052"/>
                      <a:pt x="349628" y="2249841"/>
                      <a:pt x="324576" y="2266542"/>
                    </a:cubicBezTo>
                    <a:cubicBezTo>
                      <a:pt x="299524" y="2283244"/>
                      <a:pt x="312049" y="2339611"/>
                      <a:pt x="299523" y="2341699"/>
                    </a:cubicBezTo>
                    <a:cubicBezTo>
                      <a:pt x="286997" y="2343787"/>
                      <a:pt x="276559" y="2295771"/>
                      <a:pt x="249419" y="2279069"/>
                    </a:cubicBezTo>
                    <a:cubicBezTo>
                      <a:pt x="222279" y="2262368"/>
                      <a:pt x="176351" y="2247753"/>
                      <a:pt x="136685" y="2241490"/>
                    </a:cubicBezTo>
                    <a:cubicBezTo>
                      <a:pt x="97019" y="2235227"/>
                      <a:pt x="32302" y="2256104"/>
                      <a:pt x="11425" y="2241490"/>
                    </a:cubicBezTo>
                    <a:cubicBezTo>
                      <a:pt x="-9452" y="2226876"/>
                      <a:pt x="3074" y="2487835"/>
                      <a:pt x="11425" y="2153808"/>
                    </a:cubicBezTo>
                    <a:cubicBezTo>
                      <a:pt x="19776" y="1819781"/>
                      <a:pt x="76143" y="598493"/>
                      <a:pt x="86581" y="249852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任意多边形 4"/>
              <p:cNvSpPr/>
              <p:nvPr/>
            </p:nvSpPr>
            <p:spPr>
              <a:xfrm>
                <a:off x="-78480" y="2455920"/>
                <a:ext cx="12356640" cy="1868400"/>
              </a:xfrm>
              <a:custGeom>
                <a:avLst/>
                <a:gdLst/>
                <a:ahLst/>
                <a:rect l="l" t="t" r="r" b="b"/>
                <a:pathLst>
                  <a:path w="10696126" h="2454679">
                    <a:moveTo>
                      <a:pt x="86581" y="249852"/>
                    </a:moveTo>
                    <a:cubicBezTo>
                      <a:pt x="97019" y="-98789"/>
                      <a:pt x="46915" y="51524"/>
                      <a:pt x="74055" y="61962"/>
                    </a:cubicBezTo>
                    <a:cubicBezTo>
                      <a:pt x="101195" y="72400"/>
                      <a:pt x="197227" y="285342"/>
                      <a:pt x="249419" y="312482"/>
                    </a:cubicBezTo>
                    <a:cubicBezTo>
                      <a:pt x="301611" y="339622"/>
                      <a:pt x="345453" y="239414"/>
                      <a:pt x="387206" y="224800"/>
                    </a:cubicBezTo>
                    <a:cubicBezTo>
                      <a:pt x="428960" y="210186"/>
                      <a:pt x="476976" y="220625"/>
                      <a:pt x="499940" y="224800"/>
                    </a:cubicBezTo>
                    <a:cubicBezTo>
                      <a:pt x="522904" y="228975"/>
                      <a:pt x="504115" y="231063"/>
                      <a:pt x="524992" y="249852"/>
                    </a:cubicBezTo>
                    <a:cubicBezTo>
                      <a:pt x="545869" y="268641"/>
                      <a:pt x="604323" y="331271"/>
                      <a:pt x="625200" y="337534"/>
                    </a:cubicBezTo>
                    <a:cubicBezTo>
                      <a:pt x="646077" y="343797"/>
                      <a:pt x="641901" y="302044"/>
                      <a:pt x="650252" y="287430"/>
                    </a:cubicBezTo>
                    <a:cubicBezTo>
                      <a:pt x="658603" y="272816"/>
                      <a:pt x="660691" y="245677"/>
                      <a:pt x="675304" y="249852"/>
                    </a:cubicBezTo>
                    <a:cubicBezTo>
                      <a:pt x="689917" y="254027"/>
                      <a:pt x="717057" y="304131"/>
                      <a:pt x="737934" y="312482"/>
                    </a:cubicBezTo>
                    <a:cubicBezTo>
                      <a:pt x="758811" y="320833"/>
                      <a:pt x="781776" y="304131"/>
                      <a:pt x="800565" y="299956"/>
                    </a:cubicBezTo>
                    <a:cubicBezTo>
                      <a:pt x="819354" y="295781"/>
                      <a:pt x="827705" y="289518"/>
                      <a:pt x="850669" y="287430"/>
                    </a:cubicBezTo>
                    <a:cubicBezTo>
                      <a:pt x="873633" y="285342"/>
                      <a:pt x="900773" y="279079"/>
                      <a:pt x="938351" y="287430"/>
                    </a:cubicBezTo>
                    <a:cubicBezTo>
                      <a:pt x="975929" y="295781"/>
                      <a:pt x="1034384" y="335446"/>
                      <a:pt x="1076137" y="337534"/>
                    </a:cubicBezTo>
                    <a:cubicBezTo>
                      <a:pt x="1117890" y="339622"/>
                      <a:pt x="1155468" y="310394"/>
                      <a:pt x="1188871" y="299956"/>
                    </a:cubicBezTo>
                    <a:cubicBezTo>
                      <a:pt x="1222274" y="289518"/>
                      <a:pt x="1257765" y="270729"/>
                      <a:pt x="1276554" y="274904"/>
                    </a:cubicBezTo>
                    <a:cubicBezTo>
                      <a:pt x="1295343" y="279079"/>
                      <a:pt x="1272379" y="316657"/>
                      <a:pt x="1301606" y="325008"/>
                    </a:cubicBezTo>
                    <a:cubicBezTo>
                      <a:pt x="1330833" y="333359"/>
                      <a:pt x="1416428" y="329183"/>
                      <a:pt x="1451918" y="325008"/>
                    </a:cubicBezTo>
                    <a:cubicBezTo>
                      <a:pt x="1487408" y="320833"/>
                      <a:pt x="1499934" y="320833"/>
                      <a:pt x="1514548" y="299956"/>
                    </a:cubicBezTo>
                    <a:cubicBezTo>
                      <a:pt x="1529162" y="279079"/>
                      <a:pt x="1518723" y="212274"/>
                      <a:pt x="1539600" y="199748"/>
                    </a:cubicBezTo>
                    <a:cubicBezTo>
                      <a:pt x="1560477" y="187222"/>
                      <a:pt x="1612668" y="220625"/>
                      <a:pt x="1639808" y="224800"/>
                    </a:cubicBezTo>
                    <a:cubicBezTo>
                      <a:pt x="1666948" y="228975"/>
                      <a:pt x="1660686" y="231063"/>
                      <a:pt x="1702439" y="224800"/>
                    </a:cubicBezTo>
                    <a:cubicBezTo>
                      <a:pt x="1744192" y="218537"/>
                      <a:pt x="1844400" y="201836"/>
                      <a:pt x="1890329" y="187222"/>
                    </a:cubicBezTo>
                    <a:cubicBezTo>
                      <a:pt x="1936258" y="172608"/>
                      <a:pt x="1948784" y="130855"/>
                      <a:pt x="1978011" y="137118"/>
                    </a:cubicBezTo>
                    <a:cubicBezTo>
                      <a:pt x="2007238" y="143381"/>
                      <a:pt x="2040641" y="210186"/>
                      <a:pt x="2065693" y="224800"/>
                    </a:cubicBezTo>
                    <a:cubicBezTo>
                      <a:pt x="2090745" y="239414"/>
                      <a:pt x="2128323" y="224800"/>
                      <a:pt x="2128323" y="224800"/>
                    </a:cubicBezTo>
                    <a:cubicBezTo>
                      <a:pt x="2151287" y="224800"/>
                      <a:pt x="2184691" y="216449"/>
                      <a:pt x="2203480" y="224800"/>
                    </a:cubicBezTo>
                    <a:cubicBezTo>
                      <a:pt x="2222269" y="233151"/>
                      <a:pt x="2220181" y="272816"/>
                      <a:pt x="2241058" y="274904"/>
                    </a:cubicBezTo>
                    <a:cubicBezTo>
                      <a:pt x="2261935" y="276992"/>
                      <a:pt x="2295337" y="254027"/>
                      <a:pt x="2328740" y="237326"/>
                    </a:cubicBezTo>
                    <a:cubicBezTo>
                      <a:pt x="2362143" y="220625"/>
                      <a:pt x="2403896" y="180959"/>
                      <a:pt x="2441474" y="174696"/>
                    </a:cubicBezTo>
                    <a:cubicBezTo>
                      <a:pt x="2479052" y="168433"/>
                      <a:pt x="2512455" y="189310"/>
                      <a:pt x="2554208" y="199748"/>
                    </a:cubicBezTo>
                    <a:cubicBezTo>
                      <a:pt x="2595961" y="210186"/>
                      <a:pt x="2643979" y="231063"/>
                      <a:pt x="2691995" y="237326"/>
                    </a:cubicBezTo>
                    <a:cubicBezTo>
                      <a:pt x="2740012" y="243589"/>
                      <a:pt x="2802641" y="245677"/>
                      <a:pt x="2842307" y="237326"/>
                    </a:cubicBezTo>
                    <a:cubicBezTo>
                      <a:pt x="2881973" y="228975"/>
                      <a:pt x="2890323" y="187222"/>
                      <a:pt x="2929989" y="187222"/>
                    </a:cubicBezTo>
                    <a:cubicBezTo>
                      <a:pt x="2969655" y="187222"/>
                      <a:pt x="3044811" y="228975"/>
                      <a:pt x="3080302" y="237326"/>
                    </a:cubicBezTo>
                    <a:cubicBezTo>
                      <a:pt x="3115793" y="245677"/>
                      <a:pt x="3142932" y="237326"/>
                      <a:pt x="3142932" y="237326"/>
                    </a:cubicBezTo>
                    <a:cubicBezTo>
                      <a:pt x="3170072" y="237326"/>
                      <a:pt x="3213913" y="224800"/>
                      <a:pt x="3243140" y="237326"/>
                    </a:cubicBezTo>
                    <a:cubicBezTo>
                      <a:pt x="3272367" y="249852"/>
                      <a:pt x="3286981" y="304131"/>
                      <a:pt x="3318296" y="312482"/>
                    </a:cubicBezTo>
                    <a:cubicBezTo>
                      <a:pt x="3349611" y="320833"/>
                      <a:pt x="3401803" y="304131"/>
                      <a:pt x="3431030" y="287430"/>
                    </a:cubicBezTo>
                    <a:cubicBezTo>
                      <a:pt x="3460257" y="270729"/>
                      <a:pt x="3466520" y="210186"/>
                      <a:pt x="3493660" y="212274"/>
                    </a:cubicBezTo>
                    <a:cubicBezTo>
                      <a:pt x="3520800" y="214362"/>
                      <a:pt x="3568817" y="285342"/>
                      <a:pt x="3593869" y="299956"/>
                    </a:cubicBezTo>
                    <a:cubicBezTo>
                      <a:pt x="3618921" y="314570"/>
                      <a:pt x="3631447" y="306219"/>
                      <a:pt x="3643973" y="299956"/>
                    </a:cubicBezTo>
                    <a:cubicBezTo>
                      <a:pt x="3656499" y="293693"/>
                      <a:pt x="3652324" y="281167"/>
                      <a:pt x="3669025" y="262378"/>
                    </a:cubicBezTo>
                    <a:cubicBezTo>
                      <a:pt x="3685726" y="243589"/>
                      <a:pt x="3727480" y="189310"/>
                      <a:pt x="3744181" y="187222"/>
                    </a:cubicBezTo>
                    <a:cubicBezTo>
                      <a:pt x="3760882" y="185134"/>
                      <a:pt x="3746269" y="233151"/>
                      <a:pt x="3769233" y="249852"/>
                    </a:cubicBezTo>
                    <a:cubicBezTo>
                      <a:pt x="3792197" y="266553"/>
                      <a:pt x="3844389" y="281167"/>
                      <a:pt x="3881967" y="287430"/>
                    </a:cubicBezTo>
                    <a:cubicBezTo>
                      <a:pt x="3919545" y="293693"/>
                      <a:pt x="3969650" y="291605"/>
                      <a:pt x="3994702" y="287430"/>
                    </a:cubicBezTo>
                    <a:cubicBezTo>
                      <a:pt x="4019754" y="283255"/>
                      <a:pt x="4007228" y="254027"/>
                      <a:pt x="4032280" y="262378"/>
                    </a:cubicBezTo>
                    <a:cubicBezTo>
                      <a:pt x="4057332" y="270729"/>
                      <a:pt x="4115787" y="331271"/>
                      <a:pt x="4145014" y="337534"/>
                    </a:cubicBezTo>
                    <a:cubicBezTo>
                      <a:pt x="4174241" y="343797"/>
                      <a:pt x="4184680" y="320833"/>
                      <a:pt x="4207644" y="299956"/>
                    </a:cubicBezTo>
                    <a:cubicBezTo>
                      <a:pt x="4230608" y="279079"/>
                      <a:pt x="4255660" y="216449"/>
                      <a:pt x="4282800" y="212274"/>
                    </a:cubicBezTo>
                    <a:cubicBezTo>
                      <a:pt x="4309940" y="208099"/>
                      <a:pt x="4334992" y="270729"/>
                      <a:pt x="4370482" y="274904"/>
                    </a:cubicBezTo>
                    <a:cubicBezTo>
                      <a:pt x="4405972" y="279079"/>
                      <a:pt x="4464428" y="251940"/>
                      <a:pt x="4495743" y="237326"/>
                    </a:cubicBezTo>
                    <a:cubicBezTo>
                      <a:pt x="4527058" y="222712"/>
                      <a:pt x="4535409" y="178871"/>
                      <a:pt x="4558373" y="187222"/>
                    </a:cubicBezTo>
                    <a:cubicBezTo>
                      <a:pt x="4581337" y="195573"/>
                      <a:pt x="4612652" y="272816"/>
                      <a:pt x="4633529" y="287430"/>
                    </a:cubicBezTo>
                    <a:cubicBezTo>
                      <a:pt x="4654406" y="302044"/>
                      <a:pt x="4660669" y="293693"/>
                      <a:pt x="4683633" y="274904"/>
                    </a:cubicBezTo>
                    <a:cubicBezTo>
                      <a:pt x="4706597" y="256115"/>
                      <a:pt x="4740000" y="183047"/>
                      <a:pt x="4771315" y="174696"/>
                    </a:cubicBezTo>
                    <a:cubicBezTo>
                      <a:pt x="4802630" y="166345"/>
                      <a:pt x="4844383" y="216449"/>
                      <a:pt x="4871523" y="224800"/>
                    </a:cubicBezTo>
                    <a:cubicBezTo>
                      <a:pt x="4898663" y="233151"/>
                      <a:pt x="4907014" y="233151"/>
                      <a:pt x="4934154" y="224800"/>
                    </a:cubicBezTo>
                    <a:cubicBezTo>
                      <a:pt x="4961294" y="216449"/>
                      <a:pt x="4982170" y="197660"/>
                      <a:pt x="5034362" y="174696"/>
                    </a:cubicBezTo>
                    <a:cubicBezTo>
                      <a:pt x="5086554" y="151732"/>
                      <a:pt x="5201375" y="114154"/>
                      <a:pt x="5247304" y="87014"/>
                    </a:cubicBezTo>
                    <a:cubicBezTo>
                      <a:pt x="5293233" y="59874"/>
                      <a:pt x="5291145" y="24384"/>
                      <a:pt x="5309934" y="11858"/>
                    </a:cubicBezTo>
                    <a:cubicBezTo>
                      <a:pt x="5328723" y="-668"/>
                      <a:pt x="5328724" y="-6931"/>
                      <a:pt x="5360039" y="11858"/>
                    </a:cubicBezTo>
                    <a:cubicBezTo>
                      <a:pt x="5391354" y="30647"/>
                      <a:pt x="5460247" y="107891"/>
                      <a:pt x="5497825" y="124592"/>
                    </a:cubicBezTo>
                    <a:cubicBezTo>
                      <a:pt x="5535403" y="141293"/>
                      <a:pt x="5558367" y="124592"/>
                      <a:pt x="5585507" y="112066"/>
                    </a:cubicBezTo>
                    <a:cubicBezTo>
                      <a:pt x="5612647" y="99540"/>
                      <a:pt x="5631436" y="49436"/>
                      <a:pt x="5660663" y="49436"/>
                    </a:cubicBezTo>
                    <a:cubicBezTo>
                      <a:pt x="5689890" y="49436"/>
                      <a:pt x="5725381" y="93277"/>
                      <a:pt x="5760871" y="112066"/>
                    </a:cubicBezTo>
                    <a:cubicBezTo>
                      <a:pt x="5796361" y="130855"/>
                      <a:pt x="5838115" y="153819"/>
                      <a:pt x="5873606" y="162170"/>
                    </a:cubicBezTo>
                    <a:cubicBezTo>
                      <a:pt x="5909097" y="170521"/>
                      <a:pt x="5927578" y="170258"/>
                      <a:pt x="5973814" y="162170"/>
                    </a:cubicBezTo>
                    <a:cubicBezTo>
                      <a:pt x="6020050" y="154082"/>
                      <a:pt x="6103051" y="116831"/>
                      <a:pt x="6151023" y="113640"/>
                    </a:cubicBezTo>
                    <a:cubicBezTo>
                      <a:pt x="6198995" y="110449"/>
                      <a:pt x="6224378" y="139112"/>
                      <a:pt x="6261649" y="143025"/>
                    </a:cubicBezTo>
                    <a:cubicBezTo>
                      <a:pt x="6298920" y="146938"/>
                      <a:pt x="6337025" y="138102"/>
                      <a:pt x="6374647" y="137118"/>
                    </a:cubicBezTo>
                    <a:cubicBezTo>
                      <a:pt x="6412269" y="136134"/>
                      <a:pt x="6449803" y="128767"/>
                      <a:pt x="6487381" y="137118"/>
                    </a:cubicBezTo>
                    <a:cubicBezTo>
                      <a:pt x="6524959" y="145469"/>
                      <a:pt x="6568800" y="174696"/>
                      <a:pt x="6600115" y="187222"/>
                    </a:cubicBezTo>
                    <a:cubicBezTo>
                      <a:pt x="6631430" y="199748"/>
                      <a:pt x="6650219" y="218537"/>
                      <a:pt x="6675271" y="212274"/>
                    </a:cubicBezTo>
                    <a:cubicBezTo>
                      <a:pt x="6700323" y="206011"/>
                      <a:pt x="6725376" y="166345"/>
                      <a:pt x="6750428" y="149644"/>
                    </a:cubicBezTo>
                    <a:cubicBezTo>
                      <a:pt x="6775480" y="132943"/>
                      <a:pt x="6781743" y="122504"/>
                      <a:pt x="6825584" y="112066"/>
                    </a:cubicBezTo>
                    <a:cubicBezTo>
                      <a:pt x="6869425" y="101628"/>
                      <a:pt x="6961282" y="76576"/>
                      <a:pt x="7013474" y="87014"/>
                    </a:cubicBezTo>
                    <a:cubicBezTo>
                      <a:pt x="7065666" y="97452"/>
                      <a:pt x="7099068" y="160082"/>
                      <a:pt x="7138734" y="174696"/>
                    </a:cubicBezTo>
                    <a:cubicBezTo>
                      <a:pt x="7178400" y="189310"/>
                      <a:pt x="7218066" y="178871"/>
                      <a:pt x="7251469" y="174696"/>
                    </a:cubicBezTo>
                    <a:cubicBezTo>
                      <a:pt x="7284872" y="170521"/>
                      <a:pt x="7303661" y="157995"/>
                      <a:pt x="7339151" y="149644"/>
                    </a:cubicBezTo>
                    <a:cubicBezTo>
                      <a:pt x="7374641" y="141293"/>
                      <a:pt x="7424745" y="116241"/>
                      <a:pt x="7464411" y="124592"/>
                    </a:cubicBezTo>
                    <a:cubicBezTo>
                      <a:pt x="7504077" y="132943"/>
                      <a:pt x="7545830" y="187222"/>
                      <a:pt x="7577145" y="199748"/>
                    </a:cubicBezTo>
                    <a:cubicBezTo>
                      <a:pt x="7608460" y="212274"/>
                      <a:pt x="7623075" y="212274"/>
                      <a:pt x="7652302" y="199748"/>
                    </a:cubicBezTo>
                    <a:cubicBezTo>
                      <a:pt x="7681529" y="187222"/>
                      <a:pt x="7719107" y="132943"/>
                      <a:pt x="7752510" y="124592"/>
                    </a:cubicBezTo>
                    <a:cubicBezTo>
                      <a:pt x="7785913" y="116241"/>
                      <a:pt x="7815140" y="128767"/>
                      <a:pt x="7852718" y="149644"/>
                    </a:cubicBezTo>
                    <a:cubicBezTo>
                      <a:pt x="7890296" y="170521"/>
                      <a:pt x="7938312" y="233151"/>
                      <a:pt x="7977978" y="249852"/>
                    </a:cubicBezTo>
                    <a:cubicBezTo>
                      <a:pt x="8017644" y="266553"/>
                      <a:pt x="8048959" y="254027"/>
                      <a:pt x="8090713" y="249852"/>
                    </a:cubicBezTo>
                    <a:cubicBezTo>
                      <a:pt x="8132467" y="245677"/>
                      <a:pt x="8195096" y="222712"/>
                      <a:pt x="8228499" y="224800"/>
                    </a:cubicBezTo>
                    <a:cubicBezTo>
                      <a:pt x="8261902" y="226888"/>
                      <a:pt x="8257726" y="260290"/>
                      <a:pt x="8291129" y="262378"/>
                    </a:cubicBezTo>
                    <a:cubicBezTo>
                      <a:pt x="8324532" y="264466"/>
                      <a:pt x="8380899" y="251940"/>
                      <a:pt x="8428915" y="237326"/>
                    </a:cubicBezTo>
                    <a:cubicBezTo>
                      <a:pt x="8476932" y="222712"/>
                      <a:pt x="8541650" y="172608"/>
                      <a:pt x="8579228" y="174696"/>
                    </a:cubicBezTo>
                    <a:cubicBezTo>
                      <a:pt x="8616806" y="176784"/>
                      <a:pt x="8625157" y="235238"/>
                      <a:pt x="8654384" y="249852"/>
                    </a:cubicBezTo>
                    <a:cubicBezTo>
                      <a:pt x="8683611" y="264466"/>
                      <a:pt x="8721189" y="270729"/>
                      <a:pt x="8754592" y="262378"/>
                    </a:cubicBezTo>
                    <a:cubicBezTo>
                      <a:pt x="8787995" y="254027"/>
                      <a:pt x="8825573" y="216449"/>
                      <a:pt x="8854800" y="199748"/>
                    </a:cubicBezTo>
                    <a:cubicBezTo>
                      <a:pt x="8884027" y="183047"/>
                      <a:pt x="8906992" y="157995"/>
                      <a:pt x="8929956" y="162170"/>
                    </a:cubicBezTo>
                    <a:cubicBezTo>
                      <a:pt x="8952920" y="166345"/>
                      <a:pt x="8959184" y="214362"/>
                      <a:pt x="8992587" y="224800"/>
                    </a:cubicBezTo>
                    <a:cubicBezTo>
                      <a:pt x="9025990" y="235238"/>
                      <a:pt x="9090707" y="235238"/>
                      <a:pt x="9130373" y="224800"/>
                    </a:cubicBezTo>
                    <a:cubicBezTo>
                      <a:pt x="9170039" y="214362"/>
                      <a:pt x="9197178" y="172608"/>
                      <a:pt x="9230581" y="162170"/>
                    </a:cubicBezTo>
                    <a:cubicBezTo>
                      <a:pt x="9263984" y="151732"/>
                      <a:pt x="9291123" y="153819"/>
                      <a:pt x="9330789" y="162170"/>
                    </a:cubicBezTo>
                    <a:cubicBezTo>
                      <a:pt x="9370455" y="170521"/>
                      <a:pt x="9433086" y="197660"/>
                      <a:pt x="9468576" y="212274"/>
                    </a:cubicBezTo>
                    <a:cubicBezTo>
                      <a:pt x="9504067" y="226888"/>
                      <a:pt x="9514505" y="258203"/>
                      <a:pt x="9543732" y="249852"/>
                    </a:cubicBezTo>
                    <a:cubicBezTo>
                      <a:pt x="9572959" y="241501"/>
                      <a:pt x="9606362" y="193485"/>
                      <a:pt x="9643940" y="162170"/>
                    </a:cubicBezTo>
                    <a:cubicBezTo>
                      <a:pt x="9681518" y="130855"/>
                      <a:pt x="9729534" y="64050"/>
                      <a:pt x="9769200" y="61962"/>
                    </a:cubicBezTo>
                    <a:cubicBezTo>
                      <a:pt x="9808866" y="59874"/>
                      <a:pt x="9846443" y="141293"/>
                      <a:pt x="9881934" y="149644"/>
                    </a:cubicBezTo>
                    <a:cubicBezTo>
                      <a:pt x="9917425" y="157995"/>
                      <a:pt x="9952916" y="109978"/>
                      <a:pt x="9982143" y="112066"/>
                    </a:cubicBezTo>
                    <a:cubicBezTo>
                      <a:pt x="10011370" y="114154"/>
                      <a:pt x="10019721" y="162170"/>
                      <a:pt x="10057299" y="162170"/>
                    </a:cubicBezTo>
                    <a:cubicBezTo>
                      <a:pt x="10094877" y="162170"/>
                      <a:pt x="10170033" y="105803"/>
                      <a:pt x="10207611" y="112066"/>
                    </a:cubicBezTo>
                    <a:cubicBezTo>
                      <a:pt x="10245189" y="118329"/>
                      <a:pt x="10253540" y="185134"/>
                      <a:pt x="10282767" y="199748"/>
                    </a:cubicBezTo>
                    <a:cubicBezTo>
                      <a:pt x="10311995" y="214362"/>
                      <a:pt x="10347486" y="212274"/>
                      <a:pt x="10382976" y="199748"/>
                    </a:cubicBezTo>
                    <a:cubicBezTo>
                      <a:pt x="10418466" y="187222"/>
                      <a:pt x="10451869" y="135030"/>
                      <a:pt x="10495710" y="124592"/>
                    </a:cubicBezTo>
                    <a:cubicBezTo>
                      <a:pt x="10539551" y="114154"/>
                      <a:pt x="10612619" y="120417"/>
                      <a:pt x="10646022" y="137118"/>
                    </a:cubicBezTo>
                    <a:cubicBezTo>
                      <a:pt x="10679425" y="153819"/>
                      <a:pt x="10696126" y="151732"/>
                      <a:pt x="10696126" y="224800"/>
                    </a:cubicBezTo>
                    <a:cubicBezTo>
                      <a:pt x="10696126" y="297868"/>
                      <a:pt x="10681512" y="245677"/>
                      <a:pt x="10646022" y="575529"/>
                    </a:cubicBezTo>
                    <a:cubicBezTo>
                      <a:pt x="10610532" y="905381"/>
                      <a:pt x="10545814" y="1909550"/>
                      <a:pt x="10483184" y="2203912"/>
                    </a:cubicBezTo>
                    <a:cubicBezTo>
                      <a:pt x="10420554" y="2498274"/>
                      <a:pt x="10320345" y="2318735"/>
                      <a:pt x="10270241" y="2341699"/>
                    </a:cubicBezTo>
                    <a:cubicBezTo>
                      <a:pt x="10220137" y="2364663"/>
                      <a:pt x="10224312" y="2358400"/>
                      <a:pt x="10182559" y="2341699"/>
                    </a:cubicBezTo>
                    <a:cubicBezTo>
                      <a:pt x="10140806" y="2324998"/>
                      <a:pt x="10069825" y="2262367"/>
                      <a:pt x="10019721" y="2241490"/>
                    </a:cubicBezTo>
                    <a:cubicBezTo>
                      <a:pt x="9969617" y="2220613"/>
                      <a:pt x="9934126" y="2233139"/>
                      <a:pt x="9881934" y="2216438"/>
                    </a:cubicBezTo>
                    <a:cubicBezTo>
                      <a:pt x="9829742" y="2199737"/>
                      <a:pt x="9758762" y="2149633"/>
                      <a:pt x="9706570" y="2141282"/>
                    </a:cubicBezTo>
                    <a:cubicBezTo>
                      <a:pt x="9654378" y="2132931"/>
                      <a:pt x="9633502" y="2162159"/>
                      <a:pt x="9568784" y="2166334"/>
                    </a:cubicBezTo>
                    <a:cubicBezTo>
                      <a:pt x="9504066" y="2170509"/>
                      <a:pt x="9318263" y="2166334"/>
                      <a:pt x="9318263" y="2166334"/>
                    </a:cubicBezTo>
                    <a:cubicBezTo>
                      <a:pt x="9232669" y="2166334"/>
                      <a:pt x="9109496" y="2185123"/>
                      <a:pt x="9055217" y="2166334"/>
                    </a:cubicBezTo>
                    <a:cubicBezTo>
                      <a:pt x="9000938" y="2147545"/>
                      <a:pt x="9013464" y="2059863"/>
                      <a:pt x="8992587" y="2053600"/>
                    </a:cubicBezTo>
                    <a:cubicBezTo>
                      <a:pt x="8971710" y="2047337"/>
                      <a:pt x="8948745" y="2109967"/>
                      <a:pt x="8929956" y="2128756"/>
                    </a:cubicBezTo>
                    <a:cubicBezTo>
                      <a:pt x="8911167" y="2147545"/>
                      <a:pt x="8919518" y="2151720"/>
                      <a:pt x="8879852" y="2166334"/>
                    </a:cubicBezTo>
                    <a:cubicBezTo>
                      <a:pt x="8840186" y="2180948"/>
                      <a:pt x="8742066" y="2203912"/>
                      <a:pt x="8691962" y="2216438"/>
                    </a:cubicBezTo>
                    <a:cubicBezTo>
                      <a:pt x="8641858" y="2228964"/>
                      <a:pt x="8620982" y="2231052"/>
                      <a:pt x="8579228" y="2241490"/>
                    </a:cubicBezTo>
                    <a:cubicBezTo>
                      <a:pt x="8537475" y="2251929"/>
                      <a:pt x="8508246" y="2287420"/>
                      <a:pt x="8441441" y="2279069"/>
                    </a:cubicBezTo>
                    <a:cubicBezTo>
                      <a:pt x="8374636" y="2270718"/>
                      <a:pt x="8276515" y="2206000"/>
                      <a:pt x="8178395" y="2191386"/>
                    </a:cubicBezTo>
                    <a:cubicBezTo>
                      <a:pt x="8080275" y="2176772"/>
                      <a:pt x="7965452" y="2203912"/>
                      <a:pt x="7852718" y="2191386"/>
                    </a:cubicBezTo>
                    <a:cubicBezTo>
                      <a:pt x="7739984" y="2178860"/>
                      <a:pt x="7600109" y="2118318"/>
                      <a:pt x="7501989" y="2116230"/>
                    </a:cubicBezTo>
                    <a:cubicBezTo>
                      <a:pt x="7403869" y="2114142"/>
                      <a:pt x="7263995" y="2178860"/>
                      <a:pt x="7263995" y="2178860"/>
                    </a:cubicBezTo>
                    <a:cubicBezTo>
                      <a:pt x="7199277" y="2195561"/>
                      <a:pt x="7163786" y="2224789"/>
                      <a:pt x="7113682" y="2216438"/>
                    </a:cubicBezTo>
                    <a:cubicBezTo>
                      <a:pt x="7063578" y="2208087"/>
                      <a:pt x="7019737" y="2143370"/>
                      <a:pt x="6963370" y="2128756"/>
                    </a:cubicBezTo>
                    <a:cubicBezTo>
                      <a:pt x="6907003" y="2114142"/>
                      <a:pt x="6813058" y="2105792"/>
                      <a:pt x="6775480" y="2128756"/>
                    </a:cubicBezTo>
                    <a:cubicBezTo>
                      <a:pt x="6737902" y="2151720"/>
                      <a:pt x="6748340" y="2228964"/>
                      <a:pt x="6737902" y="2266542"/>
                    </a:cubicBezTo>
                    <a:cubicBezTo>
                      <a:pt x="6727464" y="2304120"/>
                      <a:pt x="6744165" y="2339611"/>
                      <a:pt x="6712850" y="2354225"/>
                    </a:cubicBezTo>
                    <a:cubicBezTo>
                      <a:pt x="6681535" y="2368839"/>
                      <a:pt x="6614729" y="2347962"/>
                      <a:pt x="6550011" y="2354225"/>
                    </a:cubicBezTo>
                    <a:cubicBezTo>
                      <a:pt x="6485293" y="2360488"/>
                      <a:pt x="6389261" y="2375102"/>
                      <a:pt x="6324543" y="2391803"/>
                    </a:cubicBezTo>
                    <a:cubicBezTo>
                      <a:pt x="6259825" y="2408504"/>
                      <a:pt x="6203458" y="2458608"/>
                      <a:pt x="6161704" y="2454433"/>
                    </a:cubicBezTo>
                    <a:cubicBezTo>
                      <a:pt x="6119950" y="2450258"/>
                      <a:pt x="6105337" y="2393891"/>
                      <a:pt x="6074022" y="2366751"/>
                    </a:cubicBezTo>
                    <a:cubicBezTo>
                      <a:pt x="6042707" y="2339611"/>
                      <a:pt x="6023918" y="2304121"/>
                      <a:pt x="5973814" y="2291595"/>
                    </a:cubicBezTo>
                    <a:cubicBezTo>
                      <a:pt x="5923710" y="2279069"/>
                      <a:pt x="5842290" y="2289507"/>
                      <a:pt x="5773397" y="2291595"/>
                    </a:cubicBezTo>
                    <a:cubicBezTo>
                      <a:pt x="5704504" y="2293683"/>
                      <a:pt x="5623085" y="2318735"/>
                      <a:pt x="5560455" y="2304121"/>
                    </a:cubicBezTo>
                    <a:cubicBezTo>
                      <a:pt x="5497825" y="2289507"/>
                      <a:pt x="5462335" y="2226877"/>
                      <a:pt x="5397617" y="2203912"/>
                    </a:cubicBezTo>
                    <a:cubicBezTo>
                      <a:pt x="5332899" y="2180948"/>
                      <a:pt x="5232691" y="2162159"/>
                      <a:pt x="5172148" y="2166334"/>
                    </a:cubicBezTo>
                    <a:cubicBezTo>
                      <a:pt x="5111605" y="2170509"/>
                      <a:pt x="5117869" y="2216438"/>
                      <a:pt x="5034362" y="2228964"/>
                    </a:cubicBezTo>
                    <a:cubicBezTo>
                      <a:pt x="4950855" y="2241490"/>
                      <a:pt x="4729562" y="2266542"/>
                      <a:pt x="4671107" y="2241490"/>
                    </a:cubicBezTo>
                    <a:cubicBezTo>
                      <a:pt x="4612652" y="2216438"/>
                      <a:pt x="4704510" y="2105792"/>
                      <a:pt x="4683633" y="2078652"/>
                    </a:cubicBezTo>
                    <a:cubicBezTo>
                      <a:pt x="4662756" y="2051512"/>
                      <a:pt x="4583425" y="2057775"/>
                      <a:pt x="4545847" y="2078652"/>
                    </a:cubicBezTo>
                    <a:cubicBezTo>
                      <a:pt x="4508269" y="2099529"/>
                      <a:pt x="4499918" y="2170509"/>
                      <a:pt x="4458165" y="2203912"/>
                    </a:cubicBezTo>
                    <a:cubicBezTo>
                      <a:pt x="4416412" y="2237315"/>
                      <a:pt x="4345430" y="2268631"/>
                      <a:pt x="4295326" y="2279069"/>
                    </a:cubicBezTo>
                    <a:cubicBezTo>
                      <a:pt x="4245222" y="2289507"/>
                      <a:pt x="4226433" y="2264454"/>
                      <a:pt x="4157540" y="2266542"/>
                    </a:cubicBezTo>
                    <a:cubicBezTo>
                      <a:pt x="4088647" y="2268630"/>
                      <a:pt x="3955035" y="2281157"/>
                      <a:pt x="3881967" y="2291595"/>
                    </a:cubicBezTo>
                    <a:cubicBezTo>
                      <a:pt x="3808899" y="2302033"/>
                      <a:pt x="3783847" y="2329173"/>
                      <a:pt x="3719129" y="2329173"/>
                    </a:cubicBezTo>
                    <a:cubicBezTo>
                      <a:pt x="3654411" y="2329173"/>
                      <a:pt x="3583430" y="2312472"/>
                      <a:pt x="3493660" y="2291595"/>
                    </a:cubicBezTo>
                    <a:cubicBezTo>
                      <a:pt x="3403890" y="2270718"/>
                      <a:pt x="3243140" y="2216438"/>
                      <a:pt x="3180510" y="2203912"/>
                    </a:cubicBezTo>
                    <a:cubicBezTo>
                      <a:pt x="3117880" y="2191386"/>
                      <a:pt x="3159633" y="2222701"/>
                      <a:pt x="3117880" y="2216438"/>
                    </a:cubicBezTo>
                    <a:cubicBezTo>
                      <a:pt x="3076127" y="2210175"/>
                      <a:pt x="2988444" y="2199737"/>
                      <a:pt x="2929989" y="2166334"/>
                    </a:cubicBezTo>
                    <a:cubicBezTo>
                      <a:pt x="2871534" y="2132931"/>
                      <a:pt x="2825606" y="2026460"/>
                      <a:pt x="2767151" y="2016022"/>
                    </a:cubicBezTo>
                    <a:cubicBezTo>
                      <a:pt x="2708696" y="2005584"/>
                      <a:pt x="2639802" y="2072389"/>
                      <a:pt x="2579260" y="2103704"/>
                    </a:cubicBezTo>
                    <a:cubicBezTo>
                      <a:pt x="2518718" y="2135019"/>
                      <a:pt x="2454000" y="2201824"/>
                      <a:pt x="2403896" y="2203912"/>
                    </a:cubicBezTo>
                    <a:cubicBezTo>
                      <a:pt x="2353792" y="2206000"/>
                      <a:pt x="2335003" y="2122493"/>
                      <a:pt x="2278636" y="2116230"/>
                    </a:cubicBezTo>
                    <a:cubicBezTo>
                      <a:pt x="2222269" y="2109967"/>
                      <a:pt x="2122060" y="2149633"/>
                      <a:pt x="2065693" y="2166334"/>
                    </a:cubicBezTo>
                    <a:cubicBezTo>
                      <a:pt x="2009326" y="2183035"/>
                      <a:pt x="2003063" y="2214350"/>
                      <a:pt x="1940433" y="2216438"/>
                    </a:cubicBezTo>
                    <a:cubicBezTo>
                      <a:pt x="1877803" y="2218526"/>
                      <a:pt x="1758806" y="2178860"/>
                      <a:pt x="1689913" y="2178860"/>
                    </a:cubicBezTo>
                    <a:cubicBezTo>
                      <a:pt x="1621020" y="2178860"/>
                      <a:pt x="1527074" y="2216438"/>
                      <a:pt x="1527074" y="2216438"/>
                    </a:cubicBezTo>
                    <a:cubicBezTo>
                      <a:pt x="1472795" y="2228964"/>
                      <a:pt x="1403902" y="2268630"/>
                      <a:pt x="1364236" y="2254016"/>
                    </a:cubicBezTo>
                    <a:cubicBezTo>
                      <a:pt x="1324570" y="2239402"/>
                      <a:pt x="1320395" y="2132931"/>
                      <a:pt x="1289080" y="2128756"/>
                    </a:cubicBezTo>
                    <a:cubicBezTo>
                      <a:pt x="1257765" y="2124581"/>
                      <a:pt x="1218098" y="2197649"/>
                      <a:pt x="1176345" y="2228964"/>
                    </a:cubicBezTo>
                    <a:cubicBezTo>
                      <a:pt x="1134592" y="2260279"/>
                      <a:pt x="1094926" y="2308296"/>
                      <a:pt x="1038559" y="2316647"/>
                    </a:cubicBezTo>
                    <a:cubicBezTo>
                      <a:pt x="982192" y="2324998"/>
                      <a:pt x="894510" y="2285332"/>
                      <a:pt x="838143" y="2279069"/>
                    </a:cubicBezTo>
                    <a:cubicBezTo>
                      <a:pt x="781776" y="2272806"/>
                      <a:pt x="735847" y="2270718"/>
                      <a:pt x="700356" y="2279069"/>
                    </a:cubicBezTo>
                    <a:cubicBezTo>
                      <a:pt x="664865" y="2287420"/>
                      <a:pt x="666953" y="2335436"/>
                      <a:pt x="625200" y="2329173"/>
                    </a:cubicBezTo>
                    <a:cubicBezTo>
                      <a:pt x="583447" y="2322910"/>
                      <a:pt x="499940" y="2251928"/>
                      <a:pt x="449836" y="2241490"/>
                    </a:cubicBezTo>
                    <a:cubicBezTo>
                      <a:pt x="399732" y="2231052"/>
                      <a:pt x="349628" y="2249841"/>
                      <a:pt x="324576" y="2266542"/>
                    </a:cubicBezTo>
                    <a:cubicBezTo>
                      <a:pt x="299524" y="2283244"/>
                      <a:pt x="312049" y="2339611"/>
                      <a:pt x="299523" y="2341699"/>
                    </a:cubicBezTo>
                    <a:cubicBezTo>
                      <a:pt x="286997" y="2343787"/>
                      <a:pt x="276559" y="2295771"/>
                      <a:pt x="249419" y="2279069"/>
                    </a:cubicBezTo>
                    <a:cubicBezTo>
                      <a:pt x="222279" y="2262368"/>
                      <a:pt x="176351" y="2247753"/>
                      <a:pt x="136685" y="2241490"/>
                    </a:cubicBezTo>
                    <a:cubicBezTo>
                      <a:pt x="97019" y="2235227"/>
                      <a:pt x="32302" y="2256104"/>
                      <a:pt x="11425" y="2241490"/>
                    </a:cubicBezTo>
                    <a:cubicBezTo>
                      <a:pt x="-9452" y="2226876"/>
                      <a:pt x="3074" y="2487835"/>
                      <a:pt x="11425" y="2153808"/>
                    </a:cubicBezTo>
                    <a:cubicBezTo>
                      <a:pt x="19776" y="1819781"/>
                      <a:pt x="76143" y="598493"/>
                      <a:pt x="86581" y="24985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矩形 5"/>
              <p:cNvSpPr/>
              <p:nvPr/>
            </p:nvSpPr>
            <p:spPr>
              <a:xfrm>
                <a:off x="7200000" y="2575800"/>
                <a:ext cx="5218920" cy="179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" name="图片 6" descr=""/>
            <p:cNvPicPr/>
            <p:nvPr/>
          </p:nvPicPr>
          <p:blipFill>
            <a:blip r:embed="rId3"/>
            <a:stretch/>
          </p:blipFill>
          <p:spPr>
            <a:xfrm rot="21321000">
              <a:off x="6634080" y="2477520"/>
              <a:ext cx="1596960" cy="2463840"/>
            </a:xfrm>
            <a:prstGeom prst="rect">
              <a:avLst/>
            </a:prstGeom>
            <a:ln w="0">
              <a:noFill/>
            </a:ln>
            <a:effectLst>
              <a:outerShdw dist="88972" dir="2513029" blurRad="0" rotWithShape="0">
                <a:srgbClr val="000000">
                  <a:alpha val="71000"/>
                </a:srgbClr>
              </a:outerShdw>
            </a:effectLst>
          </p:spPr>
        </p:pic>
      </p:grpSp>
      <p:grpSp>
        <p:nvGrpSpPr>
          <p:cNvPr id="70" name="组合 8"/>
          <p:cNvGrpSpPr/>
          <p:nvPr/>
        </p:nvGrpSpPr>
        <p:grpSpPr>
          <a:xfrm>
            <a:off x="-3240" y="7200"/>
            <a:ext cx="12515760" cy="2636280"/>
            <a:chOff x="-3240" y="7200"/>
            <a:chExt cx="12515760" cy="2636280"/>
          </a:xfrm>
        </p:grpSpPr>
        <p:grpSp>
          <p:nvGrpSpPr>
            <p:cNvPr id="71" name="组合 9"/>
            <p:cNvGrpSpPr/>
            <p:nvPr/>
          </p:nvGrpSpPr>
          <p:grpSpPr>
            <a:xfrm>
              <a:off x="-3240" y="44280"/>
              <a:ext cx="12515760" cy="1955880"/>
              <a:chOff x="-3240" y="44280"/>
              <a:chExt cx="12515760" cy="1955880"/>
            </a:xfrm>
          </p:grpSpPr>
          <p:sp>
            <p:nvSpPr>
              <p:cNvPr id="72" name="任意多边形 11"/>
              <p:cNvSpPr/>
              <p:nvPr/>
            </p:nvSpPr>
            <p:spPr>
              <a:xfrm flipH="1">
                <a:off x="145800" y="119160"/>
                <a:ext cx="12356640" cy="1864080"/>
              </a:xfrm>
              <a:custGeom>
                <a:avLst/>
                <a:gdLst/>
                <a:ahLst/>
                <a:rect l="l" t="t" r="r" b="b"/>
                <a:pathLst>
                  <a:path w="10696126" h="2391826">
                    <a:moveTo>
                      <a:pt x="86581" y="249852"/>
                    </a:moveTo>
                    <a:cubicBezTo>
                      <a:pt x="97019" y="-98789"/>
                      <a:pt x="46915" y="51524"/>
                      <a:pt x="74055" y="61962"/>
                    </a:cubicBezTo>
                    <a:cubicBezTo>
                      <a:pt x="101195" y="72400"/>
                      <a:pt x="197227" y="285342"/>
                      <a:pt x="249419" y="312482"/>
                    </a:cubicBezTo>
                    <a:cubicBezTo>
                      <a:pt x="301611" y="339622"/>
                      <a:pt x="345453" y="239414"/>
                      <a:pt x="387206" y="224800"/>
                    </a:cubicBezTo>
                    <a:cubicBezTo>
                      <a:pt x="428960" y="210186"/>
                      <a:pt x="476976" y="220625"/>
                      <a:pt x="499940" y="224800"/>
                    </a:cubicBezTo>
                    <a:cubicBezTo>
                      <a:pt x="522904" y="228975"/>
                      <a:pt x="504115" y="231063"/>
                      <a:pt x="524992" y="249852"/>
                    </a:cubicBezTo>
                    <a:cubicBezTo>
                      <a:pt x="545869" y="268641"/>
                      <a:pt x="604323" y="331271"/>
                      <a:pt x="625200" y="337534"/>
                    </a:cubicBezTo>
                    <a:cubicBezTo>
                      <a:pt x="646077" y="343797"/>
                      <a:pt x="641901" y="302044"/>
                      <a:pt x="650252" y="287430"/>
                    </a:cubicBezTo>
                    <a:cubicBezTo>
                      <a:pt x="658603" y="272816"/>
                      <a:pt x="660691" y="245677"/>
                      <a:pt x="675304" y="249852"/>
                    </a:cubicBezTo>
                    <a:cubicBezTo>
                      <a:pt x="689917" y="254027"/>
                      <a:pt x="717057" y="304131"/>
                      <a:pt x="737934" y="312482"/>
                    </a:cubicBezTo>
                    <a:cubicBezTo>
                      <a:pt x="758811" y="320833"/>
                      <a:pt x="781776" y="304131"/>
                      <a:pt x="800565" y="299956"/>
                    </a:cubicBezTo>
                    <a:cubicBezTo>
                      <a:pt x="819354" y="295781"/>
                      <a:pt x="827705" y="289518"/>
                      <a:pt x="850669" y="287430"/>
                    </a:cubicBezTo>
                    <a:cubicBezTo>
                      <a:pt x="873633" y="285342"/>
                      <a:pt x="900773" y="279079"/>
                      <a:pt x="938351" y="287430"/>
                    </a:cubicBezTo>
                    <a:cubicBezTo>
                      <a:pt x="975929" y="295781"/>
                      <a:pt x="1034384" y="335446"/>
                      <a:pt x="1076137" y="337534"/>
                    </a:cubicBezTo>
                    <a:cubicBezTo>
                      <a:pt x="1117890" y="339622"/>
                      <a:pt x="1155468" y="310394"/>
                      <a:pt x="1188871" y="299956"/>
                    </a:cubicBezTo>
                    <a:cubicBezTo>
                      <a:pt x="1222274" y="289518"/>
                      <a:pt x="1257765" y="270729"/>
                      <a:pt x="1276554" y="274904"/>
                    </a:cubicBezTo>
                    <a:cubicBezTo>
                      <a:pt x="1295343" y="279079"/>
                      <a:pt x="1272379" y="316657"/>
                      <a:pt x="1301606" y="325008"/>
                    </a:cubicBezTo>
                    <a:cubicBezTo>
                      <a:pt x="1330833" y="333359"/>
                      <a:pt x="1416428" y="329183"/>
                      <a:pt x="1451918" y="325008"/>
                    </a:cubicBezTo>
                    <a:cubicBezTo>
                      <a:pt x="1487408" y="320833"/>
                      <a:pt x="1499934" y="320833"/>
                      <a:pt x="1514548" y="299956"/>
                    </a:cubicBezTo>
                    <a:cubicBezTo>
                      <a:pt x="1529162" y="279079"/>
                      <a:pt x="1518723" y="212274"/>
                      <a:pt x="1539600" y="199748"/>
                    </a:cubicBezTo>
                    <a:cubicBezTo>
                      <a:pt x="1560477" y="187222"/>
                      <a:pt x="1612668" y="220625"/>
                      <a:pt x="1639808" y="224800"/>
                    </a:cubicBezTo>
                    <a:cubicBezTo>
                      <a:pt x="1666948" y="228975"/>
                      <a:pt x="1660686" y="231063"/>
                      <a:pt x="1702439" y="224800"/>
                    </a:cubicBezTo>
                    <a:cubicBezTo>
                      <a:pt x="1744192" y="218537"/>
                      <a:pt x="1844400" y="201836"/>
                      <a:pt x="1890329" y="187222"/>
                    </a:cubicBezTo>
                    <a:cubicBezTo>
                      <a:pt x="1936258" y="172608"/>
                      <a:pt x="1948784" y="130855"/>
                      <a:pt x="1978011" y="137118"/>
                    </a:cubicBezTo>
                    <a:cubicBezTo>
                      <a:pt x="2007238" y="143381"/>
                      <a:pt x="2040641" y="210186"/>
                      <a:pt x="2065693" y="224800"/>
                    </a:cubicBezTo>
                    <a:cubicBezTo>
                      <a:pt x="2090745" y="239414"/>
                      <a:pt x="2128323" y="224800"/>
                      <a:pt x="2128323" y="224800"/>
                    </a:cubicBezTo>
                    <a:cubicBezTo>
                      <a:pt x="2151287" y="224800"/>
                      <a:pt x="2184691" y="216449"/>
                      <a:pt x="2203480" y="224800"/>
                    </a:cubicBezTo>
                    <a:cubicBezTo>
                      <a:pt x="2222269" y="233151"/>
                      <a:pt x="2220181" y="272816"/>
                      <a:pt x="2241058" y="274904"/>
                    </a:cubicBezTo>
                    <a:cubicBezTo>
                      <a:pt x="2261935" y="276992"/>
                      <a:pt x="2295337" y="254027"/>
                      <a:pt x="2328740" y="237326"/>
                    </a:cubicBezTo>
                    <a:cubicBezTo>
                      <a:pt x="2362143" y="220625"/>
                      <a:pt x="2403896" y="180959"/>
                      <a:pt x="2441474" y="174696"/>
                    </a:cubicBezTo>
                    <a:cubicBezTo>
                      <a:pt x="2479052" y="168433"/>
                      <a:pt x="2512455" y="189310"/>
                      <a:pt x="2554208" y="199748"/>
                    </a:cubicBezTo>
                    <a:cubicBezTo>
                      <a:pt x="2595961" y="210186"/>
                      <a:pt x="2643979" y="231063"/>
                      <a:pt x="2691995" y="237326"/>
                    </a:cubicBezTo>
                    <a:cubicBezTo>
                      <a:pt x="2740012" y="243589"/>
                      <a:pt x="2802641" y="245677"/>
                      <a:pt x="2842307" y="237326"/>
                    </a:cubicBezTo>
                    <a:cubicBezTo>
                      <a:pt x="2881973" y="228975"/>
                      <a:pt x="2890323" y="187222"/>
                      <a:pt x="2929989" y="187222"/>
                    </a:cubicBezTo>
                    <a:cubicBezTo>
                      <a:pt x="2969655" y="187222"/>
                      <a:pt x="3044811" y="228975"/>
                      <a:pt x="3080302" y="237326"/>
                    </a:cubicBezTo>
                    <a:cubicBezTo>
                      <a:pt x="3115793" y="245677"/>
                      <a:pt x="3142932" y="237326"/>
                      <a:pt x="3142932" y="237326"/>
                    </a:cubicBezTo>
                    <a:cubicBezTo>
                      <a:pt x="3170072" y="237326"/>
                      <a:pt x="3213913" y="224800"/>
                      <a:pt x="3243140" y="237326"/>
                    </a:cubicBezTo>
                    <a:cubicBezTo>
                      <a:pt x="3272367" y="249852"/>
                      <a:pt x="3286981" y="304131"/>
                      <a:pt x="3318296" y="312482"/>
                    </a:cubicBezTo>
                    <a:cubicBezTo>
                      <a:pt x="3349611" y="320833"/>
                      <a:pt x="3401803" y="304131"/>
                      <a:pt x="3431030" y="287430"/>
                    </a:cubicBezTo>
                    <a:cubicBezTo>
                      <a:pt x="3460257" y="270729"/>
                      <a:pt x="3466520" y="210186"/>
                      <a:pt x="3493660" y="212274"/>
                    </a:cubicBezTo>
                    <a:cubicBezTo>
                      <a:pt x="3520800" y="214362"/>
                      <a:pt x="3568817" y="285342"/>
                      <a:pt x="3593869" y="299956"/>
                    </a:cubicBezTo>
                    <a:cubicBezTo>
                      <a:pt x="3618921" y="314570"/>
                      <a:pt x="3631447" y="306219"/>
                      <a:pt x="3643973" y="299956"/>
                    </a:cubicBezTo>
                    <a:cubicBezTo>
                      <a:pt x="3656499" y="293693"/>
                      <a:pt x="3652324" y="281167"/>
                      <a:pt x="3669025" y="262378"/>
                    </a:cubicBezTo>
                    <a:cubicBezTo>
                      <a:pt x="3685726" y="243589"/>
                      <a:pt x="3727480" y="189310"/>
                      <a:pt x="3744181" y="187222"/>
                    </a:cubicBezTo>
                    <a:cubicBezTo>
                      <a:pt x="3760882" y="185134"/>
                      <a:pt x="3746269" y="233151"/>
                      <a:pt x="3769233" y="249852"/>
                    </a:cubicBezTo>
                    <a:cubicBezTo>
                      <a:pt x="3792197" y="266553"/>
                      <a:pt x="3844389" y="281167"/>
                      <a:pt x="3881967" y="287430"/>
                    </a:cubicBezTo>
                    <a:cubicBezTo>
                      <a:pt x="3919545" y="293693"/>
                      <a:pt x="3969650" y="291605"/>
                      <a:pt x="3994702" y="287430"/>
                    </a:cubicBezTo>
                    <a:cubicBezTo>
                      <a:pt x="4019754" y="283255"/>
                      <a:pt x="4007228" y="254027"/>
                      <a:pt x="4032280" y="262378"/>
                    </a:cubicBezTo>
                    <a:cubicBezTo>
                      <a:pt x="4057332" y="270729"/>
                      <a:pt x="4115787" y="331271"/>
                      <a:pt x="4145014" y="337534"/>
                    </a:cubicBezTo>
                    <a:cubicBezTo>
                      <a:pt x="4174241" y="343797"/>
                      <a:pt x="4184680" y="320833"/>
                      <a:pt x="4207644" y="299956"/>
                    </a:cubicBezTo>
                    <a:cubicBezTo>
                      <a:pt x="4230608" y="279079"/>
                      <a:pt x="4255660" y="216449"/>
                      <a:pt x="4282800" y="212274"/>
                    </a:cubicBezTo>
                    <a:cubicBezTo>
                      <a:pt x="4309940" y="208099"/>
                      <a:pt x="4334992" y="270729"/>
                      <a:pt x="4370482" y="274904"/>
                    </a:cubicBezTo>
                    <a:cubicBezTo>
                      <a:pt x="4405972" y="279079"/>
                      <a:pt x="4464428" y="251940"/>
                      <a:pt x="4495743" y="237326"/>
                    </a:cubicBezTo>
                    <a:cubicBezTo>
                      <a:pt x="4527058" y="222712"/>
                      <a:pt x="4535409" y="178871"/>
                      <a:pt x="4558373" y="187222"/>
                    </a:cubicBezTo>
                    <a:cubicBezTo>
                      <a:pt x="4581337" y="195573"/>
                      <a:pt x="4612652" y="272816"/>
                      <a:pt x="4633529" y="287430"/>
                    </a:cubicBezTo>
                    <a:cubicBezTo>
                      <a:pt x="4654406" y="302044"/>
                      <a:pt x="4660669" y="293693"/>
                      <a:pt x="4683633" y="274904"/>
                    </a:cubicBezTo>
                    <a:cubicBezTo>
                      <a:pt x="4706597" y="256115"/>
                      <a:pt x="4740000" y="183047"/>
                      <a:pt x="4771315" y="174696"/>
                    </a:cubicBezTo>
                    <a:cubicBezTo>
                      <a:pt x="4802630" y="166345"/>
                      <a:pt x="4844383" y="216449"/>
                      <a:pt x="4871523" y="224800"/>
                    </a:cubicBezTo>
                    <a:cubicBezTo>
                      <a:pt x="4898663" y="233151"/>
                      <a:pt x="4907014" y="233151"/>
                      <a:pt x="4934154" y="224800"/>
                    </a:cubicBezTo>
                    <a:cubicBezTo>
                      <a:pt x="4961294" y="216449"/>
                      <a:pt x="4982170" y="197660"/>
                      <a:pt x="5034362" y="174696"/>
                    </a:cubicBezTo>
                    <a:cubicBezTo>
                      <a:pt x="5086554" y="151732"/>
                      <a:pt x="5201375" y="114154"/>
                      <a:pt x="5247304" y="87014"/>
                    </a:cubicBezTo>
                    <a:cubicBezTo>
                      <a:pt x="5293233" y="59874"/>
                      <a:pt x="5291145" y="24384"/>
                      <a:pt x="5309934" y="11858"/>
                    </a:cubicBezTo>
                    <a:cubicBezTo>
                      <a:pt x="5328723" y="-668"/>
                      <a:pt x="5328724" y="-6931"/>
                      <a:pt x="5360039" y="11858"/>
                    </a:cubicBezTo>
                    <a:cubicBezTo>
                      <a:pt x="5391354" y="30647"/>
                      <a:pt x="5460247" y="107891"/>
                      <a:pt x="5497825" y="124592"/>
                    </a:cubicBezTo>
                    <a:cubicBezTo>
                      <a:pt x="5535403" y="141293"/>
                      <a:pt x="5558367" y="124592"/>
                      <a:pt x="5585507" y="112066"/>
                    </a:cubicBezTo>
                    <a:cubicBezTo>
                      <a:pt x="5612647" y="99540"/>
                      <a:pt x="5631436" y="49436"/>
                      <a:pt x="5660663" y="49436"/>
                    </a:cubicBezTo>
                    <a:cubicBezTo>
                      <a:pt x="5689890" y="49436"/>
                      <a:pt x="5725381" y="93277"/>
                      <a:pt x="5760871" y="112066"/>
                    </a:cubicBezTo>
                    <a:cubicBezTo>
                      <a:pt x="5796361" y="130855"/>
                      <a:pt x="5838115" y="153819"/>
                      <a:pt x="5873606" y="162170"/>
                    </a:cubicBezTo>
                    <a:cubicBezTo>
                      <a:pt x="5909097" y="170521"/>
                      <a:pt x="5930851" y="169019"/>
                      <a:pt x="5973814" y="162170"/>
                    </a:cubicBezTo>
                    <a:cubicBezTo>
                      <a:pt x="6016777" y="155321"/>
                      <a:pt x="6079195" y="114811"/>
                      <a:pt x="6131387" y="121074"/>
                    </a:cubicBezTo>
                    <a:cubicBezTo>
                      <a:pt x="6183579" y="127337"/>
                      <a:pt x="6246422" y="197074"/>
                      <a:pt x="6286965" y="199748"/>
                    </a:cubicBezTo>
                    <a:cubicBezTo>
                      <a:pt x="6327508" y="202422"/>
                      <a:pt x="6341244" y="147556"/>
                      <a:pt x="6374647" y="137118"/>
                    </a:cubicBezTo>
                    <a:cubicBezTo>
                      <a:pt x="6408050" y="126680"/>
                      <a:pt x="6449803" y="128767"/>
                      <a:pt x="6487381" y="137118"/>
                    </a:cubicBezTo>
                    <a:cubicBezTo>
                      <a:pt x="6524959" y="145469"/>
                      <a:pt x="6568800" y="174696"/>
                      <a:pt x="6600115" y="187222"/>
                    </a:cubicBezTo>
                    <a:cubicBezTo>
                      <a:pt x="6631430" y="199748"/>
                      <a:pt x="6650219" y="218537"/>
                      <a:pt x="6675271" y="212274"/>
                    </a:cubicBezTo>
                    <a:cubicBezTo>
                      <a:pt x="6700323" y="206011"/>
                      <a:pt x="6725376" y="166345"/>
                      <a:pt x="6750428" y="149644"/>
                    </a:cubicBezTo>
                    <a:cubicBezTo>
                      <a:pt x="6775480" y="132943"/>
                      <a:pt x="6781743" y="122504"/>
                      <a:pt x="6825584" y="112066"/>
                    </a:cubicBezTo>
                    <a:cubicBezTo>
                      <a:pt x="6869425" y="101628"/>
                      <a:pt x="6961282" y="76576"/>
                      <a:pt x="7013474" y="87014"/>
                    </a:cubicBezTo>
                    <a:cubicBezTo>
                      <a:pt x="7065666" y="97452"/>
                      <a:pt x="7099068" y="160082"/>
                      <a:pt x="7138734" y="174696"/>
                    </a:cubicBezTo>
                    <a:cubicBezTo>
                      <a:pt x="7178400" y="189310"/>
                      <a:pt x="7218066" y="178871"/>
                      <a:pt x="7251469" y="174696"/>
                    </a:cubicBezTo>
                    <a:cubicBezTo>
                      <a:pt x="7284872" y="170521"/>
                      <a:pt x="7303661" y="157995"/>
                      <a:pt x="7339151" y="149644"/>
                    </a:cubicBezTo>
                    <a:cubicBezTo>
                      <a:pt x="7374641" y="141293"/>
                      <a:pt x="7424745" y="116241"/>
                      <a:pt x="7464411" y="124592"/>
                    </a:cubicBezTo>
                    <a:cubicBezTo>
                      <a:pt x="7504077" y="132943"/>
                      <a:pt x="7545830" y="187222"/>
                      <a:pt x="7577145" y="199748"/>
                    </a:cubicBezTo>
                    <a:cubicBezTo>
                      <a:pt x="7608460" y="212274"/>
                      <a:pt x="7623075" y="212274"/>
                      <a:pt x="7652302" y="199748"/>
                    </a:cubicBezTo>
                    <a:cubicBezTo>
                      <a:pt x="7681529" y="187222"/>
                      <a:pt x="7719107" y="132943"/>
                      <a:pt x="7752510" y="124592"/>
                    </a:cubicBezTo>
                    <a:cubicBezTo>
                      <a:pt x="7785913" y="116241"/>
                      <a:pt x="7815140" y="128767"/>
                      <a:pt x="7852718" y="149644"/>
                    </a:cubicBezTo>
                    <a:cubicBezTo>
                      <a:pt x="7890296" y="170521"/>
                      <a:pt x="7938312" y="233151"/>
                      <a:pt x="7977978" y="249852"/>
                    </a:cubicBezTo>
                    <a:cubicBezTo>
                      <a:pt x="8017644" y="266553"/>
                      <a:pt x="8048959" y="254027"/>
                      <a:pt x="8090713" y="249852"/>
                    </a:cubicBezTo>
                    <a:cubicBezTo>
                      <a:pt x="8132467" y="245677"/>
                      <a:pt x="8195096" y="222712"/>
                      <a:pt x="8228499" y="224800"/>
                    </a:cubicBezTo>
                    <a:cubicBezTo>
                      <a:pt x="8261902" y="226888"/>
                      <a:pt x="8257726" y="260290"/>
                      <a:pt x="8291129" y="262378"/>
                    </a:cubicBezTo>
                    <a:cubicBezTo>
                      <a:pt x="8324532" y="264466"/>
                      <a:pt x="8380899" y="251940"/>
                      <a:pt x="8428915" y="237326"/>
                    </a:cubicBezTo>
                    <a:cubicBezTo>
                      <a:pt x="8476932" y="222712"/>
                      <a:pt x="8541650" y="172608"/>
                      <a:pt x="8579228" y="174696"/>
                    </a:cubicBezTo>
                    <a:cubicBezTo>
                      <a:pt x="8616806" y="176784"/>
                      <a:pt x="8625157" y="235238"/>
                      <a:pt x="8654384" y="249852"/>
                    </a:cubicBezTo>
                    <a:cubicBezTo>
                      <a:pt x="8683611" y="264466"/>
                      <a:pt x="8721189" y="270729"/>
                      <a:pt x="8754592" y="262378"/>
                    </a:cubicBezTo>
                    <a:cubicBezTo>
                      <a:pt x="8787995" y="254027"/>
                      <a:pt x="8825573" y="216449"/>
                      <a:pt x="8854800" y="199748"/>
                    </a:cubicBezTo>
                    <a:cubicBezTo>
                      <a:pt x="8884027" y="183047"/>
                      <a:pt x="8906992" y="157995"/>
                      <a:pt x="8929956" y="162170"/>
                    </a:cubicBezTo>
                    <a:cubicBezTo>
                      <a:pt x="8952920" y="166345"/>
                      <a:pt x="8959184" y="214362"/>
                      <a:pt x="8992587" y="224800"/>
                    </a:cubicBezTo>
                    <a:cubicBezTo>
                      <a:pt x="9025990" y="235238"/>
                      <a:pt x="9090707" y="235238"/>
                      <a:pt x="9130373" y="224800"/>
                    </a:cubicBezTo>
                    <a:cubicBezTo>
                      <a:pt x="9170039" y="214362"/>
                      <a:pt x="9197178" y="172608"/>
                      <a:pt x="9230581" y="162170"/>
                    </a:cubicBezTo>
                    <a:cubicBezTo>
                      <a:pt x="9263984" y="151732"/>
                      <a:pt x="9291123" y="153819"/>
                      <a:pt x="9330789" y="162170"/>
                    </a:cubicBezTo>
                    <a:cubicBezTo>
                      <a:pt x="9370455" y="170521"/>
                      <a:pt x="9433086" y="197660"/>
                      <a:pt x="9468576" y="212274"/>
                    </a:cubicBezTo>
                    <a:cubicBezTo>
                      <a:pt x="9504067" y="226888"/>
                      <a:pt x="9514505" y="258203"/>
                      <a:pt x="9543732" y="249852"/>
                    </a:cubicBezTo>
                    <a:cubicBezTo>
                      <a:pt x="9572959" y="241501"/>
                      <a:pt x="9606362" y="193485"/>
                      <a:pt x="9643940" y="162170"/>
                    </a:cubicBezTo>
                    <a:cubicBezTo>
                      <a:pt x="9681518" y="130855"/>
                      <a:pt x="9729534" y="64050"/>
                      <a:pt x="9769200" y="61962"/>
                    </a:cubicBezTo>
                    <a:cubicBezTo>
                      <a:pt x="9808866" y="59874"/>
                      <a:pt x="9846443" y="141293"/>
                      <a:pt x="9881934" y="149644"/>
                    </a:cubicBezTo>
                    <a:cubicBezTo>
                      <a:pt x="9917425" y="157995"/>
                      <a:pt x="9952916" y="109978"/>
                      <a:pt x="9982143" y="112066"/>
                    </a:cubicBezTo>
                    <a:cubicBezTo>
                      <a:pt x="10011370" y="114154"/>
                      <a:pt x="10019721" y="162170"/>
                      <a:pt x="10057299" y="162170"/>
                    </a:cubicBezTo>
                    <a:cubicBezTo>
                      <a:pt x="10094877" y="162170"/>
                      <a:pt x="10170033" y="105803"/>
                      <a:pt x="10207611" y="112066"/>
                    </a:cubicBezTo>
                    <a:cubicBezTo>
                      <a:pt x="10245189" y="118329"/>
                      <a:pt x="10253540" y="185134"/>
                      <a:pt x="10282767" y="199748"/>
                    </a:cubicBezTo>
                    <a:cubicBezTo>
                      <a:pt x="10311995" y="214362"/>
                      <a:pt x="10347486" y="212274"/>
                      <a:pt x="10382976" y="199748"/>
                    </a:cubicBezTo>
                    <a:cubicBezTo>
                      <a:pt x="10418466" y="187222"/>
                      <a:pt x="10451869" y="135030"/>
                      <a:pt x="10495710" y="124592"/>
                    </a:cubicBezTo>
                    <a:cubicBezTo>
                      <a:pt x="10539551" y="114154"/>
                      <a:pt x="10612619" y="120417"/>
                      <a:pt x="10646022" y="137118"/>
                    </a:cubicBezTo>
                    <a:cubicBezTo>
                      <a:pt x="10679425" y="153819"/>
                      <a:pt x="10696126" y="151732"/>
                      <a:pt x="10696126" y="224800"/>
                    </a:cubicBezTo>
                    <a:cubicBezTo>
                      <a:pt x="10696126" y="297868"/>
                      <a:pt x="10681512" y="245677"/>
                      <a:pt x="10646022" y="575529"/>
                    </a:cubicBezTo>
                    <a:cubicBezTo>
                      <a:pt x="10610532" y="905381"/>
                      <a:pt x="10545814" y="1909550"/>
                      <a:pt x="10483184" y="2203912"/>
                    </a:cubicBezTo>
                    <a:cubicBezTo>
                      <a:pt x="10420554" y="2498274"/>
                      <a:pt x="10320345" y="2318735"/>
                      <a:pt x="10270241" y="2341699"/>
                    </a:cubicBezTo>
                    <a:cubicBezTo>
                      <a:pt x="10220137" y="2364663"/>
                      <a:pt x="10224312" y="2358400"/>
                      <a:pt x="10182559" y="2341699"/>
                    </a:cubicBezTo>
                    <a:cubicBezTo>
                      <a:pt x="10140806" y="2324998"/>
                      <a:pt x="10069825" y="2262367"/>
                      <a:pt x="10019721" y="2241490"/>
                    </a:cubicBezTo>
                    <a:cubicBezTo>
                      <a:pt x="9969617" y="2220613"/>
                      <a:pt x="9934126" y="2233139"/>
                      <a:pt x="9881934" y="2216438"/>
                    </a:cubicBezTo>
                    <a:cubicBezTo>
                      <a:pt x="9829742" y="2199737"/>
                      <a:pt x="9758762" y="2149633"/>
                      <a:pt x="9706570" y="2141282"/>
                    </a:cubicBezTo>
                    <a:cubicBezTo>
                      <a:pt x="9654378" y="2132931"/>
                      <a:pt x="9633502" y="2162159"/>
                      <a:pt x="9568784" y="2166334"/>
                    </a:cubicBezTo>
                    <a:cubicBezTo>
                      <a:pt x="9504066" y="2170509"/>
                      <a:pt x="9318263" y="2166334"/>
                      <a:pt x="9318263" y="2166334"/>
                    </a:cubicBezTo>
                    <a:cubicBezTo>
                      <a:pt x="9232669" y="2166334"/>
                      <a:pt x="9109496" y="2185123"/>
                      <a:pt x="9055217" y="2166334"/>
                    </a:cubicBezTo>
                    <a:cubicBezTo>
                      <a:pt x="9000938" y="2147545"/>
                      <a:pt x="9013464" y="2059863"/>
                      <a:pt x="8992587" y="2053600"/>
                    </a:cubicBezTo>
                    <a:cubicBezTo>
                      <a:pt x="8971710" y="2047337"/>
                      <a:pt x="8948745" y="2109967"/>
                      <a:pt x="8929956" y="2128756"/>
                    </a:cubicBezTo>
                    <a:cubicBezTo>
                      <a:pt x="8911167" y="2147545"/>
                      <a:pt x="8919518" y="2151720"/>
                      <a:pt x="8879852" y="2166334"/>
                    </a:cubicBezTo>
                    <a:cubicBezTo>
                      <a:pt x="8840186" y="2180948"/>
                      <a:pt x="8742066" y="2203912"/>
                      <a:pt x="8691962" y="2216438"/>
                    </a:cubicBezTo>
                    <a:cubicBezTo>
                      <a:pt x="8641858" y="2228964"/>
                      <a:pt x="8620982" y="2231052"/>
                      <a:pt x="8579228" y="2241490"/>
                    </a:cubicBezTo>
                    <a:cubicBezTo>
                      <a:pt x="8537475" y="2251929"/>
                      <a:pt x="8508246" y="2287420"/>
                      <a:pt x="8441441" y="2279069"/>
                    </a:cubicBezTo>
                    <a:cubicBezTo>
                      <a:pt x="8374636" y="2270718"/>
                      <a:pt x="8276515" y="2206000"/>
                      <a:pt x="8178395" y="2191386"/>
                    </a:cubicBezTo>
                    <a:cubicBezTo>
                      <a:pt x="8080275" y="2176772"/>
                      <a:pt x="7965452" y="2203912"/>
                      <a:pt x="7852718" y="2191386"/>
                    </a:cubicBezTo>
                    <a:cubicBezTo>
                      <a:pt x="7739984" y="2178860"/>
                      <a:pt x="7600109" y="2118318"/>
                      <a:pt x="7501989" y="2116230"/>
                    </a:cubicBezTo>
                    <a:cubicBezTo>
                      <a:pt x="7403869" y="2114142"/>
                      <a:pt x="7263995" y="2178860"/>
                      <a:pt x="7263995" y="2178860"/>
                    </a:cubicBezTo>
                    <a:cubicBezTo>
                      <a:pt x="7199277" y="2195561"/>
                      <a:pt x="7163786" y="2224789"/>
                      <a:pt x="7113682" y="2216438"/>
                    </a:cubicBezTo>
                    <a:cubicBezTo>
                      <a:pt x="7063578" y="2208087"/>
                      <a:pt x="7019737" y="2143370"/>
                      <a:pt x="6963370" y="2128756"/>
                    </a:cubicBezTo>
                    <a:cubicBezTo>
                      <a:pt x="6907003" y="2114142"/>
                      <a:pt x="6813058" y="2105792"/>
                      <a:pt x="6775480" y="2128756"/>
                    </a:cubicBezTo>
                    <a:cubicBezTo>
                      <a:pt x="6737902" y="2151720"/>
                      <a:pt x="6748340" y="2228964"/>
                      <a:pt x="6737902" y="2266542"/>
                    </a:cubicBezTo>
                    <a:cubicBezTo>
                      <a:pt x="6727464" y="2304120"/>
                      <a:pt x="6744165" y="2339611"/>
                      <a:pt x="6712850" y="2354225"/>
                    </a:cubicBezTo>
                    <a:cubicBezTo>
                      <a:pt x="6681535" y="2368839"/>
                      <a:pt x="6614729" y="2347962"/>
                      <a:pt x="6550011" y="2354225"/>
                    </a:cubicBezTo>
                    <a:cubicBezTo>
                      <a:pt x="6485293" y="2360488"/>
                      <a:pt x="6372880" y="2390970"/>
                      <a:pt x="6324543" y="2391803"/>
                    </a:cubicBezTo>
                    <a:cubicBezTo>
                      <a:pt x="6276206" y="2392636"/>
                      <a:pt x="6289459" y="2370721"/>
                      <a:pt x="6259991" y="2359222"/>
                    </a:cubicBezTo>
                    <a:cubicBezTo>
                      <a:pt x="6230523" y="2347723"/>
                      <a:pt x="6187243" y="2337741"/>
                      <a:pt x="6147737" y="2322808"/>
                    </a:cubicBezTo>
                    <a:cubicBezTo>
                      <a:pt x="6108231" y="2307875"/>
                      <a:pt x="6085347" y="2274826"/>
                      <a:pt x="6022957" y="2269624"/>
                    </a:cubicBezTo>
                    <a:lnTo>
                      <a:pt x="5773397" y="2291595"/>
                    </a:lnTo>
                    <a:cubicBezTo>
                      <a:pt x="5696313" y="2297345"/>
                      <a:pt x="5623085" y="2318735"/>
                      <a:pt x="5560455" y="2304121"/>
                    </a:cubicBezTo>
                    <a:cubicBezTo>
                      <a:pt x="5497825" y="2289507"/>
                      <a:pt x="5462335" y="2226877"/>
                      <a:pt x="5397617" y="2203912"/>
                    </a:cubicBezTo>
                    <a:cubicBezTo>
                      <a:pt x="5332899" y="2180948"/>
                      <a:pt x="5232691" y="2162159"/>
                      <a:pt x="5172148" y="2166334"/>
                    </a:cubicBezTo>
                    <a:cubicBezTo>
                      <a:pt x="5111605" y="2170509"/>
                      <a:pt x="5117869" y="2216438"/>
                      <a:pt x="5034362" y="2228964"/>
                    </a:cubicBezTo>
                    <a:cubicBezTo>
                      <a:pt x="4950855" y="2241490"/>
                      <a:pt x="4729562" y="2266542"/>
                      <a:pt x="4671107" y="2241490"/>
                    </a:cubicBezTo>
                    <a:cubicBezTo>
                      <a:pt x="4612652" y="2216438"/>
                      <a:pt x="4704510" y="2105792"/>
                      <a:pt x="4683633" y="2078652"/>
                    </a:cubicBezTo>
                    <a:cubicBezTo>
                      <a:pt x="4662756" y="2051512"/>
                      <a:pt x="4583425" y="2057775"/>
                      <a:pt x="4545847" y="2078652"/>
                    </a:cubicBezTo>
                    <a:cubicBezTo>
                      <a:pt x="4508269" y="2099529"/>
                      <a:pt x="4499918" y="2170509"/>
                      <a:pt x="4458165" y="2203912"/>
                    </a:cubicBezTo>
                    <a:cubicBezTo>
                      <a:pt x="4416412" y="2237315"/>
                      <a:pt x="4345430" y="2268631"/>
                      <a:pt x="4295326" y="2279069"/>
                    </a:cubicBezTo>
                    <a:cubicBezTo>
                      <a:pt x="4245222" y="2289507"/>
                      <a:pt x="4226433" y="2264454"/>
                      <a:pt x="4157540" y="2266542"/>
                    </a:cubicBezTo>
                    <a:cubicBezTo>
                      <a:pt x="4088647" y="2268630"/>
                      <a:pt x="3955035" y="2281157"/>
                      <a:pt x="3881967" y="2291595"/>
                    </a:cubicBezTo>
                    <a:cubicBezTo>
                      <a:pt x="3808899" y="2302033"/>
                      <a:pt x="3783847" y="2329173"/>
                      <a:pt x="3719129" y="2329173"/>
                    </a:cubicBezTo>
                    <a:cubicBezTo>
                      <a:pt x="3654411" y="2329173"/>
                      <a:pt x="3583430" y="2312472"/>
                      <a:pt x="3493660" y="2291595"/>
                    </a:cubicBezTo>
                    <a:cubicBezTo>
                      <a:pt x="3403890" y="2270718"/>
                      <a:pt x="3243140" y="2216438"/>
                      <a:pt x="3180510" y="2203912"/>
                    </a:cubicBezTo>
                    <a:cubicBezTo>
                      <a:pt x="3117880" y="2191386"/>
                      <a:pt x="3159633" y="2222701"/>
                      <a:pt x="3117880" y="2216438"/>
                    </a:cubicBezTo>
                    <a:cubicBezTo>
                      <a:pt x="3076127" y="2210175"/>
                      <a:pt x="2988444" y="2199737"/>
                      <a:pt x="2929989" y="2166334"/>
                    </a:cubicBezTo>
                    <a:cubicBezTo>
                      <a:pt x="2871534" y="2132931"/>
                      <a:pt x="2825606" y="2026460"/>
                      <a:pt x="2767151" y="2016022"/>
                    </a:cubicBezTo>
                    <a:cubicBezTo>
                      <a:pt x="2708696" y="2005584"/>
                      <a:pt x="2639802" y="2072389"/>
                      <a:pt x="2579260" y="2103704"/>
                    </a:cubicBezTo>
                    <a:cubicBezTo>
                      <a:pt x="2518718" y="2135019"/>
                      <a:pt x="2454000" y="2201824"/>
                      <a:pt x="2403896" y="2203912"/>
                    </a:cubicBezTo>
                    <a:cubicBezTo>
                      <a:pt x="2353792" y="2206000"/>
                      <a:pt x="2335003" y="2122493"/>
                      <a:pt x="2278636" y="2116230"/>
                    </a:cubicBezTo>
                    <a:cubicBezTo>
                      <a:pt x="2222269" y="2109967"/>
                      <a:pt x="2122060" y="2149633"/>
                      <a:pt x="2065693" y="2166334"/>
                    </a:cubicBezTo>
                    <a:cubicBezTo>
                      <a:pt x="2009326" y="2183035"/>
                      <a:pt x="2003063" y="2214350"/>
                      <a:pt x="1940433" y="2216438"/>
                    </a:cubicBezTo>
                    <a:cubicBezTo>
                      <a:pt x="1877803" y="2218526"/>
                      <a:pt x="1758806" y="2178860"/>
                      <a:pt x="1689913" y="2178860"/>
                    </a:cubicBezTo>
                    <a:cubicBezTo>
                      <a:pt x="1621020" y="2178860"/>
                      <a:pt x="1527074" y="2216438"/>
                      <a:pt x="1527074" y="2216438"/>
                    </a:cubicBezTo>
                    <a:cubicBezTo>
                      <a:pt x="1472795" y="2228964"/>
                      <a:pt x="1403902" y="2268630"/>
                      <a:pt x="1364236" y="2254016"/>
                    </a:cubicBezTo>
                    <a:cubicBezTo>
                      <a:pt x="1324570" y="2239402"/>
                      <a:pt x="1320395" y="2132931"/>
                      <a:pt x="1289080" y="2128756"/>
                    </a:cubicBezTo>
                    <a:cubicBezTo>
                      <a:pt x="1257765" y="2124581"/>
                      <a:pt x="1218098" y="2197649"/>
                      <a:pt x="1176345" y="2228964"/>
                    </a:cubicBezTo>
                    <a:cubicBezTo>
                      <a:pt x="1134592" y="2260279"/>
                      <a:pt x="1094926" y="2308296"/>
                      <a:pt x="1038559" y="2316647"/>
                    </a:cubicBezTo>
                    <a:cubicBezTo>
                      <a:pt x="982192" y="2324998"/>
                      <a:pt x="894510" y="2285332"/>
                      <a:pt x="838143" y="2279069"/>
                    </a:cubicBezTo>
                    <a:cubicBezTo>
                      <a:pt x="781776" y="2272806"/>
                      <a:pt x="735847" y="2270718"/>
                      <a:pt x="700356" y="2279069"/>
                    </a:cubicBezTo>
                    <a:cubicBezTo>
                      <a:pt x="664865" y="2287420"/>
                      <a:pt x="666953" y="2335436"/>
                      <a:pt x="625200" y="2329173"/>
                    </a:cubicBezTo>
                    <a:cubicBezTo>
                      <a:pt x="583447" y="2322910"/>
                      <a:pt x="499940" y="2251928"/>
                      <a:pt x="449836" y="2241490"/>
                    </a:cubicBezTo>
                    <a:cubicBezTo>
                      <a:pt x="399732" y="2231052"/>
                      <a:pt x="349628" y="2249841"/>
                      <a:pt x="324576" y="2266542"/>
                    </a:cubicBezTo>
                    <a:cubicBezTo>
                      <a:pt x="299524" y="2283244"/>
                      <a:pt x="312049" y="2339611"/>
                      <a:pt x="299523" y="2341699"/>
                    </a:cubicBezTo>
                    <a:cubicBezTo>
                      <a:pt x="286997" y="2343787"/>
                      <a:pt x="276559" y="2295771"/>
                      <a:pt x="249419" y="2279069"/>
                    </a:cubicBezTo>
                    <a:cubicBezTo>
                      <a:pt x="222279" y="2262368"/>
                      <a:pt x="176351" y="2247753"/>
                      <a:pt x="136685" y="2241490"/>
                    </a:cubicBezTo>
                    <a:cubicBezTo>
                      <a:pt x="97019" y="2235227"/>
                      <a:pt x="32302" y="2256104"/>
                      <a:pt x="11425" y="2241490"/>
                    </a:cubicBezTo>
                    <a:cubicBezTo>
                      <a:pt x="-9452" y="2226876"/>
                      <a:pt x="3074" y="2487835"/>
                      <a:pt x="11425" y="2153808"/>
                    </a:cubicBezTo>
                    <a:cubicBezTo>
                      <a:pt x="19776" y="1819781"/>
                      <a:pt x="76143" y="598493"/>
                      <a:pt x="86581" y="2498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任意多边形 12"/>
              <p:cNvSpPr/>
              <p:nvPr/>
            </p:nvSpPr>
            <p:spPr>
              <a:xfrm flipH="1">
                <a:off x="155880" y="173880"/>
                <a:ext cx="12356640" cy="1786680"/>
              </a:xfrm>
              <a:custGeom>
                <a:avLst/>
                <a:gdLst/>
                <a:ahLst/>
                <a:rect l="l" t="t" r="r" b="b"/>
                <a:pathLst>
                  <a:path w="10696126" h="2391818">
                    <a:moveTo>
                      <a:pt x="86581" y="249852"/>
                    </a:moveTo>
                    <a:cubicBezTo>
                      <a:pt x="97019" y="-98789"/>
                      <a:pt x="46915" y="51524"/>
                      <a:pt x="74055" y="61962"/>
                    </a:cubicBezTo>
                    <a:cubicBezTo>
                      <a:pt x="101195" y="72400"/>
                      <a:pt x="197227" y="285342"/>
                      <a:pt x="249419" y="312482"/>
                    </a:cubicBezTo>
                    <a:cubicBezTo>
                      <a:pt x="301611" y="339622"/>
                      <a:pt x="345453" y="239414"/>
                      <a:pt x="387206" y="224800"/>
                    </a:cubicBezTo>
                    <a:cubicBezTo>
                      <a:pt x="428960" y="210186"/>
                      <a:pt x="476976" y="220625"/>
                      <a:pt x="499940" y="224800"/>
                    </a:cubicBezTo>
                    <a:cubicBezTo>
                      <a:pt x="522904" y="228975"/>
                      <a:pt x="504115" y="231063"/>
                      <a:pt x="524992" y="249852"/>
                    </a:cubicBezTo>
                    <a:cubicBezTo>
                      <a:pt x="545869" y="268641"/>
                      <a:pt x="604323" y="331271"/>
                      <a:pt x="625200" y="337534"/>
                    </a:cubicBezTo>
                    <a:cubicBezTo>
                      <a:pt x="646077" y="343797"/>
                      <a:pt x="641901" y="302044"/>
                      <a:pt x="650252" y="287430"/>
                    </a:cubicBezTo>
                    <a:cubicBezTo>
                      <a:pt x="658603" y="272816"/>
                      <a:pt x="660691" y="245677"/>
                      <a:pt x="675304" y="249852"/>
                    </a:cubicBezTo>
                    <a:cubicBezTo>
                      <a:pt x="689917" y="254027"/>
                      <a:pt x="717057" y="304131"/>
                      <a:pt x="737934" y="312482"/>
                    </a:cubicBezTo>
                    <a:cubicBezTo>
                      <a:pt x="758811" y="320833"/>
                      <a:pt x="781776" y="304131"/>
                      <a:pt x="800565" y="299956"/>
                    </a:cubicBezTo>
                    <a:cubicBezTo>
                      <a:pt x="819354" y="295781"/>
                      <a:pt x="827705" y="289518"/>
                      <a:pt x="850669" y="287430"/>
                    </a:cubicBezTo>
                    <a:cubicBezTo>
                      <a:pt x="873633" y="285342"/>
                      <a:pt x="900773" y="279079"/>
                      <a:pt x="938351" y="287430"/>
                    </a:cubicBezTo>
                    <a:cubicBezTo>
                      <a:pt x="975929" y="295781"/>
                      <a:pt x="1034384" y="335446"/>
                      <a:pt x="1076137" y="337534"/>
                    </a:cubicBezTo>
                    <a:cubicBezTo>
                      <a:pt x="1117890" y="339622"/>
                      <a:pt x="1155468" y="310394"/>
                      <a:pt x="1188871" y="299956"/>
                    </a:cubicBezTo>
                    <a:cubicBezTo>
                      <a:pt x="1222274" y="289518"/>
                      <a:pt x="1257765" y="270729"/>
                      <a:pt x="1276554" y="274904"/>
                    </a:cubicBezTo>
                    <a:cubicBezTo>
                      <a:pt x="1295343" y="279079"/>
                      <a:pt x="1272379" y="316657"/>
                      <a:pt x="1301606" y="325008"/>
                    </a:cubicBezTo>
                    <a:cubicBezTo>
                      <a:pt x="1330833" y="333359"/>
                      <a:pt x="1416428" y="329183"/>
                      <a:pt x="1451918" y="325008"/>
                    </a:cubicBezTo>
                    <a:cubicBezTo>
                      <a:pt x="1487408" y="320833"/>
                      <a:pt x="1499934" y="320833"/>
                      <a:pt x="1514548" y="299956"/>
                    </a:cubicBezTo>
                    <a:cubicBezTo>
                      <a:pt x="1529162" y="279079"/>
                      <a:pt x="1518723" y="212274"/>
                      <a:pt x="1539600" y="199748"/>
                    </a:cubicBezTo>
                    <a:cubicBezTo>
                      <a:pt x="1560477" y="187222"/>
                      <a:pt x="1612668" y="220625"/>
                      <a:pt x="1639808" y="224800"/>
                    </a:cubicBezTo>
                    <a:cubicBezTo>
                      <a:pt x="1666948" y="228975"/>
                      <a:pt x="1660686" y="231063"/>
                      <a:pt x="1702439" y="224800"/>
                    </a:cubicBezTo>
                    <a:cubicBezTo>
                      <a:pt x="1744192" y="218537"/>
                      <a:pt x="1844400" y="201836"/>
                      <a:pt x="1890329" y="187222"/>
                    </a:cubicBezTo>
                    <a:cubicBezTo>
                      <a:pt x="1936258" y="172608"/>
                      <a:pt x="1948784" y="130855"/>
                      <a:pt x="1978011" y="137118"/>
                    </a:cubicBezTo>
                    <a:cubicBezTo>
                      <a:pt x="2007238" y="143381"/>
                      <a:pt x="2040641" y="210186"/>
                      <a:pt x="2065693" y="224800"/>
                    </a:cubicBezTo>
                    <a:cubicBezTo>
                      <a:pt x="2090745" y="239414"/>
                      <a:pt x="2128323" y="224800"/>
                      <a:pt x="2128323" y="224800"/>
                    </a:cubicBezTo>
                    <a:cubicBezTo>
                      <a:pt x="2151287" y="224800"/>
                      <a:pt x="2184691" y="216449"/>
                      <a:pt x="2203480" y="224800"/>
                    </a:cubicBezTo>
                    <a:cubicBezTo>
                      <a:pt x="2222269" y="233151"/>
                      <a:pt x="2220181" y="272816"/>
                      <a:pt x="2241058" y="274904"/>
                    </a:cubicBezTo>
                    <a:cubicBezTo>
                      <a:pt x="2261935" y="276992"/>
                      <a:pt x="2295337" y="254027"/>
                      <a:pt x="2328740" y="237326"/>
                    </a:cubicBezTo>
                    <a:cubicBezTo>
                      <a:pt x="2362143" y="220625"/>
                      <a:pt x="2403896" y="180959"/>
                      <a:pt x="2441474" y="174696"/>
                    </a:cubicBezTo>
                    <a:cubicBezTo>
                      <a:pt x="2479052" y="168433"/>
                      <a:pt x="2512455" y="189310"/>
                      <a:pt x="2554208" y="199748"/>
                    </a:cubicBezTo>
                    <a:cubicBezTo>
                      <a:pt x="2595961" y="210186"/>
                      <a:pt x="2643979" y="231063"/>
                      <a:pt x="2691995" y="237326"/>
                    </a:cubicBezTo>
                    <a:cubicBezTo>
                      <a:pt x="2740012" y="243589"/>
                      <a:pt x="2802641" y="245677"/>
                      <a:pt x="2842307" y="237326"/>
                    </a:cubicBezTo>
                    <a:cubicBezTo>
                      <a:pt x="2881973" y="228975"/>
                      <a:pt x="2890323" y="187222"/>
                      <a:pt x="2929989" y="187222"/>
                    </a:cubicBezTo>
                    <a:cubicBezTo>
                      <a:pt x="2969655" y="187222"/>
                      <a:pt x="3044811" y="228975"/>
                      <a:pt x="3080302" y="237326"/>
                    </a:cubicBezTo>
                    <a:cubicBezTo>
                      <a:pt x="3115793" y="245677"/>
                      <a:pt x="3142932" y="237326"/>
                      <a:pt x="3142932" y="237326"/>
                    </a:cubicBezTo>
                    <a:cubicBezTo>
                      <a:pt x="3170072" y="237326"/>
                      <a:pt x="3213913" y="224800"/>
                      <a:pt x="3243140" y="237326"/>
                    </a:cubicBezTo>
                    <a:cubicBezTo>
                      <a:pt x="3272367" y="249852"/>
                      <a:pt x="3286981" y="304131"/>
                      <a:pt x="3318296" y="312482"/>
                    </a:cubicBezTo>
                    <a:cubicBezTo>
                      <a:pt x="3349611" y="320833"/>
                      <a:pt x="3401803" y="304131"/>
                      <a:pt x="3431030" y="287430"/>
                    </a:cubicBezTo>
                    <a:cubicBezTo>
                      <a:pt x="3460257" y="270729"/>
                      <a:pt x="3466520" y="210186"/>
                      <a:pt x="3493660" y="212274"/>
                    </a:cubicBezTo>
                    <a:cubicBezTo>
                      <a:pt x="3520800" y="214362"/>
                      <a:pt x="3568817" y="285342"/>
                      <a:pt x="3593869" y="299956"/>
                    </a:cubicBezTo>
                    <a:cubicBezTo>
                      <a:pt x="3618921" y="314570"/>
                      <a:pt x="3631447" y="306219"/>
                      <a:pt x="3643973" y="299956"/>
                    </a:cubicBezTo>
                    <a:cubicBezTo>
                      <a:pt x="3656499" y="293693"/>
                      <a:pt x="3652324" y="281167"/>
                      <a:pt x="3669025" y="262378"/>
                    </a:cubicBezTo>
                    <a:cubicBezTo>
                      <a:pt x="3685726" y="243589"/>
                      <a:pt x="3727480" y="189310"/>
                      <a:pt x="3744181" y="187222"/>
                    </a:cubicBezTo>
                    <a:cubicBezTo>
                      <a:pt x="3760882" y="185134"/>
                      <a:pt x="3746269" y="233151"/>
                      <a:pt x="3769233" y="249852"/>
                    </a:cubicBezTo>
                    <a:cubicBezTo>
                      <a:pt x="3792197" y="266553"/>
                      <a:pt x="3844389" y="281167"/>
                      <a:pt x="3881967" y="287430"/>
                    </a:cubicBezTo>
                    <a:cubicBezTo>
                      <a:pt x="3919545" y="293693"/>
                      <a:pt x="3969650" y="291605"/>
                      <a:pt x="3994702" y="287430"/>
                    </a:cubicBezTo>
                    <a:cubicBezTo>
                      <a:pt x="4019754" y="283255"/>
                      <a:pt x="4007228" y="254027"/>
                      <a:pt x="4032280" y="262378"/>
                    </a:cubicBezTo>
                    <a:cubicBezTo>
                      <a:pt x="4057332" y="270729"/>
                      <a:pt x="4115787" y="331271"/>
                      <a:pt x="4145014" y="337534"/>
                    </a:cubicBezTo>
                    <a:cubicBezTo>
                      <a:pt x="4174241" y="343797"/>
                      <a:pt x="4184680" y="320833"/>
                      <a:pt x="4207644" y="299956"/>
                    </a:cubicBezTo>
                    <a:cubicBezTo>
                      <a:pt x="4230608" y="279079"/>
                      <a:pt x="4255660" y="216449"/>
                      <a:pt x="4282800" y="212274"/>
                    </a:cubicBezTo>
                    <a:cubicBezTo>
                      <a:pt x="4309940" y="208099"/>
                      <a:pt x="4334992" y="270729"/>
                      <a:pt x="4370482" y="274904"/>
                    </a:cubicBezTo>
                    <a:cubicBezTo>
                      <a:pt x="4405972" y="279079"/>
                      <a:pt x="4464428" y="251940"/>
                      <a:pt x="4495743" y="237326"/>
                    </a:cubicBezTo>
                    <a:cubicBezTo>
                      <a:pt x="4527058" y="222712"/>
                      <a:pt x="4535409" y="178871"/>
                      <a:pt x="4558373" y="187222"/>
                    </a:cubicBezTo>
                    <a:cubicBezTo>
                      <a:pt x="4581337" y="195573"/>
                      <a:pt x="4612652" y="272816"/>
                      <a:pt x="4633529" y="287430"/>
                    </a:cubicBezTo>
                    <a:cubicBezTo>
                      <a:pt x="4654406" y="302044"/>
                      <a:pt x="4660669" y="293693"/>
                      <a:pt x="4683633" y="274904"/>
                    </a:cubicBezTo>
                    <a:cubicBezTo>
                      <a:pt x="4706597" y="256115"/>
                      <a:pt x="4740000" y="183047"/>
                      <a:pt x="4771315" y="174696"/>
                    </a:cubicBezTo>
                    <a:cubicBezTo>
                      <a:pt x="4802630" y="166345"/>
                      <a:pt x="4844383" y="216449"/>
                      <a:pt x="4871523" y="224800"/>
                    </a:cubicBezTo>
                    <a:cubicBezTo>
                      <a:pt x="4898663" y="233151"/>
                      <a:pt x="4907014" y="233151"/>
                      <a:pt x="4934154" y="224800"/>
                    </a:cubicBezTo>
                    <a:cubicBezTo>
                      <a:pt x="4961294" y="216449"/>
                      <a:pt x="4982170" y="197660"/>
                      <a:pt x="5034362" y="174696"/>
                    </a:cubicBezTo>
                    <a:cubicBezTo>
                      <a:pt x="5086554" y="151732"/>
                      <a:pt x="5201375" y="114154"/>
                      <a:pt x="5247304" y="87014"/>
                    </a:cubicBezTo>
                    <a:cubicBezTo>
                      <a:pt x="5293233" y="59874"/>
                      <a:pt x="5291145" y="24384"/>
                      <a:pt x="5309934" y="11858"/>
                    </a:cubicBezTo>
                    <a:cubicBezTo>
                      <a:pt x="5328723" y="-668"/>
                      <a:pt x="5328724" y="-6931"/>
                      <a:pt x="5360039" y="11858"/>
                    </a:cubicBezTo>
                    <a:cubicBezTo>
                      <a:pt x="5391354" y="30647"/>
                      <a:pt x="5460247" y="107891"/>
                      <a:pt x="5497825" y="124592"/>
                    </a:cubicBezTo>
                    <a:cubicBezTo>
                      <a:pt x="5535403" y="141293"/>
                      <a:pt x="5558367" y="124592"/>
                      <a:pt x="5585507" y="112066"/>
                    </a:cubicBezTo>
                    <a:cubicBezTo>
                      <a:pt x="5612647" y="99540"/>
                      <a:pt x="5631436" y="49436"/>
                      <a:pt x="5660663" y="49436"/>
                    </a:cubicBezTo>
                    <a:cubicBezTo>
                      <a:pt x="5689890" y="49436"/>
                      <a:pt x="5725381" y="93277"/>
                      <a:pt x="5760871" y="112066"/>
                    </a:cubicBezTo>
                    <a:cubicBezTo>
                      <a:pt x="5796361" y="130855"/>
                      <a:pt x="5838115" y="153819"/>
                      <a:pt x="5873606" y="162170"/>
                    </a:cubicBezTo>
                    <a:cubicBezTo>
                      <a:pt x="5909097" y="170521"/>
                      <a:pt x="5936954" y="165122"/>
                      <a:pt x="5973814" y="162170"/>
                    </a:cubicBezTo>
                    <a:cubicBezTo>
                      <a:pt x="6010674" y="159218"/>
                      <a:pt x="6042573" y="138193"/>
                      <a:pt x="6094765" y="144456"/>
                    </a:cubicBezTo>
                    <a:cubicBezTo>
                      <a:pt x="6146957" y="150719"/>
                      <a:pt x="6240318" y="200971"/>
                      <a:pt x="6286965" y="199748"/>
                    </a:cubicBezTo>
                    <a:cubicBezTo>
                      <a:pt x="6333612" y="198525"/>
                      <a:pt x="6341244" y="147556"/>
                      <a:pt x="6374647" y="137118"/>
                    </a:cubicBezTo>
                    <a:cubicBezTo>
                      <a:pt x="6408050" y="126680"/>
                      <a:pt x="6449803" y="128767"/>
                      <a:pt x="6487381" y="137118"/>
                    </a:cubicBezTo>
                    <a:cubicBezTo>
                      <a:pt x="6524959" y="145469"/>
                      <a:pt x="6568800" y="174696"/>
                      <a:pt x="6600115" y="187222"/>
                    </a:cubicBezTo>
                    <a:cubicBezTo>
                      <a:pt x="6631430" y="199748"/>
                      <a:pt x="6650219" y="218537"/>
                      <a:pt x="6675271" y="212274"/>
                    </a:cubicBezTo>
                    <a:cubicBezTo>
                      <a:pt x="6700323" y="206011"/>
                      <a:pt x="6725376" y="166345"/>
                      <a:pt x="6750428" y="149644"/>
                    </a:cubicBezTo>
                    <a:cubicBezTo>
                      <a:pt x="6775480" y="132943"/>
                      <a:pt x="6781743" y="122504"/>
                      <a:pt x="6825584" y="112066"/>
                    </a:cubicBezTo>
                    <a:cubicBezTo>
                      <a:pt x="6869425" y="101628"/>
                      <a:pt x="6961282" y="76576"/>
                      <a:pt x="7013474" y="87014"/>
                    </a:cubicBezTo>
                    <a:cubicBezTo>
                      <a:pt x="7065666" y="97452"/>
                      <a:pt x="7099068" y="160082"/>
                      <a:pt x="7138734" y="174696"/>
                    </a:cubicBezTo>
                    <a:cubicBezTo>
                      <a:pt x="7178400" y="189310"/>
                      <a:pt x="7218066" y="178871"/>
                      <a:pt x="7251469" y="174696"/>
                    </a:cubicBezTo>
                    <a:cubicBezTo>
                      <a:pt x="7284872" y="170521"/>
                      <a:pt x="7303661" y="157995"/>
                      <a:pt x="7339151" y="149644"/>
                    </a:cubicBezTo>
                    <a:cubicBezTo>
                      <a:pt x="7374641" y="141293"/>
                      <a:pt x="7424745" y="116241"/>
                      <a:pt x="7464411" y="124592"/>
                    </a:cubicBezTo>
                    <a:cubicBezTo>
                      <a:pt x="7504077" y="132943"/>
                      <a:pt x="7545830" y="187222"/>
                      <a:pt x="7577145" y="199748"/>
                    </a:cubicBezTo>
                    <a:cubicBezTo>
                      <a:pt x="7608460" y="212274"/>
                      <a:pt x="7623075" y="212274"/>
                      <a:pt x="7652302" y="199748"/>
                    </a:cubicBezTo>
                    <a:cubicBezTo>
                      <a:pt x="7681529" y="187222"/>
                      <a:pt x="7719107" y="132943"/>
                      <a:pt x="7752510" y="124592"/>
                    </a:cubicBezTo>
                    <a:cubicBezTo>
                      <a:pt x="7785913" y="116241"/>
                      <a:pt x="7815140" y="128767"/>
                      <a:pt x="7852718" y="149644"/>
                    </a:cubicBezTo>
                    <a:cubicBezTo>
                      <a:pt x="7890296" y="170521"/>
                      <a:pt x="7938312" y="233151"/>
                      <a:pt x="7977978" y="249852"/>
                    </a:cubicBezTo>
                    <a:cubicBezTo>
                      <a:pt x="8017644" y="266553"/>
                      <a:pt x="8048959" y="254027"/>
                      <a:pt x="8090713" y="249852"/>
                    </a:cubicBezTo>
                    <a:cubicBezTo>
                      <a:pt x="8132467" y="245677"/>
                      <a:pt x="8195096" y="222712"/>
                      <a:pt x="8228499" y="224800"/>
                    </a:cubicBezTo>
                    <a:cubicBezTo>
                      <a:pt x="8261902" y="226888"/>
                      <a:pt x="8257726" y="260290"/>
                      <a:pt x="8291129" y="262378"/>
                    </a:cubicBezTo>
                    <a:cubicBezTo>
                      <a:pt x="8324532" y="264466"/>
                      <a:pt x="8380899" y="251940"/>
                      <a:pt x="8428915" y="237326"/>
                    </a:cubicBezTo>
                    <a:cubicBezTo>
                      <a:pt x="8476932" y="222712"/>
                      <a:pt x="8541650" y="172608"/>
                      <a:pt x="8579228" y="174696"/>
                    </a:cubicBezTo>
                    <a:cubicBezTo>
                      <a:pt x="8616806" y="176784"/>
                      <a:pt x="8625157" y="235238"/>
                      <a:pt x="8654384" y="249852"/>
                    </a:cubicBezTo>
                    <a:cubicBezTo>
                      <a:pt x="8683611" y="264466"/>
                      <a:pt x="8721189" y="270729"/>
                      <a:pt x="8754592" y="262378"/>
                    </a:cubicBezTo>
                    <a:cubicBezTo>
                      <a:pt x="8787995" y="254027"/>
                      <a:pt x="8825573" y="216449"/>
                      <a:pt x="8854800" y="199748"/>
                    </a:cubicBezTo>
                    <a:cubicBezTo>
                      <a:pt x="8884027" y="183047"/>
                      <a:pt x="8906992" y="157995"/>
                      <a:pt x="8929956" y="162170"/>
                    </a:cubicBezTo>
                    <a:cubicBezTo>
                      <a:pt x="8952920" y="166345"/>
                      <a:pt x="8959184" y="214362"/>
                      <a:pt x="8992587" y="224800"/>
                    </a:cubicBezTo>
                    <a:cubicBezTo>
                      <a:pt x="9025990" y="235238"/>
                      <a:pt x="9090707" y="235238"/>
                      <a:pt x="9130373" y="224800"/>
                    </a:cubicBezTo>
                    <a:cubicBezTo>
                      <a:pt x="9170039" y="214362"/>
                      <a:pt x="9197178" y="172608"/>
                      <a:pt x="9230581" y="162170"/>
                    </a:cubicBezTo>
                    <a:cubicBezTo>
                      <a:pt x="9263984" y="151732"/>
                      <a:pt x="9291123" y="153819"/>
                      <a:pt x="9330789" y="162170"/>
                    </a:cubicBezTo>
                    <a:cubicBezTo>
                      <a:pt x="9370455" y="170521"/>
                      <a:pt x="9433086" y="197660"/>
                      <a:pt x="9468576" y="212274"/>
                    </a:cubicBezTo>
                    <a:cubicBezTo>
                      <a:pt x="9504067" y="226888"/>
                      <a:pt x="9514505" y="258203"/>
                      <a:pt x="9543732" y="249852"/>
                    </a:cubicBezTo>
                    <a:cubicBezTo>
                      <a:pt x="9572959" y="241501"/>
                      <a:pt x="9606362" y="193485"/>
                      <a:pt x="9643940" y="162170"/>
                    </a:cubicBezTo>
                    <a:cubicBezTo>
                      <a:pt x="9681518" y="130855"/>
                      <a:pt x="9729534" y="64050"/>
                      <a:pt x="9769200" y="61962"/>
                    </a:cubicBezTo>
                    <a:cubicBezTo>
                      <a:pt x="9808866" y="59874"/>
                      <a:pt x="9846443" y="141293"/>
                      <a:pt x="9881934" y="149644"/>
                    </a:cubicBezTo>
                    <a:cubicBezTo>
                      <a:pt x="9917425" y="157995"/>
                      <a:pt x="9952916" y="109978"/>
                      <a:pt x="9982143" y="112066"/>
                    </a:cubicBezTo>
                    <a:cubicBezTo>
                      <a:pt x="10011370" y="114154"/>
                      <a:pt x="10019721" y="162170"/>
                      <a:pt x="10057299" y="162170"/>
                    </a:cubicBezTo>
                    <a:cubicBezTo>
                      <a:pt x="10094877" y="162170"/>
                      <a:pt x="10170033" y="105803"/>
                      <a:pt x="10207611" y="112066"/>
                    </a:cubicBezTo>
                    <a:cubicBezTo>
                      <a:pt x="10245189" y="118329"/>
                      <a:pt x="10253540" y="185134"/>
                      <a:pt x="10282767" y="199748"/>
                    </a:cubicBezTo>
                    <a:cubicBezTo>
                      <a:pt x="10311995" y="214362"/>
                      <a:pt x="10347486" y="212274"/>
                      <a:pt x="10382976" y="199748"/>
                    </a:cubicBezTo>
                    <a:cubicBezTo>
                      <a:pt x="10418466" y="187222"/>
                      <a:pt x="10451869" y="135030"/>
                      <a:pt x="10495710" y="124592"/>
                    </a:cubicBezTo>
                    <a:cubicBezTo>
                      <a:pt x="10539551" y="114154"/>
                      <a:pt x="10612619" y="120417"/>
                      <a:pt x="10646022" y="137118"/>
                    </a:cubicBezTo>
                    <a:cubicBezTo>
                      <a:pt x="10679425" y="153819"/>
                      <a:pt x="10696126" y="151732"/>
                      <a:pt x="10696126" y="224800"/>
                    </a:cubicBezTo>
                    <a:cubicBezTo>
                      <a:pt x="10696126" y="297868"/>
                      <a:pt x="10681512" y="245677"/>
                      <a:pt x="10646022" y="575529"/>
                    </a:cubicBezTo>
                    <a:cubicBezTo>
                      <a:pt x="10610532" y="905381"/>
                      <a:pt x="10545814" y="1909550"/>
                      <a:pt x="10483184" y="2203912"/>
                    </a:cubicBezTo>
                    <a:cubicBezTo>
                      <a:pt x="10420554" y="2498274"/>
                      <a:pt x="10320345" y="2318735"/>
                      <a:pt x="10270241" y="2341699"/>
                    </a:cubicBezTo>
                    <a:cubicBezTo>
                      <a:pt x="10220137" y="2364663"/>
                      <a:pt x="10224312" y="2358400"/>
                      <a:pt x="10182559" y="2341699"/>
                    </a:cubicBezTo>
                    <a:cubicBezTo>
                      <a:pt x="10140806" y="2324998"/>
                      <a:pt x="10069825" y="2262367"/>
                      <a:pt x="10019721" y="2241490"/>
                    </a:cubicBezTo>
                    <a:cubicBezTo>
                      <a:pt x="9969617" y="2220613"/>
                      <a:pt x="9934126" y="2233139"/>
                      <a:pt x="9881934" y="2216438"/>
                    </a:cubicBezTo>
                    <a:cubicBezTo>
                      <a:pt x="9829742" y="2199737"/>
                      <a:pt x="9758762" y="2149633"/>
                      <a:pt x="9706570" y="2141282"/>
                    </a:cubicBezTo>
                    <a:cubicBezTo>
                      <a:pt x="9654378" y="2132931"/>
                      <a:pt x="9633502" y="2162159"/>
                      <a:pt x="9568784" y="2166334"/>
                    </a:cubicBezTo>
                    <a:cubicBezTo>
                      <a:pt x="9504066" y="2170509"/>
                      <a:pt x="9318263" y="2166334"/>
                      <a:pt x="9318263" y="2166334"/>
                    </a:cubicBezTo>
                    <a:cubicBezTo>
                      <a:pt x="9232669" y="2166334"/>
                      <a:pt x="9109496" y="2185123"/>
                      <a:pt x="9055217" y="2166334"/>
                    </a:cubicBezTo>
                    <a:cubicBezTo>
                      <a:pt x="9000938" y="2147545"/>
                      <a:pt x="9013464" y="2059863"/>
                      <a:pt x="8992587" y="2053600"/>
                    </a:cubicBezTo>
                    <a:cubicBezTo>
                      <a:pt x="8971710" y="2047337"/>
                      <a:pt x="8948745" y="2109967"/>
                      <a:pt x="8929956" y="2128756"/>
                    </a:cubicBezTo>
                    <a:cubicBezTo>
                      <a:pt x="8911167" y="2147545"/>
                      <a:pt x="8919518" y="2151720"/>
                      <a:pt x="8879852" y="2166334"/>
                    </a:cubicBezTo>
                    <a:cubicBezTo>
                      <a:pt x="8840186" y="2180948"/>
                      <a:pt x="8742066" y="2203912"/>
                      <a:pt x="8691962" y="2216438"/>
                    </a:cubicBezTo>
                    <a:cubicBezTo>
                      <a:pt x="8641858" y="2228964"/>
                      <a:pt x="8620982" y="2231052"/>
                      <a:pt x="8579228" y="2241490"/>
                    </a:cubicBezTo>
                    <a:cubicBezTo>
                      <a:pt x="8537475" y="2251929"/>
                      <a:pt x="8508246" y="2287420"/>
                      <a:pt x="8441441" y="2279069"/>
                    </a:cubicBezTo>
                    <a:cubicBezTo>
                      <a:pt x="8374636" y="2270718"/>
                      <a:pt x="8276515" y="2206000"/>
                      <a:pt x="8178395" y="2191386"/>
                    </a:cubicBezTo>
                    <a:cubicBezTo>
                      <a:pt x="8080275" y="2176772"/>
                      <a:pt x="7965452" y="2203912"/>
                      <a:pt x="7852718" y="2191386"/>
                    </a:cubicBezTo>
                    <a:cubicBezTo>
                      <a:pt x="7739984" y="2178860"/>
                      <a:pt x="7600109" y="2118318"/>
                      <a:pt x="7501989" y="2116230"/>
                    </a:cubicBezTo>
                    <a:cubicBezTo>
                      <a:pt x="7403869" y="2114142"/>
                      <a:pt x="7263995" y="2178860"/>
                      <a:pt x="7263995" y="2178860"/>
                    </a:cubicBezTo>
                    <a:cubicBezTo>
                      <a:pt x="7199277" y="2195561"/>
                      <a:pt x="7163786" y="2224789"/>
                      <a:pt x="7113682" y="2216438"/>
                    </a:cubicBezTo>
                    <a:cubicBezTo>
                      <a:pt x="7063578" y="2208087"/>
                      <a:pt x="7019737" y="2143370"/>
                      <a:pt x="6963370" y="2128756"/>
                    </a:cubicBezTo>
                    <a:cubicBezTo>
                      <a:pt x="6907003" y="2114142"/>
                      <a:pt x="6813058" y="2105792"/>
                      <a:pt x="6775480" y="2128756"/>
                    </a:cubicBezTo>
                    <a:cubicBezTo>
                      <a:pt x="6737902" y="2151720"/>
                      <a:pt x="6748340" y="2228964"/>
                      <a:pt x="6737902" y="2266542"/>
                    </a:cubicBezTo>
                    <a:cubicBezTo>
                      <a:pt x="6727464" y="2304120"/>
                      <a:pt x="6744165" y="2339611"/>
                      <a:pt x="6712850" y="2354225"/>
                    </a:cubicBezTo>
                    <a:cubicBezTo>
                      <a:pt x="6681535" y="2368839"/>
                      <a:pt x="6614729" y="2347962"/>
                      <a:pt x="6550011" y="2354225"/>
                    </a:cubicBezTo>
                    <a:cubicBezTo>
                      <a:pt x="6485293" y="2360488"/>
                      <a:pt x="6374980" y="2391089"/>
                      <a:pt x="6324543" y="2391803"/>
                    </a:cubicBezTo>
                    <a:cubicBezTo>
                      <a:pt x="6274106" y="2392517"/>
                      <a:pt x="6284859" y="2368016"/>
                      <a:pt x="6247390" y="2358512"/>
                    </a:cubicBezTo>
                    <a:cubicBezTo>
                      <a:pt x="6209921" y="2349008"/>
                      <a:pt x="6145324" y="2345931"/>
                      <a:pt x="6099728" y="2334778"/>
                    </a:cubicBezTo>
                    <a:cubicBezTo>
                      <a:pt x="6054132" y="2323625"/>
                      <a:pt x="6028202" y="2298792"/>
                      <a:pt x="5973814" y="2291595"/>
                    </a:cubicBezTo>
                    <a:cubicBezTo>
                      <a:pt x="5919426" y="2284398"/>
                      <a:pt x="5842290" y="2289507"/>
                      <a:pt x="5773397" y="2291595"/>
                    </a:cubicBezTo>
                    <a:cubicBezTo>
                      <a:pt x="5704504" y="2293683"/>
                      <a:pt x="5623085" y="2318735"/>
                      <a:pt x="5560455" y="2304121"/>
                    </a:cubicBezTo>
                    <a:cubicBezTo>
                      <a:pt x="5497825" y="2289507"/>
                      <a:pt x="5462335" y="2226877"/>
                      <a:pt x="5397617" y="2203912"/>
                    </a:cubicBezTo>
                    <a:cubicBezTo>
                      <a:pt x="5332899" y="2180948"/>
                      <a:pt x="5232691" y="2162159"/>
                      <a:pt x="5172148" y="2166334"/>
                    </a:cubicBezTo>
                    <a:cubicBezTo>
                      <a:pt x="5111605" y="2170509"/>
                      <a:pt x="5117869" y="2216438"/>
                      <a:pt x="5034362" y="2228964"/>
                    </a:cubicBezTo>
                    <a:cubicBezTo>
                      <a:pt x="4950855" y="2241490"/>
                      <a:pt x="4738545" y="2251373"/>
                      <a:pt x="4671107" y="2241490"/>
                    </a:cubicBezTo>
                    <a:cubicBezTo>
                      <a:pt x="4603669" y="2231608"/>
                      <a:pt x="4664085" y="2177847"/>
                      <a:pt x="4629734" y="2169669"/>
                    </a:cubicBezTo>
                    <a:cubicBezTo>
                      <a:pt x="4595383" y="2161491"/>
                      <a:pt x="4493593" y="2186716"/>
                      <a:pt x="4464998" y="2192423"/>
                    </a:cubicBezTo>
                    <a:cubicBezTo>
                      <a:pt x="4436403" y="2198130"/>
                      <a:pt x="4486444" y="2189471"/>
                      <a:pt x="4458165" y="2203912"/>
                    </a:cubicBezTo>
                    <a:cubicBezTo>
                      <a:pt x="4429886" y="2218353"/>
                      <a:pt x="4345430" y="2268631"/>
                      <a:pt x="4295326" y="2279069"/>
                    </a:cubicBezTo>
                    <a:cubicBezTo>
                      <a:pt x="4245222" y="2289507"/>
                      <a:pt x="4226433" y="2264454"/>
                      <a:pt x="4157540" y="2266542"/>
                    </a:cubicBezTo>
                    <a:cubicBezTo>
                      <a:pt x="4088647" y="2268630"/>
                      <a:pt x="3955035" y="2281157"/>
                      <a:pt x="3881967" y="2291595"/>
                    </a:cubicBezTo>
                    <a:cubicBezTo>
                      <a:pt x="3808899" y="2302033"/>
                      <a:pt x="3783847" y="2329173"/>
                      <a:pt x="3719129" y="2329173"/>
                    </a:cubicBezTo>
                    <a:cubicBezTo>
                      <a:pt x="3654411" y="2329173"/>
                      <a:pt x="3583430" y="2312472"/>
                      <a:pt x="3493660" y="2291595"/>
                    </a:cubicBezTo>
                    <a:cubicBezTo>
                      <a:pt x="3403890" y="2270718"/>
                      <a:pt x="3243140" y="2216438"/>
                      <a:pt x="3180510" y="2203912"/>
                    </a:cubicBezTo>
                    <a:cubicBezTo>
                      <a:pt x="3117880" y="2191386"/>
                      <a:pt x="3159633" y="2222701"/>
                      <a:pt x="3117880" y="2216438"/>
                    </a:cubicBezTo>
                    <a:cubicBezTo>
                      <a:pt x="3076127" y="2210175"/>
                      <a:pt x="2988444" y="2199737"/>
                      <a:pt x="2929989" y="2166334"/>
                    </a:cubicBezTo>
                    <a:cubicBezTo>
                      <a:pt x="2871534" y="2132931"/>
                      <a:pt x="2825606" y="2026460"/>
                      <a:pt x="2767151" y="2016022"/>
                    </a:cubicBezTo>
                    <a:cubicBezTo>
                      <a:pt x="2708696" y="2005584"/>
                      <a:pt x="2639802" y="2072389"/>
                      <a:pt x="2579260" y="2103704"/>
                    </a:cubicBezTo>
                    <a:cubicBezTo>
                      <a:pt x="2518718" y="2135019"/>
                      <a:pt x="2454000" y="2201824"/>
                      <a:pt x="2403896" y="2203912"/>
                    </a:cubicBezTo>
                    <a:cubicBezTo>
                      <a:pt x="2353792" y="2206000"/>
                      <a:pt x="2335003" y="2122493"/>
                      <a:pt x="2278636" y="2116230"/>
                    </a:cubicBezTo>
                    <a:cubicBezTo>
                      <a:pt x="2222269" y="2109967"/>
                      <a:pt x="2122060" y="2149633"/>
                      <a:pt x="2065693" y="2166334"/>
                    </a:cubicBezTo>
                    <a:cubicBezTo>
                      <a:pt x="2009326" y="2183035"/>
                      <a:pt x="2003063" y="2214350"/>
                      <a:pt x="1940433" y="2216438"/>
                    </a:cubicBezTo>
                    <a:cubicBezTo>
                      <a:pt x="1877803" y="2218526"/>
                      <a:pt x="1758806" y="2178860"/>
                      <a:pt x="1689913" y="2178860"/>
                    </a:cubicBezTo>
                    <a:cubicBezTo>
                      <a:pt x="1621020" y="2178860"/>
                      <a:pt x="1527074" y="2216438"/>
                      <a:pt x="1527074" y="2216438"/>
                    </a:cubicBezTo>
                    <a:cubicBezTo>
                      <a:pt x="1472795" y="2228964"/>
                      <a:pt x="1403902" y="2268630"/>
                      <a:pt x="1364236" y="2254016"/>
                    </a:cubicBezTo>
                    <a:cubicBezTo>
                      <a:pt x="1324570" y="2239402"/>
                      <a:pt x="1320395" y="2132931"/>
                      <a:pt x="1289080" y="2128756"/>
                    </a:cubicBezTo>
                    <a:cubicBezTo>
                      <a:pt x="1257765" y="2124581"/>
                      <a:pt x="1218098" y="2197649"/>
                      <a:pt x="1176345" y="2228964"/>
                    </a:cubicBezTo>
                    <a:cubicBezTo>
                      <a:pt x="1134592" y="2260279"/>
                      <a:pt x="1094926" y="2308296"/>
                      <a:pt x="1038559" y="2316647"/>
                    </a:cubicBezTo>
                    <a:cubicBezTo>
                      <a:pt x="982192" y="2324998"/>
                      <a:pt x="894510" y="2285332"/>
                      <a:pt x="838143" y="2279069"/>
                    </a:cubicBezTo>
                    <a:cubicBezTo>
                      <a:pt x="781776" y="2272806"/>
                      <a:pt x="735847" y="2270718"/>
                      <a:pt x="700356" y="2279069"/>
                    </a:cubicBezTo>
                    <a:cubicBezTo>
                      <a:pt x="664865" y="2287420"/>
                      <a:pt x="666953" y="2335436"/>
                      <a:pt x="625200" y="2329173"/>
                    </a:cubicBezTo>
                    <a:cubicBezTo>
                      <a:pt x="583447" y="2322910"/>
                      <a:pt x="499940" y="2251928"/>
                      <a:pt x="449836" y="2241490"/>
                    </a:cubicBezTo>
                    <a:cubicBezTo>
                      <a:pt x="399732" y="2231052"/>
                      <a:pt x="349628" y="2249841"/>
                      <a:pt x="324576" y="2266542"/>
                    </a:cubicBezTo>
                    <a:cubicBezTo>
                      <a:pt x="299524" y="2283244"/>
                      <a:pt x="312049" y="2339611"/>
                      <a:pt x="299523" y="2341699"/>
                    </a:cubicBezTo>
                    <a:cubicBezTo>
                      <a:pt x="286997" y="2343787"/>
                      <a:pt x="276559" y="2295771"/>
                      <a:pt x="249419" y="2279069"/>
                    </a:cubicBezTo>
                    <a:cubicBezTo>
                      <a:pt x="222279" y="2262368"/>
                      <a:pt x="176351" y="2247753"/>
                      <a:pt x="136685" y="2241490"/>
                    </a:cubicBezTo>
                    <a:cubicBezTo>
                      <a:pt x="97019" y="2235227"/>
                      <a:pt x="32302" y="2256104"/>
                      <a:pt x="11425" y="2241490"/>
                    </a:cubicBezTo>
                    <a:cubicBezTo>
                      <a:pt x="-9452" y="2226876"/>
                      <a:pt x="3074" y="2487835"/>
                      <a:pt x="11425" y="2153808"/>
                    </a:cubicBezTo>
                    <a:cubicBezTo>
                      <a:pt x="19776" y="1819781"/>
                      <a:pt x="76143" y="598493"/>
                      <a:pt x="86581" y="249852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任意多边形 13"/>
              <p:cNvSpPr/>
              <p:nvPr/>
            </p:nvSpPr>
            <p:spPr>
              <a:xfrm flipH="1">
                <a:off x="137880" y="44280"/>
                <a:ext cx="12356640" cy="1908720"/>
              </a:xfrm>
              <a:custGeom>
                <a:avLst/>
                <a:gdLst/>
                <a:ahLst/>
                <a:rect l="l" t="t" r="r" b="b"/>
                <a:pathLst>
                  <a:path w="10696126" h="2454679">
                    <a:moveTo>
                      <a:pt x="86581" y="249852"/>
                    </a:moveTo>
                    <a:cubicBezTo>
                      <a:pt x="97019" y="-98789"/>
                      <a:pt x="46915" y="51524"/>
                      <a:pt x="74055" y="61962"/>
                    </a:cubicBezTo>
                    <a:cubicBezTo>
                      <a:pt x="101195" y="72400"/>
                      <a:pt x="197227" y="285342"/>
                      <a:pt x="249419" y="312482"/>
                    </a:cubicBezTo>
                    <a:cubicBezTo>
                      <a:pt x="301611" y="339622"/>
                      <a:pt x="345453" y="239414"/>
                      <a:pt x="387206" y="224800"/>
                    </a:cubicBezTo>
                    <a:cubicBezTo>
                      <a:pt x="428960" y="210186"/>
                      <a:pt x="476976" y="220625"/>
                      <a:pt x="499940" y="224800"/>
                    </a:cubicBezTo>
                    <a:cubicBezTo>
                      <a:pt x="522904" y="228975"/>
                      <a:pt x="504115" y="231063"/>
                      <a:pt x="524992" y="249852"/>
                    </a:cubicBezTo>
                    <a:cubicBezTo>
                      <a:pt x="545869" y="268641"/>
                      <a:pt x="604323" y="331271"/>
                      <a:pt x="625200" y="337534"/>
                    </a:cubicBezTo>
                    <a:cubicBezTo>
                      <a:pt x="646077" y="343797"/>
                      <a:pt x="641901" y="302044"/>
                      <a:pt x="650252" y="287430"/>
                    </a:cubicBezTo>
                    <a:cubicBezTo>
                      <a:pt x="658603" y="272816"/>
                      <a:pt x="660691" y="245677"/>
                      <a:pt x="675304" y="249852"/>
                    </a:cubicBezTo>
                    <a:cubicBezTo>
                      <a:pt x="689917" y="254027"/>
                      <a:pt x="717057" y="304131"/>
                      <a:pt x="737934" y="312482"/>
                    </a:cubicBezTo>
                    <a:cubicBezTo>
                      <a:pt x="758811" y="320833"/>
                      <a:pt x="781776" y="304131"/>
                      <a:pt x="800565" y="299956"/>
                    </a:cubicBezTo>
                    <a:cubicBezTo>
                      <a:pt x="819354" y="295781"/>
                      <a:pt x="827705" y="289518"/>
                      <a:pt x="850669" y="287430"/>
                    </a:cubicBezTo>
                    <a:cubicBezTo>
                      <a:pt x="873633" y="285342"/>
                      <a:pt x="900773" y="279079"/>
                      <a:pt x="938351" y="287430"/>
                    </a:cubicBezTo>
                    <a:cubicBezTo>
                      <a:pt x="975929" y="295781"/>
                      <a:pt x="1034384" y="335446"/>
                      <a:pt x="1076137" y="337534"/>
                    </a:cubicBezTo>
                    <a:cubicBezTo>
                      <a:pt x="1117890" y="339622"/>
                      <a:pt x="1155468" y="310394"/>
                      <a:pt x="1188871" y="299956"/>
                    </a:cubicBezTo>
                    <a:cubicBezTo>
                      <a:pt x="1222274" y="289518"/>
                      <a:pt x="1257765" y="270729"/>
                      <a:pt x="1276554" y="274904"/>
                    </a:cubicBezTo>
                    <a:cubicBezTo>
                      <a:pt x="1295343" y="279079"/>
                      <a:pt x="1272379" y="316657"/>
                      <a:pt x="1301606" y="325008"/>
                    </a:cubicBezTo>
                    <a:cubicBezTo>
                      <a:pt x="1330833" y="333359"/>
                      <a:pt x="1416428" y="329183"/>
                      <a:pt x="1451918" y="325008"/>
                    </a:cubicBezTo>
                    <a:cubicBezTo>
                      <a:pt x="1487408" y="320833"/>
                      <a:pt x="1499934" y="320833"/>
                      <a:pt x="1514548" y="299956"/>
                    </a:cubicBezTo>
                    <a:cubicBezTo>
                      <a:pt x="1529162" y="279079"/>
                      <a:pt x="1518723" y="212274"/>
                      <a:pt x="1539600" y="199748"/>
                    </a:cubicBezTo>
                    <a:cubicBezTo>
                      <a:pt x="1560477" y="187222"/>
                      <a:pt x="1612668" y="220625"/>
                      <a:pt x="1639808" y="224800"/>
                    </a:cubicBezTo>
                    <a:cubicBezTo>
                      <a:pt x="1666948" y="228975"/>
                      <a:pt x="1660686" y="231063"/>
                      <a:pt x="1702439" y="224800"/>
                    </a:cubicBezTo>
                    <a:cubicBezTo>
                      <a:pt x="1744192" y="218537"/>
                      <a:pt x="1844400" y="201836"/>
                      <a:pt x="1890329" y="187222"/>
                    </a:cubicBezTo>
                    <a:cubicBezTo>
                      <a:pt x="1936258" y="172608"/>
                      <a:pt x="1948784" y="130855"/>
                      <a:pt x="1978011" y="137118"/>
                    </a:cubicBezTo>
                    <a:cubicBezTo>
                      <a:pt x="2007238" y="143381"/>
                      <a:pt x="2040641" y="210186"/>
                      <a:pt x="2065693" y="224800"/>
                    </a:cubicBezTo>
                    <a:cubicBezTo>
                      <a:pt x="2090745" y="239414"/>
                      <a:pt x="2128323" y="224800"/>
                      <a:pt x="2128323" y="224800"/>
                    </a:cubicBezTo>
                    <a:cubicBezTo>
                      <a:pt x="2151287" y="224800"/>
                      <a:pt x="2184691" y="216449"/>
                      <a:pt x="2203480" y="224800"/>
                    </a:cubicBezTo>
                    <a:cubicBezTo>
                      <a:pt x="2222269" y="233151"/>
                      <a:pt x="2220181" y="272816"/>
                      <a:pt x="2241058" y="274904"/>
                    </a:cubicBezTo>
                    <a:cubicBezTo>
                      <a:pt x="2261935" y="276992"/>
                      <a:pt x="2295337" y="254027"/>
                      <a:pt x="2328740" y="237326"/>
                    </a:cubicBezTo>
                    <a:cubicBezTo>
                      <a:pt x="2362143" y="220625"/>
                      <a:pt x="2403896" y="180959"/>
                      <a:pt x="2441474" y="174696"/>
                    </a:cubicBezTo>
                    <a:cubicBezTo>
                      <a:pt x="2479052" y="168433"/>
                      <a:pt x="2512455" y="189310"/>
                      <a:pt x="2554208" y="199748"/>
                    </a:cubicBezTo>
                    <a:cubicBezTo>
                      <a:pt x="2595961" y="210186"/>
                      <a:pt x="2643979" y="231063"/>
                      <a:pt x="2691995" y="237326"/>
                    </a:cubicBezTo>
                    <a:cubicBezTo>
                      <a:pt x="2740012" y="243589"/>
                      <a:pt x="2802641" y="245677"/>
                      <a:pt x="2842307" y="237326"/>
                    </a:cubicBezTo>
                    <a:cubicBezTo>
                      <a:pt x="2881973" y="228975"/>
                      <a:pt x="2890323" y="187222"/>
                      <a:pt x="2929989" y="187222"/>
                    </a:cubicBezTo>
                    <a:cubicBezTo>
                      <a:pt x="2969655" y="187222"/>
                      <a:pt x="3044811" y="228975"/>
                      <a:pt x="3080302" y="237326"/>
                    </a:cubicBezTo>
                    <a:cubicBezTo>
                      <a:pt x="3115793" y="245677"/>
                      <a:pt x="3142932" y="237326"/>
                      <a:pt x="3142932" y="237326"/>
                    </a:cubicBezTo>
                    <a:cubicBezTo>
                      <a:pt x="3170072" y="237326"/>
                      <a:pt x="3213913" y="224800"/>
                      <a:pt x="3243140" y="237326"/>
                    </a:cubicBezTo>
                    <a:cubicBezTo>
                      <a:pt x="3272367" y="249852"/>
                      <a:pt x="3286981" y="304131"/>
                      <a:pt x="3318296" y="312482"/>
                    </a:cubicBezTo>
                    <a:cubicBezTo>
                      <a:pt x="3349611" y="320833"/>
                      <a:pt x="3401803" y="304131"/>
                      <a:pt x="3431030" y="287430"/>
                    </a:cubicBezTo>
                    <a:cubicBezTo>
                      <a:pt x="3460257" y="270729"/>
                      <a:pt x="3466520" y="210186"/>
                      <a:pt x="3493660" y="212274"/>
                    </a:cubicBezTo>
                    <a:cubicBezTo>
                      <a:pt x="3520800" y="214362"/>
                      <a:pt x="3568817" y="285342"/>
                      <a:pt x="3593869" y="299956"/>
                    </a:cubicBezTo>
                    <a:cubicBezTo>
                      <a:pt x="3618921" y="314570"/>
                      <a:pt x="3631447" y="306219"/>
                      <a:pt x="3643973" y="299956"/>
                    </a:cubicBezTo>
                    <a:cubicBezTo>
                      <a:pt x="3656499" y="293693"/>
                      <a:pt x="3652324" y="281167"/>
                      <a:pt x="3669025" y="262378"/>
                    </a:cubicBezTo>
                    <a:cubicBezTo>
                      <a:pt x="3685726" y="243589"/>
                      <a:pt x="3727480" y="189310"/>
                      <a:pt x="3744181" y="187222"/>
                    </a:cubicBezTo>
                    <a:cubicBezTo>
                      <a:pt x="3760882" y="185134"/>
                      <a:pt x="3746269" y="233151"/>
                      <a:pt x="3769233" y="249852"/>
                    </a:cubicBezTo>
                    <a:cubicBezTo>
                      <a:pt x="3792197" y="266553"/>
                      <a:pt x="3844389" y="281167"/>
                      <a:pt x="3881967" y="287430"/>
                    </a:cubicBezTo>
                    <a:cubicBezTo>
                      <a:pt x="3919545" y="293693"/>
                      <a:pt x="3969650" y="291605"/>
                      <a:pt x="3994702" y="287430"/>
                    </a:cubicBezTo>
                    <a:cubicBezTo>
                      <a:pt x="4019754" y="283255"/>
                      <a:pt x="4007228" y="254027"/>
                      <a:pt x="4032280" y="262378"/>
                    </a:cubicBezTo>
                    <a:cubicBezTo>
                      <a:pt x="4057332" y="270729"/>
                      <a:pt x="4115787" y="331271"/>
                      <a:pt x="4145014" y="337534"/>
                    </a:cubicBezTo>
                    <a:cubicBezTo>
                      <a:pt x="4174241" y="343797"/>
                      <a:pt x="4184680" y="320833"/>
                      <a:pt x="4207644" y="299956"/>
                    </a:cubicBezTo>
                    <a:cubicBezTo>
                      <a:pt x="4230608" y="279079"/>
                      <a:pt x="4255660" y="216449"/>
                      <a:pt x="4282800" y="212274"/>
                    </a:cubicBezTo>
                    <a:cubicBezTo>
                      <a:pt x="4309940" y="208099"/>
                      <a:pt x="4334992" y="270729"/>
                      <a:pt x="4370482" y="274904"/>
                    </a:cubicBezTo>
                    <a:cubicBezTo>
                      <a:pt x="4405972" y="279079"/>
                      <a:pt x="4464428" y="251940"/>
                      <a:pt x="4495743" y="237326"/>
                    </a:cubicBezTo>
                    <a:cubicBezTo>
                      <a:pt x="4527058" y="222712"/>
                      <a:pt x="4535409" y="178871"/>
                      <a:pt x="4558373" y="187222"/>
                    </a:cubicBezTo>
                    <a:cubicBezTo>
                      <a:pt x="4581337" y="195573"/>
                      <a:pt x="4612652" y="272816"/>
                      <a:pt x="4633529" y="287430"/>
                    </a:cubicBezTo>
                    <a:cubicBezTo>
                      <a:pt x="4654406" y="302044"/>
                      <a:pt x="4660669" y="293693"/>
                      <a:pt x="4683633" y="274904"/>
                    </a:cubicBezTo>
                    <a:cubicBezTo>
                      <a:pt x="4706597" y="256115"/>
                      <a:pt x="4740000" y="183047"/>
                      <a:pt x="4771315" y="174696"/>
                    </a:cubicBezTo>
                    <a:cubicBezTo>
                      <a:pt x="4802630" y="166345"/>
                      <a:pt x="4844383" y="216449"/>
                      <a:pt x="4871523" y="224800"/>
                    </a:cubicBezTo>
                    <a:cubicBezTo>
                      <a:pt x="4898663" y="233151"/>
                      <a:pt x="4907014" y="233151"/>
                      <a:pt x="4934154" y="224800"/>
                    </a:cubicBezTo>
                    <a:cubicBezTo>
                      <a:pt x="4961294" y="216449"/>
                      <a:pt x="4982170" y="197660"/>
                      <a:pt x="5034362" y="174696"/>
                    </a:cubicBezTo>
                    <a:cubicBezTo>
                      <a:pt x="5086554" y="151732"/>
                      <a:pt x="5201375" y="114154"/>
                      <a:pt x="5247304" y="87014"/>
                    </a:cubicBezTo>
                    <a:cubicBezTo>
                      <a:pt x="5293233" y="59874"/>
                      <a:pt x="5291145" y="24384"/>
                      <a:pt x="5309934" y="11858"/>
                    </a:cubicBezTo>
                    <a:cubicBezTo>
                      <a:pt x="5328723" y="-668"/>
                      <a:pt x="5328724" y="-6931"/>
                      <a:pt x="5360039" y="11858"/>
                    </a:cubicBezTo>
                    <a:cubicBezTo>
                      <a:pt x="5391354" y="30647"/>
                      <a:pt x="5460247" y="107891"/>
                      <a:pt x="5497825" y="124592"/>
                    </a:cubicBezTo>
                    <a:cubicBezTo>
                      <a:pt x="5535403" y="141293"/>
                      <a:pt x="5558367" y="124592"/>
                      <a:pt x="5585507" y="112066"/>
                    </a:cubicBezTo>
                    <a:cubicBezTo>
                      <a:pt x="5612647" y="99540"/>
                      <a:pt x="5631436" y="49436"/>
                      <a:pt x="5660663" y="49436"/>
                    </a:cubicBezTo>
                    <a:cubicBezTo>
                      <a:pt x="5689890" y="49436"/>
                      <a:pt x="5725381" y="93277"/>
                      <a:pt x="5760871" y="112066"/>
                    </a:cubicBezTo>
                    <a:cubicBezTo>
                      <a:pt x="5796361" y="130855"/>
                      <a:pt x="5838115" y="153819"/>
                      <a:pt x="5873606" y="162170"/>
                    </a:cubicBezTo>
                    <a:cubicBezTo>
                      <a:pt x="5909097" y="170521"/>
                      <a:pt x="5927578" y="170258"/>
                      <a:pt x="5973814" y="162170"/>
                    </a:cubicBezTo>
                    <a:cubicBezTo>
                      <a:pt x="6020050" y="154082"/>
                      <a:pt x="6103051" y="116831"/>
                      <a:pt x="6151023" y="113640"/>
                    </a:cubicBezTo>
                    <a:cubicBezTo>
                      <a:pt x="6198995" y="110449"/>
                      <a:pt x="6224378" y="139112"/>
                      <a:pt x="6261649" y="143025"/>
                    </a:cubicBezTo>
                    <a:cubicBezTo>
                      <a:pt x="6298920" y="146938"/>
                      <a:pt x="6337025" y="138102"/>
                      <a:pt x="6374647" y="137118"/>
                    </a:cubicBezTo>
                    <a:cubicBezTo>
                      <a:pt x="6412269" y="136134"/>
                      <a:pt x="6449803" y="128767"/>
                      <a:pt x="6487381" y="137118"/>
                    </a:cubicBezTo>
                    <a:cubicBezTo>
                      <a:pt x="6524959" y="145469"/>
                      <a:pt x="6568800" y="174696"/>
                      <a:pt x="6600115" y="187222"/>
                    </a:cubicBezTo>
                    <a:cubicBezTo>
                      <a:pt x="6631430" y="199748"/>
                      <a:pt x="6650219" y="218537"/>
                      <a:pt x="6675271" y="212274"/>
                    </a:cubicBezTo>
                    <a:cubicBezTo>
                      <a:pt x="6700323" y="206011"/>
                      <a:pt x="6725376" y="166345"/>
                      <a:pt x="6750428" y="149644"/>
                    </a:cubicBezTo>
                    <a:cubicBezTo>
                      <a:pt x="6775480" y="132943"/>
                      <a:pt x="6781743" y="122504"/>
                      <a:pt x="6825584" y="112066"/>
                    </a:cubicBezTo>
                    <a:cubicBezTo>
                      <a:pt x="6869425" y="101628"/>
                      <a:pt x="6961282" y="76576"/>
                      <a:pt x="7013474" y="87014"/>
                    </a:cubicBezTo>
                    <a:cubicBezTo>
                      <a:pt x="7065666" y="97452"/>
                      <a:pt x="7099068" y="160082"/>
                      <a:pt x="7138734" y="174696"/>
                    </a:cubicBezTo>
                    <a:cubicBezTo>
                      <a:pt x="7178400" y="189310"/>
                      <a:pt x="7218066" y="178871"/>
                      <a:pt x="7251469" y="174696"/>
                    </a:cubicBezTo>
                    <a:cubicBezTo>
                      <a:pt x="7284872" y="170521"/>
                      <a:pt x="7303661" y="157995"/>
                      <a:pt x="7339151" y="149644"/>
                    </a:cubicBezTo>
                    <a:cubicBezTo>
                      <a:pt x="7374641" y="141293"/>
                      <a:pt x="7424745" y="116241"/>
                      <a:pt x="7464411" y="124592"/>
                    </a:cubicBezTo>
                    <a:cubicBezTo>
                      <a:pt x="7504077" y="132943"/>
                      <a:pt x="7545830" y="187222"/>
                      <a:pt x="7577145" y="199748"/>
                    </a:cubicBezTo>
                    <a:cubicBezTo>
                      <a:pt x="7608460" y="212274"/>
                      <a:pt x="7623075" y="212274"/>
                      <a:pt x="7652302" y="199748"/>
                    </a:cubicBezTo>
                    <a:cubicBezTo>
                      <a:pt x="7681529" y="187222"/>
                      <a:pt x="7719107" y="132943"/>
                      <a:pt x="7752510" y="124592"/>
                    </a:cubicBezTo>
                    <a:cubicBezTo>
                      <a:pt x="7785913" y="116241"/>
                      <a:pt x="7815140" y="128767"/>
                      <a:pt x="7852718" y="149644"/>
                    </a:cubicBezTo>
                    <a:cubicBezTo>
                      <a:pt x="7890296" y="170521"/>
                      <a:pt x="7938312" y="233151"/>
                      <a:pt x="7977978" y="249852"/>
                    </a:cubicBezTo>
                    <a:cubicBezTo>
                      <a:pt x="8017644" y="266553"/>
                      <a:pt x="8048959" y="254027"/>
                      <a:pt x="8090713" y="249852"/>
                    </a:cubicBezTo>
                    <a:cubicBezTo>
                      <a:pt x="8132467" y="245677"/>
                      <a:pt x="8195096" y="222712"/>
                      <a:pt x="8228499" y="224800"/>
                    </a:cubicBezTo>
                    <a:cubicBezTo>
                      <a:pt x="8261902" y="226888"/>
                      <a:pt x="8257726" y="260290"/>
                      <a:pt x="8291129" y="262378"/>
                    </a:cubicBezTo>
                    <a:cubicBezTo>
                      <a:pt x="8324532" y="264466"/>
                      <a:pt x="8380899" y="251940"/>
                      <a:pt x="8428915" y="237326"/>
                    </a:cubicBezTo>
                    <a:cubicBezTo>
                      <a:pt x="8476932" y="222712"/>
                      <a:pt x="8541650" y="172608"/>
                      <a:pt x="8579228" y="174696"/>
                    </a:cubicBezTo>
                    <a:cubicBezTo>
                      <a:pt x="8616806" y="176784"/>
                      <a:pt x="8625157" y="235238"/>
                      <a:pt x="8654384" y="249852"/>
                    </a:cubicBezTo>
                    <a:cubicBezTo>
                      <a:pt x="8683611" y="264466"/>
                      <a:pt x="8721189" y="270729"/>
                      <a:pt x="8754592" y="262378"/>
                    </a:cubicBezTo>
                    <a:cubicBezTo>
                      <a:pt x="8787995" y="254027"/>
                      <a:pt x="8825573" y="216449"/>
                      <a:pt x="8854800" y="199748"/>
                    </a:cubicBezTo>
                    <a:cubicBezTo>
                      <a:pt x="8884027" y="183047"/>
                      <a:pt x="8906992" y="157995"/>
                      <a:pt x="8929956" y="162170"/>
                    </a:cubicBezTo>
                    <a:cubicBezTo>
                      <a:pt x="8952920" y="166345"/>
                      <a:pt x="8959184" y="214362"/>
                      <a:pt x="8992587" y="224800"/>
                    </a:cubicBezTo>
                    <a:cubicBezTo>
                      <a:pt x="9025990" y="235238"/>
                      <a:pt x="9090707" y="235238"/>
                      <a:pt x="9130373" y="224800"/>
                    </a:cubicBezTo>
                    <a:cubicBezTo>
                      <a:pt x="9170039" y="214362"/>
                      <a:pt x="9197178" y="172608"/>
                      <a:pt x="9230581" y="162170"/>
                    </a:cubicBezTo>
                    <a:cubicBezTo>
                      <a:pt x="9263984" y="151732"/>
                      <a:pt x="9291123" y="153819"/>
                      <a:pt x="9330789" y="162170"/>
                    </a:cubicBezTo>
                    <a:cubicBezTo>
                      <a:pt x="9370455" y="170521"/>
                      <a:pt x="9433086" y="197660"/>
                      <a:pt x="9468576" y="212274"/>
                    </a:cubicBezTo>
                    <a:cubicBezTo>
                      <a:pt x="9504067" y="226888"/>
                      <a:pt x="9514505" y="258203"/>
                      <a:pt x="9543732" y="249852"/>
                    </a:cubicBezTo>
                    <a:cubicBezTo>
                      <a:pt x="9572959" y="241501"/>
                      <a:pt x="9606362" y="193485"/>
                      <a:pt x="9643940" y="162170"/>
                    </a:cubicBezTo>
                    <a:cubicBezTo>
                      <a:pt x="9681518" y="130855"/>
                      <a:pt x="9729534" y="64050"/>
                      <a:pt x="9769200" y="61962"/>
                    </a:cubicBezTo>
                    <a:cubicBezTo>
                      <a:pt x="9808866" y="59874"/>
                      <a:pt x="9846443" y="141293"/>
                      <a:pt x="9881934" y="149644"/>
                    </a:cubicBezTo>
                    <a:cubicBezTo>
                      <a:pt x="9917425" y="157995"/>
                      <a:pt x="9952916" y="109978"/>
                      <a:pt x="9982143" y="112066"/>
                    </a:cubicBezTo>
                    <a:cubicBezTo>
                      <a:pt x="10011370" y="114154"/>
                      <a:pt x="10019721" y="162170"/>
                      <a:pt x="10057299" y="162170"/>
                    </a:cubicBezTo>
                    <a:cubicBezTo>
                      <a:pt x="10094877" y="162170"/>
                      <a:pt x="10170033" y="105803"/>
                      <a:pt x="10207611" y="112066"/>
                    </a:cubicBezTo>
                    <a:cubicBezTo>
                      <a:pt x="10245189" y="118329"/>
                      <a:pt x="10253540" y="185134"/>
                      <a:pt x="10282767" y="199748"/>
                    </a:cubicBezTo>
                    <a:cubicBezTo>
                      <a:pt x="10311995" y="214362"/>
                      <a:pt x="10347486" y="212274"/>
                      <a:pt x="10382976" y="199748"/>
                    </a:cubicBezTo>
                    <a:cubicBezTo>
                      <a:pt x="10418466" y="187222"/>
                      <a:pt x="10451869" y="135030"/>
                      <a:pt x="10495710" y="124592"/>
                    </a:cubicBezTo>
                    <a:cubicBezTo>
                      <a:pt x="10539551" y="114154"/>
                      <a:pt x="10612619" y="120417"/>
                      <a:pt x="10646022" y="137118"/>
                    </a:cubicBezTo>
                    <a:cubicBezTo>
                      <a:pt x="10679425" y="153819"/>
                      <a:pt x="10696126" y="151732"/>
                      <a:pt x="10696126" y="224800"/>
                    </a:cubicBezTo>
                    <a:cubicBezTo>
                      <a:pt x="10696126" y="297868"/>
                      <a:pt x="10681512" y="245677"/>
                      <a:pt x="10646022" y="575529"/>
                    </a:cubicBezTo>
                    <a:cubicBezTo>
                      <a:pt x="10610532" y="905381"/>
                      <a:pt x="10545814" y="1909550"/>
                      <a:pt x="10483184" y="2203912"/>
                    </a:cubicBezTo>
                    <a:cubicBezTo>
                      <a:pt x="10420554" y="2498274"/>
                      <a:pt x="10320345" y="2318735"/>
                      <a:pt x="10270241" y="2341699"/>
                    </a:cubicBezTo>
                    <a:cubicBezTo>
                      <a:pt x="10220137" y="2364663"/>
                      <a:pt x="10224312" y="2358400"/>
                      <a:pt x="10182559" y="2341699"/>
                    </a:cubicBezTo>
                    <a:cubicBezTo>
                      <a:pt x="10140806" y="2324998"/>
                      <a:pt x="10069825" y="2262367"/>
                      <a:pt x="10019721" y="2241490"/>
                    </a:cubicBezTo>
                    <a:cubicBezTo>
                      <a:pt x="9969617" y="2220613"/>
                      <a:pt x="9934126" y="2233139"/>
                      <a:pt x="9881934" y="2216438"/>
                    </a:cubicBezTo>
                    <a:cubicBezTo>
                      <a:pt x="9829742" y="2199737"/>
                      <a:pt x="9758762" y="2149633"/>
                      <a:pt x="9706570" y="2141282"/>
                    </a:cubicBezTo>
                    <a:cubicBezTo>
                      <a:pt x="9654378" y="2132931"/>
                      <a:pt x="9633502" y="2162159"/>
                      <a:pt x="9568784" y="2166334"/>
                    </a:cubicBezTo>
                    <a:cubicBezTo>
                      <a:pt x="9504066" y="2170509"/>
                      <a:pt x="9318263" y="2166334"/>
                      <a:pt x="9318263" y="2166334"/>
                    </a:cubicBezTo>
                    <a:cubicBezTo>
                      <a:pt x="9232669" y="2166334"/>
                      <a:pt x="9109496" y="2185123"/>
                      <a:pt x="9055217" y="2166334"/>
                    </a:cubicBezTo>
                    <a:cubicBezTo>
                      <a:pt x="9000938" y="2147545"/>
                      <a:pt x="9013464" y="2059863"/>
                      <a:pt x="8992587" y="2053600"/>
                    </a:cubicBezTo>
                    <a:cubicBezTo>
                      <a:pt x="8971710" y="2047337"/>
                      <a:pt x="8948745" y="2109967"/>
                      <a:pt x="8929956" y="2128756"/>
                    </a:cubicBezTo>
                    <a:cubicBezTo>
                      <a:pt x="8911167" y="2147545"/>
                      <a:pt x="8919518" y="2151720"/>
                      <a:pt x="8879852" y="2166334"/>
                    </a:cubicBezTo>
                    <a:cubicBezTo>
                      <a:pt x="8840186" y="2180948"/>
                      <a:pt x="8742066" y="2203912"/>
                      <a:pt x="8691962" y="2216438"/>
                    </a:cubicBezTo>
                    <a:cubicBezTo>
                      <a:pt x="8641858" y="2228964"/>
                      <a:pt x="8620982" y="2231052"/>
                      <a:pt x="8579228" y="2241490"/>
                    </a:cubicBezTo>
                    <a:cubicBezTo>
                      <a:pt x="8537475" y="2251929"/>
                      <a:pt x="8508246" y="2287420"/>
                      <a:pt x="8441441" y="2279069"/>
                    </a:cubicBezTo>
                    <a:cubicBezTo>
                      <a:pt x="8374636" y="2270718"/>
                      <a:pt x="8276515" y="2206000"/>
                      <a:pt x="8178395" y="2191386"/>
                    </a:cubicBezTo>
                    <a:cubicBezTo>
                      <a:pt x="8080275" y="2176772"/>
                      <a:pt x="7965452" y="2203912"/>
                      <a:pt x="7852718" y="2191386"/>
                    </a:cubicBezTo>
                    <a:cubicBezTo>
                      <a:pt x="7739984" y="2178860"/>
                      <a:pt x="7600109" y="2118318"/>
                      <a:pt x="7501989" y="2116230"/>
                    </a:cubicBezTo>
                    <a:cubicBezTo>
                      <a:pt x="7403869" y="2114142"/>
                      <a:pt x="7263995" y="2178860"/>
                      <a:pt x="7263995" y="2178860"/>
                    </a:cubicBezTo>
                    <a:cubicBezTo>
                      <a:pt x="7199277" y="2195561"/>
                      <a:pt x="7163786" y="2224789"/>
                      <a:pt x="7113682" y="2216438"/>
                    </a:cubicBezTo>
                    <a:cubicBezTo>
                      <a:pt x="7063578" y="2208087"/>
                      <a:pt x="7019737" y="2143370"/>
                      <a:pt x="6963370" y="2128756"/>
                    </a:cubicBezTo>
                    <a:cubicBezTo>
                      <a:pt x="6907003" y="2114142"/>
                      <a:pt x="6813058" y="2105792"/>
                      <a:pt x="6775480" y="2128756"/>
                    </a:cubicBezTo>
                    <a:cubicBezTo>
                      <a:pt x="6737902" y="2151720"/>
                      <a:pt x="6748340" y="2228964"/>
                      <a:pt x="6737902" y="2266542"/>
                    </a:cubicBezTo>
                    <a:cubicBezTo>
                      <a:pt x="6727464" y="2304120"/>
                      <a:pt x="6744165" y="2339611"/>
                      <a:pt x="6712850" y="2354225"/>
                    </a:cubicBezTo>
                    <a:cubicBezTo>
                      <a:pt x="6681535" y="2368839"/>
                      <a:pt x="6614729" y="2347962"/>
                      <a:pt x="6550011" y="2354225"/>
                    </a:cubicBezTo>
                    <a:cubicBezTo>
                      <a:pt x="6485293" y="2360488"/>
                      <a:pt x="6389261" y="2375102"/>
                      <a:pt x="6324543" y="2391803"/>
                    </a:cubicBezTo>
                    <a:cubicBezTo>
                      <a:pt x="6259825" y="2408504"/>
                      <a:pt x="6203458" y="2458608"/>
                      <a:pt x="6161704" y="2454433"/>
                    </a:cubicBezTo>
                    <a:cubicBezTo>
                      <a:pt x="6119950" y="2450258"/>
                      <a:pt x="6105337" y="2393891"/>
                      <a:pt x="6074022" y="2366751"/>
                    </a:cubicBezTo>
                    <a:cubicBezTo>
                      <a:pt x="6042707" y="2339611"/>
                      <a:pt x="6023918" y="2304121"/>
                      <a:pt x="5973814" y="2291595"/>
                    </a:cubicBezTo>
                    <a:cubicBezTo>
                      <a:pt x="5923710" y="2279069"/>
                      <a:pt x="5842290" y="2289507"/>
                      <a:pt x="5773397" y="2291595"/>
                    </a:cubicBezTo>
                    <a:cubicBezTo>
                      <a:pt x="5704504" y="2293683"/>
                      <a:pt x="5623085" y="2318735"/>
                      <a:pt x="5560455" y="2304121"/>
                    </a:cubicBezTo>
                    <a:cubicBezTo>
                      <a:pt x="5497825" y="2289507"/>
                      <a:pt x="5462335" y="2226877"/>
                      <a:pt x="5397617" y="2203912"/>
                    </a:cubicBezTo>
                    <a:cubicBezTo>
                      <a:pt x="5332899" y="2180948"/>
                      <a:pt x="5232691" y="2162159"/>
                      <a:pt x="5172148" y="2166334"/>
                    </a:cubicBezTo>
                    <a:cubicBezTo>
                      <a:pt x="5111605" y="2170509"/>
                      <a:pt x="5117869" y="2216438"/>
                      <a:pt x="5034362" y="2228964"/>
                    </a:cubicBezTo>
                    <a:cubicBezTo>
                      <a:pt x="4950855" y="2241490"/>
                      <a:pt x="4729562" y="2266542"/>
                      <a:pt x="4671107" y="2241490"/>
                    </a:cubicBezTo>
                    <a:cubicBezTo>
                      <a:pt x="4612652" y="2216438"/>
                      <a:pt x="4704510" y="2105792"/>
                      <a:pt x="4683633" y="2078652"/>
                    </a:cubicBezTo>
                    <a:cubicBezTo>
                      <a:pt x="4662756" y="2051512"/>
                      <a:pt x="4583425" y="2057775"/>
                      <a:pt x="4545847" y="2078652"/>
                    </a:cubicBezTo>
                    <a:cubicBezTo>
                      <a:pt x="4508269" y="2099529"/>
                      <a:pt x="4499918" y="2170509"/>
                      <a:pt x="4458165" y="2203912"/>
                    </a:cubicBezTo>
                    <a:cubicBezTo>
                      <a:pt x="4416412" y="2237315"/>
                      <a:pt x="4345430" y="2268631"/>
                      <a:pt x="4295326" y="2279069"/>
                    </a:cubicBezTo>
                    <a:cubicBezTo>
                      <a:pt x="4245222" y="2289507"/>
                      <a:pt x="4226433" y="2264454"/>
                      <a:pt x="4157540" y="2266542"/>
                    </a:cubicBezTo>
                    <a:cubicBezTo>
                      <a:pt x="4088647" y="2268630"/>
                      <a:pt x="3955035" y="2281157"/>
                      <a:pt x="3881967" y="2291595"/>
                    </a:cubicBezTo>
                    <a:cubicBezTo>
                      <a:pt x="3808899" y="2302033"/>
                      <a:pt x="3783847" y="2329173"/>
                      <a:pt x="3719129" y="2329173"/>
                    </a:cubicBezTo>
                    <a:cubicBezTo>
                      <a:pt x="3654411" y="2329173"/>
                      <a:pt x="3583430" y="2312472"/>
                      <a:pt x="3493660" y="2291595"/>
                    </a:cubicBezTo>
                    <a:cubicBezTo>
                      <a:pt x="3403890" y="2270718"/>
                      <a:pt x="3243140" y="2216438"/>
                      <a:pt x="3180510" y="2203912"/>
                    </a:cubicBezTo>
                    <a:cubicBezTo>
                      <a:pt x="3117880" y="2191386"/>
                      <a:pt x="3159633" y="2222701"/>
                      <a:pt x="3117880" y="2216438"/>
                    </a:cubicBezTo>
                    <a:cubicBezTo>
                      <a:pt x="3076127" y="2210175"/>
                      <a:pt x="2988444" y="2199737"/>
                      <a:pt x="2929989" y="2166334"/>
                    </a:cubicBezTo>
                    <a:cubicBezTo>
                      <a:pt x="2871534" y="2132931"/>
                      <a:pt x="2825606" y="2026460"/>
                      <a:pt x="2767151" y="2016022"/>
                    </a:cubicBezTo>
                    <a:cubicBezTo>
                      <a:pt x="2708696" y="2005584"/>
                      <a:pt x="2639802" y="2072389"/>
                      <a:pt x="2579260" y="2103704"/>
                    </a:cubicBezTo>
                    <a:cubicBezTo>
                      <a:pt x="2518718" y="2135019"/>
                      <a:pt x="2454000" y="2201824"/>
                      <a:pt x="2403896" y="2203912"/>
                    </a:cubicBezTo>
                    <a:cubicBezTo>
                      <a:pt x="2353792" y="2206000"/>
                      <a:pt x="2335003" y="2122493"/>
                      <a:pt x="2278636" y="2116230"/>
                    </a:cubicBezTo>
                    <a:cubicBezTo>
                      <a:pt x="2222269" y="2109967"/>
                      <a:pt x="2122060" y="2149633"/>
                      <a:pt x="2065693" y="2166334"/>
                    </a:cubicBezTo>
                    <a:cubicBezTo>
                      <a:pt x="2009326" y="2183035"/>
                      <a:pt x="2003063" y="2214350"/>
                      <a:pt x="1940433" y="2216438"/>
                    </a:cubicBezTo>
                    <a:cubicBezTo>
                      <a:pt x="1877803" y="2218526"/>
                      <a:pt x="1758806" y="2178860"/>
                      <a:pt x="1689913" y="2178860"/>
                    </a:cubicBezTo>
                    <a:cubicBezTo>
                      <a:pt x="1621020" y="2178860"/>
                      <a:pt x="1527074" y="2216438"/>
                      <a:pt x="1527074" y="2216438"/>
                    </a:cubicBezTo>
                    <a:cubicBezTo>
                      <a:pt x="1472795" y="2228964"/>
                      <a:pt x="1403902" y="2268630"/>
                      <a:pt x="1364236" y="2254016"/>
                    </a:cubicBezTo>
                    <a:cubicBezTo>
                      <a:pt x="1324570" y="2239402"/>
                      <a:pt x="1320395" y="2132931"/>
                      <a:pt x="1289080" y="2128756"/>
                    </a:cubicBezTo>
                    <a:cubicBezTo>
                      <a:pt x="1257765" y="2124581"/>
                      <a:pt x="1218098" y="2197649"/>
                      <a:pt x="1176345" y="2228964"/>
                    </a:cubicBezTo>
                    <a:cubicBezTo>
                      <a:pt x="1134592" y="2260279"/>
                      <a:pt x="1094926" y="2308296"/>
                      <a:pt x="1038559" y="2316647"/>
                    </a:cubicBezTo>
                    <a:cubicBezTo>
                      <a:pt x="982192" y="2324998"/>
                      <a:pt x="894510" y="2285332"/>
                      <a:pt x="838143" y="2279069"/>
                    </a:cubicBezTo>
                    <a:cubicBezTo>
                      <a:pt x="781776" y="2272806"/>
                      <a:pt x="735847" y="2270718"/>
                      <a:pt x="700356" y="2279069"/>
                    </a:cubicBezTo>
                    <a:cubicBezTo>
                      <a:pt x="664865" y="2287420"/>
                      <a:pt x="666953" y="2335436"/>
                      <a:pt x="625200" y="2329173"/>
                    </a:cubicBezTo>
                    <a:cubicBezTo>
                      <a:pt x="583447" y="2322910"/>
                      <a:pt x="499940" y="2251928"/>
                      <a:pt x="449836" y="2241490"/>
                    </a:cubicBezTo>
                    <a:cubicBezTo>
                      <a:pt x="399732" y="2231052"/>
                      <a:pt x="349628" y="2249841"/>
                      <a:pt x="324576" y="2266542"/>
                    </a:cubicBezTo>
                    <a:cubicBezTo>
                      <a:pt x="299524" y="2283244"/>
                      <a:pt x="312049" y="2339611"/>
                      <a:pt x="299523" y="2341699"/>
                    </a:cubicBezTo>
                    <a:cubicBezTo>
                      <a:pt x="286997" y="2343787"/>
                      <a:pt x="276559" y="2295771"/>
                      <a:pt x="249419" y="2279069"/>
                    </a:cubicBezTo>
                    <a:cubicBezTo>
                      <a:pt x="222279" y="2262368"/>
                      <a:pt x="176351" y="2247753"/>
                      <a:pt x="136685" y="2241490"/>
                    </a:cubicBezTo>
                    <a:cubicBezTo>
                      <a:pt x="97019" y="2235227"/>
                      <a:pt x="32302" y="2256104"/>
                      <a:pt x="11425" y="2241490"/>
                    </a:cubicBezTo>
                    <a:cubicBezTo>
                      <a:pt x="-9452" y="2226876"/>
                      <a:pt x="3074" y="2487835"/>
                      <a:pt x="11425" y="2153808"/>
                    </a:cubicBezTo>
                    <a:cubicBezTo>
                      <a:pt x="19776" y="1819781"/>
                      <a:pt x="76143" y="598493"/>
                      <a:pt x="86581" y="24985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矩形 14"/>
              <p:cNvSpPr/>
              <p:nvPr/>
            </p:nvSpPr>
            <p:spPr>
              <a:xfrm flipH="1">
                <a:off x="-3600" y="166680"/>
                <a:ext cx="5218920" cy="183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图片 10" descr=""/>
            <p:cNvPicPr/>
            <p:nvPr/>
          </p:nvPicPr>
          <p:blipFill>
            <a:blip r:embed="rId5"/>
            <a:stretch/>
          </p:blipFill>
          <p:spPr>
            <a:xfrm flipH="1" rot="279600">
              <a:off x="4184280" y="67680"/>
              <a:ext cx="1596960" cy="2514960"/>
            </a:xfrm>
            <a:prstGeom prst="rect">
              <a:avLst/>
            </a:prstGeom>
            <a:ln w="0">
              <a:noFill/>
            </a:ln>
            <a:effectLst>
              <a:outerShdw dist="88972" dir="2513029" blurRad="0" rotWithShape="0">
                <a:srgbClr val="000000">
                  <a:alpha val="71000"/>
                </a:srgbClr>
              </a:outerShdw>
            </a:effectLst>
          </p:spPr>
        </p:pic>
      </p:grpSp>
      <p:grpSp>
        <p:nvGrpSpPr>
          <p:cNvPr id="77" name="组合 15"/>
          <p:cNvGrpSpPr/>
          <p:nvPr/>
        </p:nvGrpSpPr>
        <p:grpSpPr>
          <a:xfrm>
            <a:off x="119160" y="4304880"/>
            <a:ext cx="12515760" cy="2635920"/>
            <a:chOff x="119160" y="4304880"/>
            <a:chExt cx="12515760" cy="2635920"/>
          </a:xfrm>
        </p:grpSpPr>
        <p:grpSp>
          <p:nvGrpSpPr>
            <p:cNvPr id="78" name="组合 16"/>
            <p:cNvGrpSpPr/>
            <p:nvPr/>
          </p:nvGrpSpPr>
          <p:grpSpPr>
            <a:xfrm>
              <a:off x="119160" y="4948200"/>
              <a:ext cx="12515760" cy="1955520"/>
              <a:chOff x="119160" y="4948200"/>
              <a:chExt cx="12515760" cy="1955520"/>
            </a:xfrm>
          </p:grpSpPr>
          <p:sp>
            <p:nvSpPr>
              <p:cNvPr id="79" name="任意多边形 18"/>
              <p:cNvSpPr/>
              <p:nvPr/>
            </p:nvSpPr>
            <p:spPr>
              <a:xfrm flipH="1" flipV="1">
                <a:off x="267840" y="4964760"/>
                <a:ext cx="12356640" cy="1863720"/>
              </a:xfrm>
              <a:custGeom>
                <a:avLst/>
                <a:gdLst/>
                <a:ahLst/>
                <a:rect l="l" t="t" r="r" b="b"/>
                <a:pathLst>
                  <a:path w="10696126" h="2391826">
                    <a:moveTo>
                      <a:pt x="86581" y="249852"/>
                    </a:moveTo>
                    <a:cubicBezTo>
                      <a:pt x="97019" y="-98789"/>
                      <a:pt x="46915" y="51524"/>
                      <a:pt x="74055" y="61962"/>
                    </a:cubicBezTo>
                    <a:cubicBezTo>
                      <a:pt x="101195" y="72400"/>
                      <a:pt x="197227" y="285342"/>
                      <a:pt x="249419" y="312482"/>
                    </a:cubicBezTo>
                    <a:cubicBezTo>
                      <a:pt x="301611" y="339622"/>
                      <a:pt x="345453" y="239414"/>
                      <a:pt x="387206" y="224800"/>
                    </a:cubicBezTo>
                    <a:cubicBezTo>
                      <a:pt x="428960" y="210186"/>
                      <a:pt x="476976" y="220625"/>
                      <a:pt x="499940" y="224800"/>
                    </a:cubicBezTo>
                    <a:cubicBezTo>
                      <a:pt x="522904" y="228975"/>
                      <a:pt x="504115" y="231063"/>
                      <a:pt x="524992" y="249852"/>
                    </a:cubicBezTo>
                    <a:cubicBezTo>
                      <a:pt x="545869" y="268641"/>
                      <a:pt x="604323" y="331271"/>
                      <a:pt x="625200" y="337534"/>
                    </a:cubicBezTo>
                    <a:cubicBezTo>
                      <a:pt x="646077" y="343797"/>
                      <a:pt x="641901" y="302044"/>
                      <a:pt x="650252" y="287430"/>
                    </a:cubicBezTo>
                    <a:cubicBezTo>
                      <a:pt x="658603" y="272816"/>
                      <a:pt x="660691" y="245677"/>
                      <a:pt x="675304" y="249852"/>
                    </a:cubicBezTo>
                    <a:cubicBezTo>
                      <a:pt x="689917" y="254027"/>
                      <a:pt x="717057" y="304131"/>
                      <a:pt x="737934" y="312482"/>
                    </a:cubicBezTo>
                    <a:cubicBezTo>
                      <a:pt x="758811" y="320833"/>
                      <a:pt x="781776" y="304131"/>
                      <a:pt x="800565" y="299956"/>
                    </a:cubicBezTo>
                    <a:cubicBezTo>
                      <a:pt x="819354" y="295781"/>
                      <a:pt x="827705" y="289518"/>
                      <a:pt x="850669" y="287430"/>
                    </a:cubicBezTo>
                    <a:cubicBezTo>
                      <a:pt x="873633" y="285342"/>
                      <a:pt x="900773" y="279079"/>
                      <a:pt x="938351" y="287430"/>
                    </a:cubicBezTo>
                    <a:cubicBezTo>
                      <a:pt x="975929" y="295781"/>
                      <a:pt x="1034384" y="335446"/>
                      <a:pt x="1076137" y="337534"/>
                    </a:cubicBezTo>
                    <a:cubicBezTo>
                      <a:pt x="1117890" y="339622"/>
                      <a:pt x="1155468" y="310394"/>
                      <a:pt x="1188871" y="299956"/>
                    </a:cubicBezTo>
                    <a:cubicBezTo>
                      <a:pt x="1222274" y="289518"/>
                      <a:pt x="1257765" y="270729"/>
                      <a:pt x="1276554" y="274904"/>
                    </a:cubicBezTo>
                    <a:cubicBezTo>
                      <a:pt x="1295343" y="279079"/>
                      <a:pt x="1272379" y="316657"/>
                      <a:pt x="1301606" y="325008"/>
                    </a:cubicBezTo>
                    <a:cubicBezTo>
                      <a:pt x="1330833" y="333359"/>
                      <a:pt x="1416428" y="329183"/>
                      <a:pt x="1451918" y="325008"/>
                    </a:cubicBezTo>
                    <a:cubicBezTo>
                      <a:pt x="1487408" y="320833"/>
                      <a:pt x="1499934" y="320833"/>
                      <a:pt x="1514548" y="299956"/>
                    </a:cubicBezTo>
                    <a:cubicBezTo>
                      <a:pt x="1529162" y="279079"/>
                      <a:pt x="1518723" y="212274"/>
                      <a:pt x="1539600" y="199748"/>
                    </a:cubicBezTo>
                    <a:cubicBezTo>
                      <a:pt x="1560477" y="187222"/>
                      <a:pt x="1612668" y="220625"/>
                      <a:pt x="1639808" y="224800"/>
                    </a:cubicBezTo>
                    <a:cubicBezTo>
                      <a:pt x="1666948" y="228975"/>
                      <a:pt x="1660686" y="231063"/>
                      <a:pt x="1702439" y="224800"/>
                    </a:cubicBezTo>
                    <a:cubicBezTo>
                      <a:pt x="1744192" y="218537"/>
                      <a:pt x="1844400" y="201836"/>
                      <a:pt x="1890329" y="187222"/>
                    </a:cubicBezTo>
                    <a:cubicBezTo>
                      <a:pt x="1936258" y="172608"/>
                      <a:pt x="1948784" y="130855"/>
                      <a:pt x="1978011" y="137118"/>
                    </a:cubicBezTo>
                    <a:cubicBezTo>
                      <a:pt x="2007238" y="143381"/>
                      <a:pt x="2040641" y="210186"/>
                      <a:pt x="2065693" y="224800"/>
                    </a:cubicBezTo>
                    <a:cubicBezTo>
                      <a:pt x="2090745" y="239414"/>
                      <a:pt x="2128323" y="224800"/>
                      <a:pt x="2128323" y="224800"/>
                    </a:cubicBezTo>
                    <a:cubicBezTo>
                      <a:pt x="2151287" y="224800"/>
                      <a:pt x="2184691" y="216449"/>
                      <a:pt x="2203480" y="224800"/>
                    </a:cubicBezTo>
                    <a:cubicBezTo>
                      <a:pt x="2222269" y="233151"/>
                      <a:pt x="2220181" y="272816"/>
                      <a:pt x="2241058" y="274904"/>
                    </a:cubicBezTo>
                    <a:cubicBezTo>
                      <a:pt x="2261935" y="276992"/>
                      <a:pt x="2295337" y="254027"/>
                      <a:pt x="2328740" y="237326"/>
                    </a:cubicBezTo>
                    <a:cubicBezTo>
                      <a:pt x="2362143" y="220625"/>
                      <a:pt x="2403896" y="180959"/>
                      <a:pt x="2441474" y="174696"/>
                    </a:cubicBezTo>
                    <a:cubicBezTo>
                      <a:pt x="2479052" y="168433"/>
                      <a:pt x="2512455" y="189310"/>
                      <a:pt x="2554208" y="199748"/>
                    </a:cubicBezTo>
                    <a:cubicBezTo>
                      <a:pt x="2595961" y="210186"/>
                      <a:pt x="2643979" y="231063"/>
                      <a:pt x="2691995" y="237326"/>
                    </a:cubicBezTo>
                    <a:cubicBezTo>
                      <a:pt x="2740012" y="243589"/>
                      <a:pt x="2802641" y="245677"/>
                      <a:pt x="2842307" y="237326"/>
                    </a:cubicBezTo>
                    <a:cubicBezTo>
                      <a:pt x="2881973" y="228975"/>
                      <a:pt x="2890323" y="187222"/>
                      <a:pt x="2929989" y="187222"/>
                    </a:cubicBezTo>
                    <a:cubicBezTo>
                      <a:pt x="2969655" y="187222"/>
                      <a:pt x="3044811" y="228975"/>
                      <a:pt x="3080302" y="237326"/>
                    </a:cubicBezTo>
                    <a:cubicBezTo>
                      <a:pt x="3115793" y="245677"/>
                      <a:pt x="3142932" y="237326"/>
                      <a:pt x="3142932" y="237326"/>
                    </a:cubicBezTo>
                    <a:cubicBezTo>
                      <a:pt x="3170072" y="237326"/>
                      <a:pt x="3213913" y="224800"/>
                      <a:pt x="3243140" y="237326"/>
                    </a:cubicBezTo>
                    <a:cubicBezTo>
                      <a:pt x="3272367" y="249852"/>
                      <a:pt x="3286981" y="304131"/>
                      <a:pt x="3318296" y="312482"/>
                    </a:cubicBezTo>
                    <a:cubicBezTo>
                      <a:pt x="3349611" y="320833"/>
                      <a:pt x="3401803" y="304131"/>
                      <a:pt x="3431030" y="287430"/>
                    </a:cubicBezTo>
                    <a:cubicBezTo>
                      <a:pt x="3460257" y="270729"/>
                      <a:pt x="3466520" y="210186"/>
                      <a:pt x="3493660" y="212274"/>
                    </a:cubicBezTo>
                    <a:cubicBezTo>
                      <a:pt x="3520800" y="214362"/>
                      <a:pt x="3568817" y="285342"/>
                      <a:pt x="3593869" y="299956"/>
                    </a:cubicBezTo>
                    <a:cubicBezTo>
                      <a:pt x="3618921" y="314570"/>
                      <a:pt x="3631447" y="306219"/>
                      <a:pt x="3643973" y="299956"/>
                    </a:cubicBezTo>
                    <a:cubicBezTo>
                      <a:pt x="3656499" y="293693"/>
                      <a:pt x="3652324" y="281167"/>
                      <a:pt x="3669025" y="262378"/>
                    </a:cubicBezTo>
                    <a:cubicBezTo>
                      <a:pt x="3685726" y="243589"/>
                      <a:pt x="3727480" y="189310"/>
                      <a:pt x="3744181" y="187222"/>
                    </a:cubicBezTo>
                    <a:cubicBezTo>
                      <a:pt x="3760882" y="185134"/>
                      <a:pt x="3746269" y="233151"/>
                      <a:pt x="3769233" y="249852"/>
                    </a:cubicBezTo>
                    <a:cubicBezTo>
                      <a:pt x="3792197" y="266553"/>
                      <a:pt x="3844389" y="281167"/>
                      <a:pt x="3881967" y="287430"/>
                    </a:cubicBezTo>
                    <a:cubicBezTo>
                      <a:pt x="3919545" y="293693"/>
                      <a:pt x="3969650" y="291605"/>
                      <a:pt x="3994702" y="287430"/>
                    </a:cubicBezTo>
                    <a:cubicBezTo>
                      <a:pt x="4019754" y="283255"/>
                      <a:pt x="4007228" y="254027"/>
                      <a:pt x="4032280" y="262378"/>
                    </a:cubicBezTo>
                    <a:cubicBezTo>
                      <a:pt x="4057332" y="270729"/>
                      <a:pt x="4115787" y="331271"/>
                      <a:pt x="4145014" y="337534"/>
                    </a:cubicBezTo>
                    <a:cubicBezTo>
                      <a:pt x="4174241" y="343797"/>
                      <a:pt x="4184680" y="320833"/>
                      <a:pt x="4207644" y="299956"/>
                    </a:cubicBezTo>
                    <a:cubicBezTo>
                      <a:pt x="4230608" y="279079"/>
                      <a:pt x="4255660" y="216449"/>
                      <a:pt x="4282800" y="212274"/>
                    </a:cubicBezTo>
                    <a:cubicBezTo>
                      <a:pt x="4309940" y="208099"/>
                      <a:pt x="4334992" y="270729"/>
                      <a:pt x="4370482" y="274904"/>
                    </a:cubicBezTo>
                    <a:cubicBezTo>
                      <a:pt x="4405972" y="279079"/>
                      <a:pt x="4464428" y="251940"/>
                      <a:pt x="4495743" y="237326"/>
                    </a:cubicBezTo>
                    <a:cubicBezTo>
                      <a:pt x="4527058" y="222712"/>
                      <a:pt x="4535409" y="178871"/>
                      <a:pt x="4558373" y="187222"/>
                    </a:cubicBezTo>
                    <a:cubicBezTo>
                      <a:pt x="4581337" y="195573"/>
                      <a:pt x="4612652" y="272816"/>
                      <a:pt x="4633529" y="287430"/>
                    </a:cubicBezTo>
                    <a:cubicBezTo>
                      <a:pt x="4654406" y="302044"/>
                      <a:pt x="4660669" y="293693"/>
                      <a:pt x="4683633" y="274904"/>
                    </a:cubicBezTo>
                    <a:cubicBezTo>
                      <a:pt x="4706597" y="256115"/>
                      <a:pt x="4740000" y="183047"/>
                      <a:pt x="4771315" y="174696"/>
                    </a:cubicBezTo>
                    <a:cubicBezTo>
                      <a:pt x="4802630" y="166345"/>
                      <a:pt x="4844383" y="216449"/>
                      <a:pt x="4871523" y="224800"/>
                    </a:cubicBezTo>
                    <a:cubicBezTo>
                      <a:pt x="4898663" y="233151"/>
                      <a:pt x="4907014" y="233151"/>
                      <a:pt x="4934154" y="224800"/>
                    </a:cubicBezTo>
                    <a:cubicBezTo>
                      <a:pt x="4961294" y="216449"/>
                      <a:pt x="4982170" y="197660"/>
                      <a:pt x="5034362" y="174696"/>
                    </a:cubicBezTo>
                    <a:cubicBezTo>
                      <a:pt x="5086554" y="151732"/>
                      <a:pt x="5201375" y="114154"/>
                      <a:pt x="5247304" y="87014"/>
                    </a:cubicBezTo>
                    <a:cubicBezTo>
                      <a:pt x="5293233" y="59874"/>
                      <a:pt x="5291145" y="24384"/>
                      <a:pt x="5309934" y="11858"/>
                    </a:cubicBezTo>
                    <a:cubicBezTo>
                      <a:pt x="5328723" y="-668"/>
                      <a:pt x="5328724" y="-6931"/>
                      <a:pt x="5360039" y="11858"/>
                    </a:cubicBezTo>
                    <a:cubicBezTo>
                      <a:pt x="5391354" y="30647"/>
                      <a:pt x="5460247" y="107891"/>
                      <a:pt x="5497825" y="124592"/>
                    </a:cubicBezTo>
                    <a:cubicBezTo>
                      <a:pt x="5535403" y="141293"/>
                      <a:pt x="5558367" y="124592"/>
                      <a:pt x="5585507" y="112066"/>
                    </a:cubicBezTo>
                    <a:cubicBezTo>
                      <a:pt x="5612647" y="99540"/>
                      <a:pt x="5631436" y="49436"/>
                      <a:pt x="5660663" y="49436"/>
                    </a:cubicBezTo>
                    <a:cubicBezTo>
                      <a:pt x="5689890" y="49436"/>
                      <a:pt x="5725381" y="93277"/>
                      <a:pt x="5760871" y="112066"/>
                    </a:cubicBezTo>
                    <a:cubicBezTo>
                      <a:pt x="5796361" y="130855"/>
                      <a:pt x="5838115" y="153819"/>
                      <a:pt x="5873606" y="162170"/>
                    </a:cubicBezTo>
                    <a:cubicBezTo>
                      <a:pt x="5909097" y="170521"/>
                      <a:pt x="5930851" y="169019"/>
                      <a:pt x="5973814" y="162170"/>
                    </a:cubicBezTo>
                    <a:cubicBezTo>
                      <a:pt x="6016777" y="155321"/>
                      <a:pt x="6079195" y="114811"/>
                      <a:pt x="6131387" y="121074"/>
                    </a:cubicBezTo>
                    <a:cubicBezTo>
                      <a:pt x="6183579" y="127337"/>
                      <a:pt x="6246422" y="197074"/>
                      <a:pt x="6286965" y="199748"/>
                    </a:cubicBezTo>
                    <a:cubicBezTo>
                      <a:pt x="6327508" y="202422"/>
                      <a:pt x="6341244" y="147556"/>
                      <a:pt x="6374647" y="137118"/>
                    </a:cubicBezTo>
                    <a:cubicBezTo>
                      <a:pt x="6408050" y="126680"/>
                      <a:pt x="6449803" y="128767"/>
                      <a:pt x="6487381" y="137118"/>
                    </a:cubicBezTo>
                    <a:cubicBezTo>
                      <a:pt x="6524959" y="145469"/>
                      <a:pt x="6568800" y="174696"/>
                      <a:pt x="6600115" y="187222"/>
                    </a:cubicBezTo>
                    <a:cubicBezTo>
                      <a:pt x="6631430" y="199748"/>
                      <a:pt x="6650219" y="218537"/>
                      <a:pt x="6675271" y="212274"/>
                    </a:cubicBezTo>
                    <a:cubicBezTo>
                      <a:pt x="6700323" y="206011"/>
                      <a:pt x="6725376" y="166345"/>
                      <a:pt x="6750428" y="149644"/>
                    </a:cubicBezTo>
                    <a:cubicBezTo>
                      <a:pt x="6775480" y="132943"/>
                      <a:pt x="6781743" y="122504"/>
                      <a:pt x="6825584" y="112066"/>
                    </a:cubicBezTo>
                    <a:cubicBezTo>
                      <a:pt x="6869425" y="101628"/>
                      <a:pt x="6961282" y="76576"/>
                      <a:pt x="7013474" y="87014"/>
                    </a:cubicBezTo>
                    <a:cubicBezTo>
                      <a:pt x="7065666" y="97452"/>
                      <a:pt x="7099068" y="160082"/>
                      <a:pt x="7138734" y="174696"/>
                    </a:cubicBezTo>
                    <a:cubicBezTo>
                      <a:pt x="7178400" y="189310"/>
                      <a:pt x="7218066" y="178871"/>
                      <a:pt x="7251469" y="174696"/>
                    </a:cubicBezTo>
                    <a:cubicBezTo>
                      <a:pt x="7284872" y="170521"/>
                      <a:pt x="7303661" y="157995"/>
                      <a:pt x="7339151" y="149644"/>
                    </a:cubicBezTo>
                    <a:cubicBezTo>
                      <a:pt x="7374641" y="141293"/>
                      <a:pt x="7424745" y="116241"/>
                      <a:pt x="7464411" y="124592"/>
                    </a:cubicBezTo>
                    <a:cubicBezTo>
                      <a:pt x="7504077" y="132943"/>
                      <a:pt x="7545830" y="187222"/>
                      <a:pt x="7577145" y="199748"/>
                    </a:cubicBezTo>
                    <a:cubicBezTo>
                      <a:pt x="7608460" y="212274"/>
                      <a:pt x="7623075" y="212274"/>
                      <a:pt x="7652302" y="199748"/>
                    </a:cubicBezTo>
                    <a:cubicBezTo>
                      <a:pt x="7681529" y="187222"/>
                      <a:pt x="7719107" y="132943"/>
                      <a:pt x="7752510" y="124592"/>
                    </a:cubicBezTo>
                    <a:cubicBezTo>
                      <a:pt x="7785913" y="116241"/>
                      <a:pt x="7815140" y="128767"/>
                      <a:pt x="7852718" y="149644"/>
                    </a:cubicBezTo>
                    <a:cubicBezTo>
                      <a:pt x="7890296" y="170521"/>
                      <a:pt x="7938312" y="233151"/>
                      <a:pt x="7977978" y="249852"/>
                    </a:cubicBezTo>
                    <a:cubicBezTo>
                      <a:pt x="8017644" y="266553"/>
                      <a:pt x="8048959" y="254027"/>
                      <a:pt x="8090713" y="249852"/>
                    </a:cubicBezTo>
                    <a:cubicBezTo>
                      <a:pt x="8132467" y="245677"/>
                      <a:pt x="8195096" y="222712"/>
                      <a:pt x="8228499" y="224800"/>
                    </a:cubicBezTo>
                    <a:cubicBezTo>
                      <a:pt x="8261902" y="226888"/>
                      <a:pt x="8257726" y="260290"/>
                      <a:pt x="8291129" y="262378"/>
                    </a:cubicBezTo>
                    <a:cubicBezTo>
                      <a:pt x="8324532" y="264466"/>
                      <a:pt x="8380899" y="251940"/>
                      <a:pt x="8428915" y="237326"/>
                    </a:cubicBezTo>
                    <a:cubicBezTo>
                      <a:pt x="8476932" y="222712"/>
                      <a:pt x="8541650" y="172608"/>
                      <a:pt x="8579228" y="174696"/>
                    </a:cubicBezTo>
                    <a:cubicBezTo>
                      <a:pt x="8616806" y="176784"/>
                      <a:pt x="8625157" y="235238"/>
                      <a:pt x="8654384" y="249852"/>
                    </a:cubicBezTo>
                    <a:cubicBezTo>
                      <a:pt x="8683611" y="264466"/>
                      <a:pt x="8721189" y="270729"/>
                      <a:pt x="8754592" y="262378"/>
                    </a:cubicBezTo>
                    <a:cubicBezTo>
                      <a:pt x="8787995" y="254027"/>
                      <a:pt x="8825573" y="216449"/>
                      <a:pt x="8854800" y="199748"/>
                    </a:cubicBezTo>
                    <a:cubicBezTo>
                      <a:pt x="8884027" y="183047"/>
                      <a:pt x="8906992" y="157995"/>
                      <a:pt x="8929956" y="162170"/>
                    </a:cubicBezTo>
                    <a:cubicBezTo>
                      <a:pt x="8952920" y="166345"/>
                      <a:pt x="8959184" y="214362"/>
                      <a:pt x="8992587" y="224800"/>
                    </a:cubicBezTo>
                    <a:cubicBezTo>
                      <a:pt x="9025990" y="235238"/>
                      <a:pt x="9090707" y="235238"/>
                      <a:pt x="9130373" y="224800"/>
                    </a:cubicBezTo>
                    <a:cubicBezTo>
                      <a:pt x="9170039" y="214362"/>
                      <a:pt x="9197178" y="172608"/>
                      <a:pt x="9230581" y="162170"/>
                    </a:cubicBezTo>
                    <a:cubicBezTo>
                      <a:pt x="9263984" y="151732"/>
                      <a:pt x="9291123" y="153819"/>
                      <a:pt x="9330789" y="162170"/>
                    </a:cubicBezTo>
                    <a:cubicBezTo>
                      <a:pt x="9370455" y="170521"/>
                      <a:pt x="9433086" y="197660"/>
                      <a:pt x="9468576" y="212274"/>
                    </a:cubicBezTo>
                    <a:cubicBezTo>
                      <a:pt x="9504067" y="226888"/>
                      <a:pt x="9514505" y="258203"/>
                      <a:pt x="9543732" y="249852"/>
                    </a:cubicBezTo>
                    <a:cubicBezTo>
                      <a:pt x="9572959" y="241501"/>
                      <a:pt x="9606362" y="193485"/>
                      <a:pt x="9643940" y="162170"/>
                    </a:cubicBezTo>
                    <a:cubicBezTo>
                      <a:pt x="9681518" y="130855"/>
                      <a:pt x="9729534" y="64050"/>
                      <a:pt x="9769200" y="61962"/>
                    </a:cubicBezTo>
                    <a:cubicBezTo>
                      <a:pt x="9808866" y="59874"/>
                      <a:pt x="9846443" y="141293"/>
                      <a:pt x="9881934" y="149644"/>
                    </a:cubicBezTo>
                    <a:cubicBezTo>
                      <a:pt x="9917425" y="157995"/>
                      <a:pt x="9952916" y="109978"/>
                      <a:pt x="9982143" y="112066"/>
                    </a:cubicBezTo>
                    <a:cubicBezTo>
                      <a:pt x="10011370" y="114154"/>
                      <a:pt x="10019721" y="162170"/>
                      <a:pt x="10057299" y="162170"/>
                    </a:cubicBezTo>
                    <a:cubicBezTo>
                      <a:pt x="10094877" y="162170"/>
                      <a:pt x="10170033" y="105803"/>
                      <a:pt x="10207611" y="112066"/>
                    </a:cubicBezTo>
                    <a:cubicBezTo>
                      <a:pt x="10245189" y="118329"/>
                      <a:pt x="10253540" y="185134"/>
                      <a:pt x="10282767" y="199748"/>
                    </a:cubicBezTo>
                    <a:cubicBezTo>
                      <a:pt x="10311995" y="214362"/>
                      <a:pt x="10347486" y="212274"/>
                      <a:pt x="10382976" y="199748"/>
                    </a:cubicBezTo>
                    <a:cubicBezTo>
                      <a:pt x="10418466" y="187222"/>
                      <a:pt x="10451869" y="135030"/>
                      <a:pt x="10495710" y="124592"/>
                    </a:cubicBezTo>
                    <a:cubicBezTo>
                      <a:pt x="10539551" y="114154"/>
                      <a:pt x="10612619" y="120417"/>
                      <a:pt x="10646022" y="137118"/>
                    </a:cubicBezTo>
                    <a:cubicBezTo>
                      <a:pt x="10679425" y="153819"/>
                      <a:pt x="10696126" y="151732"/>
                      <a:pt x="10696126" y="224800"/>
                    </a:cubicBezTo>
                    <a:cubicBezTo>
                      <a:pt x="10696126" y="297868"/>
                      <a:pt x="10681512" y="245677"/>
                      <a:pt x="10646022" y="575529"/>
                    </a:cubicBezTo>
                    <a:cubicBezTo>
                      <a:pt x="10610532" y="905381"/>
                      <a:pt x="10545814" y="1909550"/>
                      <a:pt x="10483184" y="2203912"/>
                    </a:cubicBezTo>
                    <a:cubicBezTo>
                      <a:pt x="10420554" y="2498274"/>
                      <a:pt x="10320345" y="2318735"/>
                      <a:pt x="10270241" y="2341699"/>
                    </a:cubicBezTo>
                    <a:cubicBezTo>
                      <a:pt x="10220137" y="2364663"/>
                      <a:pt x="10224312" y="2358400"/>
                      <a:pt x="10182559" y="2341699"/>
                    </a:cubicBezTo>
                    <a:cubicBezTo>
                      <a:pt x="10140806" y="2324998"/>
                      <a:pt x="10069825" y="2262367"/>
                      <a:pt x="10019721" y="2241490"/>
                    </a:cubicBezTo>
                    <a:cubicBezTo>
                      <a:pt x="9969617" y="2220613"/>
                      <a:pt x="9934126" y="2233139"/>
                      <a:pt x="9881934" y="2216438"/>
                    </a:cubicBezTo>
                    <a:cubicBezTo>
                      <a:pt x="9829742" y="2199737"/>
                      <a:pt x="9758762" y="2149633"/>
                      <a:pt x="9706570" y="2141282"/>
                    </a:cubicBezTo>
                    <a:cubicBezTo>
                      <a:pt x="9654378" y="2132931"/>
                      <a:pt x="9633502" y="2162159"/>
                      <a:pt x="9568784" y="2166334"/>
                    </a:cubicBezTo>
                    <a:cubicBezTo>
                      <a:pt x="9504066" y="2170509"/>
                      <a:pt x="9318263" y="2166334"/>
                      <a:pt x="9318263" y="2166334"/>
                    </a:cubicBezTo>
                    <a:cubicBezTo>
                      <a:pt x="9232669" y="2166334"/>
                      <a:pt x="9109496" y="2185123"/>
                      <a:pt x="9055217" y="2166334"/>
                    </a:cubicBezTo>
                    <a:cubicBezTo>
                      <a:pt x="9000938" y="2147545"/>
                      <a:pt x="9013464" y="2059863"/>
                      <a:pt x="8992587" y="2053600"/>
                    </a:cubicBezTo>
                    <a:cubicBezTo>
                      <a:pt x="8971710" y="2047337"/>
                      <a:pt x="8948745" y="2109967"/>
                      <a:pt x="8929956" y="2128756"/>
                    </a:cubicBezTo>
                    <a:cubicBezTo>
                      <a:pt x="8911167" y="2147545"/>
                      <a:pt x="8919518" y="2151720"/>
                      <a:pt x="8879852" y="2166334"/>
                    </a:cubicBezTo>
                    <a:cubicBezTo>
                      <a:pt x="8840186" y="2180948"/>
                      <a:pt x="8742066" y="2203912"/>
                      <a:pt x="8691962" y="2216438"/>
                    </a:cubicBezTo>
                    <a:cubicBezTo>
                      <a:pt x="8641858" y="2228964"/>
                      <a:pt x="8620982" y="2231052"/>
                      <a:pt x="8579228" y="2241490"/>
                    </a:cubicBezTo>
                    <a:cubicBezTo>
                      <a:pt x="8537475" y="2251929"/>
                      <a:pt x="8508246" y="2287420"/>
                      <a:pt x="8441441" y="2279069"/>
                    </a:cubicBezTo>
                    <a:cubicBezTo>
                      <a:pt x="8374636" y="2270718"/>
                      <a:pt x="8276515" y="2206000"/>
                      <a:pt x="8178395" y="2191386"/>
                    </a:cubicBezTo>
                    <a:cubicBezTo>
                      <a:pt x="8080275" y="2176772"/>
                      <a:pt x="7965452" y="2203912"/>
                      <a:pt x="7852718" y="2191386"/>
                    </a:cubicBezTo>
                    <a:cubicBezTo>
                      <a:pt x="7739984" y="2178860"/>
                      <a:pt x="7600109" y="2118318"/>
                      <a:pt x="7501989" y="2116230"/>
                    </a:cubicBezTo>
                    <a:cubicBezTo>
                      <a:pt x="7403869" y="2114142"/>
                      <a:pt x="7263995" y="2178860"/>
                      <a:pt x="7263995" y="2178860"/>
                    </a:cubicBezTo>
                    <a:cubicBezTo>
                      <a:pt x="7199277" y="2195561"/>
                      <a:pt x="7163786" y="2224789"/>
                      <a:pt x="7113682" y="2216438"/>
                    </a:cubicBezTo>
                    <a:cubicBezTo>
                      <a:pt x="7063578" y="2208087"/>
                      <a:pt x="7019737" y="2143370"/>
                      <a:pt x="6963370" y="2128756"/>
                    </a:cubicBezTo>
                    <a:cubicBezTo>
                      <a:pt x="6907003" y="2114142"/>
                      <a:pt x="6813058" y="2105792"/>
                      <a:pt x="6775480" y="2128756"/>
                    </a:cubicBezTo>
                    <a:cubicBezTo>
                      <a:pt x="6737902" y="2151720"/>
                      <a:pt x="6748340" y="2228964"/>
                      <a:pt x="6737902" y="2266542"/>
                    </a:cubicBezTo>
                    <a:cubicBezTo>
                      <a:pt x="6727464" y="2304120"/>
                      <a:pt x="6744165" y="2339611"/>
                      <a:pt x="6712850" y="2354225"/>
                    </a:cubicBezTo>
                    <a:cubicBezTo>
                      <a:pt x="6681535" y="2368839"/>
                      <a:pt x="6614729" y="2347962"/>
                      <a:pt x="6550011" y="2354225"/>
                    </a:cubicBezTo>
                    <a:cubicBezTo>
                      <a:pt x="6485293" y="2360488"/>
                      <a:pt x="6372880" y="2390970"/>
                      <a:pt x="6324543" y="2391803"/>
                    </a:cubicBezTo>
                    <a:cubicBezTo>
                      <a:pt x="6276206" y="2392636"/>
                      <a:pt x="6289459" y="2370721"/>
                      <a:pt x="6259991" y="2359222"/>
                    </a:cubicBezTo>
                    <a:cubicBezTo>
                      <a:pt x="6230523" y="2347723"/>
                      <a:pt x="6187243" y="2337741"/>
                      <a:pt x="6147737" y="2322808"/>
                    </a:cubicBezTo>
                    <a:cubicBezTo>
                      <a:pt x="6108231" y="2307875"/>
                      <a:pt x="6085347" y="2274826"/>
                      <a:pt x="6022957" y="2269624"/>
                    </a:cubicBezTo>
                    <a:lnTo>
                      <a:pt x="5773397" y="2291595"/>
                    </a:lnTo>
                    <a:cubicBezTo>
                      <a:pt x="5696313" y="2297345"/>
                      <a:pt x="5623085" y="2318735"/>
                      <a:pt x="5560455" y="2304121"/>
                    </a:cubicBezTo>
                    <a:cubicBezTo>
                      <a:pt x="5497825" y="2289507"/>
                      <a:pt x="5462335" y="2226877"/>
                      <a:pt x="5397617" y="2203912"/>
                    </a:cubicBezTo>
                    <a:cubicBezTo>
                      <a:pt x="5332899" y="2180948"/>
                      <a:pt x="5232691" y="2162159"/>
                      <a:pt x="5172148" y="2166334"/>
                    </a:cubicBezTo>
                    <a:cubicBezTo>
                      <a:pt x="5111605" y="2170509"/>
                      <a:pt x="5117869" y="2216438"/>
                      <a:pt x="5034362" y="2228964"/>
                    </a:cubicBezTo>
                    <a:cubicBezTo>
                      <a:pt x="4950855" y="2241490"/>
                      <a:pt x="4729562" y="2266542"/>
                      <a:pt x="4671107" y="2241490"/>
                    </a:cubicBezTo>
                    <a:cubicBezTo>
                      <a:pt x="4612652" y="2216438"/>
                      <a:pt x="4704510" y="2105792"/>
                      <a:pt x="4683633" y="2078652"/>
                    </a:cubicBezTo>
                    <a:cubicBezTo>
                      <a:pt x="4662756" y="2051512"/>
                      <a:pt x="4583425" y="2057775"/>
                      <a:pt x="4545847" y="2078652"/>
                    </a:cubicBezTo>
                    <a:cubicBezTo>
                      <a:pt x="4508269" y="2099529"/>
                      <a:pt x="4499918" y="2170509"/>
                      <a:pt x="4458165" y="2203912"/>
                    </a:cubicBezTo>
                    <a:cubicBezTo>
                      <a:pt x="4416412" y="2237315"/>
                      <a:pt x="4345430" y="2268631"/>
                      <a:pt x="4295326" y="2279069"/>
                    </a:cubicBezTo>
                    <a:cubicBezTo>
                      <a:pt x="4245222" y="2289507"/>
                      <a:pt x="4226433" y="2264454"/>
                      <a:pt x="4157540" y="2266542"/>
                    </a:cubicBezTo>
                    <a:cubicBezTo>
                      <a:pt x="4088647" y="2268630"/>
                      <a:pt x="3955035" y="2281157"/>
                      <a:pt x="3881967" y="2291595"/>
                    </a:cubicBezTo>
                    <a:cubicBezTo>
                      <a:pt x="3808899" y="2302033"/>
                      <a:pt x="3783847" y="2329173"/>
                      <a:pt x="3719129" y="2329173"/>
                    </a:cubicBezTo>
                    <a:cubicBezTo>
                      <a:pt x="3654411" y="2329173"/>
                      <a:pt x="3583430" y="2312472"/>
                      <a:pt x="3493660" y="2291595"/>
                    </a:cubicBezTo>
                    <a:cubicBezTo>
                      <a:pt x="3403890" y="2270718"/>
                      <a:pt x="3243140" y="2216438"/>
                      <a:pt x="3180510" y="2203912"/>
                    </a:cubicBezTo>
                    <a:cubicBezTo>
                      <a:pt x="3117880" y="2191386"/>
                      <a:pt x="3159633" y="2222701"/>
                      <a:pt x="3117880" y="2216438"/>
                    </a:cubicBezTo>
                    <a:cubicBezTo>
                      <a:pt x="3076127" y="2210175"/>
                      <a:pt x="2988444" y="2199737"/>
                      <a:pt x="2929989" y="2166334"/>
                    </a:cubicBezTo>
                    <a:cubicBezTo>
                      <a:pt x="2871534" y="2132931"/>
                      <a:pt x="2825606" y="2026460"/>
                      <a:pt x="2767151" y="2016022"/>
                    </a:cubicBezTo>
                    <a:cubicBezTo>
                      <a:pt x="2708696" y="2005584"/>
                      <a:pt x="2639802" y="2072389"/>
                      <a:pt x="2579260" y="2103704"/>
                    </a:cubicBezTo>
                    <a:cubicBezTo>
                      <a:pt x="2518718" y="2135019"/>
                      <a:pt x="2454000" y="2201824"/>
                      <a:pt x="2403896" y="2203912"/>
                    </a:cubicBezTo>
                    <a:cubicBezTo>
                      <a:pt x="2353792" y="2206000"/>
                      <a:pt x="2335003" y="2122493"/>
                      <a:pt x="2278636" y="2116230"/>
                    </a:cubicBezTo>
                    <a:cubicBezTo>
                      <a:pt x="2222269" y="2109967"/>
                      <a:pt x="2122060" y="2149633"/>
                      <a:pt x="2065693" y="2166334"/>
                    </a:cubicBezTo>
                    <a:cubicBezTo>
                      <a:pt x="2009326" y="2183035"/>
                      <a:pt x="2003063" y="2214350"/>
                      <a:pt x="1940433" y="2216438"/>
                    </a:cubicBezTo>
                    <a:cubicBezTo>
                      <a:pt x="1877803" y="2218526"/>
                      <a:pt x="1758806" y="2178860"/>
                      <a:pt x="1689913" y="2178860"/>
                    </a:cubicBezTo>
                    <a:cubicBezTo>
                      <a:pt x="1621020" y="2178860"/>
                      <a:pt x="1527074" y="2216438"/>
                      <a:pt x="1527074" y="2216438"/>
                    </a:cubicBezTo>
                    <a:cubicBezTo>
                      <a:pt x="1472795" y="2228964"/>
                      <a:pt x="1403902" y="2268630"/>
                      <a:pt x="1364236" y="2254016"/>
                    </a:cubicBezTo>
                    <a:cubicBezTo>
                      <a:pt x="1324570" y="2239402"/>
                      <a:pt x="1320395" y="2132931"/>
                      <a:pt x="1289080" y="2128756"/>
                    </a:cubicBezTo>
                    <a:cubicBezTo>
                      <a:pt x="1257765" y="2124581"/>
                      <a:pt x="1218098" y="2197649"/>
                      <a:pt x="1176345" y="2228964"/>
                    </a:cubicBezTo>
                    <a:cubicBezTo>
                      <a:pt x="1134592" y="2260279"/>
                      <a:pt x="1094926" y="2308296"/>
                      <a:pt x="1038559" y="2316647"/>
                    </a:cubicBezTo>
                    <a:cubicBezTo>
                      <a:pt x="982192" y="2324998"/>
                      <a:pt x="894510" y="2285332"/>
                      <a:pt x="838143" y="2279069"/>
                    </a:cubicBezTo>
                    <a:cubicBezTo>
                      <a:pt x="781776" y="2272806"/>
                      <a:pt x="735847" y="2270718"/>
                      <a:pt x="700356" y="2279069"/>
                    </a:cubicBezTo>
                    <a:cubicBezTo>
                      <a:pt x="664865" y="2287420"/>
                      <a:pt x="666953" y="2335436"/>
                      <a:pt x="625200" y="2329173"/>
                    </a:cubicBezTo>
                    <a:cubicBezTo>
                      <a:pt x="583447" y="2322910"/>
                      <a:pt x="499940" y="2251928"/>
                      <a:pt x="449836" y="2241490"/>
                    </a:cubicBezTo>
                    <a:cubicBezTo>
                      <a:pt x="399732" y="2231052"/>
                      <a:pt x="349628" y="2249841"/>
                      <a:pt x="324576" y="2266542"/>
                    </a:cubicBezTo>
                    <a:cubicBezTo>
                      <a:pt x="299524" y="2283244"/>
                      <a:pt x="312049" y="2339611"/>
                      <a:pt x="299523" y="2341699"/>
                    </a:cubicBezTo>
                    <a:cubicBezTo>
                      <a:pt x="286997" y="2343787"/>
                      <a:pt x="276559" y="2295771"/>
                      <a:pt x="249419" y="2279069"/>
                    </a:cubicBezTo>
                    <a:cubicBezTo>
                      <a:pt x="222279" y="2262368"/>
                      <a:pt x="176351" y="2247753"/>
                      <a:pt x="136685" y="2241490"/>
                    </a:cubicBezTo>
                    <a:cubicBezTo>
                      <a:pt x="97019" y="2235227"/>
                      <a:pt x="32302" y="2256104"/>
                      <a:pt x="11425" y="2241490"/>
                    </a:cubicBezTo>
                    <a:cubicBezTo>
                      <a:pt x="-9452" y="2226876"/>
                      <a:pt x="3074" y="2487835"/>
                      <a:pt x="11425" y="2153808"/>
                    </a:cubicBezTo>
                    <a:cubicBezTo>
                      <a:pt x="19776" y="1819781"/>
                      <a:pt x="76143" y="598493"/>
                      <a:pt x="86581" y="2498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任意多边形 19"/>
              <p:cNvSpPr/>
              <p:nvPr/>
            </p:nvSpPr>
            <p:spPr>
              <a:xfrm flipH="1" flipV="1">
                <a:off x="277920" y="4987800"/>
                <a:ext cx="12356640" cy="1786320"/>
              </a:xfrm>
              <a:custGeom>
                <a:avLst/>
                <a:gdLst/>
                <a:ahLst/>
                <a:rect l="l" t="t" r="r" b="b"/>
                <a:pathLst>
                  <a:path w="10696126" h="2391818">
                    <a:moveTo>
                      <a:pt x="86581" y="249852"/>
                    </a:moveTo>
                    <a:cubicBezTo>
                      <a:pt x="97019" y="-98789"/>
                      <a:pt x="46915" y="51524"/>
                      <a:pt x="74055" y="61962"/>
                    </a:cubicBezTo>
                    <a:cubicBezTo>
                      <a:pt x="101195" y="72400"/>
                      <a:pt x="197227" y="285342"/>
                      <a:pt x="249419" y="312482"/>
                    </a:cubicBezTo>
                    <a:cubicBezTo>
                      <a:pt x="301611" y="339622"/>
                      <a:pt x="345453" y="239414"/>
                      <a:pt x="387206" y="224800"/>
                    </a:cubicBezTo>
                    <a:cubicBezTo>
                      <a:pt x="428960" y="210186"/>
                      <a:pt x="476976" y="220625"/>
                      <a:pt x="499940" y="224800"/>
                    </a:cubicBezTo>
                    <a:cubicBezTo>
                      <a:pt x="522904" y="228975"/>
                      <a:pt x="504115" y="231063"/>
                      <a:pt x="524992" y="249852"/>
                    </a:cubicBezTo>
                    <a:cubicBezTo>
                      <a:pt x="545869" y="268641"/>
                      <a:pt x="604323" y="331271"/>
                      <a:pt x="625200" y="337534"/>
                    </a:cubicBezTo>
                    <a:cubicBezTo>
                      <a:pt x="646077" y="343797"/>
                      <a:pt x="641901" y="302044"/>
                      <a:pt x="650252" y="287430"/>
                    </a:cubicBezTo>
                    <a:cubicBezTo>
                      <a:pt x="658603" y="272816"/>
                      <a:pt x="660691" y="245677"/>
                      <a:pt x="675304" y="249852"/>
                    </a:cubicBezTo>
                    <a:cubicBezTo>
                      <a:pt x="689917" y="254027"/>
                      <a:pt x="717057" y="304131"/>
                      <a:pt x="737934" y="312482"/>
                    </a:cubicBezTo>
                    <a:cubicBezTo>
                      <a:pt x="758811" y="320833"/>
                      <a:pt x="781776" y="304131"/>
                      <a:pt x="800565" y="299956"/>
                    </a:cubicBezTo>
                    <a:cubicBezTo>
                      <a:pt x="819354" y="295781"/>
                      <a:pt x="827705" y="289518"/>
                      <a:pt x="850669" y="287430"/>
                    </a:cubicBezTo>
                    <a:cubicBezTo>
                      <a:pt x="873633" y="285342"/>
                      <a:pt x="900773" y="279079"/>
                      <a:pt x="938351" y="287430"/>
                    </a:cubicBezTo>
                    <a:cubicBezTo>
                      <a:pt x="975929" y="295781"/>
                      <a:pt x="1034384" y="335446"/>
                      <a:pt x="1076137" y="337534"/>
                    </a:cubicBezTo>
                    <a:cubicBezTo>
                      <a:pt x="1117890" y="339622"/>
                      <a:pt x="1155468" y="310394"/>
                      <a:pt x="1188871" y="299956"/>
                    </a:cubicBezTo>
                    <a:cubicBezTo>
                      <a:pt x="1222274" y="289518"/>
                      <a:pt x="1257765" y="270729"/>
                      <a:pt x="1276554" y="274904"/>
                    </a:cubicBezTo>
                    <a:cubicBezTo>
                      <a:pt x="1295343" y="279079"/>
                      <a:pt x="1272379" y="316657"/>
                      <a:pt x="1301606" y="325008"/>
                    </a:cubicBezTo>
                    <a:cubicBezTo>
                      <a:pt x="1330833" y="333359"/>
                      <a:pt x="1416428" y="329183"/>
                      <a:pt x="1451918" y="325008"/>
                    </a:cubicBezTo>
                    <a:cubicBezTo>
                      <a:pt x="1487408" y="320833"/>
                      <a:pt x="1499934" y="320833"/>
                      <a:pt x="1514548" y="299956"/>
                    </a:cubicBezTo>
                    <a:cubicBezTo>
                      <a:pt x="1529162" y="279079"/>
                      <a:pt x="1518723" y="212274"/>
                      <a:pt x="1539600" y="199748"/>
                    </a:cubicBezTo>
                    <a:cubicBezTo>
                      <a:pt x="1560477" y="187222"/>
                      <a:pt x="1612668" y="220625"/>
                      <a:pt x="1639808" y="224800"/>
                    </a:cubicBezTo>
                    <a:cubicBezTo>
                      <a:pt x="1666948" y="228975"/>
                      <a:pt x="1660686" y="231063"/>
                      <a:pt x="1702439" y="224800"/>
                    </a:cubicBezTo>
                    <a:cubicBezTo>
                      <a:pt x="1744192" y="218537"/>
                      <a:pt x="1844400" y="201836"/>
                      <a:pt x="1890329" y="187222"/>
                    </a:cubicBezTo>
                    <a:cubicBezTo>
                      <a:pt x="1936258" y="172608"/>
                      <a:pt x="1948784" y="130855"/>
                      <a:pt x="1978011" y="137118"/>
                    </a:cubicBezTo>
                    <a:cubicBezTo>
                      <a:pt x="2007238" y="143381"/>
                      <a:pt x="2040641" y="210186"/>
                      <a:pt x="2065693" y="224800"/>
                    </a:cubicBezTo>
                    <a:cubicBezTo>
                      <a:pt x="2090745" y="239414"/>
                      <a:pt x="2128323" y="224800"/>
                      <a:pt x="2128323" y="224800"/>
                    </a:cubicBezTo>
                    <a:cubicBezTo>
                      <a:pt x="2151287" y="224800"/>
                      <a:pt x="2184691" y="216449"/>
                      <a:pt x="2203480" y="224800"/>
                    </a:cubicBezTo>
                    <a:cubicBezTo>
                      <a:pt x="2222269" y="233151"/>
                      <a:pt x="2220181" y="272816"/>
                      <a:pt x="2241058" y="274904"/>
                    </a:cubicBezTo>
                    <a:cubicBezTo>
                      <a:pt x="2261935" y="276992"/>
                      <a:pt x="2295337" y="254027"/>
                      <a:pt x="2328740" y="237326"/>
                    </a:cubicBezTo>
                    <a:cubicBezTo>
                      <a:pt x="2362143" y="220625"/>
                      <a:pt x="2403896" y="180959"/>
                      <a:pt x="2441474" y="174696"/>
                    </a:cubicBezTo>
                    <a:cubicBezTo>
                      <a:pt x="2479052" y="168433"/>
                      <a:pt x="2512455" y="189310"/>
                      <a:pt x="2554208" y="199748"/>
                    </a:cubicBezTo>
                    <a:cubicBezTo>
                      <a:pt x="2595961" y="210186"/>
                      <a:pt x="2643979" y="231063"/>
                      <a:pt x="2691995" y="237326"/>
                    </a:cubicBezTo>
                    <a:cubicBezTo>
                      <a:pt x="2740012" y="243589"/>
                      <a:pt x="2802641" y="245677"/>
                      <a:pt x="2842307" y="237326"/>
                    </a:cubicBezTo>
                    <a:cubicBezTo>
                      <a:pt x="2881973" y="228975"/>
                      <a:pt x="2890323" y="187222"/>
                      <a:pt x="2929989" y="187222"/>
                    </a:cubicBezTo>
                    <a:cubicBezTo>
                      <a:pt x="2969655" y="187222"/>
                      <a:pt x="3044811" y="228975"/>
                      <a:pt x="3080302" y="237326"/>
                    </a:cubicBezTo>
                    <a:cubicBezTo>
                      <a:pt x="3115793" y="245677"/>
                      <a:pt x="3142932" y="237326"/>
                      <a:pt x="3142932" y="237326"/>
                    </a:cubicBezTo>
                    <a:cubicBezTo>
                      <a:pt x="3170072" y="237326"/>
                      <a:pt x="3213913" y="224800"/>
                      <a:pt x="3243140" y="237326"/>
                    </a:cubicBezTo>
                    <a:cubicBezTo>
                      <a:pt x="3272367" y="249852"/>
                      <a:pt x="3286981" y="304131"/>
                      <a:pt x="3318296" y="312482"/>
                    </a:cubicBezTo>
                    <a:cubicBezTo>
                      <a:pt x="3349611" y="320833"/>
                      <a:pt x="3401803" y="304131"/>
                      <a:pt x="3431030" y="287430"/>
                    </a:cubicBezTo>
                    <a:cubicBezTo>
                      <a:pt x="3460257" y="270729"/>
                      <a:pt x="3466520" y="210186"/>
                      <a:pt x="3493660" y="212274"/>
                    </a:cubicBezTo>
                    <a:cubicBezTo>
                      <a:pt x="3520800" y="214362"/>
                      <a:pt x="3568817" y="285342"/>
                      <a:pt x="3593869" y="299956"/>
                    </a:cubicBezTo>
                    <a:cubicBezTo>
                      <a:pt x="3618921" y="314570"/>
                      <a:pt x="3631447" y="306219"/>
                      <a:pt x="3643973" y="299956"/>
                    </a:cubicBezTo>
                    <a:cubicBezTo>
                      <a:pt x="3656499" y="293693"/>
                      <a:pt x="3652324" y="281167"/>
                      <a:pt x="3669025" y="262378"/>
                    </a:cubicBezTo>
                    <a:cubicBezTo>
                      <a:pt x="3685726" y="243589"/>
                      <a:pt x="3727480" y="189310"/>
                      <a:pt x="3744181" y="187222"/>
                    </a:cubicBezTo>
                    <a:cubicBezTo>
                      <a:pt x="3760882" y="185134"/>
                      <a:pt x="3746269" y="233151"/>
                      <a:pt x="3769233" y="249852"/>
                    </a:cubicBezTo>
                    <a:cubicBezTo>
                      <a:pt x="3792197" y="266553"/>
                      <a:pt x="3844389" y="281167"/>
                      <a:pt x="3881967" y="287430"/>
                    </a:cubicBezTo>
                    <a:cubicBezTo>
                      <a:pt x="3919545" y="293693"/>
                      <a:pt x="3969650" y="291605"/>
                      <a:pt x="3994702" y="287430"/>
                    </a:cubicBezTo>
                    <a:cubicBezTo>
                      <a:pt x="4019754" y="283255"/>
                      <a:pt x="4007228" y="254027"/>
                      <a:pt x="4032280" y="262378"/>
                    </a:cubicBezTo>
                    <a:cubicBezTo>
                      <a:pt x="4057332" y="270729"/>
                      <a:pt x="4115787" y="331271"/>
                      <a:pt x="4145014" y="337534"/>
                    </a:cubicBezTo>
                    <a:cubicBezTo>
                      <a:pt x="4174241" y="343797"/>
                      <a:pt x="4184680" y="320833"/>
                      <a:pt x="4207644" y="299956"/>
                    </a:cubicBezTo>
                    <a:cubicBezTo>
                      <a:pt x="4230608" y="279079"/>
                      <a:pt x="4255660" y="216449"/>
                      <a:pt x="4282800" y="212274"/>
                    </a:cubicBezTo>
                    <a:cubicBezTo>
                      <a:pt x="4309940" y="208099"/>
                      <a:pt x="4334992" y="270729"/>
                      <a:pt x="4370482" y="274904"/>
                    </a:cubicBezTo>
                    <a:cubicBezTo>
                      <a:pt x="4405972" y="279079"/>
                      <a:pt x="4464428" y="251940"/>
                      <a:pt x="4495743" y="237326"/>
                    </a:cubicBezTo>
                    <a:cubicBezTo>
                      <a:pt x="4527058" y="222712"/>
                      <a:pt x="4535409" y="178871"/>
                      <a:pt x="4558373" y="187222"/>
                    </a:cubicBezTo>
                    <a:cubicBezTo>
                      <a:pt x="4581337" y="195573"/>
                      <a:pt x="4612652" y="272816"/>
                      <a:pt x="4633529" y="287430"/>
                    </a:cubicBezTo>
                    <a:cubicBezTo>
                      <a:pt x="4654406" y="302044"/>
                      <a:pt x="4660669" y="293693"/>
                      <a:pt x="4683633" y="274904"/>
                    </a:cubicBezTo>
                    <a:cubicBezTo>
                      <a:pt x="4706597" y="256115"/>
                      <a:pt x="4740000" y="183047"/>
                      <a:pt x="4771315" y="174696"/>
                    </a:cubicBezTo>
                    <a:cubicBezTo>
                      <a:pt x="4802630" y="166345"/>
                      <a:pt x="4844383" y="216449"/>
                      <a:pt x="4871523" y="224800"/>
                    </a:cubicBezTo>
                    <a:cubicBezTo>
                      <a:pt x="4898663" y="233151"/>
                      <a:pt x="4907014" y="233151"/>
                      <a:pt x="4934154" y="224800"/>
                    </a:cubicBezTo>
                    <a:cubicBezTo>
                      <a:pt x="4961294" y="216449"/>
                      <a:pt x="4982170" y="197660"/>
                      <a:pt x="5034362" y="174696"/>
                    </a:cubicBezTo>
                    <a:cubicBezTo>
                      <a:pt x="5086554" y="151732"/>
                      <a:pt x="5201375" y="114154"/>
                      <a:pt x="5247304" y="87014"/>
                    </a:cubicBezTo>
                    <a:cubicBezTo>
                      <a:pt x="5293233" y="59874"/>
                      <a:pt x="5291145" y="24384"/>
                      <a:pt x="5309934" y="11858"/>
                    </a:cubicBezTo>
                    <a:cubicBezTo>
                      <a:pt x="5328723" y="-668"/>
                      <a:pt x="5328724" y="-6931"/>
                      <a:pt x="5360039" y="11858"/>
                    </a:cubicBezTo>
                    <a:cubicBezTo>
                      <a:pt x="5391354" y="30647"/>
                      <a:pt x="5460247" y="107891"/>
                      <a:pt x="5497825" y="124592"/>
                    </a:cubicBezTo>
                    <a:cubicBezTo>
                      <a:pt x="5535403" y="141293"/>
                      <a:pt x="5558367" y="124592"/>
                      <a:pt x="5585507" y="112066"/>
                    </a:cubicBezTo>
                    <a:cubicBezTo>
                      <a:pt x="5612647" y="99540"/>
                      <a:pt x="5631436" y="49436"/>
                      <a:pt x="5660663" y="49436"/>
                    </a:cubicBezTo>
                    <a:cubicBezTo>
                      <a:pt x="5689890" y="49436"/>
                      <a:pt x="5725381" y="93277"/>
                      <a:pt x="5760871" y="112066"/>
                    </a:cubicBezTo>
                    <a:cubicBezTo>
                      <a:pt x="5796361" y="130855"/>
                      <a:pt x="5838115" y="153819"/>
                      <a:pt x="5873606" y="162170"/>
                    </a:cubicBezTo>
                    <a:cubicBezTo>
                      <a:pt x="5909097" y="170521"/>
                      <a:pt x="5936954" y="165122"/>
                      <a:pt x="5973814" y="162170"/>
                    </a:cubicBezTo>
                    <a:cubicBezTo>
                      <a:pt x="6010674" y="159218"/>
                      <a:pt x="6042573" y="138193"/>
                      <a:pt x="6094765" y="144456"/>
                    </a:cubicBezTo>
                    <a:cubicBezTo>
                      <a:pt x="6146957" y="150719"/>
                      <a:pt x="6240318" y="200971"/>
                      <a:pt x="6286965" y="199748"/>
                    </a:cubicBezTo>
                    <a:cubicBezTo>
                      <a:pt x="6333612" y="198525"/>
                      <a:pt x="6341244" y="147556"/>
                      <a:pt x="6374647" y="137118"/>
                    </a:cubicBezTo>
                    <a:cubicBezTo>
                      <a:pt x="6408050" y="126680"/>
                      <a:pt x="6449803" y="128767"/>
                      <a:pt x="6487381" y="137118"/>
                    </a:cubicBezTo>
                    <a:cubicBezTo>
                      <a:pt x="6524959" y="145469"/>
                      <a:pt x="6568800" y="174696"/>
                      <a:pt x="6600115" y="187222"/>
                    </a:cubicBezTo>
                    <a:cubicBezTo>
                      <a:pt x="6631430" y="199748"/>
                      <a:pt x="6650219" y="218537"/>
                      <a:pt x="6675271" y="212274"/>
                    </a:cubicBezTo>
                    <a:cubicBezTo>
                      <a:pt x="6700323" y="206011"/>
                      <a:pt x="6725376" y="166345"/>
                      <a:pt x="6750428" y="149644"/>
                    </a:cubicBezTo>
                    <a:cubicBezTo>
                      <a:pt x="6775480" y="132943"/>
                      <a:pt x="6781743" y="122504"/>
                      <a:pt x="6825584" y="112066"/>
                    </a:cubicBezTo>
                    <a:cubicBezTo>
                      <a:pt x="6869425" y="101628"/>
                      <a:pt x="6961282" y="76576"/>
                      <a:pt x="7013474" y="87014"/>
                    </a:cubicBezTo>
                    <a:cubicBezTo>
                      <a:pt x="7065666" y="97452"/>
                      <a:pt x="7099068" y="160082"/>
                      <a:pt x="7138734" y="174696"/>
                    </a:cubicBezTo>
                    <a:cubicBezTo>
                      <a:pt x="7178400" y="189310"/>
                      <a:pt x="7218066" y="178871"/>
                      <a:pt x="7251469" y="174696"/>
                    </a:cubicBezTo>
                    <a:cubicBezTo>
                      <a:pt x="7284872" y="170521"/>
                      <a:pt x="7303661" y="157995"/>
                      <a:pt x="7339151" y="149644"/>
                    </a:cubicBezTo>
                    <a:cubicBezTo>
                      <a:pt x="7374641" y="141293"/>
                      <a:pt x="7424745" y="116241"/>
                      <a:pt x="7464411" y="124592"/>
                    </a:cubicBezTo>
                    <a:cubicBezTo>
                      <a:pt x="7504077" y="132943"/>
                      <a:pt x="7545830" y="187222"/>
                      <a:pt x="7577145" y="199748"/>
                    </a:cubicBezTo>
                    <a:cubicBezTo>
                      <a:pt x="7608460" y="212274"/>
                      <a:pt x="7623075" y="212274"/>
                      <a:pt x="7652302" y="199748"/>
                    </a:cubicBezTo>
                    <a:cubicBezTo>
                      <a:pt x="7681529" y="187222"/>
                      <a:pt x="7719107" y="132943"/>
                      <a:pt x="7752510" y="124592"/>
                    </a:cubicBezTo>
                    <a:cubicBezTo>
                      <a:pt x="7785913" y="116241"/>
                      <a:pt x="7815140" y="128767"/>
                      <a:pt x="7852718" y="149644"/>
                    </a:cubicBezTo>
                    <a:cubicBezTo>
                      <a:pt x="7890296" y="170521"/>
                      <a:pt x="7938312" y="233151"/>
                      <a:pt x="7977978" y="249852"/>
                    </a:cubicBezTo>
                    <a:cubicBezTo>
                      <a:pt x="8017644" y="266553"/>
                      <a:pt x="8048959" y="254027"/>
                      <a:pt x="8090713" y="249852"/>
                    </a:cubicBezTo>
                    <a:cubicBezTo>
                      <a:pt x="8132467" y="245677"/>
                      <a:pt x="8195096" y="222712"/>
                      <a:pt x="8228499" y="224800"/>
                    </a:cubicBezTo>
                    <a:cubicBezTo>
                      <a:pt x="8261902" y="226888"/>
                      <a:pt x="8257726" y="260290"/>
                      <a:pt x="8291129" y="262378"/>
                    </a:cubicBezTo>
                    <a:cubicBezTo>
                      <a:pt x="8324532" y="264466"/>
                      <a:pt x="8380899" y="251940"/>
                      <a:pt x="8428915" y="237326"/>
                    </a:cubicBezTo>
                    <a:cubicBezTo>
                      <a:pt x="8476932" y="222712"/>
                      <a:pt x="8541650" y="172608"/>
                      <a:pt x="8579228" y="174696"/>
                    </a:cubicBezTo>
                    <a:cubicBezTo>
                      <a:pt x="8616806" y="176784"/>
                      <a:pt x="8625157" y="235238"/>
                      <a:pt x="8654384" y="249852"/>
                    </a:cubicBezTo>
                    <a:cubicBezTo>
                      <a:pt x="8683611" y="264466"/>
                      <a:pt x="8721189" y="270729"/>
                      <a:pt x="8754592" y="262378"/>
                    </a:cubicBezTo>
                    <a:cubicBezTo>
                      <a:pt x="8787995" y="254027"/>
                      <a:pt x="8825573" y="216449"/>
                      <a:pt x="8854800" y="199748"/>
                    </a:cubicBezTo>
                    <a:cubicBezTo>
                      <a:pt x="8884027" y="183047"/>
                      <a:pt x="8906992" y="157995"/>
                      <a:pt x="8929956" y="162170"/>
                    </a:cubicBezTo>
                    <a:cubicBezTo>
                      <a:pt x="8952920" y="166345"/>
                      <a:pt x="8959184" y="214362"/>
                      <a:pt x="8992587" y="224800"/>
                    </a:cubicBezTo>
                    <a:cubicBezTo>
                      <a:pt x="9025990" y="235238"/>
                      <a:pt x="9090707" y="235238"/>
                      <a:pt x="9130373" y="224800"/>
                    </a:cubicBezTo>
                    <a:cubicBezTo>
                      <a:pt x="9170039" y="214362"/>
                      <a:pt x="9197178" y="172608"/>
                      <a:pt x="9230581" y="162170"/>
                    </a:cubicBezTo>
                    <a:cubicBezTo>
                      <a:pt x="9263984" y="151732"/>
                      <a:pt x="9291123" y="153819"/>
                      <a:pt x="9330789" y="162170"/>
                    </a:cubicBezTo>
                    <a:cubicBezTo>
                      <a:pt x="9370455" y="170521"/>
                      <a:pt x="9433086" y="197660"/>
                      <a:pt x="9468576" y="212274"/>
                    </a:cubicBezTo>
                    <a:cubicBezTo>
                      <a:pt x="9504067" y="226888"/>
                      <a:pt x="9514505" y="258203"/>
                      <a:pt x="9543732" y="249852"/>
                    </a:cubicBezTo>
                    <a:cubicBezTo>
                      <a:pt x="9572959" y="241501"/>
                      <a:pt x="9606362" y="193485"/>
                      <a:pt x="9643940" y="162170"/>
                    </a:cubicBezTo>
                    <a:cubicBezTo>
                      <a:pt x="9681518" y="130855"/>
                      <a:pt x="9729534" y="64050"/>
                      <a:pt x="9769200" y="61962"/>
                    </a:cubicBezTo>
                    <a:cubicBezTo>
                      <a:pt x="9808866" y="59874"/>
                      <a:pt x="9846443" y="141293"/>
                      <a:pt x="9881934" y="149644"/>
                    </a:cubicBezTo>
                    <a:cubicBezTo>
                      <a:pt x="9917425" y="157995"/>
                      <a:pt x="9952916" y="109978"/>
                      <a:pt x="9982143" y="112066"/>
                    </a:cubicBezTo>
                    <a:cubicBezTo>
                      <a:pt x="10011370" y="114154"/>
                      <a:pt x="10019721" y="162170"/>
                      <a:pt x="10057299" y="162170"/>
                    </a:cubicBezTo>
                    <a:cubicBezTo>
                      <a:pt x="10094877" y="162170"/>
                      <a:pt x="10170033" y="105803"/>
                      <a:pt x="10207611" y="112066"/>
                    </a:cubicBezTo>
                    <a:cubicBezTo>
                      <a:pt x="10245189" y="118329"/>
                      <a:pt x="10253540" y="185134"/>
                      <a:pt x="10282767" y="199748"/>
                    </a:cubicBezTo>
                    <a:cubicBezTo>
                      <a:pt x="10311995" y="214362"/>
                      <a:pt x="10347486" y="212274"/>
                      <a:pt x="10382976" y="199748"/>
                    </a:cubicBezTo>
                    <a:cubicBezTo>
                      <a:pt x="10418466" y="187222"/>
                      <a:pt x="10451869" y="135030"/>
                      <a:pt x="10495710" y="124592"/>
                    </a:cubicBezTo>
                    <a:cubicBezTo>
                      <a:pt x="10539551" y="114154"/>
                      <a:pt x="10612619" y="120417"/>
                      <a:pt x="10646022" y="137118"/>
                    </a:cubicBezTo>
                    <a:cubicBezTo>
                      <a:pt x="10679425" y="153819"/>
                      <a:pt x="10696126" y="151732"/>
                      <a:pt x="10696126" y="224800"/>
                    </a:cubicBezTo>
                    <a:cubicBezTo>
                      <a:pt x="10696126" y="297868"/>
                      <a:pt x="10681512" y="245677"/>
                      <a:pt x="10646022" y="575529"/>
                    </a:cubicBezTo>
                    <a:cubicBezTo>
                      <a:pt x="10610532" y="905381"/>
                      <a:pt x="10545814" y="1909550"/>
                      <a:pt x="10483184" y="2203912"/>
                    </a:cubicBezTo>
                    <a:cubicBezTo>
                      <a:pt x="10420554" y="2498274"/>
                      <a:pt x="10320345" y="2318735"/>
                      <a:pt x="10270241" y="2341699"/>
                    </a:cubicBezTo>
                    <a:cubicBezTo>
                      <a:pt x="10220137" y="2364663"/>
                      <a:pt x="10224312" y="2358400"/>
                      <a:pt x="10182559" y="2341699"/>
                    </a:cubicBezTo>
                    <a:cubicBezTo>
                      <a:pt x="10140806" y="2324998"/>
                      <a:pt x="10069825" y="2262367"/>
                      <a:pt x="10019721" y="2241490"/>
                    </a:cubicBezTo>
                    <a:cubicBezTo>
                      <a:pt x="9969617" y="2220613"/>
                      <a:pt x="9934126" y="2233139"/>
                      <a:pt x="9881934" y="2216438"/>
                    </a:cubicBezTo>
                    <a:cubicBezTo>
                      <a:pt x="9829742" y="2199737"/>
                      <a:pt x="9758762" y="2149633"/>
                      <a:pt x="9706570" y="2141282"/>
                    </a:cubicBezTo>
                    <a:cubicBezTo>
                      <a:pt x="9654378" y="2132931"/>
                      <a:pt x="9633502" y="2162159"/>
                      <a:pt x="9568784" y="2166334"/>
                    </a:cubicBezTo>
                    <a:cubicBezTo>
                      <a:pt x="9504066" y="2170509"/>
                      <a:pt x="9318263" y="2166334"/>
                      <a:pt x="9318263" y="2166334"/>
                    </a:cubicBezTo>
                    <a:cubicBezTo>
                      <a:pt x="9232669" y="2166334"/>
                      <a:pt x="9109496" y="2185123"/>
                      <a:pt x="9055217" y="2166334"/>
                    </a:cubicBezTo>
                    <a:cubicBezTo>
                      <a:pt x="9000938" y="2147545"/>
                      <a:pt x="9013464" y="2059863"/>
                      <a:pt x="8992587" y="2053600"/>
                    </a:cubicBezTo>
                    <a:cubicBezTo>
                      <a:pt x="8971710" y="2047337"/>
                      <a:pt x="8948745" y="2109967"/>
                      <a:pt x="8929956" y="2128756"/>
                    </a:cubicBezTo>
                    <a:cubicBezTo>
                      <a:pt x="8911167" y="2147545"/>
                      <a:pt x="8919518" y="2151720"/>
                      <a:pt x="8879852" y="2166334"/>
                    </a:cubicBezTo>
                    <a:cubicBezTo>
                      <a:pt x="8840186" y="2180948"/>
                      <a:pt x="8742066" y="2203912"/>
                      <a:pt x="8691962" y="2216438"/>
                    </a:cubicBezTo>
                    <a:cubicBezTo>
                      <a:pt x="8641858" y="2228964"/>
                      <a:pt x="8620982" y="2231052"/>
                      <a:pt x="8579228" y="2241490"/>
                    </a:cubicBezTo>
                    <a:cubicBezTo>
                      <a:pt x="8537475" y="2251929"/>
                      <a:pt x="8508246" y="2287420"/>
                      <a:pt x="8441441" y="2279069"/>
                    </a:cubicBezTo>
                    <a:cubicBezTo>
                      <a:pt x="8374636" y="2270718"/>
                      <a:pt x="8276515" y="2206000"/>
                      <a:pt x="8178395" y="2191386"/>
                    </a:cubicBezTo>
                    <a:cubicBezTo>
                      <a:pt x="8080275" y="2176772"/>
                      <a:pt x="7965452" y="2203912"/>
                      <a:pt x="7852718" y="2191386"/>
                    </a:cubicBezTo>
                    <a:cubicBezTo>
                      <a:pt x="7739984" y="2178860"/>
                      <a:pt x="7600109" y="2118318"/>
                      <a:pt x="7501989" y="2116230"/>
                    </a:cubicBezTo>
                    <a:cubicBezTo>
                      <a:pt x="7403869" y="2114142"/>
                      <a:pt x="7263995" y="2178860"/>
                      <a:pt x="7263995" y="2178860"/>
                    </a:cubicBezTo>
                    <a:cubicBezTo>
                      <a:pt x="7199277" y="2195561"/>
                      <a:pt x="7163786" y="2224789"/>
                      <a:pt x="7113682" y="2216438"/>
                    </a:cubicBezTo>
                    <a:cubicBezTo>
                      <a:pt x="7063578" y="2208087"/>
                      <a:pt x="7019737" y="2143370"/>
                      <a:pt x="6963370" y="2128756"/>
                    </a:cubicBezTo>
                    <a:cubicBezTo>
                      <a:pt x="6907003" y="2114142"/>
                      <a:pt x="6813058" y="2105792"/>
                      <a:pt x="6775480" y="2128756"/>
                    </a:cubicBezTo>
                    <a:cubicBezTo>
                      <a:pt x="6737902" y="2151720"/>
                      <a:pt x="6748340" y="2228964"/>
                      <a:pt x="6737902" y="2266542"/>
                    </a:cubicBezTo>
                    <a:cubicBezTo>
                      <a:pt x="6727464" y="2304120"/>
                      <a:pt x="6744165" y="2339611"/>
                      <a:pt x="6712850" y="2354225"/>
                    </a:cubicBezTo>
                    <a:cubicBezTo>
                      <a:pt x="6681535" y="2368839"/>
                      <a:pt x="6614729" y="2347962"/>
                      <a:pt x="6550011" y="2354225"/>
                    </a:cubicBezTo>
                    <a:cubicBezTo>
                      <a:pt x="6485293" y="2360488"/>
                      <a:pt x="6374980" y="2391089"/>
                      <a:pt x="6324543" y="2391803"/>
                    </a:cubicBezTo>
                    <a:cubicBezTo>
                      <a:pt x="6274106" y="2392517"/>
                      <a:pt x="6284859" y="2368016"/>
                      <a:pt x="6247390" y="2358512"/>
                    </a:cubicBezTo>
                    <a:cubicBezTo>
                      <a:pt x="6209921" y="2349008"/>
                      <a:pt x="6145324" y="2345931"/>
                      <a:pt x="6099728" y="2334778"/>
                    </a:cubicBezTo>
                    <a:cubicBezTo>
                      <a:pt x="6054132" y="2323625"/>
                      <a:pt x="6028202" y="2298792"/>
                      <a:pt x="5973814" y="2291595"/>
                    </a:cubicBezTo>
                    <a:cubicBezTo>
                      <a:pt x="5919426" y="2284398"/>
                      <a:pt x="5842290" y="2289507"/>
                      <a:pt x="5773397" y="2291595"/>
                    </a:cubicBezTo>
                    <a:cubicBezTo>
                      <a:pt x="5704504" y="2293683"/>
                      <a:pt x="5623085" y="2318735"/>
                      <a:pt x="5560455" y="2304121"/>
                    </a:cubicBezTo>
                    <a:cubicBezTo>
                      <a:pt x="5497825" y="2289507"/>
                      <a:pt x="5462335" y="2226877"/>
                      <a:pt x="5397617" y="2203912"/>
                    </a:cubicBezTo>
                    <a:cubicBezTo>
                      <a:pt x="5332899" y="2180948"/>
                      <a:pt x="5232691" y="2162159"/>
                      <a:pt x="5172148" y="2166334"/>
                    </a:cubicBezTo>
                    <a:cubicBezTo>
                      <a:pt x="5111605" y="2170509"/>
                      <a:pt x="5117869" y="2216438"/>
                      <a:pt x="5034362" y="2228964"/>
                    </a:cubicBezTo>
                    <a:cubicBezTo>
                      <a:pt x="4950855" y="2241490"/>
                      <a:pt x="4738545" y="2251373"/>
                      <a:pt x="4671107" y="2241490"/>
                    </a:cubicBezTo>
                    <a:cubicBezTo>
                      <a:pt x="4603669" y="2231608"/>
                      <a:pt x="4664085" y="2177847"/>
                      <a:pt x="4629734" y="2169669"/>
                    </a:cubicBezTo>
                    <a:cubicBezTo>
                      <a:pt x="4595383" y="2161491"/>
                      <a:pt x="4493593" y="2186716"/>
                      <a:pt x="4464998" y="2192423"/>
                    </a:cubicBezTo>
                    <a:cubicBezTo>
                      <a:pt x="4436403" y="2198130"/>
                      <a:pt x="4486444" y="2189471"/>
                      <a:pt x="4458165" y="2203912"/>
                    </a:cubicBezTo>
                    <a:cubicBezTo>
                      <a:pt x="4429886" y="2218353"/>
                      <a:pt x="4345430" y="2268631"/>
                      <a:pt x="4295326" y="2279069"/>
                    </a:cubicBezTo>
                    <a:cubicBezTo>
                      <a:pt x="4245222" y="2289507"/>
                      <a:pt x="4226433" y="2264454"/>
                      <a:pt x="4157540" y="2266542"/>
                    </a:cubicBezTo>
                    <a:cubicBezTo>
                      <a:pt x="4088647" y="2268630"/>
                      <a:pt x="3955035" y="2281157"/>
                      <a:pt x="3881967" y="2291595"/>
                    </a:cubicBezTo>
                    <a:cubicBezTo>
                      <a:pt x="3808899" y="2302033"/>
                      <a:pt x="3783847" y="2329173"/>
                      <a:pt x="3719129" y="2329173"/>
                    </a:cubicBezTo>
                    <a:cubicBezTo>
                      <a:pt x="3654411" y="2329173"/>
                      <a:pt x="3583430" y="2312472"/>
                      <a:pt x="3493660" y="2291595"/>
                    </a:cubicBezTo>
                    <a:cubicBezTo>
                      <a:pt x="3403890" y="2270718"/>
                      <a:pt x="3243140" y="2216438"/>
                      <a:pt x="3180510" y="2203912"/>
                    </a:cubicBezTo>
                    <a:cubicBezTo>
                      <a:pt x="3117880" y="2191386"/>
                      <a:pt x="3159633" y="2222701"/>
                      <a:pt x="3117880" y="2216438"/>
                    </a:cubicBezTo>
                    <a:cubicBezTo>
                      <a:pt x="3076127" y="2210175"/>
                      <a:pt x="2988444" y="2199737"/>
                      <a:pt x="2929989" y="2166334"/>
                    </a:cubicBezTo>
                    <a:cubicBezTo>
                      <a:pt x="2871534" y="2132931"/>
                      <a:pt x="2825606" y="2026460"/>
                      <a:pt x="2767151" y="2016022"/>
                    </a:cubicBezTo>
                    <a:cubicBezTo>
                      <a:pt x="2708696" y="2005584"/>
                      <a:pt x="2639802" y="2072389"/>
                      <a:pt x="2579260" y="2103704"/>
                    </a:cubicBezTo>
                    <a:cubicBezTo>
                      <a:pt x="2518718" y="2135019"/>
                      <a:pt x="2454000" y="2201824"/>
                      <a:pt x="2403896" y="2203912"/>
                    </a:cubicBezTo>
                    <a:cubicBezTo>
                      <a:pt x="2353792" y="2206000"/>
                      <a:pt x="2335003" y="2122493"/>
                      <a:pt x="2278636" y="2116230"/>
                    </a:cubicBezTo>
                    <a:cubicBezTo>
                      <a:pt x="2222269" y="2109967"/>
                      <a:pt x="2122060" y="2149633"/>
                      <a:pt x="2065693" y="2166334"/>
                    </a:cubicBezTo>
                    <a:cubicBezTo>
                      <a:pt x="2009326" y="2183035"/>
                      <a:pt x="2003063" y="2214350"/>
                      <a:pt x="1940433" y="2216438"/>
                    </a:cubicBezTo>
                    <a:cubicBezTo>
                      <a:pt x="1877803" y="2218526"/>
                      <a:pt x="1758806" y="2178860"/>
                      <a:pt x="1689913" y="2178860"/>
                    </a:cubicBezTo>
                    <a:cubicBezTo>
                      <a:pt x="1621020" y="2178860"/>
                      <a:pt x="1527074" y="2216438"/>
                      <a:pt x="1527074" y="2216438"/>
                    </a:cubicBezTo>
                    <a:cubicBezTo>
                      <a:pt x="1472795" y="2228964"/>
                      <a:pt x="1403902" y="2268630"/>
                      <a:pt x="1364236" y="2254016"/>
                    </a:cubicBezTo>
                    <a:cubicBezTo>
                      <a:pt x="1324570" y="2239402"/>
                      <a:pt x="1320395" y="2132931"/>
                      <a:pt x="1289080" y="2128756"/>
                    </a:cubicBezTo>
                    <a:cubicBezTo>
                      <a:pt x="1257765" y="2124581"/>
                      <a:pt x="1218098" y="2197649"/>
                      <a:pt x="1176345" y="2228964"/>
                    </a:cubicBezTo>
                    <a:cubicBezTo>
                      <a:pt x="1134592" y="2260279"/>
                      <a:pt x="1094926" y="2308296"/>
                      <a:pt x="1038559" y="2316647"/>
                    </a:cubicBezTo>
                    <a:cubicBezTo>
                      <a:pt x="982192" y="2324998"/>
                      <a:pt x="894510" y="2285332"/>
                      <a:pt x="838143" y="2279069"/>
                    </a:cubicBezTo>
                    <a:cubicBezTo>
                      <a:pt x="781776" y="2272806"/>
                      <a:pt x="735847" y="2270718"/>
                      <a:pt x="700356" y="2279069"/>
                    </a:cubicBezTo>
                    <a:cubicBezTo>
                      <a:pt x="664865" y="2287420"/>
                      <a:pt x="666953" y="2335436"/>
                      <a:pt x="625200" y="2329173"/>
                    </a:cubicBezTo>
                    <a:cubicBezTo>
                      <a:pt x="583447" y="2322910"/>
                      <a:pt x="499940" y="2251928"/>
                      <a:pt x="449836" y="2241490"/>
                    </a:cubicBezTo>
                    <a:cubicBezTo>
                      <a:pt x="399732" y="2231052"/>
                      <a:pt x="349628" y="2249841"/>
                      <a:pt x="324576" y="2266542"/>
                    </a:cubicBezTo>
                    <a:cubicBezTo>
                      <a:pt x="299524" y="2283244"/>
                      <a:pt x="312049" y="2339611"/>
                      <a:pt x="299523" y="2341699"/>
                    </a:cubicBezTo>
                    <a:cubicBezTo>
                      <a:pt x="286997" y="2343787"/>
                      <a:pt x="276559" y="2295771"/>
                      <a:pt x="249419" y="2279069"/>
                    </a:cubicBezTo>
                    <a:cubicBezTo>
                      <a:pt x="222279" y="2262368"/>
                      <a:pt x="176351" y="2247753"/>
                      <a:pt x="136685" y="2241490"/>
                    </a:cubicBezTo>
                    <a:cubicBezTo>
                      <a:pt x="97019" y="2235227"/>
                      <a:pt x="32302" y="2256104"/>
                      <a:pt x="11425" y="2241490"/>
                    </a:cubicBezTo>
                    <a:cubicBezTo>
                      <a:pt x="-9452" y="2226876"/>
                      <a:pt x="3074" y="2487835"/>
                      <a:pt x="11425" y="2153808"/>
                    </a:cubicBezTo>
                    <a:cubicBezTo>
                      <a:pt x="19776" y="1819781"/>
                      <a:pt x="76143" y="598493"/>
                      <a:pt x="86581" y="249852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任意多边形 20"/>
              <p:cNvSpPr/>
              <p:nvPr/>
            </p:nvSpPr>
            <p:spPr>
              <a:xfrm flipH="1" flipV="1">
                <a:off x="259920" y="4995000"/>
                <a:ext cx="12356640" cy="1908360"/>
              </a:xfrm>
              <a:custGeom>
                <a:avLst/>
                <a:gdLst/>
                <a:ahLst/>
                <a:rect l="l" t="t" r="r" b="b"/>
                <a:pathLst>
                  <a:path w="10696126" h="2454679">
                    <a:moveTo>
                      <a:pt x="86581" y="249852"/>
                    </a:moveTo>
                    <a:cubicBezTo>
                      <a:pt x="97019" y="-98789"/>
                      <a:pt x="46915" y="51524"/>
                      <a:pt x="74055" y="61962"/>
                    </a:cubicBezTo>
                    <a:cubicBezTo>
                      <a:pt x="101195" y="72400"/>
                      <a:pt x="197227" y="285342"/>
                      <a:pt x="249419" y="312482"/>
                    </a:cubicBezTo>
                    <a:cubicBezTo>
                      <a:pt x="301611" y="339622"/>
                      <a:pt x="345453" y="239414"/>
                      <a:pt x="387206" y="224800"/>
                    </a:cubicBezTo>
                    <a:cubicBezTo>
                      <a:pt x="428960" y="210186"/>
                      <a:pt x="476976" y="220625"/>
                      <a:pt x="499940" y="224800"/>
                    </a:cubicBezTo>
                    <a:cubicBezTo>
                      <a:pt x="522904" y="228975"/>
                      <a:pt x="504115" y="231063"/>
                      <a:pt x="524992" y="249852"/>
                    </a:cubicBezTo>
                    <a:cubicBezTo>
                      <a:pt x="545869" y="268641"/>
                      <a:pt x="604323" y="331271"/>
                      <a:pt x="625200" y="337534"/>
                    </a:cubicBezTo>
                    <a:cubicBezTo>
                      <a:pt x="646077" y="343797"/>
                      <a:pt x="641901" y="302044"/>
                      <a:pt x="650252" y="287430"/>
                    </a:cubicBezTo>
                    <a:cubicBezTo>
                      <a:pt x="658603" y="272816"/>
                      <a:pt x="660691" y="245677"/>
                      <a:pt x="675304" y="249852"/>
                    </a:cubicBezTo>
                    <a:cubicBezTo>
                      <a:pt x="689917" y="254027"/>
                      <a:pt x="717057" y="304131"/>
                      <a:pt x="737934" y="312482"/>
                    </a:cubicBezTo>
                    <a:cubicBezTo>
                      <a:pt x="758811" y="320833"/>
                      <a:pt x="781776" y="304131"/>
                      <a:pt x="800565" y="299956"/>
                    </a:cubicBezTo>
                    <a:cubicBezTo>
                      <a:pt x="819354" y="295781"/>
                      <a:pt x="827705" y="289518"/>
                      <a:pt x="850669" y="287430"/>
                    </a:cubicBezTo>
                    <a:cubicBezTo>
                      <a:pt x="873633" y="285342"/>
                      <a:pt x="900773" y="279079"/>
                      <a:pt x="938351" y="287430"/>
                    </a:cubicBezTo>
                    <a:cubicBezTo>
                      <a:pt x="975929" y="295781"/>
                      <a:pt x="1034384" y="335446"/>
                      <a:pt x="1076137" y="337534"/>
                    </a:cubicBezTo>
                    <a:cubicBezTo>
                      <a:pt x="1117890" y="339622"/>
                      <a:pt x="1155468" y="310394"/>
                      <a:pt x="1188871" y="299956"/>
                    </a:cubicBezTo>
                    <a:cubicBezTo>
                      <a:pt x="1222274" y="289518"/>
                      <a:pt x="1257765" y="270729"/>
                      <a:pt x="1276554" y="274904"/>
                    </a:cubicBezTo>
                    <a:cubicBezTo>
                      <a:pt x="1295343" y="279079"/>
                      <a:pt x="1272379" y="316657"/>
                      <a:pt x="1301606" y="325008"/>
                    </a:cubicBezTo>
                    <a:cubicBezTo>
                      <a:pt x="1330833" y="333359"/>
                      <a:pt x="1416428" y="329183"/>
                      <a:pt x="1451918" y="325008"/>
                    </a:cubicBezTo>
                    <a:cubicBezTo>
                      <a:pt x="1487408" y="320833"/>
                      <a:pt x="1499934" y="320833"/>
                      <a:pt x="1514548" y="299956"/>
                    </a:cubicBezTo>
                    <a:cubicBezTo>
                      <a:pt x="1529162" y="279079"/>
                      <a:pt x="1518723" y="212274"/>
                      <a:pt x="1539600" y="199748"/>
                    </a:cubicBezTo>
                    <a:cubicBezTo>
                      <a:pt x="1560477" y="187222"/>
                      <a:pt x="1612668" y="220625"/>
                      <a:pt x="1639808" y="224800"/>
                    </a:cubicBezTo>
                    <a:cubicBezTo>
                      <a:pt x="1666948" y="228975"/>
                      <a:pt x="1660686" y="231063"/>
                      <a:pt x="1702439" y="224800"/>
                    </a:cubicBezTo>
                    <a:cubicBezTo>
                      <a:pt x="1744192" y="218537"/>
                      <a:pt x="1844400" y="201836"/>
                      <a:pt x="1890329" y="187222"/>
                    </a:cubicBezTo>
                    <a:cubicBezTo>
                      <a:pt x="1936258" y="172608"/>
                      <a:pt x="1948784" y="130855"/>
                      <a:pt x="1978011" y="137118"/>
                    </a:cubicBezTo>
                    <a:cubicBezTo>
                      <a:pt x="2007238" y="143381"/>
                      <a:pt x="2040641" y="210186"/>
                      <a:pt x="2065693" y="224800"/>
                    </a:cubicBezTo>
                    <a:cubicBezTo>
                      <a:pt x="2090745" y="239414"/>
                      <a:pt x="2128323" y="224800"/>
                      <a:pt x="2128323" y="224800"/>
                    </a:cubicBezTo>
                    <a:cubicBezTo>
                      <a:pt x="2151287" y="224800"/>
                      <a:pt x="2184691" y="216449"/>
                      <a:pt x="2203480" y="224800"/>
                    </a:cubicBezTo>
                    <a:cubicBezTo>
                      <a:pt x="2222269" y="233151"/>
                      <a:pt x="2220181" y="272816"/>
                      <a:pt x="2241058" y="274904"/>
                    </a:cubicBezTo>
                    <a:cubicBezTo>
                      <a:pt x="2261935" y="276992"/>
                      <a:pt x="2295337" y="254027"/>
                      <a:pt x="2328740" y="237326"/>
                    </a:cubicBezTo>
                    <a:cubicBezTo>
                      <a:pt x="2362143" y="220625"/>
                      <a:pt x="2403896" y="180959"/>
                      <a:pt x="2441474" y="174696"/>
                    </a:cubicBezTo>
                    <a:cubicBezTo>
                      <a:pt x="2479052" y="168433"/>
                      <a:pt x="2512455" y="189310"/>
                      <a:pt x="2554208" y="199748"/>
                    </a:cubicBezTo>
                    <a:cubicBezTo>
                      <a:pt x="2595961" y="210186"/>
                      <a:pt x="2643979" y="231063"/>
                      <a:pt x="2691995" y="237326"/>
                    </a:cubicBezTo>
                    <a:cubicBezTo>
                      <a:pt x="2740012" y="243589"/>
                      <a:pt x="2802641" y="245677"/>
                      <a:pt x="2842307" y="237326"/>
                    </a:cubicBezTo>
                    <a:cubicBezTo>
                      <a:pt x="2881973" y="228975"/>
                      <a:pt x="2890323" y="187222"/>
                      <a:pt x="2929989" y="187222"/>
                    </a:cubicBezTo>
                    <a:cubicBezTo>
                      <a:pt x="2969655" y="187222"/>
                      <a:pt x="3044811" y="228975"/>
                      <a:pt x="3080302" y="237326"/>
                    </a:cubicBezTo>
                    <a:cubicBezTo>
                      <a:pt x="3115793" y="245677"/>
                      <a:pt x="3142932" y="237326"/>
                      <a:pt x="3142932" y="237326"/>
                    </a:cubicBezTo>
                    <a:cubicBezTo>
                      <a:pt x="3170072" y="237326"/>
                      <a:pt x="3213913" y="224800"/>
                      <a:pt x="3243140" y="237326"/>
                    </a:cubicBezTo>
                    <a:cubicBezTo>
                      <a:pt x="3272367" y="249852"/>
                      <a:pt x="3286981" y="304131"/>
                      <a:pt x="3318296" y="312482"/>
                    </a:cubicBezTo>
                    <a:cubicBezTo>
                      <a:pt x="3349611" y="320833"/>
                      <a:pt x="3401803" y="304131"/>
                      <a:pt x="3431030" y="287430"/>
                    </a:cubicBezTo>
                    <a:cubicBezTo>
                      <a:pt x="3460257" y="270729"/>
                      <a:pt x="3466520" y="210186"/>
                      <a:pt x="3493660" y="212274"/>
                    </a:cubicBezTo>
                    <a:cubicBezTo>
                      <a:pt x="3520800" y="214362"/>
                      <a:pt x="3568817" y="285342"/>
                      <a:pt x="3593869" y="299956"/>
                    </a:cubicBezTo>
                    <a:cubicBezTo>
                      <a:pt x="3618921" y="314570"/>
                      <a:pt x="3631447" y="306219"/>
                      <a:pt x="3643973" y="299956"/>
                    </a:cubicBezTo>
                    <a:cubicBezTo>
                      <a:pt x="3656499" y="293693"/>
                      <a:pt x="3652324" y="281167"/>
                      <a:pt x="3669025" y="262378"/>
                    </a:cubicBezTo>
                    <a:cubicBezTo>
                      <a:pt x="3685726" y="243589"/>
                      <a:pt x="3727480" y="189310"/>
                      <a:pt x="3744181" y="187222"/>
                    </a:cubicBezTo>
                    <a:cubicBezTo>
                      <a:pt x="3760882" y="185134"/>
                      <a:pt x="3746269" y="233151"/>
                      <a:pt x="3769233" y="249852"/>
                    </a:cubicBezTo>
                    <a:cubicBezTo>
                      <a:pt x="3792197" y="266553"/>
                      <a:pt x="3844389" y="281167"/>
                      <a:pt x="3881967" y="287430"/>
                    </a:cubicBezTo>
                    <a:cubicBezTo>
                      <a:pt x="3919545" y="293693"/>
                      <a:pt x="3969650" y="291605"/>
                      <a:pt x="3994702" y="287430"/>
                    </a:cubicBezTo>
                    <a:cubicBezTo>
                      <a:pt x="4019754" y="283255"/>
                      <a:pt x="4007228" y="254027"/>
                      <a:pt x="4032280" y="262378"/>
                    </a:cubicBezTo>
                    <a:cubicBezTo>
                      <a:pt x="4057332" y="270729"/>
                      <a:pt x="4115787" y="331271"/>
                      <a:pt x="4145014" y="337534"/>
                    </a:cubicBezTo>
                    <a:cubicBezTo>
                      <a:pt x="4174241" y="343797"/>
                      <a:pt x="4184680" y="320833"/>
                      <a:pt x="4207644" y="299956"/>
                    </a:cubicBezTo>
                    <a:cubicBezTo>
                      <a:pt x="4230608" y="279079"/>
                      <a:pt x="4255660" y="216449"/>
                      <a:pt x="4282800" y="212274"/>
                    </a:cubicBezTo>
                    <a:cubicBezTo>
                      <a:pt x="4309940" y="208099"/>
                      <a:pt x="4334992" y="270729"/>
                      <a:pt x="4370482" y="274904"/>
                    </a:cubicBezTo>
                    <a:cubicBezTo>
                      <a:pt x="4405972" y="279079"/>
                      <a:pt x="4464428" y="251940"/>
                      <a:pt x="4495743" y="237326"/>
                    </a:cubicBezTo>
                    <a:cubicBezTo>
                      <a:pt x="4527058" y="222712"/>
                      <a:pt x="4535409" y="178871"/>
                      <a:pt x="4558373" y="187222"/>
                    </a:cubicBezTo>
                    <a:cubicBezTo>
                      <a:pt x="4581337" y="195573"/>
                      <a:pt x="4612652" y="272816"/>
                      <a:pt x="4633529" y="287430"/>
                    </a:cubicBezTo>
                    <a:cubicBezTo>
                      <a:pt x="4654406" y="302044"/>
                      <a:pt x="4660669" y="293693"/>
                      <a:pt x="4683633" y="274904"/>
                    </a:cubicBezTo>
                    <a:cubicBezTo>
                      <a:pt x="4706597" y="256115"/>
                      <a:pt x="4740000" y="183047"/>
                      <a:pt x="4771315" y="174696"/>
                    </a:cubicBezTo>
                    <a:cubicBezTo>
                      <a:pt x="4802630" y="166345"/>
                      <a:pt x="4844383" y="216449"/>
                      <a:pt x="4871523" y="224800"/>
                    </a:cubicBezTo>
                    <a:cubicBezTo>
                      <a:pt x="4898663" y="233151"/>
                      <a:pt x="4907014" y="233151"/>
                      <a:pt x="4934154" y="224800"/>
                    </a:cubicBezTo>
                    <a:cubicBezTo>
                      <a:pt x="4961294" y="216449"/>
                      <a:pt x="4982170" y="197660"/>
                      <a:pt x="5034362" y="174696"/>
                    </a:cubicBezTo>
                    <a:cubicBezTo>
                      <a:pt x="5086554" y="151732"/>
                      <a:pt x="5201375" y="114154"/>
                      <a:pt x="5247304" y="87014"/>
                    </a:cubicBezTo>
                    <a:cubicBezTo>
                      <a:pt x="5293233" y="59874"/>
                      <a:pt x="5291145" y="24384"/>
                      <a:pt x="5309934" y="11858"/>
                    </a:cubicBezTo>
                    <a:cubicBezTo>
                      <a:pt x="5328723" y="-668"/>
                      <a:pt x="5328724" y="-6931"/>
                      <a:pt x="5360039" y="11858"/>
                    </a:cubicBezTo>
                    <a:cubicBezTo>
                      <a:pt x="5391354" y="30647"/>
                      <a:pt x="5460247" y="107891"/>
                      <a:pt x="5497825" y="124592"/>
                    </a:cubicBezTo>
                    <a:cubicBezTo>
                      <a:pt x="5535403" y="141293"/>
                      <a:pt x="5558367" y="124592"/>
                      <a:pt x="5585507" y="112066"/>
                    </a:cubicBezTo>
                    <a:cubicBezTo>
                      <a:pt x="5612647" y="99540"/>
                      <a:pt x="5631436" y="49436"/>
                      <a:pt x="5660663" y="49436"/>
                    </a:cubicBezTo>
                    <a:cubicBezTo>
                      <a:pt x="5689890" y="49436"/>
                      <a:pt x="5725381" y="93277"/>
                      <a:pt x="5760871" y="112066"/>
                    </a:cubicBezTo>
                    <a:cubicBezTo>
                      <a:pt x="5796361" y="130855"/>
                      <a:pt x="5838115" y="153819"/>
                      <a:pt x="5873606" y="162170"/>
                    </a:cubicBezTo>
                    <a:cubicBezTo>
                      <a:pt x="5909097" y="170521"/>
                      <a:pt x="5927578" y="170258"/>
                      <a:pt x="5973814" y="162170"/>
                    </a:cubicBezTo>
                    <a:cubicBezTo>
                      <a:pt x="6020050" y="154082"/>
                      <a:pt x="6103051" y="116831"/>
                      <a:pt x="6151023" y="113640"/>
                    </a:cubicBezTo>
                    <a:cubicBezTo>
                      <a:pt x="6198995" y="110449"/>
                      <a:pt x="6224378" y="139112"/>
                      <a:pt x="6261649" y="143025"/>
                    </a:cubicBezTo>
                    <a:cubicBezTo>
                      <a:pt x="6298920" y="146938"/>
                      <a:pt x="6337025" y="138102"/>
                      <a:pt x="6374647" y="137118"/>
                    </a:cubicBezTo>
                    <a:cubicBezTo>
                      <a:pt x="6412269" y="136134"/>
                      <a:pt x="6449803" y="128767"/>
                      <a:pt x="6487381" y="137118"/>
                    </a:cubicBezTo>
                    <a:cubicBezTo>
                      <a:pt x="6524959" y="145469"/>
                      <a:pt x="6568800" y="174696"/>
                      <a:pt x="6600115" y="187222"/>
                    </a:cubicBezTo>
                    <a:cubicBezTo>
                      <a:pt x="6631430" y="199748"/>
                      <a:pt x="6650219" y="218537"/>
                      <a:pt x="6675271" y="212274"/>
                    </a:cubicBezTo>
                    <a:cubicBezTo>
                      <a:pt x="6700323" y="206011"/>
                      <a:pt x="6725376" y="166345"/>
                      <a:pt x="6750428" y="149644"/>
                    </a:cubicBezTo>
                    <a:cubicBezTo>
                      <a:pt x="6775480" y="132943"/>
                      <a:pt x="6781743" y="122504"/>
                      <a:pt x="6825584" y="112066"/>
                    </a:cubicBezTo>
                    <a:cubicBezTo>
                      <a:pt x="6869425" y="101628"/>
                      <a:pt x="6961282" y="76576"/>
                      <a:pt x="7013474" y="87014"/>
                    </a:cubicBezTo>
                    <a:cubicBezTo>
                      <a:pt x="7065666" y="97452"/>
                      <a:pt x="7099068" y="160082"/>
                      <a:pt x="7138734" y="174696"/>
                    </a:cubicBezTo>
                    <a:cubicBezTo>
                      <a:pt x="7178400" y="189310"/>
                      <a:pt x="7218066" y="178871"/>
                      <a:pt x="7251469" y="174696"/>
                    </a:cubicBezTo>
                    <a:cubicBezTo>
                      <a:pt x="7284872" y="170521"/>
                      <a:pt x="7303661" y="157995"/>
                      <a:pt x="7339151" y="149644"/>
                    </a:cubicBezTo>
                    <a:cubicBezTo>
                      <a:pt x="7374641" y="141293"/>
                      <a:pt x="7424745" y="116241"/>
                      <a:pt x="7464411" y="124592"/>
                    </a:cubicBezTo>
                    <a:cubicBezTo>
                      <a:pt x="7504077" y="132943"/>
                      <a:pt x="7545830" y="187222"/>
                      <a:pt x="7577145" y="199748"/>
                    </a:cubicBezTo>
                    <a:cubicBezTo>
                      <a:pt x="7608460" y="212274"/>
                      <a:pt x="7623075" y="212274"/>
                      <a:pt x="7652302" y="199748"/>
                    </a:cubicBezTo>
                    <a:cubicBezTo>
                      <a:pt x="7681529" y="187222"/>
                      <a:pt x="7719107" y="132943"/>
                      <a:pt x="7752510" y="124592"/>
                    </a:cubicBezTo>
                    <a:cubicBezTo>
                      <a:pt x="7785913" y="116241"/>
                      <a:pt x="7815140" y="128767"/>
                      <a:pt x="7852718" y="149644"/>
                    </a:cubicBezTo>
                    <a:cubicBezTo>
                      <a:pt x="7890296" y="170521"/>
                      <a:pt x="7938312" y="233151"/>
                      <a:pt x="7977978" y="249852"/>
                    </a:cubicBezTo>
                    <a:cubicBezTo>
                      <a:pt x="8017644" y="266553"/>
                      <a:pt x="8048959" y="254027"/>
                      <a:pt x="8090713" y="249852"/>
                    </a:cubicBezTo>
                    <a:cubicBezTo>
                      <a:pt x="8132467" y="245677"/>
                      <a:pt x="8195096" y="222712"/>
                      <a:pt x="8228499" y="224800"/>
                    </a:cubicBezTo>
                    <a:cubicBezTo>
                      <a:pt x="8261902" y="226888"/>
                      <a:pt x="8257726" y="260290"/>
                      <a:pt x="8291129" y="262378"/>
                    </a:cubicBezTo>
                    <a:cubicBezTo>
                      <a:pt x="8324532" y="264466"/>
                      <a:pt x="8380899" y="251940"/>
                      <a:pt x="8428915" y="237326"/>
                    </a:cubicBezTo>
                    <a:cubicBezTo>
                      <a:pt x="8476932" y="222712"/>
                      <a:pt x="8541650" y="172608"/>
                      <a:pt x="8579228" y="174696"/>
                    </a:cubicBezTo>
                    <a:cubicBezTo>
                      <a:pt x="8616806" y="176784"/>
                      <a:pt x="8625157" y="235238"/>
                      <a:pt x="8654384" y="249852"/>
                    </a:cubicBezTo>
                    <a:cubicBezTo>
                      <a:pt x="8683611" y="264466"/>
                      <a:pt x="8721189" y="270729"/>
                      <a:pt x="8754592" y="262378"/>
                    </a:cubicBezTo>
                    <a:cubicBezTo>
                      <a:pt x="8787995" y="254027"/>
                      <a:pt x="8825573" y="216449"/>
                      <a:pt x="8854800" y="199748"/>
                    </a:cubicBezTo>
                    <a:cubicBezTo>
                      <a:pt x="8884027" y="183047"/>
                      <a:pt x="8906992" y="157995"/>
                      <a:pt x="8929956" y="162170"/>
                    </a:cubicBezTo>
                    <a:cubicBezTo>
                      <a:pt x="8952920" y="166345"/>
                      <a:pt x="8959184" y="214362"/>
                      <a:pt x="8992587" y="224800"/>
                    </a:cubicBezTo>
                    <a:cubicBezTo>
                      <a:pt x="9025990" y="235238"/>
                      <a:pt x="9090707" y="235238"/>
                      <a:pt x="9130373" y="224800"/>
                    </a:cubicBezTo>
                    <a:cubicBezTo>
                      <a:pt x="9170039" y="214362"/>
                      <a:pt x="9197178" y="172608"/>
                      <a:pt x="9230581" y="162170"/>
                    </a:cubicBezTo>
                    <a:cubicBezTo>
                      <a:pt x="9263984" y="151732"/>
                      <a:pt x="9291123" y="153819"/>
                      <a:pt x="9330789" y="162170"/>
                    </a:cubicBezTo>
                    <a:cubicBezTo>
                      <a:pt x="9370455" y="170521"/>
                      <a:pt x="9433086" y="197660"/>
                      <a:pt x="9468576" y="212274"/>
                    </a:cubicBezTo>
                    <a:cubicBezTo>
                      <a:pt x="9504067" y="226888"/>
                      <a:pt x="9514505" y="258203"/>
                      <a:pt x="9543732" y="249852"/>
                    </a:cubicBezTo>
                    <a:cubicBezTo>
                      <a:pt x="9572959" y="241501"/>
                      <a:pt x="9606362" y="193485"/>
                      <a:pt x="9643940" y="162170"/>
                    </a:cubicBezTo>
                    <a:cubicBezTo>
                      <a:pt x="9681518" y="130855"/>
                      <a:pt x="9729534" y="64050"/>
                      <a:pt x="9769200" y="61962"/>
                    </a:cubicBezTo>
                    <a:cubicBezTo>
                      <a:pt x="9808866" y="59874"/>
                      <a:pt x="9846443" y="141293"/>
                      <a:pt x="9881934" y="149644"/>
                    </a:cubicBezTo>
                    <a:cubicBezTo>
                      <a:pt x="9917425" y="157995"/>
                      <a:pt x="9952916" y="109978"/>
                      <a:pt x="9982143" y="112066"/>
                    </a:cubicBezTo>
                    <a:cubicBezTo>
                      <a:pt x="10011370" y="114154"/>
                      <a:pt x="10019721" y="162170"/>
                      <a:pt x="10057299" y="162170"/>
                    </a:cubicBezTo>
                    <a:cubicBezTo>
                      <a:pt x="10094877" y="162170"/>
                      <a:pt x="10170033" y="105803"/>
                      <a:pt x="10207611" y="112066"/>
                    </a:cubicBezTo>
                    <a:cubicBezTo>
                      <a:pt x="10245189" y="118329"/>
                      <a:pt x="10253540" y="185134"/>
                      <a:pt x="10282767" y="199748"/>
                    </a:cubicBezTo>
                    <a:cubicBezTo>
                      <a:pt x="10311995" y="214362"/>
                      <a:pt x="10347486" y="212274"/>
                      <a:pt x="10382976" y="199748"/>
                    </a:cubicBezTo>
                    <a:cubicBezTo>
                      <a:pt x="10418466" y="187222"/>
                      <a:pt x="10451869" y="135030"/>
                      <a:pt x="10495710" y="124592"/>
                    </a:cubicBezTo>
                    <a:cubicBezTo>
                      <a:pt x="10539551" y="114154"/>
                      <a:pt x="10612619" y="120417"/>
                      <a:pt x="10646022" y="137118"/>
                    </a:cubicBezTo>
                    <a:cubicBezTo>
                      <a:pt x="10679425" y="153819"/>
                      <a:pt x="10696126" y="151732"/>
                      <a:pt x="10696126" y="224800"/>
                    </a:cubicBezTo>
                    <a:cubicBezTo>
                      <a:pt x="10696126" y="297868"/>
                      <a:pt x="10681512" y="245677"/>
                      <a:pt x="10646022" y="575529"/>
                    </a:cubicBezTo>
                    <a:cubicBezTo>
                      <a:pt x="10610532" y="905381"/>
                      <a:pt x="10545814" y="1909550"/>
                      <a:pt x="10483184" y="2203912"/>
                    </a:cubicBezTo>
                    <a:cubicBezTo>
                      <a:pt x="10420554" y="2498274"/>
                      <a:pt x="10320345" y="2318735"/>
                      <a:pt x="10270241" y="2341699"/>
                    </a:cubicBezTo>
                    <a:cubicBezTo>
                      <a:pt x="10220137" y="2364663"/>
                      <a:pt x="10224312" y="2358400"/>
                      <a:pt x="10182559" y="2341699"/>
                    </a:cubicBezTo>
                    <a:cubicBezTo>
                      <a:pt x="10140806" y="2324998"/>
                      <a:pt x="10069825" y="2262367"/>
                      <a:pt x="10019721" y="2241490"/>
                    </a:cubicBezTo>
                    <a:cubicBezTo>
                      <a:pt x="9969617" y="2220613"/>
                      <a:pt x="9934126" y="2233139"/>
                      <a:pt x="9881934" y="2216438"/>
                    </a:cubicBezTo>
                    <a:cubicBezTo>
                      <a:pt x="9829742" y="2199737"/>
                      <a:pt x="9758762" y="2149633"/>
                      <a:pt x="9706570" y="2141282"/>
                    </a:cubicBezTo>
                    <a:cubicBezTo>
                      <a:pt x="9654378" y="2132931"/>
                      <a:pt x="9633502" y="2162159"/>
                      <a:pt x="9568784" y="2166334"/>
                    </a:cubicBezTo>
                    <a:cubicBezTo>
                      <a:pt x="9504066" y="2170509"/>
                      <a:pt x="9318263" y="2166334"/>
                      <a:pt x="9318263" y="2166334"/>
                    </a:cubicBezTo>
                    <a:cubicBezTo>
                      <a:pt x="9232669" y="2166334"/>
                      <a:pt x="9109496" y="2185123"/>
                      <a:pt x="9055217" y="2166334"/>
                    </a:cubicBezTo>
                    <a:cubicBezTo>
                      <a:pt x="9000938" y="2147545"/>
                      <a:pt x="9013464" y="2059863"/>
                      <a:pt x="8992587" y="2053600"/>
                    </a:cubicBezTo>
                    <a:cubicBezTo>
                      <a:pt x="8971710" y="2047337"/>
                      <a:pt x="8948745" y="2109967"/>
                      <a:pt x="8929956" y="2128756"/>
                    </a:cubicBezTo>
                    <a:cubicBezTo>
                      <a:pt x="8911167" y="2147545"/>
                      <a:pt x="8919518" y="2151720"/>
                      <a:pt x="8879852" y="2166334"/>
                    </a:cubicBezTo>
                    <a:cubicBezTo>
                      <a:pt x="8840186" y="2180948"/>
                      <a:pt x="8742066" y="2203912"/>
                      <a:pt x="8691962" y="2216438"/>
                    </a:cubicBezTo>
                    <a:cubicBezTo>
                      <a:pt x="8641858" y="2228964"/>
                      <a:pt x="8620982" y="2231052"/>
                      <a:pt x="8579228" y="2241490"/>
                    </a:cubicBezTo>
                    <a:cubicBezTo>
                      <a:pt x="8537475" y="2251929"/>
                      <a:pt x="8508246" y="2287420"/>
                      <a:pt x="8441441" y="2279069"/>
                    </a:cubicBezTo>
                    <a:cubicBezTo>
                      <a:pt x="8374636" y="2270718"/>
                      <a:pt x="8276515" y="2206000"/>
                      <a:pt x="8178395" y="2191386"/>
                    </a:cubicBezTo>
                    <a:cubicBezTo>
                      <a:pt x="8080275" y="2176772"/>
                      <a:pt x="7965452" y="2203912"/>
                      <a:pt x="7852718" y="2191386"/>
                    </a:cubicBezTo>
                    <a:cubicBezTo>
                      <a:pt x="7739984" y="2178860"/>
                      <a:pt x="7600109" y="2118318"/>
                      <a:pt x="7501989" y="2116230"/>
                    </a:cubicBezTo>
                    <a:cubicBezTo>
                      <a:pt x="7403869" y="2114142"/>
                      <a:pt x="7263995" y="2178860"/>
                      <a:pt x="7263995" y="2178860"/>
                    </a:cubicBezTo>
                    <a:cubicBezTo>
                      <a:pt x="7199277" y="2195561"/>
                      <a:pt x="7163786" y="2224789"/>
                      <a:pt x="7113682" y="2216438"/>
                    </a:cubicBezTo>
                    <a:cubicBezTo>
                      <a:pt x="7063578" y="2208087"/>
                      <a:pt x="7019737" y="2143370"/>
                      <a:pt x="6963370" y="2128756"/>
                    </a:cubicBezTo>
                    <a:cubicBezTo>
                      <a:pt x="6907003" y="2114142"/>
                      <a:pt x="6813058" y="2105792"/>
                      <a:pt x="6775480" y="2128756"/>
                    </a:cubicBezTo>
                    <a:cubicBezTo>
                      <a:pt x="6737902" y="2151720"/>
                      <a:pt x="6748340" y="2228964"/>
                      <a:pt x="6737902" y="2266542"/>
                    </a:cubicBezTo>
                    <a:cubicBezTo>
                      <a:pt x="6727464" y="2304120"/>
                      <a:pt x="6744165" y="2339611"/>
                      <a:pt x="6712850" y="2354225"/>
                    </a:cubicBezTo>
                    <a:cubicBezTo>
                      <a:pt x="6681535" y="2368839"/>
                      <a:pt x="6614729" y="2347962"/>
                      <a:pt x="6550011" y="2354225"/>
                    </a:cubicBezTo>
                    <a:cubicBezTo>
                      <a:pt x="6485293" y="2360488"/>
                      <a:pt x="6389261" y="2375102"/>
                      <a:pt x="6324543" y="2391803"/>
                    </a:cubicBezTo>
                    <a:cubicBezTo>
                      <a:pt x="6259825" y="2408504"/>
                      <a:pt x="6203458" y="2458608"/>
                      <a:pt x="6161704" y="2454433"/>
                    </a:cubicBezTo>
                    <a:cubicBezTo>
                      <a:pt x="6119950" y="2450258"/>
                      <a:pt x="6105337" y="2393891"/>
                      <a:pt x="6074022" y="2366751"/>
                    </a:cubicBezTo>
                    <a:cubicBezTo>
                      <a:pt x="6042707" y="2339611"/>
                      <a:pt x="6023918" y="2304121"/>
                      <a:pt x="5973814" y="2291595"/>
                    </a:cubicBezTo>
                    <a:cubicBezTo>
                      <a:pt x="5923710" y="2279069"/>
                      <a:pt x="5842290" y="2289507"/>
                      <a:pt x="5773397" y="2291595"/>
                    </a:cubicBezTo>
                    <a:cubicBezTo>
                      <a:pt x="5704504" y="2293683"/>
                      <a:pt x="5623085" y="2318735"/>
                      <a:pt x="5560455" y="2304121"/>
                    </a:cubicBezTo>
                    <a:cubicBezTo>
                      <a:pt x="5497825" y="2289507"/>
                      <a:pt x="5462335" y="2226877"/>
                      <a:pt x="5397617" y="2203912"/>
                    </a:cubicBezTo>
                    <a:cubicBezTo>
                      <a:pt x="5332899" y="2180948"/>
                      <a:pt x="5232691" y="2162159"/>
                      <a:pt x="5172148" y="2166334"/>
                    </a:cubicBezTo>
                    <a:cubicBezTo>
                      <a:pt x="5111605" y="2170509"/>
                      <a:pt x="5117869" y="2216438"/>
                      <a:pt x="5034362" y="2228964"/>
                    </a:cubicBezTo>
                    <a:cubicBezTo>
                      <a:pt x="4950855" y="2241490"/>
                      <a:pt x="4729562" y="2266542"/>
                      <a:pt x="4671107" y="2241490"/>
                    </a:cubicBezTo>
                    <a:cubicBezTo>
                      <a:pt x="4612652" y="2216438"/>
                      <a:pt x="4704510" y="2105792"/>
                      <a:pt x="4683633" y="2078652"/>
                    </a:cubicBezTo>
                    <a:cubicBezTo>
                      <a:pt x="4662756" y="2051512"/>
                      <a:pt x="4583425" y="2057775"/>
                      <a:pt x="4545847" y="2078652"/>
                    </a:cubicBezTo>
                    <a:cubicBezTo>
                      <a:pt x="4508269" y="2099529"/>
                      <a:pt x="4499918" y="2170509"/>
                      <a:pt x="4458165" y="2203912"/>
                    </a:cubicBezTo>
                    <a:cubicBezTo>
                      <a:pt x="4416412" y="2237315"/>
                      <a:pt x="4345430" y="2268631"/>
                      <a:pt x="4295326" y="2279069"/>
                    </a:cubicBezTo>
                    <a:cubicBezTo>
                      <a:pt x="4245222" y="2289507"/>
                      <a:pt x="4226433" y="2264454"/>
                      <a:pt x="4157540" y="2266542"/>
                    </a:cubicBezTo>
                    <a:cubicBezTo>
                      <a:pt x="4088647" y="2268630"/>
                      <a:pt x="3955035" y="2281157"/>
                      <a:pt x="3881967" y="2291595"/>
                    </a:cubicBezTo>
                    <a:cubicBezTo>
                      <a:pt x="3808899" y="2302033"/>
                      <a:pt x="3783847" y="2329173"/>
                      <a:pt x="3719129" y="2329173"/>
                    </a:cubicBezTo>
                    <a:cubicBezTo>
                      <a:pt x="3654411" y="2329173"/>
                      <a:pt x="3583430" y="2312472"/>
                      <a:pt x="3493660" y="2291595"/>
                    </a:cubicBezTo>
                    <a:cubicBezTo>
                      <a:pt x="3403890" y="2270718"/>
                      <a:pt x="3243140" y="2216438"/>
                      <a:pt x="3180510" y="2203912"/>
                    </a:cubicBezTo>
                    <a:cubicBezTo>
                      <a:pt x="3117880" y="2191386"/>
                      <a:pt x="3159633" y="2222701"/>
                      <a:pt x="3117880" y="2216438"/>
                    </a:cubicBezTo>
                    <a:cubicBezTo>
                      <a:pt x="3076127" y="2210175"/>
                      <a:pt x="2988444" y="2199737"/>
                      <a:pt x="2929989" y="2166334"/>
                    </a:cubicBezTo>
                    <a:cubicBezTo>
                      <a:pt x="2871534" y="2132931"/>
                      <a:pt x="2825606" y="2026460"/>
                      <a:pt x="2767151" y="2016022"/>
                    </a:cubicBezTo>
                    <a:cubicBezTo>
                      <a:pt x="2708696" y="2005584"/>
                      <a:pt x="2639802" y="2072389"/>
                      <a:pt x="2579260" y="2103704"/>
                    </a:cubicBezTo>
                    <a:cubicBezTo>
                      <a:pt x="2518718" y="2135019"/>
                      <a:pt x="2454000" y="2201824"/>
                      <a:pt x="2403896" y="2203912"/>
                    </a:cubicBezTo>
                    <a:cubicBezTo>
                      <a:pt x="2353792" y="2206000"/>
                      <a:pt x="2335003" y="2122493"/>
                      <a:pt x="2278636" y="2116230"/>
                    </a:cubicBezTo>
                    <a:cubicBezTo>
                      <a:pt x="2222269" y="2109967"/>
                      <a:pt x="2122060" y="2149633"/>
                      <a:pt x="2065693" y="2166334"/>
                    </a:cubicBezTo>
                    <a:cubicBezTo>
                      <a:pt x="2009326" y="2183035"/>
                      <a:pt x="2003063" y="2214350"/>
                      <a:pt x="1940433" y="2216438"/>
                    </a:cubicBezTo>
                    <a:cubicBezTo>
                      <a:pt x="1877803" y="2218526"/>
                      <a:pt x="1758806" y="2178860"/>
                      <a:pt x="1689913" y="2178860"/>
                    </a:cubicBezTo>
                    <a:cubicBezTo>
                      <a:pt x="1621020" y="2178860"/>
                      <a:pt x="1527074" y="2216438"/>
                      <a:pt x="1527074" y="2216438"/>
                    </a:cubicBezTo>
                    <a:cubicBezTo>
                      <a:pt x="1472795" y="2228964"/>
                      <a:pt x="1403902" y="2268630"/>
                      <a:pt x="1364236" y="2254016"/>
                    </a:cubicBezTo>
                    <a:cubicBezTo>
                      <a:pt x="1324570" y="2239402"/>
                      <a:pt x="1320395" y="2132931"/>
                      <a:pt x="1289080" y="2128756"/>
                    </a:cubicBezTo>
                    <a:cubicBezTo>
                      <a:pt x="1257765" y="2124581"/>
                      <a:pt x="1218098" y="2197649"/>
                      <a:pt x="1176345" y="2228964"/>
                    </a:cubicBezTo>
                    <a:cubicBezTo>
                      <a:pt x="1134592" y="2260279"/>
                      <a:pt x="1094926" y="2308296"/>
                      <a:pt x="1038559" y="2316647"/>
                    </a:cubicBezTo>
                    <a:cubicBezTo>
                      <a:pt x="982192" y="2324998"/>
                      <a:pt x="894510" y="2285332"/>
                      <a:pt x="838143" y="2279069"/>
                    </a:cubicBezTo>
                    <a:cubicBezTo>
                      <a:pt x="781776" y="2272806"/>
                      <a:pt x="735847" y="2270718"/>
                      <a:pt x="700356" y="2279069"/>
                    </a:cubicBezTo>
                    <a:cubicBezTo>
                      <a:pt x="664865" y="2287420"/>
                      <a:pt x="666953" y="2335436"/>
                      <a:pt x="625200" y="2329173"/>
                    </a:cubicBezTo>
                    <a:cubicBezTo>
                      <a:pt x="583447" y="2322910"/>
                      <a:pt x="499940" y="2251928"/>
                      <a:pt x="449836" y="2241490"/>
                    </a:cubicBezTo>
                    <a:cubicBezTo>
                      <a:pt x="399732" y="2231052"/>
                      <a:pt x="349628" y="2249841"/>
                      <a:pt x="324576" y="2266542"/>
                    </a:cubicBezTo>
                    <a:cubicBezTo>
                      <a:pt x="299524" y="2283244"/>
                      <a:pt x="312049" y="2339611"/>
                      <a:pt x="299523" y="2341699"/>
                    </a:cubicBezTo>
                    <a:cubicBezTo>
                      <a:pt x="286997" y="2343787"/>
                      <a:pt x="276559" y="2295771"/>
                      <a:pt x="249419" y="2279069"/>
                    </a:cubicBezTo>
                    <a:cubicBezTo>
                      <a:pt x="222279" y="2262368"/>
                      <a:pt x="176351" y="2247753"/>
                      <a:pt x="136685" y="2241490"/>
                    </a:cubicBezTo>
                    <a:cubicBezTo>
                      <a:pt x="97019" y="2235227"/>
                      <a:pt x="32302" y="2256104"/>
                      <a:pt x="11425" y="2241490"/>
                    </a:cubicBezTo>
                    <a:cubicBezTo>
                      <a:pt x="-9452" y="2226876"/>
                      <a:pt x="3074" y="2487835"/>
                      <a:pt x="11425" y="2153808"/>
                    </a:cubicBezTo>
                    <a:cubicBezTo>
                      <a:pt x="19776" y="1819781"/>
                      <a:pt x="76143" y="598493"/>
                      <a:pt x="86581" y="24985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21"/>
              <p:cNvSpPr/>
              <p:nvPr/>
            </p:nvSpPr>
            <p:spPr>
              <a:xfrm flipH="1" flipV="1">
                <a:off x="118440" y="4948200"/>
                <a:ext cx="5218920" cy="183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图片 17" descr=""/>
            <p:cNvPicPr/>
            <p:nvPr/>
          </p:nvPicPr>
          <p:blipFill>
            <a:blip r:embed="rId7"/>
            <a:stretch/>
          </p:blipFill>
          <p:spPr>
            <a:xfrm rot="10520400">
              <a:off x="4306680" y="4365360"/>
              <a:ext cx="1596960" cy="2514600"/>
            </a:xfrm>
            <a:prstGeom prst="rect">
              <a:avLst/>
            </a:prstGeom>
            <a:ln w="0">
              <a:noFill/>
            </a:ln>
            <a:effectLst>
              <a:outerShdw dist="88972" dir="2513029" blurRad="0" rotWithShape="0">
                <a:srgbClr val="000000">
                  <a:alpha val="71000"/>
                </a:srgbClr>
              </a:outerShdw>
            </a:effectLst>
          </p:spPr>
        </p:pic>
      </p:grpSp>
      <p:sp>
        <p:nvSpPr>
          <p:cNvPr id="84" name="矩形 22"/>
          <p:cNvSpPr/>
          <p:nvPr/>
        </p:nvSpPr>
        <p:spPr>
          <a:xfrm rot="21219000">
            <a:off x="3086640" y="237960"/>
            <a:ext cx="388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3"/>
          <p:cNvSpPr/>
          <p:nvPr/>
        </p:nvSpPr>
        <p:spPr>
          <a:xfrm rot="412800">
            <a:off x="3164760" y="4832280"/>
            <a:ext cx="388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4"/>
          <p:cNvSpPr/>
          <p:nvPr/>
        </p:nvSpPr>
        <p:spPr>
          <a:xfrm rot="267600">
            <a:off x="5467680" y="2636640"/>
            <a:ext cx="388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5"/>
          <p:cNvSpPr/>
          <p:nvPr/>
        </p:nvSpPr>
        <p:spPr>
          <a:xfrm>
            <a:off x="5567400" y="5510160"/>
            <a:ext cx="55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在此放置您的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6"/>
          <p:cNvSpPr/>
          <p:nvPr/>
        </p:nvSpPr>
        <p:spPr>
          <a:xfrm>
            <a:off x="1127160" y="3081240"/>
            <a:ext cx="55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在此放置您的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7"/>
          <p:cNvSpPr/>
          <p:nvPr/>
        </p:nvSpPr>
        <p:spPr>
          <a:xfrm>
            <a:off x="5719680" y="692280"/>
            <a:ext cx="55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在此放置您的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9"/>
          <p:cNvGrpSpPr/>
          <p:nvPr/>
        </p:nvGrpSpPr>
        <p:grpSpPr>
          <a:xfrm>
            <a:off x="-182520" y="1179360"/>
            <a:ext cx="17586720" cy="4608720"/>
            <a:chOff x="-182520" y="1179360"/>
            <a:chExt cx="17586720" cy="4608720"/>
          </a:xfrm>
        </p:grpSpPr>
        <p:sp>
          <p:nvSpPr>
            <p:cNvPr id="91" name="任意多边形 42"/>
            <p:cNvSpPr/>
            <p:nvPr/>
          </p:nvSpPr>
          <p:spPr>
            <a:xfrm>
              <a:off x="-167760" y="1355760"/>
              <a:ext cx="17560800" cy="4392000"/>
            </a:xfrm>
            <a:custGeom>
              <a:avLst/>
              <a:gdLst/>
              <a:ahLst/>
              <a:rect l="l" t="t" r="r" b="b"/>
              <a:pathLst>
                <a:path w="10696126" h="2391826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30851" y="169019"/>
                    <a:pt x="5973814" y="162170"/>
                  </a:cubicBezTo>
                  <a:cubicBezTo>
                    <a:pt x="6016777" y="155321"/>
                    <a:pt x="6079195" y="114811"/>
                    <a:pt x="6131387" y="121074"/>
                  </a:cubicBezTo>
                  <a:cubicBezTo>
                    <a:pt x="6183579" y="127337"/>
                    <a:pt x="6246422" y="197074"/>
                    <a:pt x="6286965" y="199748"/>
                  </a:cubicBezTo>
                  <a:cubicBezTo>
                    <a:pt x="6327508" y="202422"/>
                    <a:pt x="6341244" y="147556"/>
                    <a:pt x="6374647" y="137118"/>
                  </a:cubicBezTo>
                  <a:cubicBezTo>
                    <a:pt x="6408050" y="126680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72880" y="2390970"/>
                    <a:pt x="6324543" y="2391803"/>
                  </a:cubicBezTo>
                  <a:cubicBezTo>
                    <a:pt x="6276206" y="2392636"/>
                    <a:pt x="6289459" y="2370721"/>
                    <a:pt x="6259991" y="2359222"/>
                  </a:cubicBezTo>
                  <a:cubicBezTo>
                    <a:pt x="6230523" y="2347723"/>
                    <a:pt x="6187243" y="2337741"/>
                    <a:pt x="6147737" y="2322808"/>
                  </a:cubicBezTo>
                  <a:cubicBezTo>
                    <a:pt x="6108231" y="2307875"/>
                    <a:pt x="6085347" y="2274826"/>
                    <a:pt x="6022957" y="2269624"/>
                  </a:cubicBezTo>
                  <a:lnTo>
                    <a:pt x="5773397" y="2291595"/>
                  </a:lnTo>
                  <a:cubicBezTo>
                    <a:pt x="5696313" y="2297345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39231" y="2233686"/>
                    <a:pt x="4671107" y="2241490"/>
                  </a:cubicBezTo>
                  <a:cubicBezTo>
                    <a:pt x="4602983" y="2249294"/>
                    <a:pt x="4650361" y="2273530"/>
                    <a:pt x="4625617" y="2275788"/>
                  </a:cubicBezTo>
                  <a:cubicBezTo>
                    <a:pt x="4600873" y="2278046"/>
                    <a:pt x="4550549" y="2267015"/>
                    <a:pt x="4522640" y="2255036"/>
                  </a:cubicBezTo>
                  <a:cubicBezTo>
                    <a:pt x="4494731" y="2243057"/>
                    <a:pt x="4496051" y="2199907"/>
                    <a:pt x="4458165" y="2203912"/>
                  </a:cubicBezTo>
                  <a:cubicBezTo>
                    <a:pt x="4420279" y="2207917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3"/>
            <p:cNvSpPr/>
            <p:nvPr/>
          </p:nvSpPr>
          <p:spPr>
            <a:xfrm>
              <a:off x="-182520" y="1485360"/>
              <a:ext cx="17560800" cy="4209840"/>
            </a:xfrm>
            <a:custGeom>
              <a:avLst/>
              <a:gdLst/>
              <a:ahLst/>
              <a:rect l="l" t="t" r="r" b="b"/>
              <a:pathLst>
                <a:path w="10696126" h="2391818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36954" y="165122"/>
                    <a:pt x="5973814" y="162170"/>
                  </a:cubicBezTo>
                  <a:cubicBezTo>
                    <a:pt x="6010674" y="159218"/>
                    <a:pt x="6042573" y="138193"/>
                    <a:pt x="6094765" y="144456"/>
                  </a:cubicBezTo>
                  <a:cubicBezTo>
                    <a:pt x="6146957" y="150719"/>
                    <a:pt x="6240318" y="200971"/>
                    <a:pt x="6286965" y="199748"/>
                  </a:cubicBezTo>
                  <a:cubicBezTo>
                    <a:pt x="6333612" y="198525"/>
                    <a:pt x="6341244" y="147556"/>
                    <a:pt x="6374647" y="137118"/>
                  </a:cubicBezTo>
                  <a:cubicBezTo>
                    <a:pt x="6408050" y="126680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74980" y="2391089"/>
                    <a:pt x="6324543" y="2391803"/>
                  </a:cubicBezTo>
                  <a:cubicBezTo>
                    <a:pt x="6274106" y="2392517"/>
                    <a:pt x="6284859" y="2368016"/>
                    <a:pt x="6247390" y="2358512"/>
                  </a:cubicBezTo>
                  <a:cubicBezTo>
                    <a:pt x="6209921" y="2349008"/>
                    <a:pt x="6145324" y="2345931"/>
                    <a:pt x="6099728" y="2334778"/>
                  </a:cubicBezTo>
                  <a:cubicBezTo>
                    <a:pt x="6054132" y="2323625"/>
                    <a:pt x="6028202" y="2298792"/>
                    <a:pt x="5973814" y="2291595"/>
                  </a:cubicBezTo>
                  <a:cubicBezTo>
                    <a:pt x="5919426" y="2284398"/>
                    <a:pt x="5842290" y="2289507"/>
                    <a:pt x="5773397" y="2291595"/>
                  </a:cubicBezTo>
                  <a:cubicBezTo>
                    <a:pt x="5704504" y="2293683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51688" y="2245242"/>
                    <a:pt x="4671107" y="2241490"/>
                  </a:cubicBezTo>
                  <a:cubicBezTo>
                    <a:pt x="4590526" y="2237738"/>
                    <a:pt x="4585225" y="2214630"/>
                    <a:pt x="4550874" y="2206452"/>
                  </a:cubicBezTo>
                  <a:cubicBezTo>
                    <a:pt x="4516523" y="2198274"/>
                    <a:pt x="4480450" y="2192846"/>
                    <a:pt x="4464998" y="2192423"/>
                  </a:cubicBezTo>
                  <a:cubicBezTo>
                    <a:pt x="4449547" y="2192000"/>
                    <a:pt x="4486444" y="2189471"/>
                    <a:pt x="4458165" y="2203912"/>
                  </a:cubicBezTo>
                  <a:cubicBezTo>
                    <a:pt x="4429886" y="2218353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40"/>
            <p:cNvSpPr/>
            <p:nvPr/>
          </p:nvSpPr>
          <p:spPr>
            <a:xfrm>
              <a:off x="-156600" y="1179360"/>
              <a:ext cx="17560800" cy="4497120"/>
            </a:xfrm>
            <a:custGeom>
              <a:avLst/>
              <a:gdLst/>
              <a:ahLst/>
              <a:rect l="l" t="t" r="r" b="b"/>
              <a:pathLst>
                <a:path w="10696126" h="2454679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27578" y="170258"/>
                    <a:pt x="5973814" y="162170"/>
                  </a:cubicBezTo>
                  <a:cubicBezTo>
                    <a:pt x="6020050" y="154082"/>
                    <a:pt x="6103051" y="116831"/>
                    <a:pt x="6151023" y="113640"/>
                  </a:cubicBezTo>
                  <a:cubicBezTo>
                    <a:pt x="6198995" y="110449"/>
                    <a:pt x="6224378" y="139112"/>
                    <a:pt x="6261649" y="143025"/>
                  </a:cubicBezTo>
                  <a:cubicBezTo>
                    <a:pt x="6298920" y="146938"/>
                    <a:pt x="6337025" y="138102"/>
                    <a:pt x="6374647" y="137118"/>
                  </a:cubicBezTo>
                  <a:cubicBezTo>
                    <a:pt x="6412269" y="136134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89261" y="2375102"/>
                    <a:pt x="6324543" y="2391803"/>
                  </a:cubicBezTo>
                  <a:cubicBezTo>
                    <a:pt x="6259825" y="2408504"/>
                    <a:pt x="6203458" y="2458608"/>
                    <a:pt x="6161704" y="2454433"/>
                  </a:cubicBezTo>
                  <a:cubicBezTo>
                    <a:pt x="6119950" y="2450258"/>
                    <a:pt x="6105337" y="2393891"/>
                    <a:pt x="6074022" y="2366751"/>
                  </a:cubicBezTo>
                  <a:cubicBezTo>
                    <a:pt x="6042707" y="2339611"/>
                    <a:pt x="6023918" y="2304121"/>
                    <a:pt x="5973814" y="2291595"/>
                  </a:cubicBezTo>
                  <a:cubicBezTo>
                    <a:pt x="5923710" y="2279069"/>
                    <a:pt x="5842290" y="2289507"/>
                    <a:pt x="5773397" y="2291595"/>
                  </a:cubicBezTo>
                  <a:cubicBezTo>
                    <a:pt x="5704504" y="2293683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29562" y="2266542"/>
                    <a:pt x="4671107" y="2241490"/>
                  </a:cubicBezTo>
                  <a:cubicBezTo>
                    <a:pt x="4612652" y="2216438"/>
                    <a:pt x="4704510" y="2105792"/>
                    <a:pt x="4683633" y="2078652"/>
                  </a:cubicBezTo>
                  <a:cubicBezTo>
                    <a:pt x="4662756" y="2051512"/>
                    <a:pt x="4583425" y="2057775"/>
                    <a:pt x="4545847" y="2078652"/>
                  </a:cubicBezTo>
                  <a:cubicBezTo>
                    <a:pt x="4508269" y="2099529"/>
                    <a:pt x="4499918" y="2170509"/>
                    <a:pt x="4458165" y="2203912"/>
                  </a:cubicBezTo>
                  <a:cubicBezTo>
                    <a:pt x="4416412" y="2237315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8"/>
            <p:cNvSpPr/>
            <p:nvPr/>
          </p:nvSpPr>
          <p:spPr>
            <a:xfrm>
              <a:off x="10187280" y="1467720"/>
              <a:ext cx="3902400" cy="43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图片 7" descr=""/>
          <p:cNvPicPr/>
          <p:nvPr/>
        </p:nvPicPr>
        <p:blipFill>
          <a:blip r:embed="rId3"/>
          <a:stretch/>
        </p:blipFill>
        <p:spPr>
          <a:xfrm rot="21321000">
            <a:off x="9124920" y="1170000"/>
            <a:ext cx="3024360" cy="5746680"/>
          </a:xfrm>
          <a:prstGeom prst="rect">
            <a:avLst/>
          </a:prstGeom>
          <a:ln w="0">
            <a:noFill/>
          </a:ln>
          <a:effectLst>
            <a:outerShdw dist="88972" dir="2513029" blurRad="0" rotWithShape="0">
              <a:srgbClr val="000000">
                <a:alpha val="71000"/>
              </a:srgbClr>
            </a:outerShdw>
          </a:effectLst>
        </p:spPr>
      </p:pic>
      <p:grpSp>
        <p:nvGrpSpPr>
          <p:cNvPr id="96" name="组合 2"/>
          <p:cNvGrpSpPr/>
          <p:nvPr/>
        </p:nvGrpSpPr>
        <p:grpSpPr>
          <a:xfrm>
            <a:off x="655560" y="2492280"/>
            <a:ext cx="7416720" cy="2128680"/>
            <a:chOff x="655560" y="2492280"/>
            <a:chExt cx="7416720" cy="2128680"/>
          </a:xfrm>
        </p:grpSpPr>
        <p:sp>
          <p:nvSpPr>
            <p:cNvPr id="97" name="文本框 1"/>
            <p:cNvSpPr/>
            <p:nvPr/>
          </p:nvSpPr>
          <p:spPr>
            <a:xfrm>
              <a:off x="655560" y="2492280"/>
              <a:ext cx="741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 DESTINE"/>
                </a:rPr>
                <a:t>Sample tex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8"/>
            <p:cNvSpPr/>
            <p:nvPr/>
          </p:nvSpPr>
          <p:spPr>
            <a:xfrm>
              <a:off x="655560" y="3551760"/>
              <a:ext cx="7416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 DESTINE"/>
                </a:rPr>
                <a:t>If we can only encounter each other rather than stay with each other,then I wish we had never encountered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1"/>
          <p:cNvGrpSpPr/>
          <p:nvPr/>
        </p:nvGrpSpPr>
        <p:grpSpPr>
          <a:xfrm>
            <a:off x="-182520" y="1179360"/>
            <a:ext cx="17586720" cy="4608720"/>
            <a:chOff x="-182520" y="1179360"/>
            <a:chExt cx="17586720" cy="4608720"/>
          </a:xfrm>
        </p:grpSpPr>
        <p:sp>
          <p:nvSpPr>
            <p:cNvPr id="100" name="任意多边形 2"/>
            <p:cNvSpPr/>
            <p:nvPr/>
          </p:nvSpPr>
          <p:spPr>
            <a:xfrm>
              <a:off x="-167760" y="1355760"/>
              <a:ext cx="17560800" cy="4392000"/>
            </a:xfrm>
            <a:custGeom>
              <a:avLst/>
              <a:gdLst/>
              <a:ahLst/>
              <a:rect l="l" t="t" r="r" b="b"/>
              <a:pathLst>
                <a:path w="10696126" h="2391826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30851" y="169019"/>
                    <a:pt x="5973814" y="162170"/>
                  </a:cubicBezTo>
                  <a:cubicBezTo>
                    <a:pt x="6016777" y="155321"/>
                    <a:pt x="6079195" y="114811"/>
                    <a:pt x="6131387" y="121074"/>
                  </a:cubicBezTo>
                  <a:cubicBezTo>
                    <a:pt x="6183579" y="127337"/>
                    <a:pt x="6246422" y="197074"/>
                    <a:pt x="6286965" y="199748"/>
                  </a:cubicBezTo>
                  <a:cubicBezTo>
                    <a:pt x="6327508" y="202422"/>
                    <a:pt x="6341244" y="147556"/>
                    <a:pt x="6374647" y="137118"/>
                  </a:cubicBezTo>
                  <a:cubicBezTo>
                    <a:pt x="6408050" y="126680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72880" y="2390970"/>
                    <a:pt x="6324543" y="2391803"/>
                  </a:cubicBezTo>
                  <a:cubicBezTo>
                    <a:pt x="6276206" y="2392636"/>
                    <a:pt x="6289459" y="2370721"/>
                    <a:pt x="6259991" y="2359222"/>
                  </a:cubicBezTo>
                  <a:cubicBezTo>
                    <a:pt x="6230523" y="2347723"/>
                    <a:pt x="6187243" y="2337741"/>
                    <a:pt x="6147737" y="2322808"/>
                  </a:cubicBezTo>
                  <a:cubicBezTo>
                    <a:pt x="6108231" y="2307875"/>
                    <a:pt x="6085347" y="2274826"/>
                    <a:pt x="6022957" y="2269624"/>
                  </a:cubicBezTo>
                  <a:lnTo>
                    <a:pt x="5773397" y="2291595"/>
                  </a:lnTo>
                  <a:cubicBezTo>
                    <a:pt x="5696313" y="2297345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29562" y="2266542"/>
                    <a:pt x="4671107" y="2241490"/>
                  </a:cubicBezTo>
                  <a:cubicBezTo>
                    <a:pt x="4612652" y="2216438"/>
                    <a:pt x="4704510" y="2105792"/>
                    <a:pt x="4683633" y="2078652"/>
                  </a:cubicBezTo>
                  <a:cubicBezTo>
                    <a:pt x="4662756" y="2051512"/>
                    <a:pt x="4583425" y="2057775"/>
                    <a:pt x="4545847" y="2078652"/>
                  </a:cubicBezTo>
                  <a:cubicBezTo>
                    <a:pt x="4508269" y="2099529"/>
                    <a:pt x="4499918" y="2170509"/>
                    <a:pt x="4458165" y="2203912"/>
                  </a:cubicBezTo>
                  <a:cubicBezTo>
                    <a:pt x="4416412" y="2237315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3"/>
            <p:cNvSpPr/>
            <p:nvPr/>
          </p:nvSpPr>
          <p:spPr>
            <a:xfrm>
              <a:off x="-182520" y="1485360"/>
              <a:ext cx="17560800" cy="4209840"/>
            </a:xfrm>
            <a:custGeom>
              <a:avLst/>
              <a:gdLst/>
              <a:ahLst/>
              <a:rect l="l" t="t" r="r" b="b"/>
              <a:pathLst>
                <a:path w="10696126" h="2391818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36954" y="165122"/>
                    <a:pt x="5973814" y="162170"/>
                  </a:cubicBezTo>
                  <a:cubicBezTo>
                    <a:pt x="6010674" y="159218"/>
                    <a:pt x="6042573" y="138193"/>
                    <a:pt x="6094765" y="144456"/>
                  </a:cubicBezTo>
                  <a:cubicBezTo>
                    <a:pt x="6146957" y="150719"/>
                    <a:pt x="6240318" y="200971"/>
                    <a:pt x="6286965" y="199748"/>
                  </a:cubicBezTo>
                  <a:cubicBezTo>
                    <a:pt x="6333612" y="198525"/>
                    <a:pt x="6341244" y="147556"/>
                    <a:pt x="6374647" y="137118"/>
                  </a:cubicBezTo>
                  <a:cubicBezTo>
                    <a:pt x="6408050" y="126680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74980" y="2391089"/>
                    <a:pt x="6324543" y="2391803"/>
                  </a:cubicBezTo>
                  <a:cubicBezTo>
                    <a:pt x="6274106" y="2392517"/>
                    <a:pt x="6284859" y="2368016"/>
                    <a:pt x="6247390" y="2358512"/>
                  </a:cubicBezTo>
                  <a:cubicBezTo>
                    <a:pt x="6209921" y="2349008"/>
                    <a:pt x="6145324" y="2345931"/>
                    <a:pt x="6099728" y="2334778"/>
                  </a:cubicBezTo>
                  <a:cubicBezTo>
                    <a:pt x="6054132" y="2323625"/>
                    <a:pt x="6028202" y="2298792"/>
                    <a:pt x="5973814" y="2291595"/>
                  </a:cubicBezTo>
                  <a:cubicBezTo>
                    <a:pt x="5919426" y="2284398"/>
                    <a:pt x="5842290" y="2289507"/>
                    <a:pt x="5773397" y="2291595"/>
                  </a:cubicBezTo>
                  <a:cubicBezTo>
                    <a:pt x="5704504" y="2293683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38545" y="2251373"/>
                    <a:pt x="4671107" y="2241490"/>
                  </a:cubicBezTo>
                  <a:cubicBezTo>
                    <a:pt x="4603669" y="2231608"/>
                    <a:pt x="4664085" y="2177847"/>
                    <a:pt x="4629734" y="2169669"/>
                  </a:cubicBezTo>
                  <a:cubicBezTo>
                    <a:pt x="4595383" y="2161491"/>
                    <a:pt x="4493593" y="2186716"/>
                    <a:pt x="4464998" y="2192423"/>
                  </a:cubicBezTo>
                  <a:cubicBezTo>
                    <a:pt x="4436403" y="2198130"/>
                    <a:pt x="4486444" y="2189471"/>
                    <a:pt x="4458165" y="2203912"/>
                  </a:cubicBezTo>
                  <a:cubicBezTo>
                    <a:pt x="4429886" y="2218353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4"/>
            <p:cNvSpPr/>
            <p:nvPr/>
          </p:nvSpPr>
          <p:spPr>
            <a:xfrm>
              <a:off x="-156600" y="1179360"/>
              <a:ext cx="17560800" cy="4497120"/>
            </a:xfrm>
            <a:custGeom>
              <a:avLst/>
              <a:gdLst/>
              <a:ahLst/>
              <a:rect l="l" t="t" r="r" b="b"/>
              <a:pathLst>
                <a:path w="10696126" h="2454679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27578" y="170258"/>
                    <a:pt x="5973814" y="162170"/>
                  </a:cubicBezTo>
                  <a:cubicBezTo>
                    <a:pt x="6020050" y="154082"/>
                    <a:pt x="6103051" y="116831"/>
                    <a:pt x="6151023" y="113640"/>
                  </a:cubicBezTo>
                  <a:cubicBezTo>
                    <a:pt x="6198995" y="110449"/>
                    <a:pt x="6224378" y="139112"/>
                    <a:pt x="6261649" y="143025"/>
                  </a:cubicBezTo>
                  <a:cubicBezTo>
                    <a:pt x="6298920" y="146938"/>
                    <a:pt x="6337025" y="138102"/>
                    <a:pt x="6374647" y="137118"/>
                  </a:cubicBezTo>
                  <a:cubicBezTo>
                    <a:pt x="6412269" y="136134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89261" y="2375102"/>
                    <a:pt x="6324543" y="2391803"/>
                  </a:cubicBezTo>
                  <a:cubicBezTo>
                    <a:pt x="6259825" y="2408504"/>
                    <a:pt x="6203458" y="2458608"/>
                    <a:pt x="6161704" y="2454433"/>
                  </a:cubicBezTo>
                  <a:cubicBezTo>
                    <a:pt x="6119950" y="2450258"/>
                    <a:pt x="6105337" y="2393891"/>
                    <a:pt x="6074022" y="2366751"/>
                  </a:cubicBezTo>
                  <a:cubicBezTo>
                    <a:pt x="6042707" y="2339611"/>
                    <a:pt x="6023918" y="2304121"/>
                    <a:pt x="5973814" y="2291595"/>
                  </a:cubicBezTo>
                  <a:cubicBezTo>
                    <a:pt x="5923710" y="2279069"/>
                    <a:pt x="5842290" y="2289507"/>
                    <a:pt x="5773397" y="2291595"/>
                  </a:cubicBezTo>
                  <a:cubicBezTo>
                    <a:pt x="5704504" y="2293683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29562" y="2266542"/>
                    <a:pt x="4671107" y="2241490"/>
                  </a:cubicBezTo>
                  <a:cubicBezTo>
                    <a:pt x="4612652" y="2216438"/>
                    <a:pt x="4704510" y="2105792"/>
                    <a:pt x="4683633" y="2078652"/>
                  </a:cubicBezTo>
                  <a:cubicBezTo>
                    <a:pt x="4662756" y="2051512"/>
                    <a:pt x="4583425" y="2057775"/>
                    <a:pt x="4545847" y="2078652"/>
                  </a:cubicBezTo>
                  <a:cubicBezTo>
                    <a:pt x="4508269" y="2099529"/>
                    <a:pt x="4499918" y="2170509"/>
                    <a:pt x="4458165" y="2203912"/>
                  </a:cubicBezTo>
                  <a:cubicBezTo>
                    <a:pt x="4416412" y="2237315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5"/>
            <p:cNvSpPr/>
            <p:nvPr/>
          </p:nvSpPr>
          <p:spPr>
            <a:xfrm>
              <a:off x="10187280" y="1467720"/>
              <a:ext cx="3902400" cy="43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图片 6" descr=""/>
          <p:cNvPicPr/>
          <p:nvPr/>
        </p:nvPicPr>
        <p:blipFill>
          <a:blip r:embed="rId3"/>
          <a:stretch/>
        </p:blipFill>
        <p:spPr>
          <a:xfrm rot="21321000">
            <a:off x="9124920" y="1170000"/>
            <a:ext cx="3024360" cy="5746680"/>
          </a:xfrm>
          <a:prstGeom prst="rect">
            <a:avLst/>
          </a:prstGeom>
          <a:ln w="0">
            <a:noFill/>
          </a:ln>
          <a:effectLst>
            <a:outerShdw dist="88972" dir="2513029" blurRad="0" rotWithShape="0">
              <a:srgbClr val="000000">
                <a:alpha val="71000"/>
              </a:srgbClr>
            </a:outerShdw>
          </a:effectLst>
        </p:spPr>
      </p:pic>
      <p:grpSp>
        <p:nvGrpSpPr>
          <p:cNvPr id="105" name="组合 7"/>
          <p:cNvGrpSpPr/>
          <p:nvPr/>
        </p:nvGrpSpPr>
        <p:grpSpPr>
          <a:xfrm>
            <a:off x="655560" y="2492280"/>
            <a:ext cx="7416720" cy="2128680"/>
            <a:chOff x="655560" y="2492280"/>
            <a:chExt cx="7416720" cy="2128680"/>
          </a:xfrm>
        </p:grpSpPr>
        <p:sp>
          <p:nvSpPr>
            <p:cNvPr id="106" name="文本框 8"/>
            <p:cNvSpPr/>
            <p:nvPr/>
          </p:nvSpPr>
          <p:spPr>
            <a:xfrm>
              <a:off x="655560" y="2492280"/>
              <a:ext cx="741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 DESTINE"/>
                </a:rPr>
                <a:t>Sample tex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9"/>
            <p:cNvSpPr/>
            <p:nvPr/>
          </p:nvSpPr>
          <p:spPr>
            <a:xfrm>
              <a:off x="655560" y="3551760"/>
              <a:ext cx="7416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 DESTINE"/>
                </a:rPr>
                <a:t>If we can only encounter each other rather than stay with each other,then I wish we had never encountered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1"/>
          <p:cNvGrpSpPr/>
          <p:nvPr/>
        </p:nvGrpSpPr>
        <p:grpSpPr>
          <a:xfrm>
            <a:off x="-182520" y="1179360"/>
            <a:ext cx="17586720" cy="4608720"/>
            <a:chOff x="-182520" y="1179360"/>
            <a:chExt cx="17586720" cy="4608720"/>
          </a:xfrm>
        </p:grpSpPr>
        <p:sp>
          <p:nvSpPr>
            <p:cNvPr id="109" name="任意多边形 2"/>
            <p:cNvSpPr/>
            <p:nvPr/>
          </p:nvSpPr>
          <p:spPr>
            <a:xfrm>
              <a:off x="-167760" y="1355760"/>
              <a:ext cx="17560800" cy="4392000"/>
            </a:xfrm>
            <a:custGeom>
              <a:avLst/>
              <a:gdLst/>
              <a:ahLst/>
              <a:rect l="l" t="t" r="r" b="b"/>
              <a:pathLst>
                <a:path w="10696126" h="2391826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30851" y="169019"/>
                    <a:pt x="5973814" y="162170"/>
                  </a:cubicBezTo>
                  <a:cubicBezTo>
                    <a:pt x="6016777" y="155321"/>
                    <a:pt x="6079195" y="114811"/>
                    <a:pt x="6131387" y="121074"/>
                  </a:cubicBezTo>
                  <a:cubicBezTo>
                    <a:pt x="6183579" y="127337"/>
                    <a:pt x="6246422" y="197074"/>
                    <a:pt x="6286965" y="199748"/>
                  </a:cubicBezTo>
                  <a:cubicBezTo>
                    <a:pt x="6327508" y="202422"/>
                    <a:pt x="6341244" y="147556"/>
                    <a:pt x="6374647" y="137118"/>
                  </a:cubicBezTo>
                  <a:cubicBezTo>
                    <a:pt x="6408050" y="126680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72880" y="2390970"/>
                    <a:pt x="6324543" y="2391803"/>
                  </a:cubicBezTo>
                  <a:cubicBezTo>
                    <a:pt x="6276206" y="2392636"/>
                    <a:pt x="6289459" y="2370721"/>
                    <a:pt x="6259991" y="2359222"/>
                  </a:cubicBezTo>
                  <a:cubicBezTo>
                    <a:pt x="6230523" y="2347723"/>
                    <a:pt x="6187243" y="2337741"/>
                    <a:pt x="6147737" y="2322808"/>
                  </a:cubicBezTo>
                  <a:cubicBezTo>
                    <a:pt x="6108231" y="2307875"/>
                    <a:pt x="6085347" y="2274826"/>
                    <a:pt x="6022957" y="2269624"/>
                  </a:cubicBezTo>
                  <a:lnTo>
                    <a:pt x="5773397" y="2291595"/>
                  </a:lnTo>
                  <a:cubicBezTo>
                    <a:pt x="5696313" y="2297345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29562" y="2266542"/>
                    <a:pt x="4671107" y="2241490"/>
                  </a:cubicBezTo>
                  <a:cubicBezTo>
                    <a:pt x="4612652" y="2216438"/>
                    <a:pt x="4704510" y="2105792"/>
                    <a:pt x="4683633" y="2078652"/>
                  </a:cubicBezTo>
                  <a:cubicBezTo>
                    <a:pt x="4662756" y="2051512"/>
                    <a:pt x="4583425" y="2057775"/>
                    <a:pt x="4545847" y="2078652"/>
                  </a:cubicBezTo>
                  <a:cubicBezTo>
                    <a:pt x="4508269" y="2099529"/>
                    <a:pt x="4499918" y="2170509"/>
                    <a:pt x="4458165" y="2203912"/>
                  </a:cubicBezTo>
                  <a:cubicBezTo>
                    <a:pt x="4416412" y="2237315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3"/>
            <p:cNvSpPr/>
            <p:nvPr/>
          </p:nvSpPr>
          <p:spPr>
            <a:xfrm>
              <a:off x="-182520" y="1485360"/>
              <a:ext cx="17560800" cy="4209840"/>
            </a:xfrm>
            <a:custGeom>
              <a:avLst/>
              <a:gdLst/>
              <a:ahLst/>
              <a:rect l="l" t="t" r="r" b="b"/>
              <a:pathLst>
                <a:path w="10696126" h="2391818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36954" y="165122"/>
                    <a:pt x="5973814" y="162170"/>
                  </a:cubicBezTo>
                  <a:cubicBezTo>
                    <a:pt x="6010674" y="159218"/>
                    <a:pt x="6042573" y="138193"/>
                    <a:pt x="6094765" y="144456"/>
                  </a:cubicBezTo>
                  <a:cubicBezTo>
                    <a:pt x="6146957" y="150719"/>
                    <a:pt x="6240318" y="200971"/>
                    <a:pt x="6286965" y="199748"/>
                  </a:cubicBezTo>
                  <a:cubicBezTo>
                    <a:pt x="6333612" y="198525"/>
                    <a:pt x="6341244" y="147556"/>
                    <a:pt x="6374647" y="137118"/>
                  </a:cubicBezTo>
                  <a:cubicBezTo>
                    <a:pt x="6408050" y="126680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74980" y="2391089"/>
                    <a:pt x="6324543" y="2391803"/>
                  </a:cubicBezTo>
                  <a:cubicBezTo>
                    <a:pt x="6274106" y="2392517"/>
                    <a:pt x="6284859" y="2368016"/>
                    <a:pt x="6247390" y="2358512"/>
                  </a:cubicBezTo>
                  <a:cubicBezTo>
                    <a:pt x="6209921" y="2349008"/>
                    <a:pt x="6145324" y="2345931"/>
                    <a:pt x="6099728" y="2334778"/>
                  </a:cubicBezTo>
                  <a:cubicBezTo>
                    <a:pt x="6054132" y="2323625"/>
                    <a:pt x="6028202" y="2298792"/>
                    <a:pt x="5973814" y="2291595"/>
                  </a:cubicBezTo>
                  <a:cubicBezTo>
                    <a:pt x="5919426" y="2284398"/>
                    <a:pt x="5842290" y="2289507"/>
                    <a:pt x="5773397" y="2291595"/>
                  </a:cubicBezTo>
                  <a:cubicBezTo>
                    <a:pt x="5704504" y="2293683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38545" y="2251373"/>
                    <a:pt x="4671107" y="2241490"/>
                  </a:cubicBezTo>
                  <a:cubicBezTo>
                    <a:pt x="4603669" y="2231608"/>
                    <a:pt x="4664085" y="2177847"/>
                    <a:pt x="4629734" y="2169669"/>
                  </a:cubicBezTo>
                  <a:cubicBezTo>
                    <a:pt x="4595383" y="2161491"/>
                    <a:pt x="4493593" y="2186716"/>
                    <a:pt x="4464998" y="2192423"/>
                  </a:cubicBezTo>
                  <a:cubicBezTo>
                    <a:pt x="4436403" y="2198130"/>
                    <a:pt x="4486444" y="2189471"/>
                    <a:pt x="4458165" y="2203912"/>
                  </a:cubicBezTo>
                  <a:cubicBezTo>
                    <a:pt x="4429886" y="2218353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4"/>
            <p:cNvSpPr/>
            <p:nvPr/>
          </p:nvSpPr>
          <p:spPr>
            <a:xfrm>
              <a:off x="-156600" y="1179360"/>
              <a:ext cx="17560800" cy="4497120"/>
            </a:xfrm>
            <a:custGeom>
              <a:avLst/>
              <a:gdLst/>
              <a:ahLst/>
              <a:rect l="l" t="t" r="r" b="b"/>
              <a:pathLst>
                <a:path w="10696126" h="2454679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27578" y="170258"/>
                    <a:pt x="5973814" y="162170"/>
                  </a:cubicBezTo>
                  <a:cubicBezTo>
                    <a:pt x="6020050" y="154082"/>
                    <a:pt x="6103051" y="116831"/>
                    <a:pt x="6151023" y="113640"/>
                  </a:cubicBezTo>
                  <a:cubicBezTo>
                    <a:pt x="6198995" y="110449"/>
                    <a:pt x="6224378" y="139112"/>
                    <a:pt x="6261649" y="143025"/>
                  </a:cubicBezTo>
                  <a:cubicBezTo>
                    <a:pt x="6298920" y="146938"/>
                    <a:pt x="6337025" y="138102"/>
                    <a:pt x="6374647" y="137118"/>
                  </a:cubicBezTo>
                  <a:cubicBezTo>
                    <a:pt x="6412269" y="136134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89261" y="2375102"/>
                    <a:pt x="6324543" y="2391803"/>
                  </a:cubicBezTo>
                  <a:cubicBezTo>
                    <a:pt x="6259825" y="2408504"/>
                    <a:pt x="6203458" y="2458608"/>
                    <a:pt x="6161704" y="2454433"/>
                  </a:cubicBezTo>
                  <a:cubicBezTo>
                    <a:pt x="6119950" y="2450258"/>
                    <a:pt x="6105337" y="2393891"/>
                    <a:pt x="6074022" y="2366751"/>
                  </a:cubicBezTo>
                  <a:cubicBezTo>
                    <a:pt x="6042707" y="2339611"/>
                    <a:pt x="6023918" y="2304121"/>
                    <a:pt x="5973814" y="2291595"/>
                  </a:cubicBezTo>
                  <a:cubicBezTo>
                    <a:pt x="5923710" y="2279069"/>
                    <a:pt x="5842290" y="2289507"/>
                    <a:pt x="5773397" y="2291595"/>
                  </a:cubicBezTo>
                  <a:cubicBezTo>
                    <a:pt x="5704504" y="2293683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29562" y="2266542"/>
                    <a:pt x="4671107" y="2241490"/>
                  </a:cubicBezTo>
                  <a:cubicBezTo>
                    <a:pt x="4612652" y="2216438"/>
                    <a:pt x="4704510" y="2105792"/>
                    <a:pt x="4683633" y="2078652"/>
                  </a:cubicBezTo>
                  <a:cubicBezTo>
                    <a:pt x="4662756" y="2051512"/>
                    <a:pt x="4583425" y="2057775"/>
                    <a:pt x="4545847" y="2078652"/>
                  </a:cubicBezTo>
                  <a:cubicBezTo>
                    <a:pt x="4508269" y="2099529"/>
                    <a:pt x="4499918" y="2170509"/>
                    <a:pt x="4458165" y="2203912"/>
                  </a:cubicBezTo>
                  <a:cubicBezTo>
                    <a:pt x="4416412" y="2237315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5"/>
            <p:cNvSpPr/>
            <p:nvPr/>
          </p:nvSpPr>
          <p:spPr>
            <a:xfrm>
              <a:off x="10187280" y="1467720"/>
              <a:ext cx="3902400" cy="43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图片 6" descr=""/>
          <p:cNvPicPr/>
          <p:nvPr/>
        </p:nvPicPr>
        <p:blipFill>
          <a:blip r:embed="rId3"/>
          <a:stretch/>
        </p:blipFill>
        <p:spPr>
          <a:xfrm rot="21321000">
            <a:off x="9124920" y="1170000"/>
            <a:ext cx="3024360" cy="5746680"/>
          </a:xfrm>
          <a:prstGeom prst="rect">
            <a:avLst/>
          </a:prstGeom>
          <a:ln w="0">
            <a:noFill/>
          </a:ln>
          <a:effectLst>
            <a:outerShdw dist="88972" dir="2513029" blurRad="0" rotWithShape="0">
              <a:srgbClr val="000000">
                <a:alpha val="71000"/>
              </a:srgbClr>
            </a:outerShdw>
          </a:effectLst>
        </p:spPr>
      </p:pic>
      <p:grpSp>
        <p:nvGrpSpPr>
          <p:cNvPr id="114" name="组合 7"/>
          <p:cNvGrpSpPr/>
          <p:nvPr/>
        </p:nvGrpSpPr>
        <p:grpSpPr>
          <a:xfrm>
            <a:off x="655560" y="2492280"/>
            <a:ext cx="7416720" cy="2128680"/>
            <a:chOff x="655560" y="2492280"/>
            <a:chExt cx="7416720" cy="2128680"/>
          </a:xfrm>
        </p:grpSpPr>
        <p:sp>
          <p:nvSpPr>
            <p:cNvPr id="115" name="文本框 8"/>
            <p:cNvSpPr/>
            <p:nvPr/>
          </p:nvSpPr>
          <p:spPr>
            <a:xfrm>
              <a:off x="655560" y="2492280"/>
              <a:ext cx="741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 DESTINE"/>
                </a:rPr>
                <a:t>Sample tex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9"/>
            <p:cNvSpPr/>
            <p:nvPr/>
          </p:nvSpPr>
          <p:spPr>
            <a:xfrm>
              <a:off x="655560" y="3551760"/>
              <a:ext cx="7416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 DESTINE"/>
                </a:rPr>
                <a:t>If we can only encounter each other rather than stay with each other,then I wish we had never encountered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"/>
          <p:cNvGrpSpPr/>
          <p:nvPr/>
        </p:nvGrpSpPr>
        <p:grpSpPr>
          <a:xfrm>
            <a:off x="-182520" y="1179360"/>
            <a:ext cx="17586720" cy="4608720"/>
            <a:chOff x="-182520" y="1179360"/>
            <a:chExt cx="17586720" cy="4608720"/>
          </a:xfrm>
        </p:grpSpPr>
        <p:sp>
          <p:nvSpPr>
            <p:cNvPr id="118" name="任意多边形 2"/>
            <p:cNvSpPr/>
            <p:nvPr/>
          </p:nvSpPr>
          <p:spPr>
            <a:xfrm>
              <a:off x="-167760" y="1355760"/>
              <a:ext cx="17560800" cy="4392000"/>
            </a:xfrm>
            <a:custGeom>
              <a:avLst/>
              <a:gdLst/>
              <a:ahLst/>
              <a:rect l="l" t="t" r="r" b="b"/>
              <a:pathLst>
                <a:path w="10696126" h="2391826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30851" y="169019"/>
                    <a:pt x="5973814" y="162170"/>
                  </a:cubicBezTo>
                  <a:cubicBezTo>
                    <a:pt x="6016777" y="155321"/>
                    <a:pt x="6079195" y="114811"/>
                    <a:pt x="6131387" y="121074"/>
                  </a:cubicBezTo>
                  <a:cubicBezTo>
                    <a:pt x="6183579" y="127337"/>
                    <a:pt x="6246422" y="197074"/>
                    <a:pt x="6286965" y="199748"/>
                  </a:cubicBezTo>
                  <a:cubicBezTo>
                    <a:pt x="6327508" y="202422"/>
                    <a:pt x="6341244" y="147556"/>
                    <a:pt x="6374647" y="137118"/>
                  </a:cubicBezTo>
                  <a:cubicBezTo>
                    <a:pt x="6408050" y="126680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72880" y="2390970"/>
                    <a:pt x="6324543" y="2391803"/>
                  </a:cubicBezTo>
                  <a:cubicBezTo>
                    <a:pt x="6276206" y="2392636"/>
                    <a:pt x="6289459" y="2370721"/>
                    <a:pt x="6259991" y="2359222"/>
                  </a:cubicBezTo>
                  <a:cubicBezTo>
                    <a:pt x="6230523" y="2347723"/>
                    <a:pt x="6187243" y="2337741"/>
                    <a:pt x="6147737" y="2322808"/>
                  </a:cubicBezTo>
                  <a:cubicBezTo>
                    <a:pt x="6108231" y="2307875"/>
                    <a:pt x="6085347" y="2274826"/>
                    <a:pt x="6022957" y="2269624"/>
                  </a:cubicBezTo>
                  <a:lnTo>
                    <a:pt x="5773397" y="2291595"/>
                  </a:lnTo>
                  <a:cubicBezTo>
                    <a:pt x="5696313" y="2297345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29562" y="2266542"/>
                    <a:pt x="4671107" y="2241490"/>
                  </a:cubicBezTo>
                  <a:cubicBezTo>
                    <a:pt x="4612652" y="2216438"/>
                    <a:pt x="4704510" y="2105792"/>
                    <a:pt x="4683633" y="2078652"/>
                  </a:cubicBezTo>
                  <a:cubicBezTo>
                    <a:pt x="4662756" y="2051512"/>
                    <a:pt x="4583425" y="2057775"/>
                    <a:pt x="4545847" y="2078652"/>
                  </a:cubicBezTo>
                  <a:cubicBezTo>
                    <a:pt x="4508269" y="2099529"/>
                    <a:pt x="4499918" y="2170509"/>
                    <a:pt x="4458165" y="2203912"/>
                  </a:cubicBezTo>
                  <a:cubicBezTo>
                    <a:pt x="4416412" y="2237315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3"/>
            <p:cNvSpPr/>
            <p:nvPr/>
          </p:nvSpPr>
          <p:spPr>
            <a:xfrm>
              <a:off x="-182520" y="1485360"/>
              <a:ext cx="17560800" cy="4209840"/>
            </a:xfrm>
            <a:custGeom>
              <a:avLst/>
              <a:gdLst/>
              <a:ahLst/>
              <a:rect l="l" t="t" r="r" b="b"/>
              <a:pathLst>
                <a:path w="10696126" h="2391818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36954" y="165122"/>
                    <a:pt x="5973814" y="162170"/>
                  </a:cubicBezTo>
                  <a:cubicBezTo>
                    <a:pt x="6010674" y="159218"/>
                    <a:pt x="6042573" y="138193"/>
                    <a:pt x="6094765" y="144456"/>
                  </a:cubicBezTo>
                  <a:cubicBezTo>
                    <a:pt x="6146957" y="150719"/>
                    <a:pt x="6240318" y="200971"/>
                    <a:pt x="6286965" y="199748"/>
                  </a:cubicBezTo>
                  <a:cubicBezTo>
                    <a:pt x="6333612" y="198525"/>
                    <a:pt x="6341244" y="147556"/>
                    <a:pt x="6374647" y="137118"/>
                  </a:cubicBezTo>
                  <a:cubicBezTo>
                    <a:pt x="6408050" y="126680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74980" y="2391089"/>
                    <a:pt x="6324543" y="2391803"/>
                  </a:cubicBezTo>
                  <a:cubicBezTo>
                    <a:pt x="6274106" y="2392517"/>
                    <a:pt x="6284859" y="2368016"/>
                    <a:pt x="6247390" y="2358512"/>
                  </a:cubicBezTo>
                  <a:cubicBezTo>
                    <a:pt x="6209921" y="2349008"/>
                    <a:pt x="6145324" y="2345931"/>
                    <a:pt x="6099728" y="2334778"/>
                  </a:cubicBezTo>
                  <a:cubicBezTo>
                    <a:pt x="6054132" y="2323625"/>
                    <a:pt x="6028202" y="2298792"/>
                    <a:pt x="5973814" y="2291595"/>
                  </a:cubicBezTo>
                  <a:cubicBezTo>
                    <a:pt x="5919426" y="2284398"/>
                    <a:pt x="5842290" y="2289507"/>
                    <a:pt x="5773397" y="2291595"/>
                  </a:cubicBezTo>
                  <a:cubicBezTo>
                    <a:pt x="5704504" y="2293683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38545" y="2251373"/>
                    <a:pt x="4671107" y="2241490"/>
                  </a:cubicBezTo>
                  <a:cubicBezTo>
                    <a:pt x="4603669" y="2231608"/>
                    <a:pt x="4664085" y="2177847"/>
                    <a:pt x="4629734" y="2169669"/>
                  </a:cubicBezTo>
                  <a:cubicBezTo>
                    <a:pt x="4595383" y="2161491"/>
                    <a:pt x="4493593" y="2186716"/>
                    <a:pt x="4464998" y="2192423"/>
                  </a:cubicBezTo>
                  <a:cubicBezTo>
                    <a:pt x="4436403" y="2198130"/>
                    <a:pt x="4486444" y="2189471"/>
                    <a:pt x="4458165" y="2203912"/>
                  </a:cubicBezTo>
                  <a:cubicBezTo>
                    <a:pt x="4429886" y="2218353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4"/>
            <p:cNvSpPr/>
            <p:nvPr/>
          </p:nvSpPr>
          <p:spPr>
            <a:xfrm>
              <a:off x="-156600" y="1179360"/>
              <a:ext cx="17560800" cy="4497120"/>
            </a:xfrm>
            <a:custGeom>
              <a:avLst/>
              <a:gdLst/>
              <a:ahLst/>
              <a:rect l="l" t="t" r="r" b="b"/>
              <a:pathLst>
                <a:path w="10696126" h="2454679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27578" y="170258"/>
                    <a:pt x="5973814" y="162170"/>
                  </a:cubicBezTo>
                  <a:cubicBezTo>
                    <a:pt x="6020050" y="154082"/>
                    <a:pt x="6103051" y="116831"/>
                    <a:pt x="6151023" y="113640"/>
                  </a:cubicBezTo>
                  <a:cubicBezTo>
                    <a:pt x="6198995" y="110449"/>
                    <a:pt x="6224378" y="139112"/>
                    <a:pt x="6261649" y="143025"/>
                  </a:cubicBezTo>
                  <a:cubicBezTo>
                    <a:pt x="6298920" y="146938"/>
                    <a:pt x="6337025" y="138102"/>
                    <a:pt x="6374647" y="137118"/>
                  </a:cubicBezTo>
                  <a:cubicBezTo>
                    <a:pt x="6412269" y="136134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89261" y="2375102"/>
                    <a:pt x="6324543" y="2391803"/>
                  </a:cubicBezTo>
                  <a:cubicBezTo>
                    <a:pt x="6259825" y="2408504"/>
                    <a:pt x="6203458" y="2458608"/>
                    <a:pt x="6161704" y="2454433"/>
                  </a:cubicBezTo>
                  <a:cubicBezTo>
                    <a:pt x="6119950" y="2450258"/>
                    <a:pt x="6105337" y="2393891"/>
                    <a:pt x="6074022" y="2366751"/>
                  </a:cubicBezTo>
                  <a:cubicBezTo>
                    <a:pt x="6042707" y="2339611"/>
                    <a:pt x="6023918" y="2304121"/>
                    <a:pt x="5973814" y="2291595"/>
                  </a:cubicBezTo>
                  <a:cubicBezTo>
                    <a:pt x="5923710" y="2279069"/>
                    <a:pt x="5842290" y="2289507"/>
                    <a:pt x="5773397" y="2291595"/>
                  </a:cubicBezTo>
                  <a:cubicBezTo>
                    <a:pt x="5704504" y="2293683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29562" y="2266542"/>
                    <a:pt x="4671107" y="2241490"/>
                  </a:cubicBezTo>
                  <a:cubicBezTo>
                    <a:pt x="4612652" y="2216438"/>
                    <a:pt x="4704510" y="2105792"/>
                    <a:pt x="4683633" y="2078652"/>
                  </a:cubicBezTo>
                  <a:cubicBezTo>
                    <a:pt x="4662756" y="2051512"/>
                    <a:pt x="4583425" y="2057775"/>
                    <a:pt x="4545847" y="2078652"/>
                  </a:cubicBezTo>
                  <a:cubicBezTo>
                    <a:pt x="4508269" y="2099529"/>
                    <a:pt x="4499918" y="2170509"/>
                    <a:pt x="4458165" y="2203912"/>
                  </a:cubicBezTo>
                  <a:cubicBezTo>
                    <a:pt x="4416412" y="2237315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"/>
            <p:cNvSpPr/>
            <p:nvPr/>
          </p:nvSpPr>
          <p:spPr>
            <a:xfrm>
              <a:off x="10187280" y="1467720"/>
              <a:ext cx="3902400" cy="43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图片 6" descr=""/>
          <p:cNvPicPr/>
          <p:nvPr/>
        </p:nvPicPr>
        <p:blipFill>
          <a:blip r:embed="rId3"/>
          <a:stretch/>
        </p:blipFill>
        <p:spPr>
          <a:xfrm rot="21321000">
            <a:off x="9124920" y="1170000"/>
            <a:ext cx="3024360" cy="5746680"/>
          </a:xfrm>
          <a:prstGeom prst="rect">
            <a:avLst/>
          </a:prstGeom>
          <a:ln w="0">
            <a:noFill/>
          </a:ln>
          <a:effectLst>
            <a:outerShdw dist="88972" dir="2513029" blurRad="0" rotWithShape="0">
              <a:srgbClr val="000000">
                <a:alpha val="71000"/>
              </a:srgbClr>
            </a:outerShdw>
          </a:effectLst>
        </p:spPr>
      </p:pic>
      <p:grpSp>
        <p:nvGrpSpPr>
          <p:cNvPr id="123" name="组合 7"/>
          <p:cNvGrpSpPr/>
          <p:nvPr/>
        </p:nvGrpSpPr>
        <p:grpSpPr>
          <a:xfrm>
            <a:off x="655560" y="2492280"/>
            <a:ext cx="7416720" cy="2128680"/>
            <a:chOff x="655560" y="2492280"/>
            <a:chExt cx="7416720" cy="2128680"/>
          </a:xfrm>
        </p:grpSpPr>
        <p:sp>
          <p:nvSpPr>
            <p:cNvPr id="124" name="文本框 8"/>
            <p:cNvSpPr/>
            <p:nvPr/>
          </p:nvSpPr>
          <p:spPr>
            <a:xfrm>
              <a:off x="655560" y="2492280"/>
              <a:ext cx="741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 DESTINE"/>
                </a:rPr>
                <a:t>Sample tex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9"/>
            <p:cNvSpPr/>
            <p:nvPr/>
          </p:nvSpPr>
          <p:spPr>
            <a:xfrm>
              <a:off x="655560" y="3551760"/>
              <a:ext cx="7416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 DESTINE"/>
                </a:rPr>
                <a:t>If we can only encounter each other rather than stay with each other,then I wish we had never encountered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6"/>
          <p:cNvSpPr/>
          <p:nvPr/>
        </p:nvSpPr>
        <p:spPr>
          <a:xfrm>
            <a:off x="119160" y="64231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组合 1"/>
          <p:cNvGrpSpPr/>
          <p:nvPr/>
        </p:nvGrpSpPr>
        <p:grpSpPr>
          <a:xfrm>
            <a:off x="-182520" y="1179360"/>
            <a:ext cx="17586720" cy="4608720"/>
            <a:chOff x="-182520" y="1179360"/>
            <a:chExt cx="17586720" cy="4608720"/>
          </a:xfrm>
        </p:grpSpPr>
        <p:sp>
          <p:nvSpPr>
            <p:cNvPr id="128" name="任意多边形 2"/>
            <p:cNvSpPr/>
            <p:nvPr/>
          </p:nvSpPr>
          <p:spPr>
            <a:xfrm>
              <a:off x="-167760" y="1355760"/>
              <a:ext cx="17560800" cy="4392000"/>
            </a:xfrm>
            <a:custGeom>
              <a:avLst/>
              <a:gdLst/>
              <a:ahLst/>
              <a:rect l="l" t="t" r="r" b="b"/>
              <a:pathLst>
                <a:path w="10696126" h="2391826">
                  <a:moveTo>
                    <a:pt x="86581" y="249852"/>
                  </a:moveTo>
                  <a:cubicBezTo>
                    <a:pt x="88581" y="-66090"/>
                    <a:pt x="-3718" y="247716"/>
                    <a:pt x="23422" y="258154"/>
                  </a:cubicBezTo>
                  <a:cubicBezTo>
                    <a:pt x="50562" y="268592"/>
                    <a:pt x="188789" y="318041"/>
                    <a:pt x="249419" y="312482"/>
                  </a:cubicBezTo>
                  <a:cubicBezTo>
                    <a:pt x="310049" y="306923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30851" y="169019"/>
                    <a:pt x="5973814" y="162170"/>
                  </a:cubicBezTo>
                  <a:cubicBezTo>
                    <a:pt x="6016777" y="155321"/>
                    <a:pt x="6079195" y="114811"/>
                    <a:pt x="6131387" y="121074"/>
                  </a:cubicBezTo>
                  <a:cubicBezTo>
                    <a:pt x="6183579" y="127337"/>
                    <a:pt x="6246422" y="197074"/>
                    <a:pt x="6286965" y="199748"/>
                  </a:cubicBezTo>
                  <a:cubicBezTo>
                    <a:pt x="6327508" y="202422"/>
                    <a:pt x="6341244" y="147556"/>
                    <a:pt x="6374647" y="137118"/>
                  </a:cubicBezTo>
                  <a:cubicBezTo>
                    <a:pt x="6408050" y="126680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72880" y="2390970"/>
                    <a:pt x="6324543" y="2391803"/>
                  </a:cubicBezTo>
                  <a:cubicBezTo>
                    <a:pt x="6276206" y="2392636"/>
                    <a:pt x="6289459" y="2370721"/>
                    <a:pt x="6259991" y="2359222"/>
                  </a:cubicBezTo>
                  <a:cubicBezTo>
                    <a:pt x="6230523" y="2347723"/>
                    <a:pt x="6187243" y="2337741"/>
                    <a:pt x="6147737" y="2322808"/>
                  </a:cubicBezTo>
                  <a:cubicBezTo>
                    <a:pt x="6108231" y="2307875"/>
                    <a:pt x="6085347" y="2274826"/>
                    <a:pt x="6022957" y="2269624"/>
                  </a:cubicBezTo>
                  <a:lnTo>
                    <a:pt x="5773397" y="2291595"/>
                  </a:lnTo>
                  <a:cubicBezTo>
                    <a:pt x="5696313" y="2297345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29562" y="2266542"/>
                    <a:pt x="4671107" y="2241490"/>
                  </a:cubicBezTo>
                  <a:cubicBezTo>
                    <a:pt x="4612652" y="2216438"/>
                    <a:pt x="4704510" y="2105792"/>
                    <a:pt x="4683633" y="2078652"/>
                  </a:cubicBezTo>
                  <a:cubicBezTo>
                    <a:pt x="4662756" y="2051512"/>
                    <a:pt x="4583425" y="2057775"/>
                    <a:pt x="4545847" y="2078652"/>
                  </a:cubicBezTo>
                  <a:cubicBezTo>
                    <a:pt x="4508269" y="2099529"/>
                    <a:pt x="4499918" y="2170509"/>
                    <a:pt x="4458165" y="2203912"/>
                  </a:cubicBezTo>
                  <a:cubicBezTo>
                    <a:pt x="4416412" y="2237315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84582" y="565794"/>
                    <a:pt x="86581" y="2498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3"/>
            <p:cNvSpPr/>
            <p:nvPr/>
          </p:nvSpPr>
          <p:spPr>
            <a:xfrm>
              <a:off x="-182520" y="1485360"/>
              <a:ext cx="17560800" cy="4209840"/>
            </a:xfrm>
            <a:custGeom>
              <a:avLst/>
              <a:gdLst/>
              <a:ahLst/>
              <a:rect l="l" t="t" r="r" b="b"/>
              <a:pathLst>
                <a:path w="10696126" h="2391818">
                  <a:moveTo>
                    <a:pt x="86581" y="249852"/>
                  </a:moveTo>
                  <a:cubicBezTo>
                    <a:pt x="88581" y="-83044"/>
                    <a:pt x="-3717" y="145992"/>
                    <a:pt x="23423" y="156430"/>
                  </a:cubicBezTo>
                  <a:cubicBezTo>
                    <a:pt x="50563" y="166868"/>
                    <a:pt x="188789" y="301087"/>
                    <a:pt x="249419" y="312482"/>
                  </a:cubicBezTo>
                  <a:cubicBezTo>
                    <a:pt x="310049" y="323877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36954" y="165122"/>
                    <a:pt x="5973814" y="162170"/>
                  </a:cubicBezTo>
                  <a:cubicBezTo>
                    <a:pt x="6010674" y="159218"/>
                    <a:pt x="6042573" y="138193"/>
                    <a:pt x="6094765" y="144456"/>
                  </a:cubicBezTo>
                  <a:cubicBezTo>
                    <a:pt x="6146957" y="150719"/>
                    <a:pt x="6240318" y="200971"/>
                    <a:pt x="6286965" y="199748"/>
                  </a:cubicBezTo>
                  <a:cubicBezTo>
                    <a:pt x="6333612" y="198525"/>
                    <a:pt x="6341244" y="147556"/>
                    <a:pt x="6374647" y="137118"/>
                  </a:cubicBezTo>
                  <a:cubicBezTo>
                    <a:pt x="6408050" y="126680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74980" y="2391089"/>
                    <a:pt x="6324543" y="2391803"/>
                  </a:cubicBezTo>
                  <a:cubicBezTo>
                    <a:pt x="6274106" y="2392517"/>
                    <a:pt x="6284859" y="2368016"/>
                    <a:pt x="6247390" y="2358512"/>
                  </a:cubicBezTo>
                  <a:cubicBezTo>
                    <a:pt x="6209921" y="2349008"/>
                    <a:pt x="6145324" y="2345931"/>
                    <a:pt x="6099728" y="2334778"/>
                  </a:cubicBezTo>
                  <a:cubicBezTo>
                    <a:pt x="6054132" y="2323625"/>
                    <a:pt x="6028202" y="2298792"/>
                    <a:pt x="5973814" y="2291595"/>
                  </a:cubicBezTo>
                  <a:cubicBezTo>
                    <a:pt x="5919426" y="2284398"/>
                    <a:pt x="5842290" y="2289507"/>
                    <a:pt x="5773397" y="2291595"/>
                  </a:cubicBezTo>
                  <a:cubicBezTo>
                    <a:pt x="5704504" y="2293683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38545" y="2251373"/>
                    <a:pt x="4671107" y="2241490"/>
                  </a:cubicBezTo>
                  <a:cubicBezTo>
                    <a:pt x="4603669" y="2231608"/>
                    <a:pt x="4664085" y="2177847"/>
                    <a:pt x="4629734" y="2169669"/>
                  </a:cubicBezTo>
                  <a:cubicBezTo>
                    <a:pt x="4595383" y="2161491"/>
                    <a:pt x="4493593" y="2186716"/>
                    <a:pt x="4464998" y="2192423"/>
                  </a:cubicBezTo>
                  <a:cubicBezTo>
                    <a:pt x="4436403" y="2198130"/>
                    <a:pt x="4486444" y="2189471"/>
                    <a:pt x="4458165" y="2203912"/>
                  </a:cubicBezTo>
                  <a:cubicBezTo>
                    <a:pt x="4429886" y="2218353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84581" y="582748"/>
                    <a:pt x="86581" y="249852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4"/>
            <p:cNvSpPr/>
            <p:nvPr/>
          </p:nvSpPr>
          <p:spPr>
            <a:xfrm>
              <a:off x="-156600" y="1179360"/>
              <a:ext cx="17560800" cy="4497120"/>
            </a:xfrm>
            <a:custGeom>
              <a:avLst/>
              <a:gdLst/>
              <a:ahLst/>
              <a:rect l="l" t="t" r="r" b="b"/>
              <a:pathLst>
                <a:path w="10696126" h="2454679">
                  <a:moveTo>
                    <a:pt x="86581" y="249852"/>
                  </a:moveTo>
                  <a:cubicBezTo>
                    <a:pt x="97019" y="-98789"/>
                    <a:pt x="46915" y="51524"/>
                    <a:pt x="74055" y="61962"/>
                  </a:cubicBezTo>
                  <a:cubicBezTo>
                    <a:pt x="101195" y="72400"/>
                    <a:pt x="197227" y="285342"/>
                    <a:pt x="249419" y="312482"/>
                  </a:cubicBezTo>
                  <a:cubicBezTo>
                    <a:pt x="301611" y="339622"/>
                    <a:pt x="345453" y="239414"/>
                    <a:pt x="387206" y="224800"/>
                  </a:cubicBezTo>
                  <a:cubicBezTo>
                    <a:pt x="428960" y="210186"/>
                    <a:pt x="476976" y="220625"/>
                    <a:pt x="499940" y="224800"/>
                  </a:cubicBezTo>
                  <a:cubicBezTo>
                    <a:pt x="522904" y="228975"/>
                    <a:pt x="504115" y="231063"/>
                    <a:pt x="524992" y="249852"/>
                  </a:cubicBezTo>
                  <a:cubicBezTo>
                    <a:pt x="545869" y="268641"/>
                    <a:pt x="604323" y="331271"/>
                    <a:pt x="625200" y="337534"/>
                  </a:cubicBezTo>
                  <a:cubicBezTo>
                    <a:pt x="646077" y="343797"/>
                    <a:pt x="641901" y="302044"/>
                    <a:pt x="650252" y="287430"/>
                  </a:cubicBezTo>
                  <a:cubicBezTo>
                    <a:pt x="658603" y="272816"/>
                    <a:pt x="660691" y="245677"/>
                    <a:pt x="675304" y="249852"/>
                  </a:cubicBezTo>
                  <a:cubicBezTo>
                    <a:pt x="689917" y="254027"/>
                    <a:pt x="717057" y="304131"/>
                    <a:pt x="737934" y="312482"/>
                  </a:cubicBezTo>
                  <a:cubicBezTo>
                    <a:pt x="758811" y="320833"/>
                    <a:pt x="781776" y="304131"/>
                    <a:pt x="800565" y="299956"/>
                  </a:cubicBezTo>
                  <a:cubicBezTo>
                    <a:pt x="819354" y="295781"/>
                    <a:pt x="827705" y="289518"/>
                    <a:pt x="850669" y="287430"/>
                  </a:cubicBezTo>
                  <a:cubicBezTo>
                    <a:pt x="873633" y="285342"/>
                    <a:pt x="900773" y="279079"/>
                    <a:pt x="938351" y="287430"/>
                  </a:cubicBezTo>
                  <a:cubicBezTo>
                    <a:pt x="975929" y="295781"/>
                    <a:pt x="1034384" y="335446"/>
                    <a:pt x="1076137" y="337534"/>
                  </a:cubicBezTo>
                  <a:cubicBezTo>
                    <a:pt x="1117890" y="339622"/>
                    <a:pt x="1155468" y="310394"/>
                    <a:pt x="1188871" y="299956"/>
                  </a:cubicBezTo>
                  <a:cubicBezTo>
                    <a:pt x="1222274" y="289518"/>
                    <a:pt x="1257765" y="270729"/>
                    <a:pt x="1276554" y="274904"/>
                  </a:cubicBezTo>
                  <a:cubicBezTo>
                    <a:pt x="1295343" y="279079"/>
                    <a:pt x="1272379" y="316657"/>
                    <a:pt x="1301606" y="325008"/>
                  </a:cubicBezTo>
                  <a:cubicBezTo>
                    <a:pt x="1330833" y="333359"/>
                    <a:pt x="1416428" y="329183"/>
                    <a:pt x="1451918" y="325008"/>
                  </a:cubicBezTo>
                  <a:cubicBezTo>
                    <a:pt x="1487408" y="320833"/>
                    <a:pt x="1499934" y="320833"/>
                    <a:pt x="1514548" y="299956"/>
                  </a:cubicBezTo>
                  <a:cubicBezTo>
                    <a:pt x="1529162" y="279079"/>
                    <a:pt x="1518723" y="212274"/>
                    <a:pt x="1539600" y="199748"/>
                  </a:cubicBezTo>
                  <a:cubicBezTo>
                    <a:pt x="1560477" y="187222"/>
                    <a:pt x="1612668" y="220625"/>
                    <a:pt x="1639808" y="224800"/>
                  </a:cubicBezTo>
                  <a:cubicBezTo>
                    <a:pt x="1666948" y="228975"/>
                    <a:pt x="1660686" y="231063"/>
                    <a:pt x="1702439" y="224800"/>
                  </a:cubicBezTo>
                  <a:cubicBezTo>
                    <a:pt x="1744192" y="218537"/>
                    <a:pt x="1844400" y="201836"/>
                    <a:pt x="1890329" y="187222"/>
                  </a:cubicBezTo>
                  <a:cubicBezTo>
                    <a:pt x="1936258" y="172608"/>
                    <a:pt x="1948784" y="130855"/>
                    <a:pt x="1978011" y="137118"/>
                  </a:cubicBezTo>
                  <a:cubicBezTo>
                    <a:pt x="2007238" y="143381"/>
                    <a:pt x="2040641" y="210186"/>
                    <a:pt x="2065693" y="224800"/>
                  </a:cubicBezTo>
                  <a:cubicBezTo>
                    <a:pt x="2090745" y="239414"/>
                    <a:pt x="2128323" y="224800"/>
                    <a:pt x="2128323" y="224800"/>
                  </a:cubicBezTo>
                  <a:cubicBezTo>
                    <a:pt x="2151287" y="224800"/>
                    <a:pt x="2184691" y="216449"/>
                    <a:pt x="2203480" y="224800"/>
                  </a:cubicBezTo>
                  <a:cubicBezTo>
                    <a:pt x="2222269" y="233151"/>
                    <a:pt x="2220181" y="272816"/>
                    <a:pt x="2241058" y="274904"/>
                  </a:cubicBezTo>
                  <a:cubicBezTo>
                    <a:pt x="2261935" y="276992"/>
                    <a:pt x="2295337" y="254027"/>
                    <a:pt x="2328740" y="237326"/>
                  </a:cubicBezTo>
                  <a:cubicBezTo>
                    <a:pt x="2362143" y="220625"/>
                    <a:pt x="2403896" y="180959"/>
                    <a:pt x="2441474" y="174696"/>
                  </a:cubicBezTo>
                  <a:cubicBezTo>
                    <a:pt x="2479052" y="168433"/>
                    <a:pt x="2512455" y="189310"/>
                    <a:pt x="2554208" y="199748"/>
                  </a:cubicBezTo>
                  <a:cubicBezTo>
                    <a:pt x="2595961" y="210186"/>
                    <a:pt x="2643979" y="231063"/>
                    <a:pt x="2691995" y="237326"/>
                  </a:cubicBezTo>
                  <a:cubicBezTo>
                    <a:pt x="2740012" y="243589"/>
                    <a:pt x="2802641" y="245677"/>
                    <a:pt x="2842307" y="237326"/>
                  </a:cubicBezTo>
                  <a:cubicBezTo>
                    <a:pt x="2881973" y="228975"/>
                    <a:pt x="2890323" y="187222"/>
                    <a:pt x="2929989" y="187222"/>
                  </a:cubicBezTo>
                  <a:cubicBezTo>
                    <a:pt x="2969655" y="187222"/>
                    <a:pt x="3044811" y="228975"/>
                    <a:pt x="3080302" y="237326"/>
                  </a:cubicBezTo>
                  <a:cubicBezTo>
                    <a:pt x="3115793" y="245677"/>
                    <a:pt x="3142932" y="237326"/>
                    <a:pt x="3142932" y="237326"/>
                  </a:cubicBezTo>
                  <a:cubicBezTo>
                    <a:pt x="3170072" y="237326"/>
                    <a:pt x="3213913" y="224800"/>
                    <a:pt x="3243140" y="237326"/>
                  </a:cubicBezTo>
                  <a:cubicBezTo>
                    <a:pt x="3272367" y="249852"/>
                    <a:pt x="3286981" y="304131"/>
                    <a:pt x="3318296" y="312482"/>
                  </a:cubicBezTo>
                  <a:cubicBezTo>
                    <a:pt x="3349611" y="320833"/>
                    <a:pt x="3401803" y="304131"/>
                    <a:pt x="3431030" y="287430"/>
                  </a:cubicBezTo>
                  <a:cubicBezTo>
                    <a:pt x="3460257" y="270729"/>
                    <a:pt x="3466520" y="210186"/>
                    <a:pt x="3493660" y="212274"/>
                  </a:cubicBezTo>
                  <a:cubicBezTo>
                    <a:pt x="3520800" y="214362"/>
                    <a:pt x="3568817" y="285342"/>
                    <a:pt x="3593869" y="299956"/>
                  </a:cubicBezTo>
                  <a:cubicBezTo>
                    <a:pt x="3618921" y="314570"/>
                    <a:pt x="3631447" y="306219"/>
                    <a:pt x="3643973" y="299956"/>
                  </a:cubicBezTo>
                  <a:cubicBezTo>
                    <a:pt x="3656499" y="293693"/>
                    <a:pt x="3652324" y="281167"/>
                    <a:pt x="3669025" y="262378"/>
                  </a:cubicBezTo>
                  <a:cubicBezTo>
                    <a:pt x="3685726" y="243589"/>
                    <a:pt x="3727480" y="189310"/>
                    <a:pt x="3744181" y="187222"/>
                  </a:cubicBezTo>
                  <a:cubicBezTo>
                    <a:pt x="3760882" y="185134"/>
                    <a:pt x="3746269" y="233151"/>
                    <a:pt x="3769233" y="249852"/>
                  </a:cubicBezTo>
                  <a:cubicBezTo>
                    <a:pt x="3792197" y="266553"/>
                    <a:pt x="3844389" y="281167"/>
                    <a:pt x="3881967" y="287430"/>
                  </a:cubicBezTo>
                  <a:cubicBezTo>
                    <a:pt x="3919545" y="293693"/>
                    <a:pt x="3969650" y="291605"/>
                    <a:pt x="3994702" y="287430"/>
                  </a:cubicBezTo>
                  <a:cubicBezTo>
                    <a:pt x="4019754" y="283255"/>
                    <a:pt x="4007228" y="254027"/>
                    <a:pt x="4032280" y="262378"/>
                  </a:cubicBezTo>
                  <a:cubicBezTo>
                    <a:pt x="4057332" y="270729"/>
                    <a:pt x="4115787" y="331271"/>
                    <a:pt x="4145014" y="337534"/>
                  </a:cubicBezTo>
                  <a:cubicBezTo>
                    <a:pt x="4174241" y="343797"/>
                    <a:pt x="4184680" y="320833"/>
                    <a:pt x="4207644" y="299956"/>
                  </a:cubicBezTo>
                  <a:cubicBezTo>
                    <a:pt x="4230608" y="279079"/>
                    <a:pt x="4255660" y="216449"/>
                    <a:pt x="4282800" y="212274"/>
                  </a:cubicBezTo>
                  <a:cubicBezTo>
                    <a:pt x="4309940" y="208099"/>
                    <a:pt x="4334992" y="270729"/>
                    <a:pt x="4370482" y="274904"/>
                  </a:cubicBezTo>
                  <a:cubicBezTo>
                    <a:pt x="4405972" y="279079"/>
                    <a:pt x="4464428" y="251940"/>
                    <a:pt x="4495743" y="237326"/>
                  </a:cubicBezTo>
                  <a:cubicBezTo>
                    <a:pt x="4527058" y="222712"/>
                    <a:pt x="4535409" y="178871"/>
                    <a:pt x="4558373" y="187222"/>
                  </a:cubicBezTo>
                  <a:cubicBezTo>
                    <a:pt x="4581337" y="195573"/>
                    <a:pt x="4612652" y="272816"/>
                    <a:pt x="4633529" y="287430"/>
                  </a:cubicBezTo>
                  <a:cubicBezTo>
                    <a:pt x="4654406" y="302044"/>
                    <a:pt x="4660669" y="293693"/>
                    <a:pt x="4683633" y="274904"/>
                  </a:cubicBezTo>
                  <a:cubicBezTo>
                    <a:pt x="4706597" y="256115"/>
                    <a:pt x="4740000" y="183047"/>
                    <a:pt x="4771315" y="174696"/>
                  </a:cubicBezTo>
                  <a:cubicBezTo>
                    <a:pt x="4802630" y="166345"/>
                    <a:pt x="4844383" y="216449"/>
                    <a:pt x="4871523" y="224800"/>
                  </a:cubicBezTo>
                  <a:cubicBezTo>
                    <a:pt x="4898663" y="233151"/>
                    <a:pt x="4907014" y="233151"/>
                    <a:pt x="4934154" y="224800"/>
                  </a:cubicBezTo>
                  <a:cubicBezTo>
                    <a:pt x="4961294" y="216449"/>
                    <a:pt x="4982170" y="197660"/>
                    <a:pt x="5034362" y="174696"/>
                  </a:cubicBezTo>
                  <a:cubicBezTo>
                    <a:pt x="5086554" y="151732"/>
                    <a:pt x="5201375" y="114154"/>
                    <a:pt x="5247304" y="87014"/>
                  </a:cubicBezTo>
                  <a:cubicBezTo>
                    <a:pt x="5293233" y="59874"/>
                    <a:pt x="5291145" y="24384"/>
                    <a:pt x="5309934" y="11858"/>
                  </a:cubicBezTo>
                  <a:cubicBezTo>
                    <a:pt x="5328723" y="-668"/>
                    <a:pt x="5328724" y="-6931"/>
                    <a:pt x="5360039" y="11858"/>
                  </a:cubicBezTo>
                  <a:cubicBezTo>
                    <a:pt x="5391354" y="30647"/>
                    <a:pt x="5460247" y="107891"/>
                    <a:pt x="5497825" y="124592"/>
                  </a:cubicBezTo>
                  <a:cubicBezTo>
                    <a:pt x="5535403" y="141293"/>
                    <a:pt x="5558367" y="124592"/>
                    <a:pt x="5585507" y="112066"/>
                  </a:cubicBezTo>
                  <a:cubicBezTo>
                    <a:pt x="5612647" y="99540"/>
                    <a:pt x="5631436" y="49436"/>
                    <a:pt x="5660663" y="49436"/>
                  </a:cubicBezTo>
                  <a:cubicBezTo>
                    <a:pt x="5689890" y="49436"/>
                    <a:pt x="5725381" y="93277"/>
                    <a:pt x="5760871" y="112066"/>
                  </a:cubicBezTo>
                  <a:cubicBezTo>
                    <a:pt x="5796361" y="130855"/>
                    <a:pt x="5838115" y="153819"/>
                    <a:pt x="5873606" y="162170"/>
                  </a:cubicBezTo>
                  <a:cubicBezTo>
                    <a:pt x="5909097" y="170521"/>
                    <a:pt x="5927578" y="170258"/>
                    <a:pt x="5973814" y="162170"/>
                  </a:cubicBezTo>
                  <a:cubicBezTo>
                    <a:pt x="6020050" y="154082"/>
                    <a:pt x="6103051" y="116831"/>
                    <a:pt x="6151023" y="113640"/>
                  </a:cubicBezTo>
                  <a:cubicBezTo>
                    <a:pt x="6198995" y="110449"/>
                    <a:pt x="6224378" y="139112"/>
                    <a:pt x="6261649" y="143025"/>
                  </a:cubicBezTo>
                  <a:cubicBezTo>
                    <a:pt x="6298920" y="146938"/>
                    <a:pt x="6337025" y="138102"/>
                    <a:pt x="6374647" y="137118"/>
                  </a:cubicBezTo>
                  <a:cubicBezTo>
                    <a:pt x="6412269" y="136134"/>
                    <a:pt x="6449803" y="128767"/>
                    <a:pt x="6487381" y="137118"/>
                  </a:cubicBezTo>
                  <a:cubicBezTo>
                    <a:pt x="6524959" y="145469"/>
                    <a:pt x="6568800" y="174696"/>
                    <a:pt x="6600115" y="187222"/>
                  </a:cubicBezTo>
                  <a:cubicBezTo>
                    <a:pt x="6631430" y="199748"/>
                    <a:pt x="6650219" y="218537"/>
                    <a:pt x="6675271" y="212274"/>
                  </a:cubicBezTo>
                  <a:cubicBezTo>
                    <a:pt x="6700323" y="206011"/>
                    <a:pt x="6725376" y="166345"/>
                    <a:pt x="6750428" y="149644"/>
                  </a:cubicBezTo>
                  <a:cubicBezTo>
                    <a:pt x="6775480" y="132943"/>
                    <a:pt x="6781743" y="122504"/>
                    <a:pt x="6825584" y="112066"/>
                  </a:cubicBezTo>
                  <a:cubicBezTo>
                    <a:pt x="6869425" y="101628"/>
                    <a:pt x="6961282" y="76576"/>
                    <a:pt x="7013474" y="87014"/>
                  </a:cubicBezTo>
                  <a:cubicBezTo>
                    <a:pt x="7065666" y="97452"/>
                    <a:pt x="7099068" y="160082"/>
                    <a:pt x="7138734" y="174696"/>
                  </a:cubicBezTo>
                  <a:cubicBezTo>
                    <a:pt x="7178400" y="189310"/>
                    <a:pt x="7218066" y="178871"/>
                    <a:pt x="7251469" y="174696"/>
                  </a:cubicBezTo>
                  <a:cubicBezTo>
                    <a:pt x="7284872" y="170521"/>
                    <a:pt x="7303661" y="157995"/>
                    <a:pt x="7339151" y="149644"/>
                  </a:cubicBezTo>
                  <a:cubicBezTo>
                    <a:pt x="7374641" y="141293"/>
                    <a:pt x="7424745" y="116241"/>
                    <a:pt x="7464411" y="124592"/>
                  </a:cubicBezTo>
                  <a:cubicBezTo>
                    <a:pt x="7504077" y="132943"/>
                    <a:pt x="7545830" y="187222"/>
                    <a:pt x="7577145" y="199748"/>
                  </a:cubicBezTo>
                  <a:cubicBezTo>
                    <a:pt x="7608460" y="212274"/>
                    <a:pt x="7623075" y="212274"/>
                    <a:pt x="7652302" y="199748"/>
                  </a:cubicBezTo>
                  <a:cubicBezTo>
                    <a:pt x="7681529" y="187222"/>
                    <a:pt x="7719107" y="132943"/>
                    <a:pt x="7752510" y="124592"/>
                  </a:cubicBezTo>
                  <a:cubicBezTo>
                    <a:pt x="7785913" y="116241"/>
                    <a:pt x="7815140" y="128767"/>
                    <a:pt x="7852718" y="149644"/>
                  </a:cubicBezTo>
                  <a:cubicBezTo>
                    <a:pt x="7890296" y="170521"/>
                    <a:pt x="7938312" y="233151"/>
                    <a:pt x="7977978" y="249852"/>
                  </a:cubicBezTo>
                  <a:cubicBezTo>
                    <a:pt x="8017644" y="266553"/>
                    <a:pt x="8048959" y="254027"/>
                    <a:pt x="8090713" y="249852"/>
                  </a:cubicBezTo>
                  <a:cubicBezTo>
                    <a:pt x="8132467" y="245677"/>
                    <a:pt x="8195096" y="222712"/>
                    <a:pt x="8228499" y="224800"/>
                  </a:cubicBezTo>
                  <a:cubicBezTo>
                    <a:pt x="8261902" y="226888"/>
                    <a:pt x="8257726" y="260290"/>
                    <a:pt x="8291129" y="262378"/>
                  </a:cubicBezTo>
                  <a:cubicBezTo>
                    <a:pt x="8324532" y="264466"/>
                    <a:pt x="8380899" y="251940"/>
                    <a:pt x="8428915" y="237326"/>
                  </a:cubicBezTo>
                  <a:cubicBezTo>
                    <a:pt x="8476932" y="222712"/>
                    <a:pt x="8541650" y="172608"/>
                    <a:pt x="8579228" y="174696"/>
                  </a:cubicBezTo>
                  <a:cubicBezTo>
                    <a:pt x="8616806" y="176784"/>
                    <a:pt x="8625157" y="235238"/>
                    <a:pt x="8654384" y="249852"/>
                  </a:cubicBezTo>
                  <a:cubicBezTo>
                    <a:pt x="8683611" y="264466"/>
                    <a:pt x="8721189" y="270729"/>
                    <a:pt x="8754592" y="262378"/>
                  </a:cubicBezTo>
                  <a:cubicBezTo>
                    <a:pt x="8787995" y="254027"/>
                    <a:pt x="8825573" y="216449"/>
                    <a:pt x="8854800" y="199748"/>
                  </a:cubicBezTo>
                  <a:cubicBezTo>
                    <a:pt x="8884027" y="183047"/>
                    <a:pt x="8906992" y="157995"/>
                    <a:pt x="8929956" y="162170"/>
                  </a:cubicBezTo>
                  <a:cubicBezTo>
                    <a:pt x="8952920" y="166345"/>
                    <a:pt x="8959184" y="214362"/>
                    <a:pt x="8992587" y="224800"/>
                  </a:cubicBezTo>
                  <a:cubicBezTo>
                    <a:pt x="9025990" y="235238"/>
                    <a:pt x="9090707" y="235238"/>
                    <a:pt x="9130373" y="224800"/>
                  </a:cubicBezTo>
                  <a:cubicBezTo>
                    <a:pt x="9170039" y="214362"/>
                    <a:pt x="9197178" y="172608"/>
                    <a:pt x="9230581" y="162170"/>
                  </a:cubicBezTo>
                  <a:cubicBezTo>
                    <a:pt x="9263984" y="151732"/>
                    <a:pt x="9291123" y="153819"/>
                    <a:pt x="9330789" y="162170"/>
                  </a:cubicBezTo>
                  <a:cubicBezTo>
                    <a:pt x="9370455" y="170521"/>
                    <a:pt x="9433086" y="197660"/>
                    <a:pt x="9468576" y="212274"/>
                  </a:cubicBezTo>
                  <a:cubicBezTo>
                    <a:pt x="9504067" y="226888"/>
                    <a:pt x="9514505" y="258203"/>
                    <a:pt x="9543732" y="249852"/>
                  </a:cubicBezTo>
                  <a:cubicBezTo>
                    <a:pt x="9572959" y="241501"/>
                    <a:pt x="9606362" y="193485"/>
                    <a:pt x="9643940" y="162170"/>
                  </a:cubicBezTo>
                  <a:cubicBezTo>
                    <a:pt x="9681518" y="130855"/>
                    <a:pt x="9729534" y="64050"/>
                    <a:pt x="9769200" y="61962"/>
                  </a:cubicBezTo>
                  <a:cubicBezTo>
                    <a:pt x="9808866" y="59874"/>
                    <a:pt x="9846443" y="141293"/>
                    <a:pt x="9881934" y="149644"/>
                  </a:cubicBezTo>
                  <a:cubicBezTo>
                    <a:pt x="9917425" y="157995"/>
                    <a:pt x="9952916" y="109978"/>
                    <a:pt x="9982143" y="112066"/>
                  </a:cubicBezTo>
                  <a:cubicBezTo>
                    <a:pt x="10011370" y="114154"/>
                    <a:pt x="10019721" y="162170"/>
                    <a:pt x="10057299" y="162170"/>
                  </a:cubicBezTo>
                  <a:cubicBezTo>
                    <a:pt x="10094877" y="162170"/>
                    <a:pt x="10170033" y="105803"/>
                    <a:pt x="10207611" y="112066"/>
                  </a:cubicBezTo>
                  <a:cubicBezTo>
                    <a:pt x="10245189" y="118329"/>
                    <a:pt x="10253540" y="185134"/>
                    <a:pt x="10282767" y="199748"/>
                  </a:cubicBezTo>
                  <a:cubicBezTo>
                    <a:pt x="10311995" y="214362"/>
                    <a:pt x="10347486" y="212274"/>
                    <a:pt x="10382976" y="199748"/>
                  </a:cubicBezTo>
                  <a:cubicBezTo>
                    <a:pt x="10418466" y="187222"/>
                    <a:pt x="10451869" y="135030"/>
                    <a:pt x="10495710" y="124592"/>
                  </a:cubicBezTo>
                  <a:cubicBezTo>
                    <a:pt x="10539551" y="114154"/>
                    <a:pt x="10612619" y="120417"/>
                    <a:pt x="10646022" y="137118"/>
                  </a:cubicBezTo>
                  <a:cubicBezTo>
                    <a:pt x="10679425" y="153819"/>
                    <a:pt x="10696126" y="151732"/>
                    <a:pt x="10696126" y="224800"/>
                  </a:cubicBezTo>
                  <a:cubicBezTo>
                    <a:pt x="10696126" y="297868"/>
                    <a:pt x="10681512" y="245677"/>
                    <a:pt x="10646022" y="575529"/>
                  </a:cubicBezTo>
                  <a:cubicBezTo>
                    <a:pt x="10610532" y="905381"/>
                    <a:pt x="10545814" y="1909550"/>
                    <a:pt x="10483184" y="2203912"/>
                  </a:cubicBezTo>
                  <a:cubicBezTo>
                    <a:pt x="10420554" y="2498274"/>
                    <a:pt x="10320345" y="2318735"/>
                    <a:pt x="10270241" y="2341699"/>
                  </a:cubicBezTo>
                  <a:cubicBezTo>
                    <a:pt x="10220137" y="2364663"/>
                    <a:pt x="10224312" y="2358400"/>
                    <a:pt x="10182559" y="2341699"/>
                  </a:cubicBezTo>
                  <a:cubicBezTo>
                    <a:pt x="10140806" y="2324998"/>
                    <a:pt x="10069825" y="2262367"/>
                    <a:pt x="10019721" y="2241490"/>
                  </a:cubicBezTo>
                  <a:cubicBezTo>
                    <a:pt x="9969617" y="2220613"/>
                    <a:pt x="9934126" y="2233139"/>
                    <a:pt x="9881934" y="2216438"/>
                  </a:cubicBezTo>
                  <a:cubicBezTo>
                    <a:pt x="9829742" y="2199737"/>
                    <a:pt x="9758762" y="2149633"/>
                    <a:pt x="9706570" y="2141282"/>
                  </a:cubicBezTo>
                  <a:cubicBezTo>
                    <a:pt x="9654378" y="2132931"/>
                    <a:pt x="9633502" y="2162159"/>
                    <a:pt x="9568784" y="2166334"/>
                  </a:cubicBezTo>
                  <a:cubicBezTo>
                    <a:pt x="9504066" y="2170509"/>
                    <a:pt x="9318263" y="2166334"/>
                    <a:pt x="9318263" y="2166334"/>
                  </a:cubicBezTo>
                  <a:cubicBezTo>
                    <a:pt x="9232669" y="2166334"/>
                    <a:pt x="9109496" y="2185123"/>
                    <a:pt x="9055217" y="2166334"/>
                  </a:cubicBezTo>
                  <a:cubicBezTo>
                    <a:pt x="9000938" y="2147545"/>
                    <a:pt x="9013464" y="2059863"/>
                    <a:pt x="8992587" y="2053600"/>
                  </a:cubicBezTo>
                  <a:cubicBezTo>
                    <a:pt x="8971710" y="2047337"/>
                    <a:pt x="8948745" y="2109967"/>
                    <a:pt x="8929956" y="2128756"/>
                  </a:cubicBezTo>
                  <a:cubicBezTo>
                    <a:pt x="8911167" y="2147545"/>
                    <a:pt x="8919518" y="2151720"/>
                    <a:pt x="8879852" y="2166334"/>
                  </a:cubicBezTo>
                  <a:cubicBezTo>
                    <a:pt x="8840186" y="2180948"/>
                    <a:pt x="8742066" y="2203912"/>
                    <a:pt x="8691962" y="2216438"/>
                  </a:cubicBezTo>
                  <a:cubicBezTo>
                    <a:pt x="8641858" y="2228964"/>
                    <a:pt x="8620982" y="2231052"/>
                    <a:pt x="8579228" y="2241490"/>
                  </a:cubicBezTo>
                  <a:cubicBezTo>
                    <a:pt x="8537475" y="2251929"/>
                    <a:pt x="8508246" y="2287420"/>
                    <a:pt x="8441441" y="2279069"/>
                  </a:cubicBezTo>
                  <a:cubicBezTo>
                    <a:pt x="8374636" y="2270718"/>
                    <a:pt x="8276515" y="2206000"/>
                    <a:pt x="8178395" y="2191386"/>
                  </a:cubicBezTo>
                  <a:cubicBezTo>
                    <a:pt x="8080275" y="2176772"/>
                    <a:pt x="7965452" y="2203912"/>
                    <a:pt x="7852718" y="2191386"/>
                  </a:cubicBezTo>
                  <a:cubicBezTo>
                    <a:pt x="7739984" y="2178860"/>
                    <a:pt x="7600109" y="2118318"/>
                    <a:pt x="7501989" y="2116230"/>
                  </a:cubicBezTo>
                  <a:cubicBezTo>
                    <a:pt x="7403869" y="2114142"/>
                    <a:pt x="7263995" y="2178860"/>
                    <a:pt x="7263995" y="2178860"/>
                  </a:cubicBezTo>
                  <a:cubicBezTo>
                    <a:pt x="7199277" y="2195561"/>
                    <a:pt x="7163786" y="2224789"/>
                    <a:pt x="7113682" y="2216438"/>
                  </a:cubicBezTo>
                  <a:cubicBezTo>
                    <a:pt x="7063578" y="2208087"/>
                    <a:pt x="7019737" y="2143370"/>
                    <a:pt x="6963370" y="2128756"/>
                  </a:cubicBezTo>
                  <a:cubicBezTo>
                    <a:pt x="6907003" y="2114142"/>
                    <a:pt x="6813058" y="2105792"/>
                    <a:pt x="6775480" y="2128756"/>
                  </a:cubicBezTo>
                  <a:cubicBezTo>
                    <a:pt x="6737902" y="2151720"/>
                    <a:pt x="6748340" y="2228964"/>
                    <a:pt x="6737902" y="2266542"/>
                  </a:cubicBezTo>
                  <a:cubicBezTo>
                    <a:pt x="6727464" y="2304120"/>
                    <a:pt x="6744165" y="2339611"/>
                    <a:pt x="6712850" y="2354225"/>
                  </a:cubicBezTo>
                  <a:cubicBezTo>
                    <a:pt x="6681535" y="2368839"/>
                    <a:pt x="6614729" y="2347962"/>
                    <a:pt x="6550011" y="2354225"/>
                  </a:cubicBezTo>
                  <a:cubicBezTo>
                    <a:pt x="6485293" y="2360488"/>
                    <a:pt x="6389261" y="2375102"/>
                    <a:pt x="6324543" y="2391803"/>
                  </a:cubicBezTo>
                  <a:cubicBezTo>
                    <a:pt x="6259825" y="2408504"/>
                    <a:pt x="6203458" y="2458608"/>
                    <a:pt x="6161704" y="2454433"/>
                  </a:cubicBezTo>
                  <a:cubicBezTo>
                    <a:pt x="6119950" y="2450258"/>
                    <a:pt x="6105337" y="2393891"/>
                    <a:pt x="6074022" y="2366751"/>
                  </a:cubicBezTo>
                  <a:cubicBezTo>
                    <a:pt x="6042707" y="2339611"/>
                    <a:pt x="6023918" y="2304121"/>
                    <a:pt x="5973814" y="2291595"/>
                  </a:cubicBezTo>
                  <a:cubicBezTo>
                    <a:pt x="5923710" y="2279069"/>
                    <a:pt x="5842290" y="2289507"/>
                    <a:pt x="5773397" y="2291595"/>
                  </a:cubicBezTo>
                  <a:cubicBezTo>
                    <a:pt x="5704504" y="2293683"/>
                    <a:pt x="5623085" y="2318735"/>
                    <a:pt x="5560455" y="2304121"/>
                  </a:cubicBezTo>
                  <a:cubicBezTo>
                    <a:pt x="5497825" y="2289507"/>
                    <a:pt x="5462335" y="2226877"/>
                    <a:pt x="5397617" y="2203912"/>
                  </a:cubicBezTo>
                  <a:cubicBezTo>
                    <a:pt x="5332899" y="2180948"/>
                    <a:pt x="5232691" y="2162159"/>
                    <a:pt x="5172148" y="2166334"/>
                  </a:cubicBezTo>
                  <a:cubicBezTo>
                    <a:pt x="5111605" y="2170509"/>
                    <a:pt x="5117869" y="2216438"/>
                    <a:pt x="5034362" y="2228964"/>
                  </a:cubicBezTo>
                  <a:cubicBezTo>
                    <a:pt x="4950855" y="2241490"/>
                    <a:pt x="4729562" y="2266542"/>
                    <a:pt x="4671107" y="2241490"/>
                  </a:cubicBezTo>
                  <a:cubicBezTo>
                    <a:pt x="4612652" y="2216438"/>
                    <a:pt x="4704510" y="2105792"/>
                    <a:pt x="4683633" y="2078652"/>
                  </a:cubicBezTo>
                  <a:cubicBezTo>
                    <a:pt x="4662756" y="2051512"/>
                    <a:pt x="4583425" y="2057775"/>
                    <a:pt x="4545847" y="2078652"/>
                  </a:cubicBezTo>
                  <a:cubicBezTo>
                    <a:pt x="4508269" y="2099529"/>
                    <a:pt x="4499918" y="2170509"/>
                    <a:pt x="4458165" y="2203912"/>
                  </a:cubicBezTo>
                  <a:cubicBezTo>
                    <a:pt x="4416412" y="2237315"/>
                    <a:pt x="4345430" y="2268631"/>
                    <a:pt x="4295326" y="2279069"/>
                  </a:cubicBezTo>
                  <a:cubicBezTo>
                    <a:pt x="4245222" y="2289507"/>
                    <a:pt x="4226433" y="2264454"/>
                    <a:pt x="4157540" y="2266542"/>
                  </a:cubicBezTo>
                  <a:cubicBezTo>
                    <a:pt x="4088647" y="2268630"/>
                    <a:pt x="3955035" y="2281157"/>
                    <a:pt x="3881967" y="2291595"/>
                  </a:cubicBezTo>
                  <a:cubicBezTo>
                    <a:pt x="3808899" y="2302033"/>
                    <a:pt x="3783847" y="2329173"/>
                    <a:pt x="3719129" y="2329173"/>
                  </a:cubicBezTo>
                  <a:cubicBezTo>
                    <a:pt x="3654411" y="2329173"/>
                    <a:pt x="3583430" y="2312472"/>
                    <a:pt x="3493660" y="2291595"/>
                  </a:cubicBezTo>
                  <a:cubicBezTo>
                    <a:pt x="3403890" y="2270718"/>
                    <a:pt x="3243140" y="2216438"/>
                    <a:pt x="3180510" y="2203912"/>
                  </a:cubicBezTo>
                  <a:cubicBezTo>
                    <a:pt x="3117880" y="2191386"/>
                    <a:pt x="3159633" y="2222701"/>
                    <a:pt x="3117880" y="2216438"/>
                  </a:cubicBezTo>
                  <a:cubicBezTo>
                    <a:pt x="3076127" y="2210175"/>
                    <a:pt x="2988444" y="2199737"/>
                    <a:pt x="2929989" y="2166334"/>
                  </a:cubicBezTo>
                  <a:cubicBezTo>
                    <a:pt x="2871534" y="2132931"/>
                    <a:pt x="2825606" y="2026460"/>
                    <a:pt x="2767151" y="2016022"/>
                  </a:cubicBezTo>
                  <a:cubicBezTo>
                    <a:pt x="2708696" y="2005584"/>
                    <a:pt x="2639802" y="2072389"/>
                    <a:pt x="2579260" y="2103704"/>
                  </a:cubicBezTo>
                  <a:cubicBezTo>
                    <a:pt x="2518718" y="2135019"/>
                    <a:pt x="2454000" y="2201824"/>
                    <a:pt x="2403896" y="2203912"/>
                  </a:cubicBezTo>
                  <a:cubicBezTo>
                    <a:pt x="2353792" y="2206000"/>
                    <a:pt x="2335003" y="2122493"/>
                    <a:pt x="2278636" y="2116230"/>
                  </a:cubicBezTo>
                  <a:cubicBezTo>
                    <a:pt x="2222269" y="2109967"/>
                    <a:pt x="2122060" y="2149633"/>
                    <a:pt x="2065693" y="2166334"/>
                  </a:cubicBezTo>
                  <a:cubicBezTo>
                    <a:pt x="2009326" y="2183035"/>
                    <a:pt x="2003063" y="2214350"/>
                    <a:pt x="1940433" y="2216438"/>
                  </a:cubicBezTo>
                  <a:cubicBezTo>
                    <a:pt x="1877803" y="2218526"/>
                    <a:pt x="1758806" y="2178860"/>
                    <a:pt x="1689913" y="2178860"/>
                  </a:cubicBezTo>
                  <a:cubicBezTo>
                    <a:pt x="1621020" y="2178860"/>
                    <a:pt x="1527074" y="2216438"/>
                    <a:pt x="1527074" y="2216438"/>
                  </a:cubicBezTo>
                  <a:cubicBezTo>
                    <a:pt x="1472795" y="2228964"/>
                    <a:pt x="1403902" y="2268630"/>
                    <a:pt x="1364236" y="2254016"/>
                  </a:cubicBezTo>
                  <a:cubicBezTo>
                    <a:pt x="1324570" y="2239402"/>
                    <a:pt x="1320395" y="2132931"/>
                    <a:pt x="1289080" y="2128756"/>
                  </a:cubicBezTo>
                  <a:cubicBezTo>
                    <a:pt x="1257765" y="2124581"/>
                    <a:pt x="1218098" y="2197649"/>
                    <a:pt x="1176345" y="2228964"/>
                  </a:cubicBezTo>
                  <a:cubicBezTo>
                    <a:pt x="1134592" y="2260279"/>
                    <a:pt x="1094926" y="2308296"/>
                    <a:pt x="1038559" y="2316647"/>
                  </a:cubicBezTo>
                  <a:cubicBezTo>
                    <a:pt x="982192" y="2324998"/>
                    <a:pt x="894510" y="2285332"/>
                    <a:pt x="838143" y="2279069"/>
                  </a:cubicBezTo>
                  <a:cubicBezTo>
                    <a:pt x="781776" y="2272806"/>
                    <a:pt x="735847" y="2270718"/>
                    <a:pt x="700356" y="2279069"/>
                  </a:cubicBezTo>
                  <a:cubicBezTo>
                    <a:pt x="664865" y="2287420"/>
                    <a:pt x="666953" y="2335436"/>
                    <a:pt x="625200" y="2329173"/>
                  </a:cubicBezTo>
                  <a:cubicBezTo>
                    <a:pt x="583447" y="2322910"/>
                    <a:pt x="499940" y="2251928"/>
                    <a:pt x="449836" y="2241490"/>
                  </a:cubicBezTo>
                  <a:cubicBezTo>
                    <a:pt x="399732" y="2231052"/>
                    <a:pt x="349628" y="2249841"/>
                    <a:pt x="324576" y="2266542"/>
                  </a:cubicBezTo>
                  <a:cubicBezTo>
                    <a:pt x="299524" y="2283244"/>
                    <a:pt x="312049" y="2339611"/>
                    <a:pt x="299523" y="2341699"/>
                  </a:cubicBezTo>
                  <a:cubicBezTo>
                    <a:pt x="286997" y="2343787"/>
                    <a:pt x="276559" y="2295771"/>
                    <a:pt x="249419" y="2279069"/>
                  </a:cubicBezTo>
                  <a:cubicBezTo>
                    <a:pt x="222279" y="2262368"/>
                    <a:pt x="176351" y="2247753"/>
                    <a:pt x="136685" y="2241490"/>
                  </a:cubicBezTo>
                  <a:cubicBezTo>
                    <a:pt x="97019" y="2235227"/>
                    <a:pt x="32302" y="2256104"/>
                    <a:pt x="11425" y="2241490"/>
                  </a:cubicBezTo>
                  <a:cubicBezTo>
                    <a:pt x="-9452" y="2226876"/>
                    <a:pt x="3074" y="2487835"/>
                    <a:pt x="11425" y="2153808"/>
                  </a:cubicBezTo>
                  <a:cubicBezTo>
                    <a:pt x="19776" y="1819781"/>
                    <a:pt x="76143" y="598493"/>
                    <a:pt x="86581" y="24985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5"/>
            <p:cNvSpPr/>
            <p:nvPr/>
          </p:nvSpPr>
          <p:spPr>
            <a:xfrm>
              <a:off x="10187280" y="1467720"/>
              <a:ext cx="3902400" cy="43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6" descr=""/>
          <p:cNvPicPr/>
          <p:nvPr/>
        </p:nvPicPr>
        <p:blipFill>
          <a:blip r:embed="rId3"/>
          <a:stretch/>
        </p:blipFill>
        <p:spPr>
          <a:xfrm rot="21321000">
            <a:off x="9124920" y="1170000"/>
            <a:ext cx="3024360" cy="5746680"/>
          </a:xfrm>
          <a:prstGeom prst="rect">
            <a:avLst/>
          </a:prstGeom>
          <a:ln w="0">
            <a:noFill/>
          </a:ln>
          <a:effectLst>
            <a:outerShdw dist="88972" dir="2513029" blurRad="0" rotWithShape="0">
              <a:srgbClr val="000000">
                <a:alpha val="71000"/>
              </a:srgbClr>
            </a:outerShdw>
          </a:effectLst>
        </p:spPr>
      </p:pic>
      <p:grpSp>
        <p:nvGrpSpPr>
          <p:cNvPr id="133" name="组合 7"/>
          <p:cNvGrpSpPr/>
          <p:nvPr/>
        </p:nvGrpSpPr>
        <p:grpSpPr>
          <a:xfrm>
            <a:off x="655560" y="2492280"/>
            <a:ext cx="7416720" cy="2128680"/>
            <a:chOff x="655560" y="2492280"/>
            <a:chExt cx="7416720" cy="2128680"/>
          </a:xfrm>
        </p:grpSpPr>
        <p:sp>
          <p:nvSpPr>
            <p:cNvPr id="134" name="文本框 8"/>
            <p:cNvSpPr/>
            <p:nvPr/>
          </p:nvSpPr>
          <p:spPr>
            <a:xfrm>
              <a:off x="655560" y="2492280"/>
              <a:ext cx="741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 DESTINE"/>
                </a:rPr>
                <a:t>Sample tex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9"/>
            <p:cNvSpPr/>
            <p:nvPr/>
          </p:nvSpPr>
          <p:spPr>
            <a:xfrm>
              <a:off x="655560" y="3551760"/>
              <a:ext cx="7416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 DESTINE"/>
                </a:rPr>
                <a:t>If we can only encounter each other rather than stay with each other,then I wish we had never encountered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06:22:27Z</dcterms:created>
  <dc:creator>lenovo</dc:creator>
  <dc:description/>
  <cp:keywords/>
  <dc:language>en-US</dc:language>
  <cp:lastModifiedBy>王玉清</cp:lastModifiedBy>
  <dcterms:modified xsi:type="dcterms:W3CDTF">2016-03-01T06:44:33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4</vt:lpwstr>
  </property>
</Properties>
</file>