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6AB4-C93D-4199-9F97-011C5896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677-C056-44EC-A303-3D16BA81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4B5-D799-4F5E-B54F-D765BC14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DBE-339C-4C12-99C8-F0817A5D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E50F-78B4-4AA5-9D24-5E8269DA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B560-51BA-471E-9103-38A5AAAE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2D2D-BB62-458C-B9DF-BFFC3CDF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A12D-F8ED-4BAC-92D8-445317B1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CA40-5447-42E2-8D44-A914A2A6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5AF6-34B1-4E03-A074-64885F68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507C-F5FE-4D4A-9AD7-C350F684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A24-BF0E-4C4B-BD12-50C876B8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E1FA-26FA-41E3-BAC5-A8A50245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68B0-7874-4526-9E3C-7858B28B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1B44-35FE-46D9-A6D4-507CDEAB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39AB-CC22-45A0-A002-20BB52E8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E03B-33E2-46E4-88BB-7C441976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6C8-FF7B-4DE8-B06D-887256EB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728-4806-469F-8A69-A4BBA706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378-E78E-4677-9DDF-11CE21B1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B0D-6278-4FE4-BC4A-3F82355B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415-F7EC-42F9-9BBA-859125B1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7F1-1904-4996-8A25-DAED9037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640-BADA-466E-BC39-43D29A2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8007-039A-4ECA-B94A-1EA6645CF1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2839-14F9-4907-A110-2690F2ED0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18EF-ECF1-44DC-8BA6-C6383AA536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2104-3A50-49A5-93A7-A6C1C03760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pic1135"/>
          <p:cNvPicPr/>
          <p:nvPr/>
        </p:nvPicPr>
        <p:blipFill>
          <a:blip r:embed="rId1"/>
          <a:stretch/>
        </p:blipFill>
        <p:spPr>
          <a:xfrm>
            <a:off x="3816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3224520" y="687240"/>
            <a:ext cx="37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之蒲公英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00:32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