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5">
            <a:hlinkClick r:id="rId3"/>
          </p:cNvPr>
          <p:cNvSpPr/>
          <p:nvPr/>
        </p:nvSpPr>
        <p:spPr>
          <a:xfrm>
            <a:off x="-6192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png-0056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png-0002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6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46" name="Picture 17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8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24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5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6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8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2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  <a:ea typeface="华文细黑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5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58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Line 34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9"/>
          <p:cNvSpPr/>
          <p:nvPr/>
        </p:nvSpPr>
        <p:spPr>
          <a:xfrm>
            <a:off x="3348000" y="2981160"/>
            <a:ext cx="53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添加爱的祝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5865840" y="364500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情人节主题模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"/>
          <p:cNvSpPr/>
          <p:nvPr/>
        </p:nvSpPr>
        <p:spPr>
          <a:xfrm>
            <a:off x="2361960" y="54936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情人节黑色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0" y="2852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祝福天下有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图片素材来自互联网，版权归原作者所有。本模板仅供学习与参考，请勿使用于商业用途
</dc:description>
  <cp:keywords>ppt幻灯设计/ppt模板设计</cp:keywords>
  <dc:language>en-US</dc:language>
  <cp:lastModifiedBy>xinxing</cp:lastModifiedBy>
  <dcterms:modified xsi:type="dcterms:W3CDTF">2016-08-08T14:43:07Z</dcterms:modified>
  <cp:revision>68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