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5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7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Line 34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3348000" y="45813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添加爱的祝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922040" y="549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蓝色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配色方案修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配色方案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格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幻灯片设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配色方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编辑配色方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下调整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添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添加修改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视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幻灯片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下调整。直接选择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图片删除或修改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字体格式的设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括标题和文本格式的设置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视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幻灯片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下调整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0" y="4148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xinxing</cp:lastModifiedBy>
  <dcterms:modified xsi:type="dcterms:W3CDTF">2016-08-08T14:46:49Z</dcterms:modified>
  <cp:revision>7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