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49F-D696-426B-95A1-55DC6613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D29-3D94-4DFC-BB2F-45908A2D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6B7-A1C0-4119-B983-7325806F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C475-43AD-4F08-862D-C90E59B7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A8D-15FD-4204-B5A1-FEE9739C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C89-70DC-41FF-B339-145713B3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053-9466-41BB-87E8-9B9895D2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A867-8DB6-455C-AF30-F9A58B54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3115-2367-4A3F-A563-62578098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EBA-F8DD-4C3E-9222-429A263B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1B0-5ECC-4008-928B-FB6EB3A3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99D-7DE6-493C-BA84-5012545C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A93B-D7E3-41CF-8D79-46A21E3B7D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solidFill>
            <a:srgbClr val="114a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3atmeeting"/>
          <p:cNvPicPr/>
          <p:nvPr/>
        </p:nvPicPr>
        <p:blipFill>
          <a:blip r:embed="rId1"/>
          <a:stretch/>
        </p:blipFill>
        <p:spPr>
          <a:xfrm>
            <a:off x="0" y="13716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43" name="Line 7"/>
          <p:cNvSpPr/>
          <p:nvPr/>
        </p:nvSpPr>
        <p:spPr>
          <a:xfrm>
            <a:off x="0" y="2286000"/>
            <a:ext cx="3657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0" y="4114800"/>
            <a:ext cx="3657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0" y="5029200"/>
            <a:ext cx="3657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137160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0" y="4114800"/>
            <a:ext cx="9144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657600" y="1371600"/>
            <a:ext cx="5486400" cy="1905120"/>
          </a:xfrm>
          <a:prstGeom prst="rect">
            <a:avLst/>
          </a:prstGeom>
          <a:solidFill>
            <a:srgbClr val="114a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543480" y="1820880"/>
            <a:ext cx="5715000" cy="703440"/>
          </a:xfrm>
          <a:prstGeom prst="rect">
            <a:avLst/>
          </a:prstGeom>
          <a:solidFill>
            <a:srgbClr val="114a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Palatino Linotype"/>
                <a:ea typeface="MS PGothic"/>
              </a:rPr>
              <a:t>清爽的商业会晤</a:t>
            </a: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MS PGothic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Palatino Linotype"/>
                <a:ea typeface="MS PGothic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7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514600" y="1981080"/>
            <a:ext cx="6095880" cy="762120"/>
          </a:xfrm>
          <a:prstGeom prst="rect">
            <a:avLst/>
          </a:prstGeom>
          <a:solidFill>
            <a:srgbClr val="114a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0"/>
            <a:ext cx="2514600" cy="6858000"/>
          </a:xfrm>
          <a:prstGeom prst="rect">
            <a:avLst/>
          </a:prstGeom>
          <a:solidFill>
            <a:srgbClr val="114a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1676520" y="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0" y="1066680"/>
            <a:ext cx="2514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0" y="1905120"/>
            <a:ext cx="2514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0" y="6095880"/>
            <a:ext cx="2514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0" y="5257800"/>
            <a:ext cx="2514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0" y="4419720"/>
            <a:ext cx="2514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0" y="3581280"/>
            <a:ext cx="2514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officestairs"/>
          <p:cNvPicPr/>
          <p:nvPr/>
        </p:nvPicPr>
        <p:blipFill>
          <a:blip r:embed="rId1"/>
          <a:stretch/>
        </p:blipFill>
        <p:spPr>
          <a:xfrm>
            <a:off x="0" y="304920"/>
            <a:ext cx="2514600" cy="2438280"/>
          </a:xfrm>
          <a:prstGeom prst="rect">
            <a:avLst/>
          </a:prstGeom>
          <a:ln w="0">
            <a:noFill/>
          </a:ln>
        </p:spPr>
      </p:pic>
      <p:sp>
        <p:nvSpPr>
          <p:cNvPr id="67" name="Line 17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00:21:16Z</dcterms:created>
  <dc:creator>ppt宝藏</dc:creator>
  <dc:description/>
  <dc:language>en-US</dc:language>
  <cp:lastModifiedBy>a</cp:lastModifiedBy>
  <dcterms:modified xsi:type="dcterms:W3CDTF">2015-07-25T06:21:52Z</dcterms:modified>
  <cp:revision>7</cp:revision>
  <dc:subject/>
  <dc:title>www.pptbz.com</dc:title>
</cp:coreProperties>
</file>