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BB86-C18F-4E8F-B8AF-2058294D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BB2B-50AE-4EBC-980A-DF28782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EB20-A7A8-4409-95A4-D4743FE4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20A6-109A-4830-88BB-E6611E85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D578-46E7-4C44-A883-C9616B3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1530-A8B0-48F9-B8D6-FB0E990A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EAF6-1FCB-4C37-9991-18AF5B0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AA29-92FD-4003-A8C3-98544C7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2A4B-4C81-4186-A245-6C72F75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38AE-64F1-4C2D-8291-0F144CF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5BA9-63F4-4047-BA6B-45F583DB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F666-478D-432E-8876-FB11C0DC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2628B-B16B-4279-841C-B26C0F2B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17E0-994C-4B8E-8B5B-3E15E6D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56E99-D72E-4A7C-9956-A5DCF05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C4555-875E-4AFB-8726-FBC2EDAD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BF30B-B614-4C2E-81BF-5B5062D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5FF6C-7E2A-497F-BC2D-0D857C3D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223A0-319B-4CB2-874A-AF920033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CE6D6-18D8-40CC-82AE-ED45784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684AE-A8F7-4D28-93CA-329A923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D84A-E024-43C9-87C4-702BCAE5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B112E-AF68-4D77-8100-C55748F7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B85CB-0096-47AF-879A-3FF8B652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C2B7E-05E9-46E7-AA6A-BE75B9B1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85223-1A92-40BF-AD63-3C153F64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8CC66-A32F-4649-9518-BEBE9BB0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E1858-9CFB-495C-8B18-C1679FD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BA198-D917-43A7-B1AE-203F6EB0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A0EC2-7B2C-43A3-AEF4-8A639A0E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A9682-A89D-4D33-8F7C-E1DB68E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F7212-233F-49EF-BB4D-AA678E8A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ABBBA-6053-4629-B31D-14A76C0B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3733D-9AE7-4B44-9186-167C888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A98BA-46E4-45B3-ACB0-63C18319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9D7D3-D74A-42C5-9FE5-8387DBC3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200400" y="2130480"/>
            <a:ext cx="555120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85" hidden="1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Oval 480" hidden="1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Oval 481" hidden="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Oval 482" hidden="1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Oval 483" hidden="1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Rectangle 306" hidden="1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6" name="Rectangle 307" hidden="1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Rectangle 305" hidden="1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8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0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2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13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5" name="Rectangle 1433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" name="Picture 1434" descr="haba"/>
          <p:cNvPicPr/>
          <p:nvPr/>
        </p:nvPicPr>
        <p:blipFill>
          <a:blip r:embed="rId5"/>
          <a:stretch/>
        </p:blipFill>
        <p:spPr>
          <a:xfrm rot="4625400">
            <a:off x="8093160" y="5560920"/>
            <a:ext cx="406080" cy="90756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35"/>
          <p:cNvGrpSpPr/>
          <p:nvPr/>
        </p:nvGrpSpPr>
        <p:grpSpPr>
          <a:xfrm>
            <a:off x="-1028880" y="1887480"/>
            <a:ext cx="2230200" cy="5001840"/>
            <a:chOff x="-1028880" y="1887480"/>
            <a:chExt cx="2230200" cy="5001840"/>
          </a:xfrm>
        </p:grpSpPr>
        <p:sp>
          <p:nvSpPr>
            <p:cNvPr id="18" name="Freeform 1436"/>
            <p:cNvSpPr/>
            <p:nvPr/>
          </p:nvSpPr>
          <p:spPr>
            <a:xfrm>
              <a:off x="-1007280" y="1912680"/>
              <a:ext cx="2208600" cy="4968720"/>
            </a:xfrm>
            <a:custGeom>
              <a:avLst/>
              <a:gdLst>
                <a:gd name="textAreaLeft" fmla="*/ 0 w 2208600"/>
                <a:gd name="textAreaRight" fmla="*/ 2208960 w 2208600"/>
                <a:gd name="textAreaTop" fmla="*/ 0 h 4968720"/>
                <a:gd name="textAreaBottom" fmla="*/ 4969080 h 496872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19" name="Picture 1437" descr="haba_03"/>
            <p:cNvPicPr/>
            <p:nvPr/>
          </p:nvPicPr>
          <p:blipFill>
            <a:blip r:embed="rId6">
              <a:biLevel thresh="50000"/>
            </a:blip>
            <a:stretch/>
          </p:blipFill>
          <p:spPr>
            <a:xfrm>
              <a:off x="-1028880" y="1887480"/>
              <a:ext cx="2220480" cy="50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" name="Group 1438"/>
          <p:cNvGrpSpPr/>
          <p:nvPr/>
        </p:nvGrpSpPr>
        <p:grpSpPr>
          <a:xfrm>
            <a:off x="-728280" y="2830680"/>
            <a:ext cx="4043520" cy="4604760"/>
            <a:chOff x="-728280" y="2830680"/>
            <a:chExt cx="4043520" cy="4604760"/>
          </a:xfrm>
        </p:grpSpPr>
        <p:sp>
          <p:nvSpPr>
            <p:cNvPr id="21" name="Freeform 1439"/>
            <p:cNvSpPr/>
            <p:nvPr/>
          </p:nvSpPr>
          <p:spPr>
            <a:xfrm rot="2126400">
              <a:off x="352080" y="3012840"/>
              <a:ext cx="1895760" cy="4267080"/>
            </a:xfrm>
            <a:custGeom>
              <a:avLst/>
              <a:gdLst>
                <a:gd name="textAreaLeft" fmla="*/ 0 w 1895760"/>
                <a:gd name="textAreaRight" fmla="*/ 1896120 w 1895760"/>
                <a:gd name="textAreaTop" fmla="*/ 0 h 4267080"/>
                <a:gd name="textAreaBottom" fmla="*/ 4267440 h 4267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22" name="Picture 1440" descr="haba_03"/>
            <p:cNvPicPr/>
            <p:nvPr/>
          </p:nvPicPr>
          <p:blipFill>
            <a:blip r:embed="rId7">
              <a:biLevel thresh="50000"/>
            </a:blip>
            <a:stretch/>
          </p:blipFill>
          <p:spPr>
            <a:xfrm rot="2126400">
              <a:off x="340560" y="2985120"/>
              <a:ext cx="1905840" cy="429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Group 1441"/>
          <p:cNvGrpSpPr/>
          <p:nvPr/>
        </p:nvGrpSpPr>
        <p:grpSpPr>
          <a:xfrm>
            <a:off x="-212760" y="5141160"/>
            <a:ext cx="4379040" cy="2644920"/>
            <a:chOff x="-212760" y="5141160"/>
            <a:chExt cx="4379040" cy="2644920"/>
          </a:xfrm>
        </p:grpSpPr>
        <p:sp>
          <p:nvSpPr>
            <p:cNvPr id="24" name="Freeform 1442"/>
            <p:cNvSpPr/>
            <p:nvPr/>
          </p:nvSpPr>
          <p:spPr>
            <a:xfrm rot="4666800">
              <a:off x="1069920" y="4443840"/>
              <a:ext cx="1804680" cy="4060440"/>
            </a:xfrm>
            <a:custGeom>
              <a:avLst/>
              <a:gdLst>
                <a:gd name="textAreaLeft" fmla="*/ 0 w 1804680"/>
                <a:gd name="textAreaRight" fmla="*/ 1805040 w 1804680"/>
                <a:gd name="textAreaTop" fmla="*/ 0 h 4060440"/>
                <a:gd name="textAreaBottom" fmla="*/ 4060800 h 406044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25" name="Picture 1443" descr="haba_03"/>
            <p:cNvPicPr/>
            <p:nvPr/>
          </p:nvPicPr>
          <p:blipFill>
            <a:blip r:embed="rId8">
              <a:biLevel thresh="50000"/>
            </a:blip>
            <a:stretch/>
          </p:blipFill>
          <p:spPr>
            <a:xfrm rot="4666800">
              <a:off x="1069560" y="4416480"/>
              <a:ext cx="1814040" cy="40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" name="Group 1447"/>
          <p:cNvGrpSpPr/>
          <p:nvPr/>
        </p:nvGrpSpPr>
        <p:grpSpPr>
          <a:xfrm>
            <a:off x="5389560" y="4974480"/>
            <a:ext cx="1308600" cy="649800"/>
            <a:chOff x="5389560" y="4974480"/>
            <a:chExt cx="1308600" cy="649800"/>
          </a:xfrm>
        </p:grpSpPr>
        <p:pic>
          <p:nvPicPr>
            <p:cNvPr id="27" name="Picture 1448" descr="haba"/>
            <p:cNvPicPr/>
            <p:nvPr/>
          </p:nvPicPr>
          <p:blipFill>
            <a:blip r:embed="rId9"/>
            <a:stretch/>
          </p:blipFill>
          <p:spPr>
            <a:xfrm rot="5627400">
              <a:off x="5756040" y="4665960"/>
              <a:ext cx="567360" cy="12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" name="Freeform 1449"/>
            <p:cNvSpPr/>
            <p:nvPr/>
          </p:nvSpPr>
          <p:spPr>
            <a:xfrm rot="5613000">
              <a:off x="5767200" y="4661280"/>
              <a:ext cx="561600" cy="12679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9" name="Oval 145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Oval 145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Oval 145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Oval 145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400" y="2130480"/>
            <a:ext cx="5551200" cy="14695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4" name="Group 1459"/>
          <p:cNvGrpSpPr/>
          <p:nvPr/>
        </p:nvGrpSpPr>
        <p:grpSpPr>
          <a:xfrm>
            <a:off x="3512880" y="3596760"/>
            <a:ext cx="2274120" cy="1465560"/>
            <a:chOff x="3512880" y="3596760"/>
            <a:chExt cx="2274120" cy="1465560"/>
          </a:xfrm>
        </p:grpSpPr>
        <p:sp>
          <p:nvSpPr>
            <p:cNvPr id="35" name="Freeform 1446"/>
            <p:cNvSpPr/>
            <p:nvPr/>
          </p:nvSpPr>
          <p:spPr>
            <a:xfrm rot="4464000">
              <a:off x="4184640" y="3276360"/>
              <a:ext cx="929880" cy="2101320"/>
            </a:xfrm>
            <a:custGeom>
              <a:avLst/>
              <a:gdLst>
                <a:gd name="textAreaLeft" fmla="*/ 0 w 929880"/>
                <a:gd name="textAreaRight" fmla="*/ 930240 w 929880"/>
                <a:gd name="textAreaTop" fmla="*/ 0 h 2101320"/>
                <a:gd name="textAreaBottom" fmla="*/ 2101680 h 210132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71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pic>
          <p:nvPicPr>
            <p:cNvPr id="36" name="Picture 1457" descr="haba_02"/>
            <p:cNvPicPr/>
            <p:nvPr/>
          </p:nvPicPr>
          <p:blipFill>
            <a:blip r:embed="rId10"/>
            <a:stretch/>
          </p:blipFill>
          <p:spPr>
            <a:xfrm rot="4477800">
              <a:off x="4181400" y="3284280"/>
              <a:ext cx="941040" cy="209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chemeClr val="accent1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85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Oval 48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Oval 48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Oval 48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Oval 48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Rectangle 306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80" name="Rectangle 307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Rectangle 305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82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84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86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87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3B1004-5B81-4A19-AD0E-8A0FA03863A1}" type="slidenum"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chemeClr val="accent1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85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Oval 48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Oval 48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Oval 48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Oval 48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Rectangle 306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136" name="Rectangle 307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Rectangle 305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138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40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42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143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e3516"/>
              </a:buClr>
              <a:buFont typeface="Symbol" charset="2"/>
              <a:buChar char=""/>
            </a:pPr>
            <a:r>
              <a:rPr b="1" lang="zh-CN" sz="3200" spc="-1" strike="noStrike">
                <a:solidFill>
                  <a:schemeClr val="accent1"/>
                </a:solidFill>
                <a:latin typeface="Arial"/>
              </a:rPr>
              <a:t>单击此处编辑母版文本样式</a:t>
            </a:r>
            <a:endParaRPr b="1" lang="en-US" sz="3200" spc="-1" strike="noStrike">
              <a:solidFill>
                <a:schemeClr val="accent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BC4955-BF82-45CF-ABC1-352773575A71}" type="slidenum"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85"/>
          <p:cNvSpPr/>
          <p:nvPr/>
        </p:nvSpPr>
        <p:spPr>
          <a:xfrm>
            <a:off x="0" y="0"/>
            <a:ext cx="9143640" cy="1434600"/>
          </a:xfrm>
          <a:prstGeom prst="rect">
            <a:avLst/>
          </a:prstGeom>
          <a:gradFill rotWithShape="0">
            <a:gsLst>
              <a:gs pos="0">
                <a:srgbClr val="4e9d41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Oval 480"/>
          <p:cNvSpPr/>
          <p:nvPr/>
        </p:nvSpPr>
        <p:spPr>
          <a:xfrm>
            <a:off x="8312040" y="6394320"/>
            <a:ext cx="151920" cy="151920"/>
          </a:xfrm>
          <a:prstGeom prst="ellipse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Oval 481"/>
          <p:cNvSpPr/>
          <p:nvPr/>
        </p:nvSpPr>
        <p:spPr>
          <a:xfrm>
            <a:off x="8551800" y="6392880"/>
            <a:ext cx="151920" cy="15192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Oval 482"/>
          <p:cNvSpPr/>
          <p:nvPr/>
        </p:nvSpPr>
        <p:spPr>
          <a:xfrm>
            <a:off x="7835760" y="6394320"/>
            <a:ext cx="151920" cy="15192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Oval 483"/>
          <p:cNvSpPr/>
          <p:nvPr/>
        </p:nvSpPr>
        <p:spPr>
          <a:xfrm>
            <a:off x="8075520" y="6392880"/>
            <a:ext cx="151920" cy="151920"/>
          </a:xfrm>
          <a:prstGeom prst="ellips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Rectangle 306"/>
          <p:cNvSpPr/>
          <p:nvPr/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192" name="Rectangle 307"/>
          <p:cNvSpPr/>
          <p:nvPr/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305"/>
          <p:cNvSpPr/>
          <p:nvPr/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pic>
        <p:nvPicPr>
          <p:cNvPr id="194" name="Picture 468" descr="haba"/>
          <p:cNvPicPr/>
          <p:nvPr/>
        </p:nvPicPr>
        <p:blipFill>
          <a:blip r:embed="rId2"/>
          <a:stretch/>
        </p:blipFill>
        <p:spPr>
          <a:xfrm rot="4625400">
            <a:off x="2315520" y="6269400"/>
            <a:ext cx="221760" cy="49644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469"/>
          <p:cNvGrpSpPr/>
          <p:nvPr/>
        </p:nvGrpSpPr>
        <p:grpSpPr>
          <a:xfrm>
            <a:off x="133920" y="5563440"/>
            <a:ext cx="849960" cy="538920"/>
            <a:chOff x="133920" y="5563440"/>
            <a:chExt cx="849960" cy="538920"/>
          </a:xfrm>
        </p:grpSpPr>
        <p:pic>
          <p:nvPicPr>
            <p:cNvPr id="196" name="Picture 470" descr="haba"/>
            <p:cNvPicPr/>
            <p:nvPr/>
          </p:nvPicPr>
          <p:blipFill>
            <a:blip r:embed="rId3"/>
            <a:stretch/>
          </p:blipFill>
          <p:spPr>
            <a:xfrm rot="4525800">
              <a:off x="381960" y="5442840"/>
              <a:ext cx="34956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Freeform 471"/>
            <p:cNvSpPr/>
            <p:nvPr/>
          </p:nvSpPr>
          <p:spPr>
            <a:xfrm rot="4510800">
              <a:off x="387360" y="5438880"/>
              <a:ext cx="346320" cy="7840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70196"/>
                  </a:srgbClr>
                </a:gs>
                <a:gs pos="100000">
                  <a:srgbClr val="aed925">
                    <a:alpha val="70196"/>
                  </a:srgbClr>
                </a:gs>
              </a:gsLst>
              <a:lin ang="69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98" name="Group 472"/>
          <p:cNvGrpSpPr/>
          <p:nvPr/>
        </p:nvGrpSpPr>
        <p:grpSpPr>
          <a:xfrm>
            <a:off x="1058040" y="5788800"/>
            <a:ext cx="675720" cy="650160"/>
            <a:chOff x="1058040" y="5788800"/>
            <a:chExt cx="675720" cy="650160"/>
          </a:xfrm>
        </p:grpSpPr>
        <p:pic>
          <p:nvPicPr>
            <p:cNvPr id="199" name="Picture 473" descr="haba"/>
            <p:cNvPicPr/>
            <p:nvPr/>
          </p:nvPicPr>
          <p:blipFill>
            <a:blip r:embed="rId4"/>
            <a:stretch/>
          </p:blipFill>
          <p:spPr>
            <a:xfrm flipH="1" rot="7905600">
              <a:off x="1251000" y="5788800"/>
              <a:ext cx="289800" cy="6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74"/>
            <p:cNvSpPr/>
            <p:nvPr/>
          </p:nvSpPr>
          <p:spPr>
            <a:xfrm flipV="1" rot="18720600">
              <a:off x="1253520" y="5791680"/>
              <a:ext cx="286920" cy="6480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137" h="2558">
                  <a:moveTo>
                    <a:pt x="525" y="0"/>
                  </a:moveTo>
                  <a:lnTo>
                    <a:pt x="520" y="86"/>
                  </a:lnTo>
                  <a:lnTo>
                    <a:pt x="511" y="233"/>
                  </a:lnTo>
                  <a:lnTo>
                    <a:pt x="490" y="311"/>
                  </a:lnTo>
                  <a:lnTo>
                    <a:pt x="457" y="380"/>
                  </a:lnTo>
                  <a:lnTo>
                    <a:pt x="385" y="446"/>
                  </a:lnTo>
                  <a:lnTo>
                    <a:pt x="286" y="530"/>
                  </a:lnTo>
                  <a:lnTo>
                    <a:pt x="214" y="626"/>
                  </a:lnTo>
                  <a:lnTo>
                    <a:pt x="171" y="691"/>
                  </a:lnTo>
                  <a:lnTo>
                    <a:pt x="154" y="695"/>
                  </a:lnTo>
                  <a:lnTo>
                    <a:pt x="153" y="722"/>
                  </a:lnTo>
                  <a:lnTo>
                    <a:pt x="141" y="727"/>
                  </a:lnTo>
                  <a:lnTo>
                    <a:pt x="135" y="757"/>
                  </a:lnTo>
                  <a:lnTo>
                    <a:pt x="120" y="764"/>
                  </a:lnTo>
                  <a:lnTo>
                    <a:pt x="114" y="790"/>
                  </a:lnTo>
                  <a:lnTo>
                    <a:pt x="97" y="806"/>
                  </a:lnTo>
                  <a:lnTo>
                    <a:pt x="94" y="838"/>
                  </a:lnTo>
                  <a:lnTo>
                    <a:pt x="81" y="848"/>
                  </a:lnTo>
                  <a:lnTo>
                    <a:pt x="78" y="872"/>
                  </a:lnTo>
                  <a:lnTo>
                    <a:pt x="70" y="874"/>
                  </a:lnTo>
                  <a:lnTo>
                    <a:pt x="66" y="910"/>
                  </a:lnTo>
                  <a:lnTo>
                    <a:pt x="57" y="926"/>
                  </a:lnTo>
                  <a:lnTo>
                    <a:pt x="57" y="949"/>
                  </a:lnTo>
                  <a:lnTo>
                    <a:pt x="43" y="959"/>
                  </a:lnTo>
                  <a:lnTo>
                    <a:pt x="45" y="986"/>
                  </a:lnTo>
                  <a:lnTo>
                    <a:pt x="34" y="1000"/>
                  </a:lnTo>
                  <a:lnTo>
                    <a:pt x="39" y="1031"/>
                  </a:lnTo>
                  <a:lnTo>
                    <a:pt x="30" y="1043"/>
                  </a:lnTo>
                  <a:lnTo>
                    <a:pt x="31" y="1066"/>
                  </a:lnTo>
                  <a:lnTo>
                    <a:pt x="22" y="1088"/>
                  </a:lnTo>
                  <a:lnTo>
                    <a:pt x="24" y="1133"/>
                  </a:lnTo>
                  <a:lnTo>
                    <a:pt x="15" y="1150"/>
                  </a:lnTo>
                  <a:lnTo>
                    <a:pt x="12" y="1172"/>
                  </a:lnTo>
                  <a:lnTo>
                    <a:pt x="13" y="1195"/>
                  </a:lnTo>
                  <a:lnTo>
                    <a:pt x="7" y="1216"/>
                  </a:lnTo>
                  <a:lnTo>
                    <a:pt x="4" y="1235"/>
                  </a:lnTo>
                  <a:lnTo>
                    <a:pt x="0" y="1258"/>
                  </a:lnTo>
                  <a:lnTo>
                    <a:pt x="9" y="1283"/>
                  </a:lnTo>
                  <a:lnTo>
                    <a:pt x="3" y="1316"/>
                  </a:lnTo>
                  <a:lnTo>
                    <a:pt x="9" y="1354"/>
                  </a:lnTo>
                  <a:lnTo>
                    <a:pt x="15" y="1379"/>
                  </a:lnTo>
                  <a:lnTo>
                    <a:pt x="7" y="1400"/>
                  </a:lnTo>
                  <a:lnTo>
                    <a:pt x="18" y="1421"/>
                  </a:lnTo>
                  <a:lnTo>
                    <a:pt x="19" y="1445"/>
                  </a:lnTo>
                  <a:lnTo>
                    <a:pt x="27" y="1480"/>
                  </a:lnTo>
                  <a:lnTo>
                    <a:pt x="30" y="1505"/>
                  </a:lnTo>
                  <a:lnTo>
                    <a:pt x="37" y="1525"/>
                  </a:lnTo>
                  <a:lnTo>
                    <a:pt x="33" y="1558"/>
                  </a:lnTo>
                  <a:lnTo>
                    <a:pt x="45" y="1574"/>
                  </a:lnTo>
                  <a:lnTo>
                    <a:pt x="43" y="1610"/>
                  </a:lnTo>
                  <a:lnTo>
                    <a:pt x="52" y="1625"/>
                  </a:lnTo>
                  <a:lnTo>
                    <a:pt x="55" y="1646"/>
                  </a:lnTo>
                  <a:lnTo>
                    <a:pt x="67" y="1654"/>
                  </a:lnTo>
                  <a:lnTo>
                    <a:pt x="67" y="1693"/>
                  </a:lnTo>
                  <a:lnTo>
                    <a:pt x="76" y="1702"/>
                  </a:lnTo>
                  <a:lnTo>
                    <a:pt x="88" y="1723"/>
                  </a:lnTo>
                  <a:lnTo>
                    <a:pt x="91" y="1751"/>
                  </a:lnTo>
                  <a:lnTo>
                    <a:pt x="109" y="1772"/>
                  </a:lnTo>
                  <a:lnTo>
                    <a:pt x="118" y="1802"/>
                  </a:lnTo>
                  <a:lnTo>
                    <a:pt x="133" y="1810"/>
                  </a:lnTo>
                  <a:lnTo>
                    <a:pt x="139" y="1838"/>
                  </a:lnTo>
                  <a:lnTo>
                    <a:pt x="156" y="1853"/>
                  </a:lnTo>
                  <a:lnTo>
                    <a:pt x="153" y="1874"/>
                  </a:lnTo>
                  <a:lnTo>
                    <a:pt x="171" y="1880"/>
                  </a:lnTo>
                  <a:lnTo>
                    <a:pt x="174" y="1913"/>
                  </a:lnTo>
                  <a:lnTo>
                    <a:pt x="184" y="1915"/>
                  </a:lnTo>
                  <a:lnTo>
                    <a:pt x="187" y="1933"/>
                  </a:lnTo>
                  <a:lnTo>
                    <a:pt x="205" y="1940"/>
                  </a:lnTo>
                  <a:lnTo>
                    <a:pt x="213" y="1964"/>
                  </a:lnTo>
                  <a:lnTo>
                    <a:pt x="231" y="1969"/>
                  </a:lnTo>
                  <a:lnTo>
                    <a:pt x="246" y="1990"/>
                  </a:lnTo>
                  <a:lnTo>
                    <a:pt x="262" y="1993"/>
                  </a:lnTo>
                  <a:lnTo>
                    <a:pt x="270" y="2011"/>
                  </a:lnTo>
                  <a:lnTo>
                    <a:pt x="289" y="2024"/>
                  </a:lnTo>
                  <a:lnTo>
                    <a:pt x="297" y="2047"/>
                  </a:lnTo>
                  <a:lnTo>
                    <a:pt x="318" y="2063"/>
                  </a:lnTo>
                  <a:lnTo>
                    <a:pt x="333" y="2081"/>
                  </a:lnTo>
                  <a:lnTo>
                    <a:pt x="348" y="2087"/>
                  </a:lnTo>
                  <a:lnTo>
                    <a:pt x="360" y="2108"/>
                  </a:lnTo>
                  <a:lnTo>
                    <a:pt x="369" y="2108"/>
                  </a:lnTo>
                  <a:lnTo>
                    <a:pt x="376" y="2125"/>
                  </a:lnTo>
                  <a:lnTo>
                    <a:pt x="399" y="2137"/>
                  </a:lnTo>
                  <a:lnTo>
                    <a:pt x="415" y="2162"/>
                  </a:lnTo>
                  <a:lnTo>
                    <a:pt x="430" y="2159"/>
                  </a:lnTo>
                  <a:lnTo>
                    <a:pt x="439" y="2174"/>
                  </a:lnTo>
                  <a:lnTo>
                    <a:pt x="444" y="2194"/>
                  </a:lnTo>
                  <a:lnTo>
                    <a:pt x="454" y="2192"/>
                  </a:lnTo>
                  <a:lnTo>
                    <a:pt x="469" y="2210"/>
                  </a:lnTo>
                  <a:lnTo>
                    <a:pt x="466" y="2225"/>
                  </a:lnTo>
                  <a:lnTo>
                    <a:pt x="484" y="2228"/>
                  </a:lnTo>
                  <a:lnTo>
                    <a:pt x="487" y="2252"/>
                  </a:lnTo>
                  <a:lnTo>
                    <a:pt x="492" y="2279"/>
                  </a:lnTo>
                  <a:lnTo>
                    <a:pt x="501" y="2293"/>
                  </a:lnTo>
                  <a:lnTo>
                    <a:pt x="502" y="2312"/>
                  </a:lnTo>
                  <a:lnTo>
                    <a:pt x="510" y="2329"/>
                  </a:lnTo>
                  <a:lnTo>
                    <a:pt x="507" y="2351"/>
                  </a:lnTo>
                  <a:lnTo>
                    <a:pt x="513" y="2362"/>
                  </a:lnTo>
                  <a:lnTo>
                    <a:pt x="511" y="2390"/>
                  </a:lnTo>
                  <a:lnTo>
                    <a:pt x="514" y="2420"/>
                  </a:lnTo>
                  <a:lnTo>
                    <a:pt x="520" y="2455"/>
                  </a:lnTo>
                  <a:lnTo>
                    <a:pt x="520" y="2501"/>
                  </a:lnTo>
                  <a:lnTo>
                    <a:pt x="523" y="2558"/>
                  </a:lnTo>
                  <a:lnTo>
                    <a:pt x="535" y="2548"/>
                  </a:lnTo>
                  <a:lnTo>
                    <a:pt x="541" y="2522"/>
                  </a:lnTo>
                  <a:lnTo>
                    <a:pt x="547" y="2482"/>
                  </a:lnTo>
                  <a:lnTo>
                    <a:pt x="555" y="2479"/>
                  </a:lnTo>
                  <a:lnTo>
                    <a:pt x="552" y="2458"/>
                  </a:lnTo>
                  <a:lnTo>
                    <a:pt x="558" y="2422"/>
                  </a:lnTo>
                  <a:lnTo>
                    <a:pt x="570" y="2419"/>
                  </a:lnTo>
                  <a:lnTo>
                    <a:pt x="567" y="2387"/>
                  </a:lnTo>
                  <a:lnTo>
                    <a:pt x="577" y="2390"/>
                  </a:lnTo>
                  <a:lnTo>
                    <a:pt x="576" y="2363"/>
                  </a:lnTo>
                  <a:lnTo>
                    <a:pt x="591" y="2363"/>
                  </a:lnTo>
                  <a:lnTo>
                    <a:pt x="586" y="2329"/>
                  </a:lnTo>
                  <a:lnTo>
                    <a:pt x="594" y="2308"/>
                  </a:lnTo>
                  <a:lnTo>
                    <a:pt x="601" y="2315"/>
                  </a:lnTo>
                  <a:lnTo>
                    <a:pt x="606" y="2276"/>
                  </a:lnTo>
                  <a:lnTo>
                    <a:pt x="616" y="2276"/>
                  </a:lnTo>
                  <a:lnTo>
                    <a:pt x="618" y="2251"/>
                  </a:lnTo>
                  <a:lnTo>
                    <a:pt x="625" y="2252"/>
                  </a:lnTo>
                  <a:lnTo>
                    <a:pt x="627" y="2230"/>
                  </a:lnTo>
                  <a:lnTo>
                    <a:pt x="642" y="2237"/>
                  </a:lnTo>
                  <a:lnTo>
                    <a:pt x="646" y="2222"/>
                  </a:lnTo>
                  <a:lnTo>
                    <a:pt x="654" y="2221"/>
                  </a:lnTo>
                  <a:lnTo>
                    <a:pt x="655" y="2192"/>
                  </a:lnTo>
                  <a:lnTo>
                    <a:pt x="672" y="2194"/>
                  </a:lnTo>
                  <a:lnTo>
                    <a:pt x="672" y="2176"/>
                  </a:lnTo>
                  <a:lnTo>
                    <a:pt x="682" y="2179"/>
                  </a:lnTo>
                  <a:lnTo>
                    <a:pt x="684" y="2158"/>
                  </a:lnTo>
                  <a:lnTo>
                    <a:pt x="700" y="2164"/>
                  </a:lnTo>
                  <a:lnTo>
                    <a:pt x="705" y="2140"/>
                  </a:lnTo>
                  <a:lnTo>
                    <a:pt x="720" y="2141"/>
                  </a:lnTo>
                  <a:lnTo>
                    <a:pt x="721" y="2119"/>
                  </a:lnTo>
                  <a:lnTo>
                    <a:pt x="738" y="2119"/>
                  </a:lnTo>
                  <a:lnTo>
                    <a:pt x="744" y="2102"/>
                  </a:lnTo>
                  <a:lnTo>
                    <a:pt x="756" y="2104"/>
                  </a:lnTo>
                  <a:lnTo>
                    <a:pt x="756" y="2084"/>
                  </a:lnTo>
                  <a:lnTo>
                    <a:pt x="775" y="2083"/>
                  </a:lnTo>
                  <a:lnTo>
                    <a:pt x="783" y="2065"/>
                  </a:lnTo>
                  <a:lnTo>
                    <a:pt x="798" y="2063"/>
                  </a:lnTo>
                  <a:lnTo>
                    <a:pt x="804" y="2048"/>
                  </a:lnTo>
                  <a:lnTo>
                    <a:pt x="819" y="2048"/>
                  </a:lnTo>
                  <a:lnTo>
                    <a:pt x="825" y="2038"/>
                  </a:lnTo>
                  <a:lnTo>
                    <a:pt x="835" y="2041"/>
                  </a:lnTo>
                  <a:lnTo>
                    <a:pt x="834" y="2020"/>
                  </a:lnTo>
                  <a:lnTo>
                    <a:pt x="852" y="2023"/>
                  </a:lnTo>
                  <a:lnTo>
                    <a:pt x="853" y="2005"/>
                  </a:lnTo>
                  <a:lnTo>
                    <a:pt x="868" y="2003"/>
                  </a:lnTo>
                  <a:lnTo>
                    <a:pt x="877" y="1984"/>
                  </a:lnTo>
                  <a:lnTo>
                    <a:pt x="891" y="1972"/>
                  </a:lnTo>
                  <a:lnTo>
                    <a:pt x="904" y="1972"/>
                  </a:lnTo>
                  <a:lnTo>
                    <a:pt x="912" y="1943"/>
                  </a:lnTo>
                  <a:lnTo>
                    <a:pt x="921" y="1933"/>
                  </a:lnTo>
                  <a:lnTo>
                    <a:pt x="940" y="1939"/>
                  </a:lnTo>
                  <a:lnTo>
                    <a:pt x="943" y="1912"/>
                  </a:lnTo>
                  <a:lnTo>
                    <a:pt x="955" y="1906"/>
                  </a:lnTo>
                  <a:lnTo>
                    <a:pt x="958" y="1886"/>
                  </a:lnTo>
                  <a:lnTo>
                    <a:pt x="984" y="1885"/>
                  </a:lnTo>
                  <a:lnTo>
                    <a:pt x="987" y="1852"/>
                  </a:lnTo>
                  <a:lnTo>
                    <a:pt x="1005" y="1844"/>
                  </a:lnTo>
                  <a:lnTo>
                    <a:pt x="1012" y="1826"/>
                  </a:lnTo>
                  <a:lnTo>
                    <a:pt x="1026" y="1825"/>
                  </a:lnTo>
                  <a:lnTo>
                    <a:pt x="1027" y="1796"/>
                  </a:lnTo>
                  <a:lnTo>
                    <a:pt x="1038" y="1796"/>
                  </a:lnTo>
                  <a:lnTo>
                    <a:pt x="1039" y="1780"/>
                  </a:lnTo>
                  <a:lnTo>
                    <a:pt x="1053" y="1769"/>
                  </a:lnTo>
                  <a:lnTo>
                    <a:pt x="1053" y="1753"/>
                  </a:lnTo>
                  <a:lnTo>
                    <a:pt x="1066" y="1735"/>
                  </a:lnTo>
                  <a:lnTo>
                    <a:pt x="1063" y="1702"/>
                  </a:lnTo>
                  <a:lnTo>
                    <a:pt x="1074" y="1693"/>
                  </a:lnTo>
                  <a:lnTo>
                    <a:pt x="1075" y="1655"/>
                  </a:lnTo>
                  <a:lnTo>
                    <a:pt x="1087" y="1649"/>
                  </a:lnTo>
                  <a:lnTo>
                    <a:pt x="1078" y="1625"/>
                  </a:lnTo>
                  <a:lnTo>
                    <a:pt x="1084" y="1612"/>
                  </a:lnTo>
                  <a:lnTo>
                    <a:pt x="1086" y="1582"/>
                  </a:lnTo>
                  <a:lnTo>
                    <a:pt x="1095" y="1582"/>
                  </a:lnTo>
                  <a:lnTo>
                    <a:pt x="1095" y="1553"/>
                  </a:lnTo>
                  <a:lnTo>
                    <a:pt x="1102" y="1541"/>
                  </a:lnTo>
                  <a:lnTo>
                    <a:pt x="1107" y="1501"/>
                  </a:lnTo>
                  <a:lnTo>
                    <a:pt x="1122" y="1474"/>
                  </a:lnTo>
                  <a:lnTo>
                    <a:pt x="1122" y="1448"/>
                  </a:lnTo>
                  <a:lnTo>
                    <a:pt x="1126" y="1400"/>
                  </a:lnTo>
                  <a:lnTo>
                    <a:pt x="1134" y="1385"/>
                  </a:lnTo>
                  <a:lnTo>
                    <a:pt x="1128" y="1367"/>
                  </a:lnTo>
                  <a:lnTo>
                    <a:pt x="1135" y="1340"/>
                  </a:lnTo>
                  <a:lnTo>
                    <a:pt x="1132" y="1322"/>
                  </a:lnTo>
                  <a:lnTo>
                    <a:pt x="1132" y="1304"/>
                  </a:lnTo>
                  <a:lnTo>
                    <a:pt x="1135" y="1282"/>
                  </a:lnTo>
                  <a:lnTo>
                    <a:pt x="1123" y="1273"/>
                  </a:lnTo>
                  <a:lnTo>
                    <a:pt x="1137" y="1249"/>
                  </a:lnTo>
                  <a:lnTo>
                    <a:pt x="1122" y="1241"/>
                  </a:lnTo>
                  <a:lnTo>
                    <a:pt x="1135" y="1216"/>
                  </a:lnTo>
                  <a:lnTo>
                    <a:pt x="1131" y="1193"/>
                  </a:lnTo>
                  <a:lnTo>
                    <a:pt x="1128" y="1187"/>
                  </a:lnTo>
                  <a:lnTo>
                    <a:pt x="1128" y="1162"/>
                  </a:lnTo>
                  <a:lnTo>
                    <a:pt x="1120" y="1152"/>
                  </a:lnTo>
                  <a:lnTo>
                    <a:pt x="1120" y="1130"/>
                  </a:lnTo>
                  <a:lnTo>
                    <a:pt x="1108" y="1118"/>
                  </a:lnTo>
                  <a:lnTo>
                    <a:pt x="1117" y="1094"/>
                  </a:lnTo>
                  <a:lnTo>
                    <a:pt x="1108" y="1086"/>
                  </a:lnTo>
                  <a:lnTo>
                    <a:pt x="1108" y="1053"/>
                  </a:lnTo>
                  <a:lnTo>
                    <a:pt x="1098" y="1049"/>
                  </a:lnTo>
                  <a:lnTo>
                    <a:pt x="1099" y="1019"/>
                  </a:lnTo>
                  <a:lnTo>
                    <a:pt x="1095" y="981"/>
                  </a:lnTo>
                  <a:lnTo>
                    <a:pt x="1081" y="983"/>
                  </a:lnTo>
                  <a:lnTo>
                    <a:pt x="1086" y="951"/>
                  </a:lnTo>
                  <a:lnTo>
                    <a:pt x="1077" y="933"/>
                  </a:lnTo>
                  <a:lnTo>
                    <a:pt x="1084" y="917"/>
                  </a:lnTo>
                  <a:lnTo>
                    <a:pt x="1072" y="906"/>
                  </a:lnTo>
                  <a:lnTo>
                    <a:pt x="1077" y="870"/>
                  </a:lnTo>
                  <a:lnTo>
                    <a:pt x="1068" y="858"/>
                  </a:lnTo>
                  <a:lnTo>
                    <a:pt x="1063" y="825"/>
                  </a:lnTo>
                  <a:lnTo>
                    <a:pt x="1054" y="816"/>
                  </a:lnTo>
                  <a:lnTo>
                    <a:pt x="1048" y="786"/>
                  </a:lnTo>
                  <a:lnTo>
                    <a:pt x="1041" y="783"/>
                  </a:lnTo>
                  <a:lnTo>
                    <a:pt x="1038" y="767"/>
                  </a:lnTo>
                  <a:lnTo>
                    <a:pt x="1024" y="759"/>
                  </a:lnTo>
                  <a:lnTo>
                    <a:pt x="1026" y="738"/>
                  </a:lnTo>
                  <a:lnTo>
                    <a:pt x="1014" y="737"/>
                  </a:lnTo>
                  <a:lnTo>
                    <a:pt x="1003" y="717"/>
                  </a:lnTo>
                  <a:lnTo>
                    <a:pt x="988" y="710"/>
                  </a:lnTo>
                  <a:lnTo>
                    <a:pt x="982" y="681"/>
                  </a:lnTo>
                  <a:lnTo>
                    <a:pt x="961" y="680"/>
                  </a:lnTo>
                  <a:lnTo>
                    <a:pt x="958" y="654"/>
                  </a:lnTo>
                  <a:lnTo>
                    <a:pt x="946" y="656"/>
                  </a:lnTo>
                  <a:lnTo>
                    <a:pt x="939" y="624"/>
                  </a:lnTo>
                  <a:lnTo>
                    <a:pt x="924" y="629"/>
                  </a:lnTo>
                  <a:lnTo>
                    <a:pt x="907" y="614"/>
                  </a:lnTo>
                  <a:lnTo>
                    <a:pt x="907" y="588"/>
                  </a:lnTo>
                  <a:lnTo>
                    <a:pt x="892" y="591"/>
                  </a:lnTo>
                  <a:lnTo>
                    <a:pt x="870" y="561"/>
                  </a:lnTo>
                  <a:lnTo>
                    <a:pt x="853" y="563"/>
                  </a:lnTo>
                  <a:lnTo>
                    <a:pt x="849" y="536"/>
                  </a:lnTo>
                  <a:lnTo>
                    <a:pt x="835" y="534"/>
                  </a:lnTo>
                  <a:lnTo>
                    <a:pt x="828" y="516"/>
                  </a:lnTo>
                  <a:lnTo>
                    <a:pt x="802" y="522"/>
                  </a:lnTo>
                  <a:lnTo>
                    <a:pt x="807" y="512"/>
                  </a:lnTo>
                  <a:lnTo>
                    <a:pt x="799" y="495"/>
                  </a:lnTo>
                  <a:lnTo>
                    <a:pt x="784" y="497"/>
                  </a:lnTo>
                  <a:lnTo>
                    <a:pt x="780" y="479"/>
                  </a:lnTo>
                  <a:lnTo>
                    <a:pt x="754" y="480"/>
                  </a:lnTo>
                  <a:lnTo>
                    <a:pt x="756" y="461"/>
                  </a:lnTo>
                  <a:lnTo>
                    <a:pt x="721" y="441"/>
                  </a:lnTo>
                  <a:lnTo>
                    <a:pt x="720" y="423"/>
                  </a:lnTo>
                  <a:lnTo>
                    <a:pt x="703" y="416"/>
                  </a:lnTo>
                  <a:lnTo>
                    <a:pt x="700" y="405"/>
                  </a:lnTo>
                  <a:lnTo>
                    <a:pt x="682" y="402"/>
                  </a:lnTo>
                  <a:lnTo>
                    <a:pt x="685" y="384"/>
                  </a:lnTo>
                  <a:lnTo>
                    <a:pt x="658" y="369"/>
                  </a:lnTo>
                  <a:lnTo>
                    <a:pt x="655" y="356"/>
                  </a:lnTo>
                  <a:lnTo>
                    <a:pt x="645" y="330"/>
                  </a:lnTo>
                  <a:lnTo>
                    <a:pt x="625" y="321"/>
                  </a:lnTo>
                  <a:lnTo>
                    <a:pt x="618" y="287"/>
                  </a:lnTo>
                  <a:lnTo>
                    <a:pt x="606" y="285"/>
                  </a:lnTo>
                  <a:lnTo>
                    <a:pt x="603" y="248"/>
                  </a:lnTo>
                  <a:lnTo>
                    <a:pt x="592" y="246"/>
                  </a:lnTo>
                  <a:lnTo>
                    <a:pt x="586" y="201"/>
                  </a:lnTo>
                  <a:lnTo>
                    <a:pt x="577" y="189"/>
                  </a:lnTo>
                  <a:lnTo>
                    <a:pt x="570" y="167"/>
                  </a:lnTo>
                  <a:lnTo>
                    <a:pt x="570" y="141"/>
                  </a:lnTo>
                  <a:lnTo>
                    <a:pt x="556" y="137"/>
                  </a:lnTo>
                  <a:lnTo>
                    <a:pt x="562" y="111"/>
                  </a:lnTo>
                  <a:lnTo>
                    <a:pt x="552" y="102"/>
                  </a:lnTo>
                  <a:lnTo>
                    <a:pt x="550" y="81"/>
                  </a:lnTo>
                  <a:lnTo>
                    <a:pt x="538" y="24"/>
                  </a:lnTo>
                  <a:lnTo>
                    <a:pt x="525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d41">
                    <a:alpha val="45098"/>
                  </a:srgbClr>
                </a:gs>
                <a:gs pos="100000">
                  <a:srgbClr val="aed925">
                    <a:alpha val="45098"/>
                  </a:srgbClr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1c1c1c"/>
                </a:solidFill>
                <a:latin typeface="Arial"/>
              </a:rPr>
              <a:t>单击此处编辑母版标题样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ee3516"/>
              </a:buClr>
              <a:buFont typeface="Symbol" charset="2"/>
              <a:buChar char=""/>
            </a:pPr>
            <a:r>
              <a:rPr b="1" lang="zh-CN" sz="2800" spc="-1" strike="noStrike">
                <a:solidFill>
                  <a:schemeClr val="accent1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body"/>
          </p:nvPr>
        </p:nvSpPr>
        <p:spPr>
          <a:xfrm>
            <a:off x="4648320" y="132876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ee3516"/>
              </a:buClr>
              <a:buFont typeface="Symbol" charset="2"/>
              <a:buChar char=""/>
            </a:pPr>
            <a:r>
              <a:rPr b="1" lang="zh-CN" sz="2800" spc="-1" strike="noStrike">
                <a:solidFill>
                  <a:schemeClr val="accent1"/>
                </a:solidFill>
                <a:latin typeface="Arial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46E548-58A4-43C5-AAEC-4242AAEC2CC0}" type="slidenum"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51pp/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51pptmoban.c/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http://www.51ppt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51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4"/>
          <p:cNvSpPr/>
          <p:nvPr/>
        </p:nvSpPr>
        <p:spPr>
          <a:xfrm>
            <a:off x="343080" y="284040"/>
            <a:ext cx="116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2788920" y="1546200"/>
            <a:ext cx="5848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清新简洁的商务</a:t>
            </a:r>
            <a:r>
              <a:rPr b="1" lang="en-US" sz="4000" spc="-1" strike="noStrike">
                <a:solidFill>
                  <a:srgbClr val="1c1c1c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6"/>
          <p:cNvSpPr/>
          <p:nvPr/>
        </p:nvSpPr>
        <p:spPr>
          <a:xfrm>
            <a:off x="5619600" y="2313000"/>
            <a:ext cx="3169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AutoShape 353"/>
          <p:cNvSpPr/>
          <p:nvPr/>
        </p:nvSpPr>
        <p:spPr>
          <a:xfrm>
            <a:off x="974880" y="500076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4" name="AutoShape 354"/>
          <p:cNvSpPr/>
          <p:nvPr/>
        </p:nvSpPr>
        <p:spPr>
          <a:xfrm>
            <a:off x="974880" y="447048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5" name="AutoShape 351"/>
          <p:cNvSpPr/>
          <p:nvPr/>
        </p:nvSpPr>
        <p:spPr>
          <a:xfrm>
            <a:off x="974880" y="394020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6" name="AutoShape 352"/>
          <p:cNvSpPr/>
          <p:nvPr/>
        </p:nvSpPr>
        <p:spPr>
          <a:xfrm>
            <a:off x="974880" y="340992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AutoShape 350"/>
          <p:cNvSpPr/>
          <p:nvPr/>
        </p:nvSpPr>
        <p:spPr>
          <a:xfrm>
            <a:off x="974880" y="287028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8" name="AutoShape 344"/>
          <p:cNvSpPr/>
          <p:nvPr/>
        </p:nvSpPr>
        <p:spPr>
          <a:xfrm>
            <a:off x="974880" y="2314440"/>
            <a:ext cx="1410840" cy="555120"/>
          </a:xfrm>
          <a:prstGeom prst="cube">
            <a:avLst>
              <a:gd name="adj" fmla="val 15949"/>
            </a:avLst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Text Box 318"/>
          <p:cNvSpPr/>
          <p:nvPr/>
        </p:nvSpPr>
        <p:spPr>
          <a:xfrm>
            <a:off x="1011240" y="248760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19"/>
          <p:cNvSpPr/>
          <p:nvPr/>
        </p:nvSpPr>
        <p:spPr>
          <a:xfrm>
            <a:off x="993600" y="298944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20"/>
          <p:cNvSpPr/>
          <p:nvPr/>
        </p:nvSpPr>
        <p:spPr>
          <a:xfrm>
            <a:off x="993600" y="353232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21"/>
          <p:cNvSpPr/>
          <p:nvPr/>
        </p:nvSpPr>
        <p:spPr>
          <a:xfrm>
            <a:off x="993600" y="408456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22"/>
          <p:cNvSpPr/>
          <p:nvPr/>
        </p:nvSpPr>
        <p:spPr>
          <a:xfrm>
            <a:off x="993600" y="461808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23"/>
          <p:cNvSpPr/>
          <p:nvPr/>
        </p:nvSpPr>
        <p:spPr>
          <a:xfrm>
            <a:off x="993600" y="5122800"/>
            <a:ext cx="1317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Bar Chart 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76" name="Group 376"/>
          <p:cNvGraphicFramePr/>
          <p:nvPr/>
        </p:nvGraphicFramePr>
        <p:xfrm>
          <a:off x="2384280" y="2317680"/>
          <a:ext cx="5692320" cy="3233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dddd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800" spc="-1" strike="noStrike">
                        <a:solidFill>
                          <a:schemeClr val="accen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dddddd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77" name="Text Box 332"/>
          <p:cNvSpPr/>
          <p:nvPr/>
        </p:nvSpPr>
        <p:spPr>
          <a:xfrm>
            <a:off x="2270160" y="5575320"/>
            <a:ext cx="616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38"/>
          <p:cNvSpPr/>
          <p:nvPr/>
        </p:nvSpPr>
        <p:spPr>
          <a:xfrm>
            <a:off x="7180200" y="512136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339"/>
          <p:cNvSpPr/>
          <p:nvPr/>
        </p:nvSpPr>
        <p:spPr>
          <a:xfrm>
            <a:off x="1752480" y="1434960"/>
            <a:ext cx="583848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Rectangle 340"/>
          <p:cNvSpPr/>
          <p:nvPr/>
        </p:nvSpPr>
        <p:spPr>
          <a:xfrm>
            <a:off x="3479760" y="1434960"/>
            <a:ext cx="246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27"/>
          <p:cNvSpPr/>
          <p:nvPr/>
        </p:nvSpPr>
        <p:spPr>
          <a:xfrm>
            <a:off x="2392200" y="3541680"/>
            <a:ext cx="418680" cy="274320"/>
          </a:xfrm>
          <a:prstGeom prst="rect">
            <a:avLst/>
          </a:prstGeom>
          <a:gradFill rotWithShape="0">
            <a:gsLst>
              <a:gs pos="0">
                <a:srgbClr val="ee3516"/>
              </a:gs>
              <a:gs pos="100000">
                <a:srgbClr val="f48573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2" name="Rectangle 325"/>
          <p:cNvSpPr/>
          <p:nvPr/>
        </p:nvSpPr>
        <p:spPr>
          <a:xfrm>
            <a:off x="2392200" y="2438280"/>
            <a:ext cx="968040" cy="274320"/>
          </a:xfrm>
          <a:prstGeom prst="rect">
            <a:avLst/>
          </a:prstGeom>
          <a:gradFill rotWithShape="0">
            <a:gsLst>
              <a:gs pos="0">
                <a:srgbClr val="f3bd33"/>
              </a:gs>
              <a:gs pos="100000">
                <a:srgbClr val="f7d784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3" name="Rectangle 326"/>
          <p:cNvSpPr/>
          <p:nvPr/>
        </p:nvSpPr>
        <p:spPr>
          <a:xfrm>
            <a:off x="2392200" y="2998800"/>
            <a:ext cx="848880" cy="274320"/>
          </a:xfrm>
          <a:prstGeom prst="rect">
            <a:avLst/>
          </a:prstGeom>
          <a:gradFill rotWithShape="0">
            <a:gsLst>
              <a:gs pos="0">
                <a:srgbClr val="4e9d41"/>
              </a:gs>
              <a:gs pos="100000">
                <a:srgbClr val="94c48c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Rectangle 328"/>
          <p:cNvSpPr/>
          <p:nvPr/>
        </p:nvSpPr>
        <p:spPr>
          <a:xfrm>
            <a:off x="2392200" y="4067280"/>
            <a:ext cx="1315800" cy="274320"/>
          </a:xfrm>
          <a:prstGeom prst="rect">
            <a:avLst/>
          </a:prstGeom>
          <a:gradFill rotWithShape="0">
            <a:gsLst>
              <a:gs pos="0">
                <a:srgbClr val="aed925"/>
              </a:gs>
              <a:gs pos="100000">
                <a:srgbClr val="cee87c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5" name="Rectangle 329"/>
          <p:cNvSpPr/>
          <p:nvPr/>
        </p:nvSpPr>
        <p:spPr>
          <a:xfrm>
            <a:off x="2392200" y="4610160"/>
            <a:ext cx="3573000" cy="274320"/>
          </a:xfrm>
          <a:prstGeom prst="rect">
            <a:avLst/>
          </a:prstGeom>
          <a:gradFill rotWithShape="0">
            <a:gsLst>
              <a:gs pos="0">
                <a:srgbClr val="6ec8aa"/>
              </a:gs>
              <a:gs pos="100000">
                <a:srgbClr val="a7ddcb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6" name="Rectangle 330"/>
          <p:cNvSpPr/>
          <p:nvPr/>
        </p:nvSpPr>
        <p:spPr>
          <a:xfrm>
            <a:off x="2392200" y="5143680"/>
            <a:ext cx="4725720" cy="274320"/>
          </a:xfrm>
          <a:prstGeom prst="rect">
            <a:avLst/>
          </a:prstGeom>
          <a:gradFill rotWithShape="0">
            <a:gsLst>
              <a:gs pos="0">
                <a:srgbClr val="c571bf"/>
              </a:gs>
              <a:gs pos="100000">
                <a:srgbClr val="dca9d8"/>
              </a:gs>
            </a:gsLst>
            <a:lin ang="2700000"/>
          </a:gradFill>
          <a:ln w="0">
            <a:noFill/>
          </a:ln>
          <a:effectLst>
            <a:outerShdw algn="ctr" dir="2700000" dist="35638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7" name="Text Box 333"/>
          <p:cNvSpPr/>
          <p:nvPr/>
        </p:nvSpPr>
        <p:spPr>
          <a:xfrm>
            <a:off x="3505320" y="242892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4"/>
          <p:cNvSpPr/>
          <p:nvPr/>
        </p:nvSpPr>
        <p:spPr>
          <a:xfrm>
            <a:off x="3505320" y="29908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35"/>
          <p:cNvSpPr/>
          <p:nvPr/>
        </p:nvSpPr>
        <p:spPr>
          <a:xfrm>
            <a:off x="2884320" y="35244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36"/>
          <p:cNvSpPr/>
          <p:nvPr/>
        </p:nvSpPr>
        <p:spPr>
          <a:xfrm>
            <a:off x="3838680" y="40384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37"/>
          <p:cNvSpPr/>
          <p:nvPr/>
        </p:nvSpPr>
        <p:spPr>
          <a:xfrm>
            <a:off x="6076800" y="45846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1765440" y="2548080"/>
            <a:ext cx="2295000" cy="3431880"/>
            <a:chOff x="1765440" y="2548080"/>
            <a:chExt cx="2295000" cy="3431880"/>
          </a:xfrm>
        </p:grpSpPr>
        <p:grpSp>
          <p:nvGrpSpPr>
            <p:cNvPr id="893" name="Group 3"/>
            <p:cNvGrpSpPr/>
            <p:nvPr/>
          </p:nvGrpSpPr>
          <p:grpSpPr>
            <a:xfrm>
              <a:off x="1765440" y="4614840"/>
              <a:ext cx="2295000" cy="1365120"/>
              <a:chOff x="1765440" y="4614840"/>
              <a:chExt cx="2295000" cy="1365120"/>
            </a:xfrm>
          </p:grpSpPr>
          <p:sp>
            <p:nvSpPr>
              <p:cNvPr id="894" name="Oval 4"/>
              <p:cNvSpPr/>
              <p:nvPr/>
            </p:nvSpPr>
            <p:spPr>
              <a:xfrm>
                <a:off x="1765440" y="5649120"/>
                <a:ext cx="229104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4ea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895" name="AutoShape 5"/>
              <p:cNvSpPr/>
              <p:nvPr/>
            </p:nvSpPr>
            <p:spPr>
              <a:xfrm>
                <a:off x="1769400" y="4614840"/>
                <a:ext cx="2291040" cy="1365120"/>
              </a:xfrm>
              <a:prstGeom prst="can">
                <a:avLst>
                  <a:gd name="adj" fmla="val 33197"/>
                </a:avLst>
              </a:prstGeom>
              <a:gradFill rotWithShape="0">
                <a:gsLst>
                  <a:gs pos="0">
                    <a:srgbClr val="6e180a"/>
                  </a:gs>
                  <a:gs pos="50000">
                    <a:srgbClr val="ee3516">
                      <a:alpha val="50196"/>
                    </a:srgbClr>
                  </a:gs>
                  <a:gs pos="100000">
                    <a:srgbClr val="6e180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6"/>
            <p:cNvGrpSpPr/>
            <p:nvPr/>
          </p:nvGrpSpPr>
          <p:grpSpPr>
            <a:xfrm>
              <a:off x="1765440" y="3583440"/>
              <a:ext cx="2295000" cy="1365120"/>
              <a:chOff x="1765440" y="3583440"/>
              <a:chExt cx="2295000" cy="1365120"/>
            </a:xfrm>
          </p:grpSpPr>
          <p:sp>
            <p:nvSpPr>
              <p:cNvPr id="897" name="Oval 7"/>
              <p:cNvSpPr/>
              <p:nvPr/>
            </p:nvSpPr>
            <p:spPr>
              <a:xfrm>
                <a:off x="1765440" y="4617720"/>
                <a:ext cx="229104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4ea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898" name="AutoShape 8"/>
              <p:cNvSpPr/>
              <p:nvPr/>
            </p:nvSpPr>
            <p:spPr>
              <a:xfrm>
                <a:off x="1769400" y="3583440"/>
                <a:ext cx="2291040" cy="1365120"/>
              </a:xfrm>
              <a:prstGeom prst="can">
                <a:avLst>
                  <a:gd name="adj" fmla="val 33197"/>
                </a:avLst>
              </a:prstGeom>
              <a:gradFill rotWithShape="0">
                <a:gsLst>
                  <a:gs pos="0">
                    <a:srgbClr val="24481e"/>
                  </a:gs>
                  <a:gs pos="50000">
                    <a:srgbClr val="4e9d41">
                      <a:alpha val="50196"/>
                    </a:srgbClr>
                  </a:gs>
                  <a:gs pos="100000">
                    <a:srgbClr val="2448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9"/>
            <p:cNvGrpSpPr/>
            <p:nvPr/>
          </p:nvGrpSpPr>
          <p:grpSpPr>
            <a:xfrm>
              <a:off x="1765440" y="2548080"/>
              <a:ext cx="2295000" cy="1365120"/>
              <a:chOff x="1765440" y="2548080"/>
              <a:chExt cx="2295000" cy="1365120"/>
            </a:xfrm>
          </p:grpSpPr>
          <p:sp>
            <p:nvSpPr>
              <p:cNvPr id="900" name="Oval 10"/>
              <p:cNvSpPr/>
              <p:nvPr/>
            </p:nvSpPr>
            <p:spPr>
              <a:xfrm>
                <a:off x="1765440" y="3582360"/>
                <a:ext cx="2291040" cy="32076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4ea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901" name="AutoShape 11"/>
              <p:cNvSpPr/>
              <p:nvPr/>
            </p:nvSpPr>
            <p:spPr>
              <a:xfrm>
                <a:off x="1769400" y="2548080"/>
                <a:ext cx="2291040" cy="1365120"/>
              </a:xfrm>
              <a:prstGeom prst="can">
                <a:avLst>
                  <a:gd name="adj" fmla="val 33197"/>
                </a:avLst>
              </a:prstGeom>
              <a:gradFill rotWithShape="0">
                <a:gsLst>
                  <a:gs pos="0">
                    <a:srgbClr val="705717"/>
                  </a:gs>
                  <a:gs pos="50000">
                    <a:srgbClr val="f3bd33">
                      <a:alpha val="50196"/>
                    </a:srgbClr>
                  </a:gs>
                  <a:gs pos="100000">
                    <a:srgbClr val="705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AutoShape 12"/>
          <p:cNvSpPr/>
          <p:nvPr/>
        </p:nvSpPr>
        <p:spPr>
          <a:xfrm>
            <a:off x="4334040" y="2852640"/>
            <a:ext cx="3354120" cy="91080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350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4" name="Text Box 14"/>
          <p:cNvSpPr/>
          <p:nvPr/>
        </p:nvSpPr>
        <p:spPr>
          <a:xfrm>
            <a:off x="1847880" y="314172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621320" y="2998800"/>
            <a:ext cx="284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1"/>
          <p:cNvSpPr/>
          <p:nvPr/>
        </p:nvSpPr>
        <p:spPr>
          <a:xfrm>
            <a:off x="1847880" y="418140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32"/>
          <p:cNvSpPr/>
          <p:nvPr/>
        </p:nvSpPr>
        <p:spPr>
          <a:xfrm>
            <a:off x="1847880" y="524844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33"/>
          <p:cNvSpPr/>
          <p:nvPr/>
        </p:nvSpPr>
        <p:spPr>
          <a:xfrm>
            <a:off x="4334040" y="3909960"/>
            <a:ext cx="3354120" cy="91080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350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9" name="Text Box 34"/>
          <p:cNvSpPr/>
          <p:nvPr/>
        </p:nvSpPr>
        <p:spPr>
          <a:xfrm>
            <a:off x="4621320" y="4056120"/>
            <a:ext cx="284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50"/>
          <p:cNvSpPr/>
          <p:nvPr/>
        </p:nvSpPr>
        <p:spPr>
          <a:xfrm>
            <a:off x="4334040" y="4976640"/>
            <a:ext cx="3354120" cy="91080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350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1" name="Text Box 51"/>
          <p:cNvSpPr/>
          <p:nvPr/>
        </p:nvSpPr>
        <p:spPr>
          <a:xfrm>
            <a:off x="4621320" y="5122800"/>
            <a:ext cx="2849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7"/>
          <p:cNvSpPr/>
          <p:nvPr/>
        </p:nvSpPr>
        <p:spPr>
          <a:xfrm>
            <a:off x="1660680" y="1495440"/>
            <a:ext cx="5919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68"/>
          <p:cNvSpPr/>
          <p:nvPr/>
        </p:nvSpPr>
        <p:spPr>
          <a:xfrm rot="13500000">
            <a:off x="4181760" y="3157920"/>
            <a:ext cx="298080" cy="298080"/>
          </a:xfrm>
          <a:prstGeom prst="rtTriangl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4" name="AutoShape 69"/>
          <p:cNvSpPr/>
          <p:nvPr/>
        </p:nvSpPr>
        <p:spPr>
          <a:xfrm rot="13500000">
            <a:off x="4181760" y="4239000"/>
            <a:ext cx="298080" cy="298080"/>
          </a:xfrm>
          <a:prstGeom prst="rtTriangle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5" name="AutoShape 70"/>
          <p:cNvSpPr/>
          <p:nvPr/>
        </p:nvSpPr>
        <p:spPr>
          <a:xfrm rot="13500000">
            <a:off x="4181760" y="5305680"/>
            <a:ext cx="298080" cy="298080"/>
          </a:xfrm>
          <a:prstGeom prst="rtTriangl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AutoShape 3"/>
          <p:cNvSpPr/>
          <p:nvPr/>
        </p:nvSpPr>
        <p:spPr>
          <a:xfrm>
            <a:off x="743040" y="1722600"/>
            <a:ext cx="2184120" cy="3303360"/>
          </a:xfrm>
          <a:prstGeom prst="flowChartOffpageConnector">
            <a:avLst/>
          </a:prstGeom>
          <a:gradFill rotWithShape="0">
            <a:gsLst>
              <a:gs pos="0">
                <a:srgbClr val="f3bd33"/>
              </a:gs>
              <a:gs pos="100000">
                <a:srgbClr val="f9e2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Oval 4"/>
          <p:cNvSpPr/>
          <p:nvPr/>
        </p:nvSpPr>
        <p:spPr>
          <a:xfrm>
            <a:off x="911160" y="1413000"/>
            <a:ext cx="1828440" cy="56484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1101240" y="152100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6"/>
          <p:cNvSpPr/>
          <p:nvPr/>
        </p:nvSpPr>
        <p:spPr>
          <a:xfrm>
            <a:off x="3359160" y="1716120"/>
            <a:ext cx="2258640" cy="3284280"/>
          </a:xfrm>
          <a:prstGeom prst="flowChartOffpageConnector">
            <a:avLst/>
          </a:prstGeom>
          <a:gradFill rotWithShape="0">
            <a:gsLst>
              <a:gs pos="0">
                <a:srgbClr val="aed925"/>
              </a:gs>
              <a:gs pos="100000">
                <a:srgbClr val="dbee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0" name="Oval 7"/>
          <p:cNvSpPr/>
          <p:nvPr/>
        </p:nvSpPr>
        <p:spPr>
          <a:xfrm>
            <a:off x="3530520" y="1413000"/>
            <a:ext cx="1831680" cy="56484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Rectangle 8"/>
          <p:cNvSpPr/>
          <p:nvPr/>
        </p:nvSpPr>
        <p:spPr>
          <a:xfrm>
            <a:off x="3722040" y="152100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9"/>
          <p:cNvSpPr/>
          <p:nvPr/>
        </p:nvSpPr>
        <p:spPr>
          <a:xfrm>
            <a:off x="5991120" y="1716120"/>
            <a:ext cx="2193480" cy="3303360"/>
          </a:xfrm>
          <a:prstGeom prst="flowChartOffpageConnector">
            <a:avLst/>
          </a:prstGeom>
          <a:gradFill rotWithShape="0">
            <a:gsLst>
              <a:gs pos="0">
                <a:srgbClr val="4e9d41"/>
              </a:gs>
              <a:gs pos="100000">
                <a:srgbClr val="b1d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3" name="Oval 10"/>
          <p:cNvSpPr/>
          <p:nvPr/>
        </p:nvSpPr>
        <p:spPr>
          <a:xfrm>
            <a:off x="6153120" y="1413000"/>
            <a:ext cx="1828440" cy="564840"/>
          </a:xfrm>
          <a:prstGeom prst="ellipse">
            <a:avLst/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Rectangle 11"/>
          <p:cNvSpPr/>
          <p:nvPr/>
        </p:nvSpPr>
        <p:spPr>
          <a:xfrm>
            <a:off x="6339960" y="152100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"/>
          <p:cNvSpPr/>
          <p:nvPr/>
        </p:nvSpPr>
        <p:spPr>
          <a:xfrm>
            <a:off x="795240" y="2149560"/>
            <a:ext cx="21031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1"/>
          <p:cNvSpPr/>
          <p:nvPr/>
        </p:nvSpPr>
        <p:spPr>
          <a:xfrm>
            <a:off x="3392640" y="2152800"/>
            <a:ext cx="209988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8" name="Rectangle 38"/>
          <p:cNvSpPr/>
          <p:nvPr/>
        </p:nvSpPr>
        <p:spPr>
          <a:xfrm>
            <a:off x="6000840" y="2152800"/>
            <a:ext cx="209988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9"/>
          <p:cNvSpPr/>
          <p:nvPr/>
        </p:nvSpPr>
        <p:spPr>
          <a:xfrm>
            <a:off x="857160" y="5073480"/>
            <a:ext cx="7276680" cy="70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3c3c3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3815863" dist="56671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0" name="Rectangle 41"/>
          <p:cNvSpPr/>
          <p:nvPr/>
        </p:nvSpPr>
        <p:spPr>
          <a:xfrm>
            <a:off x="1542960" y="5106960"/>
            <a:ext cx="5919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5541840" y="2463840"/>
            <a:ext cx="2658600" cy="1555560"/>
          </a:xfrm>
          <a:prstGeom prst="rect">
            <a:avLst/>
          </a:prstGeom>
          <a:gradFill rotWithShape="0">
            <a:gsLst>
              <a:gs pos="0">
                <a:srgbClr val="aed925"/>
              </a:gs>
              <a:gs pos="100000">
                <a:srgbClr val="c8e56d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2801880" y="2463840"/>
            <a:ext cx="2658600" cy="1555560"/>
          </a:xfrm>
          <a:prstGeom prst="rect">
            <a:avLst/>
          </a:prstGeom>
          <a:gradFill rotWithShape="0">
            <a:gsLst>
              <a:gs pos="0">
                <a:srgbClr val="7e9d1a"/>
              </a:gs>
              <a:gs pos="100000">
                <a:srgbClr val="aed925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909880" y="1779480"/>
            <a:ext cx="239040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5630760" y="1779480"/>
            <a:ext cx="239040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Rectangle 6"/>
          <p:cNvSpPr/>
          <p:nvPr/>
        </p:nvSpPr>
        <p:spPr>
          <a:xfrm>
            <a:off x="5541840" y="4255920"/>
            <a:ext cx="2658600" cy="1555560"/>
          </a:xfrm>
          <a:prstGeom prst="rect">
            <a:avLst/>
          </a:prstGeom>
          <a:gradFill rotWithShape="0">
            <a:gsLst>
              <a:gs pos="0">
                <a:srgbClr val="4e9d41"/>
              </a:gs>
              <a:gs pos="100000">
                <a:srgbClr val="8bbe82"/>
              </a:gs>
            </a:gsLst>
            <a:lin ang="0"/>
          </a:gradFill>
          <a:ln w="0">
            <a:noFill/>
          </a:ln>
          <a:scene3d>
            <a:camera prst="legacyPerspectiveTop"/>
            <a:lightRig dir="b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2801880" y="4255920"/>
            <a:ext cx="2658600" cy="1555560"/>
          </a:xfrm>
          <a:prstGeom prst="rect">
            <a:avLst/>
          </a:prstGeom>
          <a:gradFill rotWithShape="0">
            <a:gsLst>
              <a:gs pos="0">
                <a:srgbClr val="438738"/>
              </a:gs>
              <a:gs pos="100000">
                <a:srgbClr val="4e9d41"/>
              </a:gs>
            </a:gsLst>
            <a:lin ang="0"/>
          </a:gradFill>
          <a:ln w="0">
            <a:noFill/>
          </a:ln>
          <a:scene3d>
            <a:camera prst="legacyPerspectiveTop"/>
            <a:lightRig dir="b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3236760" y="2946240"/>
            <a:ext cx="168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3130560" y="4768920"/>
            <a:ext cx="184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903240" y="2476440"/>
            <a:ext cx="1827000" cy="1523520"/>
            <a:chOff x="903240" y="2476440"/>
            <a:chExt cx="1827000" cy="1523520"/>
          </a:xfrm>
        </p:grpSpPr>
        <p:sp>
          <p:nvSpPr>
            <p:cNvPr id="940" name="AutoShape 11"/>
            <p:cNvSpPr/>
            <p:nvPr/>
          </p:nvSpPr>
          <p:spPr>
            <a:xfrm>
              <a:off x="903240" y="2476440"/>
              <a:ext cx="1827000" cy="152352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1" name="AutoShape 12"/>
            <p:cNvSpPr/>
            <p:nvPr/>
          </p:nvSpPr>
          <p:spPr>
            <a:xfrm>
              <a:off x="921600" y="2492280"/>
              <a:ext cx="1777680" cy="148248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903240" y="4309920"/>
            <a:ext cx="1827000" cy="1523520"/>
            <a:chOff x="903240" y="4309920"/>
            <a:chExt cx="1827000" cy="1523520"/>
          </a:xfrm>
        </p:grpSpPr>
        <p:sp>
          <p:nvSpPr>
            <p:cNvPr id="943" name="AutoShape 14"/>
            <p:cNvSpPr/>
            <p:nvPr/>
          </p:nvSpPr>
          <p:spPr>
            <a:xfrm>
              <a:off x="903240" y="4309920"/>
              <a:ext cx="1827000" cy="152352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4" name="AutoShape 15"/>
            <p:cNvSpPr/>
            <p:nvPr/>
          </p:nvSpPr>
          <p:spPr>
            <a:xfrm>
              <a:off x="921600" y="4325760"/>
              <a:ext cx="1777680" cy="148248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45" name="Rectangle 16"/>
          <p:cNvSpPr/>
          <p:nvPr/>
        </p:nvSpPr>
        <p:spPr>
          <a:xfrm>
            <a:off x="824040" y="302436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7"/>
          <p:cNvSpPr/>
          <p:nvPr/>
        </p:nvSpPr>
        <p:spPr>
          <a:xfrm>
            <a:off x="824040" y="485136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8"/>
          <p:cNvSpPr/>
          <p:nvPr/>
        </p:nvSpPr>
        <p:spPr>
          <a:xfrm>
            <a:off x="5691240" y="2806560"/>
            <a:ext cx="2361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9"/>
          <p:cNvSpPr/>
          <p:nvPr/>
        </p:nvSpPr>
        <p:spPr>
          <a:xfrm>
            <a:off x="5691240" y="4606920"/>
            <a:ext cx="2361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0"/>
          <p:cNvSpPr/>
          <p:nvPr/>
        </p:nvSpPr>
        <p:spPr>
          <a:xfrm>
            <a:off x="2989440" y="1847880"/>
            <a:ext cx="22460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21"/>
          <p:cNvSpPr/>
          <p:nvPr/>
        </p:nvSpPr>
        <p:spPr>
          <a:xfrm>
            <a:off x="5892840" y="1847880"/>
            <a:ext cx="19015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2" name="TextBox 24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www.51pp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tmoban.c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703440" y="2535120"/>
            <a:ext cx="7740360" cy="61884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54" name="Group 6"/>
          <p:cNvGrpSpPr/>
          <p:nvPr/>
        </p:nvGrpSpPr>
        <p:grpSpPr>
          <a:xfrm>
            <a:off x="692280" y="2535120"/>
            <a:ext cx="2053440" cy="618840"/>
            <a:chOff x="692280" y="2535120"/>
            <a:chExt cx="2053440" cy="618840"/>
          </a:xfrm>
        </p:grpSpPr>
        <p:sp>
          <p:nvSpPr>
            <p:cNvPr id="955" name="Rectangle 4"/>
            <p:cNvSpPr/>
            <p:nvPr/>
          </p:nvSpPr>
          <p:spPr>
            <a:xfrm>
              <a:off x="692280" y="2535120"/>
              <a:ext cx="1912680" cy="61884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6" name="AutoShape 5"/>
            <p:cNvSpPr/>
            <p:nvPr/>
          </p:nvSpPr>
          <p:spPr>
            <a:xfrm rot="5400000">
              <a:off x="2506320" y="275544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57" name="Text Box 16"/>
          <p:cNvSpPr/>
          <p:nvPr/>
        </p:nvSpPr>
        <p:spPr>
          <a:xfrm>
            <a:off x="2606760" y="266688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8"/>
          <p:cNvSpPr/>
          <p:nvPr/>
        </p:nvSpPr>
        <p:spPr>
          <a:xfrm>
            <a:off x="714240" y="264168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9"/>
          <p:cNvSpPr/>
          <p:nvPr/>
        </p:nvSpPr>
        <p:spPr>
          <a:xfrm>
            <a:off x="4178160" y="270180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d7d7c3"/>
              </a:gs>
              <a:gs pos="100000">
                <a:srgbClr val="aed925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4557600" y="266688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21"/>
          <p:cNvSpPr/>
          <p:nvPr/>
        </p:nvSpPr>
        <p:spPr>
          <a:xfrm>
            <a:off x="6207120" y="270180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gradFill rotWithShape="0">
            <a:gsLst>
              <a:gs pos="0">
                <a:srgbClr val="d7d7c3"/>
              </a:gs>
              <a:gs pos="100000">
                <a:srgbClr val="aed925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6545160" y="266688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54"/>
          <p:cNvSpPr/>
          <p:nvPr/>
        </p:nvSpPr>
        <p:spPr>
          <a:xfrm>
            <a:off x="988920" y="3284640"/>
            <a:ext cx="1114200" cy="1114200"/>
          </a:xfrm>
          <a:prstGeom prst="diamond">
            <a:avLst/>
          </a:prstGeom>
          <a:solidFill>
            <a:schemeClr val="hlink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4" name="AutoShape 55"/>
          <p:cNvSpPr/>
          <p:nvPr/>
        </p:nvSpPr>
        <p:spPr>
          <a:xfrm>
            <a:off x="297036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c1cf9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5" name="AutoShape 56"/>
          <p:cNvSpPr/>
          <p:nvPr/>
        </p:nvSpPr>
        <p:spPr>
          <a:xfrm>
            <a:off x="496080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c1cf9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AutoShape 57"/>
          <p:cNvSpPr/>
          <p:nvPr/>
        </p:nvSpPr>
        <p:spPr>
          <a:xfrm>
            <a:off x="6904080" y="3284640"/>
            <a:ext cx="1114200" cy="1114200"/>
          </a:xfrm>
          <a:prstGeom prst="diamond">
            <a:avLst/>
          </a:prstGeom>
          <a:solidFill>
            <a:srgbClr val="cbcaa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c1cf9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967" name="AutoShape 58"/>
          <p:cNvCxnSpPr>
            <a:stCxn id="963" idx="3"/>
            <a:endCxn id="964" idx="1"/>
          </p:cNvCxnSpPr>
          <p:nvPr/>
        </p:nvCxnSpPr>
        <p:spPr>
          <a:xfrm>
            <a:off x="2103120" y="3841560"/>
            <a:ext cx="8672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68" name="AutoShape 59"/>
          <p:cNvCxnSpPr>
            <a:stCxn id="964" idx="3"/>
            <a:endCxn id="965" idx="1"/>
          </p:cNvCxnSpPr>
          <p:nvPr/>
        </p:nvCxnSpPr>
        <p:spPr>
          <a:xfrm>
            <a:off x="4084560" y="3841560"/>
            <a:ext cx="87660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969" name="AutoShape 60"/>
          <p:cNvCxnSpPr>
            <a:stCxn id="965" idx="3"/>
            <a:endCxn id="966" idx="1"/>
          </p:cNvCxnSpPr>
          <p:nvPr/>
        </p:nvCxnSpPr>
        <p:spPr>
          <a:xfrm>
            <a:off x="6075360" y="3841560"/>
            <a:ext cx="82872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970" name="Text Box 61"/>
          <p:cNvSpPr/>
          <p:nvPr/>
        </p:nvSpPr>
        <p:spPr>
          <a:xfrm>
            <a:off x="109224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2"/>
          <p:cNvSpPr/>
          <p:nvPr/>
        </p:nvSpPr>
        <p:spPr>
          <a:xfrm>
            <a:off x="305928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63"/>
          <p:cNvSpPr/>
          <p:nvPr/>
        </p:nvSpPr>
        <p:spPr>
          <a:xfrm>
            <a:off x="505152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64"/>
          <p:cNvSpPr/>
          <p:nvPr/>
        </p:nvSpPr>
        <p:spPr>
          <a:xfrm>
            <a:off x="7021440" y="36100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65"/>
          <p:cNvSpPr/>
          <p:nvPr/>
        </p:nvSpPr>
        <p:spPr>
          <a:xfrm>
            <a:off x="73512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6"/>
          <p:cNvSpPr/>
          <p:nvPr/>
        </p:nvSpPr>
        <p:spPr>
          <a:xfrm>
            <a:off x="267804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7"/>
          <p:cNvSpPr/>
          <p:nvPr/>
        </p:nvSpPr>
        <p:spPr>
          <a:xfrm>
            <a:off x="469260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70"/>
          <p:cNvSpPr/>
          <p:nvPr/>
        </p:nvSpPr>
        <p:spPr>
          <a:xfrm>
            <a:off x="6640560" y="44895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71"/>
          <p:cNvSpPr/>
          <p:nvPr/>
        </p:nvSpPr>
        <p:spPr>
          <a:xfrm>
            <a:off x="1317600" y="1695600"/>
            <a:ext cx="6352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10000"/>
              </a:lnSpc>
              <a:buClr>
                <a:srgbClr val="1c1c1c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81" name="Group 3"/>
          <p:cNvGrpSpPr/>
          <p:nvPr/>
        </p:nvGrpSpPr>
        <p:grpSpPr>
          <a:xfrm>
            <a:off x="2130480" y="3098520"/>
            <a:ext cx="4905000" cy="2425680"/>
            <a:chOff x="2130480" y="3098520"/>
            <a:chExt cx="4905000" cy="2425680"/>
          </a:xfrm>
        </p:grpSpPr>
        <p:sp>
          <p:nvSpPr>
            <p:cNvPr id="982" name="AutoShape 4"/>
            <p:cNvSpPr/>
            <p:nvPr/>
          </p:nvSpPr>
          <p:spPr>
            <a:xfrm>
              <a:off x="2130480" y="3249000"/>
              <a:ext cx="4905000" cy="2275200"/>
            </a:xfrm>
            <a:custGeom>
              <a:avLst/>
              <a:gdLst>
                <a:gd name="textAreaLeft" fmla="*/ 718200 w 4905000"/>
                <a:gd name="textAreaRight" fmla="*/ 4186800 w 490500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3" name="AutoShape 5"/>
            <p:cNvSpPr/>
            <p:nvPr/>
          </p:nvSpPr>
          <p:spPr>
            <a:xfrm>
              <a:off x="2130480" y="3106440"/>
              <a:ext cx="4905000" cy="2275200"/>
            </a:xfrm>
            <a:custGeom>
              <a:avLst/>
              <a:gdLst>
                <a:gd name="textAreaLeft" fmla="*/ 718200 w 4905000"/>
                <a:gd name="textAreaRight" fmla="*/ 4186800 w 490500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3bd33"/>
                </a:gs>
                <a:gs pos="50000">
                  <a:srgbClr val="aed925"/>
                </a:gs>
                <a:gs pos="100000">
                  <a:srgbClr val="f3bd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4" name="Line 6"/>
            <p:cNvSpPr/>
            <p:nvPr/>
          </p:nvSpPr>
          <p:spPr>
            <a:xfrm flipV="1">
              <a:off x="4563000" y="3098520"/>
              <a:ext cx="360" cy="46512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5" name="Line 7"/>
            <p:cNvSpPr/>
            <p:nvPr/>
          </p:nvSpPr>
          <p:spPr>
            <a:xfrm>
              <a:off x="3164400" y="3749040"/>
              <a:ext cx="360" cy="1490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6" name="Line 8"/>
            <p:cNvSpPr/>
            <p:nvPr/>
          </p:nvSpPr>
          <p:spPr>
            <a:xfrm>
              <a:off x="5961240" y="3729600"/>
              <a:ext cx="360" cy="1594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7" name="Line 9"/>
            <p:cNvSpPr/>
            <p:nvPr/>
          </p:nvSpPr>
          <p:spPr>
            <a:xfrm flipV="1">
              <a:off x="5961240" y="3515760"/>
              <a:ext cx="497520" cy="213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8" name="Line 10"/>
            <p:cNvSpPr/>
            <p:nvPr/>
          </p:nvSpPr>
          <p:spPr>
            <a:xfrm flipH="1" flipV="1">
              <a:off x="2671920" y="3524760"/>
              <a:ext cx="489960" cy="2217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9" name="Line 11"/>
            <p:cNvSpPr/>
            <p:nvPr/>
          </p:nvSpPr>
          <p:spPr>
            <a:xfrm flipH="1">
              <a:off x="3246120" y="4928400"/>
              <a:ext cx="377280" cy="27072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>
              <a:off x="5703480" y="4875120"/>
              <a:ext cx="473040" cy="23472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1" name="Line 13"/>
            <p:cNvSpPr/>
            <p:nvPr/>
          </p:nvSpPr>
          <p:spPr>
            <a:xfrm flipH="1">
              <a:off x="3238200" y="5195160"/>
              <a:ext cx="9360" cy="1425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H="1">
              <a:off x="6170040" y="5106960"/>
              <a:ext cx="9000" cy="1425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993" name="Line 15"/>
          <p:cNvSpPr/>
          <p:nvPr/>
        </p:nvSpPr>
        <p:spPr>
          <a:xfrm>
            <a:off x="3689280" y="2925720"/>
            <a:ext cx="360" cy="43632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Line 16"/>
          <p:cNvSpPr/>
          <p:nvPr/>
        </p:nvSpPr>
        <p:spPr>
          <a:xfrm>
            <a:off x="5508360" y="2881080"/>
            <a:ext cx="360" cy="4809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5" name="Line 17"/>
          <p:cNvSpPr/>
          <p:nvPr/>
        </p:nvSpPr>
        <p:spPr>
          <a:xfrm flipV="1">
            <a:off x="4668480" y="5224320"/>
            <a:ext cx="360" cy="5349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6" name="Line 18"/>
          <p:cNvSpPr/>
          <p:nvPr/>
        </p:nvSpPr>
        <p:spPr>
          <a:xfrm flipH="1">
            <a:off x="6640200" y="4187520"/>
            <a:ext cx="576360" cy="3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7" name="Line 19"/>
          <p:cNvSpPr/>
          <p:nvPr/>
        </p:nvSpPr>
        <p:spPr>
          <a:xfrm>
            <a:off x="1903320" y="4187520"/>
            <a:ext cx="576000" cy="360"/>
          </a:xfrm>
          <a:prstGeom prst="line">
            <a:avLst/>
          </a:prstGeom>
          <a:ln w="9525">
            <a:solidFill>
              <a:srgbClr val="1c1c1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8" name="Text Box 20"/>
          <p:cNvSpPr/>
          <p:nvPr/>
        </p:nvSpPr>
        <p:spPr>
          <a:xfrm>
            <a:off x="2840040" y="24908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4681440" y="24908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2"/>
          <p:cNvSpPr/>
          <p:nvPr/>
        </p:nvSpPr>
        <p:spPr>
          <a:xfrm>
            <a:off x="7218360" y="4024440"/>
            <a:ext cx="16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3"/>
          <p:cNvSpPr/>
          <p:nvPr/>
        </p:nvSpPr>
        <p:spPr>
          <a:xfrm>
            <a:off x="3821040" y="578016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4"/>
          <p:cNvSpPr/>
          <p:nvPr/>
        </p:nvSpPr>
        <p:spPr>
          <a:xfrm>
            <a:off x="301680" y="4024440"/>
            <a:ext cx="15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5"/>
          <p:cNvSpPr/>
          <p:nvPr/>
        </p:nvSpPr>
        <p:spPr>
          <a:xfrm>
            <a:off x="3700440" y="3990960"/>
            <a:ext cx="173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26"/>
          <p:cNvSpPr/>
          <p:nvPr/>
        </p:nvSpPr>
        <p:spPr>
          <a:xfrm>
            <a:off x="3382920" y="3657600"/>
            <a:ext cx="2339640" cy="663120"/>
          </a:xfrm>
          <a:custGeom>
            <a:avLst/>
            <a:gdLst>
              <a:gd name="textAreaLeft" fmla="*/ 342360 w 2339640"/>
              <a:gd name="textAreaRight" fmla="*/ 1997280 w 2339640"/>
              <a:gd name="textAreaTop" fmla="*/ 96840 h 663120"/>
              <a:gd name="textAreaBottom" fmla="*/ 566280 h 66312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2a5523"/>
              </a:gs>
              <a:gs pos="100000">
                <a:srgbClr val="4e9d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5" name="AutoShape 27"/>
          <p:cNvSpPr/>
          <p:nvPr/>
        </p:nvSpPr>
        <p:spPr>
          <a:xfrm flipH="1" flipV="1">
            <a:off x="3462480" y="4288680"/>
            <a:ext cx="2391840" cy="620280"/>
          </a:xfrm>
          <a:custGeom>
            <a:avLst/>
            <a:gdLst>
              <a:gd name="textAreaLeft" fmla="*/ 350280 w 2391840"/>
              <a:gd name="textAreaRight" fmla="*/ 2041560 w 2391840"/>
              <a:gd name="textAreaTop" fmla="*/ 90720 h 620280"/>
              <a:gd name="textAreaBottom" fmla="*/ 529560 h 62028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34682b"/>
              </a:gs>
              <a:gs pos="100000">
                <a:srgbClr val="4e9d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6" name="Rectangle 28"/>
          <p:cNvSpPr/>
          <p:nvPr/>
        </p:nvSpPr>
        <p:spPr>
          <a:xfrm>
            <a:off x="434880" y="1427040"/>
            <a:ext cx="8403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00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9"/>
          <p:cNvSpPr/>
          <p:nvPr/>
        </p:nvSpPr>
        <p:spPr>
          <a:xfrm>
            <a:off x="403200" y="2166840"/>
            <a:ext cx="8364240" cy="360"/>
          </a:xfrm>
          <a:prstGeom prst="line">
            <a:avLst/>
          </a:prstGeom>
          <a:ln w="9525">
            <a:solidFill>
              <a:srgbClr val="1c1c1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AutoShape 34"/>
          <p:cNvSpPr/>
          <p:nvPr/>
        </p:nvSpPr>
        <p:spPr>
          <a:xfrm>
            <a:off x="4840200" y="2239920"/>
            <a:ext cx="3970080" cy="3727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0" name="Oval 4"/>
          <p:cNvSpPr/>
          <p:nvPr/>
        </p:nvSpPr>
        <p:spPr>
          <a:xfrm>
            <a:off x="893880" y="2130480"/>
            <a:ext cx="3355560" cy="3355560"/>
          </a:xfrm>
          <a:prstGeom prst="ellipse">
            <a:avLst/>
          </a:prstGeom>
          <a:noFill/>
          <a:ln w="63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Oval 5"/>
          <p:cNvSpPr/>
          <p:nvPr/>
        </p:nvSpPr>
        <p:spPr>
          <a:xfrm>
            <a:off x="581040" y="237816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851d0c"/>
              </a:gs>
              <a:gs pos="50000">
                <a:srgbClr val="ee3516"/>
              </a:gs>
              <a:gs pos="100000">
                <a:srgbClr val="851d0c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2" name="Oval 6"/>
          <p:cNvSpPr/>
          <p:nvPr/>
        </p:nvSpPr>
        <p:spPr>
          <a:xfrm>
            <a:off x="3376440" y="237816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851d0c"/>
              </a:gs>
              <a:gs pos="50000">
                <a:srgbClr val="ee3516"/>
              </a:gs>
              <a:gs pos="100000">
                <a:srgbClr val="851d0c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3" name="Oval 7"/>
          <p:cNvSpPr/>
          <p:nvPr/>
        </p:nvSpPr>
        <p:spPr>
          <a:xfrm>
            <a:off x="2030400" y="489096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851d0c"/>
              </a:gs>
              <a:gs pos="50000">
                <a:srgbClr val="ee3516"/>
              </a:gs>
              <a:gs pos="100000">
                <a:srgbClr val="851d0c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Oval 8"/>
          <p:cNvSpPr/>
          <p:nvPr/>
        </p:nvSpPr>
        <p:spPr>
          <a:xfrm>
            <a:off x="2163600" y="178920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5" name="Oval 9"/>
          <p:cNvSpPr/>
          <p:nvPr/>
        </p:nvSpPr>
        <p:spPr>
          <a:xfrm>
            <a:off x="3621240" y="416088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6" name="Oval 10"/>
          <p:cNvSpPr/>
          <p:nvPr/>
        </p:nvSpPr>
        <p:spPr>
          <a:xfrm>
            <a:off x="698400" y="419904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1017" name="AutoShape 16"/>
          <p:cNvCxnSpPr>
            <a:stCxn id="1013" idx="0"/>
          </p:cNvCxnSpPr>
          <p:nvPr/>
        </p:nvCxnSpPr>
        <p:spPr>
          <a:xfrm flipH="1" flipV="1">
            <a:off x="2592360" y="4419360"/>
            <a:ext cx="9720" cy="452880"/>
          </a:xfrm>
          <a:prstGeom prst="straightConnector1">
            <a:avLst/>
          </a:prstGeom>
          <a:ln w="9525">
            <a:solidFill>
              <a:srgbClr val="1c1c1c"/>
            </a:solidFill>
            <a:round/>
          </a:ln>
        </p:spPr>
      </p:cxnSp>
      <p:cxnSp>
        <p:nvCxnSpPr>
          <p:cNvPr id="1018" name="AutoShape 17"/>
          <p:cNvCxnSpPr>
            <a:stCxn id="1012" idx="3"/>
          </p:cNvCxnSpPr>
          <p:nvPr/>
        </p:nvCxnSpPr>
        <p:spPr>
          <a:xfrm flipH="1">
            <a:off x="3132000" y="3373200"/>
            <a:ext cx="411480" cy="109800"/>
          </a:xfrm>
          <a:prstGeom prst="straightConnector1">
            <a:avLst/>
          </a:prstGeom>
          <a:ln w="9525">
            <a:solidFill>
              <a:srgbClr val="1c1c1c"/>
            </a:solidFill>
            <a:round/>
          </a:ln>
        </p:spPr>
      </p:cxnSp>
      <p:cxnSp>
        <p:nvCxnSpPr>
          <p:cNvPr id="1019" name="AutoShape 18"/>
          <p:cNvCxnSpPr>
            <a:stCxn id="1011" idx="5"/>
          </p:cNvCxnSpPr>
          <p:nvPr/>
        </p:nvCxnSpPr>
        <p:spPr>
          <a:xfrm>
            <a:off x="1557000" y="3373200"/>
            <a:ext cx="495720" cy="109800"/>
          </a:xfrm>
          <a:prstGeom prst="straightConnector1">
            <a:avLst/>
          </a:prstGeom>
          <a:ln w="9525">
            <a:solidFill>
              <a:srgbClr val="1c1c1c"/>
            </a:solidFill>
            <a:round/>
          </a:ln>
        </p:spPr>
      </p:cxnSp>
      <p:sp>
        <p:nvSpPr>
          <p:cNvPr id="1020" name="Rectangle 19"/>
          <p:cNvSpPr/>
          <p:nvPr/>
        </p:nvSpPr>
        <p:spPr>
          <a:xfrm>
            <a:off x="3463920" y="2654280"/>
            <a:ext cx="96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0"/>
          <p:cNvSpPr/>
          <p:nvPr/>
        </p:nvSpPr>
        <p:spPr>
          <a:xfrm>
            <a:off x="2098800" y="5162400"/>
            <a:ext cx="96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1"/>
          <p:cNvSpPr/>
          <p:nvPr/>
        </p:nvSpPr>
        <p:spPr>
          <a:xfrm>
            <a:off x="658800" y="2657520"/>
            <a:ext cx="96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2"/>
          <p:cNvSpPr/>
          <p:nvPr/>
        </p:nvSpPr>
        <p:spPr>
          <a:xfrm>
            <a:off x="2170080" y="201312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3"/>
          <p:cNvSpPr/>
          <p:nvPr/>
        </p:nvSpPr>
        <p:spPr>
          <a:xfrm>
            <a:off x="666720" y="441324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24"/>
          <p:cNvSpPr/>
          <p:nvPr/>
        </p:nvSpPr>
        <p:spPr>
          <a:xfrm>
            <a:off x="3594240" y="441324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7"/>
          <p:cNvSpPr/>
          <p:nvPr/>
        </p:nvSpPr>
        <p:spPr>
          <a:xfrm>
            <a:off x="5016600" y="2678040"/>
            <a:ext cx="37000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a20000"/>
                </a:solidFill>
                <a:latin typeface="Arial"/>
                <a:ea typeface="宋体"/>
              </a:rPr>
              <a:t>1.Describe contents for a Step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d30b0b"/>
                </a:solidFill>
                <a:latin typeface="Arial"/>
                <a:ea typeface="宋体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3.Describe contents for a Step3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33" descr="@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099800" cy="1174320"/>
          </a:xfrm>
          <a:prstGeom prst="rect">
            <a:avLst/>
          </a:prstGeom>
          <a:ln w="0">
            <a:noFill/>
          </a:ln>
          <a:effectLst>
            <a:outerShdw algn="ctr" dir="2700000" dist="71785" rotWithShape="0">
              <a:srgbClr val="000000">
                <a:alpha val="50000"/>
              </a:srgbClr>
            </a:outerShdw>
          </a:effectLst>
        </p:spPr>
      </p:pic>
      <p:sp>
        <p:nvSpPr>
          <p:cNvPr id="1028" name="AutoShape 38"/>
          <p:cNvSpPr/>
          <p:nvPr/>
        </p:nvSpPr>
        <p:spPr>
          <a:xfrm>
            <a:off x="4981680" y="1962000"/>
            <a:ext cx="368568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9" name="Text Box 28"/>
          <p:cNvSpPr/>
          <p:nvPr/>
        </p:nvSpPr>
        <p:spPr>
          <a:xfrm>
            <a:off x="5568840" y="1971720"/>
            <a:ext cx="244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3733920" y="3465360"/>
            <a:ext cx="1742760" cy="116316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2" name="AutoShape 5"/>
          <p:cNvSpPr/>
          <p:nvPr/>
        </p:nvSpPr>
        <p:spPr>
          <a:xfrm>
            <a:off x="2325600" y="2422440"/>
            <a:ext cx="4538160" cy="1001520"/>
          </a:xfrm>
          <a:custGeom>
            <a:avLst/>
            <a:gdLst>
              <a:gd name="textAreaLeft" fmla="*/ 1063800 w 4538160"/>
              <a:gd name="textAreaRight" fmla="*/ 3474360 w 4538160"/>
              <a:gd name="textAreaTop" fmla="*/ 234720 h 1001520"/>
              <a:gd name="textAreaBottom" fmla="*/ 766800 h 10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8" y="21600"/>
                </a:lnTo>
                <a:lnTo>
                  <a:pt x="1507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7d47c"/>
              </a:gs>
              <a:gs pos="100000">
                <a:srgbClr val="f3bd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Freeform 7"/>
          <p:cNvSpPr/>
          <p:nvPr/>
        </p:nvSpPr>
        <p:spPr>
          <a:xfrm>
            <a:off x="5506920" y="2422440"/>
            <a:ext cx="1429920" cy="2215800"/>
          </a:xfrm>
          <a:custGeom>
            <a:avLst/>
            <a:gdLst>
              <a:gd name="textAreaLeft" fmla="*/ 0 w 1429920"/>
              <a:gd name="textAreaRight" fmla="*/ 1430280 w 1429920"/>
              <a:gd name="textAreaTop" fmla="*/ 0 h 2215800"/>
              <a:gd name="textAreaBottom" fmla="*/ 2216160 h 2215800"/>
            </a:gdLst>
            <a:ahLst/>
            <a:rect l="textAreaLeft" t="textAreaTop" r="textAreaRight" b="textAreaBottom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3bd33"/>
              </a:gs>
              <a:gs pos="100000">
                <a:srgbClr val="f6ce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4" name="Freeform 8"/>
          <p:cNvSpPr/>
          <p:nvPr/>
        </p:nvSpPr>
        <p:spPr>
          <a:xfrm flipH="1">
            <a:off x="2262240" y="2424240"/>
            <a:ext cx="1429920" cy="2204640"/>
          </a:xfrm>
          <a:custGeom>
            <a:avLst/>
            <a:gdLst>
              <a:gd name="textAreaLeft" fmla="*/ 360 w 1429920"/>
              <a:gd name="textAreaRight" fmla="*/ 1430640 w 1429920"/>
              <a:gd name="textAreaTop" fmla="*/ 0 h 2204640"/>
              <a:gd name="textAreaBottom" fmla="*/ 2205000 h 2204640"/>
            </a:gdLst>
            <a:ahLst/>
            <a:rect l="textAreaLeft" t="textAreaTop" r="textAreaRight" b="textAreaBottom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f3bd33"/>
              </a:gs>
              <a:gs pos="100000">
                <a:srgbClr val="f6ce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2247840" y="4668840"/>
            <a:ext cx="4690800" cy="12888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6" name="Rectangle 10"/>
          <p:cNvSpPr/>
          <p:nvPr/>
        </p:nvSpPr>
        <p:spPr>
          <a:xfrm>
            <a:off x="3832200" y="2771640"/>
            <a:ext cx="149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1"/>
          <p:cNvSpPr/>
          <p:nvPr/>
        </p:nvSpPr>
        <p:spPr>
          <a:xfrm>
            <a:off x="2361600" y="3811680"/>
            <a:ext cx="123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2"/>
          <p:cNvSpPr/>
          <p:nvPr/>
        </p:nvSpPr>
        <p:spPr>
          <a:xfrm>
            <a:off x="5581800" y="3841920"/>
            <a:ext cx="126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3870360" y="3727440"/>
            <a:ext cx="1453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4"/>
          <p:cNvSpPr/>
          <p:nvPr/>
        </p:nvSpPr>
        <p:spPr>
          <a:xfrm>
            <a:off x="2400480" y="4803840"/>
            <a:ext cx="4377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6"/>
          <p:cNvSpPr/>
          <p:nvPr/>
        </p:nvSpPr>
        <p:spPr>
          <a:xfrm>
            <a:off x="3220920" y="1633680"/>
            <a:ext cx="2733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AutoShape 17"/>
          <p:cNvCxnSpPr>
            <a:endCxn id="1032" idx="3"/>
          </p:cNvCxnSpPr>
          <p:nvPr/>
        </p:nvCxnSpPr>
        <p:spPr>
          <a:xfrm flipV="1" rot="10800000">
            <a:off x="4595760" y="2028600"/>
            <a:ext cx="8280" cy="394200"/>
          </a:xfrm>
          <a:prstGeom prst="bentConnector2">
            <a:avLst/>
          </a:prstGeom>
          <a:ln w="19050">
            <a:solidFill>
              <a:srgbClr val="1c1c1c"/>
            </a:solidFill>
            <a:miter/>
          </a:ln>
        </p:spPr>
      </p:cxnSp>
      <p:sp>
        <p:nvSpPr>
          <p:cNvPr id="1043" name="Line 19"/>
          <p:cNvSpPr/>
          <p:nvPr/>
        </p:nvSpPr>
        <p:spPr>
          <a:xfrm flipH="1">
            <a:off x="1795320" y="3497040"/>
            <a:ext cx="463680" cy="360"/>
          </a:xfrm>
          <a:prstGeom prst="line">
            <a:avLst/>
          </a:prstGeom>
          <a:ln w="1905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Line 20"/>
          <p:cNvSpPr/>
          <p:nvPr/>
        </p:nvSpPr>
        <p:spPr>
          <a:xfrm flipH="1">
            <a:off x="6922800" y="3497040"/>
            <a:ext cx="463680" cy="360"/>
          </a:xfrm>
          <a:prstGeom prst="line">
            <a:avLst/>
          </a:prstGeom>
          <a:ln w="1905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5" name="Text Box 21"/>
          <p:cNvSpPr/>
          <p:nvPr/>
        </p:nvSpPr>
        <p:spPr>
          <a:xfrm>
            <a:off x="7432560" y="3235320"/>
            <a:ext cx="1571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217440" y="3235320"/>
            <a:ext cx="1571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Oval 2"/>
          <p:cNvSpPr/>
          <p:nvPr/>
        </p:nvSpPr>
        <p:spPr>
          <a:xfrm>
            <a:off x="2890800" y="2297160"/>
            <a:ext cx="3225600" cy="3219120"/>
          </a:xfrm>
          <a:prstGeom prst="ellipse">
            <a:avLst/>
          </a:prstGeom>
          <a:noFill/>
          <a:ln w="9525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Oval 4"/>
          <p:cNvSpPr/>
          <p:nvPr/>
        </p:nvSpPr>
        <p:spPr>
          <a:xfrm>
            <a:off x="3830760" y="3201840"/>
            <a:ext cx="1380600" cy="1377720"/>
          </a:xfrm>
          <a:prstGeom prst="ellipse">
            <a:avLst/>
          </a:prstGeom>
          <a:gradFill rotWithShape="0">
            <a:gsLst>
              <a:gs pos="0">
                <a:srgbClr val="aed925"/>
              </a:gs>
              <a:gs pos="100000">
                <a:srgbClr val="617914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9" name="Oval 5"/>
          <p:cNvSpPr/>
          <p:nvPr/>
        </p:nvSpPr>
        <p:spPr>
          <a:xfrm>
            <a:off x="2435400" y="4051440"/>
            <a:ext cx="1333080" cy="1333080"/>
          </a:xfrm>
          <a:prstGeom prst="ellipse">
            <a:avLst/>
          </a:prstGeom>
          <a:gradFill rotWithShape="0">
            <a:gsLst>
              <a:gs pos="0">
                <a:srgbClr val="fae3aa"/>
              </a:gs>
              <a:gs pos="100000">
                <a:srgbClr val="f3bd33"/>
              </a:gs>
            </a:gsLst>
            <a:lin ang="2700000"/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0" name="Oval 6"/>
          <p:cNvSpPr/>
          <p:nvPr/>
        </p:nvSpPr>
        <p:spPr>
          <a:xfrm>
            <a:off x="3870360" y="1577880"/>
            <a:ext cx="1333080" cy="1333080"/>
          </a:xfrm>
          <a:prstGeom prst="ellipse">
            <a:avLst/>
          </a:prstGeom>
          <a:gradFill rotWithShape="0">
            <a:gsLst>
              <a:gs pos="0">
                <a:srgbClr val="fae3aa"/>
              </a:gs>
              <a:gs pos="100000">
                <a:srgbClr val="f3bd33"/>
              </a:gs>
            </a:gsLst>
            <a:lin ang="2700000"/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1" name="AutoShape 7"/>
          <p:cNvSpPr/>
          <p:nvPr/>
        </p:nvSpPr>
        <p:spPr>
          <a:xfrm flipV="1">
            <a:off x="4467240" y="2998800"/>
            <a:ext cx="142560" cy="120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AutoShape 8"/>
          <p:cNvSpPr/>
          <p:nvPr/>
        </p:nvSpPr>
        <p:spPr>
          <a:xfrm flipV="1">
            <a:off x="3687840" y="4267080"/>
            <a:ext cx="142560" cy="120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3" name="AutoShape 9"/>
          <p:cNvSpPr/>
          <p:nvPr/>
        </p:nvSpPr>
        <p:spPr>
          <a:xfrm flipV="1">
            <a:off x="5202360" y="4264200"/>
            <a:ext cx="142560" cy="120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4" name="Oval 10"/>
          <p:cNvSpPr/>
          <p:nvPr/>
        </p:nvSpPr>
        <p:spPr>
          <a:xfrm>
            <a:off x="5261040" y="4057560"/>
            <a:ext cx="1333080" cy="1333080"/>
          </a:xfrm>
          <a:prstGeom prst="ellipse">
            <a:avLst/>
          </a:prstGeom>
          <a:gradFill rotWithShape="0">
            <a:gsLst>
              <a:gs pos="0">
                <a:srgbClr val="fae3aa"/>
              </a:gs>
              <a:gs pos="100000">
                <a:srgbClr val="f3bd33"/>
              </a:gs>
            </a:gsLst>
            <a:lin ang="2700000"/>
          </a:gradFill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Rectangle 11"/>
          <p:cNvSpPr/>
          <p:nvPr/>
        </p:nvSpPr>
        <p:spPr>
          <a:xfrm>
            <a:off x="1687680" y="2706840"/>
            <a:ext cx="1450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5734080" y="2763720"/>
            <a:ext cx="1661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3743280" y="5595840"/>
            <a:ext cx="1663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4"/>
          <p:cNvSpPr/>
          <p:nvPr/>
        </p:nvSpPr>
        <p:spPr>
          <a:xfrm rot="5400000">
            <a:off x="4731840" y="3232800"/>
            <a:ext cx="713880" cy="712440"/>
          </a:xfrm>
          <a:prstGeom prst="ellipse">
            <a:avLst/>
          </a:prstGeom>
          <a:solidFill>
            <a:srgbClr val="dad61c"/>
          </a:solidFill>
          <a:ln w="9525">
            <a:solidFill>
              <a:srgbClr val="3d5d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9" name="Oval 15"/>
          <p:cNvSpPr/>
          <p:nvPr/>
        </p:nvSpPr>
        <p:spPr>
          <a:xfrm rot="5400000">
            <a:off x="3576240" y="3239280"/>
            <a:ext cx="711000" cy="712440"/>
          </a:xfrm>
          <a:prstGeom prst="ellipse">
            <a:avLst/>
          </a:prstGeom>
          <a:solidFill>
            <a:srgbClr val="dad61c"/>
          </a:solidFill>
          <a:ln w="9525">
            <a:solidFill>
              <a:srgbClr val="3d5d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3637080" y="342252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7"/>
          <p:cNvSpPr/>
          <p:nvPr/>
        </p:nvSpPr>
        <p:spPr>
          <a:xfrm>
            <a:off x="4805640" y="343224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18"/>
          <p:cNvSpPr/>
          <p:nvPr/>
        </p:nvSpPr>
        <p:spPr>
          <a:xfrm rot="5400000">
            <a:off x="4160160" y="4123440"/>
            <a:ext cx="711000" cy="712440"/>
          </a:xfrm>
          <a:prstGeom prst="ellipse">
            <a:avLst/>
          </a:prstGeom>
          <a:solidFill>
            <a:srgbClr val="dad61c"/>
          </a:solidFill>
          <a:ln w="9525">
            <a:solidFill>
              <a:srgbClr val="3d5d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3" name="Rectangle 19"/>
          <p:cNvSpPr/>
          <p:nvPr/>
        </p:nvSpPr>
        <p:spPr>
          <a:xfrm>
            <a:off x="4221360" y="432900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0"/>
          <p:cNvSpPr/>
          <p:nvPr/>
        </p:nvSpPr>
        <p:spPr>
          <a:xfrm>
            <a:off x="4081320" y="1928880"/>
            <a:ext cx="94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1"/>
          <p:cNvSpPr/>
          <p:nvPr/>
        </p:nvSpPr>
        <p:spPr>
          <a:xfrm>
            <a:off x="5465880" y="4429080"/>
            <a:ext cx="94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2"/>
          <p:cNvSpPr/>
          <p:nvPr/>
        </p:nvSpPr>
        <p:spPr>
          <a:xfrm>
            <a:off x="2630520" y="4427640"/>
            <a:ext cx="94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8" name="TextBox 24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www.51pptmoban.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9"/>
          <p:cNvSpPr/>
          <p:nvPr/>
        </p:nvSpPr>
        <p:spPr>
          <a:xfrm>
            <a:off x="438120" y="6334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 u="sng">
                <a:solidFill>
                  <a:srgbClr val="aed925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AutoShape 2"/>
          <p:cNvSpPr/>
          <p:nvPr/>
        </p:nvSpPr>
        <p:spPr>
          <a:xfrm>
            <a:off x="2517840" y="2801880"/>
            <a:ext cx="1793520" cy="2255400"/>
          </a:xfrm>
          <a:prstGeom prst="downArrow">
            <a:avLst>
              <a:gd name="adj1" fmla="val 70889"/>
              <a:gd name="adj2" fmla="val 2654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AutoShape 4"/>
          <p:cNvSpPr/>
          <p:nvPr/>
        </p:nvSpPr>
        <p:spPr>
          <a:xfrm>
            <a:off x="1236600" y="3137040"/>
            <a:ext cx="4352400" cy="1312560"/>
          </a:xfrm>
          <a:prstGeom prst="roundRect">
            <a:avLst>
              <a:gd name="adj" fmla="val 16667"/>
            </a:avLst>
          </a:prstGeom>
          <a:solidFill>
            <a:schemeClr val="bg1">
              <a:alpha val="70000"/>
            </a:schemeClr>
          </a:soli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73" name="Group 5"/>
          <p:cNvGrpSpPr/>
          <p:nvPr/>
        </p:nvGrpSpPr>
        <p:grpSpPr>
          <a:xfrm>
            <a:off x="2143080" y="1936800"/>
            <a:ext cx="2506320" cy="718920"/>
            <a:chOff x="2143080" y="1936800"/>
            <a:chExt cx="2506320" cy="718920"/>
          </a:xfrm>
        </p:grpSpPr>
        <p:sp>
          <p:nvSpPr>
            <p:cNvPr id="1074" name="Oval 6"/>
            <p:cNvSpPr/>
            <p:nvPr/>
          </p:nvSpPr>
          <p:spPr>
            <a:xfrm flipH="1">
              <a:off x="2143080" y="1936800"/>
              <a:ext cx="2506320" cy="718920"/>
            </a:xfrm>
            <a:prstGeom prst="ellipse">
              <a:avLst/>
            </a:prstGeom>
            <a:gradFill rotWithShape="0">
              <a:gsLst>
                <a:gs pos="0">
                  <a:srgbClr val="f26851"/>
                </a:gs>
                <a:gs pos="100000">
                  <a:srgbClr val="ee3516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5" name="Oval 7"/>
            <p:cNvSpPr/>
            <p:nvPr/>
          </p:nvSpPr>
          <p:spPr>
            <a:xfrm flipH="1">
              <a:off x="2269800" y="1973520"/>
              <a:ext cx="2261880" cy="637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6" name="AutoShape 8"/>
            <p:cNvSpPr/>
            <p:nvPr/>
          </p:nvSpPr>
          <p:spPr>
            <a:xfrm flipH="1">
              <a:off x="2356560" y="1982880"/>
              <a:ext cx="2134440" cy="570240"/>
            </a:xfrm>
            <a:custGeom>
              <a:avLst/>
              <a:gdLst>
                <a:gd name="textAreaLeft" fmla="*/ -360 w 2134440"/>
                <a:gd name="textAreaRight" fmla="*/ 2134440 w 2134440"/>
                <a:gd name="textAreaTop" fmla="*/ 0 h 570240"/>
                <a:gd name="textAreaBottom" fmla="*/ 214920 h 57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04" y="10825"/>
                  </a:moveTo>
                  <a:cubicBezTo>
                    <a:pt x="10104" y="10817"/>
                    <a:pt x="10104" y="10808"/>
                    <a:pt x="10104" y="10800"/>
                  </a:cubicBezTo>
                  <a:cubicBezTo>
                    <a:pt x="10104" y="10415"/>
                    <a:pt x="10415" y="10104"/>
                    <a:pt x="10800" y="10104"/>
                  </a:cubicBezTo>
                  <a:cubicBezTo>
                    <a:pt x="11184" y="10104"/>
                    <a:pt x="11496" y="10415"/>
                    <a:pt x="11496" y="10800"/>
                  </a:cubicBezTo>
                  <a:cubicBezTo>
                    <a:pt x="11496" y="10808"/>
                    <a:pt x="11495" y="10817"/>
                    <a:pt x="11495" y="10825"/>
                  </a:cubicBezTo>
                  <a:lnTo>
                    <a:pt x="21592" y="11203"/>
                  </a:lnTo>
                  <a:cubicBezTo>
                    <a:pt x="21597" y="11068"/>
                    <a:pt x="21600" y="1093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34"/>
                    <a:pt x="2" y="11068"/>
                    <a:pt x="7" y="11203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077" name="Group 9"/>
          <p:cNvGrpSpPr/>
          <p:nvPr/>
        </p:nvGrpSpPr>
        <p:grpSpPr>
          <a:xfrm>
            <a:off x="2157480" y="5168880"/>
            <a:ext cx="2506320" cy="718920"/>
            <a:chOff x="2157480" y="5168880"/>
            <a:chExt cx="2506320" cy="718920"/>
          </a:xfrm>
        </p:grpSpPr>
        <p:sp>
          <p:nvSpPr>
            <p:cNvPr id="1078" name="Oval 10"/>
            <p:cNvSpPr/>
            <p:nvPr/>
          </p:nvSpPr>
          <p:spPr>
            <a:xfrm flipH="1">
              <a:off x="2157480" y="5168880"/>
              <a:ext cx="2506320" cy="718920"/>
            </a:xfrm>
            <a:prstGeom prst="ellipse">
              <a:avLst/>
            </a:prstGeom>
            <a:gradFill rotWithShape="0">
              <a:gsLst>
                <a:gs pos="0">
                  <a:srgbClr val="7bb571"/>
                </a:gs>
                <a:gs pos="100000">
                  <a:srgbClr val="4e9d41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9" name="Oval 11"/>
            <p:cNvSpPr/>
            <p:nvPr/>
          </p:nvSpPr>
          <p:spPr>
            <a:xfrm flipH="1">
              <a:off x="2284200" y="5205600"/>
              <a:ext cx="2261880" cy="637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0" name="AutoShape 12"/>
            <p:cNvSpPr/>
            <p:nvPr/>
          </p:nvSpPr>
          <p:spPr>
            <a:xfrm flipH="1">
              <a:off x="2370600" y="5215320"/>
              <a:ext cx="2134440" cy="570240"/>
            </a:xfrm>
            <a:custGeom>
              <a:avLst/>
              <a:gdLst>
                <a:gd name="textAreaLeft" fmla="*/ -360 w 2134440"/>
                <a:gd name="textAreaRight" fmla="*/ 2134440 w 2134440"/>
                <a:gd name="textAreaTop" fmla="*/ 0 h 570240"/>
                <a:gd name="textAreaBottom" fmla="*/ 214920 h 57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04" y="10825"/>
                  </a:moveTo>
                  <a:cubicBezTo>
                    <a:pt x="10104" y="10817"/>
                    <a:pt x="10104" y="10808"/>
                    <a:pt x="10104" y="10800"/>
                  </a:cubicBezTo>
                  <a:cubicBezTo>
                    <a:pt x="10104" y="10415"/>
                    <a:pt x="10415" y="10104"/>
                    <a:pt x="10800" y="10104"/>
                  </a:cubicBezTo>
                  <a:cubicBezTo>
                    <a:pt x="11184" y="10104"/>
                    <a:pt x="11496" y="10415"/>
                    <a:pt x="11496" y="10800"/>
                  </a:cubicBezTo>
                  <a:cubicBezTo>
                    <a:pt x="11496" y="10808"/>
                    <a:pt x="11495" y="10817"/>
                    <a:pt x="11495" y="10825"/>
                  </a:cubicBezTo>
                  <a:lnTo>
                    <a:pt x="21592" y="11203"/>
                  </a:lnTo>
                  <a:cubicBezTo>
                    <a:pt x="21597" y="11068"/>
                    <a:pt x="21600" y="1093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34"/>
                    <a:pt x="2" y="11068"/>
                    <a:pt x="7" y="11203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081" name="Group 13"/>
          <p:cNvGrpSpPr/>
          <p:nvPr/>
        </p:nvGrpSpPr>
        <p:grpSpPr>
          <a:xfrm>
            <a:off x="2805120" y="3203640"/>
            <a:ext cx="1260000" cy="1190160"/>
            <a:chOff x="2805120" y="3203640"/>
            <a:chExt cx="1260000" cy="1190160"/>
          </a:xfrm>
        </p:grpSpPr>
        <p:sp>
          <p:nvSpPr>
            <p:cNvPr id="1082" name="Oval 14"/>
            <p:cNvSpPr/>
            <p:nvPr/>
          </p:nvSpPr>
          <p:spPr>
            <a:xfrm flipH="1">
              <a:off x="2805120" y="3203640"/>
              <a:ext cx="1260000" cy="1190160"/>
            </a:xfrm>
            <a:prstGeom prst="ellipse">
              <a:avLst/>
            </a:prstGeom>
            <a:gradFill rotWithShape="0">
              <a:gsLst>
                <a:gs pos="0">
                  <a:srgbClr val="f6cd66"/>
                </a:gs>
                <a:gs pos="100000">
                  <a:srgbClr val="f3bd33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3" name="Oval 15"/>
            <p:cNvSpPr/>
            <p:nvPr/>
          </p:nvSpPr>
          <p:spPr>
            <a:xfrm flipH="1">
              <a:off x="2868480" y="3264480"/>
              <a:ext cx="1137240" cy="10548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4" name="AutoShape 16"/>
            <p:cNvSpPr/>
            <p:nvPr/>
          </p:nvSpPr>
          <p:spPr>
            <a:xfrm flipH="1">
              <a:off x="2912040" y="3280320"/>
              <a:ext cx="1073160" cy="944640"/>
            </a:xfrm>
            <a:custGeom>
              <a:avLst/>
              <a:gdLst>
                <a:gd name="textAreaLeft" fmla="*/ -360 w 1073160"/>
                <a:gd name="textAreaRight" fmla="*/ 1073160 w 1073160"/>
                <a:gd name="textAreaTop" fmla="*/ 0 h 944640"/>
                <a:gd name="textAreaBottom" fmla="*/ 355680 h 9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04" y="10825"/>
                  </a:moveTo>
                  <a:cubicBezTo>
                    <a:pt x="10104" y="10817"/>
                    <a:pt x="10104" y="10808"/>
                    <a:pt x="10104" y="10800"/>
                  </a:cubicBezTo>
                  <a:cubicBezTo>
                    <a:pt x="10104" y="10415"/>
                    <a:pt x="10415" y="10104"/>
                    <a:pt x="10800" y="10104"/>
                  </a:cubicBezTo>
                  <a:cubicBezTo>
                    <a:pt x="11184" y="10104"/>
                    <a:pt x="11496" y="10415"/>
                    <a:pt x="11496" y="10800"/>
                  </a:cubicBezTo>
                  <a:cubicBezTo>
                    <a:pt x="11496" y="10808"/>
                    <a:pt x="11495" y="10817"/>
                    <a:pt x="11495" y="10825"/>
                  </a:cubicBezTo>
                  <a:lnTo>
                    <a:pt x="21592" y="11203"/>
                  </a:lnTo>
                  <a:cubicBezTo>
                    <a:pt x="21597" y="11068"/>
                    <a:pt x="21600" y="10934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34"/>
                    <a:pt x="2" y="11068"/>
                    <a:pt x="7" y="11203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085" name="Text Box 17"/>
          <p:cNvSpPr/>
          <p:nvPr/>
        </p:nvSpPr>
        <p:spPr>
          <a:xfrm>
            <a:off x="2568600" y="2100240"/>
            <a:ext cx="167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8"/>
          <p:cNvSpPr/>
          <p:nvPr/>
        </p:nvSpPr>
        <p:spPr>
          <a:xfrm>
            <a:off x="2577960" y="5335560"/>
            <a:ext cx="167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9"/>
          <p:cNvSpPr/>
          <p:nvPr/>
        </p:nvSpPr>
        <p:spPr>
          <a:xfrm>
            <a:off x="1473480" y="3548160"/>
            <a:ext cx="1043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20"/>
          <p:cNvSpPr/>
          <p:nvPr/>
        </p:nvSpPr>
        <p:spPr>
          <a:xfrm>
            <a:off x="4140360" y="3403440"/>
            <a:ext cx="1318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21"/>
          <p:cNvSpPr/>
          <p:nvPr/>
        </p:nvSpPr>
        <p:spPr>
          <a:xfrm>
            <a:off x="2768760" y="3475080"/>
            <a:ext cx="1379160" cy="6994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rc 22"/>
          <p:cNvSpPr/>
          <p:nvPr/>
        </p:nvSpPr>
        <p:spPr>
          <a:xfrm flipH="1" rot="4497000">
            <a:off x="3755880" y="2886120"/>
            <a:ext cx="3104640" cy="1746000"/>
          </a:xfrm>
          <a:custGeom>
            <a:avLst/>
            <a:gdLst>
              <a:gd name="textAreaLeft" fmla="*/ 360 w 3104640"/>
              <a:gd name="textAreaRight" fmla="*/ 3105360 w 310464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fill="none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</a:path>
              <a:path stroke="0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  <a:lnTo>
                  <a:pt x="21600" y="21600"/>
                </a:lnTo>
                <a:close/>
              </a:path>
            </a:pathLst>
          </a:custGeom>
          <a:noFill/>
          <a:ln w="12700">
            <a:solidFill>
              <a:srgbClr val="ee3516"/>
            </a:solidFill>
            <a:prstDash val="dash"/>
            <a:round/>
            <a:headEnd len="lg" type="triangle" w="lg"/>
          </a:ln>
          <a:effectLst>
            <a:outerShdw algn="ctr" dir="2700000" dist="17819" rotWithShape="0">
              <a:schemeClr val="tx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1" name="Arc 23"/>
          <p:cNvSpPr/>
          <p:nvPr/>
        </p:nvSpPr>
        <p:spPr>
          <a:xfrm flipV="1" rot="4497000">
            <a:off x="-1080" y="3126960"/>
            <a:ext cx="3015720" cy="1746000"/>
          </a:xfrm>
          <a:custGeom>
            <a:avLst/>
            <a:gdLst>
              <a:gd name="textAreaLeft" fmla="*/ 0 w 3015720"/>
              <a:gd name="textAreaRight" fmla="*/ 3016080 w 3015720"/>
              <a:gd name="textAreaTop" fmla="*/ 360 h 1746000"/>
              <a:gd name="textAreaBottom" fmla="*/ 1746720 h 1746000"/>
            </a:gdLst>
            <a:ahLst/>
            <a:rect l="textAreaLeft" t="textAreaTop" r="textAreaRight" b="textAreaBottom"/>
            <a:pathLst>
              <a:path fill="none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</a:path>
              <a:path stroke="0" w="41684" h="24129">
                <a:moveTo>
                  <a:pt x="148" y="24129"/>
                </a:moveTo>
                <a:cubicBezTo>
                  <a:pt x="49" y="23289"/>
                  <a:pt x="0" y="224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0460" y="-1"/>
                  <a:pt x="38423" y="5411"/>
                  <a:pt x="41684" y="13650"/>
                </a:cubicBezTo>
                <a:lnTo>
                  <a:pt x="21600" y="21600"/>
                </a:lnTo>
                <a:close/>
              </a:path>
            </a:pathLst>
          </a:custGeom>
          <a:noFill/>
          <a:ln w="12700">
            <a:solidFill>
              <a:srgbClr val="4e9d41"/>
            </a:solidFill>
            <a:prstDash val="dash"/>
            <a:round/>
            <a:headEnd len="lg" type="triangle" w="lg"/>
          </a:ln>
          <a:effectLst>
            <a:outerShdw algn="ctr" dir="2700000" dist="17819" rotWithShape="0">
              <a:schemeClr val="tx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2" name="Rectangle 24"/>
          <p:cNvSpPr/>
          <p:nvPr/>
        </p:nvSpPr>
        <p:spPr>
          <a:xfrm>
            <a:off x="6499080" y="2986200"/>
            <a:ext cx="239040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25" descr="worldmap_ani8"/>
          <p:cNvPicPr/>
          <p:nvPr/>
        </p:nvPicPr>
        <p:blipFill>
          <a:blip r:embed="rId1"/>
          <a:stretch/>
        </p:blipFill>
        <p:spPr>
          <a:xfrm>
            <a:off x="7873920" y="5416560"/>
            <a:ext cx="691920" cy="69192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27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2"/>
              </a:rPr>
              <a:t>www.51pp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moban.c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490"/>
          <p:cNvSpPr/>
          <p:nvPr/>
        </p:nvSpPr>
        <p:spPr>
          <a:xfrm>
            <a:off x="2717640" y="482904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408236"/>
              </a:gs>
              <a:gs pos="50000">
                <a:srgbClr val="4e9d41"/>
              </a:gs>
              <a:gs pos="100000">
                <a:srgbClr val="408236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Freeform 491"/>
          <p:cNvSpPr/>
          <p:nvPr/>
        </p:nvSpPr>
        <p:spPr>
          <a:xfrm>
            <a:off x="2016000" y="482904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316329"/>
              </a:gs>
              <a:gs pos="50000">
                <a:srgbClr val="4e9d41"/>
              </a:gs>
              <a:gs pos="100000">
                <a:srgbClr val="316329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Freeform 487"/>
          <p:cNvSpPr/>
          <p:nvPr/>
        </p:nvSpPr>
        <p:spPr>
          <a:xfrm>
            <a:off x="2717640" y="387036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90b41e"/>
              </a:gs>
              <a:gs pos="50000">
                <a:srgbClr val="aed925"/>
              </a:gs>
              <a:gs pos="100000">
                <a:srgbClr val="90b41e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Freeform 488"/>
          <p:cNvSpPr/>
          <p:nvPr/>
        </p:nvSpPr>
        <p:spPr>
          <a:xfrm>
            <a:off x="2016000" y="387036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6d8917"/>
              </a:gs>
              <a:gs pos="50000">
                <a:srgbClr val="aed925"/>
              </a:gs>
              <a:gs pos="100000">
                <a:srgbClr val="6d8917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Text Box 489"/>
          <p:cNvSpPr/>
          <p:nvPr/>
        </p:nvSpPr>
        <p:spPr>
          <a:xfrm>
            <a:off x="3121200" y="392904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85"/>
          <p:cNvSpPr/>
          <p:nvPr/>
        </p:nvSpPr>
        <p:spPr>
          <a:xfrm>
            <a:off x="2717640" y="290520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ee3516"/>
              </a:gs>
              <a:gs pos="50000">
                <a:srgbClr val="f26a53"/>
              </a:gs>
              <a:gs pos="100000">
                <a:srgbClr val="ee3516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Freeform 486"/>
          <p:cNvSpPr/>
          <p:nvPr/>
        </p:nvSpPr>
        <p:spPr>
          <a:xfrm>
            <a:off x="2016000" y="290520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cc2d12"/>
              </a:gs>
              <a:gs pos="50000">
                <a:srgbClr val="ee3516"/>
              </a:gs>
              <a:gs pos="100000">
                <a:srgbClr val="cc2d12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Freeform 483"/>
          <p:cNvSpPr/>
          <p:nvPr/>
        </p:nvSpPr>
        <p:spPr>
          <a:xfrm>
            <a:off x="2717640" y="1974960"/>
            <a:ext cx="4533480" cy="56808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ca9d2a"/>
              </a:gs>
              <a:gs pos="50000">
                <a:srgbClr val="f3bd33"/>
              </a:gs>
              <a:gs pos="100000">
                <a:srgbClr val="ca9d2a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Freeform 482"/>
          <p:cNvSpPr/>
          <p:nvPr/>
        </p:nvSpPr>
        <p:spPr>
          <a:xfrm>
            <a:off x="2016000" y="1974960"/>
            <a:ext cx="609120" cy="568080"/>
          </a:xfrm>
          <a:custGeom>
            <a:avLst/>
            <a:gdLst>
              <a:gd name="textAreaLeft" fmla="*/ 0 w 609120"/>
              <a:gd name="textAreaRight" fmla="*/ 609480 w 60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997720"/>
              </a:gs>
              <a:gs pos="50000">
                <a:srgbClr val="f3bd33"/>
              </a:gs>
              <a:gs pos="100000">
                <a:srgbClr val="997720"/>
              </a:gs>
            </a:gsLst>
            <a:lin ang="5400000"/>
          </a:gradFill>
          <a:ln w="28575">
            <a:solidFill>
              <a:srgbClr val="dddddd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Contents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Text Box 462"/>
          <p:cNvSpPr/>
          <p:nvPr/>
        </p:nvSpPr>
        <p:spPr>
          <a:xfrm>
            <a:off x="3121200" y="203976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3"/>
          <p:cNvSpPr/>
          <p:nvPr/>
        </p:nvSpPr>
        <p:spPr>
          <a:xfrm>
            <a:off x="3121200" y="296388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5"/>
          <p:cNvSpPr/>
          <p:nvPr/>
        </p:nvSpPr>
        <p:spPr>
          <a:xfrm>
            <a:off x="3121200" y="4897440"/>
            <a:ext cx="35809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58"/>
          <p:cNvSpPr/>
          <p:nvPr/>
        </p:nvSpPr>
        <p:spPr>
          <a:xfrm>
            <a:off x="2149560" y="192708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68"/>
          <p:cNvSpPr/>
          <p:nvPr/>
        </p:nvSpPr>
        <p:spPr>
          <a:xfrm>
            <a:off x="2149560" y="286704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0"/>
          <p:cNvSpPr/>
          <p:nvPr/>
        </p:nvSpPr>
        <p:spPr>
          <a:xfrm>
            <a:off x="2149560" y="381960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2"/>
          <p:cNvSpPr/>
          <p:nvPr/>
        </p:nvSpPr>
        <p:spPr>
          <a:xfrm>
            <a:off x="2139840" y="4781520"/>
            <a:ext cx="304560" cy="638280"/>
          </a:xfrm>
          <a:prstGeom prst="rect">
            <a:avLst/>
          </a:prstGeom>
          <a:noFill/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WordArt 510"/>
          <p:cNvSpPr txBox="1"/>
          <p:nvPr/>
        </p:nvSpPr>
        <p:spPr>
          <a:xfrm>
            <a:off x="2739960" y="1668600"/>
            <a:ext cx="5895720" cy="8028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12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517"/>
          <p:cNvSpPr/>
          <p:nvPr/>
        </p:nvSpPr>
        <p:spPr>
          <a:xfrm>
            <a:off x="5408640" y="2693880"/>
            <a:ext cx="3169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company slogan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518"/>
          <p:cNvSpPr/>
          <p:nvPr/>
        </p:nvSpPr>
        <p:spPr>
          <a:xfrm>
            <a:off x="343080" y="355680"/>
            <a:ext cx="116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4"/>
          <p:cNvSpPr/>
          <p:nvPr/>
        </p:nvSpPr>
        <p:spPr>
          <a:xfrm>
            <a:off x="-69910920" y="39136320"/>
            <a:ext cx="339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aed925"/>
                </a:solidFill>
                <a:uFillTx/>
                <a:latin typeface="Arial"/>
                <a:hlinkClick r:id="rId1"/>
              </a:rPr>
              <a:t>www.5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pptmoban.com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360360" y="1820880"/>
            <a:ext cx="82292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9960" indent="-399960">
              <a:lnSpc>
                <a:spcPct val="100000"/>
              </a:lnSpc>
              <a:spcBef>
                <a:spcPts val="641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it will apply to all the other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893880" y="4707000"/>
            <a:ext cx="7314840" cy="1218960"/>
          </a:xfrm>
          <a:prstGeom prst="rect">
            <a:avLst/>
          </a:prstGeom>
          <a:solidFill>
            <a:schemeClr val="fol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046160" y="4881600"/>
            <a:ext cx="57909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Image :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mowo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Introduction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379520" y="2971800"/>
            <a:ext cx="3366720" cy="76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379520" y="3765600"/>
            <a:ext cx="3366720" cy="76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379520" y="4565520"/>
            <a:ext cx="3366720" cy="76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308400">
            <a:off x="6649920" y="2466720"/>
            <a:ext cx="1590480" cy="170136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360"/>
              <a:gd name="textAreaBottom" fmla="*/ 1452240 h 17013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6064200" y="1965240"/>
            <a:ext cx="1318680" cy="1318680"/>
          </a:xfrm>
          <a:prstGeom prst="ellipse">
            <a:avLst/>
          </a:prstGeom>
          <a:gradFill rotWithShape="0">
            <a:gsLst>
              <a:gs pos="0">
                <a:srgbClr val="a17d21"/>
              </a:gs>
              <a:gs pos="50000">
                <a:srgbClr val="f3bd33"/>
              </a:gs>
              <a:gs pos="100000">
                <a:srgbClr val="a17d21"/>
              </a:gs>
            </a:gsLst>
            <a:lin ang="2700000"/>
          </a:gradFill>
          <a:ln w="571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7321680" y="3778200"/>
            <a:ext cx="1320480" cy="1320480"/>
          </a:xfrm>
          <a:prstGeom prst="ellipse">
            <a:avLst/>
          </a:prstGeom>
          <a:gradFill rotWithShape="0">
            <a:gsLst>
              <a:gs pos="0">
                <a:srgbClr val="1c3817"/>
              </a:gs>
              <a:gs pos="50000">
                <a:srgbClr val="4e9d41"/>
              </a:gs>
              <a:gs pos="100000">
                <a:srgbClr val="1c3817"/>
              </a:gs>
            </a:gsLst>
            <a:lin ang="2700000"/>
          </a:gradFill>
          <a:ln w="571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 rot="7528200">
            <a:off x="5976360" y="3888360"/>
            <a:ext cx="1588680" cy="1701360"/>
          </a:xfrm>
          <a:custGeom>
            <a:avLst/>
            <a:gdLst>
              <a:gd name="textAreaLeft" fmla="*/ 232560 w 1588680"/>
              <a:gd name="textAreaRight" fmla="*/ 1356120 w 1588680"/>
              <a:gd name="textAreaTop" fmla="*/ 249120 h 1701360"/>
              <a:gd name="textAreaBottom" fmla="*/ 1452240 h 17013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2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15216000">
            <a:off x="5046480" y="2657520"/>
            <a:ext cx="1588680" cy="1703160"/>
          </a:xfrm>
          <a:custGeom>
            <a:avLst/>
            <a:gdLst>
              <a:gd name="textAreaLeft" fmla="*/ 232560 w 1588680"/>
              <a:gd name="textAreaRight" fmla="*/ 1356120 w 1588680"/>
              <a:gd name="textAreaTop" fmla="*/ 249120 h 1703160"/>
              <a:gd name="textAreaBottom" fmla="*/ 1454040 h 17031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20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4962600" y="3782880"/>
            <a:ext cx="1320480" cy="1318680"/>
          </a:xfrm>
          <a:prstGeom prst="ellipse">
            <a:avLst/>
          </a:prstGeom>
          <a:gradFill rotWithShape="0">
            <a:gsLst>
              <a:gs pos="0">
                <a:srgbClr val="9d230e"/>
              </a:gs>
              <a:gs pos="50000">
                <a:srgbClr val="ee3516"/>
              </a:gs>
              <a:gs pos="100000">
                <a:srgbClr val="9d230e"/>
              </a:gs>
            </a:gsLst>
            <a:lin ang="2700000"/>
          </a:gradFill>
          <a:ln w="571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5986440" y="2620440"/>
            <a:ext cx="1116360" cy="724680"/>
            <a:chOff x="5986440" y="2620440"/>
            <a:chExt cx="1116360" cy="724680"/>
          </a:xfrm>
        </p:grpSpPr>
        <p:grpSp>
          <p:nvGrpSpPr>
            <p:cNvPr id="279" name="Group 13"/>
            <p:cNvGrpSpPr/>
            <p:nvPr/>
          </p:nvGrpSpPr>
          <p:grpSpPr>
            <a:xfrm>
              <a:off x="5986440" y="2620440"/>
              <a:ext cx="1116360" cy="724680"/>
              <a:chOff x="5986440" y="2620440"/>
              <a:chExt cx="1116360" cy="724680"/>
            </a:xfrm>
          </p:grpSpPr>
          <p:grpSp>
            <p:nvGrpSpPr>
              <p:cNvPr id="280" name="Group 14"/>
              <p:cNvGrpSpPr/>
              <p:nvPr/>
            </p:nvGrpSpPr>
            <p:grpSpPr>
              <a:xfrm>
                <a:off x="6105600" y="2840400"/>
                <a:ext cx="997200" cy="494640"/>
                <a:chOff x="6105600" y="2840400"/>
                <a:chExt cx="997200" cy="494640"/>
              </a:xfrm>
            </p:grpSpPr>
            <p:sp>
              <p:nvSpPr>
                <p:cNvPr id="281" name="AutoShape 15"/>
                <p:cNvSpPr/>
                <p:nvPr/>
              </p:nvSpPr>
              <p:spPr>
                <a:xfrm rot="16175400">
                  <a:off x="6646320" y="277524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16"/>
                <p:cNvSpPr/>
                <p:nvPr/>
              </p:nvSpPr>
              <p:spPr>
                <a:xfrm rot="16991400">
                  <a:off x="6525000" y="27712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17"/>
                <p:cNvSpPr/>
                <p:nvPr/>
              </p:nvSpPr>
              <p:spPr>
                <a:xfrm rot="17286600">
                  <a:off x="6457680" y="27514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18"/>
                <p:cNvSpPr/>
                <p:nvPr/>
              </p:nvSpPr>
              <p:spPr>
                <a:xfrm rot="17818800">
                  <a:off x="6378480" y="27241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19"/>
              <p:cNvGrpSpPr/>
              <p:nvPr/>
            </p:nvGrpSpPr>
            <p:grpSpPr>
              <a:xfrm>
                <a:off x="5986440" y="2620440"/>
                <a:ext cx="905400" cy="724680"/>
                <a:chOff x="5986440" y="2620440"/>
                <a:chExt cx="905400" cy="724680"/>
              </a:xfrm>
            </p:grpSpPr>
            <p:sp>
              <p:nvSpPr>
                <p:cNvPr id="286" name="AutoShape 20"/>
                <p:cNvSpPr/>
                <p:nvPr/>
              </p:nvSpPr>
              <p:spPr>
                <a:xfrm rot="17529600">
                  <a:off x="6427080" y="27442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21"/>
                <p:cNvSpPr/>
                <p:nvPr/>
              </p:nvSpPr>
              <p:spPr>
                <a:xfrm rot="18344400">
                  <a:off x="6316560" y="26938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22"/>
                <p:cNvSpPr/>
                <p:nvPr/>
              </p:nvSpPr>
              <p:spPr>
                <a:xfrm rot="18639600">
                  <a:off x="6262560" y="264924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23"/>
                <p:cNvSpPr/>
                <p:nvPr/>
              </p:nvSpPr>
              <p:spPr>
                <a:xfrm rot="19172400">
                  <a:off x="6199560" y="259344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24"/>
            <p:cNvGrpSpPr/>
            <p:nvPr/>
          </p:nvGrpSpPr>
          <p:grpSpPr>
            <a:xfrm>
              <a:off x="6073920" y="2693520"/>
              <a:ext cx="914400" cy="593280"/>
              <a:chOff x="6073920" y="2693520"/>
              <a:chExt cx="914400" cy="593280"/>
            </a:xfrm>
          </p:grpSpPr>
          <p:grpSp>
            <p:nvGrpSpPr>
              <p:cNvPr id="291" name="Group 25"/>
              <p:cNvGrpSpPr/>
              <p:nvPr/>
            </p:nvGrpSpPr>
            <p:grpSpPr>
              <a:xfrm>
                <a:off x="6171480" y="2873520"/>
                <a:ext cx="816840" cy="405000"/>
                <a:chOff x="6171480" y="2873520"/>
                <a:chExt cx="816840" cy="405000"/>
              </a:xfrm>
            </p:grpSpPr>
            <p:sp>
              <p:nvSpPr>
                <p:cNvPr id="292" name="AutoShape 26"/>
                <p:cNvSpPr/>
                <p:nvPr/>
              </p:nvSpPr>
              <p:spPr>
                <a:xfrm rot="16175400">
                  <a:off x="6614280" y="28202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27"/>
                <p:cNvSpPr/>
                <p:nvPr/>
              </p:nvSpPr>
              <p:spPr>
                <a:xfrm rot="16991400">
                  <a:off x="6515280" y="28166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28"/>
                <p:cNvSpPr/>
                <p:nvPr/>
              </p:nvSpPr>
              <p:spPr>
                <a:xfrm rot="17286600">
                  <a:off x="6460200" y="28004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29"/>
                <p:cNvSpPr/>
                <p:nvPr/>
              </p:nvSpPr>
              <p:spPr>
                <a:xfrm rot="17818800">
                  <a:off x="6395040" y="27781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30"/>
              <p:cNvGrpSpPr/>
              <p:nvPr/>
            </p:nvGrpSpPr>
            <p:grpSpPr>
              <a:xfrm>
                <a:off x="6073920" y="2693520"/>
                <a:ext cx="741240" cy="593280"/>
                <a:chOff x="6073920" y="2693520"/>
                <a:chExt cx="741240" cy="593280"/>
              </a:xfrm>
            </p:grpSpPr>
            <p:sp>
              <p:nvSpPr>
                <p:cNvPr id="297" name="AutoShape 31"/>
                <p:cNvSpPr/>
                <p:nvPr/>
              </p:nvSpPr>
              <p:spPr>
                <a:xfrm rot="17529600">
                  <a:off x="6434640" y="27946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32"/>
                <p:cNvSpPr/>
                <p:nvPr/>
              </p:nvSpPr>
              <p:spPr>
                <a:xfrm rot="18344400">
                  <a:off x="6344280" y="27532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33"/>
                <p:cNvSpPr/>
                <p:nvPr/>
              </p:nvSpPr>
              <p:spPr>
                <a:xfrm rot="18639600">
                  <a:off x="6300360" y="27169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34"/>
                <p:cNvSpPr/>
                <p:nvPr/>
              </p:nvSpPr>
              <p:spPr>
                <a:xfrm rot="19172400">
                  <a:off x="6248520" y="26715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1" name="Group 35"/>
          <p:cNvGrpSpPr/>
          <p:nvPr/>
        </p:nvGrpSpPr>
        <p:grpSpPr>
          <a:xfrm>
            <a:off x="4891320" y="4440960"/>
            <a:ext cx="1117800" cy="725040"/>
            <a:chOff x="4891320" y="4440960"/>
            <a:chExt cx="1117800" cy="725040"/>
          </a:xfrm>
        </p:grpSpPr>
        <p:grpSp>
          <p:nvGrpSpPr>
            <p:cNvPr id="302" name="Group 36"/>
            <p:cNvGrpSpPr/>
            <p:nvPr/>
          </p:nvGrpSpPr>
          <p:grpSpPr>
            <a:xfrm>
              <a:off x="4891320" y="4440960"/>
              <a:ext cx="1117800" cy="725040"/>
              <a:chOff x="4891320" y="4440960"/>
              <a:chExt cx="1117800" cy="725040"/>
            </a:xfrm>
          </p:grpSpPr>
          <p:grpSp>
            <p:nvGrpSpPr>
              <p:cNvPr id="303" name="Group 37"/>
              <p:cNvGrpSpPr/>
              <p:nvPr/>
            </p:nvGrpSpPr>
            <p:grpSpPr>
              <a:xfrm>
                <a:off x="5010480" y="4660920"/>
                <a:ext cx="998640" cy="495000"/>
                <a:chOff x="5010480" y="4660920"/>
                <a:chExt cx="998640" cy="495000"/>
              </a:xfrm>
            </p:grpSpPr>
            <p:sp>
              <p:nvSpPr>
                <p:cNvPr id="304" name="AutoShape 38"/>
                <p:cNvSpPr/>
                <p:nvPr/>
              </p:nvSpPr>
              <p:spPr>
                <a:xfrm rot="16175400">
                  <a:off x="5551920" y="459576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39"/>
                <p:cNvSpPr/>
                <p:nvPr/>
              </p:nvSpPr>
              <p:spPr>
                <a:xfrm rot="16991400">
                  <a:off x="5430600" y="459180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40"/>
                <p:cNvSpPr/>
                <p:nvPr/>
              </p:nvSpPr>
              <p:spPr>
                <a:xfrm rot="17286600">
                  <a:off x="5363640" y="457164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41"/>
                <p:cNvSpPr/>
                <p:nvPr/>
              </p:nvSpPr>
              <p:spPr>
                <a:xfrm rot="17818800">
                  <a:off x="5284080" y="454428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42"/>
              <p:cNvGrpSpPr/>
              <p:nvPr/>
            </p:nvGrpSpPr>
            <p:grpSpPr>
              <a:xfrm>
                <a:off x="4891320" y="4440960"/>
                <a:ext cx="906480" cy="725040"/>
                <a:chOff x="4891320" y="4440960"/>
                <a:chExt cx="906480" cy="725040"/>
              </a:xfrm>
            </p:grpSpPr>
            <p:sp>
              <p:nvSpPr>
                <p:cNvPr id="309" name="AutoShape 43"/>
                <p:cNvSpPr/>
                <p:nvPr/>
              </p:nvSpPr>
              <p:spPr>
                <a:xfrm rot="17529600">
                  <a:off x="5332320" y="45644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44"/>
                <p:cNvSpPr/>
                <p:nvPr/>
              </p:nvSpPr>
              <p:spPr>
                <a:xfrm rot="18344400">
                  <a:off x="5221800" y="45140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1" name="AutoShape 45"/>
                <p:cNvSpPr/>
                <p:nvPr/>
              </p:nvSpPr>
              <p:spPr>
                <a:xfrm rot="18639600">
                  <a:off x="5167800" y="446940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46"/>
                <p:cNvSpPr/>
                <p:nvPr/>
              </p:nvSpPr>
              <p:spPr>
                <a:xfrm rot="19172400">
                  <a:off x="5104800" y="441396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47"/>
            <p:cNvGrpSpPr/>
            <p:nvPr/>
          </p:nvGrpSpPr>
          <p:grpSpPr>
            <a:xfrm>
              <a:off x="4978800" y="4514040"/>
              <a:ext cx="915480" cy="593640"/>
              <a:chOff x="4978800" y="4514040"/>
              <a:chExt cx="915480" cy="593640"/>
            </a:xfrm>
          </p:grpSpPr>
          <p:grpSp>
            <p:nvGrpSpPr>
              <p:cNvPr id="314" name="Group 48"/>
              <p:cNvGrpSpPr/>
              <p:nvPr/>
            </p:nvGrpSpPr>
            <p:grpSpPr>
              <a:xfrm>
                <a:off x="5076720" y="4694040"/>
                <a:ext cx="817560" cy="405360"/>
                <a:chOff x="5076720" y="4694040"/>
                <a:chExt cx="817560" cy="405360"/>
              </a:xfrm>
            </p:grpSpPr>
            <p:sp>
              <p:nvSpPr>
                <p:cNvPr id="315" name="AutoShape 49"/>
                <p:cNvSpPr/>
                <p:nvPr/>
              </p:nvSpPr>
              <p:spPr>
                <a:xfrm rot="16175400">
                  <a:off x="5519880" y="464076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6" name="AutoShape 50"/>
                <p:cNvSpPr/>
                <p:nvPr/>
              </p:nvSpPr>
              <p:spPr>
                <a:xfrm rot="16991400">
                  <a:off x="5420520" y="46375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51"/>
                <p:cNvSpPr/>
                <p:nvPr/>
              </p:nvSpPr>
              <p:spPr>
                <a:xfrm rot="17286600">
                  <a:off x="5365440" y="462096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52"/>
                <p:cNvSpPr/>
                <p:nvPr/>
              </p:nvSpPr>
              <p:spPr>
                <a:xfrm rot="17818800">
                  <a:off x="5300640" y="459864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53"/>
              <p:cNvGrpSpPr/>
              <p:nvPr/>
            </p:nvGrpSpPr>
            <p:grpSpPr>
              <a:xfrm>
                <a:off x="4978800" y="4514040"/>
                <a:ext cx="742320" cy="593640"/>
                <a:chOff x="4978800" y="4514040"/>
                <a:chExt cx="742320" cy="593640"/>
              </a:xfrm>
            </p:grpSpPr>
            <p:sp>
              <p:nvSpPr>
                <p:cNvPr id="320" name="AutoShape 54"/>
                <p:cNvSpPr/>
                <p:nvPr/>
              </p:nvSpPr>
              <p:spPr>
                <a:xfrm rot="17529600">
                  <a:off x="5340240" y="461484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55"/>
                <p:cNvSpPr/>
                <p:nvPr/>
              </p:nvSpPr>
              <p:spPr>
                <a:xfrm rot="18344400">
                  <a:off x="5249880" y="457380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56"/>
                <p:cNvSpPr/>
                <p:nvPr/>
              </p:nvSpPr>
              <p:spPr>
                <a:xfrm rot="18639600">
                  <a:off x="5205600" y="453744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57"/>
                <p:cNvSpPr/>
                <p:nvPr/>
              </p:nvSpPr>
              <p:spPr>
                <a:xfrm rot="19172400">
                  <a:off x="5153760" y="44917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4" name="Group 58"/>
          <p:cNvGrpSpPr/>
          <p:nvPr/>
        </p:nvGrpSpPr>
        <p:grpSpPr>
          <a:xfrm>
            <a:off x="7265880" y="4439880"/>
            <a:ext cx="1116360" cy="724320"/>
            <a:chOff x="7265880" y="4439880"/>
            <a:chExt cx="1116360" cy="724320"/>
          </a:xfrm>
        </p:grpSpPr>
        <p:grpSp>
          <p:nvGrpSpPr>
            <p:cNvPr id="325" name="Group 59"/>
            <p:cNvGrpSpPr/>
            <p:nvPr/>
          </p:nvGrpSpPr>
          <p:grpSpPr>
            <a:xfrm>
              <a:off x="7265880" y="4439880"/>
              <a:ext cx="1116360" cy="724320"/>
              <a:chOff x="7265880" y="4439880"/>
              <a:chExt cx="1116360" cy="724320"/>
            </a:xfrm>
          </p:grpSpPr>
          <p:grpSp>
            <p:nvGrpSpPr>
              <p:cNvPr id="326" name="Group 60"/>
              <p:cNvGrpSpPr/>
              <p:nvPr/>
            </p:nvGrpSpPr>
            <p:grpSpPr>
              <a:xfrm>
                <a:off x="7385040" y="4659480"/>
                <a:ext cx="997200" cy="494640"/>
                <a:chOff x="7385040" y="4659480"/>
                <a:chExt cx="997200" cy="494640"/>
              </a:xfrm>
            </p:grpSpPr>
            <p:sp>
              <p:nvSpPr>
                <p:cNvPr id="327" name="AutoShape 61"/>
                <p:cNvSpPr/>
                <p:nvPr/>
              </p:nvSpPr>
              <p:spPr>
                <a:xfrm rot="16175400">
                  <a:off x="7925760" y="45946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62"/>
                <p:cNvSpPr/>
                <p:nvPr/>
              </p:nvSpPr>
              <p:spPr>
                <a:xfrm rot="16991400">
                  <a:off x="7804800" y="45907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63"/>
                <p:cNvSpPr/>
                <p:nvPr/>
              </p:nvSpPr>
              <p:spPr>
                <a:xfrm rot="17286600">
                  <a:off x="7737120" y="45705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64"/>
                <p:cNvSpPr/>
                <p:nvPr/>
              </p:nvSpPr>
              <p:spPr>
                <a:xfrm rot="17818800">
                  <a:off x="7657920" y="45432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65"/>
              <p:cNvGrpSpPr/>
              <p:nvPr/>
            </p:nvGrpSpPr>
            <p:grpSpPr>
              <a:xfrm>
                <a:off x="7265880" y="4439880"/>
                <a:ext cx="905400" cy="724320"/>
                <a:chOff x="7265880" y="4439880"/>
                <a:chExt cx="905400" cy="724320"/>
              </a:xfrm>
            </p:grpSpPr>
            <p:sp>
              <p:nvSpPr>
                <p:cNvPr id="332" name="AutoShape 66"/>
                <p:cNvSpPr/>
                <p:nvPr/>
              </p:nvSpPr>
              <p:spPr>
                <a:xfrm rot="17529600">
                  <a:off x="7706520" y="456336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3" name="AutoShape 67"/>
                <p:cNvSpPr/>
                <p:nvPr/>
              </p:nvSpPr>
              <p:spPr>
                <a:xfrm rot="18344400">
                  <a:off x="7596360" y="451296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68"/>
                <p:cNvSpPr/>
                <p:nvPr/>
              </p:nvSpPr>
              <p:spPr>
                <a:xfrm rot="18639600">
                  <a:off x="7542000" y="44686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69"/>
                <p:cNvSpPr/>
                <p:nvPr/>
              </p:nvSpPr>
              <p:spPr>
                <a:xfrm rot="19172400">
                  <a:off x="7479000" y="44128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70"/>
            <p:cNvGrpSpPr/>
            <p:nvPr/>
          </p:nvGrpSpPr>
          <p:grpSpPr>
            <a:xfrm>
              <a:off x="7353360" y="4512600"/>
              <a:ext cx="914400" cy="593640"/>
              <a:chOff x="7353360" y="4512600"/>
              <a:chExt cx="914400" cy="593640"/>
            </a:xfrm>
          </p:grpSpPr>
          <p:grpSp>
            <p:nvGrpSpPr>
              <p:cNvPr id="337" name="Group 71"/>
              <p:cNvGrpSpPr/>
              <p:nvPr/>
            </p:nvGrpSpPr>
            <p:grpSpPr>
              <a:xfrm>
                <a:off x="7450920" y="4692600"/>
                <a:ext cx="816840" cy="405000"/>
                <a:chOff x="7450920" y="4692600"/>
                <a:chExt cx="816840" cy="405000"/>
              </a:xfrm>
            </p:grpSpPr>
            <p:sp>
              <p:nvSpPr>
                <p:cNvPr id="338" name="AutoShape 72"/>
                <p:cNvSpPr/>
                <p:nvPr/>
              </p:nvSpPr>
              <p:spPr>
                <a:xfrm rot="16175400">
                  <a:off x="7893720" y="46396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73"/>
                <p:cNvSpPr/>
                <p:nvPr/>
              </p:nvSpPr>
              <p:spPr>
                <a:xfrm rot="16991400">
                  <a:off x="7794720" y="46360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74"/>
                <p:cNvSpPr/>
                <p:nvPr/>
              </p:nvSpPr>
              <p:spPr>
                <a:xfrm rot="17286600">
                  <a:off x="7739640" y="46198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75"/>
                <p:cNvSpPr/>
                <p:nvPr/>
              </p:nvSpPr>
              <p:spPr>
                <a:xfrm rot="17818800">
                  <a:off x="7674480" y="459720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76"/>
              <p:cNvGrpSpPr/>
              <p:nvPr/>
            </p:nvGrpSpPr>
            <p:grpSpPr>
              <a:xfrm>
                <a:off x="7353360" y="4512600"/>
                <a:ext cx="741600" cy="593640"/>
                <a:chOff x="7353360" y="4512600"/>
                <a:chExt cx="741600" cy="593640"/>
              </a:xfrm>
            </p:grpSpPr>
            <p:sp>
              <p:nvSpPr>
                <p:cNvPr id="343" name="AutoShape 77"/>
                <p:cNvSpPr/>
                <p:nvPr/>
              </p:nvSpPr>
              <p:spPr>
                <a:xfrm rot="17529600">
                  <a:off x="7714440" y="46137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4" name="AutoShape 78"/>
                <p:cNvSpPr/>
                <p:nvPr/>
              </p:nvSpPr>
              <p:spPr>
                <a:xfrm rot="18344400">
                  <a:off x="7623720" y="45727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79"/>
                <p:cNvSpPr/>
                <p:nvPr/>
              </p:nvSpPr>
              <p:spPr>
                <a:xfrm rot="18639600">
                  <a:off x="7579800" y="453600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46" name="AutoShape 80"/>
                <p:cNvSpPr/>
                <p:nvPr/>
              </p:nvSpPr>
              <p:spPr>
                <a:xfrm rot="19172400">
                  <a:off x="7527960" y="44906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7" name="Group 81"/>
          <p:cNvGrpSpPr/>
          <p:nvPr/>
        </p:nvGrpSpPr>
        <p:grpSpPr>
          <a:xfrm>
            <a:off x="6464520" y="1915200"/>
            <a:ext cx="1027800" cy="843120"/>
            <a:chOff x="6464520" y="1915200"/>
            <a:chExt cx="1027800" cy="843120"/>
          </a:xfrm>
        </p:grpSpPr>
        <p:grpSp>
          <p:nvGrpSpPr>
            <p:cNvPr id="348" name="Group 82"/>
            <p:cNvGrpSpPr/>
            <p:nvPr/>
          </p:nvGrpSpPr>
          <p:grpSpPr>
            <a:xfrm>
              <a:off x="6464520" y="1915200"/>
              <a:ext cx="1027800" cy="843120"/>
              <a:chOff x="6464520" y="1915200"/>
              <a:chExt cx="1027800" cy="843120"/>
            </a:xfrm>
          </p:grpSpPr>
          <p:grpSp>
            <p:nvGrpSpPr>
              <p:cNvPr id="349" name="Group 83"/>
              <p:cNvGrpSpPr/>
              <p:nvPr/>
            </p:nvGrpSpPr>
            <p:grpSpPr>
              <a:xfrm>
                <a:off x="6464520" y="1915200"/>
                <a:ext cx="966240" cy="615240"/>
                <a:chOff x="6464520" y="1915200"/>
                <a:chExt cx="966240" cy="615240"/>
              </a:xfrm>
            </p:grpSpPr>
            <p:sp>
              <p:nvSpPr>
                <p:cNvPr id="350" name="AutoShape 84"/>
                <p:cNvSpPr/>
                <p:nvPr/>
              </p:nvSpPr>
              <p:spPr>
                <a:xfrm rot="6093000">
                  <a:off x="6746040" y="17607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85"/>
                <p:cNvSpPr/>
                <p:nvPr/>
              </p:nvSpPr>
              <p:spPr>
                <a:xfrm rot="6907800">
                  <a:off x="6863760" y="17899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86"/>
                <p:cNvSpPr/>
                <p:nvPr/>
              </p:nvSpPr>
              <p:spPr>
                <a:xfrm rot="7203600">
                  <a:off x="6924960" y="18237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87"/>
                <p:cNvSpPr/>
                <p:nvPr/>
              </p:nvSpPr>
              <p:spPr>
                <a:xfrm rot="7735800">
                  <a:off x="6997320" y="18666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88"/>
              <p:cNvGrpSpPr/>
              <p:nvPr/>
            </p:nvGrpSpPr>
            <p:grpSpPr>
              <a:xfrm>
                <a:off x="6693120" y="1919880"/>
                <a:ext cx="799200" cy="838440"/>
                <a:chOff x="6693120" y="1919880"/>
                <a:chExt cx="799200" cy="838440"/>
              </a:xfrm>
            </p:grpSpPr>
            <p:sp>
              <p:nvSpPr>
                <p:cNvPr id="355" name="AutoShape 89"/>
                <p:cNvSpPr/>
                <p:nvPr/>
              </p:nvSpPr>
              <p:spPr>
                <a:xfrm rot="7446000">
                  <a:off x="6953040" y="18370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90"/>
                <p:cNvSpPr/>
                <p:nvPr/>
              </p:nvSpPr>
              <p:spPr>
                <a:xfrm rot="8261400">
                  <a:off x="7050600" y="19090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91"/>
                <p:cNvSpPr/>
                <p:nvPr/>
              </p:nvSpPr>
              <p:spPr>
                <a:xfrm rot="8557200">
                  <a:off x="7094160" y="19638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92"/>
                <p:cNvSpPr/>
                <p:nvPr/>
              </p:nvSpPr>
              <p:spPr>
                <a:xfrm rot="9089400">
                  <a:off x="7143840" y="203112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Group 93"/>
            <p:cNvGrpSpPr/>
            <p:nvPr/>
          </p:nvGrpSpPr>
          <p:grpSpPr>
            <a:xfrm>
              <a:off x="6575040" y="1983960"/>
              <a:ext cx="842400" cy="690120"/>
              <a:chOff x="6575040" y="1983960"/>
              <a:chExt cx="842400" cy="690120"/>
            </a:xfrm>
          </p:grpSpPr>
          <p:grpSp>
            <p:nvGrpSpPr>
              <p:cNvPr id="360" name="Group 94"/>
              <p:cNvGrpSpPr/>
              <p:nvPr/>
            </p:nvGrpSpPr>
            <p:grpSpPr>
              <a:xfrm>
                <a:off x="6575040" y="1983960"/>
                <a:ext cx="791640" cy="503640"/>
                <a:chOff x="6575040" y="1983960"/>
                <a:chExt cx="791640" cy="503640"/>
              </a:xfrm>
            </p:grpSpPr>
            <p:sp>
              <p:nvSpPr>
                <p:cNvPr id="361" name="AutoShape 95"/>
                <p:cNvSpPr/>
                <p:nvPr/>
              </p:nvSpPr>
              <p:spPr>
                <a:xfrm rot="6093000">
                  <a:off x="6805800" y="18572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2" name="AutoShape 96"/>
                <p:cNvSpPr/>
                <p:nvPr/>
              </p:nvSpPr>
              <p:spPr>
                <a:xfrm rot="6907800">
                  <a:off x="6902280" y="188136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97"/>
                <p:cNvSpPr/>
                <p:nvPr/>
              </p:nvSpPr>
              <p:spPr>
                <a:xfrm rot="7203600">
                  <a:off x="6952680" y="190836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98"/>
                <p:cNvSpPr/>
                <p:nvPr/>
              </p:nvSpPr>
              <p:spPr>
                <a:xfrm rot="7735800">
                  <a:off x="7011720" y="19436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99"/>
              <p:cNvGrpSpPr/>
              <p:nvPr/>
            </p:nvGrpSpPr>
            <p:grpSpPr>
              <a:xfrm>
                <a:off x="6762600" y="1987200"/>
                <a:ext cx="654840" cy="686880"/>
                <a:chOff x="6762600" y="1987200"/>
                <a:chExt cx="654840" cy="686880"/>
              </a:xfrm>
            </p:grpSpPr>
            <p:sp>
              <p:nvSpPr>
                <p:cNvPr id="366" name="AutoShape 100"/>
                <p:cNvSpPr/>
                <p:nvPr/>
              </p:nvSpPr>
              <p:spPr>
                <a:xfrm rot="7446000">
                  <a:off x="6975360" y="19195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101"/>
                <p:cNvSpPr/>
                <p:nvPr/>
              </p:nvSpPr>
              <p:spPr>
                <a:xfrm rot="8261400">
                  <a:off x="7055280" y="19785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102"/>
                <p:cNvSpPr/>
                <p:nvPr/>
              </p:nvSpPr>
              <p:spPr>
                <a:xfrm rot="8557200">
                  <a:off x="7091280" y="20235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103"/>
                <p:cNvSpPr/>
                <p:nvPr/>
              </p:nvSpPr>
              <p:spPr>
                <a:xfrm rot="9089400">
                  <a:off x="7132320" y="20786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Group 104"/>
          <p:cNvGrpSpPr/>
          <p:nvPr/>
        </p:nvGrpSpPr>
        <p:grpSpPr>
          <a:xfrm>
            <a:off x="7759800" y="3713040"/>
            <a:ext cx="971640" cy="905760"/>
            <a:chOff x="7759800" y="3713040"/>
            <a:chExt cx="971640" cy="905760"/>
          </a:xfrm>
        </p:grpSpPr>
        <p:grpSp>
          <p:nvGrpSpPr>
            <p:cNvPr id="371" name="Group 105"/>
            <p:cNvGrpSpPr/>
            <p:nvPr/>
          </p:nvGrpSpPr>
          <p:grpSpPr>
            <a:xfrm>
              <a:off x="7759800" y="3713040"/>
              <a:ext cx="971640" cy="905760"/>
              <a:chOff x="7759800" y="3713040"/>
              <a:chExt cx="971640" cy="905760"/>
            </a:xfrm>
          </p:grpSpPr>
          <p:grpSp>
            <p:nvGrpSpPr>
              <p:cNvPr id="372" name="Group 106"/>
              <p:cNvGrpSpPr/>
              <p:nvPr/>
            </p:nvGrpSpPr>
            <p:grpSpPr>
              <a:xfrm>
                <a:off x="7759800" y="3713040"/>
                <a:ext cx="937800" cy="677520"/>
                <a:chOff x="7759800" y="3713040"/>
                <a:chExt cx="937800" cy="677520"/>
              </a:xfrm>
            </p:grpSpPr>
            <p:sp>
              <p:nvSpPr>
                <p:cNvPr id="373" name="AutoShape 107"/>
                <p:cNvSpPr/>
                <p:nvPr/>
              </p:nvSpPr>
              <p:spPr>
                <a:xfrm rot="6436800">
                  <a:off x="8041680" y="357444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108"/>
                <p:cNvSpPr/>
                <p:nvPr/>
              </p:nvSpPr>
              <p:spPr>
                <a:xfrm rot="7251600">
                  <a:off x="8155800" y="361512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5" name="AutoShape 109"/>
                <p:cNvSpPr/>
                <p:nvPr/>
              </p:nvSpPr>
              <p:spPr>
                <a:xfrm rot="7547400">
                  <a:off x="8214120" y="365508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110"/>
                <p:cNvSpPr/>
                <p:nvPr/>
              </p:nvSpPr>
              <p:spPr>
                <a:xfrm rot="8079600">
                  <a:off x="8281080" y="370512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Group 111"/>
              <p:cNvGrpSpPr/>
              <p:nvPr/>
            </p:nvGrpSpPr>
            <p:grpSpPr>
              <a:xfrm>
                <a:off x="7994520" y="3730320"/>
                <a:ext cx="736920" cy="888480"/>
                <a:chOff x="7994520" y="3730320"/>
                <a:chExt cx="736920" cy="888480"/>
              </a:xfrm>
            </p:grpSpPr>
            <p:sp>
              <p:nvSpPr>
                <p:cNvPr id="378" name="AutoShape 112"/>
                <p:cNvSpPr/>
                <p:nvPr/>
              </p:nvSpPr>
              <p:spPr>
                <a:xfrm rot="7790400">
                  <a:off x="8240040" y="36709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13"/>
                <p:cNvSpPr/>
                <p:nvPr/>
              </p:nvSpPr>
              <p:spPr>
                <a:xfrm rot="8605200">
                  <a:off x="8330040" y="37526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114"/>
                <p:cNvSpPr/>
                <p:nvPr/>
              </p:nvSpPr>
              <p:spPr>
                <a:xfrm rot="8901000">
                  <a:off x="8368200" y="38113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15"/>
                <p:cNvSpPr/>
                <p:nvPr/>
              </p:nvSpPr>
              <p:spPr>
                <a:xfrm rot="9433200">
                  <a:off x="8411040" y="38833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116"/>
            <p:cNvGrpSpPr/>
            <p:nvPr/>
          </p:nvGrpSpPr>
          <p:grpSpPr>
            <a:xfrm>
              <a:off x="7867440" y="3789000"/>
              <a:ext cx="795960" cy="741600"/>
              <a:chOff x="7867440" y="3789000"/>
              <a:chExt cx="795960" cy="741600"/>
            </a:xfrm>
          </p:grpSpPr>
          <p:grpSp>
            <p:nvGrpSpPr>
              <p:cNvPr id="383" name="Group 117"/>
              <p:cNvGrpSpPr/>
              <p:nvPr/>
            </p:nvGrpSpPr>
            <p:grpSpPr>
              <a:xfrm>
                <a:off x="7867440" y="3789000"/>
                <a:ext cx="768240" cy="554400"/>
                <a:chOff x="7867440" y="3789000"/>
                <a:chExt cx="768240" cy="554400"/>
              </a:xfrm>
            </p:grpSpPr>
            <p:sp>
              <p:nvSpPr>
                <p:cNvPr id="384" name="AutoShape 118"/>
                <p:cNvSpPr/>
                <p:nvPr/>
              </p:nvSpPr>
              <p:spPr>
                <a:xfrm rot="6436800">
                  <a:off x="8098200" y="367524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119"/>
                <p:cNvSpPr/>
                <p:nvPr/>
              </p:nvSpPr>
              <p:spPr>
                <a:xfrm rot="7251600">
                  <a:off x="8192160" y="37087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120"/>
                <p:cNvSpPr/>
                <p:nvPr/>
              </p:nvSpPr>
              <p:spPr>
                <a:xfrm rot="7547400">
                  <a:off x="8239680" y="37411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121"/>
                <p:cNvSpPr/>
                <p:nvPr/>
              </p:nvSpPr>
              <p:spPr>
                <a:xfrm rot="8079600">
                  <a:off x="8294400" y="378216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122"/>
              <p:cNvGrpSpPr/>
              <p:nvPr/>
            </p:nvGrpSpPr>
            <p:grpSpPr>
              <a:xfrm>
                <a:off x="8059680" y="3803040"/>
                <a:ext cx="603720" cy="727560"/>
                <a:chOff x="8059680" y="3803040"/>
                <a:chExt cx="603720" cy="727560"/>
              </a:xfrm>
            </p:grpSpPr>
            <p:sp>
              <p:nvSpPr>
                <p:cNvPr id="389" name="AutoShape 123"/>
                <p:cNvSpPr/>
                <p:nvPr/>
              </p:nvSpPr>
              <p:spPr>
                <a:xfrm rot="7790400">
                  <a:off x="8260920" y="375408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124"/>
                <p:cNvSpPr/>
                <p:nvPr/>
              </p:nvSpPr>
              <p:spPr>
                <a:xfrm rot="8605200">
                  <a:off x="8334720" y="382104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125"/>
                <p:cNvSpPr/>
                <p:nvPr/>
              </p:nvSpPr>
              <p:spPr>
                <a:xfrm rot="8901000">
                  <a:off x="8366040" y="386928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126"/>
                <p:cNvSpPr/>
                <p:nvPr/>
              </p:nvSpPr>
              <p:spPr>
                <a:xfrm rot="9433200">
                  <a:off x="8401320" y="39283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127"/>
          <p:cNvGrpSpPr/>
          <p:nvPr/>
        </p:nvGrpSpPr>
        <p:grpSpPr>
          <a:xfrm>
            <a:off x="5349240" y="3693960"/>
            <a:ext cx="1021320" cy="920880"/>
            <a:chOff x="5349240" y="3693960"/>
            <a:chExt cx="1021320" cy="920880"/>
          </a:xfrm>
        </p:grpSpPr>
        <p:grpSp>
          <p:nvGrpSpPr>
            <p:cNvPr id="394" name="Group 128"/>
            <p:cNvGrpSpPr/>
            <p:nvPr/>
          </p:nvGrpSpPr>
          <p:grpSpPr>
            <a:xfrm>
              <a:off x="5349240" y="3693960"/>
              <a:ext cx="981720" cy="893880"/>
              <a:chOff x="5349240" y="3693960"/>
              <a:chExt cx="981720" cy="893880"/>
            </a:xfrm>
          </p:grpSpPr>
          <p:grpSp>
            <p:nvGrpSpPr>
              <p:cNvPr id="395" name="Group 129"/>
              <p:cNvGrpSpPr/>
              <p:nvPr/>
            </p:nvGrpSpPr>
            <p:grpSpPr>
              <a:xfrm>
                <a:off x="5349240" y="3693960"/>
                <a:ext cx="981720" cy="893880"/>
                <a:chOff x="5349240" y="3693960"/>
                <a:chExt cx="981720" cy="893880"/>
              </a:xfrm>
            </p:grpSpPr>
            <p:grpSp>
              <p:nvGrpSpPr>
                <p:cNvPr id="396" name="Group 130"/>
                <p:cNvGrpSpPr/>
                <p:nvPr/>
              </p:nvGrpSpPr>
              <p:grpSpPr>
                <a:xfrm>
                  <a:off x="5349240" y="3693960"/>
                  <a:ext cx="943200" cy="665640"/>
                  <a:chOff x="5349240" y="3693960"/>
                  <a:chExt cx="943200" cy="665640"/>
                </a:xfrm>
              </p:grpSpPr>
              <p:sp>
                <p:nvSpPr>
                  <p:cNvPr id="397" name="AutoShape 131"/>
                  <p:cNvSpPr/>
                  <p:nvPr/>
                </p:nvSpPr>
                <p:spPr>
                  <a:xfrm rot="6373800">
                    <a:off x="5631840" y="355284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32"/>
                  <p:cNvSpPr/>
                  <p:nvPr/>
                </p:nvSpPr>
                <p:spPr>
                  <a:xfrm rot="7189200">
                    <a:off x="5746320" y="359100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33"/>
                  <p:cNvSpPr/>
                  <p:nvPr/>
                </p:nvSpPr>
                <p:spPr>
                  <a:xfrm rot="7484400">
                    <a:off x="5805000" y="36298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34"/>
                  <p:cNvSpPr/>
                  <p:nvPr/>
                </p:nvSpPr>
                <p:spPr>
                  <a:xfrm rot="8017200">
                    <a:off x="5873400" y="36784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135"/>
                <p:cNvGrpSpPr/>
                <p:nvPr/>
              </p:nvGrpSpPr>
              <p:grpSpPr>
                <a:xfrm>
                  <a:off x="5583240" y="3708720"/>
                  <a:ext cx="747720" cy="879120"/>
                  <a:chOff x="5583240" y="3708720"/>
                  <a:chExt cx="747720" cy="879120"/>
                </a:xfrm>
              </p:grpSpPr>
              <p:sp>
                <p:nvSpPr>
                  <p:cNvPr id="402" name="AutoShape 136"/>
                  <p:cNvSpPr/>
                  <p:nvPr/>
                </p:nvSpPr>
                <p:spPr>
                  <a:xfrm rot="7727400">
                    <a:off x="5831640" y="364500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AutoShape 137"/>
                  <p:cNvSpPr/>
                  <p:nvPr/>
                </p:nvSpPr>
                <p:spPr>
                  <a:xfrm rot="8542800">
                    <a:off x="5923080" y="372492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AutoShape 138"/>
                  <p:cNvSpPr/>
                  <p:nvPr/>
                </p:nvSpPr>
                <p:spPr>
                  <a:xfrm rot="8838000">
                    <a:off x="5962320" y="378324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139"/>
                  <p:cNvSpPr/>
                  <p:nvPr/>
                </p:nvSpPr>
                <p:spPr>
                  <a:xfrm rot="9370800">
                    <a:off x="6006600" y="38541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6" name="Group 140"/>
              <p:cNvGrpSpPr/>
              <p:nvPr/>
            </p:nvGrpSpPr>
            <p:grpSpPr>
              <a:xfrm>
                <a:off x="5457600" y="3768480"/>
                <a:ext cx="804240" cy="731520"/>
                <a:chOff x="5457600" y="3768480"/>
                <a:chExt cx="804240" cy="731520"/>
              </a:xfrm>
            </p:grpSpPr>
            <p:grpSp>
              <p:nvGrpSpPr>
                <p:cNvPr id="407" name="Group 141"/>
                <p:cNvGrpSpPr/>
                <p:nvPr/>
              </p:nvGrpSpPr>
              <p:grpSpPr>
                <a:xfrm>
                  <a:off x="5457600" y="3768480"/>
                  <a:ext cx="772560" cy="544320"/>
                  <a:chOff x="5457600" y="3768480"/>
                  <a:chExt cx="772560" cy="544320"/>
                </a:xfrm>
              </p:grpSpPr>
              <p:sp>
                <p:nvSpPr>
                  <p:cNvPr id="408" name="AutoShape 142"/>
                  <p:cNvSpPr/>
                  <p:nvPr/>
                </p:nvSpPr>
                <p:spPr>
                  <a:xfrm rot="6373800">
                    <a:off x="5688720" y="36525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utoShape 143"/>
                  <p:cNvSpPr/>
                  <p:nvPr/>
                </p:nvSpPr>
                <p:spPr>
                  <a:xfrm rot="7189200">
                    <a:off x="5783040" y="368388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144"/>
                  <p:cNvSpPr/>
                  <p:nvPr/>
                </p:nvSpPr>
                <p:spPr>
                  <a:xfrm rot="7484400">
                    <a:off x="5830920" y="371520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AutoShape 145"/>
                  <p:cNvSpPr/>
                  <p:nvPr/>
                </p:nvSpPr>
                <p:spPr>
                  <a:xfrm rot="8017200">
                    <a:off x="5887080" y="37551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146"/>
                <p:cNvGrpSpPr/>
                <p:nvPr/>
              </p:nvGrpSpPr>
              <p:grpSpPr>
                <a:xfrm>
                  <a:off x="5649120" y="3780360"/>
                  <a:ext cx="612720" cy="719640"/>
                  <a:chOff x="5649120" y="3780360"/>
                  <a:chExt cx="612720" cy="719640"/>
                </a:xfrm>
              </p:grpSpPr>
              <p:sp>
                <p:nvSpPr>
                  <p:cNvPr id="413" name="AutoShape 147"/>
                  <p:cNvSpPr/>
                  <p:nvPr/>
                </p:nvSpPr>
                <p:spPr>
                  <a:xfrm rot="7727400">
                    <a:off x="5852880" y="372780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utoShape 148"/>
                  <p:cNvSpPr/>
                  <p:nvPr/>
                </p:nvSpPr>
                <p:spPr>
                  <a:xfrm rot="8542800">
                    <a:off x="5927400" y="379332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149"/>
                  <p:cNvSpPr/>
                  <p:nvPr/>
                </p:nvSpPr>
                <p:spPr>
                  <a:xfrm rot="8838000">
                    <a:off x="5959800" y="384084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utoShape 150"/>
                  <p:cNvSpPr/>
                  <p:nvPr/>
                </p:nvSpPr>
                <p:spPr>
                  <a:xfrm rot="9370800">
                    <a:off x="5996160" y="389916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7" name="Group 151"/>
            <p:cNvGrpSpPr/>
            <p:nvPr/>
          </p:nvGrpSpPr>
          <p:grpSpPr>
            <a:xfrm>
              <a:off x="5388480" y="3721320"/>
              <a:ext cx="982080" cy="893520"/>
              <a:chOff x="5388480" y="3721320"/>
              <a:chExt cx="982080" cy="893520"/>
            </a:xfrm>
          </p:grpSpPr>
          <p:grpSp>
            <p:nvGrpSpPr>
              <p:cNvPr id="418" name="Group 152"/>
              <p:cNvGrpSpPr/>
              <p:nvPr/>
            </p:nvGrpSpPr>
            <p:grpSpPr>
              <a:xfrm>
                <a:off x="5388480" y="3721320"/>
                <a:ext cx="982080" cy="893520"/>
                <a:chOff x="5388480" y="3721320"/>
                <a:chExt cx="982080" cy="893520"/>
              </a:xfrm>
            </p:grpSpPr>
            <p:grpSp>
              <p:nvGrpSpPr>
                <p:cNvPr id="419" name="Group 153"/>
                <p:cNvGrpSpPr/>
                <p:nvPr/>
              </p:nvGrpSpPr>
              <p:grpSpPr>
                <a:xfrm>
                  <a:off x="5388480" y="3721320"/>
                  <a:ext cx="943560" cy="665640"/>
                  <a:chOff x="5388480" y="3721320"/>
                  <a:chExt cx="943560" cy="665640"/>
                </a:xfrm>
              </p:grpSpPr>
              <p:sp>
                <p:nvSpPr>
                  <p:cNvPr id="420" name="AutoShape 154"/>
                  <p:cNvSpPr/>
                  <p:nvPr/>
                </p:nvSpPr>
                <p:spPr>
                  <a:xfrm rot="6373800">
                    <a:off x="5671080" y="358020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155"/>
                  <p:cNvSpPr/>
                  <p:nvPr/>
                </p:nvSpPr>
                <p:spPr>
                  <a:xfrm rot="7189200">
                    <a:off x="5785920" y="361836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AutoShape 156"/>
                  <p:cNvSpPr/>
                  <p:nvPr/>
                </p:nvSpPr>
                <p:spPr>
                  <a:xfrm rot="7484400">
                    <a:off x="5844600" y="36568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157"/>
                  <p:cNvSpPr/>
                  <p:nvPr/>
                </p:nvSpPr>
                <p:spPr>
                  <a:xfrm rot="8017200">
                    <a:off x="5913000" y="370584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158"/>
                <p:cNvGrpSpPr/>
                <p:nvPr/>
              </p:nvGrpSpPr>
              <p:grpSpPr>
                <a:xfrm>
                  <a:off x="5622840" y="3736080"/>
                  <a:ext cx="747720" cy="878760"/>
                  <a:chOff x="5622840" y="3736080"/>
                  <a:chExt cx="747720" cy="878760"/>
                </a:xfrm>
              </p:grpSpPr>
              <p:sp>
                <p:nvSpPr>
                  <p:cNvPr id="425" name="AutoShape 159"/>
                  <p:cNvSpPr/>
                  <p:nvPr/>
                </p:nvSpPr>
                <p:spPr>
                  <a:xfrm rot="7727400">
                    <a:off x="5871240" y="36723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AutoShape 160"/>
                  <p:cNvSpPr/>
                  <p:nvPr/>
                </p:nvSpPr>
                <p:spPr>
                  <a:xfrm rot="8542800">
                    <a:off x="5962680" y="375228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utoShape 161"/>
                  <p:cNvSpPr/>
                  <p:nvPr/>
                </p:nvSpPr>
                <p:spPr>
                  <a:xfrm rot="8838000">
                    <a:off x="6001560" y="381060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162"/>
                  <p:cNvSpPr/>
                  <p:nvPr/>
                </p:nvSpPr>
                <p:spPr>
                  <a:xfrm rot="9370800">
                    <a:off x="6046200" y="38811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9" name="Group 163"/>
              <p:cNvGrpSpPr/>
              <p:nvPr/>
            </p:nvGrpSpPr>
            <p:grpSpPr>
              <a:xfrm>
                <a:off x="5497200" y="3795840"/>
                <a:ext cx="803880" cy="731520"/>
                <a:chOff x="5497200" y="3795840"/>
                <a:chExt cx="803880" cy="731520"/>
              </a:xfrm>
            </p:grpSpPr>
            <p:grpSp>
              <p:nvGrpSpPr>
                <p:cNvPr id="430" name="Group 164"/>
                <p:cNvGrpSpPr/>
                <p:nvPr/>
              </p:nvGrpSpPr>
              <p:grpSpPr>
                <a:xfrm>
                  <a:off x="5497200" y="3795840"/>
                  <a:ext cx="772560" cy="544320"/>
                  <a:chOff x="5497200" y="3795840"/>
                  <a:chExt cx="772560" cy="544320"/>
                </a:xfrm>
              </p:grpSpPr>
              <p:sp>
                <p:nvSpPr>
                  <p:cNvPr id="431" name="AutoShape 165"/>
                  <p:cNvSpPr/>
                  <p:nvPr/>
                </p:nvSpPr>
                <p:spPr>
                  <a:xfrm rot="6373800">
                    <a:off x="5728320" y="367992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AutoShape 166"/>
                  <p:cNvSpPr/>
                  <p:nvPr/>
                </p:nvSpPr>
                <p:spPr>
                  <a:xfrm rot="7189200">
                    <a:off x="5822280" y="371124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AutoShape 167"/>
                  <p:cNvSpPr/>
                  <p:nvPr/>
                </p:nvSpPr>
                <p:spPr>
                  <a:xfrm rot="7484400">
                    <a:off x="5870520" y="37425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AutoShape 168"/>
                  <p:cNvSpPr/>
                  <p:nvPr/>
                </p:nvSpPr>
                <p:spPr>
                  <a:xfrm rot="8017200">
                    <a:off x="5926680" y="378252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69"/>
                <p:cNvGrpSpPr/>
                <p:nvPr/>
              </p:nvGrpSpPr>
              <p:grpSpPr>
                <a:xfrm>
                  <a:off x="5688720" y="3807720"/>
                  <a:ext cx="612360" cy="719640"/>
                  <a:chOff x="5688720" y="3807720"/>
                  <a:chExt cx="612360" cy="719640"/>
                </a:xfrm>
              </p:grpSpPr>
              <p:sp>
                <p:nvSpPr>
                  <p:cNvPr id="436" name="AutoShape 170"/>
                  <p:cNvSpPr/>
                  <p:nvPr/>
                </p:nvSpPr>
                <p:spPr>
                  <a:xfrm rot="7727400">
                    <a:off x="5892480" y="375516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AutoShape 171"/>
                  <p:cNvSpPr/>
                  <p:nvPr/>
                </p:nvSpPr>
                <p:spPr>
                  <a:xfrm rot="8542800">
                    <a:off x="5967000" y="382068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AutoShape 172"/>
                  <p:cNvSpPr/>
                  <p:nvPr/>
                </p:nvSpPr>
                <p:spPr>
                  <a:xfrm rot="8838000">
                    <a:off x="5999400" y="386820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AutoShape 173"/>
                  <p:cNvSpPr/>
                  <p:nvPr/>
                </p:nvSpPr>
                <p:spPr>
                  <a:xfrm rot="9370800">
                    <a:off x="6035400" y="392652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0" name="Rectangle 174"/>
          <p:cNvSpPr/>
          <p:nvPr/>
        </p:nvSpPr>
        <p:spPr>
          <a:xfrm>
            <a:off x="442800" y="2971800"/>
            <a:ext cx="1169640" cy="76644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Rectangle 175"/>
          <p:cNvSpPr/>
          <p:nvPr/>
        </p:nvSpPr>
        <p:spPr>
          <a:xfrm>
            <a:off x="442800" y="3765600"/>
            <a:ext cx="1169640" cy="7664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Rectangle 176"/>
          <p:cNvSpPr/>
          <p:nvPr/>
        </p:nvSpPr>
        <p:spPr>
          <a:xfrm>
            <a:off x="442800" y="4565520"/>
            <a:ext cx="1169640" cy="76644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Rectangle 178"/>
          <p:cNvSpPr/>
          <p:nvPr/>
        </p:nvSpPr>
        <p:spPr>
          <a:xfrm>
            <a:off x="562320" y="3152880"/>
            <a:ext cx="92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79"/>
          <p:cNvSpPr/>
          <p:nvPr/>
        </p:nvSpPr>
        <p:spPr>
          <a:xfrm>
            <a:off x="529200" y="3981600"/>
            <a:ext cx="99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80"/>
          <p:cNvSpPr/>
          <p:nvPr/>
        </p:nvSpPr>
        <p:spPr>
          <a:xfrm>
            <a:off x="416520" y="477216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1"/>
          <p:cNvSpPr/>
          <p:nvPr/>
        </p:nvSpPr>
        <p:spPr>
          <a:xfrm>
            <a:off x="1692360" y="308916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2"/>
          <p:cNvSpPr/>
          <p:nvPr/>
        </p:nvSpPr>
        <p:spPr>
          <a:xfrm>
            <a:off x="1692360" y="387828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3"/>
          <p:cNvSpPr/>
          <p:nvPr/>
        </p:nvSpPr>
        <p:spPr>
          <a:xfrm>
            <a:off x="1692360" y="468792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4"/>
          <p:cNvSpPr/>
          <p:nvPr/>
        </p:nvSpPr>
        <p:spPr>
          <a:xfrm>
            <a:off x="6253200" y="2427120"/>
            <a:ext cx="92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5"/>
          <p:cNvSpPr/>
          <p:nvPr/>
        </p:nvSpPr>
        <p:spPr>
          <a:xfrm>
            <a:off x="5109120" y="4255920"/>
            <a:ext cx="99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86"/>
          <p:cNvSpPr/>
          <p:nvPr/>
        </p:nvSpPr>
        <p:spPr>
          <a:xfrm>
            <a:off x="7385760" y="423720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90"/>
          <p:cNvSpPr/>
          <p:nvPr/>
        </p:nvSpPr>
        <p:spPr>
          <a:xfrm>
            <a:off x="560520" y="2395440"/>
            <a:ext cx="409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1"/>
          <p:cNvSpPr/>
          <p:nvPr/>
        </p:nvSpPr>
        <p:spPr>
          <a:xfrm>
            <a:off x="716040" y="1941480"/>
            <a:ext cx="3668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 flipH="1">
            <a:off x="5102280" y="2655720"/>
            <a:ext cx="2437920" cy="657000"/>
          </a:xfrm>
          <a:prstGeom prst="parallelogram">
            <a:avLst>
              <a:gd name="adj" fmla="val 92256"/>
            </a:avLst>
          </a:prstGeom>
          <a:gradFill rotWithShape="0">
            <a:gsLst>
              <a:gs pos="0">
                <a:srgbClr val="bfcfd3"/>
              </a:gs>
              <a:gs pos="100000">
                <a:srgbClr val="dce5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5705640" y="3303720"/>
            <a:ext cx="1834920" cy="14284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903840" y="3805200"/>
            <a:ext cx="1806120" cy="129204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079720" y="4253040"/>
            <a:ext cx="1825200" cy="11170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 flipH="1">
            <a:off x="1476360" y="3673440"/>
            <a:ext cx="2428560" cy="615600"/>
          </a:xfrm>
          <a:prstGeom prst="parallelogram">
            <a:avLst>
              <a:gd name="adj" fmla="val 98582"/>
            </a:avLst>
          </a:prstGeom>
          <a:gradFill rotWithShape="0">
            <a:gsLst>
              <a:gs pos="0">
                <a:srgbClr val="bfcfd3"/>
              </a:gs>
              <a:gs pos="100000">
                <a:srgbClr val="d6e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0" name="Freeform 9"/>
          <p:cNvSpPr/>
          <p:nvPr/>
        </p:nvSpPr>
        <p:spPr>
          <a:xfrm>
            <a:off x="3295800" y="316548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85f61"/>
              </a:gs>
              <a:gs pos="100000">
                <a:srgbClr val="bfcf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Freeform 10"/>
          <p:cNvSpPr/>
          <p:nvPr/>
        </p:nvSpPr>
        <p:spPr>
          <a:xfrm>
            <a:off x="1474920" y="3656160"/>
            <a:ext cx="612360" cy="1456920"/>
          </a:xfrm>
          <a:custGeom>
            <a:avLst/>
            <a:gdLst>
              <a:gd name="textAreaLeft" fmla="*/ 0 w 612360"/>
              <a:gd name="textAreaRight" fmla="*/ 612720 w 6123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86" h="918">
                <a:moveTo>
                  <a:pt x="1" y="492"/>
                </a:moveTo>
                <a:lnTo>
                  <a:pt x="385" y="918"/>
                </a:lnTo>
                <a:lnTo>
                  <a:pt x="386" y="402"/>
                </a:lnTo>
                <a:lnTo>
                  <a:pt x="0" y="0"/>
                </a:lnTo>
                <a:lnTo>
                  <a:pt x="1" y="492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 flipH="1">
            <a:off x="1476360" y="3673440"/>
            <a:ext cx="2428560" cy="615600"/>
          </a:xfrm>
          <a:prstGeom prst="parallelogram">
            <a:avLst>
              <a:gd name="adj" fmla="val 98582"/>
            </a:avLst>
          </a:prstGeom>
          <a:gradFill rotWithShape="0">
            <a:gsLst>
              <a:gs pos="0">
                <a:srgbClr val="bfcfd3"/>
              </a:gs>
              <a:gs pos="100000">
                <a:srgbClr val="d6e0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 flipH="1">
            <a:off x="3289320" y="3164040"/>
            <a:ext cx="2428560" cy="645840"/>
          </a:xfrm>
          <a:prstGeom prst="parallelogram">
            <a:avLst>
              <a:gd name="adj" fmla="val 96330"/>
            </a:avLst>
          </a:prstGeom>
          <a:gradFill rotWithShape="0">
            <a:gsLst>
              <a:gs pos="0">
                <a:srgbClr val="bfcfd3"/>
              </a:gs>
              <a:gs pos="100000">
                <a:srgbClr val="dce5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Freeform 13"/>
          <p:cNvSpPr/>
          <p:nvPr/>
        </p:nvSpPr>
        <p:spPr>
          <a:xfrm>
            <a:off x="3295800" y="3165480"/>
            <a:ext cx="612360" cy="1130040"/>
          </a:xfrm>
          <a:custGeom>
            <a:avLst/>
            <a:gdLst>
              <a:gd name="textAreaLeft" fmla="*/ 0 w 612360"/>
              <a:gd name="textAreaRight" fmla="*/ 612720 w 61236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85f61"/>
              </a:gs>
              <a:gs pos="100000">
                <a:srgbClr val="bfcf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Freeform 14"/>
          <p:cNvSpPr/>
          <p:nvPr/>
        </p:nvSpPr>
        <p:spPr>
          <a:xfrm>
            <a:off x="5099040" y="2643120"/>
            <a:ext cx="615600" cy="1168200"/>
          </a:xfrm>
          <a:custGeom>
            <a:avLst/>
            <a:gdLst>
              <a:gd name="textAreaLeft" fmla="*/ 0 w 615600"/>
              <a:gd name="textAreaRight" fmla="*/ 615960 w 61560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388" h="736">
                <a:moveTo>
                  <a:pt x="0" y="331"/>
                </a:moveTo>
                <a:lnTo>
                  <a:pt x="388" y="736"/>
                </a:lnTo>
                <a:lnTo>
                  <a:pt x="388" y="416"/>
                </a:lnTo>
                <a:lnTo>
                  <a:pt x="0" y="0"/>
                </a:lnTo>
                <a:lnTo>
                  <a:pt x="0" y="331"/>
                </a:lnTo>
                <a:close/>
              </a:path>
            </a:pathLst>
          </a:custGeom>
          <a:gradFill rotWithShape="0">
            <a:gsLst>
              <a:gs pos="0">
                <a:srgbClr val="585f61"/>
              </a:gs>
              <a:gs pos="100000">
                <a:srgbClr val="bfcfd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66" name="Group 15"/>
          <p:cNvGrpSpPr/>
          <p:nvPr/>
        </p:nvGrpSpPr>
        <p:grpSpPr>
          <a:xfrm>
            <a:off x="6418440" y="5097600"/>
            <a:ext cx="2291760" cy="1094760"/>
            <a:chOff x="6418440" y="5097600"/>
            <a:chExt cx="2291760" cy="1094760"/>
          </a:xfrm>
        </p:grpSpPr>
        <p:pic>
          <p:nvPicPr>
            <p:cNvPr id="467" name="Picture 16" descr="best-10013_ss"/>
            <p:cNvPicPr/>
            <p:nvPr/>
          </p:nvPicPr>
          <p:blipFill>
            <a:blip r:embed="rId1"/>
            <a:stretch/>
          </p:blipFill>
          <p:spPr>
            <a:xfrm>
              <a:off x="6418440" y="5582160"/>
              <a:ext cx="222120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7" descr="best-10013-1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6463440" y="5097600"/>
              <a:ext cx="2246760" cy="101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9" name="Picture 18" descr="light_shadow"/>
          <p:cNvPicPr/>
          <p:nvPr/>
        </p:nvPicPr>
        <p:blipFill>
          <a:blip r:embed="rId3"/>
          <a:stretch/>
        </p:blipFill>
        <p:spPr>
          <a:xfrm>
            <a:off x="2038320" y="3895560"/>
            <a:ext cx="1007640" cy="156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light_shadow"/>
          <p:cNvPicPr/>
          <p:nvPr/>
        </p:nvPicPr>
        <p:blipFill>
          <a:blip r:embed="rId4"/>
          <a:stretch/>
        </p:blipFill>
        <p:spPr>
          <a:xfrm>
            <a:off x="3881520" y="3392640"/>
            <a:ext cx="1007640" cy="156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0" descr="light_shadow"/>
          <p:cNvPicPr/>
          <p:nvPr/>
        </p:nvPicPr>
        <p:blipFill>
          <a:blip r:embed="rId5"/>
          <a:stretch/>
        </p:blipFill>
        <p:spPr>
          <a:xfrm>
            <a:off x="5810400" y="2900520"/>
            <a:ext cx="1007640" cy="1569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1" descr="circuler_1"/>
          <p:cNvPicPr/>
          <p:nvPr/>
        </p:nvPicPr>
        <p:blipFill>
          <a:blip r:embed="rId6"/>
          <a:stretch/>
        </p:blipFill>
        <p:spPr>
          <a:xfrm>
            <a:off x="1846440" y="2541600"/>
            <a:ext cx="1348920" cy="1341000"/>
          </a:xfrm>
          <a:prstGeom prst="rect">
            <a:avLst/>
          </a:prstGeom>
          <a:ln w="0">
            <a:noFill/>
          </a:ln>
        </p:spPr>
      </p:pic>
      <p:sp>
        <p:nvSpPr>
          <p:cNvPr id="473" name="Oval 22"/>
          <p:cNvSpPr/>
          <p:nvPr/>
        </p:nvSpPr>
        <p:spPr>
          <a:xfrm>
            <a:off x="1846440" y="2541600"/>
            <a:ext cx="1352160" cy="1344240"/>
          </a:xfrm>
          <a:prstGeom prst="ellipse">
            <a:avLst/>
          </a:prstGeom>
          <a:gradFill rotWithShape="0">
            <a:gsLst>
              <a:gs pos="0">
                <a:srgbClr val="ee3516">
                  <a:alpha val="50196"/>
                </a:srgbClr>
              </a:gs>
              <a:gs pos="100000">
                <a:srgbClr val="851d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74" name="Picture 23" descr="light_shadow1"/>
          <p:cNvPicPr/>
          <p:nvPr/>
        </p:nvPicPr>
        <p:blipFill>
          <a:blip r:embed="rId7"/>
          <a:srcRect l="0" t="14302" r="0" b="0"/>
          <a:stretch/>
        </p:blipFill>
        <p:spPr>
          <a:xfrm>
            <a:off x="1824120" y="2585880"/>
            <a:ext cx="982440" cy="83772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24"/>
          <p:cNvGrpSpPr/>
          <p:nvPr/>
        </p:nvGrpSpPr>
        <p:grpSpPr>
          <a:xfrm>
            <a:off x="2273760" y="3242520"/>
            <a:ext cx="915120" cy="665640"/>
            <a:chOff x="2273760" y="3242520"/>
            <a:chExt cx="915120" cy="665640"/>
          </a:xfrm>
        </p:grpSpPr>
        <p:grpSp>
          <p:nvGrpSpPr>
            <p:cNvPr id="476" name="Group 25"/>
            <p:cNvGrpSpPr/>
            <p:nvPr/>
          </p:nvGrpSpPr>
          <p:grpSpPr>
            <a:xfrm>
              <a:off x="2455200" y="3242520"/>
              <a:ext cx="733680" cy="665640"/>
              <a:chOff x="2455200" y="3242520"/>
              <a:chExt cx="733680" cy="665640"/>
            </a:xfrm>
          </p:grpSpPr>
          <p:sp>
            <p:nvSpPr>
              <p:cNvPr id="477" name="AutoShape 26"/>
              <p:cNvSpPr/>
              <p:nvPr/>
            </p:nvSpPr>
            <p:spPr>
              <a:xfrm rot="12960600">
                <a:off x="2850840" y="323568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8" name="AutoShape 27"/>
              <p:cNvSpPr/>
              <p:nvPr/>
            </p:nvSpPr>
            <p:spPr>
              <a:xfrm rot="13776000">
                <a:off x="2787480" y="331560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9" name="AutoShape 28"/>
              <p:cNvSpPr/>
              <p:nvPr/>
            </p:nvSpPr>
            <p:spPr>
              <a:xfrm rot="14071800">
                <a:off x="2739240" y="334980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0" name="AutoShape 29"/>
              <p:cNvSpPr/>
              <p:nvPr/>
            </p:nvSpPr>
            <p:spPr>
              <a:xfrm rot="14604000">
                <a:off x="2679120" y="338832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30"/>
            <p:cNvGrpSpPr/>
            <p:nvPr/>
          </p:nvGrpSpPr>
          <p:grpSpPr>
            <a:xfrm>
              <a:off x="2273760" y="3434400"/>
              <a:ext cx="833400" cy="468360"/>
              <a:chOff x="2273760" y="3434400"/>
              <a:chExt cx="833400" cy="468360"/>
            </a:xfrm>
          </p:grpSpPr>
          <p:sp>
            <p:nvSpPr>
              <p:cNvPr id="482" name="AutoShape 31"/>
              <p:cNvSpPr/>
              <p:nvPr/>
            </p:nvSpPr>
            <p:spPr>
              <a:xfrm rot="14314200">
                <a:off x="2712600" y="336348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3" name="AutoShape 32"/>
              <p:cNvSpPr/>
              <p:nvPr/>
            </p:nvSpPr>
            <p:spPr>
              <a:xfrm rot="15129600">
                <a:off x="2624040" y="341316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4" name="AutoShape 33"/>
              <p:cNvSpPr/>
              <p:nvPr/>
            </p:nvSpPr>
            <p:spPr>
              <a:xfrm rot="15425400">
                <a:off x="2566080" y="342540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5" name="AutoShape 34"/>
              <p:cNvSpPr/>
              <p:nvPr/>
            </p:nvSpPr>
            <p:spPr>
              <a:xfrm rot="15957600">
                <a:off x="2495880" y="343800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pic>
        <p:nvPicPr>
          <p:cNvPr id="486" name="Picture 35" descr="circuler_1"/>
          <p:cNvPicPr/>
          <p:nvPr/>
        </p:nvPicPr>
        <p:blipFill>
          <a:blip r:embed="rId8"/>
          <a:stretch/>
        </p:blipFill>
        <p:spPr>
          <a:xfrm>
            <a:off x="3684600" y="2019240"/>
            <a:ext cx="1348920" cy="1341000"/>
          </a:xfrm>
          <a:prstGeom prst="rect">
            <a:avLst/>
          </a:prstGeom>
          <a:ln w="0">
            <a:noFill/>
          </a:ln>
        </p:spPr>
      </p:pic>
      <p:sp>
        <p:nvSpPr>
          <p:cNvPr id="487" name="Oval 36"/>
          <p:cNvSpPr/>
          <p:nvPr/>
        </p:nvSpPr>
        <p:spPr>
          <a:xfrm>
            <a:off x="3684600" y="2019240"/>
            <a:ext cx="1352160" cy="1344240"/>
          </a:xfrm>
          <a:prstGeom prst="ellipse">
            <a:avLst/>
          </a:prstGeom>
          <a:gradFill rotWithShape="0">
            <a:gsLst>
              <a:gs pos="0">
                <a:srgbClr val="f3bd33">
                  <a:alpha val="68235"/>
                </a:srgbClr>
              </a:gs>
              <a:gs pos="100000">
                <a:srgbClr val="3f31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88" name="Picture 37" descr="light_shadow1"/>
          <p:cNvPicPr/>
          <p:nvPr/>
        </p:nvPicPr>
        <p:blipFill>
          <a:blip r:embed="rId9"/>
          <a:srcRect l="0" t="14302" r="0" b="0"/>
          <a:stretch/>
        </p:blipFill>
        <p:spPr>
          <a:xfrm>
            <a:off x="3662280" y="2063880"/>
            <a:ext cx="982440" cy="83772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38"/>
          <p:cNvGrpSpPr/>
          <p:nvPr/>
        </p:nvGrpSpPr>
        <p:grpSpPr>
          <a:xfrm>
            <a:off x="4110480" y="2720880"/>
            <a:ext cx="915840" cy="665640"/>
            <a:chOff x="4110480" y="2720880"/>
            <a:chExt cx="915840" cy="665640"/>
          </a:xfrm>
        </p:grpSpPr>
        <p:grpSp>
          <p:nvGrpSpPr>
            <p:cNvPr id="490" name="Group 39"/>
            <p:cNvGrpSpPr/>
            <p:nvPr/>
          </p:nvGrpSpPr>
          <p:grpSpPr>
            <a:xfrm>
              <a:off x="4292280" y="2720880"/>
              <a:ext cx="734040" cy="665640"/>
              <a:chOff x="4292280" y="2720880"/>
              <a:chExt cx="734040" cy="665640"/>
            </a:xfrm>
          </p:grpSpPr>
          <p:sp>
            <p:nvSpPr>
              <p:cNvPr id="491" name="AutoShape 40"/>
              <p:cNvSpPr/>
              <p:nvPr/>
            </p:nvSpPr>
            <p:spPr>
              <a:xfrm rot="12960600">
                <a:off x="4687920" y="271368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2" name="AutoShape 41"/>
              <p:cNvSpPr/>
              <p:nvPr/>
            </p:nvSpPr>
            <p:spPr>
              <a:xfrm rot="13776000">
                <a:off x="4625280" y="279360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3" name="AutoShape 42"/>
              <p:cNvSpPr/>
              <p:nvPr/>
            </p:nvSpPr>
            <p:spPr>
              <a:xfrm rot="14071800">
                <a:off x="4576320" y="282780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4" name="AutoShape 43"/>
              <p:cNvSpPr/>
              <p:nvPr/>
            </p:nvSpPr>
            <p:spPr>
              <a:xfrm rot="14604000">
                <a:off x="4516560" y="2866320"/>
                <a:ext cx="17532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44"/>
            <p:cNvGrpSpPr/>
            <p:nvPr/>
          </p:nvGrpSpPr>
          <p:grpSpPr>
            <a:xfrm>
              <a:off x="4110480" y="2909880"/>
              <a:ext cx="834480" cy="469080"/>
              <a:chOff x="4110480" y="2909880"/>
              <a:chExt cx="834480" cy="469080"/>
            </a:xfrm>
          </p:grpSpPr>
          <p:sp>
            <p:nvSpPr>
              <p:cNvPr id="496" name="AutoShape 45"/>
              <p:cNvSpPr/>
              <p:nvPr/>
            </p:nvSpPr>
            <p:spPr>
              <a:xfrm rot="14314200">
                <a:off x="4550040" y="283932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7" name="AutoShape 46"/>
              <p:cNvSpPr/>
              <p:nvPr/>
            </p:nvSpPr>
            <p:spPr>
              <a:xfrm rot="15129600">
                <a:off x="4461120" y="288900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8" name="AutoShape 47"/>
              <p:cNvSpPr/>
              <p:nvPr/>
            </p:nvSpPr>
            <p:spPr>
              <a:xfrm rot="15425400">
                <a:off x="4402800" y="290124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99" name="AutoShape 48"/>
              <p:cNvSpPr/>
              <p:nvPr/>
            </p:nvSpPr>
            <p:spPr>
              <a:xfrm rot="15957600">
                <a:off x="4332600" y="2913480"/>
                <a:ext cx="176760" cy="6102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pic>
        <p:nvPicPr>
          <p:cNvPr id="500" name="Picture 49" descr="circuler_1"/>
          <p:cNvPicPr/>
          <p:nvPr/>
        </p:nvPicPr>
        <p:blipFill>
          <a:blip r:embed="rId10"/>
          <a:stretch/>
        </p:blipFill>
        <p:spPr>
          <a:xfrm>
            <a:off x="5603760" y="1511280"/>
            <a:ext cx="1348920" cy="1341000"/>
          </a:xfrm>
          <a:prstGeom prst="rect">
            <a:avLst/>
          </a:prstGeom>
          <a:ln w="0">
            <a:noFill/>
          </a:ln>
        </p:spPr>
      </p:pic>
      <p:sp>
        <p:nvSpPr>
          <p:cNvPr id="501" name="Oval 50"/>
          <p:cNvSpPr/>
          <p:nvPr/>
        </p:nvSpPr>
        <p:spPr>
          <a:xfrm>
            <a:off x="5603760" y="1511280"/>
            <a:ext cx="1350720" cy="1344240"/>
          </a:xfrm>
          <a:prstGeom prst="ellipse">
            <a:avLst/>
          </a:prstGeom>
          <a:gradFill rotWithShape="0">
            <a:gsLst>
              <a:gs pos="0">
                <a:srgbClr val="4e9d41">
                  <a:alpha val="68235"/>
                </a:srgbClr>
              </a:gs>
              <a:gs pos="100000">
                <a:srgbClr val="14291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02" name="Picture 51" descr="light_shadow1"/>
          <p:cNvPicPr/>
          <p:nvPr/>
        </p:nvPicPr>
        <p:blipFill>
          <a:blip r:embed="rId11"/>
          <a:srcRect l="0" t="14302" r="0" b="0"/>
          <a:stretch/>
        </p:blipFill>
        <p:spPr>
          <a:xfrm>
            <a:off x="5581800" y="1555920"/>
            <a:ext cx="982440" cy="8377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52"/>
          <p:cNvGrpSpPr/>
          <p:nvPr/>
        </p:nvGrpSpPr>
        <p:grpSpPr>
          <a:xfrm>
            <a:off x="6031440" y="2212560"/>
            <a:ext cx="915120" cy="665280"/>
            <a:chOff x="6031440" y="2212560"/>
            <a:chExt cx="915120" cy="665280"/>
          </a:xfrm>
        </p:grpSpPr>
        <p:grpSp>
          <p:nvGrpSpPr>
            <p:cNvPr id="504" name="Group 53"/>
            <p:cNvGrpSpPr/>
            <p:nvPr/>
          </p:nvGrpSpPr>
          <p:grpSpPr>
            <a:xfrm>
              <a:off x="6212520" y="2212560"/>
              <a:ext cx="734040" cy="665280"/>
              <a:chOff x="6212520" y="2212560"/>
              <a:chExt cx="734040" cy="665280"/>
            </a:xfrm>
          </p:grpSpPr>
          <p:sp>
            <p:nvSpPr>
              <p:cNvPr id="505" name="AutoShape 54"/>
              <p:cNvSpPr/>
              <p:nvPr/>
            </p:nvSpPr>
            <p:spPr>
              <a:xfrm rot="12960600">
                <a:off x="6608520" y="220572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6" name="AutoShape 55"/>
              <p:cNvSpPr/>
              <p:nvPr/>
            </p:nvSpPr>
            <p:spPr>
              <a:xfrm rot="13776000">
                <a:off x="6545160" y="228528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7" name="AutoShape 56"/>
              <p:cNvSpPr/>
              <p:nvPr/>
            </p:nvSpPr>
            <p:spPr>
              <a:xfrm rot="14071800">
                <a:off x="6496920" y="231948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8" name="AutoShape 57"/>
              <p:cNvSpPr/>
              <p:nvPr/>
            </p:nvSpPr>
            <p:spPr>
              <a:xfrm rot="14604000">
                <a:off x="6436440" y="2358000"/>
                <a:ext cx="17532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58"/>
            <p:cNvGrpSpPr/>
            <p:nvPr/>
          </p:nvGrpSpPr>
          <p:grpSpPr>
            <a:xfrm>
              <a:off x="6031440" y="2404080"/>
              <a:ext cx="833400" cy="468360"/>
              <a:chOff x="6031440" y="2404080"/>
              <a:chExt cx="833400" cy="468360"/>
            </a:xfrm>
          </p:grpSpPr>
          <p:sp>
            <p:nvSpPr>
              <p:cNvPr id="510" name="AutoShape 59"/>
              <p:cNvSpPr/>
              <p:nvPr/>
            </p:nvSpPr>
            <p:spPr>
              <a:xfrm rot="14314200">
                <a:off x="6470280" y="233316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1" name="AutoShape 60"/>
              <p:cNvSpPr/>
              <p:nvPr/>
            </p:nvSpPr>
            <p:spPr>
              <a:xfrm rot="15129600">
                <a:off x="6381720" y="238284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2" name="AutoShape 61"/>
              <p:cNvSpPr/>
              <p:nvPr/>
            </p:nvSpPr>
            <p:spPr>
              <a:xfrm rot="15425400">
                <a:off x="6323400" y="239508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13" name="AutoShape 62"/>
              <p:cNvSpPr/>
              <p:nvPr/>
            </p:nvSpPr>
            <p:spPr>
              <a:xfrm rot="15957600">
                <a:off x="6253560" y="2407680"/>
                <a:ext cx="176400" cy="6098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"/>
          <p:cNvSpPr/>
          <p:nvPr/>
        </p:nvSpPr>
        <p:spPr>
          <a:xfrm>
            <a:off x="1973160" y="311292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"/>
          <p:cNvSpPr/>
          <p:nvPr/>
        </p:nvSpPr>
        <p:spPr>
          <a:xfrm>
            <a:off x="3813120" y="257976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5"/>
          <p:cNvSpPr/>
          <p:nvPr/>
        </p:nvSpPr>
        <p:spPr>
          <a:xfrm>
            <a:off x="5749920" y="204624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6"/>
          <p:cNvSpPr/>
          <p:nvPr/>
        </p:nvSpPr>
        <p:spPr>
          <a:xfrm>
            <a:off x="2127240" y="4511520"/>
            <a:ext cx="18475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7"/>
          <p:cNvSpPr/>
          <p:nvPr/>
        </p:nvSpPr>
        <p:spPr>
          <a:xfrm>
            <a:off x="3868560" y="3978360"/>
            <a:ext cx="18475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8"/>
          <p:cNvSpPr/>
          <p:nvPr/>
        </p:nvSpPr>
        <p:spPr>
          <a:xfrm>
            <a:off x="5776920" y="3627360"/>
            <a:ext cx="178236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chemeClr val="folHlink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3D Pie Chart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Freeform 4"/>
          <p:cNvSpPr/>
          <p:nvPr/>
        </p:nvSpPr>
        <p:spPr>
          <a:xfrm>
            <a:off x="388800" y="1938240"/>
            <a:ext cx="1638000" cy="44892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2901960" y="2090880"/>
            <a:ext cx="3390480" cy="339048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23" name="Picture 6" descr="aa"/>
          <p:cNvPicPr/>
          <p:nvPr/>
        </p:nvPicPr>
        <p:blipFill>
          <a:blip r:embed="rId1"/>
          <a:stretch/>
        </p:blipFill>
        <p:spPr>
          <a:xfrm>
            <a:off x="2892600" y="2084400"/>
            <a:ext cx="3406320" cy="3400200"/>
          </a:xfrm>
          <a:prstGeom prst="rect">
            <a:avLst/>
          </a:prstGeom>
          <a:ln w="0">
            <a:noFill/>
          </a:ln>
        </p:spPr>
      </p:pic>
      <p:sp>
        <p:nvSpPr>
          <p:cNvPr id="524" name="Arc 7"/>
          <p:cNvSpPr/>
          <p:nvPr/>
        </p:nvSpPr>
        <p:spPr>
          <a:xfrm>
            <a:off x="4595760" y="2097000"/>
            <a:ext cx="1706040" cy="1706040"/>
          </a:xfrm>
          <a:custGeom>
            <a:avLst/>
            <a:gdLst>
              <a:gd name="textAreaLeft" fmla="*/ 0 w 1706040"/>
              <a:gd name="textAreaRight" fmla="*/ 1706400 w 1706040"/>
              <a:gd name="textAreaTop" fmla="*/ 0 h 1706040"/>
              <a:gd name="textAreaBottom" fmla="*/ 1706400 h 1706040"/>
            </a:gdLst>
            <a:ahLst/>
            <a:rect l="textAreaLeft" t="textAreaTop" r="textAreaRight" b="textAreaBottom"/>
            <a:pathLst>
              <a:path fill="none" w="21597" h="21600">
                <a:moveTo>
                  <a:pt x="-1" y="0"/>
                </a:moveTo>
                <a:cubicBezTo>
                  <a:pt x="11791" y="0"/>
                  <a:pt x="21403" y="9456"/>
                  <a:pt x="21597" y="21245"/>
                </a:cubicBezTo>
              </a:path>
              <a:path stroke="0" w="21597" h="21600">
                <a:moveTo>
                  <a:pt x="-1" y="0"/>
                </a:moveTo>
                <a:cubicBezTo>
                  <a:pt x="11791" y="0"/>
                  <a:pt x="21403" y="9456"/>
                  <a:pt x="21597" y="21245"/>
                </a:cubicBezTo>
                <a:lnTo>
                  <a:pt x="0" y="21600"/>
                </a:lnTo>
                <a:close/>
              </a:path>
            </a:pathLst>
          </a:custGeom>
          <a:solidFill>
            <a:schemeClr val="hlink">
              <a:alpha val="5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Arc 8"/>
          <p:cNvSpPr/>
          <p:nvPr/>
        </p:nvSpPr>
        <p:spPr>
          <a:xfrm rot="5400000">
            <a:off x="4590360" y="3771000"/>
            <a:ext cx="1715760" cy="1714320"/>
          </a:xfrm>
          <a:custGeom>
            <a:avLst/>
            <a:gdLst>
              <a:gd name="textAreaLeft" fmla="*/ 0 w 1715760"/>
              <a:gd name="textAreaRight" fmla="*/ 1716120 w 171576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fill="none" w="22011" h="21670">
                <a:moveTo>
                  <a:pt x="-1" y="3"/>
                </a:moveTo>
                <a:cubicBezTo>
                  <a:pt x="136" y="1"/>
                  <a:pt x="273" y="-1"/>
                  <a:pt x="411" y="0"/>
                </a:cubicBezTo>
                <a:cubicBezTo>
                  <a:pt x="12340" y="0"/>
                  <a:pt x="22011" y="9670"/>
                  <a:pt x="22011" y="21600"/>
                </a:cubicBezTo>
                <a:cubicBezTo>
                  <a:pt x="22011" y="21623"/>
                  <a:pt x="22010" y="21646"/>
                  <a:pt x="22010" y="21669"/>
                </a:cubicBezTo>
              </a:path>
              <a:path stroke="0" w="22011" h="21670">
                <a:moveTo>
                  <a:pt x="-1" y="3"/>
                </a:moveTo>
                <a:cubicBezTo>
                  <a:pt x="136" y="1"/>
                  <a:pt x="273" y="-1"/>
                  <a:pt x="411" y="0"/>
                </a:cubicBezTo>
                <a:cubicBezTo>
                  <a:pt x="12340" y="0"/>
                  <a:pt x="22011" y="9670"/>
                  <a:pt x="22011" y="21600"/>
                </a:cubicBezTo>
                <a:cubicBezTo>
                  <a:pt x="22011" y="21623"/>
                  <a:pt x="22010" y="21646"/>
                  <a:pt x="22010" y="21669"/>
                </a:cubicBezTo>
                <a:lnTo>
                  <a:pt x="411" y="21600"/>
                </a:lnTo>
                <a:close/>
              </a:path>
            </a:pathLst>
          </a:custGeom>
          <a:solidFill>
            <a:schemeClr val="fol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Arc 9"/>
          <p:cNvSpPr/>
          <p:nvPr/>
        </p:nvSpPr>
        <p:spPr>
          <a:xfrm flipH="1" flipV="1" rot="5400000">
            <a:off x="2905560" y="2084400"/>
            <a:ext cx="1706040" cy="1704600"/>
          </a:xfrm>
          <a:custGeom>
            <a:avLst/>
            <a:gdLst>
              <a:gd name="textAreaLeft" fmla="*/ -360 w 1706040"/>
              <a:gd name="textAreaRight" fmla="*/ 1706040 w 1706040"/>
              <a:gd name="textAreaTop" fmla="*/ -360 h 1704600"/>
              <a:gd name="textAreaBottom" fmla="*/ 1704600 h 1704600"/>
            </a:gdLst>
            <a:ahLst/>
            <a:rect l="textAreaLeft" t="textAreaTop" r="textAreaRight" b="textAreaBottom"/>
            <a:pathLst>
              <a:path fill="none" w="21600" h="21787">
                <a:moveTo>
                  <a:pt x="425" y="0"/>
                </a:moveTo>
                <a:cubicBezTo>
                  <a:pt x="12187" y="232"/>
                  <a:pt x="21600" y="9832"/>
                  <a:pt x="21600" y="21596"/>
                </a:cubicBezTo>
                <a:cubicBezTo>
                  <a:pt x="21600" y="21659"/>
                  <a:pt x="21599" y="21723"/>
                  <a:pt x="21599" y="21787"/>
                </a:cubicBezTo>
              </a:path>
              <a:path stroke="0" w="21600" h="21787">
                <a:moveTo>
                  <a:pt x="425" y="0"/>
                </a:moveTo>
                <a:cubicBezTo>
                  <a:pt x="12187" y="232"/>
                  <a:pt x="21600" y="9832"/>
                  <a:pt x="21600" y="21596"/>
                </a:cubicBezTo>
                <a:cubicBezTo>
                  <a:pt x="21600" y="21659"/>
                  <a:pt x="21599" y="21723"/>
                  <a:pt x="21599" y="21787"/>
                </a:cubicBezTo>
                <a:lnTo>
                  <a:pt x="0" y="21596"/>
                </a:lnTo>
                <a:close/>
              </a:path>
            </a:pathLst>
          </a:cu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Arc 10"/>
          <p:cNvSpPr/>
          <p:nvPr/>
        </p:nvSpPr>
        <p:spPr>
          <a:xfrm rot="10419000">
            <a:off x="2990880" y="3660840"/>
            <a:ext cx="1676160" cy="19094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909440"/>
              <a:gd name="textAreaBottom" fmla="*/ 1909800 h 1909440"/>
            </a:gdLst>
            <a:ahLst/>
            <a:rect l="textAreaLeft" t="textAreaTop" r="textAreaRight" b="textAreaBottom"/>
            <a:pathLst>
              <a:path fill="none" w="21600" h="24344">
                <a:moveTo>
                  <a:pt x="2139" y="0"/>
                </a:moveTo>
                <a:cubicBezTo>
                  <a:pt x="13185" y="1100"/>
                  <a:pt x="21600" y="10393"/>
                  <a:pt x="21600" y="21494"/>
                </a:cubicBezTo>
                <a:cubicBezTo>
                  <a:pt x="21600" y="22447"/>
                  <a:pt x="21536" y="23399"/>
                  <a:pt x="21411" y="24344"/>
                </a:cubicBezTo>
              </a:path>
              <a:path stroke="0" w="21600" h="24344">
                <a:moveTo>
                  <a:pt x="2139" y="0"/>
                </a:moveTo>
                <a:cubicBezTo>
                  <a:pt x="13185" y="1100"/>
                  <a:pt x="21600" y="10393"/>
                  <a:pt x="21600" y="21494"/>
                </a:cubicBezTo>
                <a:cubicBezTo>
                  <a:pt x="21600" y="22447"/>
                  <a:pt x="21536" y="23399"/>
                  <a:pt x="21411" y="24344"/>
                </a:cubicBezTo>
                <a:lnTo>
                  <a:pt x="0" y="21494"/>
                </a:lnTo>
                <a:close/>
              </a:path>
            </a:pathLst>
          </a:custGeom>
          <a:solidFill>
            <a:schemeClr val="accent2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28" name="Group 11"/>
          <p:cNvGrpSpPr/>
          <p:nvPr/>
        </p:nvGrpSpPr>
        <p:grpSpPr>
          <a:xfrm>
            <a:off x="4148640" y="2004480"/>
            <a:ext cx="2177640" cy="1800000"/>
            <a:chOff x="4148640" y="2004480"/>
            <a:chExt cx="2177640" cy="1800000"/>
          </a:xfrm>
        </p:grpSpPr>
        <p:grpSp>
          <p:nvGrpSpPr>
            <p:cNvPr id="529" name="Group 12"/>
            <p:cNvGrpSpPr/>
            <p:nvPr/>
          </p:nvGrpSpPr>
          <p:grpSpPr>
            <a:xfrm>
              <a:off x="4623840" y="2004480"/>
              <a:ext cx="1702440" cy="1800000"/>
              <a:chOff x="4623840" y="2004480"/>
              <a:chExt cx="1702440" cy="1800000"/>
            </a:xfrm>
          </p:grpSpPr>
          <p:sp>
            <p:nvSpPr>
              <p:cNvPr id="530" name="AutoShape 13"/>
              <p:cNvSpPr/>
              <p:nvPr/>
            </p:nvSpPr>
            <p:spPr>
              <a:xfrm flipV="1" rot="8982600">
                <a:off x="5598000" y="2235240"/>
                <a:ext cx="35172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1" name="AutoShape 14"/>
              <p:cNvSpPr/>
              <p:nvPr/>
            </p:nvSpPr>
            <p:spPr>
              <a:xfrm flipV="1" rot="8167800">
                <a:off x="5455080" y="201276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2" name="AutoShape 15"/>
              <p:cNvSpPr/>
              <p:nvPr/>
            </p:nvSpPr>
            <p:spPr>
              <a:xfrm flipV="1" rot="7871400">
                <a:off x="5346360" y="1906200"/>
                <a:ext cx="352080" cy="158796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3" name="AutoShape 16"/>
              <p:cNvSpPr/>
              <p:nvPr/>
            </p:nvSpPr>
            <p:spPr>
              <a:xfrm flipV="1" rot="7339800">
                <a:off x="5212800" y="178344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7"/>
            <p:cNvGrpSpPr/>
            <p:nvPr/>
          </p:nvGrpSpPr>
          <p:grpSpPr>
            <a:xfrm>
              <a:off x="4148640" y="2013480"/>
              <a:ext cx="2081880" cy="1251360"/>
              <a:chOff x="4148640" y="2013480"/>
              <a:chExt cx="2081880" cy="1251360"/>
            </a:xfrm>
          </p:grpSpPr>
          <p:sp>
            <p:nvSpPr>
              <p:cNvPr id="535" name="AutoShape 18"/>
              <p:cNvSpPr/>
              <p:nvPr/>
            </p:nvSpPr>
            <p:spPr>
              <a:xfrm flipV="1" rot="7629000">
                <a:off x="5313240" y="184968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6" name="AutoShape 19"/>
              <p:cNvSpPr/>
              <p:nvPr/>
            </p:nvSpPr>
            <p:spPr>
              <a:xfrm flipV="1" rot="6814200">
                <a:off x="5095800" y="1698840"/>
                <a:ext cx="354240" cy="158796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7" name="AutoShape 20"/>
              <p:cNvSpPr/>
              <p:nvPr/>
            </p:nvSpPr>
            <p:spPr>
              <a:xfrm flipV="1" rot="6518400">
                <a:off x="4954320" y="1641960"/>
                <a:ext cx="354240" cy="15886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38" name="AutoShape 21"/>
              <p:cNvSpPr/>
              <p:nvPr/>
            </p:nvSpPr>
            <p:spPr>
              <a:xfrm flipV="1" rot="5986200">
                <a:off x="4784040" y="158076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 22"/>
          <p:cNvGrpSpPr/>
          <p:nvPr/>
        </p:nvGrpSpPr>
        <p:grpSpPr>
          <a:xfrm>
            <a:off x="2828880" y="3643200"/>
            <a:ext cx="2069640" cy="1933200"/>
            <a:chOff x="2828880" y="3643200"/>
            <a:chExt cx="2069640" cy="1933200"/>
          </a:xfrm>
        </p:grpSpPr>
        <p:grpSp>
          <p:nvGrpSpPr>
            <p:cNvPr id="540" name="Group 23"/>
            <p:cNvGrpSpPr/>
            <p:nvPr/>
          </p:nvGrpSpPr>
          <p:grpSpPr>
            <a:xfrm>
              <a:off x="2828880" y="3643200"/>
              <a:ext cx="1585440" cy="1907640"/>
              <a:chOff x="2828880" y="3643200"/>
              <a:chExt cx="1585440" cy="1907640"/>
            </a:xfrm>
          </p:grpSpPr>
          <p:sp>
            <p:nvSpPr>
              <p:cNvPr id="541" name="AutoShape 24"/>
              <p:cNvSpPr/>
              <p:nvPr/>
            </p:nvSpPr>
            <p:spPr>
              <a:xfrm flipV="1" rot="20111400">
                <a:off x="3163680" y="364356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2" name="AutoShape 25"/>
              <p:cNvSpPr/>
              <p:nvPr/>
            </p:nvSpPr>
            <p:spPr>
              <a:xfrm flipV="1" rot="19296000">
                <a:off x="3283920" y="3879360"/>
                <a:ext cx="35172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3" name="AutoShape 26"/>
              <p:cNvSpPr/>
              <p:nvPr/>
            </p:nvSpPr>
            <p:spPr>
              <a:xfrm flipV="1" rot="19000200">
                <a:off x="3381480" y="3996360"/>
                <a:ext cx="352080" cy="158796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4" name="AutoShape 27"/>
              <p:cNvSpPr/>
              <p:nvPr/>
            </p:nvSpPr>
            <p:spPr>
              <a:xfrm flipV="1" rot="18468000">
                <a:off x="3502440" y="4130640"/>
                <a:ext cx="35208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28"/>
            <p:cNvGrpSpPr/>
            <p:nvPr/>
          </p:nvGrpSpPr>
          <p:grpSpPr>
            <a:xfrm>
              <a:off x="2880360" y="4181760"/>
              <a:ext cx="2018160" cy="1394640"/>
              <a:chOff x="2880360" y="4181760"/>
              <a:chExt cx="2018160" cy="1394640"/>
            </a:xfrm>
          </p:grpSpPr>
          <p:sp>
            <p:nvSpPr>
              <p:cNvPr id="546" name="AutoShape 29"/>
              <p:cNvSpPr/>
              <p:nvPr/>
            </p:nvSpPr>
            <p:spPr>
              <a:xfrm flipV="1" rot="18757800">
                <a:off x="3407400" y="405504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7" name="AutoShape 30"/>
              <p:cNvSpPr/>
              <p:nvPr/>
            </p:nvSpPr>
            <p:spPr>
              <a:xfrm flipV="1" rot="17942400">
                <a:off x="3609360" y="4226040"/>
                <a:ext cx="354240" cy="15886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8" name="AutoShape 31"/>
              <p:cNvSpPr/>
              <p:nvPr/>
            </p:nvSpPr>
            <p:spPr>
              <a:xfrm flipV="1" rot="17646600">
                <a:off x="3744360" y="429552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49" name="AutoShape 32"/>
              <p:cNvSpPr/>
              <p:nvPr/>
            </p:nvSpPr>
            <p:spPr>
              <a:xfrm flipV="1" rot="17114400">
                <a:off x="3908520" y="4372920"/>
                <a:ext cx="354240" cy="15883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33"/>
          <p:cNvGrpSpPr/>
          <p:nvPr/>
        </p:nvGrpSpPr>
        <p:grpSpPr>
          <a:xfrm>
            <a:off x="4014720" y="3211560"/>
            <a:ext cx="1188360" cy="1191600"/>
            <a:chOff x="4014720" y="3211560"/>
            <a:chExt cx="1188360" cy="1191600"/>
          </a:xfrm>
        </p:grpSpPr>
        <p:pic>
          <p:nvPicPr>
            <p:cNvPr id="551" name="Picture 34" descr="circuler_1"/>
            <p:cNvPicPr/>
            <p:nvPr/>
          </p:nvPicPr>
          <p:blipFill>
            <a:blip r:embed="rId2"/>
            <a:stretch/>
          </p:blipFill>
          <p:spPr>
            <a:xfrm>
              <a:off x="4014720" y="3211560"/>
              <a:ext cx="1164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Oval 35"/>
            <p:cNvSpPr/>
            <p:nvPr/>
          </p:nvSpPr>
          <p:spPr>
            <a:xfrm>
              <a:off x="4029840" y="3219840"/>
              <a:ext cx="1149840" cy="1146600"/>
            </a:xfrm>
            <a:prstGeom prst="ellipse">
              <a:avLst/>
            </a:prstGeom>
            <a:gradFill rotWithShape="0">
              <a:gsLst>
                <a:gs pos="0">
                  <a:srgbClr val="d4deff">
                    <a:alpha val="50196"/>
                  </a:srgbClr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53" name="Group 36"/>
            <p:cNvGrpSpPr/>
            <p:nvPr/>
          </p:nvGrpSpPr>
          <p:grpSpPr>
            <a:xfrm>
              <a:off x="4390200" y="3662280"/>
              <a:ext cx="812880" cy="740880"/>
              <a:chOff x="4390200" y="3662280"/>
              <a:chExt cx="812880" cy="740880"/>
            </a:xfrm>
          </p:grpSpPr>
          <p:grpSp>
            <p:nvGrpSpPr>
              <p:cNvPr id="554" name="Group 37"/>
              <p:cNvGrpSpPr/>
              <p:nvPr/>
            </p:nvGrpSpPr>
            <p:grpSpPr>
              <a:xfrm>
                <a:off x="4577760" y="3662280"/>
                <a:ext cx="625320" cy="733680"/>
                <a:chOff x="4577760" y="3662280"/>
                <a:chExt cx="625320" cy="733680"/>
              </a:xfrm>
            </p:grpSpPr>
            <p:sp>
              <p:nvSpPr>
                <p:cNvPr id="555" name="AutoShape 38"/>
                <p:cNvSpPr/>
                <p:nvPr/>
              </p:nvSpPr>
              <p:spPr>
                <a:xfrm rot="12329400">
                  <a:off x="4926240" y="366444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39"/>
                <p:cNvSpPr/>
                <p:nvPr/>
              </p:nvSpPr>
              <p:spPr>
                <a:xfrm rot="13145400">
                  <a:off x="4878720" y="375444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40"/>
                <p:cNvSpPr/>
                <p:nvPr/>
              </p:nvSpPr>
              <p:spPr>
                <a:xfrm rot="13440600">
                  <a:off x="4839480" y="379800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41"/>
                <p:cNvSpPr/>
                <p:nvPr/>
              </p:nvSpPr>
              <p:spPr>
                <a:xfrm rot="13972800">
                  <a:off x="4790880" y="3848040"/>
                  <a:ext cx="14868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42"/>
              <p:cNvGrpSpPr/>
              <p:nvPr/>
            </p:nvGrpSpPr>
            <p:grpSpPr>
              <a:xfrm>
                <a:off x="4390200" y="3864240"/>
                <a:ext cx="785520" cy="538920"/>
                <a:chOff x="4390200" y="3864240"/>
                <a:chExt cx="785520" cy="538920"/>
              </a:xfrm>
            </p:grpSpPr>
            <p:sp>
              <p:nvSpPr>
                <p:cNvPr id="560" name="AutoShape 43"/>
                <p:cNvSpPr/>
                <p:nvPr/>
              </p:nvSpPr>
              <p:spPr>
                <a:xfrm rot="13683600">
                  <a:off x="4824360" y="381888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44"/>
                <p:cNvSpPr/>
                <p:nvPr/>
              </p:nvSpPr>
              <p:spPr>
                <a:xfrm rot="14498400">
                  <a:off x="4746240" y="388368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45"/>
                <p:cNvSpPr/>
                <p:nvPr/>
              </p:nvSpPr>
              <p:spPr>
                <a:xfrm rot="14794200">
                  <a:off x="4693320" y="390888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46"/>
                <p:cNvSpPr/>
                <p:nvPr/>
              </p:nvSpPr>
              <p:spPr>
                <a:xfrm rot="15326400">
                  <a:off x="4628880" y="3936240"/>
                  <a:ext cx="149400" cy="6091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4" name="Rectangle 47"/>
          <p:cNvSpPr/>
          <p:nvPr/>
        </p:nvSpPr>
        <p:spPr>
          <a:xfrm>
            <a:off x="390600" y="238752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Freeform 48"/>
          <p:cNvSpPr/>
          <p:nvPr/>
        </p:nvSpPr>
        <p:spPr>
          <a:xfrm>
            <a:off x="7157880" y="1944720"/>
            <a:ext cx="1626840" cy="448920"/>
          </a:xfrm>
          <a:custGeom>
            <a:avLst/>
            <a:gdLst>
              <a:gd name="textAreaLeft" fmla="*/ 0 w 1626840"/>
              <a:gd name="textAreaRight" fmla="*/ 1627200 w 162684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hlink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Rectangle 49"/>
          <p:cNvSpPr/>
          <p:nvPr/>
        </p:nvSpPr>
        <p:spPr>
          <a:xfrm>
            <a:off x="6264360" y="239400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Freeform 50"/>
          <p:cNvSpPr/>
          <p:nvPr/>
        </p:nvSpPr>
        <p:spPr>
          <a:xfrm>
            <a:off x="7165800" y="4368960"/>
            <a:ext cx="1638000" cy="44892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folHlink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Rectangle 51"/>
          <p:cNvSpPr/>
          <p:nvPr/>
        </p:nvSpPr>
        <p:spPr>
          <a:xfrm>
            <a:off x="6272280" y="481824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9" name="Freeform 52"/>
          <p:cNvSpPr/>
          <p:nvPr/>
        </p:nvSpPr>
        <p:spPr>
          <a:xfrm>
            <a:off x="399960" y="4386240"/>
            <a:ext cx="1638000" cy="44892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Rectangle 53"/>
          <p:cNvSpPr/>
          <p:nvPr/>
        </p:nvSpPr>
        <p:spPr>
          <a:xfrm>
            <a:off x="401760" y="4835520"/>
            <a:ext cx="2530080" cy="644040"/>
          </a:xfrm>
          <a:prstGeom prst="rect">
            <a:avLst/>
          </a:prstGeom>
          <a:solidFill>
            <a:schemeClr val="bg2"/>
          </a:solidFill>
          <a:ln w="0">
            <a:noFill/>
          </a:ln>
          <a:effectLst>
            <a:outerShdw algn="ctr" dir="2700000" dist="35638" rotWithShape="0">
              <a:schemeClr val="tx1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466560" y="198108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487440" y="442908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248600" y="200016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248600" y="4417920"/>
            <a:ext cx="14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4064040" y="3583080"/>
            <a:ext cx="107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9"/>
          <p:cNvSpPr/>
          <p:nvPr/>
        </p:nvSpPr>
        <p:spPr>
          <a:xfrm>
            <a:off x="422280" y="25844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0"/>
          <p:cNvSpPr/>
          <p:nvPr/>
        </p:nvSpPr>
        <p:spPr>
          <a:xfrm>
            <a:off x="433440" y="50180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1"/>
          <p:cNvSpPr/>
          <p:nvPr/>
        </p:nvSpPr>
        <p:spPr>
          <a:xfrm>
            <a:off x="6270480" y="25844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2"/>
          <p:cNvSpPr/>
          <p:nvPr/>
        </p:nvSpPr>
        <p:spPr>
          <a:xfrm>
            <a:off x="6281640" y="5018040"/>
            <a:ext cx="2477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63"/>
          <p:cNvSpPr txBox="1"/>
          <p:nvPr/>
        </p:nvSpPr>
        <p:spPr>
          <a:xfrm rot="18551400">
            <a:off x="3279600" y="2722680"/>
            <a:ext cx="1837800" cy="120924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74923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Produts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64"/>
          <p:cNvSpPr txBox="1"/>
          <p:nvPr/>
        </p:nvSpPr>
        <p:spPr>
          <a:xfrm rot="2435400">
            <a:off x="4160880" y="2755440"/>
            <a:ext cx="1837800" cy="1209240"/>
          </a:xfrm>
          <a:prstGeom prst="rect">
            <a:avLst/>
          </a:prstGeom>
        </p:spPr>
        <p:txBody>
          <a:bodyPr wrap="none" fromWordArt="1" lIns="90000" rIns="90000" tIns="45000" bIns="45000" anchor="b">
            <a:prstTxWarp prst="textArchUp">
              <a:avLst>
                <a:gd name="adj" fmla="val 1274923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Service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WordArt 65"/>
          <p:cNvSpPr txBox="1"/>
          <p:nvPr/>
        </p:nvSpPr>
        <p:spPr>
          <a:xfrm rot="8012400">
            <a:off x="6112080" y="3453120"/>
            <a:ext cx="1468080" cy="850680"/>
          </a:xfrm>
          <a:prstGeom prst="rect">
            <a:avLst/>
          </a:prstGeom>
        </p:spPr>
        <p:txBody>
          <a:bodyPr wrap="none" fromWordArt="1" lIns="90000" rIns="90000" tIns="45000" bIns="45000" anchor="t">
            <a:prstTxWarp prst="textArchDown">
              <a:avLst>
                <a:gd name="adj" fmla="val 1047909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66"/>
          <p:cNvSpPr txBox="1"/>
          <p:nvPr/>
        </p:nvSpPr>
        <p:spPr>
          <a:xfrm rot="13377000">
            <a:off x="3765240" y="5748480"/>
            <a:ext cx="1844280" cy="1066320"/>
          </a:xfrm>
          <a:prstGeom prst="rect">
            <a:avLst/>
          </a:prstGeom>
        </p:spPr>
        <p:txBody>
          <a:bodyPr wrap="none" fromWordArt="1" lIns="90000" rIns="90000" tIns="45000" bIns="45000" anchor="t">
            <a:prstTxWarp prst="textArchDown">
              <a:avLst>
                <a:gd name="adj" fmla="val 1045962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9"/>
          <p:cNvSpPr/>
          <p:nvPr/>
        </p:nvSpPr>
        <p:spPr>
          <a:xfrm>
            <a:off x="1346040" y="1987560"/>
            <a:ext cx="2364840" cy="3171600"/>
          </a:xfrm>
          <a:prstGeom prst="rect">
            <a:avLst/>
          </a:prstGeom>
          <a:solidFill>
            <a:srgbClr val="effbf7">
              <a:alpha val="20000"/>
            </a:srgbClr>
          </a:solidFill>
          <a:ln cap="rnd" w="3810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Line 2"/>
          <p:cNvSpPr/>
          <p:nvPr/>
        </p:nvSpPr>
        <p:spPr>
          <a:xfrm flipH="1" flipV="1">
            <a:off x="3701880" y="5165640"/>
            <a:ext cx="2046240" cy="630000"/>
          </a:xfrm>
          <a:prstGeom prst="line">
            <a:avLst/>
          </a:prstGeom>
          <a:ln w="9525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 flipH="1" flipV="1">
            <a:off x="3660480" y="1996920"/>
            <a:ext cx="3059280" cy="920880"/>
          </a:xfrm>
          <a:prstGeom prst="line">
            <a:avLst/>
          </a:prstGeom>
          <a:ln w="9525">
            <a:solidFill>
              <a:srgbClr val="1c1c1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8" name="Oval 5"/>
          <p:cNvSpPr/>
          <p:nvPr/>
        </p:nvSpPr>
        <p:spPr>
          <a:xfrm>
            <a:off x="4932360" y="3244680"/>
            <a:ext cx="2604600" cy="2641320"/>
          </a:xfrm>
          <a:prstGeom prst="ellipse">
            <a:avLst/>
          </a:prstGeom>
          <a:gradFill rotWithShape="0">
            <a:gsLst>
              <a:gs pos="0">
                <a:srgbClr val="413c1a"/>
              </a:gs>
              <a:gs pos="100000">
                <a:srgbClr val="756b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 rot="6625800">
            <a:off x="4671360" y="2788200"/>
            <a:ext cx="2945880" cy="29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09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-1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close/>
              </a:path>
            </a:pathLst>
          </a:custGeom>
          <a:gradFill rotWithShape="0">
            <a:gsLst>
              <a:gs pos="0">
                <a:srgbClr val="f7ab9e"/>
              </a:gs>
              <a:gs pos="100000">
                <a:srgbClr val="ee3516"/>
              </a:gs>
            </a:gsLst>
            <a:lin ang="12024000"/>
          </a:gradFill>
          <a:ln w="9525">
            <a:noFill/>
          </a:ln>
          <a:scene3d>
            <a:camera prst="legacyPerspectiveBottom"/>
            <a:lightRig dir="t" rig="legacyFlat3"/>
          </a:scene3d>
          <a:sp3d extrusionH="8874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0" name="Oval 7"/>
          <p:cNvSpPr/>
          <p:nvPr/>
        </p:nvSpPr>
        <p:spPr>
          <a:xfrm>
            <a:off x="6053040" y="4148280"/>
            <a:ext cx="344160" cy="344160"/>
          </a:xfrm>
          <a:prstGeom prst="ellipse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5146560" y="3449520"/>
            <a:ext cx="1122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9"/>
          <p:cNvGrpSpPr/>
          <p:nvPr/>
        </p:nvGrpSpPr>
        <p:grpSpPr>
          <a:xfrm>
            <a:off x="4560840" y="2657880"/>
            <a:ext cx="1951200" cy="2017440"/>
            <a:chOff x="4560840" y="2657880"/>
            <a:chExt cx="1951200" cy="2017440"/>
          </a:xfrm>
        </p:grpSpPr>
        <p:grpSp>
          <p:nvGrpSpPr>
            <p:cNvPr id="593" name="Group 10"/>
            <p:cNvGrpSpPr/>
            <p:nvPr/>
          </p:nvGrpSpPr>
          <p:grpSpPr>
            <a:xfrm>
              <a:off x="4560840" y="2715840"/>
              <a:ext cx="1469880" cy="1959480"/>
              <a:chOff x="4560840" y="2715840"/>
              <a:chExt cx="1469880" cy="1959480"/>
            </a:xfrm>
          </p:grpSpPr>
          <p:sp>
            <p:nvSpPr>
              <p:cNvPr id="594" name="AutoShape 11"/>
              <p:cNvSpPr/>
              <p:nvPr/>
            </p:nvSpPr>
            <p:spPr>
              <a:xfrm rot="1165800">
                <a:off x="4856040" y="310968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95" name="AutoShape 12"/>
              <p:cNvSpPr/>
              <p:nvPr/>
            </p:nvSpPr>
            <p:spPr>
              <a:xfrm rot="1980600">
                <a:off x="4951440" y="286956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96" name="AutoShape 13"/>
              <p:cNvSpPr/>
              <p:nvPr/>
            </p:nvSpPr>
            <p:spPr>
              <a:xfrm rot="2276400">
                <a:off x="5038920" y="274932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97" name="AutoShape 14"/>
              <p:cNvSpPr/>
              <p:nvPr/>
            </p:nvSpPr>
            <p:spPr>
              <a:xfrm rot="2808600">
                <a:off x="5148720" y="2609280"/>
                <a:ext cx="3776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15"/>
            <p:cNvGrpSpPr/>
            <p:nvPr/>
          </p:nvGrpSpPr>
          <p:grpSpPr>
            <a:xfrm>
              <a:off x="4600440" y="2657880"/>
              <a:ext cx="1911600" cy="1510200"/>
              <a:chOff x="4600440" y="2657880"/>
              <a:chExt cx="1911600" cy="1510200"/>
            </a:xfrm>
          </p:grpSpPr>
          <p:sp>
            <p:nvSpPr>
              <p:cNvPr id="599" name="AutoShape 16"/>
              <p:cNvSpPr/>
              <p:nvPr/>
            </p:nvSpPr>
            <p:spPr>
              <a:xfrm rot="2519400">
                <a:off x="5069160" y="269244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0" name="AutoShape 17"/>
              <p:cNvSpPr/>
              <p:nvPr/>
            </p:nvSpPr>
            <p:spPr>
              <a:xfrm rot="3334200">
                <a:off x="5249160" y="250776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1" name="AutoShape 18"/>
              <p:cNvSpPr/>
              <p:nvPr/>
            </p:nvSpPr>
            <p:spPr>
              <a:xfrm rot="3630000">
                <a:off x="5376240" y="243036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2" name="AutoShape 19"/>
              <p:cNvSpPr/>
              <p:nvPr/>
            </p:nvSpPr>
            <p:spPr>
              <a:xfrm rot="4162200">
                <a:off x="5531400" y="2343240"/>
                <a:ext cx="379440" cy="154692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Group 20"/>
          <p:cNvGrpSpPr/>
          <p:nvPr/>
        </p:nvGrpSpPr>
        <p:grpSpPr>
          <a:xfrm>
            <a:off x="6459480" y="4030560"/>
            <a:ext cx="939600" cy="694800"/>
            <a:chOff x="6459480" y="4030560"/>
            <a:chExt cx="939600" cy="694800"/>
          </a:xfrm>
        </p:grpSpPr>
        <p:sp>
          <p:nvSpPr>
            <p:cNvPr id="604" name="Freeform 21"/>
            <p:cNvSpPr/>
            <p:nvPr/>
          </p:nvSpPr>
          <p:spPr>
            <a:xfrm flipH="1">
              <a:off x="6459480" y="4172040"/>
              <a:ext cx="473040" cy="553320"/>
            </a:xfrm>
            <a:custGeom>
              <a:avLst/>
              <a:gdLst>
                <a:gd name="textAreaLeft" fmla="*/ 360 w 473040"/>
                <a:gd name="textAreaRight" fmla="*/ 473760 w 47304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5" name="Oval 22"/>
            <p:cNvSpPr/>
            <p:nvPr/>
          </p:nvSpPr>
          <p:spPr>
            <a:xfrm flipH="1">
              <a:off x="6630480" y="4030560"/>
              <a:ext cx="126360" cy="14508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6" name="Freeform 23"/>
            <p:cNvSpPr/>
            <p:nvPr/>
          </p:nvSpPr>
          <p:spPr>
            <a:xfrm>
              <a:off x="6946920" y="4182120"/>
              <a:ext cx="452160" cy="5313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07" name="Oval 24"/>
            <p:cNvSpPr/>
            <p:nvPr/>
          </p:nvSpPr>
          <p:spPr>
            <a:xfrm>
              <a:off x="7115040" y="4048920"/>
              <a:ext cx="119160" cy="13716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08" name="Group 25"/>
          <p:cNvGrpSpPr/>
          <p:nvPr/>
        </p:nvGrpSpPr>
        <p:grpSpPr>
          <a:xfrm>
            <a:off x="5506920" y="2386080"/>
            <a:ext cx="764640" cy="945720"/>
            <a:chOff x="5506920" y="2386080"/>
            <a:chExt cx="764640" cy="945720"/>
          </a:xfrm>
        </p:grpSpPr>
        <p:sp>
          <p:nvSpPr>
            <p:cNvPr id="609" name="Oval 26"/>
            <p:cNvSpPr/>
            <p:nvPr/>
          </p:nvSpPr>
          <p:spPr>
            <a:xfrm>
              <a:off x="5789520" y="2386080"/>
              <a:ext cx="199800" cy="194760"/>
            </a:xfrm>
            <a:prstGeom prst="ellipse">
              <a:avLst/>
            </a:prstGeom>
            <a:solidFill>
              <a:srgbClr val="fee3ac"/>
            </a:solidFill>
            <a:ln w="19050">
              <a:noFill/>
            </a:ln>
            <a:scene3d>
              <a:camera prst="legacyPerspectiveFront">
                <a:rot lat="20099999" lon="1500000" rev="0"/>
              </a:camera>
              <a:lightRig dir="t" rig="legacyFlat2"/>
            </a:scene3d>
            <a:sp3d extrusionH="100000" prstMaterial="legacyMetal">
              <a:bevelT prst="angle" w="13500" h="13500"/>
              <a:bevelB prst="angle" w="13500" h="13500"/>
              <a:extrusionClr>
                <a:srgbClr val="ffb219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5506920" y="2414520"/>
              <a:ext cx="764640" cy="91728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50">
              <a:noFill/>
            </a:ln>
            <a:scene3d>
              <a:camera prst="legacyPerspectiveFront">
                <a:rot lat="20099999" lon="1500000" rev="0"/>
              </a:camera>
              <a:lightRig dir="t" rig="legacyFlat2"/>
            </a:scene3d>
            <a:sp3d extrusionH="100000" prstMaterial="legacyMetal">
              <a:bevelT prst="angle" w="13500" h="13500"/>
              <a:bevelB prst="angle" w="13500" h="13500"/>
              <a:extrusionClr>
                <a:srgbClr val="ffb219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11" name="Rectangle 30"/>
          <p:cNvSpPr/>
          <p:nvPr/>
        </p:nvSpPr>
        <p:spPr>
          <a:xfrm>
            <a:off x="1415880" y="2405160"/>
            <a:ext cx="2274480" cy="26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c1c1c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StarSymbol"/>
              <a:buAutoNum type="arabicPeriod" startAt="4"/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261120" y="4807080"/>
            <a:ext cx="129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9"/>
          <p:cNvSpPr/>
          <p:nvPr/>
        </p:nvSpPr>
        <p:spPr>
          <a:xfrm>
            <a:off x="1571760" y="1747800"/>
            <a:ext cx="192060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4" name="Rectangle 32"/>
          <p:cNvSpPr/>
          <p:nvPr/>
        </p:nvSpPr>
        <p:spPr>
          <a:xfrm>
            <a:off x="1591920" y="1768320"/>
            <a:ext cx="18896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611280" y="61822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 u="sng">
                <a:solidFill>
                  <a:srgbClr val="aed92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133"/>
          <p:cNvGrpSpPr/>
          <p:nvPr/>
        </p:nvGrpSpPr>
        <p:grpSpPr>
          <a:xfrm>
            <a:off x="1090440" y="1739880"/>
            <a:ext cx="6838920" cy="3365280"/>
            <a:chOff x="1090440" y="1739880"/>
            <a:chExt cx="6838920" cy="3365280"/>
          </a:xfrm>
        </p:grpSpPr>
        <p:sp>
          <p:nvSpPr>
            <p:cNvPr id="617" name="Freeform 134"/>
            <p:cNvSpPr/>
            <p:nvPr/>
          </p:nvSpPr>
          <p:spPr>
            <a:xfrm>
              <a:off x="1216080" y="1889280"/>
              <a:ext cx="2010960" cy="3076200"/>
            </a:xfrm>
            <a:custGeom>
              <a:avLst/>
              <a:gdLst>
                <a:gd name="textAreaLeft" fmla="*/ 0 w 2010960"/>
                <a:gd name="textAreaRight" fmla="*/ 2011320 w 2010960"/>
                <a:gd name="textAreaTop" fmla="*/ 0 h 3076200"/>
                <a:gd name="textAreaBottom" fmla="*/ 3076560 h 30762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8" name="Freeform 135"/>
            <p:cNvSpPr/>
            <p:nvPr/>
          </p:nvSpPr>
          <p:spPr>
            <a:xfrm>
              <a:off x="1152360" y="2182680"/>
              <a:ext cx="53640" cy="43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19" name="Freeform 136"/>
            <p:cNvSpPr/>
            <p:nvPr/>
          </p:nvSpPr>
          <p:spPr>
            <a:xfrm>
              <a:off x="1639800" y="2378160"/>
              <a:ext cx="61560" cy="50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0" name="Freeform 137"/>
            <p:cNvSpPr/>
            <p:nvPr/>
          </p:nvSpPr>
          <p:spPr>
            <a:xfrm>
              <a:off x="2881440" y="2467080"/>
              <a:ext cx="155160" cy="1170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1" name="Freeform 138"/>
            <p:cNvSpPr/>
            <p:nvPr/>
          </p:nvSpPr>
          <p:spPr>
            <a:xfrm>
              <a:off x="2128680" y="3076560"/>
              <a:ext cx="250560" cy="132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2" name="Freeform 139"/>
            <p:cNvSpPr/>
            <p:nvPr/>
          </p:nvSpPr>
          <p:spPr>
            <a:xfrm>
              <a:off x="2335320" y="3178080"/>
              <a:ext cx="156960" cy="64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3" name="Freeform 140"/>
            <p:cNvSpPr/>
            <p:nvPr/>
          </p:nvSpPr>
          <p:spPr>
            <a:xfrm>
              <a:off x="2502000" y="321948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4" name="Freeform 141"/>
            <p:cNvSpPr/>
            <p:nvPr/>
          </p:nvSpPr>
          <p:spPr>
            <a:xfrm>
              <a:off x="2590920" y="3224160"/>
              <a:ext cx="18720" cy="39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5" name="Freeform 142"/>
            <p:cNvSpPr/>
            <p:nvPr/>
          </p:nvSpPr>
          <p:spPr>
            <a:xfrm>
              <a:off x="2300400" y="1881360"/>
              <a:ext cx="285480" cy="139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6" name="Freeform 143"/>
            <p:cNvSpPr/>
            <p:nvPr/>
          </p:nvSpPr>
          <p:spPr>
            <a:xfrm>
              <a:off x="2427120" y="1816200"/>
              <a:ext cx="231480" cy="950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7" name="Freeform 144"/>
            <p:cNvSpPr/>
            <p:nvPr/>
          </p:nvSpPr>
          <p:spPr>
            <a:xfrm>
              <a:off x="2752560" y="1927080"/>
              <a:ext cx="369360" cy="3013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8" name="Freeform 145"/>
            <p:cNvSpPr/>
            <p:nvPr/>
          </p:nvSpPr>
          <p:spPr>
            <a:xfrm>
              <a:off x="2749680" y="1797120"/>
              <a:ext cx="69480" cy="583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29" name="Freeform 146"/>
            <p:cNvSpPr/>
            <p:nvPr/>
          </p:nvSpPr>
          <p:spPr>
            <a:xfrm>
              <a:off x="2616120" y="1908000"/>
              <a:ext cx="102960" cy="66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0" name="Freeform 147"/>
            <p:cNvSpPr/>
            <p:nvPr/>
          </p:nvSpPr>
          <p:spPr>
            <a:xfrm>
              <a:off x="2724120" y="1920960"/>
              <a:ext cx="85320" cy="392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1" name="Freeform 148"/>
            <p:cNvSpPr/>
            <p:nvPr/>
          </p:nvSpPr>
          <p:spPr>
            <a:xfrm>
              <a:off x="2678040" y="1863720"/>
              <a:ext cx="101160" cy="53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2" name="Freeform 149"/>
            <p:cNvSpPr/>
            <p:nvPr/>
          </p:nvSpPr>
          <p:spPr>
            <a:xfrm>
              <a:off x="2635200" y="1812960"/>
              <a:ext cx="69480" cy="37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3" name="Freeform 150"/>
            <p:cNvSpPr/>
            <p:nvPr/>
          </p:nvSpPr>
          <p:spPr>
            <a:xfrm>
              <a:off x="2816280" y="1817640"/>
              <a:ext cx="180720" cy="122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4" name="Freeform 151"/>
            <p:cNvSpPr/>
            <p:nvPr/>
          </p:nvSpPr>
          <p:spPr>
            <a:xfrm>
              <a:off x="1090440" y="220680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5" name="Freeform 152"/>
            <p:cNvSpPr/>
            <p:nvPr/>
          </p:nvSpPr>
          <p:spPr>
            <a:xfrm>
              <a:off x="2292480" y="30178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6" name="Freeform 153"/>
            <p:cNvSpPr/>
            <p:nvPr/>
          </p:nvSpPr>
          <p:spPr>
            <a:xfrm>
              <a:off x="2297160" y="30574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7" name="Freeform 154"/>
            <p:cNvSpPr/>
            <p:nvPr/>
          </p:nvSpPr>
          <p:spPr>
            <a:xfrm>
              <a:off x="2620800" y="3267000"/>
              <a:ext cx="23400" cy="1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8" name="Freeform 155"/>
            <p:cNvSpPr/>
            <p:nvPr/>
          </p:nvSpPr>
          <p:spPr>
            <a:xfrm>
              <a:off x="2817720" y="249876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Freeform 156"/>
            <p:cNvSpPr/>
            <p:nvPr/>
          </p:nvSpPr>
          <p:spPr>
            <a:xfrm>
              <a:off x="2658960" y="217332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0" name="Freeform 157"/>
            <p:cNvSpPr/>
            <p:nvPr/>
          </p:nvSpPr>
          <p:spPr>
            <a:xfrm>
              <a:off x="2762280" y="1889280"/>
              <a:ext cx="61560" cy="28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1" name="Freeform 158"/>
            <p:cNvSpPr/>
            <p:nvPr/>
          </p:nvSpPr>
          <p:spPr>
            <a:xfrm>
              <a:off x="2862360" y="206064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2" name="Freeform 159"/>
            <p:cNvSpPr/>
            <p:nvPr/>
          </p:nvSpPr>
          <p:spPr>
            <a:xfrm>
              <a:off x="2887560" y="1739880"/>
              <a:ext cx="1104480" cy="549000"/>
            </a:xfrm>
            <a:custGeom>
              <a:avLst/>
              <a:gdLst>
                <a:gd name="textAreaLeft" fmla="*/ 0 w 1104480"/>
                <a:gd name="textAreaRight" fmla="*/ 1104840 w 11044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3" name="Freeform 160"/>
            <p:cNvSpPr/>
            <p:nvPr/>
          </p:nvSpPr>
          <p:spPr>
            <a:xfrm>
              <a:off x="3225960" y="203184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4" name="Freeform 161"/>
            <p:cNvSpPr/>
            <p:nvPr/>
          </p:nvSpPr>
          <p:spPr>
            <a:xfrm>
              <a:off x="3675240" y="2136600"/>
              <a:ext cx="202680" cy="853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5" name="Freeform 162"/>
            <p:cNvSpPr/>
            <p:nvPr/>
          </p:nvSpPr>
          <p:spPr>
            <a:xfrm>
              <a:off x="3835440" y="187812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6" name="Freeform 163"/>
            <p:cNvSpPr/>
            <p:nvPr/>
          </p:nvSpPr>
          <p:spPr>
            <a:xfrm>
              <a:off x="4262400" y="1827360"/>
              <a:ext cx="245880" cy="9972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7" name="Freeform 164"/>
            <p:cNvSpPr/>
            <p:nvPr/>
          </p:nvSpPr>
          <p:spPr>
            <a:xfrm>
              <a:off x="4416480" y="187956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8" name="Freeform 165"/>
            <p:cNvSpPr/>
            <p:nvPr/>
          </p:nvSpPr>
          <p:spPr>
            <a:xfrm>
              <a:off x="3952800" y="2311560"/>
              <a:ext cx="172800" cy="2091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9" name="Freeform 166"/>
            <p:cNvSpPr/>
            <p:nvPr/>
          </p:nvSpPr>
          <p:spPr>
            <a:xfrm>
              <a:off x="3867120" y="238752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0" name="Freeform 167"/>
            <p:cNvSpPr/>
            <p:nvPr/>
          </p:nvSpPr>
          <p:spPr>
            <a:xfrm>
              <a:off x="6543720" y="4202280"/>
              <a:ext cx="752040" cy="78552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1" name="Freeform 168"/>
            <p:cNvSpPr/>
            <p:nvPr/>
          </p:nvSpPr>
          <p:spPr>
            <a:xfrm>
              <a:off x="6777000" y="3787920"/>
              <a:ext cx="506160" cy="333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2" name="Freeform 169"/>
            <p:cNvSpPr/>
            <p:nvPr/>
          </p:nvSpPr>
          <p:spPr>
            <a:xfrm>
              <a:off x="6791400" y="3790800"/>
              <a:ext cx="493200" cy="3344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3" name="Freeform 170"/>
            <p:cNvSpPr/>
            <p:nvPr/>
          </p:nvSpPr>
          <p:spPr>
            <a:xfrm>
              <a:off x="7156440" y="5013360"/>
              <a:ext cx="70920" cy="91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4" name="Freeform 171"/>
            <p:cNvSpPr/>
            <p:nvPr/>
          </p:nvSpPr>
          <p:spPr>
            <a:xfrm>
              <a:off x="7372440" y="4870440"/>
              <a:ext cx="259920" cy="1346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5" name="Freeform 172"/>
            <p:cNvSpPr/>
            <p:nvPr/>
          </p:nvSpPr>
          <p:spPr>
            <a:xfrm>
              <a:off x="7642080" y="4791240"/>
              <a:ext cx="164880" cy="1458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6" name="Freeform 173"/>
            <p:cNvSpPr/>
            <p:nvPr/>
          </p:nvSpPr>
          <p:spPr>
            <a:xfrm>
              <a:off x="7729560" y="4726080"/>
              <a:ext cx="58320" cy="410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7" name="Freeform 174"/>
            <p:cNvSpPr/>
            <p:nvPr/>
          </p:nvSpPr>
          <p:spPr>
            <a:xfrm>
              <a:off x="4994280" y="3954600"/>
              <a:ext cx="194760" cy="3186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8" name="Freeform 175"/>
            <p:cNvSpPr/>
            <p:nvPr/>
          </p:nvSpPr>
          <p:spPr>
            <a:xfrm>
              <a:off x="5838840" y="345924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9" name="Freeform 176"/>
            <p:cNvSpPr/>
            <p:nvPr/>
          </p:nvSpPr>
          <p:spPr>
            <a:xfrm>
              <a:off x="6367320" y="3564000"/>
              <a:ext cx="175680" cy="290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0" name="Freeform 177"/>
            <p:cNvSpPr/>
            <p:nvPr/>
          </p:nvSpPr>
          <p:spPr>
            <a:xfrm>
              <a:off x="6218280" y="3473280"/>
              <a:ext cx="114120" cy="217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1" name="Freeform 178"/>
            <p:cNvSpPr/>
            <p:nvPr/>
          </p:nvSpPr>
          <p:spPr>
            <a:xfrm>
              <a:off x="6296040" y="3648240"/>
              <a:ext cx="63000" cy="207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2" name="Freeform 179"/>
            <p:cNvSpPr/>
            <p:nvPr/>
          </p:nvSpPr>
          <p:spPr>
            <a:xfrm>
              <a:off x="6367320" y="3865680"/>
              <a:ext cx="102960" cy="85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3" name="Freeform 180"/>
            <p:cNvSpPr/>
            <p:nvPr/>
          </p:nvSpPr>
          <p:spPr>
            <a:xfrm>
              <a:off x="6532560" y="3714840"/>
              <a:ext cx="131400" cy="185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4" name="Freeform 181"/>
            <p:cNvSpPr/>
            <p:nvPr/>
          </p:nvSpPr>
          <p:spPr>
            <a:xfrm>
              <a:off x="6488280" y="3051000"/>
              <a:ext cx="34560" cy="112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5" name="Freeform 182"/>
            <p:cNvSpPr/>
            <p:nvPr/>
          </p:nvSpPr>
          <p:spPr>
            <a:xfrm>
              <a:off x="6510240" y="3240000"/>
              <a:ext cx="96480" cy="18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6" name="Freeform 183"/>
            <p:cNvSpPr/>
            <p:nvPr/>
          </p:nvSpPr>
          <p:spPr>
            <a:xfrm>
              <a:off x="6578640" y="3487680"/>
              <a:ext cx="101160" cy="12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7" name="Freeform 184"/>
            <p:cNvSpPr/>
            <p:nvPr/>
          </p:nvSpPr>
          <p:spPr>
            <a:xfrm>
              <a:off x="6699240" y="3711600"/>
              <a:ext cx="45720" cy="77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8" name="Freeform 185"/>
            <p:cNvSpPr/>
            <p:nvPr/>
          </p:nvSpPr>
          <p:spPr>
            <a:xfrm>
              <a:off x="6673680" y="384192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9" name="Freeform 186"/>
            <p:cNvSpPr/>
            <p:nvPr/>
          </p:nvSpPr>
          <p:spPr>
            <a:xfrm>
              <a:off x="6716880" y="382572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0" name="Freeform 187"/>
            <p:cNvSpPr/>
            <p:nvPr/>
          </p:nvSpPr>
          <p:spPr>
            <a:xfrm>
              <a:off x="6826320" y="393696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1" name="Freeform 188"/>
            <p:cNvSpPr/>
            <p:nvPr/>
          </p:nvSpPr>
          <p:spPr>
            <a:xfrm>
              <a:off x="7250040" y="3870360"/>
              <a:ext cx="72720" cy="74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2" name="Freeform 189"/>
            <p:cNvSpPr/>
            <p:nvPr/>
          </p:nvSpPr>
          <p:spPr>
            <a:xfrm>
              <a:off x="6620040" y="3963960"/>
              <a:ext cx="72720" cy="78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3" name="Freeform 190"/>
            <p:cNvSpPr/>
            <p:nvPr/>
          </p:nvSpPr>
          <p:spPr>
            <a:xfrm>
              <a:off x="6541920" y="3994200"/>
              <a:ext cx="50400" cy="42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4" name="Freeform 191"/>
            <p:cNvSpPr/>
            <p:nvPr/>
          </p:nvSpPr>
          <p:spPr>
            <a:xfrm>
              <a:off x="6508800" y="3948120"/>
              <a:ext cx="37800" cy="48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5" name="Freeform 192"/>
            <p:cNvSpPr/>
            <p:nvPr/>
          </p:nvSpPr>
          <p:spPr>
            <a:xfrm>
              <a:off x="6562800" y="396540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6" name="Freeform 193"/>
            <p:cNvSpPr/>
            <p:nvPr/>
          </p:nvSpPr>
          <p:spPr>
            <a:xfrm>
              <a:off x="6485040" y="3438360"/>
              <a:ext cx="42480" cy="87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7" name="Freeform 194"/>
            <p:cNvSpPr/>
            <p:nvPr/>
          </p:nvSpPr>
          <p:spPr>
            <a:xfrm>
              <a:off x="6566040" y="3424320"/>
              <a:ext cx="29880" cy="87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8" name="Freeform 195"/>
            <p:cNvSpPr/>
            <p:nvPr/>
          </p:nvSpPr>
          <p:spPr>
            <a:xfrm>
              <a:off x="6600960" y="3397320"/>
              <a:ext cx="15480" cy="39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79" name="Freeform 196"/>
            <p:cNvSpPr/>
            <p:nvPr/>
          </p:nvSpPr>
          <p:spPr>
            <a:xfrm>
              <a:off x="6616800" y="341640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0" name="Freeform 197"/>
            <p:cNvSpPr/>
            <p:nvPr/>
          </p:nvSpPr>
          <p:spPr>
            <a:xfrm>
              <a:off x="6189840" y="3525840"/>
              <a:ext cx="18720" cy="42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1" name="Freeform 198"/>
            <p:cNvSpPr/>
            <p:nvPr/>
          </p:nvSpPr>
          <p:spPr>
            <a:xfrm>
              <a:off x="6173640" y="34894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2" name="Freeform 199"/>
            <p:cNvSpPr/>
            <p:nvPr/>
          </p:nvSpPr>
          <p:spPr>
            <a:xfrm>
              <a:off x="6167520" y="34606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3" name="Freeform 200"/>
            <p:cNvSpPr/>
            <p:nvPr/>
          </p:nvSpPr>
          <p:spPr>
            <a:xfrm>
              <a:off x="6148440" y="339732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4" name="Freeform 201"/>
            <p:cNvSpPr/>
            <p:nvPr/>
          </p:nvSpPr>
          <p:spPr>
            <a:xfrm>
              <a:off x="6151680" y="3436920"/>
              <a:ext cx="25200" cy="20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5" name="Freeform 202"/>
            <p:cNvSpPr/>
            <p:nvPr/>
          </p:nvSpPr>
          <p:spPr>
            <a:xfrm>
              <a:off x="7478640" y="4425840"/>
              <a:ext cx="70920" cy="95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6" name="Freeform 203"/>
            <p:cNvSpPr/>
            <p:nvPr/>
          </p:nvSpPr>
          <p:spPr>
            <a:xfrm>
              <a:off x="7845480" y="4348080"/>
              <a:ext cx="83880" cy="72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7" name="Freeform 204"/>
            <p:cNvSpPr/>
            <p:nvPr/>
          </p:nvSpPr>
          <p:spPr>
            <a:xfrm>
              <a:off x="7591320" y="430848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8" name="Freeform 205"/>
            <p:cNvSpPr/>
            <p:nvPr/>
          </p:nvSpPr>
          <p:spPr>
            <a:xfrm>
              <a:off x="7578720" y="4273560"/>
              <a:ext cx="31320" cy="26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9" name="Freeform 206"/>
            <p:cNvSpPr/>
            <p:nvPr/>
          </p:nvSpPr>
          <p:spPr>
            <a:xfrm>
              <a:off x="7335720" y="396540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0" name="Freeform 207"/>
            <p:cNvSpPr/>
            <p:nvPr/>
          </p:nvSpPr>
          <p:spPr>
            <a:xfrm>
              <a:off x="7389720" y="4033800"/>
              <a:ext cx="41040" cy="52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1" name="Freeform 208"/>
            <p:cNvSpPr/>
            <p:nvPr/>
          </p:nvSpPr>
          <p:spPr>
            <a:xfrm>
              <a:off x="7432560" y="413388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2" name="Freeform 209"/>
            <p:cNvSpPr/>
            <p:nvPr/>
          </p:nvSpPr>
          <p:spPr>
            <a:xfrm>
              <a:off x="7486560" y="4118040"/>
              <a:ext cx="43920" cy="410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3" name="Freeform 210"/>
            <p:cNvSpPr/>
            <p:nvPr/>
          </p:nvSpPr>
          <p:spPr>
            <a:xfrm>
              <a:off x="7470720" y="4060800"/>
              <a:ext cx="41040" cy="31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4" name="Freeform 211"/>
            <p:cNvSpPr/>
            <p:nvPr/>
          </p:nvSpPr>
          <p:spPr>
            <a:xfrm>
              <a:off x="7429680" y="4021200"/>
              <a:ext cx="41040" cy="55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5" name="Freeform 212"/>
            <p:cNvSpPr/>
            <p:nvPr/>
          </p:nvSpPr>
          <p:spPr>
            <a:xfrm>
              <a:off x="7378560" y="399564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6" name="Freeform 213"/>
            <p:cNvSpPr/>
            <p:nvPr/>
          </p:nvSpPr>
          <p:spPr>
            <a:xfrm>
              <a:off x="7442280" y="407988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7" name="Freeform 214"/>
            <p:cNvSpPr/>
            <p:nvPr/>
          </p:nvSpPr>
          <p:spPr>
            <a:xfrm>
              <a:off x="4886280" y="1898640"/>
              <a:ext cx="223560" cy="171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8" name="Freeform 215"/>
            <p:cNvSpPr/>
            <p:nvPr/>
          </p:nvSpPr>
          <p:spPr>
            <a:xfrm>
              <a:off x="5019840" y="2063880"/>
              <a:ext cx="63000" cy="18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99" name="Freeform 216"/>
            <p:cNvSpPr/>
            <p:nvPr/>
          </p:nvSpPr>
          <p:spPr>
            <a:xfrm>
              <a:off x="5345280" y="1816200"/>
              <a:ext cx="66240" cy="43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0" name="Freeform 217"/>
            <p:cNvSpPr/>
            <p:nvPr/>
          </p:nvSpPr>
          <p:spPr>
            <a:xfrm>
              <a:off x="5392800" y="1836720"/>
              <a:ext cx="78840" cy="313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1" name="Freeform 218"/>
            <p:cNvSpPr/>
            <p:nvPr/>
          </p:nvSpPr>
          <p:spPr>
            <a:xfrm>
              <a:off x="5478480" y="1841400"/>
              <a:ext cx="78840" cy="504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2" name="Freeform 219"/>
            <p:cNvSpPr/>
            <p:nvPr/>
          </p:nvSpPr>
          <p:spPr>
            <a:xfrm>
              <a:off x="6032520" y="1884240"/>
              <a:ext cx="139320" cy="489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3" name="Freeform 220"/>
            <p:cNvSpPr/>
            <p:nvPr/>
          </p:nvSpPr>
          <p:spPr>
            <a:xfrm>
              <a:off x="6175440" y="1882800"/>
              <a:ext cx="72720" cy="37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4" name="Freeform 221"/>
            <p:cNvSpPr/>
            <p:nvPr/>
          </p:nvSpPr>
          <p:spPr>
            <a:xfrm>
              <a:off x="6141960" y="1928880"/>
              <a:ext cx="58320" cy="26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5" name="Freeform 222"/>
            <p:cNvSpPr/>
            <p:nvPr/>
          </p:nvSpPr>
          <p:spPr>
            <a:xfrm>
              <a:off x="6541920" y="2284560"/>
              <a:ext cx="120240" cy="180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6" name="Freeform 223"/>
            <p:cNvSpPr/>
            <p:nvPr/>
          </p:nvSpPr>
          <p:spPr>
            <a:xfrm>
              <a:off x="6638760" y="2471760"/>
              <a:ext cx="87120" cy="123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7" name="Freeform 224"/>
            <p:cNvSpPr/>
            <p:nvPr/>
          </p:nvSpPr>
          <p:spPr>
            <a:xfrm>
              <a:off x="6581880" y="2598840"/>
              <a:ext cx="172800" cy="29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8" name="Freeform 225"/>
            <p:cNvSpPr/>
            <p:nvPr/>
          </p:nvSpPr>
          <p:spPr>
            <a:xfrm>
              <a:off x="4897440" y="1798560"/>
              <a:ext cx="82080" cy="471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09" name="Freeform 226"/>
            <p:cNvSpPr/>
            <p:nvPr/>
          </p:nvSpPr>
          <p:spPr>
            <a:xfrm>
              <a:off x="4727520" y="1812960"/>
              <a:ext cx="29880" cy="34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0" name="Freeform 227"/>
            <p:cNvSpPr/>
            <p:nvPr/>
          </p:nvSpPr>
          <p:spPr>
            <a:xfrm>
              <a:off x="4765680" y="1811160"/>
              <a:ext cx="58320" cy="42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1" name="Freeform 228"/>
            <p:cNvSpPr/>
            <p:nvPr/>
          </p:nvSpPr>
          <p:spPr>
            <a:xfrm>
              <a:off x="4862520" y="1797120"/>
              <a:ext cx="31320" cy="25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2" name="Freeform 229"/>
            <p:cNvSpPr/>
            <p:nvPr/>
          </p:nvSpPr>
          <p:spPr>
            <a:xfrm>
              <a:off x="4834080" y="1825560"/>
              <a:ext cx="23400" cy="20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3" name="Freeform 230"/>
            <p:cNvSpPr/>
            <p:nvPr/>
          </p:nvSpPr>
          <p:spPr>
            <a:xfrm>
              <a:off x="6643800" y="1851120"/>
              <a:ext cx="28080" cy="52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4" name="Freeform 231"/>
            <p:cNvSpPr/>
            <p:nvPr/>
          </p:nvSpPr>
          <p:spPr>
            <a:xfrm>
              <a:off x="5240160" y="4156200"/>
              <a:ext cx="48960" cy="28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5" name="Freeform 232"/>
            <p:cNvSpPr/>
            <p:nvPr/>
          </p:nvSpPr>
          <p:spPr>
            <a:xfrm>
              <a:off x="5303880" y="414504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6" name="Freeform 233"/>
            <p:cNvSpPr/>
            <p:nvPr/>
          </p:nvSpPr>
          <p:spPr>
            <a:xfrm>
              <a:off x="5197320" y="390060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7" name="Freeform 234"/>
            <p:cNvSpPr/>
            <p:nvPr/>
          </p:nvSpPr>
          <p:spPr>
            <a:xfrm>
              <a:off x="5292720" y="378468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8" name="Freeform 235"/>
            <p:cNvSpPr/>
            <p:nvPr/>
          </p:nvSpPr>
          <p:spPr>
            <a:xfrm>
              <a:off x="5254560" y="378288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19" name="Freeform 236"/>
            <p:cNvSpPr/>
            <p:nvPr/>
          </p:nvSpPr>
          <p:spPr>
            <a:xfrm>
              <a:off x="5237280" y="381780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0" name="Freeform 237"/>
            <p:cNvSpPr/>
            <p:nvPr/>
          </p:nvSpPr>
          <p:spPr>
            <a:xfrm>
              <a:off x="5197320" y="387180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1" name="Freeform 238"/>
            <p:cNvSpPr/>
            <p:nvPr/>
          </p:nvSpPr>
          <p:spPr>
            <a:xfrm>
              <a:off x="5227560" y="38512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2" name="Freeform 239"/>
            <p:cNvSpPr/>
            <p:nvPr/>
          </p:nvSpPr>
          <p:spPr>
            <a:xfrm>
              <a:off x="4064040" y="228276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3" name="Freeform 240"/>
            <p:cNvSpPr/>
            <p:nvPr/>
          </p:nvSpPr>
          <p:spPr>
            <a:xfrm>
              <a:off x="3967200" y="222876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24" name="Freeform 241"/>
            <p:cNvSpPr/>
            <p:nvPr/>
          </p:nvSpPr>
          <p:spPr>
            <a:xfrm>
              <a:off x="3589200" y="1884240"/>
              <a:ext cx="3269880" cy="2609640"/>
            </a:xfrm>
            <a:custGeom>
              <a:avLst/>
              <a:gdLst>
                <a:gd name="textAreaLeft" fmla="*/ 0 w 3269880"/>
                <a:gd name="textAreaRight" fmla="*/ 3270240 w 326988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3640" cy="861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Oval 115"/>
          <p:cNvSpPr/>
          <p:nvPr/>
        </p:nvSpPr>
        <p:spPr>
          <a:xfrm>
            <a:off x="1903320" y="210996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Rectangle 125"/>
          <p:cNvSpPr/>
          <p:nvPr/>
        </p:nvSpPr>
        <p:spPr>
          <a:xfrm>
            <a:off x="2617920" y="5472000"/>
            <a:ext cx="409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6"/>
          <p:cNvSpPr/>
          <p:nvPr/>
        </p:nvSpPr>
        <p:spPr>
          <a:xfrm>
            <a:off x="2784600" y="4951440"/>
            <a:ext cx="366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28"/>
          <p:cNvSpPr/>
          <p:nvPr/>
        </p:nvSpPr>
        <p:spPr>
          <a:xfrm>
            <a:off x="4424400" y="343548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0" name="Oval 129"/>
          <p:cNvSpPr/>
          <p:nvPr/>
        </p:nvSpPr>
        <p:spPr>
          <a:xfrm>
            <a:off x="6413400" y="258768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Oval 130"/>
          <p:cNvSpPr/>
          <p:nvPr/>
        </p:nvSpPr>
        <p:spPr>
          <a:xfrm>
            <a:off x="4846680" y="221292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Oval 132"/>
          <p:cNvSpPr/>
          <p:nvPr/>
        </p:nvSpPr>
        <p:spPr>
          <a:xfrm>
            <a:off x="2535120" y="439740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3" name="AutoShape 242"/>
          <p:cNvSpPr/>
          <p:nvPr/>
        </p:nvSpPr>
        <p:spPr>
          <a:xfrm>
            <a:off x="5292720" y="1324080"/>
            <a:ext cx="3146040" cy="433080"/>
          </a:xfrm>
          <a:prstGeom prst="callout2">
            <a:avLst>
              <a:gd name="adj1" fmla="val 26375"/>
              <a:gd name="adj2" fmla="val -2421"/>
              <a:gd name="adj3" fmla="val 26375"/>
              <a:gd name="adj4" fmla="val -6005"/>
              <a:gd name="adj5" fmla="val 239194"/>
              <a:gd name="adj6" fmla="val -9787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27"/>
          <p:cNvGrpSpPr/>
          <p:nvPr/>
        </p:nvGrpSpPr>
        <p:grpSpPr>
          <a:xfrm>
            <a:off x="749160" y="4010040"/>
            <a:ext cx="7908480" cy="2018880"/>
            <a:chOff x="749160" y="4010040"/>
            <a:chExt cx="7908480" cy="2018880"/>
          </a:xfrm>
        </p:grpSpPr>
        <p:sp>
          <p:nvSpPr>
            <p:cNvPr id="735" name="Freeform 28"/>
            <p:cNvSpPr/>
            <p:nvPr/>
          </p:nvSpPr>
          <p:spPr>
            <a:xfrm>
              <a:off x="894240" y="4099680"/>
              <a:ext cx="2325600" cy="184572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1845720"/>
                <a:gd name="textAreaBottom" fmla="*/ 1846080 h 18457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6" name="Freeform 29"/>
            <p:cNvSpPr/>
            <p:nvPr/>
          </p:nvSpPr>
          <p:spPr>
            <a:xfrm>
              <a:off x="820800" y="4275720"/>
              <a:ext cx="61920" cy="26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7" name="Freeform 30"/>
            <p:cNvSpPr/>
            <p:nvPr/>
          </p:nvSpPr>
          <p:spPr>
            <a:xfrm>
              <a:off x="1384560" y="439308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8" name="Freeform 31"/>
            <p:cNvSpPr/>
            <p:nvPr/>
          </p:nvSpPr>
          <p:spPr>
            <a:xfrm>
              <a:off x="2820240" y="4446360"/>
              <a:ext cx="179640" cy="702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39" name="Freeform 32"/>
            <p:cNvSpPr/>
            <p:nvPr/>
          </p:nvSpPr>
          <p:spPr>
            <a:xfrm>
              <a:off x="1950120" y="4812120"/>
              <a:ext cx="289800" cy="7956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0" name="Freeform 33"/>
            <p:cNvSpPr/>
            <p:nvPr/>
          </p:nvSpPr>
          <p:spPr>
            <a:xfrm>
              <a:off x="2188800" y="4872960"/>
              <a:ext cx="181440" cy="385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1" name="Freeform 34"/>
            <p:cNvSpPr/>
            <p:nvPr/>
          </p:nvSpPr>
          <p:spPr>
            <a:xfrm>
              <a:off x="2381400" y="489780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2" name="Freeform 35"/>
            <p:cNvSpPr/>
            <p:nvPr/>
          </p:nvSpPr>
          <p:spPr>
            <a:xfrm>
              <a:off x="2484360" y="490068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3" name="Freeform 36"/>
            <p:cNvSpPr/>
            <p:nvPr/>
          </p:nvSpPr>
          <p:spPr>
            <a:xfrm>
              <a:off x="2148120" y="4094640"/>
              <a:ext cx="330120" cy="83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4" name="Freeform 37"/>
            <p:cNvSpPr/>
            <p:nvPr/>
          </p:nvSpPr>
          <p:spPr>
            <a:xfrm>
              <a:off x="2295000" y="4055760"/>
              <a:ext cx="267840" cy="568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5" name="Freeform 38"/>
            <p:cNvSpPr/>
            <p:nvPr/>
          </p:nvSpPr>
          <p:spPr>
            <a:xfrm>
              <a:off x="2671560" y="4122360"/>
              <a:ext cx="427320" cy="18072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6" name="Freeform 39"/>
            <p:cNvSpPr/>
            <p:nvPr/>
          </p:nvSpPr>
          <p:spPr>
            <a:xfrm>
              <a:off x="2667960" y="4044240"/>
              <a:ext cx="80280" cy="3492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7" name="Freeform 40"/>
            <p:cNvSpPr/>
            <p:nvPr/>
          </p:nvSpPr>
          <p:spPr>
            <a:xfrm>
              <a:off x="2513520" y="4110840"/>
              <a:ext cx="118800" cy="396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8" name="Freeform 41"/>
            <p:cNvSpPr/>
            <p:nvPr/>
          </p:nvSpPr>
          <p:spPr>
            <a:xfrm>
              <a:off x="2638440" y="4118760"/>
              <a:ext cx="98640" cy="234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49" name="Freeform 42"/>
            <p:cNvSpPr/>
            <p:nvPr/>
          </p:nvSpPr>
          <p:spPr>
            <a:xfrm>
              <a:off x="2585160" y="4084200"/>
              <a:ext cx="117000" cy="320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0" name="Freeform 43"/>
            <p:cNvSpPr/>
            <p:nvPr/>
          </p:nvSpPr>
          <p:spPr>
            <a:xfrm>
              <a:off x="2535480" y="4053960"/>
              <a:ext cx="80280" cy="22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1" name="Freeform 44"/>
            <p:cNvSpPr/>
            <p:nvPr/>
          </p:nvSpPr>
          <p:spPr>
            <a:xfrm>
              <a:off x="2745000" y="4056840"/>
              <a:ext cx="208800" cy="7308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2" name="Freeform 45"/>
            <p:cNvSpPr/>
            <p:nvPr/>
          </p:nvSpPr>
          <p:spPr>
            <a:xfrm>
              <a:off x="749160" y="4290120"/>
              <a:ext cx="45360" cy="140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3" name="Freeform 46"/>
            <p:cNvSpPr/>
            <p:nvPr/>
          </p:nvSpPr>
          <p:spPr>
            <a:xfrm>
              <a:off x="2139120" y="4776840"/>
              <a:ext cx="29160" cy="11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4" name="Freeform 47"/>
            <p:cNvSpPr/>
            <p:nvPr/>
          </p:nvSpPr>
          <p:spPr>
            <a:xfrm>
              <a:off x="2144520" y="4800600"/>
              <a:ext cx="29160" cy="11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5" name="Freeform 48"/>
            <p:cNvSpPr/>
            <p:nvPr/>
          </p:nvSpPr>
          <p:spPr>
            <a:xfrm>
              <a:off x="2518920" y="4926240"/>
              <a:ext cx="27000" cy="111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6" name="Freeform 49"/>
            <p:cNvSpPr/>
            <p:nvPr/>
          </p:nvSpPr>
          <p:spPr>
            <a:xfrm>
              <a:off x="2746800" y="446544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7" name="Freeform 50"/>
            <p:cNvSpPr/>
            <p:nvPr/>
          </p:nvSpPr>
          <p:spPr>
            <a:xfrm>
              <a:off x="2563200" y="426996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8" name="Freeform 51"/>
            <p:cNvSpPr/>
            <p:nvPr/>
          </p:nvSpPr>
          <p:spPr>
            <a:xfrm>
              <a:off x="2682360" y="4099680"/>
              <a:ext cx="71280" cy="16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59" name="Freeform 52"/>
            <p:cNvSpPr/>
            <p:nvPr/>
          </p:nvSpPr>
          <p:spPr>
            <a:xfrm>
              <a:off x="2798280" y="420228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0" name="Freeform 53"/>
            <p:cNvSpPr/>
            <p:nvPr/>
          </p:nvSpPr>
          <p:spPr>
            <a:xfrm>
              <a:off x="2827440" y="4010040"/>
              <a:ext cx="1277280" cy="32904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1" name="Freeform 54"/>
            <p:cNvSpPr/>
            <p:nvPr/>
          </p:nvSpPr>
          <p:spPr>
            <a:xfrm>
              <a:off x="3218400" y="418536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2" name="Freeform 55"/>
            <p:cNvSpPr/>
            <p:nvPr/>
          </p:nvSpPr>
          <p:spPr>
            <a:xfrm>
              <a:off x="3738240" y="4248000"/>
              <a:ext cx="234720" cy="51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3" name="Freeform 56"/>
            <p:cNvSpPr/>
            <p:nvPr/>
          </p:nvSpPr>
          <p:spPr>
            <a:xfrm>
              <a:off x="3923640" y="409284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4" name="Freeform 57"/>
            <p:cNvSpPr/>
            <p:nvPr/>
          </p:nvSpPr>
          <p:spPr>
            <a:xfrm>
              <a:off x="4417200" y="4062240"/>
              <a:ext cx="284040" cy="59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5" name="Freeform 58"/>
            <p:cNvSpPr/>
            <p:nvPr/>
          </p:nvSpPr>
          <p:spPr>
            <a:xfrm>
              <a:off x="4595400" y="4093920"/>
              <a:ext cx="87840" cy="198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6" name="Freeform 59"/>
            <p:cNvSpPr/>
            <p:nvPr/>
          </p:nvSpPr>
          <p:spPr>
            <a:xfrm>
              <a:off x="4059360" y="4352760"/>
              <a:ext cx="199800" cy="1252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7" name="Freeform 60"/>
            <p:cNvSpPr/>
            <p:nvPr/>
          </p:nvSpPr>
          <p:spPr>
            <a:xfrm>
              <a:off x="3960360" y="4398480"/>
              <a:ext cx="126360" cy="64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8" name="Freeform 61"/>
            <p:cNvSpPr/>
            <p:nvPr/>
          </p:nvSpPr>
          <p:spPr>
            <a:xfrm>
              <a:off x="7055640" y="5487480"/>
              <a:ext cx="869760" cy="47124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69" name="Freeform 62"/>
            <p:cNvSpPr/>
            <p:nvPr/>
          </p:nvSpPr>
          <p:spPr>
            <a:xfrm>
              <a:off x="7325280" y="5238720"/>
              <a:ext cx="585360" cy="19980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0" name="Freeform 63"/>
            <p:cNvSpPr/>
            <p:nvPr/>
          </p:nvSpPr>
          <p:spPr>
            <a:xfrm>
              <a:off x="7341840" y="5240520"/>
              <a:ext cx="570600" cy="20052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1" name="Freeform 64"/>
            <p:cNvSpPr/>
            <p:nvPr/>
          </p:nvSpPr>
          <p:spPr>
            <a:xfrm>
              <a:off x="7764120" y="5974200"/>
              <a:ext cx="82080" cy="547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2" name="Freeform 65"/>
            <p:cNvSpPr/>
            <p:nvPr/>
          </p:nvSpPr>
          <p:spPr>
            <a:xfrm>
              <a:off x="8013960" y="5888520"/>
              <a:ext cx="300600" cy="8064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3" name="Freeform 66"/>
            <p:cNvSpPr/>
            <p:nvPr/>
          </p:nvSpPr>
          <p:spPr>
            <a:xfrm>
              <a:off x="8326080" y="5840640"/>
              <a:ext cx="190440" cy="87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4" name="Freeform 67"/>
            <p:cNvSpPr/>
            <p:nvPr/>
          </p:nvSpPr>
          <p:spPr>
            <a:xfrm>
              <a:off x="8426880" y="5801760"/>
              <a:ext cx="67680" cy="244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5" name="Freeform 68"/>
            <p:cNvSpPr/>
            <p:nvPr/>
          </p:nvSpPr>
          <p:spPr>
            <a:xfrm>
              <a:off x="5263560" y="5338800"/>
              <a:ext cx="225360" cy="191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6" name="Freeform 69"/>
            <p:cNvSpPr/>
            <p:nvPr/>
          </p:nvSpPr>
          <p:spPr>
            <a:xfrm>
              <a:off x="6240240" y="5041440"/>
              <a:ext cx="89640" cy="576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7" name="Freeform 70"/>
            <p:cNvSpPr/>
            <p:nvPr/>
          </p:nvSpPr>
          <p:spPr>
            <a:xfrm>
              <a:off x="6851880" y="5104440"/>
              <a:ext cx="203400" cy="1738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8" name="Freeform 71"/>
            <p:cNvSpPr/>
            <p:nvPr/>
          </p:nvSpPr>
          <p:spPr>
            <a:xfrm>
              <a:off x="6679080" y="5050080"/>
              <a:ext cx="131760" cy="129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9" name="Freeform 72"/>
            <p:cNvSpPr/>
            <p:nvPr/>
          </p:nvSpPr>
          <p:spPr>
            <a:xfrm>
              <a:off x="6769080" y="5154840"/>
              <a:ext cx="73080" cy="124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0" name="Freeform 73"/>
            <p:cNvSpPr/>
            <p:nvPr/>
          </p:nvSpPr>
          <p:spPr>
            <a:xfrm>
              <a:off x="6851880" y="5285520"/>
              <a:ext cx="118800" cy="51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1" name="Freeform 74"/>
            <p:cNvSpPr/>
            <p:nvPr/>
          </p:nvSpPr>
          <p:spPr>
            <a:xfrm>
              <a:off x="7042680" y="5194800"/>
              <a:ext cx="151920" cy="1112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2" name="Freeform 75"/>
            <p:cNvSpPr/>
            <p:nvPr/>
          </p:nvSpPr>
          <p:spPr>
            <a:xfrm>
              <a:off x="6991200" y="47966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3" name="Freeform 76"/>
            <p:cNvSpPr/>
            <p:nvPr/>
          </p:nvSpPr>
          <p:spPr>
            <a:xfrm>
              <a:off x="7017120" y="4910040"/>
              <a:ext cx="111600" cy="1119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4" name="Freeform 77"/>
            <p:cNvSpPr/>
            <p:nvPr/>
          </p:nvSpPr>
          <p:spPr>
            <a:xfrm>
              <a:off x="7095960" y="5058720"/>
              <a:ext cx="117000" cy="748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5" name="Freeform 78"/>
            <p:cNvSpPr/>
            <p:nvPr/>
          </p:nvSpPr>
          <p:spPr>
            <a:xfrm>
              <a:off x="7235280" y="5193000"/>
              <a:ext cx="52920" cy="464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6" name="Freeform 79"/>
            <p:cNvSpPr/>
            <p:nvPr/>
          </p:nvSpPr>
          <p:spPr>
            <a:xfrm>
              <a:off x="7206120" y="5271120"/>
              <a:ext cx="32760" cy="158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7" name="Freeform 80"/>
            <p:cNvSpPr/>
            <p:nvPr/>
          </p:nvSpPr>
          <p:spPr>
            <a:xfrm>
              <a:off x="7255800" y="5261760"/>
              <a:ext cx="82080" cy="34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8" name="Freeform 81"/>
            <p:cNvSpPr/>
            <p:nvPr/>
          </p:nvSpPr>
          <p:spPr>
            <a:xfrm>
              <a:off x="7382160" y="5328360"/>
              <a:ext cx="43560" cy="309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9" name="Freeform 82"/>
            <p:cNvSpPr/>
            <p:nvPr/>
          </p:nvSpPr>
          <p:spPr>
            <a:xfrm>
              <a:off x="7872480" y="5288400"/>
              <a:ext cx="84240" cy="44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0" name="Freeform 83"/>
            <p:cNvSpPr/>
            <p:nvPr/>
          </p:nvSpPr>
          <p:spPr>
            <a:xfrm>
              <a:off x="7143480" y="5344560"/>
              <a:ext cx="84240" cy="471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1" name="Freeform 84"/>
            <p:cNvSpPr/>
            <p:nvPr/>
          </p:nvSpPr>
          <p:spPr>
            <a:xfrm>
              <a:off x="7053840" y="5362560"/>
              <a:ext cx="58320" cy="252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2" name="Freeform 85"/>
            <p:cNvSpPr/>
            <p:nvPr/>
          </p:nvSpPr>
          <p:spPr>
            <a:xfrm>
              <a:off x="7014960" y="5334840"/>
              <a:ext cx="43560" cy="29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3" name="Freeform 86"/>
            <p:cNvSpPr/>
            <p:nvPr/>
          </p:nvSpPr>
          <p:spPr>
            <a:xfrm>
              <a:off x="7077600" y="5345280"/>
              <a:ext cx="61920" cy="226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4" name="Freeform 87"/>
            <p:cNvSpPr/>
            <p:nvPr/>
          </p:nvSpPr>
          <p:spPr>
            <a:xfrm>
              <a:off x="6987600" y="502920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5" name="Freeform 88"/>
            <p:cNvSpPr/>
            <p:nvPr/>
          </p:nvSpPr>
          <p:spPr>
            <a:xfrm>
              <a:off x="7081200" y="502056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6" name="Freeform 89"/>
            <p:cNvSpPr/>
            <p:nvPr/>
          </p:nvSpPr>
          <p:spPr>
            <a:xfrm>
              <a:off x="7121520" y="5004360"/>
              <a:ext cx="18000" cy="234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7" name="Freeform 90"/>
            <p:cNvSpPr/>
            <p:nvPr/>
          </p:nvSpPr>
          <p:spPr>
            <a:xfrm>
              <a:off x="7139880" y="5015880"/>
              <a:ext cx="38160" cy="45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8" name="Freeform 91"/>
            <p:cNvSpPr/>
            <p:nvPr/>
          </p:nvSpPr>
          <p:spPr>
            <a:xfrm>
              <a:off x="6645960" y="508176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9" name="Freeform 92"/>
            <p:cNvSpPr/>
            <p:nvPr/>
          </p:nvSpPr>
          <p:spPr>
            <a:xfrm>
              <a:off x="6627600" y="50598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0" name="Freeform 93"/>
            <p:cNvSpPr/>
            <p:nvPr/>
          </p:nvSpPr>
          <p:spPr>
            <a:xfrm>
              <a:off x="6620400" y="5042520"/>
              <a:ext cx="21600" cy="12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1" name="Freeform 94"/>
            <p:cNvSpPr/>
            <p:nvPr/>
          </p:nvSpPr>
          <p:spPr>
            <a:xfrm>
              <a:off x="6598440" y="5004360"/>
              <a:ext cx="19800" cy="17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2" name="Freeform 95"/>
            <p:cNvSpPr/>
            <p:nvPr/>
          </p:nvSpPr>
          <p:spPr>
            <a:xfrm>
              <a:off x="6602040" y="5028120"/>
              <a:ext cx="29160" cy="118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3" name="Freeform 96"/>
            <p:cNvSpPr/>
            <p:nvPr/>
          </p:nvSpPr>
          <p:spPr>
            <a:xfrm>
              <a:off x="8136720" y="5621760"/>
              <a:ext cx="82080" cy="568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4" name="Freeform 97"/>
            <p:cNvSpPr/>
            <p:nvPr/>
          </p:nvSpPr>
          <p:spPr>
            <a:xfrm>
              <a:off x="8560800" y="5574960"/>
              <a:ext cx="96840" cy="43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5" name="Freeform 98"/>
            <p:cNvSpPr/>
            <p:nvPr/>
          </p:nvSpPr>
          <p:spPr>
            <a:xfrm>
              <a:off x="8267040" y="5551200"/>
              <a:ext cx="30960" cy="21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6" name="Freeform 99"/>
            <p:cNvSpPr/>
            <p:nvPr/>
          </p:nvSpPr>
          <p:spPr>
            <a:xfrm>
              <a:off x="8252640" y="5530320"/>
              <a:ext cx="36360" cy="15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7" name="Freeform 100"/>
            <p:cNvSpPr/>
            <p:nvPr/>
          </p:nvSpPr>
          <p:spPr>
            <a:xfrm>
              <a:off x="7971480" y="5345280"/>
              <a:ext cx="43560" cy="309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8" name="Freeform 101"/>
            <p:cNvSpPr/>
            <p:nvPr/>
          </p:nvSpPr>
          <p:spPr>
            <a:xfrm>
              <a:off x="8034120" y="5386320"/>
              <a:ext cx="47520" cy="30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9" name="Freeform 102"/>
            <p:cNvSpPr/>
            <p:nvPr/>
          </p:nvSpPr>
          <p:spPr>
            <a:xfrm>
              <a:off x="8083440" y="5446440"/>
              <a:ext cx="51120" cy="262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0" name="Freeform 103"/>
            <p:cNvSpPr/>
            <p:nvPr/>
          </p:nvSpPr>
          <p:spPr>
            <a:xfrm>
              <a:off x="8146080" y="5436720"/>
              <a:ext cx="51120" cy="2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1" name="Freeform 104"/>
            <p:cNvSpPr/>
            <p:nvPr/>
          </p:nvSpPr>
          <p:spPr>
            <a:xfrm>
              <a:off x="8127720" y="540252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2" name="Freeform 105"/>
            <p:cNvSpPr/>
            <p:nvPr/>
          </p:nvSpPr>
          <p:spPr>
            <a:xfrm>
              <a:off x="8079840" y="5378760"/>
              <a:ext cx="47520" cy="33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3" name="Freeform 106"/>
            <p:cNvSpPr/>
            <p:nvPr/>
          </p:nvSpPr>
          <p:spPr>
            <a:xfrm>
              <a:off x="8021160" y="536364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4" name="Freeform 107"/>
            <p:cNvSpPr/>
            <p:nvPr/>
          </p:nvSpPr>
          <p:spPr>
            <a:xfrm>
              <a:off x="8094600" y="541404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5" name="Freeform 108"/>
            <p:cNvSpPr/>
            <p:nvPr/>
          </p:nvSpPr>
          <p:spPr>
            <a:xfrm>
              <a:off x="3929040" y="4199400"/>
              <a:ext cx="1396800" cy="51588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16" h="723">
                  <a:moveTo>
                    <a:pt x="214" y="612"/>
                  </a:moveTo>
                  <a:cubicBezTo>
                    <a:pt x="204" y="613"/>
                    <a:pt x="199" y="613"/>
                    <a:pt x="191" y="618"/>
                  </a:cubicBezTo>
                  <a:cubicBezTo>
                    <a:pt x="184" y="627"/>
                    <a:pt x="178" y="635"/>
                    <a:pt x="167" y="637"/>
                  </a:cubicBezTo>
                  <a:cubicBezTo>
                    <a:pt x="162" y="639"/>
                    <a:pt x="158" y="640"/>
                    <a:pt x="154" y="643"/>
                  </a:cubicBezTo>
                  <a:cubicBezTo>
                    <a:pt x="143" y="661"/>
                    <a:pt x="124" y="659"/>
                    <a:pt x="104" y="660"/>
                  </a:cubicBezTo>
                  <a:cubicBezTo>
                    <a:pt x="99" y="661"/>
                    <a:pt x="94" y="663"/>
                    <a:pt x="89" y="664"/>
                  </a:cubicBezTo>
                  <a:cubicBezTo>
                    <a:pt x="83" y="663"/>
                    <a:pt x="80" y="660"/>
                    <a:pt x="74" y="658"/>
                  </a:cubicBezTo>
                  <a:cubicBezTo>
                    <a:pt x="68" y="652"/>
                    <a:pt x="60" y="647"/>
                    <a:pt x="52" y="643"/>
                  </a:cubicBezTo>
                  <a:cubicBezTo>
                    <a:pt x="42" y="645"/>
                    <a:pt x="33" y="648"/>
                    <a:pt x="23" y="649"/>
                  </a:cubicBezTo>
                  <a:cubicBezTo>
                    <a:pt x="17" y="652"/>
                    <a:pt x="11" y="653"/>
                    <a:pt x="5" y="657"/>
                  </a:cubicBezTo>
                  <a:cubicBezTo>
                    <a:pt x="0" y="648"/>
                    <a:pt x="3" y="639"/>
                    <a:pt x="7" y="630"/>
                  </a:cubicBezTo>
                  <a:cubicBezTo>
                    <a:pt x="8" y="623"/>
                    <a:pt x="11" y="623"/>
                    <a:pt x="17" y="627"/>
                  </a:cubicBezTo>
                  <a:cubicBezTo>
                    <a:pt x="24" y="615"/>
                    <a:pt x="21" y="609"/>
                    <a:pt x="14" y="598"/>
                  </a:cubicBezTo>
                  <a:cubicBezTo>
                    <a:pt x="13" y="589"/>
                    <a:pt x="15" y="589"/>
                    <a:pt x="23" y="588"/>
                  </a:cubicBezTo>
                  <a:cubicBezTo>
                    <a:pt x="36" y="583"/>
                    <a:pt x="30" y="561"/>
                    <a:pt x="26" y="550"/>
                  </a:cubicBezTo>
                  <a:cubicBezTo>
                    <a:pt x="25" y="543"/>
                    <a:pt x="21" y="537"/>
                    <a:pt x="17" y="531"/>
                  </a:cubicBezTo>
                  <a:cubicBezTo>
                    <a:pt x="21" y="518"/>
                    <a:pt x="38" y="521"/>
                    <a:pt x="50" y="519"/>
                  </a:cubicBezTo>
                  <a:cubicBezTo>
                    <a:pt x="66" y="509"/>
                    <a:pt x="61" y="509"/>
                    <a:pt x="88" y="514"/>
                  </a:cubicBezTo>
                  <a:cubicBezTo>
                    <a:pt x="93" y="518"/>
                    <a:pt x="97" y="519"/>
                    <a:pt x="103" y="520"/>
                  </a:cubicBezTo>
                  <a:cubicBezTo>
                    <a:pt x="109" y="523"/>
                    <a:pt x="115" y="526"/>
                    <a:pt x="121" y="528"/>
                  </a:cubicBezTo>
                  <a:cubicBezTo>
                    <a:pt x="130" y="526"/>
                    <a:pt x="139" y="523"/>
                    <a:pt x="148" y="522"/>
                  </a:cubicBezTo>
                  <a:cubicBezTo>
                    <a:pt x="153" y="519"/>
                    <a:pt x="157" y="518"/>
                    <a:pt x="160" y="513"/>
                  </a:cubicBezTo>
                  <a:cubicBezTo>
                    <a:pt x="162" y="504"/>
                    <a:pt x="162" y="494"/>
                    <a:pt x="166" y="486"/>
                  </a:cubicBezTo>
                  <a:cubicBezTo>
                    <a:pt x="169" y="472"/>
                    <a:pt x="169" y="447"/>
                    <a:pt x="152" y="444"/>
                  </a:cubicBezTo>
                  <a:cubicBezTo>
                    <a:pt x="136" y="436"/>
                    <a:pt x="165" y="450"/>
                    <a:pt x="116" y="441"/>
                  </a:cubicBezTo>
                  <a:cubicBezTo>
                    <a:pt x="113" y="440"/>
                    <a:pt x="114" y="435"/>
                    <a:pt x="112" y="432"/>
                  </a:cubicBezTo>
                  <a:cubicBezTo>
                    <a:pt x="113" y="409"/>
                    <a:pt x="109" y="418"/>
                    <a:pt x="122" y="412"/>
                  </a:cubicBezTo>
                  <a:cubicBezTo>
                    <a:pt x="130" y="413"/>
                    <a:pt x="145" y="420"/>
                    <a:pt x="145" y="420"/>
                  </a:cubicBezTo>
                  <a:cubicBezTo>
                    <a:pt x="150" y="418"/>
                    <a:pt x="156" y="418"/>
                    <a:pt x="161" y="415"/>
                  </a:cubicBezTo>
                  <a:cubicBezTo>
                    <a:pt x="165" y="410"/>
                    <a:pt x="168" y="409"/>
                    <a:pt x="173" y="406"/>
                  </a:cubicBezTo>
                  <a:cubicBezTo>
                    <a:pt x="178" y="418"/>
                    <a:pt x="184" y="405"/>
                    <a:pt x="191" y="403"/>
                  </a:cubicBezTo>
                  <a:cubicBezTo>
                    <a:pt x="196" y="402"/>
                    <a:pt x="201" y="402"/>
                    <a:pt x="206" y="402"/>
                  </a:cubicBezTo>
                  <a:cubicBezTo>
                    <a:pt x="217" y="398"/>
                    <a:pt x="225" y="394"/>
                    <a:pt x="235" y="388"/>
                  </a:cubicBezTo>
                  <a:cubicBezTo>
                    <a:pt x="237" y="374"/>
                    <a:pt x="242" y="376"/>
                    <a:pt x="257" y="375"/>
                  </a:cubicBezTo>
                  <a:cubicBezTo>
                    <a:pt x="264" y="371"/>
                    <a:pt x="270" y="367"/>
                    <a:pt x="277" y="363"/>
                  </a:cubicBezTo>
                  <a:cubicBezTo>
                    <a:pt x="280" y="357"/>
                    <a:pt x="283" y="354"/>
                    <a:pt x="289" y="351"/>
                  </a:cubicBezTo>
                  <a:cubicBezTo>
                    <a:pt x="292" y="345"/>
                    <a:pt x="295" y="342"/>
                    <a:pt x="301" y="339"/>
                  </a:cubicBezTo>
                  <a:cubicBezTo>
                    <a:pt x="306" y="331"/>
                    <a:pt x="305" y="330"/>
                    <a:pt x="314" y="331"/>
                  </a:cubicBezTo>
                  <a:cubicBezTo>
                    <a:pt x="319" y="339"/>
                    <a:pt x="322" y="337"/>
                    <a:pt x="332" y="336"/>
                  </a:cubicBezTo>
                  <a:cubicBezTo>
                    <a:pt x="340" y="322"/>
                    <a:pt x="339" y="301"/>
                    <a:pt x="329" y="288"/>
                  </a:cubicBezTo>
                  <a:cubicBezTo>
                    <a:pt x="331" y="271"/>
                    <a:pt x="330" y="270"/>
                    <a:pt x="346" y="273"/>
                  </a:cubicBezTo>
                  <a:cubicBezTo>
                    <a:pt x="354" y="271"/>
                    <a:pt x="360" y="268"/>
                    <a:pt x="367" y="265"/>
                  </a:cubicBezTo>
                  <a:cubicBezTo>
                    <a:pt x="372" y="271"/>
                    <a:pt x="375" y="277"/>
                    <a:pt x="380" y="283"/>
                  </a:cubicBezTo>
                  <a:cubicBezTo>
                    <a:pt x="378" y="292"/>
                    <a:pt x="368" y="295"/>
                    <a:pt x="361" y="300"/>
                  </a:cubicBezTo>
                  <a:cubicBezTo>
                    <a:pt x="358" y="307"/>
                    <a:pt x="360" y="309"/>
                    <a:pt x="367" y="310"/>
                  </a:cubicBezTo>
                  <a:cubicBezTo>
                    <a:pt x="376" y="314"/>
                    <a:pt x="385" y="320"/>
                    <a:pt x="394" y="324"/>
                  </a:cubicBezTo>
                  <a:cubicBezTo>
                    <a:pt x="401" y="322"/>
                    <a:pt x="407" y="322"/>
                    <a:pt x="413" y="318"/>
                  </a:cubicBezTo>
                  <a:cubicBezTo>
                    <a:pt x="421" y="323"/>
                    <a:pt x="427" y="329"/>
                    <a:pt x="436" y="331"/>
                  </a:cubicBezTo>
                  <a:cubicBezTo>
                    <a:pt x="444" y="330"/>
                    <a:pt x="450" y="328"/>
                    <a:pt x="457" y="327"/>
                  </a:cubicBezTo>
                  <a:cubicBezTo>
                    <a:pt x="463" y="324"/>
                    <a:pt x="469" y="321"/>
                    <a:pt x="475" y="319"/>
                  </a:cubicBezTo>
                  <a:cubicBezTo>
                    <a:pt x="479" y="314"/>
                    <a:pt x="481" y="312"/>
                    <a:pt x="487" y="310"/>
                  </a:cubicBezTo>
                  <a:cubicBezTo>
                    <a:pt x="493" y="313"/>
                    <a:pt x="498" y="318"/>
                    <a:pt x="505" y="319"/>
                  </a:cubicBezTo>
                  <a:cubicBezTo>
                    <a:pt x="513" y="318"/>
                    <a:pt x="518" y="314"/>
                    <a:pt x="526" y="312"/>
                  </a:cubicBezTo>
                  <a:cubicBezTo>
                    <a:pt x="523" y="294"/>
                    <a:pt x="526" y="293"/>
                    <a:pt x="539" y="283"/>
                  </a:cubicBezTo>
                  <a:cubicBezTo>
                    <a:pt x="542" y="276"/>
                    <a:pt x="543" y="271"/>
                    <a:pt x="539" y="264"/>
                  </a:cubicBezTo>
                  <a:cubicBezTo>
                    <a:pt x="537" y="255"/>
                    <a:pt x="543" y="258"/>
                    <a:pt x="550" y="259"/>
                  </a:cubicBezTo>
                  <a:cubicBezTo>
                    <a:pt x="556" y="262"/>
                    <a:pt x="559" y="259"/>
                    <a:pt x="565" y="258"/>
                  </a:cubicBezTo>
                  <a:cubicBezTo>
                    <a:pt x="573" y="259"/>
                    <a:pt x="574" y="263"/>
                    <a:pt x="580" y="267"/>
                  </a:cubicBezTo>
                  <a:cubicBezTo>
                    <a:pt x="593" y="264"/>
                    <a:pt x="590" y="260"/>
                    <a:pt x="584" y="250"/>
                  </a:cubicBezTo>
                  <a:cubicBezTo>
                    <a:pt x="583" y="243"/>
                    <a:pt x="581" y="239"/>
                    <a:pt x="589" y="237"/>
                  </a:cubicBezTo>
                  <a:cubicBezTo>
                    <a:pt x="604" y="226"/>
                    <a:pt x="622" y="228"/>
                    <a:pt x="640" y="225"/>
                  </a:cubicBezTo>
                  <a:cubicBezTo>
                    <a:pt x="648" y="221"/>
                    <a:pt x="656" y="219"/>
                    <a:pt x="664" y="214"/>
                  </a:cubicBezTo>
                  <a:cubicBezTo>
                    <a:pt x="666" y="201"/>
                    <a:pt x="656" y="205"/>
                    <a:pt x="644" y="204"/>
                  </a:cubicBezTo>
                  <a:cubicBezTo>
                    <a:pt x="627" y="195"/>
                    <a:pt x="606" y="201"/>
                    <a:pt x="587" y="205"/>
                  </a:cubicBezTo>
                  <a:cubicBezTo>
                    <a:pt x="583" y="211"/>
                    <a:pt x="581" y="219"/>
                    <a:pt x="575" y="220"/>
                  </a:cubicBezTo>
                  <a:cubicBezTo>
                    <a:pt x="561" y="218"/>
                    <a:pt x="555" y="209"/>
                    <a:pt x="541" y="207"/>
                  </a:cubicBezTo>
                  <a:cubicBezTo>
                    <a:pt x="533" y="199"/>
                    <a:pt x="531" y="189"/>
                    <a:pt x="524" y="180"/>
                  </a:cubicBezTo>
                  <a:cubicBezTo>
                    <a:pt x="521" y="164"/>
                    <a:pt x="528" y="153"/>
                    <a:pt x="544" y="150"/>
                  </a:cubicBezTo>
                  <a:cubicBezTo>
                    <a:pt x="564" y="135"/>
                    <a:pt x="532" y="135"/>
                    <a:pt x="568" y="132"/>
                  </a:cubicBezTo>
                  <a:cubicBezTo>
                    <a:pt x="573" y="128"/>
                    <a:pt x="573" y="125"/>
                    <a:pt x="578" y="121"/>
                  </a:cubicBezTo>
                  <a:cubicBezTo>
                    <a:pt x="585" y="107"/>
                    <a:pt x="568" y="109"/>
                    <a:pt x="559" y="108"/>
                  </a:cubicBezTo>
                  <a:cubicBezTo>
                    <a:pt x="555" y="107"/>
                    <a:pt x="552" y="103"/>
                    <a:pt x="548" y="103"/>
                  </a:cubicBezTo>
                  <a:cubicBezTo>
                    <a:pt x="543" y="103"/>
                    <a:pt x="533" y="106"/>
                    <a:pt x="533" y="106"/>
                  </a:cubicBezTo>
                  <a:cubicBezTo>
                    <a:pt x="526" y="114"/>
                    <a:pt x="528" y="116"/>
                    <a:pt x="530" y="126"/>
                  </a:cubicBezTo>
                  <a:cubicBezTo>
                    <a:pt x="529" y="139"/>
                    <a:pt x="520" y="138"/>
                    <a:pt x="508" y="141"/>
                  </a:cubicBezTo>
                  <a:cubicBezTo>
                    <a:pt x="492" y="137"/>
                    <a:pt x="486" y="143"/>
                    <a:pt x="479" y="157"/>
                  </a:cubicBezTo>
                  <a:cubicBezTo>
                    <a:pt x="485" y="173"/>
                    <a:pt x="486" y="169"/>
                    <a:pt x="479" y="186"/>
                  </a:cubicBezTo>
                  <a:cubicBezTo>
                    <a:pt x="483" y="198"/>
                    <a:pt x="493" y="203"/>
                    <a:pt x="499" y="214"/>
                  </a:cubicBezTo>
                  <a:cubicBezTo>
                    <a:pt x="500" y="220"/>
                    <a:pt x="500" y="224"/>
                    <a:pt x="497" y="229"/>
                  </a:cubicBezTo>
                  <a:cubicBezTo>
                    <a:pt x="496" y="236"/>
                    <a:pt x="489" y="240"/>
                    <a:pt x="482" y="241"/>
                  </a:cubicBezTo>
                  <a:cubicBezTo>
                    <a:pt x="474" y="245"/>
                    <a:pt x="474" y="249"/>
                    <a:pt x="470" y="256"/>
                  </a:cubicBezTo>
                  <a:cubicBezTo>
                    <a:pt x="469" y="265"/>
                    <a:pt x="469" y="274"/>
                    <a:pt x="460" y="279"/>
                  </a:cubicBezTo>
                  <a:cubicBezTo>
                    <a:pt x="457" y="286"/>
                    <a:pt x="450" y="288"/>
                    <a:pt x="443" y="289"/>
                  </a:cubicBezTo>
                  <a:cubicBezTo>
                    <a:pt x="436" y="294"/>
                    <a:pt x="430" y="299"/>
                    <a:pt x="422" y="304"/>
                  </a:cubicBezTo>
                  <a:cubicBezTo>
                    <a:pt x="414" y="300"/>
                    <a:pt x="409" y="295"/>
                    <a:pt x="404" y="288"/>
                  </a:cubicBezTo>
                  <a:cubicBezTo>
                    <a:pt x="403" y="282"/>
                    <a:pt x="401" y="276"/>
                    <a:pt x="398" y="270"/>
                  </a:cubicBezTo>
                  <a:cubicBezTo>
                    <a:pt x="397" y="263"/>
                    <a:pt x="392" y="256"/>
                    <a:pt x="389" y="250"/>
                  </a:cubicBezTo>
                  <a:cubicBezTo>
                    <a:pt x="387" y="238"/>
                    <a:pt x="387" y="240"/>
                    <a:pt x="373" y="241"/>
                  </a:cubicBezTo>
                  <a:cubicBezTo>
                    <a:pt x="365" y="244"/>
                    <a:pt x="359" y="251"/>
                    <a:pt x="350" y="253"/>
                  </a:cubicBezTo>
                  <a:cubicBezTo>
                    <a:pt x="346" y="256"/>
                    <a:pt x="341" y="259"/>
                    <a:pt x="337" y="262"/>
                  </a:cubicBezTo>
                  <a:cubicBezTo>
                    <a:pt x="328" y="260"/>
                    <a:pt x="334" y="262"/>
                    <a:pt x="322" y="256"/>
                  </a:cubicBezTo>
                  <a:cubicBezTo>
                    <a:pt x="320" y="255"/>
                    <a:pt x="316" y="253"/>
                    <a:pt x="316" y="253"/>
                  </a:cubicBezTo>
                  <a:cubicBezTo>
                    <a:pt x="312" y="247"/>
                    <a:pt x="306" y="241"/>
                    <a:pt x="302" y="235"/>
                  </a:cubicBezTo>
                  <a:cubicBezTo>
                    <a:pt x="300" y="231"/>
                    <a:pt x="296" y="223"/>
                    <a:pt x="296" y="223"/>
                  </a:cubicBezTo>
                  <a:cubicBezTo>
                    <a:pt x="294" y="214"/>
                    <a:pt x="294" y="204"/>
                    <a:pt x="298" y="195"/>
                  </a:cubicBezTo>
                  <a:cubicBezTo>
                    <a:pt x="299" y="189"/>
                    <a:pt x="301" y="183"/>
                    <a:pt x="304" y="177"/>
                  </a:cubicBezTo>
                  <a:cubicBezTo>
                    <a:pt x="307" y="161"/>
                    <a:pt x="307" y="150"/>
                    <a:pt x="325" y="147"/>
                  </a:cubicBezTo>
                  <a:cubicBezTo>
                    <a:pt x="333" y="143"/>
                    <a:pt x="343" y="140"/>
                    <a:pt x="352" y="138"/>
                  </a:cubicBezTo>
                  <a:cubicBezTo>
                    <a:pt x="358" y="135"/>
                    <a:pt x="363" y="130"/>
                    <a:pt x="370" y="129"/>
                  </a:cubicBezTo>
                  <a:cubicBezTo>
                    <a:pt x="375" y="125"/>
                    <a:pt x="377" y="121"/>
                    <a:pt x="382" y="118"/>
                  </a:cubicBezTo>
                  <a:cubicBezTo>
                    <a:pt x="386" y="112"/>
                    <a:pt x="390" y="108"/>
                    <a:pt x="394" y="102"/>
                  </a:cubicBezTo>
                  <a:cubicBezTo>
                    <a:pt x="395" y="95"/>
                    <a:pt x="399" y="90"/>
                    <a:pt x="403" y="84"/>
                  </a:cubicBezTo>
                  <a:cubicBezTo>
                    <a:pt x="404" y="77"/>
                    <a:pt x="411" y="73"/>
                    <a:pt x="418" y="72"/>
                  </a:cubicBezTo>
                  <a:cubicBezTo>
                    <a:pt x="426" y="68"/>
                    <a:pt x="431" y="62"/>
                    <a:pt x="439" y="57"/>
                  </a:cubicBezTo>
                  <a:cubicBezTo>
                    <a:pt x="446" y="46"/>
                    <a:pt x="458" y="30"/>
                    <a:pt x="470" y="25"/>
                  </a:cubicBezTo>
                  <a:cubicBezTo>
                    <a:pt x="483" y="19"/>
                    <a:pt x="500" y="21"/>
                    <a:pt x="514" y="16"/>
                  </a:cubicBezTo>
                  <a:cubicBezTo>
                    <a:pt x="518" y="13"/>
                    <a:pt x="527" y="8"/>
                    <a:pt x="532" y="7"/>
                  </a:cubicBezTo>
                  <a:cubicBezTo>
                    <a:pt x="538" y="6"/>
                    <a:pt x="545" y="5"/>
                    <a:pt x="551" y="4"/>
                  </a:cubicBezTo>
                  <a:cubicBezTo>
                    <a:pt x="553" y="4"/>
                    <a:pt x="557" y="3"/>
                    <a:pt x="557" y="3"/>
                  </a:cubicBezTo>
                  <a:cubicBezTo>
                    <a:pt x="564" y="0"/>
                    <a:pt x="567" y="3"/>
                    <a:pt x="574" y="4"/>
                  </a:cubicBezTo>
                  <a:cubicBezTo>
                    <a:pt x="580" y="9"/>
                    <a:pt x="582" y="9"/>
                    <a:pt x="589" y="7"/>
                  </a:cubicBezTo>
                  <a:cubicBezTo>
                    <a:pt x="594" y="3"/>
                    <a:pt x="601" y="1"/>
                    <a:pt x="607" y="0"/>
                  </a:cubicBezTo>
                  <a:cubicBezTo>
                    <a:pt x="618" y="1"/>
                    <a:pt x="624" y="2"/>
                    <a:pt x="634" y="4"/>
                  </a:cubicBezTo>
                  <a:cubicBezTo>
                    <a:pt x="640" y="13"/>
                    <a:pt x="634" y="19"/>
                    <a:pt x="629" y="27"/>
                  </a:cubicBezTo>
                  <a:cubicBezTo>
                    <a:pt x="633" y="35"/>
                    <a:pt x="640" y="31"/>
                    <a:pt x="646" y="28"/>
                  </a:cubicBezTo>
                  <a:cubicBezTo>
                    <a:pt x="668" y="29"/>
                    <a:pt x="674" y="31"/>
                    <a:pt x="691" y="34"/>
                  </a:cubicBezTo>
                  <a:cubicBezTo>
                    <a:pt x="696" y="38"/>
                    <a:pt x="696" y="42"/>
                    <a:pt x="703" y="43"/>
                  </a:cubicBezTo>
                  <a:cubicBezTo>
                    <a:pt x="709" y="46"/>
                    <a:pt x="712" y="43"/>
                    <a:pt x="718" y="42"/>
                  </a:cubicBezTo>
                  <a:cubicBezTo>
                    <a:pt x="724" y="39"/>
                    <a:pt x="727" y="41"/>
                    <a:pt x="731" y="46"/>
                  </a:cubicBezTo>
                  <a:cubicBezTo>
                    <a:pt x="735" y="63"/>
                    <a:pt x="734" y="48"/>
                    <a:pt x="742" y="43"/>
                  </a:cubicBezTo>
                  <a:cubicBezTo>
                    <a:pt x="747" y="49"/>
                    <a:pt x="751" y="50"/>
                    <a:pt x="754" y="57"/>
                  </a:cubicBezTo>
                  <a:cubicBezTo>
                    <a:pt x="756" y="69"/>
                    <a:pt x="761" y="58"/>
                    <a:pt x="767" y="54"/>
                  </a:cubicBezTo>
                  <a:cubicBezTo>
                    <a:pt x="773" y="58"/>
                    <a:pt x="779" y="63"/>
                    <a:pt x="785" y="67"/>
                  </a:cubicBezTo>
                  <a:cubicBezTo>
                    <a:pt x="792" y="66"/>
                    <a:pt x="797" y="66"/>
                    <a:pt x="803" y="70"/>
                  </a:cubicBezTo>
                  <a:cubicBezTo>
                    <a:pt x="806" y="77"/>
                    <a:pt x="805" y="78"/>
                    <a:pt x="799" y="82"/>
                  </a:cubicBezTo>
                  <a:cubicBezTo>
                    <a:pt x="796" y="88"/>
                    <a:pt x="792" y="89"/>
                    <a:pt x="787" y="93"/>
                  </a:cubicBezTo>
                  <a:cubicBezTo>
                    <a:pt x="784" y="98"/>
                    <a:pt x="782" y="103"/>
                    <a:pt x="787" y="108"/>
                  </a:cubicBezTo>
                  <a:cubicBezTo>
                    <a:pt x="791" y="112"/>
                    <a:pt x="800" y="118"/>
                    <a:pt x="800" y="118"/>
                  </a:cubicBezTo>
                  <a:cubicBezTo>
                    <a:pt x="810" y="116"/>
                    <a:pt x="798" y="98"/>
                    <a:pt x="812" y="87"/>
                  </a:cubicBezTo>
                  <a:cubicBezTo>
                    <a:pt x="819" y="88"/>
                    <a:pt x="823" y="90"/>
                    <a:pt x="829" y="91"/>
                  </a:cubicBezTo>
                  <a:cubicBezTo>
                    <a:pt x="833" y="94"/>
                    <a:pt x="837" y="97"/>
                    <a:pt x="842" y="99"/>
                  </a:cubicBezTo>
                  <a:cubicBezTo>
                    <a:pt x="856" y="93"/>
                    <a:pt x="847" y="80"/>
                    <a:pt x="836" y="78"/>
                  </a:cubicBezTo>
                  <a:cubicBezTo>
                    <a:pt x="831" y="72"/>
                    <a:pt x="828" y="66"/>
                    <a:pt x="823" y="60"/>
                  </a:cubicBezTo>
                  <a:cubicBezTo>
                    <a:pt x="824" y="42"/>
                    <a:pt x="826" y="34"/>
                    <a:pt x="844" y="30"/>
                  </a:cubicBezTo>
                  <a:cubicBezTo>
                    <a:pt x="857" y="31"/>
                    <a:pt x="866" y="38"/>
                    <a:pt x="877" y="45"/>
                  </a:cubicBezTo>
                  <a:cubicBezTo>
                    <a:pt x="879" y="60"/>
                    <a:pt x="868" y="60"/>
                    <a:pt x="857" y="63"/>
                  </a:cubicBezTo>
                  <a:cubicBezTo>
                    <a:pt x="850" y="68"/>
                    <a:pt x="849" y="74"/>
                    <a:pt x="859" y="76"/>
                  </a:cubicBezTo>
                  <a:cubicBezTo>
                    <a:pt x="864" y="79"/>
                    <a:pt x="877" y="75"/>
                    <a:pt x="877" y="75"/>
                  </a:cubicBezTo>
                  <a:cubicBezTo>
                    <a:pt x="882" y="73"/>
                    <a:pt x="884" y="69"/>
                    <a:pt x="889" y="66"/>
                  </a:cubicBezTo>
                  <a:cubicBezTo>
                    <a:pt x="894" y="57"/>
                    <a:pt x="898" y="50"/>
                    <a:pt x="908" y="48"/>
                  </a:cubicBezTo>
                  <a:cubicBezTo>
                    <a:pt x="920" y="43"/>
                    <a:pt x="931" y="35"/>
                    <a:pt x="943" y="33"/>
                  </a:cubicBezTo>
                  <a:cubicBezTo>
                    <a:pt x="952" y="38"/>
                    <a:pt x="960" y="41"/>
                    <a:pt x="970" y="43"/>
                  </a:cubicBezTo>
                  <a:cubicBezTo>
                    <a:pt x="978" y="47"/>
                    <a:pt x="991" y="47"/>
                    <a:pt x="1000" y="48"/>
                  </a:cubicBezTo>
                  <a:cubicBezTo>
                    <a:pt x="1005" y="51"/>
                    <a:pt x="1009" y="53"/>
                    <a:pt x="1012" y="58"/>
                  </a:cubicBezTo>
                  <a:cubicBezTo>
                    <a:pt x="1016" y="76"/>
                    <a:pt x="1010" y="96"/>
                    <a:pt x="1009" y="115"/>
                  </a:cubicBezTo>
                  <a:cubicBezTo>
                    <a:pt x="1008" y="150"/>
                    <a:pt x="1012" y="215"/>
                    <a:pt x="1004" y="256"/>
                  </a:cubicBezTo>
                  <a:cubicBezTo>
                    <a:pt x="1002" y="273"/>
                    <a:pt x="1000" y="289"/>
                    <a:pt x="998" y="306"/>
                  </a:cubicBezTo>
                  <a:cubicBezTo>
                    <a:pt x="996" y="338"/>
                    <a:pt x="991" y="371"/>
                    <a:pt x="986" y="402"/>
                  </a:cubicBezTo>
                  <a:cubicBezTo>
                    <a:pt x="983" y="442"/>
                    <a:pt x="985" y="539"/>
                    <a:pt x="997" y="574"/>
                  </a:cubicBezTo>
                  <a:cubicBezTo>
                    <a:pt x="1001" y="624"/>
                    <a:pt x="1016" y="662"/>
                    <a:pt x="961" y="670"/>
                  </a:cubicBezTo>
                  <a:cubicBezTo>
                    <a:pt x="954" y="673"/>
                    <a:pt x="949" y="675"/>
                    <a:pt x="941" y="676"/>
                  </a:cubicBezTo>
                  <a:cubicBezTo>
                    <a:pt x="930" y="682"/>
                    <a:pt x="920" y="689"/>
                    <a:pt x="907" y="691"/>
                  </a:cubicBezTo>
                  <a:cubicBezTo>
                    <a:pt x="901" y="695"/>
                    <a:pt x="894" y="699"/>
                    <a:pt x="887" y="700"/>
                  </a:cubicBezTo>
                  <a:cubicBezTo>
                    <a:pt x="876" y="705"/>
                    <a:pt x="862" y="716"/>
                    <a:pt x="851" y="718"/>
                  </a:cubicBezTo>
                  <a:cubicBezTo>
                    <a:pt x="846" y="720"/>
                    <a:pt x="841" y="721"/>
                    <a:pt x="836" y="723"/>
                  </a:cubicBezTo>
                  <a:cubicBezTo>
                    <a:pt x="810" y="719"/>
                    <a:pt x="823" y="711"/>
                    <a:pt x="815" y="691"/>
                  </a:cubicBezTo>
                  <a:cubicBezTo>
                    <a:pt x="814" y="683"/>
                    <a:pt x="813" y="677"/>
                    <a:pt x="809" y="670"/>
                  </a:cubicBezTo>
                  <a:cubicBezTo>
                    <a:pt x="800" y="673"/>
                    <a:pt x="792" y="677"/>
                    <a:pt x="782" y="679"/>
                  </a:cubicBezTo>
                  <a:cubicBezTo>
                    <a:pt x="773" y="678"/>
                    <a:pt x="767" y="676"/>
                    <a:pt x="757" y="675"/>
                  </a:cubicBezTo>
                  <a:cubicBezTo>
                    <a:pt x="750" y="671"/>
                    <a:pt x="751" y="667"/>
                    <a:pt x="743" y="666"/>
                  </a:cubicBezTo>
                  <a:cubicBezTo>
                    <a:pt x="734" y="667"/>
                    <a:pt x="728" y="674"/>
                    <a:pt x="719" y="676"/>
                  </a:cubicBezTo>
                  <a:cubicBezTo>
                    <a:pt x="709" y="683"/>
                    <a:pt x="698" y="677"/>
                    <a:pt x="688" y="675"/>
                  </a:cubicBezTo>
                  <a:cubicBezTo>
                    <a:pt x="684" y="668"/>
                    <a:pt x="682" y="667"/>
                    <a:pt x="674" y="666"/>
                  </a:cubicBezTo>
                  <a:cubicBezTo>
                    <a:pt x="669" y="660"/>
                    <a:pt x="666" y="655"/>
                    <a:pt x="662" y="648"/>
                  </a:cubicBezTo>
                  <a:cubicBezTo>
                    <a:pt x="661" y="642"/>
                    <a:pt x="659" y="639"/>
                    <a:pt x="656" y="634"/>
                  </a:cubicBezTo>
                  <a:cubicBezTo>
                    <a:pt x="661" y="618"/>
                    <a:pt x="654" y="612"/>
                    <a:pt x="643" y="604"/>
                  </a:cubicBezTo>
                  <a:cubicBezTo>
                    <a:pt x="638" y="595"/>
                    <a:pt x="676" y="581"/>
                    <a:pt x="685" y="579"/>
                  </a:cubicBezTo>
                  <a:cubicBezTo>
                    <a:pt x="691" y="576"/>
                    <a:pt x="696" y="571"/>
                    <a:pt x="703" y="570"/>
                  </a:cubicBezTo>
                  <a:cubicBezTo>
                    <a:pt x="714" y="572"/>
                    <a:pt x="723" y="569"/>
                    <a:pt x="733" y="567"/>
                  </a:cubicBezTo>
                  <a:cubicBezTo>
                    <a:pt x="738" y="560"/>
                    <a:pt x="743" y="550"/>
                    <a:pt x="751" y="547"/>
                  </a:cubicBezTo>
                  <a:cubicBezTo>
                    <a:pt x="758" y="552"/>
                    <a:pt x="759" y="553"/>
                    <a:pt x="769" y="552"/>
                  </a:cubicBezTo>
                  <a:cubicBezTo>
                    <a:pt x="774" y="549"/>
                    <a:pt x="778" y="547"/>
                    <a:pt x="784" y="546"/>
                  </a:cubicBezTo>
                  <a:cubicBezTo>
                    <a:pt x="794" y="548"/>
                    <a:pt x="798" y="555"/>
                    <a:pt x="802" y="564"/>
                  </a:cubicBezTo>
                  <a:cubicBezTo>
                    <a:pt x="804" y="574"/>
                    <a:pt x="808" y="571"/>
                    <a:pt x="818" y="570"/>
                  </a:cubicBezTo>
                  <a:cubicBezTo>
                    <a:pt x="829" y="566"/>
                    <a:pt x="818" y="570"/>
                    <a:pt x="839" y="567"/>
                  </a:cubicBezTo>
                  <a:cubicBezTo>
                    <a:pt x="845" y="566"/>
                    <a:pt x="857" y="564"/>
                    <a:pt x="857" y="564"/>
                  </a:cubicBezTo>
                  <a:cubicBezTo>
                    <a:pt x="862" y="562"/>
                    <a:pt x="867" y="561"/>
                    <a:pt x="872" y="559"/>
                  </a:cubicBezTo>
                  <a:cubicBezTo>
                    <a:pt x="886" y="562"/>
                    <a:pt x="881" y="564"/>
                    <a:pt x="898" y="562"/>
                  </a:cubicBezTo>
                  <a:cubicBezTo>
                    <a:pt x="916" y="553"/>
                    <a:pt x="901" y="545"/>
                    <a:pt x="892" y="537"/>
                  </a:cubicBezTo>
                  <a:cubicBezTo>
                    <a:pt x="889" y="534"/>
                    <a:pt x="885" y="532"/>
                    <a:pt x="883" y="528"/>
                  </a:cubicBezTo>
                  <a:cubicBezTo>
                    <a:pt x="882" y="526"/>
                    <a:pt x="881" y="524"/>
                    <a:pt x="880" y="523"/>
                  </a:cubicBezTo>
                  <a:cubicBezTo>
                    <a:pt x="869" y="512"/>
                    <a:pt x="850" y="504"/>
                    <a:pt x="836" y="496"/>
                  </a:cubicBezTo>
                  <a:cubicBezTo>
                    <a:pt x="828" y="486"/>
                    <a:pt x="845" y="479"/>
                    <a:pt x="853" y="474"/>
                  </a:cubicBezTo>
                  <a:cubicBezTo>
                    <a:pt x="854" y="468"/>
                    <a:pt x="857" y="465"/>
                    <a:pt x="859" y="460"/>
                  </a:cubicBezTo>
                  <a:cubicBezTo>
                    <a:pt x="860" y="453"/>
                    <a:pt x="862" y="449"/>
                    <a:pt x="854" y="447"/>
                  </a:cubicBezTo>
                  <a:cubicBezTo>
                    <a:pt x="848" y="444"/>
                    <a:pt x="843" y="447"/>
                    <a:pt x="836" y="448"/>
                  </a:cubicBezTo>
                  <a:cubicBezTo>
                    <a:pt x="829" y="459"/>
                    <a:pt x="822" y="467"/>
                    <a:pt x="809" y="469"/>
                  </a:cubicBezTo>
                  <a:cubicBezTo>
                    <a:pt x="803" y="472"/>
                    <a:pt x="795" y="474"/>
                    <a:pt x="788" y="475"/>
                  </a:cubicBezTo>
                  <a:cubicBezTo>
                    <a:pt x="775" y="485"/>
                    <a:pt x="782" y="484"/>
                    <a:pt x="799" y="486"/>
                  </a:cubicBezTo>
                  <a:cubicBezTo>
                    <a:pt x="802" y="506"/>
                    <a:pt x="782" y="509"/>
                    <a:pt x="772" y="523"/>
                  </a:cubicBezTo>
                  <a:cubicBezTo>
                    <a:pt x="765" y="519"/>
                    <a:pt x="767" y="516"/>
                    <a:pt x="764" y="510"/>
                  </a:cubicBezTo>
                  <a:cubicBezTo>
                    <a:pt x="761" y="493"/>
                    <a:pt x="755" y="484"/>
                    <a:pt x="737" y="483"/>
                  </a:cubicBezTo>
                  <a:cubicBezTo>
                    <a:pt x="730" y="481"/>
                    <a:pt x="726" y="483"/>
                    <a:pt x="724" y="475"/>
                  </a:cubicBezTo>
                  <a:cubicBezTo>
                    <a:pt x="708" y="480"/>
                    <a:pt x="706" y="499"/>
                    <a:pt x="689" y="502"/>
                  </a:cubicBezTo>
                  <a:cubicBezTo>
                    <a:pt x="682" y="510"/>
                    <a:pt x="685" y="521"/>
                    <a:pt x="677" y="526"/>
                  </a:cubicBezTo>
                  <a:cubicBezTo>
                    <a:pt x="673" y="533"/>
                    <a:pt x="670" y="531"/>
                    <a:pt x="664" y="534"/>
                  </a:cubicBezTo>
                  <a:cubicBezTo>
                    <a:pt x="658" y="546"/>
                    <a:pt x="670" y="549"/>
                    <a:pt x="679" y="552"/>
                  </a:cubicBezTo>
                  <a:cubicBezTo>
                    <a:pt x="676" y="564"/>
                    <a:pt x="656" y="578"/>
                    <a:pt x="644" y="580"/>
                  </a:cubicBezTo>
                  <a:cubicBezTo>
                    <a:pt x="630" y="579"/>
                    <a:pt x="626" y="575"/>
                    <a:pt x="614" y="573"/>
                  </a:cubicBezTo>
                  <a:cubicBezTo>
                    <a:pt x="608" y="569"/>
                    <a:pt x="603" y="568"/>
                    <a:pt x="601" y="576"/>
                  </a:cubicBezTo>
                  <a:cubicBezTo>
                    <a:pt x="602" y="584"/>
                    <a:pt x="600" y="585"/>
                    <a:pt x="593" y="588"/>
                  </a:cubicBezTo>
                  <a:cubicBezTo>
                    <a:pt x="584" y="601"/>
                    <a:pt x="584" y="595"/>
                    <a:pt x="596" y="607"/>
                  </a:cubicBezTo>
                  <a:cubicBezTo>
                    <a:pt x="601" y="618"/>
                    <a:pt x="607" y="628"/>
                    <a:pt x="613" y="639"/>
                  </a:cubicBezTo>
                  <a:cubicBezTo>
                    <a:pt x="614" y="647"/>
                    <a:pt x="615" y="651"/>
                    <a:pt x="608" y="655"/>
                  </a:cubicBezTo>
                  <a:cubicBezTo>
                    <a:pt x="604" y="661"/>
                    <a:pt x="600" y="662"/>
                    <a:pt x="596" y="667"/>
                  </a:cubicBezTo>
                  <a:cubicBezTo>
                    <a:pt x="575" y="666"/>
                    <a:pt x="583" y="663"/>
                    <a:pt x="569" y="655"/>
                  </a:cubicBezTo>
                  <a:cubicBezTo>
                    <a:pt x="566" y="651"/>
                    <a:pt x="563" y="646"/>
                    <a:pt x="560" y="642"/>
                  </a:cubicBezTo>
                  <a:cubicBezTo>
                    <a:pt x="559" y="636"/>
                    <a:pt x="541" y="633"/>
                    <a:pt x="556" y="630"/>
                  </a:cubicBezTo>
                  <a:cubicBezTo>
                    <a:pt x="554" y="625"/>
                    <a:pt x="545" y="618"/>
                    <a:pt x="545" y="618"/>
                  </a:cubicBezTo>
                  <a:cubicBezTo>
                    <a:pt x="539" y="608"/>
                    <a:pt x="537" y="600"/>
                    <a:pt x="527" y="594"/>
                  </a:cubicBezTo>
                  <a:cubicBezTo>
                    <a:pt x="521" y="586"/>
                    <a:pt x="519" y="582"/>
                    <a:pt x="515" y="574"/>
                  </a:cubicBezTo>
                  <a:cubicBezTo>
                    <a:pt x="513" y="563"/>
                    <a:pt x="505" y="554"/>
                    <a:pt x="494" y="552"/>
                  </a:cubicBezTo>
                  <a:cubicBezTo>
                    <a:pt x="488" y="544"/>
                    <a:pt x="479" y="539"/>
                    <a:pt x="470" y="535"/>
                  </a:cubicBezTo>
                  <a:cubicBezTo>
                    <a:pt x="459" y="539"/>
                    <a:pt x="450" y="536"/>
                    <a:pt x="442" y="528"/>
                  </a:cubicBezTo>
                  <a:cubicBezTo>
                    <a:pt x="440" y="523"/>
                    <a:pt x="439" y="518"/>
                    <a:pt x="437" y="513"/>
                  </a:cubicBezTo>
                  <a:cubicBezTo>
                    <a:pt x="435" y="504"/>
                    <a:pt x="431" y="502"/>
                    <a:pt x="422" y="501"/>
                  </a:cubicBezTo>
                  <a:cubicBezTo>
                    <a:pt x="412" y="502"/>
                    <a:pt x="409" y="506"/>
                    <a:pt x="401" y="511"/>
                  </a:cubicBezTo>
                  <a:cubicBezTo>
                    <a:pt x="403" y="522"/>
                    <a:pt x="403" y="530"/>
                    <a:pt x="415" y="532"/>
                  </a:cubicBezTo>
                  <a:cubicBezTo>
                    <a:pt x="420" y="536"/>
                    <a:pt x="421" y="539"/>
                    <a:pt x="424" y="544"/>
                  </a:cubicBezTo>
                  <a:cubicBezTo>
                    <a:pt x="425" y="555"/>
                    <a:pt x="424" y="558"/>
                    <a:pt x="436" y="559"/>
                  </a:cubicBezTo>
                  <a:cubicBezTo>
                    <a:pt x="450" y="566"/>
                    <a:pt x="455" y="567"/>
                    <a:pt x="473" y="577"/>
                  </a:cubicBezTo>
                  <a:cubicBezTo>
                    <a:pt x="477" y="584"/>
                    <a:pt x="479" y="585"/>
                    <a:pt x="487" y="586"/>
                  </a:cubicBezTo>
                  <a:cubicBezTo>
                    <a:pt x="488" y="587"/>
                    <a:pt x="490" y="588"/>
                    <a:pt x="491" y="588"/>
                  </a:cubicBezTo>
                  <a:cubicBezTo>
                    <a:pt x="493" y="588"/>
                    <a:pt x="494" y="584"/>
                    <a:pt x="496" y="585"/>
                  </a:cubicBezTo>
                  <a:cubicBezTo>
                    <a:pt x="501" y="587"/>
                    <a:pt x="509" y="595"/>
                    <a:pt x="509" y="595"/>
                  </a:cubicBezTo>
                  <a:cubicBezTo>
                    <a:pt x="513" y="601"/>
                    <a:pt x="514" y="605"/>
                    <a:pt x="506" y="607"/>
                  </a:cubicBezTo>
                  <a:cubicBezTo>
                    <a:pt x="497" y="611"/>
                    <a:pt x="489" y="605"/>
                    <a:pt x="485" y="615"/>
                  </a:cubicBezTo>
                  <a:cubicBezTo>
                    <a:pt x="489" y="623"/>
                    <a:pt x="483" y="627"/>
                    <a:pt x="476" y="628"/>
                  </a:cubicBezTo>
                  <a:cubicBezTo>
                    <a:pt x="471" y="632"/>
                    <a:pt x="467" y="634"/>
                    <a:pt x="460" y="636"/>
                  </a:cubicBezTo>
                  <a:cubicBezTo>
                    <a:pt x="450" y="620"/>
                    <a:pt x="468" y="651"/>
                    <a:pt x="455" y="607"/>
                  </a:cubicBezTo>
                  <a:cubicBezTo>
                    <a:pt x="455" y="606"/>
                    <a:pt x="441" y="599"/>
                    <a:pt x="440" y="598"/>
                  </a:cubicBezTo>
                  <a:cubicBezTo>
                    <a:pt x="436" y="593"/>
                    <a:pt x="426" y="589"/>
                    <a:pt x="419" y="588"/>
                  </a:cubicBezTo>
                  <a:cubicBezTo>
                    <a:pt x="421" y="575"/>
                    <a:pt x="421" y="571"/>
                    <a:pt x="410" y="564"/>
                  </a:cubicBezTo>
                  <a:cubicBezTo>
                    <a:pt x="400" y="548"/>
                    <a:pt x="391" y="568"/>
                    <a:pt x="383" y="573"/>
                  </a:cubicBezTo>
                  <a:cubicBezTo>
                    <a:pt x="375" y="571"/>
                    <a:pt x="369" y="568"/>
                    <a:pt x="362" y="565"/>
                  </a:cubicBezTo>
                  <a:cubicBezTo>
                    <a:pt x="358" y="567"/>
                    <a:pt x="353" y="568"/>
                    <a:pt x="349" y="570"/>
                  </a:cubicBezTo>
                  <a:cubicBezTo>
                    <a:pt x="346" y="576"/>
                    <a:pt x="348" y="578"/>
                    <a:pt x="353" y="583"/>
                  </a:cubicBezTo>
                  <a:cubicBezTo>
                    <a:pt x="357" y="592"/>
                    <a:pt x="357" y="601"/>
                    <a:pt x="353" y="610"/>
                  </a:cubicBezTo>
                  <a:cubicBezTo>
                    <a:pt x="352" y="617"/>
                    <a:pt x="350" y="618"/>
                    <a:pt x="344" y="621"/>
                  </a:cubicBezTo>
                  <a:cubicBezTo>
                    <a:pt x="334" y="619"/>
                    <a:pt x="328" y="621"/>
                    <a:pt x="323" y="613"/>
                  </a:cubicBezTo>
                  <a:cubicBezTo>
                    <a:pt x="324" y="604"/>
                    <a:pt x="324" y="596"/>
                    <a:pt x="328" y="588"/>
                  </a:cubicBezTo>
                  <a:cubicBezTo>
                    <a:pt x="329" y="582"/>
                    <a:pt x="333" y="575"/>
                    <a:pt x="337" y="570"/>
                  </a:cubicBezTo>
                  <a:cubicBezTo>
                    <a:pt x="340" y="557"/>
                    <a:pt x="344" y="549"/>
                    <a:pt x="358" y="546"/>
                  </a:cubicBezTo>
                  <a:cubicBezTo>
                    <a:pt x="369" y="527"/>
                    <a:pt x="354" y="528"/>
                    <a:pt x="340" y="517"/>
                  </a:cubicBezTo>
                  <a:cubicBezTo>
                    <a:pt x="333" y="519"/>
                    <a:pt x="329" y="522"/>
                    <a:pt x="323" y="523"/>
                  </a:cubicBezTo>
                  <a:cubicBezTo>
                    <a:pt x="317" y="528"/>
                    <a:pt x="309" y="530"/>
                    <a:pt x="302" y="534"/>
                  </a:cubicBezTo>
                  <a:cubicBezTo>
                    <a:pt x="295" y="543"/>
                    <a:pt x="290" y="533"/>
                    <a:pt x="284" y="528"/>
                  </a:cubicBezTo>
                  <a:cubicBezTo>
                    <a:pt x="280" y="521"/>
                    <a:pt x="276" y="522"/>
                    <a:pt x="268" y="523"/>
                  </a:cubicBezTo>
                  <a:cubicBezTo>
                    <a:pt x="263" y="525"/>
                    <a:pt x="259" y="528"/>
                    <a:pt x="254" y="531"/>
                  </a:cubicBezTo>
                  <a:cubicBezTo>
                    <a:pt x="247" y="529"/>
                    <a:pt x="245" y="528"/>
                    <a:pt x="242" y="535"/>
                  </a:cubicBezTo>
                  <a:cubicBezTo>
                    <a:pt x="244" y="541"/>
                    <a:pt x="244" y="547"/>
                    <a:pt x="247" y="553"/>
                  </a:cubicBezTo>
                  <a:cubicBezTo>
                    <a:pt x="244" y="561"/>
                    <a:pt x="243" y="562"/>
                    <a:pt x="235" y="559"/>
                  </a:cubicBezTo>
                  <a:cubicBezTo>
                    <a:pt x="230" y="560"/>
                    <a:pt x="225" y="559"/>
                    <a:pt x="221" y="561"/>
                  </a:cubicBezTo>
                  <a:cubicBezTo>
                    <a:pt x="214" y="563"/>
                    <a:pt x="215" y="572"/>
                    <a:pt x="206" y="574"/>
                  </a:cubicBezTo>
                  <a:cubicBezTo>
                    <a:pt x="201" y="578"/>
                    <a:pt x="198" y="581"/>
                    <a:pt x="194" y="586"/>
                  </a:cubicBezTo>
                  <a:cubicBezTo>
                    <a:pt x="191" y="599"/>
                    <a:pt x="193" y="599"/>
                    <a:pt x="208" y="601"/>
                  </a:cubicBezTo>
                  <a:cubicBezTo>
                    <a:pt x="214" y="604"/>
                    <a:pt x="214" y="606"/>
                    <a:pt x="214" y="61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6" name="Freeform 109"/>
            <p:cNvSpPr/>
            <p:nvPr/>
          </p:nvSpPr>
          <p:spPr>
            <a:xfrm>
              <a:off x="5225040" y="4096800"/>
              <a:ext cx="2136600" cy="588240"/>
            </a:xfrm>
            <a:custGeom>
              <a:avLst/>
              <a:gdLst>
                <a:gd name="textAreaLeft" fmla="*/ 0 w 2136600"/>
                <a:gd name="textAreaRight" fmla="*/ 2136960 w 213660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555" h="824">
                  <a:moveTo>
                    <a:pt x="760" y="58"/>
                  </a:moveTo>
                  <a:cubicBezTo>
                    <a:pt x="748" y="56"/>
                    <a:pt x="744" y="54"/>
                    <a:pt x="732" y="56"/>
                  </a:cubicBezTo>
                  <a:cubicBezTo>
                    <a:pt x="725" y="60"/>
                    <a:pt x="723" y="68"/>
                    <a:pt x="716" y="72"/>
                  </a:cubicBezTo>
                  <a:cubicBezTo>
                    <a:pt x="712" y="74"/>
                    <a:pt x="704" y="76"/>
                    <a:pt x="704" y="76"/>
                  </a:cubicBezTo>
                  <a:cubicBezTo>
                    <a:pt x="694" y="60"/>
                    <a:pt x="695" y="63"/>
                    <a:pt x="676" y="60"/>
                  </a:cubicBezTo>
                  <a:cubicBezTo>
                    <a:pt x="664" y="52"/>
                    <a:pt x="671" y="41"/>
                    <a:pt x="664" y="30"/>
                  </a:cubicBezTo>
                  <a:cubicBezTo>
                    <a:pt x="655" y="16"/>
                    <a:pt x="630" y="12"/>
                    <a:pt x="614" y="8"/>
                  </a:cubicBezTo>
                  <a:cubicBezTo>
                    <a:pt x="592" y="10"/>
                    <a:pt x="602" y="8"/>
                    <a:pt x="584" y="14"/>
                  </a:cubicBezTo>
                  <a:cubicBezTo>
                    <a:pt x="578" y="16"/>
                    <a:pt x="566" y="20"/>
                    <a:pt x="566" y="20"/>
                  </a:cubicBezTo>
                  <a:cubicBezTo>
                    <a:pt x="546" y="15"/>
                    <a:pt x="567" y="23"/>
                    <a:pt x="556" y="12"/>
                  </a:cubicBezTo>
                  <a:cubicBezTo>
                    <a:pt x="551" y="7"/>
                    <a:pt x="538" y="4"/>
                    <a:pt x="532" y="0"/>
                  </a:cubicBezTo>
                  <a:cubicBezTo>
                    <a:pt x="518" y="2"/>
                    <a:pt x="504" y="3"/>
                    <a:pt x="490" y="8"/>
                  </a:cubicBezTo>
                  <a:cubicBezTo>
                    <a:pt x="484" y="25"/>
                    <a:pt x="480" y="29"/>
                    <a:pt x="466" y="38"/>
                  </a:cubicBezTo>
                  <a:cubicBezTo>
                    <a:pt x="448" y="35"/>
                    <a:pt x="450" y="32"/>
                    <a:pt x="430" y="34"/>
                  </a:cubicBezTo>
                  <a:cubicBezTo>
                    <a:pt x="422" y="37"/>
                    <a:pt x="419" y="39"/>
                    <a:pt x="414" y="46"/>
                  </a:cubicBezTo>
                  <a:cubicBezTo>
                    <a:pt x="407" y="45"/>
                    <a:pt x="384" y="42"/>
                    <a:pt x="374" y="46"/>
                  </a:cubicBezTo>
                  <a:cubicBezTo>
                    <a:pt x="372" y="47"/>
                    <a:pt x="372" y="50"/>
                    <a:pt x="370" y="52"/>
                  </a:cubicBezTo>
                  <a:cubicBezTo>
                    <a:pt x="368" y="53"/>
                    <a:pt x="366" y="53"/>
                    <a:pt x="364" y="54"/>
                  </a:cubicBezTo>
                  <a:cubicBezTo>
                    <a:pt x="361" y="63"/>
                    <a:pt x="362" y="67"/>
                    <a:pt x="370" y="72"/>
                  </a:cubicBezTo>
                  <a:cubicBezTo>
                    <a:pt x="374" y="77"/>
                    <a:pt x="377" y="79"/>
                    <a:pt x="372" y="86"/>
                  </a:cubicBezTo>
                  <a:cubicBezTo>
                    <a:pt x="368" y="91"/>
                    <a:pt x="354" y="94"/>
                    <a:pt x="354" y="94"/>
                  </a:cubicBezTo>
                  <a:cubicBezTo>
                    <a:pt x="349" y="90"/>
                    <a:pt x="336" y="86"/>
                    <a:pt x="336" y="86"/>
                  </a:cubicBezTo>
                  <a:cubicBezTo>
                    <a:pt x="326" y="88"/>
                    <a:pt x="322" y="87"/>
                    <a:pt x="316" y="96"/>
                  </a:cubicBezTo>
                  <a:cubicBezTo>
                    <a:pt x="320" y="110"/>
                    <a:pt x="331" y="110"/>
                    <a:pt x="344" y="114"/>
                  </a:cubicBezTo>
                  <a:cubicBezTo>
                    <a:pt x="350" y="116"/>
                    <a:pt x="362" y="120"/>
                    <a:pt x="362" y="120"/>
                  </a:cubicBezTo>
                  <a:cubicBezTo>
                    <a:pt x="367" y="127"/>
                    <a:pt x="372" y="131"/>
                    <a:pt x="362" y="134"/>
                  </a:cubicBezTo>
                  <a:cubicBezTo>
                    <a:pt x="350" y="126"/>
                    <a:pt x="334" y="119"/>
                    <a:pt x="320" y="114"/>
                  </a:cubicBezTo>
                  <a:cubicBezTo>
                    <a:pt x="314" y="115"/>
                    <a:pt x="308" y="115"/>
                    <a:pt x="302" y="116"/>
                  </a:cubicBezTo>
                  <a:cubicBezTo>
                    <a:pt x="298" y="117"/>
                    <a:pt x="290" y="120"/>
                    <a:pt x="290" y="120"/>
                  </a:cubicBezTo>
                  <a:cubicBezTo>
                    <a:pt x="275" y="117"/>
                    <a:pt x="272" y="99"/>
                    <a:pt x="256" y="94"/>
                  </a:cubicBezTo>
                  <a:cubicBezTo>
                    <a:pt x="253" y="95"/>
                    <a:pt x="248" y="94"/>
                    <a:pt x="246" y="96"/>
                  </a:cubicBezTo>
                  <a:cubicBezTo>
                    <a:pt x="243" y="99"/>
                    <a:pt x="242" y="108"/>
                    <a:pt x="242" y="108"/>
                  </a:cubicBezTo>
                  <a:cubicBezTo>
                    <a:pt x="245" y="116"/>
                    <a:pt x="262" y="124"/>
                    <a:pt x="262" y="124"/>
                  </a:cubicBezTo>
                  <a:cubicBezTo>
                    <a:pt x="275" y="143"/>
                    <a:pt x="278" y="153"/>
                    <a:pt x="298" y="166"/>
                  </a:cubicBezTo>
                  <a:cubicBezTo>
                    <a:pt x="306" y="178"/>
                    <a:pt x="306" y="194"/>
                    <a:pt x="314" y="206"/>
                  </a:cubicBezTo>
                  <a:cubicBezTo>
                    <a:pt x="310" y="217"/>
                    <a:pt x="294" y="217"/>
                    <a:pt x="284" y="220"/>
                  </a:cubicBezTo>
                  <a:cubicBezTo>
                    <a:pt x="280" y="221"/>
                    <a:pt x="272" y="224"/>
                    <a:pt x="272" y="224"/>
                  </a:cubicBezTo>
                  <a:cubicBezTo>
                    <a:pt x="261" y="223"/>
                    <a:pt x="250" y="225"/>
                    <a:pt x="246" y="214"/>
                  </a:cubicBezTo>
                  <a:cubicBezTo>
                    <a:pt x="257" y="210"/>
                    <a:pt x="267" y="212"/>
                    <a:pt x="278" y="208"/>
                  </a:cubicBezTo>
                  <a:cubicBezTo>
                    <a:pt x="283" y="201"/>
                    <a:pt x="284" y="203"/>
                    <a:pt x="280" y="194"/>
                  </a:cubicBezTo>
                  <a:cubicBezTo>
                    <a:pt x="280" y="193"/>
                    <a:pt x="245" y="150"/>
                    <a:pt x="242" y="148"/>
                  </a:cubicBezTo>
                  <a:cubicBezTo>
                    <a:pt x="238" y="136"/>
                    <a:pt x="239" y="128"/>
                    <a:pt x="228" y="120"/>
                  </a:cubicBezTo>
                  <a:cubicBezTo>
                    <a:pt x="226" y="114"/>
                    <a:pt x="230" y="102"/>
                    <a:pt x="230" y="102"/>
                  </a:cubicBezTo>
                  <a:cubicBezTo>
                    <a:pt x="210" y="89"/>
                    <a:pt x="242" y="108"/>
                    <a:pt x="214" y="100"/>
                  </a:cubicBezTo>
                  <a:cubicBezTo>
                    <a:pt x="211" y="99"/>
                    <a:pt x="202" y="87"/>
                    <a:pt x="198" y="84"/>
                  </a:cubicBezTo>
                  <a:cubicBezTo>
                    <a:pt x="187" y="86"/>
                    <a:pt x="184" y="86"/>
                    <a:pt x="176" y="94"/>
                  </a:cubicBezTo>
                  <a:cubicBezTo>
                    <a:pt x="174" y="100"/>
                    <a:pt x="172" y="106"/>
                    <a:pt x="170" y="112"/>
                  </a:cubicBezTo>
                  <a:cubicBezTo>
                    <a:pt x="169" y="114"/>
                    <a:pt x="168" y="118"/>
                    <a:pt x="168" y="118"/>
                  </a:cubicBezTo>
                  <a:cubicBezTo>
                    <a:pt x="168" y="119"/>
                    <a:pt x="162" y="144"/>
                    <a:pt x="166" y="148"/>
                  </a:cubicBezTo>
                  <a:cubicBezTo>
                    <a:pt x="175" y="157"/>
                    <a:pt x="194" y="155"/>
                    <a:pt x="204" y="162"/>
                  </a:cubicBezTo>
                  <a:cubicBezTo>
                    <a:pt x="208" y="165"/>
                    <a:pt x="216" y="170"/>
                    <a:pt x="216" y="170"/>
                  </a:cubicBezTo>
                  <a:cubicBezTo>
                    <a:pt x="221" y="184"/>
                    <a:pt x="221" y="178"/>
                    <a:pt x="218" y="188"/>
                  </a:cubicBezTo>
                  <a:cubicBezTo>
                    <a:pt x="204" y="186"/>
                    <a:pt x="205" y="182"/>
                    <a:pt x="194" y="176"/>
                  </a:cubicBezTo>
                  <a:cubicBezTo>
                    <a:pt x="185" y="171"/>
                    <a:pt x="164" y="172"/>
                    <a:pt x="160" y="172"/>
                  </a:cubicBezTo>
                  <a:cubicBezTo>
                    <a:pt x="140" y="159"/>
                    <a:pt x="120" y="169"/>
                    <a:pt x="96" y="170"/>
                  </a:cubicBezTo>
                  <a:cubicBezTo>
                    <a:pt x="99" y="178"/>
                    <a:pt x="103" y="178"/>
                    <a:pt x="106" y="186"/>
                  </a:cubicBezTo>
                  <a:cubicBezTo>
                    <a:pt x="103" y="202"/>
                    <a:pt x="103" y="199"/>
                    <a:pt x="92" y="192"/>
                  </a:cubicBezTo>
                  <a:cubicBezTo>
                    <a:pt x="86" y="183"/>
                    <a:pt x="90" y="184"/>
                    <a:pt x="74" y="188"/>
                  </a:cubicBezTo>
                  <a:cubicBezTo>
                    <a:pt x="70" y="189"/>
                    <a:pt x="62" y="192"/>
                    <a:pt x="62" y="192"/>
                  </a:cubicBezTo>
                  <a:cubicBezTo>
                    <a:pt x="49" y="211"/>
                    <a:pt x="43" y="237"/>
                    <a:pt x="26" y="254"/>
                  </a:cubicBezTo>
                  <a:cubicBezTo>
                    <a:pt x="23" y="266"/>
                    <a:pt x="25" y="259"/>
                    <a:pt x="20" y="274"/>
                  </a:cubicBezTo>
                  <a:cubicBezTo>
                    <a:pt x="19" y="278"/>
                    <a:pt x="16" y="286"/>
                    <a:pt x="16" y="286"/>
                  </a:cubicBezTo>
                  <a:cubicBezTo>
                    <a:pt x="11" y="325"/>
                    <a:pt x="16" y="366"/>
                    <a:pt x="6" y="404"/>
                  </a:cubicBezTo>
                  <a:cubicBezTo>
                    <a:pt x="4" y="423"/>
                    <a:pt x="2" y="441"/>
                    <a:pt x="0" y="460"/>
                  </a:cubicBezTo>
                  <a:cubicBezTo>
                    <a:pt x="1" y="530"/>
                    <a:pt x="3" y="592"/>
                    <a:pt x="14" y="660"/>
                  </a:cubicBezTo>
                  <a:cubicBezTo>
                    <a:pt x="15" y="683"/>
                    <a:pt x="12" y="717"/>
                    <a:pt x="26" y="738"/>
                  </a:cubicBezTo>
                  <a:cubicBezTo>
                    <a:pt x="31" y="759"/>
                    <a:pt x="39" y="781"/>
                    <a:pt x="58" y="794"/>
                  </a:cubicBezTo>
                  <a:cubicBezTo>
                    <a:pt x="66" y="806"/>
                    <a:pt x="81" y="818"/>
                    <a:pt x="96" y="820"/>
                  </a:cubicBezTo>
                  <a:cubicBezTo>
                    <a:pt x="109" y="822"/>
                    <a:pt x="134" y="824"/>
                    <a:pt x="134" y="824"/>
                  </a:cubicBezTo>
                  <a:cubicBezTo>
                    <a:pt x="155" y="823"/>
                    <a:pt x="177" y="823"/>
                    <a:pt x="198" y="822"/>
                  </a:cubicBezTo>
                  <a:cubicBezTo>
                    <a:pt x="210" y="821"/>
                    <a:pt x="234" y="818"/>
                    <a:pt x="234" y="818"/>
                  </a:cubicBezTo>
                  <a:cubicBezTo>
                    <a:pt x="251" y="814"/>
                    <a:pt x="266" y="808"/>
                    <a:pt x="282" y="804"/>
                  </a:cubicBezTo>
                  <a:cubicBezTo>
                    <a:pt x="296" y="795"/>
                    <a:pt x="310" y="785"/>
                    <a:pt x="324" y="776"/>
                  </a:cubicBezTo>
                  <a:cubicBezTo>
                    <a:pt x="341" y="751"/>
                    <a:pt x="370" y="737"/>
                    <a:pt x="394" y="720"/>
                  </a:cubicBezTo>
                  <a:cubicBezTo>
                    <a:pt x="408" y="710"/>
                    <a:pt x="418" y="696"/>
                    <a:pt x="432" y="686"/>
                  </a:cubicBezTo>
                  <a:cubicBezTo>
                    <a:pt x="459" y="667"/>
                    <a:pt x="489" y="650"/>
                    <a:pt x="516" y="632"/>
                  </a:cubicBezTo>
                  <a:cubicBezTo>
                    <a:pt x="524" y="620"/>
                    <a:pt x="539" y="615"/>
                    <a:pt x="550" y="604"/>
                  </a:cubicBezTo>
                  <a:cubicBezTo>
                    <a:pt x="576" y="578"/>
                    <a:pt x="614" y="529"/>
                    <a:pt x="648" y="516"/>
                  </a:cubicBezTo>
                  <a:cubicBezTo>
                    <a:pt x="678" y="486"/>
                    <a:pt x="721" y="456"/>
                    <a:pt x="762" y="446"/>
                  </a:cubicBezTo>
                  <a:cubicBezTo>
                    <a:pt x="775" y="437"/>
                    <a:pt x="791" y="433"/>
                    <a:pt x="806" y="428"/>
                  </a:cubicBezTo>
                  <a:cubicBezTo>
                    <a:pt x="819" y="424"/>
                    <a:pt x="830" y="415"/>
                    <a:pt x="844" y="412"/>
                  </a:cubicBezTo>
                  <a:cubicBezTo>
                    <a:pt x="863" y="399"/>
                    <a:pt x="885" y="379"/>
                    <a:pt x="906" y="372"/>
                  </a:cubicBezTo>
                  <a:cubicBezTo>
                    <a:pt x="935" y="349"/>
                    <a:pt x="973" y="341"/>
                    <a:pt x="1002" y="318"/>
                  </a:cubicBezTo>
                  <a:cubicBezTo>
                    <a:pt x="1020" y="303"/>
                    <a:pt x="1042" y="294"/>
                    <a:pt x="1060" y="280"/>
                  </a:cubicBezTo>
                  <a:cubicBezTo>
                    <a:pt x="1071" y="272"/>
                    <a:pt x="1084" y="259"/>
                    <a:pt x="1098" y="254"/>
                  </a:cubicBezTo>
                  <a:cubicBezTo>
                    <a:pt x="1121" y="237"/>
                    <a:pt x="1149" y="230"/>
                    <a:pt x="1174" y="216"/>
                  </a:cubicBezTo>
                  <a:cubicBezTo>
                    <a:pt x="1193" y="205"/>
                    <a:pt x="1210" y="188"/>
                    <a:pt x="1230" y="180"/>
                  </a:cubicBezTo>
                  <a:cubicBezTo>
                    <a:pt x="1241" y="169"/>
                    <a:pt x="1272" y="146"/>
                    <a:pt x="1288" y="142"/>
                  </a:cubicBezTo>
                  <a:cubicBezTo>
                    <a:pt x="1306" y="130"/>
                    <a:pt x="1329" y="126"/>
                    <a:pt x="1350" y="120"/>
                  </a:cubicBezTo>
                  <a:cubicBezTo>
                    <a:pt x="1375" y="112"/>
                    <a:pt x="1400" y="104"/>
                    <a:pt x="1426" y="98"/>
                  </a:cubicBezTo>
                  <a:cubicBezTo>
                    <a:pt x="1436" y="88"/>
                    <a:pt x="1460" y="80"/>
                    <a:pt x="1474" y="76"/>
                  </a:cubicBezTo>
                  <a:cubicBezTo>
                    <a:pt x="1491" y="65"/>
                    <a:pt x="1485" y="41"/>
                    <a:pt x="1502" y="30"/>
                  </a:cubicBezTo>
                  <a:cubicBezTo>
                    <a:pt x="1506" y="23"/>
                    <a:pt x="1537" y="28"/>
                    <a:pt x="1544" y="26"/>
                  </a:cubicBezTo>
                  <a:cubicBezTo>
                    <a:pt x="1545" y="24"/>
                    <a:pt x="1546" y="22"/>
                    <a:pt x="1548" y="20"/>
                  </a:cubicBezTo>
                  <a:cubicBezTo>
                    <a:pt x="1550" y="19"/>
                    <a:pt x="1555" y="20"/>
                    <a:pt x="1554" y="18"/>
                  </a:cubicBezTo>
                  <a:cubicBezTo>
                    <a:pt x="1549" y="10"/>
                    <a:pt x="1527" y="3"/>
                    <a:pt x="1518" y="0"/>
                  </a:cubicBezTo>
                  <a:cubicBezTo>
                    <a:pt x="1483" y="3"/>
                    <a:pt x="1450" y="10"/>
                    <a:pt x="1414" y="12"/>
                  </a:cubicBezTo>
                  <a:cubicBezTo>
                    <a:pt x="1399" y="17"/>
                    <a:pt x="1405" y="13"/>
                    <a:pt x="1396" y="22"/>
                  </a:cubicBezTo>
                  <a:cubicBezTo>
                    <a:pt x="1394" y="28"/>
                    <a:pt x="1382" y="36"/>
                    <a:pt x="1382" y="36"/>
                  </a:cubicBezTo>
                  <a:cubicBezTo>
                    <a:pt x="1375" y="58"/>
                    <a:pt x="1394" y="54"/>
                    <a:pt x="1356" y="58"/>
                  </a:cubicBezTo>
                  <a:cubicBezTo>
                    <a:pt x="1351" y="66"/>
                    <a:pt x="1347" y="82"/>
                    <a:pt x="1340" y="88"/>
                  </a:cubicBezTo>
                  <a:cubicBezTo>
                    <a:pt x="1336" y="91"/>
                    <a:pt x="1328" y="96"/>
                    <a:pt x="1328" y="96"/>
                  </a:cubicBezTo>
                  <a:cubicBezTo>
                    <a:pt x="1321" y="94"/>
                    <a:pt x="1310" y="86"/>
                    <a:pt x="1310" y="86"/>
                  </a:cubicBezTo>
                  <a:cubicBezTo>
                    <a:pt x="1300" y="71"/>
                    <a:pt x="1296" y="76"/>
                    <a:pt x="1276" y="78"/>
                  </a:cubicBezTo>
                  <a:cubicBezTo>
                    <a:pt x="1261" y="83"/>
                    <a:pt x="1240" y="78"/>
                    <a:pt x="1224" y="76"/>
                  </a:cubicBezTo>
                  <a:cubicBezTo>
                    <a:pt x="1215" y="75"/>
                    <a:pt x="1196" y="72"/>
                    <a:pt x="1196" y="72"/>
                  </a:cubicBezTo>
                  <a:cubicBezTo>
                    <a:pt x="1178" y="66"/>
                    <a:pt x="1188" y="68"/>
                    <a:pt x="1166" y="70"/>
                  </a:cubicBezTo>
                  <a:cubicBezTo>
                    <a:pt x="1159" y="72"/>
                    <a:pt x="1146" y="76"/>
                    <a:pt x="1146" y="76"/>
                  </a:cubicBezTo>
                  <a:cubicBezTo>
                    <a:pt x="1130" y="71"/>
                    <a:pt x="1113" y="69"/>
                    <a:pt x="1096" y="68"/>
                  </a:cubicBezTo>
                  <a:cubicBezTo>
                    <a:pt x="1091" y="61"/>
                    <a:pt x="1088" y="57"/>
                    <a:pt x="1080" y="54"/>
                  </a:cubicBezTo>
                  <a:cubicBezTo>
                    <a:pt x="1061" y="56"/>
                    <a:pt x="1042" y="62"/>
                    <a:pt x="1024" y="68"/>
                  </a:cubicBezTo>
                  <a:cubicBezTo>
                    <a:pt x="1019" y="89"/>
                    <a:pt x="1007" y="87"/>
                    <a:pt x="988" y="90"/>
                  </a:cubicBezTo>
                  <a:cubicBezTo>
                    <a:pt x="985" y="100"/>
                    <a:pt x="985" y="103"/>
                    <a:pt x="974" y="100"/>
                  </a:cubicBezTo>
                  <a:cubicBezTo>
                    <a:pt x="966" y="92"/>
                    <a:pt x="968" y="83"/>
                    <a:pt x="958" y="80"/>
                  </a:cubicBezTo>
                  <a:cubicBezTo>
                    <a:pt x="944" y="85"/>
                    <a:pt x="950" y="82"/>
                    <a:pt x="940" y="88"/>
                  </a:cubicBezTo>
                  <a:cubicBezTo>
                    <a:pt x="921" y="75"/>
                    <a:pt x="908" y="61"/>
                    <a:pt x="886" y="54"/>
                  </a:cubicBezTo>
                  <a:cubicBezTo>
                    <a:pt x="863" y="56"/>
                    <a:pt x="843" y="60"/>
                    <a:pt x="820" y="62"/>
                  </a:cubicBezTo>
                  <a:cubicBezTo>
                    <a:pt x="806" y="67"/>
                    <a:pt x="811" y="74"/>
                    <a:pt x="800" y="78"/>
                  </a:cubicBezTo>
                  <a:cubicBezTo>
                    <a:pt x="782" y="75"/>
                    <a:pt x="773" y="71"/>
                    <a:pt x="760" y="58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7" name="Freeform 110"/>
            <p:cNvSpPr/>
            <p:nvPr/>
          </p:nvSpPr>
          <p:spPr>
            <a:xfrm>
              <a:off x="5139000" y="4105440"/>
              <a:ext cx="258480" cy="1026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8" name="Freeform 111"/>
            <p:cNvSpPr/>
            <p:nvPr/>
          </p:nvSpPr>
          <p:spPr>
            <a:xfrm>
              <a:off x="5293080" y="4204440"/>
              <a:ext cx="73080" cy="11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9" name="Freeform 112"/>
            <p:cNvSpPr/>
            <p:nvPr/>
          </p:nvSpPr>
          <p:spPr>
            <a:xfrm>
              <a:off x="5669280" y="4055760"/>
              <a:ext cx="76680" cy="26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0" name="Freeform 113"/>
            <p:cNvSpPr/>
            <p:nvPr/>
          </p:nvSpPr>
          <p:spPr>
            <a:xfrm>
              <a:off x="5724360" y="4068000"/>
              <a:ext cx="91440" cy="187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1" name="Freeform 114"/>
            <p:cNvSpPr/>
            <p:nvPr/>
          </p:nvSpPr>
          <p:spPr>
            <a:xfrm>
              <a:off x="5823720" y="4070880"/>
              <a:ext cx="91440" cy="302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2" name="Freeform 115"/>
            <p:cNvSpPr/>
            <p:nvPr/>
          </p:nvSpPr>
          <p:spPr>
            <a:xfrm>
              <a:off x="6464520" y="4096800"/>
              <a:ext cx="161280" cy="291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3" name="Freeform 116"/>
            <p:cNvSpPr/>
            <p:nvPr/>
          </p:nvSpPr>
          <p:spPr>
            <a:xfrm>
              <a:off x="6629760" y="4095720"/>
              <a:ext cx="84240" cy="2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4" name="Freeform 117"/>
            <p:cNvSpPr/>
            <p:nvPr/>
          </p:nvSpPr>
          <p:spPr>
            <a:xfrm>
              <a:off x="6590880" y="4123440"/>
              <a:ext cx="67680" cy="15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5" name="Freeform 118"/>
            <p:cNvSpPr/>
            <p:nvPr/>
          </p:nvSpPr>
          <p:spPr>
            <a:xfrm>
              <a:off x="7053840" y="4336560"/>
              <a:ext cx="139320" cy="1083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6" name="Freeform 119"/>
            <p:cNvSpPr/>
            <p:nvPr/>
          </p:nvSpPr>
          <p:spPr>
            <a:xfrm>
              <a:off x="7165800" y="4449240"/>
              <a:ext cx="100440" cy="73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7" name="Freeform 120"/>
            <p:cNvSpPr/>
            <p:nvPr/>
          </p:nvSpPr>
          <p:spPr>
            <a:xfrm>
              <a:off x="7099560" y="4525200"/>
              <a:ext cx="199800" cy="179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8" name="Freeform 121"/>
            <p:cNvSpPr/>
            <p:nvPr/>
          </p:nvSpPr>
          <p:spPr>
            <a:xfrm>
              <a:off x="5151600" y="4045320"/>
              <a:ext cx="95040" cy="28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9" name="Freeform 122"/>
            <p:cNvSpPr/>
            <p:nvPr/>
          </p:nvSpPr>
          <p:spPr>
            <a:xfrm>
              <a:off x="4955400" y="4053960"/>
              <a:ext cx="34560" cy="205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0" name="Freeform 123"/>
            <p:cNvSpPr/>
            <p:nvPr/>
          </p:nvSpPr>
          <p:spPr>
            <a:xfrm>
              <a:off x="4999320" y="4052880"/>
              <a:ext cx="67680" cy="25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1" name="Freeform 124"/>
            <p:cNvSpPr/>
            <p:nvPr/>
          </p:nvSpPr>
          <p:spPr>
            <a:xfrm>
              <a:off x="5111280" y="4044240"/>
              <a:ext cx="36360" cy="14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2" name="Freeform 125"/>
            <p:cNvSpPr/>
            <p:nvPr/>
          </p:nvSpPr>
          <p:spPr>
            <a:xfrm>
              <a:off x="5078160" y="4061520"/>
              <a:ext cx="27000" cy="11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3" name="Freeform 126"/>
            <p:cNvSpPr/>
            <p:nvPr/>
          </p:nvSpPr>
          <p:spPr>
            <a:xfrm>
              <a:off x="7171200" y="4076640"/>
              <a:ext cx="32760" cy="309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4" name="Freeform 127"/>
            <p:cNvSpPr/>
            <p:nvPr/>
          </p:nvSpPr>
          <p:spPr>
            <a:xfrm>
              <a:off x="5548320" y="545976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5" name="Freeform 128"/>
            <p:cNvSpPr/>
            <p:nvPr/>
          </p:nvSpPr>
          <p:spPr>
            <a:xfrm>
              <a:off x="5621760" y="54529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6" name="Freeform 129"/>
            <p:cNvSpPr/>
            <p:nvPr/>
          </p:nvSpPr>
          <p:spPr>
            <a:xfrm>
              <a:off x="5498640" y="5306400"/>
              <a:ext cx="16200" cy="14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7" name="Freeform 130"/>
            <p:cNvSpPr/>
            <p:nvPr/>
          </p:nvSpPr>
          <p:spPr>
            <a:xfrm>
              <a:off x="5608800" y="5236920"/>
              <a:ext cx="19800" cy="17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8" name="Freeform 131"/>
            <p:cNvSpPr/>
            <p:nvPr/>
          </p:nvSpPr>
          <p:spPr>
            <a:xfrm>
              <a:off x="5564880" y="5235840"/>
              <a:ext cx="19800" cy="17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39" name="Freeform 132"/>
            <p:cNvSpPr/>
            <p:nvPr/>
          </p:nvSpPr>
          <p:spPr>
            <a:xfrm>
              <a:off x="5544720" y="52567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0" name="Freeform 133"/>
            <p:cNvSpPr/>
            <p:nvPr/>
          </p:nvSpPr>
          <p:spPr>
            <a:xfrm>
              <a:off x="5498640" y="5289120"/>
              <a:ext cx="16200" cy="14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1" name="Freeform 134"/>
            <p:cNvSpPr/>
            <p:nvPr/>
          </p:nvSpPr>
          <p:spPr>
            <a:xfrm>
              <a:off x="5533560" y="527688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2" name="Freeform 135"/>
            <p:cNvSpPr/>
            <p:nvPr/>
          </p:nvSpPr>
          <p:spPr>
            <a:xfrm>
              <a:off x="4187880" y="433584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3" name="Freeform 136"/>
            <p:cNvSpPr/>
            <p:nvPr/>
          </p:nvSpPr>
          <p:spPr>
            <a:xfrm>
              <a:off x="4075920" y="430344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4" name="Freeform 137"/>
            <p:cNvSpPr/>
            <p:nvPr/>
          </p:nvSpPr>
          <p:spPr>
            <a:xfrm>
              <a:off x="3673800" y="4093920"/>
              <a:ext cx="3768840" cy="1557000"/>
            </a:xfrm>
            <a:custGeom>
              <a:avLst/>
              <a:gdLst>
                <a:gd name="textAreaLeft" fmla="*/ 0 w 3768840"/>
                <a:gd name="textAreaRight" fmla="*/ 3769200 w 3768840"/>
                <a:gd name="textAreaTop" fmla="*/ 0 h 1557000"/>
                <a:gd name="textAreaBottom" fmla="*/ 1557360 h 1557000"/>
              </a:gdLst>
              <a:ahLst/>
              <a:rect l="textAreaLeft" t="textAreaTop" r="textAreaRight" b="textAreaBottom"/>
              <a:pathLst>
                <a:path w="2742" h="2182">
                  <a:moveTo>
                    <a:pt x="926" y="908"/>
                  </a:moveTo>
                  <a:cubicBezTo>
                    <a:pt x="877" y="906"/>
                    <a:pt x="867" y="898"/>
                    <a:pt x="822" y="896"/>
                  </a:cubicBezTo>
                  <a:cubicBezTo>
                    <a:pt x="806" y="893"/>
                    <a:pt x="790" y="887"/>
                    <a:pt x="774" y="884"/>
                  </a:cubicBezTo>
                  <a:cubicBezTo>
                    <a:pt x="768" y="880"/>
                    <a:pt x="756" y="872"/>
                    <a:pt x="756" y="872"/>
                  </a:cubicBezTo>
                  <a:cubicBezTo>
                    <a:pt x="733" y="875"/>
                    <a:pt x="741" y="879"/>
                    <a:pt x="726" y="884"/>
                  </a:cubicBezTo>
                  <a:cubicBezTo>
                    <a:pt x="718" y="895"/>
                    <a:pt x="721" y="897"/>
                    <a:pt x="726" y="908"/>
                  </a:cubicBezTo>
                  <a:cubicBezTo>
                    <a:pt x="728" y="912"/>
                    <a:pt x="730" y="920"/>
                    <a:pt x="730" y="920"/>
                  </a:cubicBezTo>
                  <a:cubicBezTo>
                    <a:pt x="700" y="930"/>
                    <a:pt x="674" y="909"/>
                    <a:pt x="648" y="900"/>
                  </a:cubicBezTo>
                  <a:cubicBezTo>
                    <a:pt x="640" y="876"/>
                    <a:pt x="628" y="879"/>
                    <a:pt x="602" y="876"/>
                  </a:cubicBezTo>
                  <a:cubicBezTo>
                    <a:pt x="593" y="870"/>
                    <a:pt x="591" y="870"/>
                    <a:pt x="580" y="872"/>
                  </a:cubicBezTo>
                  <a:cubicBezTo>
                    <a:pt x="569" y="868"/>
                    <a:pt x="576" y="871"/>
                    <a:pt x="562" y="862"/>
                  </a:cubicBezTo>
                  <a:cubicBezTo>
                    <a:pt x="560" y="861"/>
                    <a:pt x="556" y="858"/>
                    <a:pt x="556" y="858"/>
                  </a:cubicBezTo>
                  <a:cubicBezTo>
                    <a:pt x="554" y="856"/>
                    <a:pt x="550" y="850"/>
                    <a:pt x="550" y="846"/>
                  </a:cubicBezTo>
                  <a:cubicBezTo>
                    <a:pt x="551" y="840"/>
                    <a:pt x="556" y="828"/>
                    <a:pt x="556" y="828"/>
                  </a:cubicBezTo>
                  <a:cubicBezTo>
                    <a:pt x="554" y="796"/>
                    <a:pt x="560" y="791"/>
                    <a:pt x="530" y="794"/>
                  </a:cubicBezTo>
                  <a:cubicBezTo>
                    <a:pt x="519" y="805"/>
                    <a:pt x="518" y="800"/>
                    <a:pt x="506" y="796"/>
                  </a:cubicBezTo>
                  <a:cubicBezTo>
                    <a:pt x="491" y="797"/>
                    <a:pt x="479" y="800"/>
                    <a:pt x="464" y="802"/>
                  </a:cubicBezTo>
                  <a:cubicBezTo>
                    <a:pt x="457" y="801"/>
                    <a:pt x="449" y="802"/>
                    <a:pt x="442" y="800"/>
                  </a:cubicBezTo>
                  <a:cubicBezTo>
                    <a:pt x="440" y="799"/>
                    <a:pt x="438" y="796"/>
                    <a:pt x="436" y="796"/>
                  </a:cubicBezTo>
                  <a:cubicBezTo>
                    <a:pt x="417" y="794"/>
                    <a:pt x="394" y="803"/>
                    <a:pt x="376" y="808"/>
                  </a:cubicBezTo>
                  <a:cubicBezTo>
                    <a:pt x="366" y="811"/>
                    <a:pt x="356" y="815"/>
                    <a:pt x="346" y="818"/>
                  </a:cubicBezTo>
                  <a:cubicBezTo>
                    <a:pt x="340" y="820"/>
                    <a:pt x="328" y="824"/>
                    <a:pt x="328" y="824"/>
                  </a:cubicBezTo>
                  <a:cubicBezTo>
                    <a:pt x="302" y="821"/>
                    <a:pt x="278" y="820"/>
                    <a:pt x="252" y="822"/>
                  </a:cubicBezTo>
                  <a:cubicBezTo>
                    <a:pt x="245" y="824"/>
                    <a:pt x="239" y="826"/>
                    <a:pt x="232" y="830"/>
                  </a:cubicBezTo>
                  <a:cubicBezTo>
                    <a:pt x="231" y="832"/>
                    <a:pt x="231" y="834"/>
                    <a:pt x="230" y="836"/>
                  </a:cubicBezTo>
                  <a:cubicBezTo>
                    <a:pt x="228" y="838"/>
                    <a:pt x="225" y="838"/>
                    <a:pt x="224" y="840"/>
                  </a:cubicBezTo>
                  <a:cubicBezTo>
                    <a:pt x="217" y="852"/>
                    <a:pt x="222" y="860"/>
                    <a:pt x="210" y="866"/>
                  </a:cubicBezTo>
                  <a:cubicBezTo>
                    <a:pt x="204" y="870"/>
                    <a:pt x="198" y="874"/>
                    <a:pt x="192" y="878"/>
                  </a:cubicBezTo>
                  <a:cubicBezTo>
                    <a:pt x="188" y="881"/>
                    <a:pt x="180" y="886"/>
                    <a:pt x="180" y="886"/>
                  </a:cubicBezTo>
                  <a:cubicBezTo>
                    <a:pt x="178" y="891"/>
                    <a:pt x="173" y="893"/>
                    <a:pt x="172" y="898"/>
                  </a:cubicBezTo>
                  <a:cubicBezTo>
                    <a:pt x="170" y="907"/>
                    <a:pt x="174" y="927"/>
                    <a:pt x="164" y="936"/>
                  </a:cubicBezTo>
                  <a:cubicBezTo>
                    <a:pt x="156" y="943"/>
                    <a:pt x="144" y="950"/>
                    <a:pt x="134" y="954"/>
                  </a:cubicBezTo>
                  <a:cubicBezTo>
                    <a:pt x="134" y="954"/>
                    <a:pt x="119" y="959"/>
                    <a:pt x="116" y="960"/>
                  </a:cubicBezTo>
                  <a:cubicBezTo>
                    <a:pt x="114" y="961"/>
                    <a:pt x="110" y="962"/>
                    <a:pt x="110" y="962"/>
                  </a:cubicBezTo>
                  <a:cubicBezTo>
                    <a:pt x="101" y="971"/>
                    <a:pt x="91" y="981"/>
                    <a:pt x="80" y="988"/>
                  </a:cubicBezTo>
                  <a:cubicBezTo>
                    <a:pt x="74" y="998"/>
                    <a:pt x="71" y="1010"/>
                    <a:pt x="62" y="1016"/>
                  </a:cubicBezTo>
                  <a:cubicBezTo>
                    <a:pt x="57" y="1024"/>
                    <a:pt x="49" y="1028"/>
                    <a:pt x="42" y="1036"/>
                  </a:cubicBezTo>
                  <a:cubicBezTo>
                    <a:pt x="35" y="1044"/>
                    <a:pt x="33" y="1056"/>
                    <a:pt x="30" y="1066"/>
                  </a:cubicBezTo>
                  <a:cubicBezTo>
                    <a:pt x="27" y="1074"/>
                    <a:pt x="25" y="1082"/>
                    <a:pt x="22" y="1090"/>
                  </a:cubicBezTo>
                  <a:cubicBezTo>
                    <a:pt x="21" y="1094"/>
                    <a:pt x="18" y="1102"/>
                    <a:pt x="18" y="1102"/>
                  </a:cubicBezTo>
                  <a:cubicBezTo>
                    <a:pt x="21" y="1111"/>
                    <a:pt x="36" y="1126"/>
                    <a:pt x="36" y="1126"/>
                  </a:cubicBezTo>
                  <a:cubicBezTo>
                    <a:pt x="34" y="1133"/>
                    <a:pt x="22" y="1142"/>
                    <a:pt x="22" y="1142"/>
                  </a:cubicBezTo>
                  <a:cubicBezTo>
                    <a:pt x="19" y="1152"/>
                    <a:pt x="23" y="1158"/>
                    <a:pt x="32" y="1164"/>
                  </a:cubicBezTo>
                  <a:cubicBezTo>
                    <a:pt x="38" y="1181"/>
                    <a:pt x="22" y="1205"/>
                    <a:pt x="8" y="1214"/>
                  </a:cubicBezTo>
                  <a:cubicBezTo>
                    <a:pt x="0" y="1238"/>
                    <a:pt x="6" y="1237"/>
                    <a:pt x="16" y="1256"/>
                  </a:cubicBezTo>
                  <a:cubicBezTo>
                    <a:pt x="31" y="1285"/>
                    <a:pt x="40" y="1292"/>
                    <a:pt x="70" y="1302"/>
                  </a:cubicBezTo>
                  <a:cubicBezTo>
                    <a:pt x="80" y="1316"/>
                    <a:pt x="75" y="1311"/>
                    <a:pt x="84" y="1320"/>
                  </a:cubicBezTo>
                  <a:cubicBezTo>
                    <a:pt x="83" y="1326"/>
                    <a:pt x="79" y="1330"/>
                    <a:pt x="78" y="1336"/>
                  </a:cubicBezTo>
                  <a:cubicBezTo>
                    <a:pt x="77" y="1346"/>
                    <a:pt x="93" y="1361"/>
                    <a:pt x="98" y="1368"/>
                  </a:cubicBezTo>
                  <a:cubicBezTo>
                    <a:pt x="103" y="1376"/>
                    <a:pt x="122" y="1382"/>
                    <a:pt x="122" y="1382"/>
                  </a:cubicBezTo>
                  <a:cubicBezTo>
                    <a:pt x="125" y="1381"/>
                    <a:pt x="128" y="1382"/>
                    <a:pt x="130" y="1380"/>
                  </a:cubicBezTo>
                  <a:cubicBezTo>
                    <a:pt x="132" y="1379"/>
                    <a:pt x="130" y="1375"/>
                    <a:pt x="132" y="1374"/>
                  </a:cubicBezTo>
                  <a:cubicBezTo>
                    <a:pt x="134" y="1373"/>
                    <a:pt x="143" y="1384"/>
                    <a:pt x="144" y="1384"/>
                  </a:cubicBezTo>
                  <a:cubicBezTo>
                    <a:pt x="158" y="1396"/>
                    <a:pt x="177" y="1406"/>
                    <a:pt x="194" y="1412"/>
                  </a:cubicBezTo>
                  <a:cubicBezTo>
                    <a:pt x="197" y="1422"/>
                    <a:pt x="202" y="1420"/>
                    <a:pt x="212" y="1418"/>
                  </a:cubicBezTo>
                  <a:cubicBezTo>
                    <a:pt x="216" y="1415"/>
                    <a:pt x="220" y="1413"/>
                    <a:pt x="224" y="1410"/>
                  </a:cubicBezTo>
                  <a:cubicBezTo>
                    <a:pt x="228" y="1408"/>
                    <a:pt x="236" y="1406"/>
                    <a:pt x="236" y="1406"/>
                  </a:cubicBezTo>
                  <a:cubicBezTo>
                    <a:pt x="256" y="1413"/>
                    <a:pt x="278" y="1414"/>
                    <a:pt x="298" y="1416"/>
                  </a:cubicBezTo>
                  <a:cubicBezTo>
                    <a:pt x="307" y="1422"/>
                    <a:pt x="304" y="1427"/>
                    <a:pt x="316" y="1424"/>
                  </a:cubicBezTo>
                  <a:cubicBezTo>
                    <a:pt x="317" y="1416"/>
                    <a:pt x="316" y="1408"/>
                    <a:pt x="318" y="1400"/>
                  </a:cubicBezTo>
                  <a:cubicBezTo>
                    <a:pt x="322" y="1387"/>
                    <a:pt x="342" y="1413"/>
                    <a:pt x="346" y="1414"/>
                  </a:cubicBezTo>
                  <a:cubicBezTo>
                    <a:pt x="355" y="1400"/>
                    <a:pt x="370" y="1401"/>
                    <a:pt x="386" y="1400"/>
                  </a:cubicBezTo>
                  <a:cubicBezTo>
                    <a:pt x="395" y="1397"/>
                    <a:pt x="401" y="1391"/>
                    <a:pt x="410" y="1388"/>
                  </a:cubicBezTo>
                  <a:cubicBezTo>
                    <a:pt x="424" y="1390"/>
                    <a:pt x="438" y="1393"/>
                    <a:pt x="452" y="1398"/>
                  </a:cubicBezTo>
                  <a:cubicBezTo>
                    <a:pt x="454" y="1400"/>
                    <a:pt x="458" y="1406"/>
                    <a:pt x="458" y="1410"/>
                  </a:cubicBezTo>
                  <a:cubicBezTo>
                    <a:pt x="458" y="1414"/>
                    <a:pt x="454" y="1422"/>
                    <a:pt x="454" y="1422"/>
                  </a:cubicBezTo>
                  <a:cubicBezTo>
                    <a:pt x="462" y="1427"/>
                    <a:pt x="471" y="1429"/>
                    <a:pt x="480" y="1432"/>
                  </a:cubicBezTo>
                  <a:cubicBezTo>
                    <a:pt x="482" y="1433"/>
                    <a:pt x="486" y="1434"/>
                    <a:pt x="486" y="1434"/>
                  </a:cubicBezTo>
                  <a:cubicBezTo>
                    <a:pt x="498" y="1430"/>
                    <a:pt x="511" y="1431"/>
                    <a:pt x="522" y="1438"/>
                  </a:cubicBezTo>
                  <a:cubicBezTo>
                    <a:pt x="526" y="1444"/>
                    <a:pt x="530" y="1450"/>
                    <a:pt x="534" y="1456"/>
                  </a:cubicBezTo>
                  <a:cubicBezTo>
                    <a:pt x="537" y="1460"/>
                    <a:pt x="542" y="1468"/>
                    <a:pt x="542" y="1468"/>
                  </a:cubicBezTo>
                  <a:cubicBezTo>
                    <a:pt x="537" y="1484"/>
                    <a:pt x="531" y="1500"/>
                    <a:pt x="526" y="1516"/>
                  </a:cubicBezTo>
                  <a:cubicBezTo>
                    <a:pt x="522" y="1527"/>
                    <a:pt x="525" y="1520"/>
                    <a:pt x="516" y="1534"/>
                  </a:cubicBezTo>
                  <a:cubicBezTo>
                    <a:pt x="515" y="1536"/>
                    <a:pt x="512" y="1540"/>
                    <a:pt x="512" y="1540"/>
                  </a:cubicBezTo>
                  <a:cubicBezTo>
                    <a:pt x="516" y="1577"/>
                    <a:pt x="528" y="1570"/>
                    <a:pt x="546" y="1594"/>
                  </a:cubicBezTo>
                  <a:cubicBezTo>
                    <a:pt x="568" y="1622"/>
                    <a:pt x="585" y="1649"/>
                    <a:pt x="594" y="1684"/>
                  </a:cubicBezTo>
                  <a:cubicBezTo>
                    <a:pt x="593" y="1702"/>
                    <a:pt x="601" y="1747"/>
                    <a:pt x="578" y="1762"/>
                  </a:cubicBezTo>
                  <a:cubicBezTo>
                    <a:pt x="569" y="1790"/>
                    <a:pt x="576" y="1763"/>
                    <a:pt x="572" y="1818"/>
                  </a:cubicBezTo>
                  <a:cubicBezTo>
                    <a:pt x="571" y="1829"/>
                    <a:pt x="560" y="1837"/>
                    <a:pt x="556" y="1848"/>
                  </a:cubicBezTo>
                  <a:cubicBezTo>
                    <a:pt x="560" y="1877"/>
                    <a:pt x="572" y="1890"/>
                    <a:pt x="592" y="1910"/>
                  </a:cubicBezTo>
                  <a:cubicBezTo>
                    <a:pt x="596" y="1914"/>
                    <a:pt x="600" y="1917"/>
                    <a:pt x="602" y="1922"/>
                  </a:cubicBezTo>
                  <a:cubicBezTo>
                    <a:pt x="604" y="1926"/>
                    <a:pt x="606" y="1934"/>
                    <a:pt x="606" y="1934"/>
                  </a:cubicBezTo>
                  <a:cubicBezTo>
                    <a:pt x="608" y="1959"/>
                    <a:pt x="609" y="1976"/>
                    <a:pt x="612" y="1998"/>
                  </a:cubicBezTo>
                  <a:cubicBezTo>
                    <a:pt x="614" y="2012"/>
                    <a:pt x="613" y="2008"/>
                    <a:pt x="618" y="2022"/>
                  </a:cubicBezTo>
                  <a:cubicBezTo>
                    <a:pt x="619" y="2024"/>
                    <a:pt x="620" y="2028"/>
                    <a:pt x="620" y="2028"/>
                  </a:cubicBezTo>
                  <a:cubicBezTo>
                    <a:pt x="622" y="2048"/>
                    <a:pt x="623" y="2060"/>
                    <a:pt x="640" y="2072"/>
                  </a:cubicBezTo>
                  <a:cubicBezTo>
                    <a:pt x="645" y="2079"/>
                    <a:pt x="649" y="2083"/>
                    <a:pt x="656" y="2088"/>
                  </a:cubicBezTo>
                  <a:cubicBezTo>
                    <a:pt x="661" y="2104"/>
                    <a:pt x="669" y="2120"/>
                    <a:pt x="674" y="2136"/>
                  </a:cubicBezTo>
                  <a:cubicBezTo>
                    <a:pt x="673" y="2142"/>
                    <a:pt x="675" y="2149"/>
                    <a:pt x="672" y="2154"/>
                  </a:cubicBezTo>
                  <a:cubicBezTo>
                    <a:pt x="670" y="2158"/>
                    <a:pt x="660" y="2162"/>
                    <a:pt x="660" y="2162"/>
                  </a:cubicBezTo>
                  <a:cubicBezTo>
                    <a:pt x="649" y="2179"/>
                    <a:pt x="678" y="2181"/>
                    <a:pt x="688" y="2182"/>
                  </a:cubicBezTo>
                  <a:cubicBezTo>
                    <a:pt x="716" y="2176"/>
                    <a:pt x="741" y="2170"/>
                    <a:pt x="770" y="2168"/>
                  </a:cubicBezTo>
                  <a:cubicBezTo>
                    <a:pt x="794" y="2164"/>
                    <a:pt x="816" y="2159"/>
                    <a:pt x="840" y="2156"/>
                  </a:cubicBezTo>
                  <a:cubicBezTo>
                    <a:pt x="844" y="2155"/>
                    <a:pt x="848" y="2154"/>
                    <a:pt x="852" y="2152"/>
                  </a:cubicBezTo>
                  <a:cubicBezTo>
                    <a:pt x="854" y="2151"/>
                    <a:pt x="856" y="2149"/>
                    <a:pt x="858" y="2148"/>
                  </a:cubicBezTo>
                  <a:cubicBezTo>
                    <a:pt x="862" y="2146"/>
                    <a:pt x="870" y="2144"/>
                    <a:pt x="870" y="2144"/>
                  </a:cubicBezTo>
                  <a:cubicBezTo>
                    <a:pt x="877" y="2137"/>
                    <a:pt x="884" y="2129"/>
                    <a:pt x="892" y="2124"/>
                  </a:cubicBezTo>
                  <a:cubicBezTo>
                    <a:pt x="897" y="2117"/>
                    <a:pt x="901" y="2113"/>
                    <a:pt x="908" y="2108"/>
                  </a:cubicBezTo>
                  <a:cubicBezTo>
                    <a:pt x="914" y="2099"/>
                    <a:pt x="926" y="2093"/>
                    <a:pt x="936" y="2090"/>
                  </a:cubicBezTo>
                  <a:cubicBezTo>
                    <a:pt x="951" y="2075"/>
                    <a:pt x="965" y="2059"/>
                    <a:pt x="972" y="2038"/>
                  </a:cubicBezTo>
                  <a:cubicBezTo>
                    <a:pt x="971" y="2034"/>
                    <a:pt x="970" y="2030"/>
                    <a:pt x="970" y="2026"/>
                  </a:cubicBezTo>
                  <a:cubicBezTo>
                    <a:pt x="970" y="1985"/>
                    <a:pt x="979" y="1999"/>
                    <a:pt x="1002" y="1984"/>
                  </a:cubicBezTo>
                  <a:cubicBezTo>
                    <a:pt x="1008" y="1976"/>
                    <a:pt x="1013" y="1969"/>
                    <a:pt x="1016" y="1960"/>
                  </a:cubicBezTo>
                  <a:cubicBezTo>
                    <a:pt x="1015" y="1938"/>
                    <a:pt x="1017" y="1912"/>
                    <a:pt x="1004" y="1892"/>
                  </a:cubicBezTo>
                  <a:cubicBezTo>
                    <a:pt x="1009" y="1878"/>
                    <a:pt x="1025" y="1886"/>
                    <a:pt x="1036" y="1890"/>
                  </a:cubicBezTo>
                  <a:cubicBezTo>
                    <a:pt x="1040" y="1896"/>
                    <a:pt x="1040" y="1907"/>
                    <a:pt x="1044" y="1896"/>
                  </a:cubicBezTo>
                  <a:cubicBezTo>
                    <a:pt x="1045" y="1882"/>
                    <a:pt x="1045" y="1868"/>
                    <a:pt x="1046" y="1854"/>
                  </a:cubicBezTo>
                  <a:cubicBezTo>
                    <a:pt x="1047" y="1843"/>
                    <a:pt x="1077" y="1840"/>
                    <a:pt x="1086" y="1834"/>
                  </a:cubicBezTo>
                  <a:cubicBezTo>
                    <a:pt x="1092" y="1825"/>
                    <a:pt x="1105" y="1818"/>
                    <a:pt x="1114" y="1812"/>
                  </a:cubicBezTo>
                  <a:cubicBezTo>
                    <a:pt x="1118" y="1809"/>
                    <a:pt x="1126" y="1804"/>
                    <a:pt x="1126" y="1804"/>
                  </a:cubicBezTo>
                  <a:cubicBezTo>
                    <a:pt x="1137" y="1788"/>
                    <a:pt x="1125" y="1773"/>
                    <a:pt x="1122" y="1756"/>
                  </a:cubicBezTo>
                  <a:cubicBezTo>
                    <a:pt x="1124" y="1742"/>
                    <a:pt x="1126" y="1740"/>
                    <a:pt x="1130" y="1728"/>
                  </a:cubicBezTo>
                  <a:cubicBezTo>
                    <a:pt x="1127" y="1713"/>
                    <a:pt x="1120" y="1712"/>
                    <a:pt x="1110" y="1702"/>
                  </a:cubicBezTo>
                  <a:cubicBezTo>
                    <a:pt x="1108" y="1696"/>
                    <a:pt x="1104" y="1684"/>
                    <a:pt x="1104" y="1684"/>
                  </a:cubicBezTo>
                  <a:cubicBezTo>
                    <a:pt x="1105" y="1664"/>
                    <a:pt x="1105" y="1644"/>
                    <a:pt x="1106" y="1624"/>
                  </a:cubicBezTo>
                  <a:cubicBezTo>
                    <a:pt x="1108" y="1587"/>
                    <a:pt x="1144" y="1574"/>
                    <a:pt x="1166" y="1552"/>
                  </a:cubicBezTo>
                  <a:cubicBezTo>
                    <a:pt x="1169" y="1544"/>
                    <a:pt x="1175" y="1544"/>
                    <a:pt x="1178" y="1536"/>
                  </a:cubicBezTo>
                  <a:cubicBezTo>
                    <a:pt x="1183" y="1524"/>
                    <a:pt x="1181" y="1521"/>
                    <a:pt x="1190" y="1512"/>
                  </a:cubicBezTo>
                  <a:cubicBezTo>
                    <a:pt x="1194" y="1501"/>
                    <a:pt x="1204" y="1484"/>
                    <a:pt x="1216" y="1480"/>
                  </a:cubicBezTo>
                  <a:cubicBezTo>
                    <a:pt x="1222" y="1471"/>
                    <a:pt x="1229" y="1464"/>
                    <a:pt x="1238" y="1458"/>
                  </a:cubicBezTo>
                  <a:cubicBezTo>
                    <a:pt x="1243" y="1451"/>
                    <a:pt x="1247" y="1451"/>
                    <a:pt x="1254" y="1446"/>
                  </a:cubicBezTo>
                  <a:cubicBezTo>
                    <a:pt x="1259" y="1439"/>
                    <a:pt x="1262" y="1437"/>
                    <a:pt x="1270" y="1434"/>
                  </a:cubicBezTo>
                  <a:cubicBezTo>
                    <a:pt x="1279" y="1420"/>
                    <a:pt x="1274" y="1425"/>
                    <a:pt x="1284" y="1418"/>
                  </a:cubicBezTo>
                  <a:cubicBezTo>
                    <a:pt x="1292" y="1406"/>
                    <a:pt x="1300" y="1394"/>
                    <a:pt x="1308" y="1382"/>
                  </a:cubicBezTo>
                  <a:cubicBezTo>
                    <a:pt x="1313" y="1374"/>
                    <a:pt x="1315" y="1359"/>
                    <a:pt x="1318" y="1350"/>
                  </a:cubicBezTo>
                  <a:cubicBezTo>
                    <a:pt x="1322" y="1339"/>
                    <a:pt x="1319" y="1346"/>
                    <a:pt x="1328" y="1332"/>
                  </a:cubicBezTo>
                  <a:cubicBezTo>
                    <a:pt x="1333" y="1324"/>
                    <a:pt x="1333" y="1313"/>
                    <a:pt x="1336" y="1304"/>
                  </a:cubicBezTo>
                  <a:cubicBezTo>
                    <a:pt x="1333" y="1289"/>
                    <a:pt x="1329" y="1295"/>
                    <a:pt x="1316" y="1298"/>
                  </a:cubicBezTo>
                  <a:cubicBezTo>
                    <a:pt x="1290" y="1315"/>
                    <a:pt x="1252" y="1311"/>
                    <a:pt x="1224" y="1312"/>
                  </a:cubicBezTo>
                  <a:cubicBezTo>
                    <a:pt x="1186" y="1309"/>
                    <a:pt x="1190" y="1304"/>
                    <a:pt x="1168" y="1282"/>
                  </a:cubicBezTo>
                  <a:cubicBezTo>
                    <a:pt x="1163" y="1266"/>
                    <a:pt x="1153" y="1259"/>
                    <a:pt x="1140" y="1250"/>
                  </a:cubicBezTo>
                  <a:cubicBezTo>
                    <a:pt x="1135" y="1246"/>
                    <a:pt x="1122" y="1242"/>
                    <a:pt x="1122" y="1242"/>
                  </a:cubicBezTo>
                  <a:cubicBezTo>
                    <a:pt x="1113" y="1215"/>
                    <a:pt x="1102" y="1190"/>
                    <a:pt x="1086" y="1166"/>
                  </a:cubicBezTo>
                  <a:cubicBezTo>
                    <a:pt x="1079" y="1156"/>
                    <a:pt x="1084" y="1161"/>
                    <a:pt x="1070" y="1152"/>
                  </a:cubicBezTo>
                  <a:cubicBezTo>
                    <a:pt x="1066" y="1149"/>
                    <a:pt x="1058" y="1144"/>
                    <a:pt x="1058" y="1144"/>
                  </a:cubicBezTo>
                  <a:cubicBezTo>
                    <a:pt x="1046" y="1126"/>
                    <a:pt x="1056" y="1104"/>
                    <a:pt x="1044" y="1086"/>
                  </a:cubicBezTo>
                  <a:cubicBezTo>
                    <a:pt x="1029" y="1063"/>
                    <a:pt x="1009" y="1033"/>
                    <a:pt x="990" y="1014"/>
                  </a:cubicBezTo>
                  <a:cubicBezTo>
                    <a:pt x="986" y="996"/>
                    <a:pt x="980" y="985"/>
                    <a:pt x="970" y="970"/>
                  </a:cubicBezTo>
                  <a:cubicBezTo>
                    <a:pt x="966" y="965"/>
                    <a:pt x="962" y="952"/>
                    <a:pt x="962" y="952"/>
                  </a:cubicBezTo>
                  <a:cubicBezTo>
                    <a:pt x="985" y="944"/>
                    <a:pt x="1006" y="982"/>
                    <a:pt x="1020" y="996"/>
                  </a:cubicBezTo>
                  <a:cubicBezTo>
                    <a:pt x="1026" y="1015"/>
                    <a:pt x="1026" y="1017"/>
                    <a:pt x="1046" y="1024"/>
                  </a:cubicBezTo>
                  <a:cubicBezTo>
                    <a:pt x="1053" y="1026"/>
                    <a:pt x="1064" y="1036"/>
                    <a:pt x="1064" y="1036"/>
                  </a:cubicBezTo>
                  <a:cubicBezTo>
                    <a:pt x="1069" y="1044"/>
                    <a:pt x="1075" y="1050"/>
                    <a:pt x="1080" y="1058"/>
                  </a:cubicBezTo>
                  <a:cubicBezTo>
                    <a:pt x="1081" y="1075"/>
                    <a:pt x="1082" y="1082"/>
                    <a:pt x="1086" y="1096"/>
                  </a:cubicBezTo>
                  <a:cubicBezTo>
                    <a:pt x="1089" y="1125"/>
                    <a:pt x="1091" y="1124"/>
                    <a:pt x="1116" y="1132"/>
                  </a:cubicBezTo>
                  <a:cubicBezTo>
                    <a:pt x="1122" y="1138"/>
                    <a:pt x="1126" y="1144"/>
                    <a:pt x="1132" y="1150"/>
                  </a:cubicBezTo>
                  <a:cubicBezTo>
                    <a:pt x="1133" y="1152"/>
                    <a:pt x="1134" y="1154"/>
                    <a:pt x="1134" y="1156"/>
                  </a:cubicBezTo>
                  <a:cubicBezTo>
                    <a:pt x="1135" y="1161"/>
                    <a:pt x="1135" y="1167"/>
                    <a:pt x="1136" y="1172"/>
                  </a:cubicBezTo>
                  <a:cubicBezTo>
                    <a:pt x="1139" y="1182"/>
                    <a:pt x="1157" y="1187"/>
                    <a:pt x="1164" y="1194"/>
                  </a:cubicBezTo>
                  <a:cubicBezTo>
                    <a:pt x="1179" y="1238"/>
                    <a:pt x="1157" y="1261"/>
                    <a:pt x="1210" y="1274"/>
                  </a:cubicBezTo>
                  <a:cubicBezTo>
                    <a:pt x="1225" y="1272"/>
                    <a:pt x="1231" y="1274"/>
                    <a:pt x="1242" y="1266"/>
                  </a:cubicBezTo>
                  <a:cubicBezTo>
                    <a:pt x="1248" y="1257"/>
                    <a:pt x="1255" y="1255"/>
                    <a:pt x="1264" y="1250"/>
                  </a:cubicBezTo>
                  <a:cubicBezTo>
                    <a:pt x="1292" y="1234"/>
                    <a:pt x="1301" y="1229"/>
                    <a:pt x="1334" y="1222"/>
                  </a:cubicBezTo>
                  <a:cubicBezTo>
                    <a:pt x="1343" y="1220"/>
                    <a:pt x="1353" y="1217"/>
                    <a:pt x="1362" y="1214"/>
                  </a:cubicBezTo>
                  <a:cubicBezTo>
                    <a:pt x="1371" y="1211"/>
                    <a:pt x="1377" y="1201"/>
                    <a:pt x="1386" y="1198"/>
                  </a:cubicBezTo>
                  <a:cubicBezTo>
                    <a:pt x="1398" y="1194"/>
                    <a:pt x="1410" y="1193"/>
                    <a:pt x="1420" y="1186"/>
                  </a:cubicBezTo>
                  <a:cubicBezTo>
                    <a:pt x="1426" y="1177"/>
                    <a:pt x="1435" y="1171"/>
                    <a:pt x="1440" y="1162"/>
                  </a:cubicBezTo>
                  <a:cubicBezTo>
                    <a:pt x="1446" y="1150"/>
                    <a:pt x="1448" y="1136"/>
                    <a:pt x="1460" y="1128"/>
                  </a:cubicBezTo>
                  <a:cubicBezTo>
                    <a:pt x="1467" y="1117"/>
                    <a:pt x="1470" y="1104"/>
                    <a:pt x="1474" y="1092"/>
                  </a:cubicBezTo>
                  <a:cubicBezTo>
                    <a:pt x="1476" y="1085"/>
                    <a:pt x="1482" y="1081"/>
                    <a:pt x="1484" y="1074"/>
                  </a:cubicBezTo>
                  <a:cubicBezTo>
                    <a:pt x="1475" y="1071"/>
                    <a:pt x="1475" y="1077"/>
                    <a:pt x="1466" y="1080"/>
                  </a:cubicBezTo>
                  <a:cubicBezTo>
                    <a:pt x="1461" y="1073"/>
                    <a:pt x="1467" y="1065"/>
                    <a:pt x="1460" y="1060"/>
                  </a:cubicBezTo>
                  <a:cubicBezTo>
                    <a:pt x="1455" y="1057"/>
                    <a:pt x="1442" y="1054"/>
                    <a:pt x="1442" y="1054"/>
                  </a:cubicBezTo>
                  <a:cubicBezTo>
                    <a:pt x="1432" y="1044"/>
                    <a:pt x="1430" y="1047"/>
                    <a:pt x="1418" y="1052"/>
                  </a:cubicBezTo>
                  <a:cubicBezTo>
                    <a:pt x="1414" y="1054"/>
                    <a:pt x="1406" y="1056"/>
                    <a:pt x="1406" y="1056"/>
                  </a:cubicBezTo>
                  <a:cubicBezTo>
                    <a:pt x="1402" y="1055"/>
                    <a:pt x="1397" y="1057"/>
                    <a:pt x="1394" y="1054"/>
                  </a:cubicBezTo>
                  <a:cubicBezTo>
                    <a:pt x="1391" y="1051"/>
                    <a:pt x="1390" y="1042"/>
                    <a:pt x="1390" y="1042"/>
                  </a:cubicBezTo>
                  <a:cubicBezTo>
                    <a:pt x="1392" y="1041"/>
                    <a:pt x="1394" y="1039"/>
                    <a:pt x="1396" y="1038"/>
                  </a:cubicBezTo>
                  <a:cubicBezTo>
                    <a:pt x="1410" y="1034"/>
                    <a:pt x="1419" y="1042"/>
                    <a:pt x="1410" y="1022"/>
                  </a:cubicBezTo>
                  <a:cubicBezTo>
                    <a:pt x="1409" y="1020"/>
                    <a:pt x="1406" y="1019"/>
                    <a:pt x="1404" y="1018"/>
                  </a:cubicBezTo>
                  <a:cubicBezTo>
                    <a:pt x="1400" y="1019"/>
                    <a:pt x="1394" y="1018"/>
                    <a:pt x="1392" y="1022"/>
                  </a:cubicBezTo>
                  <a:cubicBezTo>
                    <a:pt x="1391" y="1024"/>
                    <a:pt x="1390" y="1026"/>
                    <a:pt x="1388" y="1028"/>
                  </a:cubicBezTo>
                  <a:cubicBezTo>
                    <a:pt x="1377" y="1037"/>
                    <a:pt x="1363" y="1040"/>
                    <a:pt x="1350" y="1044"/>
                  </a:cubicBezTo>
                  <a:cubicBezTo>
                    <a:pt x="1345" y="1043"/>
                    <a:pt x="1339" y="1041"/>
                    <a:pt x="1334" y="1040"/>
                  </a:cubicBezTo>
                  <a:cubicBezTo>
                    <a:pt x="1331" y="1039"/>
                    <a:pt x="1326" y="1038"/>
                    <a:pt x="1326" y="1038"/>
                  </a:cubicBezTo>
                  <a:cubicBezTo>
                    <a:pt x="1314" y="1020"/>
                    <a:pt x="1311" y="1018"/>
                    <a:pt x="1290" y="1014"/>
                  </a:cubicBezTo>
                  <a:cubicBezTo>
                    <a:pt x="1291" y="1008"/>
                    <a:pt x="1294" y="1000"/>
                    <a:pt x="1290" y="994"/>
                  </a:cubicBezTo>
                  <a:cubicBezTo>
                    <a:pt x="1288" y="991"/>
                    <a:pt x="1276" y="986"/>
                    <a:pt x="1272" y="984"/>
                  </a:cubicBezTo>
                  <a:cubicBezTo>
                    <a:pt x="1268" y="982"/>
                    <a:pt x="1260" y="980"/>
                    <a:pt x="1260" y="980"/>
                  </a:cubicBezTo>
                  <a:cubicBezTo>
                    <a:pt x="1252" y="972"/>
                    <a:pt x="1244" y="968"/>
                    <a:pt x="1236" y="960"/>
                  </a:cubicBezTo>
                  <a:cubicBezTo>
                    <a:pt x="1238" y="947"/>
                    <a:pt x="1239" y="938"/>
                    <a:pt x="1252" y="934"/>
                  </a:cubicBezTo>
                  <a:cubicBezTo>
                    <a:pt x="1270" y="936"/>
                    <a:pt x="1286" y="940"/>
                    <a:pt x="1304" y="944"/>
                  </a:cubicBezTo>
                  <a:cubicBezTo>
                    <a:pt x="1311" y="954"/>
                    <a:pt x="1314" y="959"/>
                    <a:pt x="1324" y="966"/>
                  </a:cubicBezTo>
                  <a:cubicBezTo>
                    <a:pt x="1335" y="983"/>
                    <a:pt x="1346" y="985"/>
                    <a:pt x="1362" y="996"/>
                  </a:cubicBezTo>
                  <a:cubicBezTo>
                    <a:pt x="1374" y="995"/>
                    <a:pt x="1389" y="1000"/>
                    <a:pt x="1398" y="992"/>
                  </a:cubicBezTo>
                  <a:cubicBezTo>
                    <a:pt x="1411" y="982"/>
                    <a:pt x="1393" y="989"/>
                    <a:pt x="1408" y="984"/>
                  </a:cubicBezTo>
                  <a:cubicBezTo>
                    <a:pt x="1414" y="988"/>
                    <a:pt x="1420" y="990"/>
                    <a:pt x="1426" y="994"/>
                  </a:cubicBezTo>
                  <a:cubicBezTo>
                    <a:pt x="1435" y="1007"/>
                    <a:pt x="1454" y="1005"/>
                    <a:pt x="1468" y="1008"/>
                  </a:cubicBezTo>
                  <a:cubicBezTo>
                    <a:pt x="1491" y="1023"/>
                    <a:pt x="1475" y="1016"/>
                    <a:pt x="1518" y="1018"/>
                  </a:cubicBezTo>
                  <a:cubicBezTo>
                    <a:pt x="1531" y="1022"/>
                    <a:pt x="1538" y="1026"/>
                    <a:pt x="1546" y="1038"/>
                  </a:cubicBezTo>
                  <a:cubicBezTo>
                    <a:pt x="1542" y="1053"/>
                    <a:pt x="1552" y="1045"/>
                    <a:pt x="1560" y="1040"/>
                  </a:cubicBezTo>
                  <a:cubicBezTo>
                    <a:pt x="1563" y="1032"/>
                    <a:pt x="1567" y="1032"/>
                    <a:pt x="1570" y="1024"/>
                  </a:cubicBezTo>
                  <a:cubicBezTo>
                    <a:pt x="1583" y="1028"/>
                    <a:pt x="1580" y="1034"/>
                    <a:pt x="1578" y="1048"/>
                  </a:cubicBezTo>
                  <a:cubicBezTo>
                    <a:pt x="1590" y="1056"/>
                    <a:pt x="1603" y="1052"/>
                    <a:pt x="1616" y="1056"/>
                  </a:cubicBezTo>
                  <a:cubicBezTo>
                    <a:pt x="1625" y="1059"/>
                    <a:pt x="1631" y="1067"/>
                    <a:pt x="1640" y="1070"/>
                  </a:cubicBezTo>
                  <a:cubicBezTo>
                    <a:pt x="1655" y="1075"/>
                    <a:pt x="1670" y="1080"/>
                    <a:pt x="1682" y="1092"/>
                  </a:cubicBezTo>
                  <a:cubicBezTo>
                    <a:pt x="1686" y="1105"/>
                    <a:pt x="1692" y="1112"/>
                    <a:pt x="1704" y="1116"/>
                  </a:cubicBezTo>
                  <a:cubicBezTo>
                    <a:pt x="1710" y="1125"/>
                    <a:pt x="1713" y="1132"/>
                    <a:pt x="1722" y="1138"/>
                  </a:cubicBezTo>
                  <a:cubicBezTo>
                    <a:pt x="1740" y="1135"/>
                    <a:pt x="1732" y="1137"/>
                    <a:pt x="1748" y="1132"/>
                  </a:cubicBezTo>
                  <a:cubicBezTo>
                    <a:pt x="1750" y="1131"/>
                    <a:pt x="1754" y="1130"/>
                    <a:pt x="1754" y="1130"/>
                  </a:cubicBezTo>
                  <a:cubicBezTo>
                    <a:pt x="1767" y="1139"/>
                    <a:pt x="1757" y="1126"/>
                    <a:pt x="1754" y="1122"/>
                  </a:cubicBezTo>
                  <a:cubicBezTo>
                    <a:pt x="1750" y="1128"/>
                    <a:pt x="1744" y="1133"/>
                    <a:pt x="1742" y="1140"/>
                  </a:cubicBezTo>
                  <a:cubicBezTo>
                    <a:pt x="1741" y="1144"/>
                    <a:pt x="1738" y="1152"/>
                    <a:pt x="1738" y="1152"/>
                  </a:cubicBezTo>
                  <a:cubicBezTo>
                    <a:pt x="1739" y="1161"/>
                    <a:pt x="1741" y="1176"/>
                    <a:pt x="1754" y="1176"/>
                  </a:cubicBezTo>
                  <a:lnTo>
                    <a:pt x="1756" y="1222"/>
                  </a:lnTo>
                  <a:lnTo>
                    <a:pt x="1794" y="1340"/>
                  </a:lnTo>
                  <a:lnTo>
                    <a:pt x="1826" y="1378"/>
                  </a:lnTo>
                  <a:lnTo>
                    <a:pt x="1884" y="1326"/>
                  </a:lnTo>
                  <a:lnTo>
                    <a:pt x="1880" y="1290"/>
                  </a:lnTo>
                  <a:lnTo>
                    <a:pt x="1894" y="1280"/>
                  </a:lnTo>
                  <a:lnTo>
                    <a:pt x="1892" y="1236"/>
                  </a:lnTo>
                  <a:lnTo>
                    <a:pt x="1930" y="1222"/>
                  </a:lnTo>
                  <a:lnTo>
                    <a:pt x="2022" y="1142"/>
                  </a:lnTo>
                  <a:lnTo>
                    <a:pt x="2038" y="1122"/>
                  </a:lnTo>
                  <a:lnTo>
                    <a:pt x="2112" y="1102"/>
                  </a:lnTo>
                  <a:lnTo>
                    <a:pt x="2138" y="1132"/>
                  </a:lnTo>
                  <a:lnTo>
                    <a:pt x="2130" y="1146"/>
                  </a:lnTo>
                  <a:lnTo>
                    <a:pt x="2154" y="1170"/>
                  </a:lnTo>
                  <a:lnTo>
                    <a:pt x="2160" y="1200"/>
                  </a:lnTo>
                  <a:lnTo>
                    <a:pt x="2182" y="1210"/>
                  </a:lnTo>
                  <a:lnTo>
                    <a:pt x="2230" y="1192"/>
                  </a:lnTo>
                  <a:lnTo>
                    <a:pt x="2228" y="1300"/>
                  </a:lnTo>
                  <a:lnTo>
                    <a:pt x="2240" y="1276"/>
                  </a:lnTo>
                  <a:lnTo>
                    <a:pt x="2270" y="1334"/>
                  </a:lnTo>
                  <a:lnTo>
                    <a:pt x="2266" y="1374"/>
                  </a:lnTo>
                  <a:lnTo>
                    <a:pt x="2286" y="1350"/>
                  </a:lnTo>
                  <a:lnTo>
                    <a:pt x="2290" y="1330"/>
                  </a:lnTo>
                  <a:lnTo>
                    <a:pt x="2312" y="1296"/>
                  </a:lnTo>
                  <a:lnTo>
                    <a:pt x="2298" y="1278"/>
                  </a:lnTo>
                  <a:lnTo>
                    <a:pt x="2310" y="1258"/>
                  </a:lnTo>
                  <a:lnTo>
                    <a:pt x="2294" y="1218"/>
                  </a:lnTo>
                  <a:lnTo>
                    <a:pt x="2304" y="1188"/>
                  </a:lnTo>
                  <a:lnTo>
                    <a:pt x="2280" y="1196"/>
                  </a:lnTo>
                  <a:lnTo>
                    <a:pt x="2270" y="1168"/>
                  </a:lnTo>
                  <a:lnTo>
                    <a:pt x="2262" y="1128"/>
                  </a:lnTo>
                  <a:lnTo>
                    <a:pt x="2278" y="1090"/>
                  </a:lnTo>
                  <a:lnTo>
                    <a:pt x="2298" y="1116"/>
                  </a:lnTo>
                  <a:lnTo>
                    <a:pt x="2290" y="1176"/>
                  </a:lnTo>
                  <a:lnTo>
                    <a:pt x="2312" y="1134"/>
                  </a:lnTo>
                  <a:lnTo>
                    <a:pt x="2304" y="1102"/>
                  </a:lnTo>
                  <a:lnTo>
                    <a:pt x="2330" y="1080"/>
                  </a:lnTo>
                  <a:lnTo>
                    <a:pt x="2330" y="1066"/>
                  </a:lnTo>
                  <a:lnTo>
                    <a:pt x="2338" y="1070"/>
                  </a:lnTo>
                  <a:lnTo>
                    <a:pt x="2388" y="1012"/>
                  </a:lnTo>
                  <a:lnTo>
                    <a:pt x="2400" y="918"/>
                  </a:lnTo>
                  <a:lnTo>
                    <a:pt x="2406" y="880"/>
                  </a:lnTo>
                  <a:lnTo>
                    <a:pt x="2386" y="892"/>
                  </a:lnTo>
                  <a:lnTo>
                    <a:pt x="2378" y="878"/>
                  </a:lnTo>
                  <a:lnTo>
                    <a:pt x="2394" y="856"/>
                  </a:lnTo>
                  <a:lnTo>
                    <a:pt x="2362" y="796"/>
                  </a:lnTo>
                  <a:lnTo>
                    <a:pt x="2344" y="780"/>
                  </a:lnTo>
                  <a:lnTo>
                    <a:pt x="2372" y="732"/>
                  </a:lnTo>
                  <a:lnTo>
                    <a:pt x="2342" y="726"/>
                  </a:lnTo>
                  <a:lnTo>
                    <a:pt x="2318" y="716"/>
                  </a:lnTo>
                  <a:lnTo>
                    <a:pt x="2328" y="680"/>
                  </a:lnTo>
                  <a:lnTo>
                    <a:pt x="2344" y="658"/>
                  </a:lnTo>
                  <a:lnTo>
                    <a:pt x="2348" y="700"/>
                  </a:lnTo>
                  <a:lnTo>
                    <a:pt x="2378" y="674"/>
                  </a:lnTo>
                  <a:lnTo>
                    <a:pt x="2400" y="672"/>
                  </a:lnTo>
                  <a:lnTo>
                    <a:pt x="2390" y="700"/>
                  </a:lnTo>
                  <a:lnTo>
                    <a:pt x="2424" y="712"/>
                  </a:lnTo>
                  <a:lnTo>
                    <a:pt x="2414" y="734"/>
                  </a:lnTo>
                  <a:lnTo>
                    <a:pt x="2434" y="754"/>
                  </a:lnTo>
                  <a:lnTo>
                    <a:pt x="2434" y="790"/>
                  </a:lnTo>
                  <a:lnTo>
                    <a:pt x="2474" y="754"/>
                  </a:lnTo>
                  <a:lnTo>
                    <a:pt x="2460" y="716"/>
                  </a:lnTo>
                  <a:lnTo>
                    <a:pt x="2420" y="660"/>
                  </a:lnTo>
                  <a:lnTo>
                    <a:pt x="2434" y="640"/>
                  </a:lnTo>
                  <a:lnTo>
                    <a:pt x="2426" y="608"/>
                  </a:lnTo>
                  <a:lnTo>
                    <a:pt x="2452" y="578"/>
                  </a:lnTo>
                  <a:lnTo>
                    <a:pt x="2484" y="564"/>
                  </a:lnTo>
                  <a:lnTo>
                    <a:pt x="2482" y="500"/>
                  </a:lnTo>
                  <a:lnTo>
                    <a:pt x="2480" y="454"/>
                  </a:lnTo>
                  <a:lnTo>
                    <a:pt x="2470" y="414"/>
                  </a:lnTo>
                  <a:lnTo>
                    <a:pt x="2434" y="344"/>
                  </a:lnTo>
                  <a:lnTo>
                    <a:pt x="2428" y="378"/>
                  </a:lnTo>
                  <a:lnTo>
                    <a:pt x="2402" y="356"/>
                  </a:lnTo>
                  <a:lnTo>
                    <a:pt x="2380" y="366"/>
                  </a:lnTo>
                  <a:lnTo>
                    <a:pt x="2400" y="314"/>
                  </a:lnTo>
                  <a:lnTo>
                    <a:pt x="2420" y="270"/>
                  </a:lnTo>
                  <a:lnTo>
                    <a:pt x="2460" y="250"/>
                  </a:lnTo>
                  <a:lnTo>
                    <a:pt x="2464" y="228"/>
                  </a:lnTo>
                  <a:lnTo>
                    <a:pt x="2490" y="220"/>
                  </a:lnTo>
                  <a:lnTo>
                    <a:pt x="2490" y="240"/>
                  </a:lnTo>
                  <a:lnTo>
                    <a:pt x="2522" y="208"/>
                  </a:lnTo>
                  <a:lnTo>
                    <a:pt x="2504" y="200"/>
                  </a:lnTo>
                  <a:lnTo>
                    <a:pt x="2504" y="174"/>
                  </a:lnTo>
                  <a:lnTo>
                    <a:pt x="2526" y="158"/>
                  </a:lnTo>
                  <a:lnTo>
                    <a:pt x="2534" y="178"/>
                  </a:lnTo>
                  <a:lnTo>
                    <a:pt x="2564" y="148"/>
                  </a:lnTo>
                  <a:lnTo>
                    <a:pt x="2560" y="174"/>
                  </a:lnTo>
                  <a:lnTo>
                    <a:pt x="2562" y="196"/>
                  </a:lnTo>
                  <a:lnTo>
                    <a:pt x="2560" y="224"/>
                  </a:lnTo>
                  <a:lnTo>
                    <a:pt x="2550" y="248"/>
                  </a:lnTo>
                  <a:lnTo>
                    <a:pt x="2570" y="276"/>
                  </a:lnTo>
                  <a:lnTo>
                    <a:pt x="2578" y="296"/>
                  </a:lnTo>
                  <a:lnTo>
                    <a:pt x="2590" y="292"/>
                  </a:lnTo>
                  <a:lnTo>
                    <a:pt x="2650" y="354"/>
                  </a:lnTo>
                  <a:lnTo>
                    <a:pt x="2662" y="324"/>
                  </a:lnTo>
                  <a:lnTo>
                    <a:pt x="2678" y="300"/>
                  </a:lnTo>
                  <a:lnTo>
                    <a:pt x="2652" y="286"/>
                  </a:lnTo>
                  <a:lnTo>
                    <a:pt x="2658" y="260"/>
                  </a:lnTo>
                  <a:lnTo>
                    <a:pt x="2658" y="242"/>
                  </a:lnTo>
                  <a:lnTo>
                    <a:pt x="2630" y="214"/>
                  </a:lnTo>
                  <a:lnTo>
                    <a:pt x="2606" y="210"/>
                  </a:lnTo>
                  <a:lnTo>
                    <a:pt x="2584" y="180"/>
                  </a:lnTo>
                  <a:lnTo>
                    <a:pt x="2614" y="172"/>
                  </a:lnTo>
                  <a:lnTo>
                    <a:pt x="2628" y="148"/>
                  </a:lnTo>
                  <a:lnTo>
                    <a:pt x="2648" y="156"/>
                  </a:lnTo>
                  <a:lnTo>
                    <a:pt x="2666" y="146"/>
                  </a:lnTo>
                  <a:lnTo>
                    <a:pt x="2654" y="118"/>
                  </a:lnTo>
                  <a:lnTo>
                    <a:pt x="2666" y="92"/>
                  </a:lnTo>
                  <a:lnTo>
                    <a:pt x="2694" y="84"/>
                  </a:lnTo>
                  <a:lnTo>
                    <a:pt x="2668" y="74"/>
                  </a:lnTo>
                  <a:lnTo>
                    <a:pt x="2630" y="66"/>
                  </a:lnTo>
                  <a:lnTo>
                    <a:pt x="2650" y="46"/>
                  </a:lnTo>
                  <a:lnTo>
                    <a:pt x="2646" y="30"/>
                  </a:lnTo>
                  <a:lnTo>
                    <a:pt x="2666" y="42"/>
                  </a:lnTo>
                  <a:lnTo>
                    <a:pt x="2674" y="30"/>
                  </a:lnTo>
                  <a:lnTo>
                    <a:pt x="2696" y="30"/>
                  </a:lnTo>
                  <a:lnTo>
                    <a:pt x="2714" y="50"/>
                  </a:lnTo>
                  <a:lnTo>
                    <a:pt x="2742" y="34"/>
                  </a:lnTo>
                  <a:lnTo>
                    <a:pt x="2720" y="18"/>
                  </a:lnTo>
                  <a:lnTo>
                    <a:pt x="2716" y="0"/>
                  </a:lnTo>
                  <a:lnTo>
                    <a:pt x="2692" y="2"/>
                  </a:lnTo>
                  <a:lnTo>
                    <a:pt x="2668" y="10"/>
                  </a:lnTo>
                  <a:lnTo>
                    <a:pt x="926" y="908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45" name="Line 2"/>
          <p:cNvSpPr/>
          <p:nvPr/>
        </p:nvSpPr>
        <p:spPr>
          <a:xfrm flipH="1" flipV="1">
            <a:off x="1887480" y="4344840"/>
            <a:ext cx="2662200" cy="1733400"/>
          </a:xfrm>
          <a:prstGeom prst="line">
            <a:avLst/>
          </a:prstGeom>
          <a:ln w="57150">
            <a:solidFill>
              <a:srgbClr val="4e9d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6" name="Line 3"/>
          <p:cNvSpPr/>
          <p:nvPr/>
        </p:nvSpPr>
        <p:spPr>
          <a:xfrm flipV="1">
            <a:off x="4587840" y="4168440"/>
            <a:ext cx="360" cy="1776600"/>
          </a:xfrm>
          <a:prstGeom prst="line">
            <a:avLst/>
          </a:prstGeom>
          <a:ln w="57150">
            <a:solidFill>
              <a:srgbClr val="4e9d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Line 4"/>
          <p:cNvSpPr/>
          <p:nvPr/>
        </p:nvSpPr>
        <p:spPr>
          <a:xfrm flipV="1">
            <a:off x="4613040" y="4302000"/>
            <a:ext cx="2502000" cy="1778040"/>
          </a:xfrm>
          <a:prstGeom prst="line">
            <a:avLst/>
          </a:prstGeom>
          <a:ln w="57150">
            <a:solidFill>
              <a:srgbClr val="4e9d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48" name="Picture 5" descr="shadow_1"/>
          <p:cNvPicPr/>
          <p:nvPr/>
        </p:nvPicPr>
        <p:blipFill>
          <a:blip r:embed="rId1"/>
          <a:stretch/>
        </p:blipFill>
        <p:spPr>
          <a:xfrm>
            <a:off x="2514600" y="5510160"/>
            <a:ext cx="4185720" cy="960120"/>
          </a:xfrm>
          <a:prstGeom prst="rect">
            <a:avLst/>
          </a:prstGeom>
          <a:ln w="0">
            <a:noFill/>
          </a:ln>
        </p:spPr>
      </p:pic>
      <p:sp>
        <p:nvSpPr>
          <p:cNvPr id="849" name="Freeform 7"/>
          <p:cNvSpPr/>
          <p:nvPr/>
        </p:nvSpPr>
        <p:spPr>
          <a:xfrm>
            <a:off x="593640" y="1239840"/>
            <a:ext cx="2574720" cy="2768400"/>
          </a:xfrm>
          <a:custGeom>
            <a:avLst/>
            <a:gdLst>
              <a:gd name="textAreaLeft" fmla="*/ 0 w 2574720"/>
              <a:gd name="textAreaRight" fmla="*/ 2575080 w 2574720"/>
              <a:gd name="textAreaTop" fmla="*/ 0 h 2768400"/>
              <a:gd name="textAreaBottom" fmla="*/ 2768760 h 2768400"/>
            </a:gdLst>
            <a:ahLst/>
            <a:rect l="textAreaLeft" t="textAreaTop" r="textAreaRight" b="textAreaBottom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chemeClr val="accent2">
              <a:alpha val="97000"/>
            </a:schemeClr>
          </a:solidFill>
          <a:ln w="9525">
            <a:noFill/>
          </a:ln>
          <a:scene3d>
            <a:camera prst="legacyPerspectiveTopLeft">
              <a:rot lat="21299999" lon="0" rev="0"/>
            </a:camera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3267000" y="1454040"/>
            <a:ext cx="2565000" cy="2488680"/>
          </a:xfrm>
          <a:prstGeom prst="rect">
            <a:avLst/>
          </a:prstGeom>
          <a:solidFill>
            <a:schemeClr val="accent2"/>
          </a:solidFill>
          <a:ln w="9525">
            <a:noFill/>
          </a:ln>
          <a:scene3d>
            <a:camera prst="legacyPerspectiveTop">
              <a:rot lat="21299999" lon="0" rev="0"/>
            </a:camera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1" name="Freeform 9"/>
          <p:cNvSpPr/>
          <p:nvPr/>
        </p:nvSpPr>
        <p:spPr>
          <a:xfrm>
            <a:off x="5937120" y="1258920"/>
            <a:ext cx="2568240" cy="274932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2749320"/>
              <a:gd name="textAreaBottom" fmla="*/ 2749680 h 2749320"/>
            </a:gdLst>
            <a:ahLst/>
            <a:rect l="textAreaLeft" t="textAreaTop" r="textAreaRight" b="textAreaBottom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chemeClr val="accent2"/>
          </a:solidFill>
          <a:ln w="9525">
            <a:noFill/>
          </a:ln>
          <a:scene3d>
            <a:camera prst="legacyPerspectiveTopRight">
              <a:rot lat="21299999" lon="0" rev="0"/>
            </a:camera>
            <a:lightRig dir="r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2" name="Freeform 10"/>
          <p:cNvSpPr/>
          <p:nvPr/>
        </p:nvSpPr>
        <p:spPr>
          <a:xfrm>
            <a:off x="644400" y="1278000"/>
            <a:ext cx="2514240" cy="2723760"/>
          </a:xfrm>
          <a:custGeom>
            <a:avLst/>
            <a:gdLst>
              <a:gd name="textAreaLeft" fmla="*/ 0 w 2514240"/>
              <a:gd name="textAreaRight" fmla="*/ 2514600 w 2514240"/>
              <a:gd name="textAreaTop" fmla="*/ 0 h 2723760"/>
              <a:gd name="textAreaBottom" fmla="*/ 2724120 h 272376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3" name="Rectangle 11"/>
          <p:cNvSpPr/>
          <p:nvPr/>
        </p:nvSpPr>
        <p:spPr>
          <a:xfrm>
            <a:off x="3321000" y="1492200"/>
            <a:ext cx="2463480" cy="244296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4" name="Freeform 12"/>
          <p:cNvSpPr/>
          <p:nvPr/>
        </p:nvSpPr>
        <p:spPr>
          <a:xfrm flipH="1">
            <a:off x="5951520" y="1289160"/>
            <a:ext cx="2514240" cy="2723760"/>
          </a:xfrm>
          <a:custGeom>
            <a:avLst/>
            <a:gdLst>
              <a:gd name="textAreaLeft" fmla="*/ 360 w 2514240"/>
              <a:gd name="textAreaRight" fmla="*/ 2514960 w 2514240"/>
              <a:gd name="textAreaTop" fmla="*/ 0 h 2723760"/>
              <a:gd name="textAreaBottom" fmla="*/ 2724120 h 272376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758880" y="2106720"/>
            <a:ext cx="2266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1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6073920" y="2028960"/>
            <a:ext cx="2266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2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1"/>
          <p:cNvSpPr/>
          <p:nvPr/>
        </p:nvSpPr>
        <p:spPr>
          <a:xfrm>
            <a:off x="3321000" y="2028960"/>
            <a:ext cx="24634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22"/>
          <p:cNvGrpSpPr/>
          <p:nvPr/>
        </p:nvGrpSpPr>
        <p:grpSpPr>
          <a:xfrm>
            <a:off x="2746440" y="4971960"/>
            <a:ext cx="3722400" cy="1207800"/>
            <a:chOff x="2746440" y="4971960"/>
            <a:chExt cx="3722400" cy="1207800"/>
          </a:xfrm>
        </p:grpSpPr>
        <p:sp>
          <p:nvSpPr>
            <p:cNvPr id="859" name="Oval 23"/>
            <p:cNvSpPr/>
            <p:nvPr/>
          </p:nvSpPr>
          <p:spPr>
            <a:xfrm>
              <a:off x="2748240" y="5064120"/>
              <a:ext cx="3720600" cy="111564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c0c0c0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60" name="Oval 24"/>
            <p:cNvSpPr/>
            <p:nvPr/>
          </p:nvSpPr>
          <p:spPr>
            <a:xfrm>
              <a:off x="2746440" y="497196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61" name="Text Box 25"/>
          <p:cNvSpPr/>
          <p:nvPr/>
        </p:nvSpPr>
        <p:spPr>
          <a:xfrm>
            <a:off x="2798640" y="5261040"/>
            <a:ext cx="358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33280" y="0"/>
            <a:ext cx="8686440" cy="10872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dddddd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" strike="noStrike">
                <a:solidFill>
                  <a:srgbClr val="1c1c1c"/>
                </a:solidFill>
                <a:latin typeface="Arial"/>
                <a:ea typeface="宋体"/>
              </a:rPr>
              <a:t>Diagram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h_027_natural">
  <a:themeElements>
    <a:clrScheme name="1_Default Design 1">
      <a:dk1>
        <a:srgbClr val="1c1c1c"/>
      </a:dk1>
      <a:lt1>
        <a:srgbClr val="ffffff"/>
      </a:lt1>
      <a:dk2>
        <a:srgbClr val="080808"/>
      </a:dk2>
      <a:lt2>
        <a:srgbClr val="dddddd"/>
      </a:lt2>
      <a:accent1>
        <a:srgbClr val="ee3516"/>
      </a:accent1>
      <a:accent2>
        <a:srgbClr val="f3bd33"/>
      </a:accent2>
      <a:accent3>
        <a:srgbClr val="ffffff"/>
      </a:accent3>
      <a:accent4>
        <a:srgbClr val="161616"/>
      </a:accent4>
      <a:accent5>
        <a:srgbClr val="f5aeab"/>
      </a:accent5>
      <a:accent6>
        <a:srgbClr val="dcab2d"/>
      </a:accent6>
      <a:hlink>
        <a:srgbClr val="aed925"/>
      </a:hlink>
      <a:folHlink>
        <a:srgbClr val="4e9d4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h_027_natural</Template>
  <TotalTime>8</TotalTime>
  <Application>LibreOffice/7.4.7.2$Linux_X86_64 LibreOffice_project/40$Build-2</Application>
  <AppVersion>15.0000</AppVersion>
  <Words>946</Words>
  <Paragraphs>2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07:57:30Z</dcterms:created>
  <dc:creator>www.pptbz.com</dc:creator>
  <dc:description/>
  <dc:language>en-US</dc:language>
  <cp:lastModifiedBy>a</cp:lastModifiedBy>
  <dcterms:modified xsi:type="dcterms:W3CDTF">2015-07-25T02:30:2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