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_rels/drawing1.xml.rels" ContentType="application/vnd.openxmlformats-package.relationships+xml"/>
  <Override PartName="/ppt/diagrams/_rels/data1.xml.rels" ContentType="application/vnd.openxmlformats-package.relationships+xml"/>
  <Override PartName="/ppt/diagrams/drawing1.xml" ContentType="application/vnd.ms-office.drawingml.diagramDrawing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OOXDiagramDrawingRels1_0.jpg" ContentType="image/jpg"/>
  <Override PartName="/ppt/media/image8.png" ContentType="image/png"/>
  <Override PartName="/ppt/media/OOXDiagramDrawingRels1_2.jpg" ContentType="image/jpg"/>
  <Override PartName="/ppt/media/OOXDiagramDrawingRels1_1.jpg" ContentType="image/jpg"/>
  <Override PartName="/ppt/media/image2.jpeg" ContentType="image/jpeg"/>
  <Override PartName="/ppt/media/OOXDiagramDataRels1_1.jpg" ContentType="image/jpg"/>
  <Override PartName="/ppt/media/image4.png" ContentType="image/png"/>
  <Override PartName="/ppt/media/image3.png" ContentType="image/png"/>
  <Override PartName="/ppt/media/OOXDiagramDataRels1_0.jpg" ContentType="image/jpg"/>
  <Override PartName="/ppt/media/OOXDiagramDrawingRels1_3.jpg" ContentType="image/jpg"/>
  <Override PartName="/ppt/media/image5.png" ContentType="image/png"/>
  <Override PartName="/ppt/media/OOXDiagramDataRels1_2.jpg" ContentType="image/jpg"/>
  <Override PartName="/ppt/media/OOXDiagramDataRels1_3.jpg" ContentType="image/jp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308"/>
      <c:rAngAx val="0"/>
      <c:perspective val="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169808102345416"/>
          <c:y val="0.191847670079418"/>
          <c:w val="0.658678038379531"/>
          <c:h val="0.62108889101521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比例</c:v>
                </c:pt>
              </c:strCache>
            </c:strRef>
          </c:tx>
          <c:spPr>
            <a:solidFill>
              <a:srgbClr val="4f81bd"/>
            </a:solidFill>
            <a:ln w="18000">
              <a:solidFill>
                <a:srgbClr val="d9d9d9"/>
              </a:solidFill>
              <a:round/>
            </a:ln>
          </c:spPr>
          <c:explosion val="0"/>
          <c:dPt>
            <c:idx val="0"/>
            <c:spPr>
              <a:gradFill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n w="18000">
                <a:solidFill>
                  <a:srgbClr val="d9d9d9"/>
                </a:solidFill>
                <a:round/>
              </a:ln>
            </c:spPr>
          </c:dPt>
          <c:dPt>
            <c:idx val="1"/>
            <c:spPr>
              <a:gradFill>
                <a:gsLst>
                  <a:gs pos="0">
                    <a:srgbClr val="3366ff"/>
                  </a:gs>
                  <a:gs pos="100000">
                    <a:srgbClr val="00ccff"/>
                  </a:gs>
                </a:gsLst>
                <a:lin ang="5400000"/>
              </a:gradFill>
              <a:ln w="18000">
                <a:solidFill>
                  <a:srgbClr val="d9d9d9"/>
                </a:solidFill>
                <a:round/>
              </a:ln>
            </c:spPr>
          </c:dPt>
          <c:dPt>
            <c:idx val="2"/>
            <c:spPr>
              <a:gradFill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5400000"/>
              </a:gradFill>
              <a:ln w="18000">
                <a:solidFill>
                  <a:srgbClr val="d9d9d9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276" spc="-1" strike="noStrike">
                      <a:solidFill>
                        <a:srgbClr val="000000"/>
                      </a:solidFill>
                      <a:latin typeface="굴림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1" sz="1276" spc="-1" strike="noStrike">
                      <a:solidFill>
                        <a:srgbClr val="000000"/>
                      </a:solidFill>
                      <a:latin typeface="굴림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1" sz="1276" spc="-1" strike="noStrike">
                      <a:solidFill>
                        <a:srgbClr val="000000"/>
                      </a:solidFill>
                      <a:latin typeface="굴림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276" spc="-1" strike="noStrike">
                    <a:solidFill>
                      <a:srgbClr val="000000"/>
                    </a:solidFill>
                    <a:latin typeface="굴림"/>
                    <a:ea typeface="굴림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二代</c:v>
                </c:pt>
                <c:pt idx="1">
                  <c:v>一二代</c:v>
                </c:pt>
                <c:pt idx="2">
                  <c:v>其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07</c:v>
                </c:pt>
                <c:pt idx="1">
                  <c:v>0.4</c:v>
                </c:pt>
                <c:pt idx="2">
                  <c:v>0.53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jpg"/><Relationship Id="rId2" Type="http://schemas.openxmlformats.org/officeDocument/2006/relationships/image" Target="../media/OOXDiagramDataRels1_1.jpg"/><Relationship Id="rId3" Type="http://schemas.openxmlformats.org/officeDocument/2006/relationships/image" Target="../media/OOXDiagramDataRels1_2.jpg"/><Relationship Id="rId4" Type="http://schemas.openxmlformats.org/officeDocument/2006/relationships/image" Target="../media/OOXDiagramDataRels1_3.jpg"/>
</Relationships>
</file>

<file path=ppt/diagrams/_rels/drawing1.xml.rels><?xml version="1.0" encoding="UTF-8"?>
<Relationships xmlns="http://schemas.openxmlformats.org/package/2006/relationships"><Relationship Id="rId1" Type="http://schemas.openxmlformats.org/officeDocument/2006/relationships/image" Target="../media/OOXDiagramDrawingRels1_0.jpg"/><Relationship Id="rId2" Type="http://schemas.openxmlformats.org/officeDocument/2006/relationships/image" Target="../media/OOXDiagramDrawingRels1_1.jpg"/><Relationship Id="rId3" Type="http://schemas.openxmlformats.org/officeDocument/2006/relationships/image" Target="../media/OOXDiagramDrawingRels1_2.jpg"/><Relationship Id="rId4" Type="http://schemas.openxmlformats.org/officeDocument/2006/relationships/image" Target="../media/OOXDiagramDrawingRels1_3.jp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034B858-D89E-44A5-848C-0E68A7CFAF7F}" type="doc">
      <dgm:prSet loTypeId="urn:microsoft.com/office/officeart/2005/8/layout/vList3" loCatId="list" qsTypeId="urn:microsoft.com/office/officeart/2005/8/quickstyle/simple1" qsCatId="simple" csTypeId="urn:microsoft.com/office/officeart/2005/8/colors/accent1_2" csCatId="accent1" phldr="1"/>
      <dgm:spPr/>
    </dgm:pt>
    <dgm:pt modelId="{030A4005-F737-4F82-8FD6-2594BE55507E}">
      <dgm:prSet phldrT="[文本]" custT="1"/>
      <dgm:spPr>
        <a:solidFill>
          <a:schemeClr val="bg1"/>
        </a:solidFill>
        <a:ln w="12700">
          <a:solidFill>
            <a:srgbClr val="4B4E7A"/>
          </a:solidFill>
        </a:ln>
      </dgm:spPr>
      <dgm:t>
        <a:bodyPr/>
        <a:lstStyle/>
        <a:p>
          <a:pPr algn="l"/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07 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底创办浙商创投，浙商创投所管理的基金已成功投资郑煤机、华策影视、华数传媒、贝因美、宇天科技、侨联风机、普路通、三洲特管等</a:t>
          </a:r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家企业。</a:t>
          </a:r>
          <a:endParaRPr lang="zh-CN" altLang="en-US" sz="16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gm:t>
    </dgm:pt>
    <dgm:pt modelId="{578D3326-63DA-4FCB-BBC7-61F9E0635A0A}" type="parTrans" cxnId="{51C653D7-0C5A-446B-96B0-04373F4BE617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80318409-DECE-4D42-8FD6-BF92B30806F9}" type="sibTrans" cxnId="{51C653D7-0C5A-446B-96B0-04373F4BE617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58755699-998A-462B-B919-F88D971F8879}">
      <dgm:prSet phldrT="[文本]" custT="1"/>
      <dgm:spPr>
        <a:solidFill>
          <a:schemeClr val="bg1"/>
        </a:solidFill>
        <a:ln w="12700">
          <a:solidFill>
            <a:srgbClr val="4B4E7A"/>
          </a:solidFill>
        </a:ln>
      </dgm:spPr>
      <dgm:t>
        <a:bodyPr/>
        <a:lstStyle/>
        <a:p>
          <a:pPr algn="l"/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担任凯石投资副总经理，凯石投资成立于</a:t>
          </a:r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08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，雅戈尔与凯石管理团队持股比例为七三分，为内地注册资本最大的私募公司，旗下管理资产规模一度超过</a:t>
          </a:r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100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亿。</a:t>
          </a:r>
          <a:endParaRPr lang="zh-CN" altLang="en-US" sz="16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gm:t>
    </dgm:pt>
    <dgm:pt modelId="{48EC1918-851F-4E85-81BB-3B4A6533EEFE}" type="parTrans" cxnId="{DA5F8AE1-2A79-4F09-931E-E48FF913D93F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411B0FBF-588F-4DBA-9CC5-2A85CA4D6B86}" type="sibTrans" cxnId="{DA5F8AE1-2A79-4F09-931E-E48FF913D93F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E8563F5D-6E71-4E35-B0F5-89E021473C9B}">
      <dgm:prSet phldrT="[文本]" custT="1"/>
      <dgm:spPr>
        <a:solidFill>
          <a:schemeClr val="bg1"/>
        </a:solidFill>
        <a:ln w="12700">
          <a:solidFill>
            <a:srgbClr val="4B4E7A"/>
          </a:solidFill>
        </a:ln>
      </dgm:spPr>
      <dgm:t>
        <a:bodyPr/>
        <a:lstStyle/>
        <a:p>
          <a:pPr algn="l"/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其对资本运作的热情始终高涨，通过万向财务公司和通联资本两大平台控股民生保险、万向期货、万向租赁，参股浙商银行、浙商基金、浙江工商信托。</a:t>
          </a:r>
          <a:endParaRPr lang="zh-CN" altLang="en-US" sz="16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gm:t>
    </dgm:pt>
    <dgm:pt modelId="{DE8D7C32-3AEF-4E2B-93D5-2409269454C9}" type="parTrans" cxnId="{85F8E4DF-A63D-4432-8560-6CD157677ED3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274A8D20-53EE-477F-B74C-8F398A7D8483}" type="sibTrans" cxnId="{85F8E4DF-A63D-4432-8560-6CD157677ED3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C656DF2E-9200-45A5-9EC6-E10A4CFAB385}">
      <dgm:prSet custT="1"/>
      <dgm:spPr>
        <a:solidFill>
          <a:schemeClr val="bg1"/>
        </a:solidFill>
        <a:ln w="12700">
          <a:solidFill>
            <a:srgbClr val="4B4E7A"/>
          </a:solidFill>
        </a:ln>
      </dgm:spPr>
      <dgm:t>
        <a:bodyPr/>
        <a:lstStyle/>
        <a:p>
          <a:pPr algn="l"/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山西首富李兆会在父亲意外去世，仓促接班后</a:t>
          </a:r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7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时间里，构得包括银华基金、民生人寿、民生银行、山西证券在内的资本版图。</a:t>
          </a:r>
          <a:endParaRPr lang="zh-CN" altLang="en-US" sz="16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gm:t>
    </dgm:pt>
    <dgm:pt modelId="{CB2AED83-49A6-4F0D-9E2E-743E249069E5}" type="parTrans" cxnId="{D40531CD-C758-4AC9-83A8-48281B9A7BE5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99E41E0E-23C7-4F79-BFE3-DF7BC01C4FE9}" type="sibTrans" cxnId="{D40531CD-C758-4AC9-83A8-48281B9A7BE5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8517F07C-17A1-4FD2-A9FB-4073B82CB6EF}" type="pres">
      <dgm:prSet presAssocID="{B034B858-D89E-44A5-848C-0E68A7CFAF7F}" presName="linearFlow" presStyleCnt="0">
        <dgm:presLayoutVars>
          <dgm:dir/>
          <dgm:resizeHandles val="exact"/>
        </dgm:presLayoutVars>
      </dgm:prSet>
      <dgm:spPr/>
    </dgm:pt>
    <dgm:pt modelId="{BDBDFB1E-1FBA-4833-967D-29EE333224B6}" type="pres">
      <dgm:prSet presAssocID="{030A4005-F737-4F82-8FD6-2594BE55507E}" presName="composite" presStyleCnt="0"/>
      <dgm:spPr/>
    </dgm:pt>
    <dgm:pt modelId="{1104D7D4-765A-432D-8FF7-F1D7C5CD499A}" type="pres">
      <dgm:prSet presAssocID="{030A4005-F737-4F82-8FD6-2594BE55507E}" presName="imgShp" presStyleLbl="fgImgPlace1" presStyleIdx="0" presStyleCnt="4"/>
      <dgm:spPr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6000" b="-6000"/>
          </a:stretch>
        </a:blipFill>
        <a:ln>
          <a:solidFill>
            <a:srgbClr val="4B4E7A"/>
          </a:solidFill>
          <a:prstDash val="sysDot"/>
        </a:ln>
      </dgm:spPr>
    </dgm:pt>
    <dgm:pt modelId="{CFAF63E6-93A5-4603-B623-5EA346C68EC2}" type="pres">
      <dgm:prSet presAssocID="{030A4005-F737-4F82-8FD6-2594BE55507E}" presName="txShp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4EA74A4-50BF-4649-AEF7-D653466FCF67}" type="pres">
      <dgm:prSet presAssocID="{80318409-DECE-4D42-8FD6-BF92B30806F9}" presName="spacing" presStyleCnt="0"/>
      <dgm:spPr/>
    </dgm:pt>
    <dgm:pt modelId="{8E3B2A97-C0B8-40D7-827F-ECC6E9CF33B4}" type="pres">
      <dgm:prSet presAssocID="{58755699-998A-462B-B919-F88D971F8879}" presName="composite" presStyleCnt="0"/>
      <dgm:spPr/>
    </dgm:pt>
    <dgm:pt modelId="{BE10FD8D-42E2-44A0-873E-0750D3C01635}" type="pres">
      <dgm:prSet presAssocID="{58755699-998A-462B-B919-F88D971F8879}" presName="imgShp" presStyleLbl="fgImgPlace1" presStyleIdx="1" presStyleCnt="4"/>
      <dgm:spPr>
        <a:blipFill>
          <a:blip xmlns:r="http://schemas.openxmlformats.org/officeDocument/2006/relationships" r:embed="rId2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1000" b="-1000"/>
          </a:stretch>
        </a:blipFill>
        <a:ln>
          <a:solidFill>
            <a:srgbClr val="4B4E7A"/>
          </a:solidFill>
          <a:prstDash val="sysDot"/>
        </a:ln>
      </dgm:spPr>
    </dgm:pt>
    <dgm:pt modelId="{AF56CBE2-A853-4FA0-B880-177DD9517353}" type="pres">
      <dgm:prSet presAssocID="{58755699-998A-462B-B919-F88D971F8879}" presName="txShp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277D0B5-30F1-48AE-824C-FDEE6CAB9193}" type="pres">
      <dgm:prSet presAssocID="{411B0FBF-588F-4DBA-9CC5-2A85CA4D6B86}" presName="spacing" presStyleCnt="0"/>
      <dgm:spPr/>
    </dgm:pt>
    <dgm:pt modelId="{15557CFB-CFB4-4886-A900-6EEBFAE686E3}" type="pres">
      <dgm:prSet presAssocID="{E8563F5D-6E71-4E35-B0F5-89E021473C9B}" presName="composite" presStyleCnt="0"/>
      <dgm:spPr/>
    </dgm:pt>
    <dgm:pt modelId="{156656E6-4C03-4B8A-A199-9389EDEA97A2}" type="pres">
      <dgm:prSet presAssocID="{E8563F5D-6E71-4E35-B0F5-89E021473C9B}" presName="imgShp" presStyleLbl="fgImgPlace1" presStyleIdx="2" presStyleCnt="4"/>
      <dgm:spPr>
        <a:blipFill>
          <a:blip xmlns:r="http://schemas.openxmlformats.org/officeDocument/2006/relationships" r:embed="rId3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3000" b="-3000"/>
          </a:stretch>
        </a:blipFill>
        <a:ln>
          <a:solidFill>
            <a:srgbClr val="4B4E7A"/>
          </a:solidFill>
          <a:prstDash val="sysDot"/>
        </a:ln>
      </dgm:spPr>
    </dgm:pt>
    <dgm:pt modelId="{DE301B06-46AA-4711-B92D-6DB3EED8ACC5}" type="pres">
      <dgm:prSet presAssocID="{E8563F5D-6E71-4E35-B0F5-89E021473C9B}" presName="txShp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8AD194-D82E-4F5C-8208-3B8A95B28202}" type="pres">
      <dgm:prSet presAssocID="{274A8D20-53EE-477F-B74C-8F398A7D8483}" presName="spacing" presStyleCnt="0"/>
      <dgm:spPr/>
    </dgm:pt>
    <dgm:pt modelId="{99927222-2C35-4B00-9681-70E4CEB55EE0}" type="pres">
      <dgm:prSet presAssocID="{C656DF2E-9200-45A5-9EC6-E10A4CFAB385}" presName="composite" presStyleCnt="0"/>
      <dgm:spPr/>
    </dgm:pt>
    <dgm:pt modelId="{B24FFB53-3AD6-4C69-ABB3-D560A26D1E84}" type="pres">
      <dgm:prSet presAssocID="{C656DF2E-9200-45A5-9EC6-E10A4CFAB385}" presName="imgShp" presStyleLbl="fgImgPlace1" presStyleIdx="3" presStyleCnt="4"/>
      <dgm:spPr>
        <a:blipFill>
          <a:blip xmlns:r="http://schemas.openxmlformats.org/officeDocument/2006/relationships" r:embed="rId4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2000" b="-2000"/>
          </a:stretch>
        </a:blipFill>
        <a:ln>
          <a:solidFill>
            <a:srgbClr val="4B4E7A"/>
          </a:solidFill>
          <a:prstDash val="sysDot"/>
        </a:ln>
      </dgm:spPr>
    </dgm:pt>
    <dgm:pt modelId="{B1B1660B-9B34-4593-B1AF-E62839DD6423}" type="pres">
      <dgm:prSet presAssocID="{C656DF2E-9200-45A5-9EC6-E10A4CFAB385}" presName="txShp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85F8E4DF-A63D-4432-8560-6CD157677ED3}" srcId="{B034B858-D89E-44A5-848C-0E68A7CFAF7F}" destId="{E8563F5D-6E71-4E35-B0F5-89E021473C9B}" srcOrd="2" destOrd="0" parTransId="{DE8D7C32-3AEF-4E2B-93D5-2409269454C9}" sibTransId="{274A8D20-53EE-477F-B74C-8F398A7D8483}"/>
    <dgm:cxn modelId="{D40531CD-C758-4AC9-83A8-48281B9A7BE5}" srcId="{B034B858-D89E-44A5-848C-0E68A7CFAF7F}" destId="{C656DF2E-9200-45A5-9EC6-E10A4CFAB385}" srcOrd="3" destOrd="0" parTransId="{CB2AED83-49A6-4F0D-9E2E-743E249069E5}" sibTransId="{99E41E0E-23C7-4F79-BFE3-DF7BC01C4FE9}"/>
    <dgm:cxn modelId="{7D5480CF-4196-4A5B-9A8E-A42208CC0B10}" type="presOf" srcId="{C656DF2E-9200-45A5-9EC6-E10A4CFAB385}" destId="{B1B1660B-9B34-4593-B1AF-E62839DD6423}" srcOrd="0" destOrd="0" presId="urn:microsoft.com/office/officeart/2005/8/layout/vList3"/>
    <dgm:cxn modelId="{A235BA42-FE12-4E45-88C5-CC0D77FE77D3}" type="presOf" srcId="{030A4005-F737-4F82-8FD6-2594BE55507E}" destId="{CFAF63E6-93A5-4603-B623-5EA346C68EC2}" srcOrd="0" destOrd="0" presId="urn:microsoft.com/office/officeart/2005/8/layout/vList3"/>
    <dgm:cxn modelId="{51C653D7-0C5A-446B-96B0-04373F4BE617}" srcId="{B034B858-D89E-44A5-848C-0E68A7CFAF7F}" destId="{030A4005-F737-4F82-8FD6-2594BE55507E}" srcOrd="0" destOrd="0" parTransId="{578D3326-63DA-4FCB-BBC7-61F9E0635A0A}" sibTransId="{80318409-DECE-4D42-8FD6-BF92B30806F9}"/>
    <dgm:cxn modelId="{F1D27E2A-1883-4942-9F09-E6963F6CAB37}" type="presOf" srcId="{58755699-998A-462B-B919-F88D971F8879}" destId="{AF56CBE2-A853-4FA0-B880-177DD9517353}" srcOrd="0" destOrd="0" presId="urn:microsoft.com/office/officeart/2005/8/layout/vList3"/>
    <dgm:cxn modelId="{DA5F8AE1-2A79-4F09-931E-E48FF913D93F}" srcId="{B034B858-D89E-44A5-848C-0E68A7CFAF7F}" destId="{58755699-998A-462B-B919-F88D971F8879}" srcOrd="1" destOrd="0" parTransId="{48EC1918-851F-4E85-81BB-3B4A6533EEFE}" sibTransId="{411B0FBF-588F-4DBA-9CC5-2A85CA4D6B86}"/>
    <dgm:cxn modelId="{2B5A9389-826C-4E2C-A416-80787940ADD3}" type="presOf" srcId="{B034B858-D89E-44A5-848C-0E68A7CFAF7F}" destId="{8517F07C-17A1-4FD2-A9FB-4073B82CB6EF}" srcOrd="0" destOrd="0" presId="urn:microsoft.com/office/officeart/2005/8/layout/vList3"/>
    <dgm:cxn modelId="{9D53DD39-7D8E-4E3A-9F08-189AE6C451AC}" type="presOf" srcId="{E8563F5D-6E71-4E35-B0F5-89E021473C9B}" destId="{DE301B06-46AA-4711-B92D-6DB3EED8ACC5}" srcOrd="0" destOrd="0" presId="urn:microsoft.com/office/officeart/2005/8/layout/vList3"/>
    <dgm:cxn modelId="{30AAF24E-98C9-4E9E-B08F-A2E865993D93}" type="presParOf" srcId="{8517F07C-17A1-4FD2-A9FB-4073B82CB6EF}" destId="{BDBDFB1E-1FBA-4833-967D-29EE333224B6}" srcOrd="0" destOrd="0" presId="urn:microsoft.com/office/officeart/2005/8/layout/vList3"/>
    <dgm:cxn modelId="{D5C60C62-F0D3-400B-A5D0-AD5FAD7F2C4E}" type="presParOf" srcId="{BDBDFB1E-1FBA-4833-967D-29EE333224B6}" destId="{1104D7D4-765A-432D-8FF7-F1D7C5CD499A}" srcOrd="0" destOrd="0" presId="urn:microsoft.com/office/officeart/2005/8/layout/vList3"/>
    <dgm:cxn modelId="{591B90BD-97BC-4038-B0C8-5646E73C9F14}" type="presParOf" srcId="{BDBDFB1E-1FBA-4833-967D-29EE333224B6}" destId="{CFAF63E6-93A5-4603-B623-5EA346C68EC2}" srcOrd="1" destOrd="0" presId="urn:microsoft.com/office/officeart/2005/8/layout/vList3"/>
    <dgm:cxn modelId="{86C787D6-E21F-453E-9EBF-ACBE248CBD80}" type="presParOf" srcId="{8517F07C-17A1-4FD2-A9FB-4073B82CB6EF}" destId="{C4EA74A4-50BF-4649-AEF7-D653466FCF67}" srcOrd="1" destOrd="0" presId="urn:microsoft.com/office/officeart/2005/8/layout/vList3"/>
    <dgm:cxn modelId="{E0262E97-4B59-4316-AF96-9D6E6EB4BE60}" type="presParOf" srcId="{8517F07C-17A1-4FD2-A9FB-4073B82CB6EF}" destId="{8E3B2A97-C0B8-40D7-827F-ECC6E9CF33B4}" srcOrd="2" destOrd="0" presId="urn:microsoft.com/office/officeart/2005/8/layout/vList3"/>
    <dgm:cxn modelId="{D33C391F-C8EA-44A9-934C-D58F3D4EB115}" type="presParOf" srcId="{8E3B2A97-C0B8-40D7-827F-ECC6E9CF33B4}" destId="{BE10FD8D-42E2-44A0-873E-0750D3C01635}" srcOrd="0" destOrd="0" presId="urn:microsoft.com/office/officeart/2005/8/layout/vList3"/>
    <dgm:cxn modelId="{285C0BEA-BDA8-4D9A-BCE5-7537C8155FB3}" type="presParOf" srcId="{8E3B2A97-C0B8-40D7-827F-ECC6E9CF33B4}" destId="{AF56CBE2-A853-4FA0-B880-177DD9517353}" srcOrd="1" destOrd="0" presId="urn:microsoft.com/office/officeart/2005/8/layout/vList3"/>
    <dgm:cxn modelId="{95E47C3E-469B-43BE-9876-DCD7F6EEB0C5}" type="presParOf" srcId="{8517F07C-17A1-4FD2-A9FB-4073B82CB6EF}" destId="{5277D0B5-30F1-48AE-824C-FDEE6CAB9193}" srcOrd="3" destOrd="0" presId="urn:microsoft.com/office/officeart/2005/8/layout/vList3"/>
    <dgm:cxn modelId="{00685C64-4A92-436B-927B-86FFDCB1EC12}" type="presParOf" srcId="{8517F07C-17A1-4FD2-A9FB-4073B82CB6EF}" destId="{15557CFB-CFB4-4886-A900-6EEBFAE686E3}" srcOrd="4" destOrd="0" presId="urn:microsoft.com/office/officeart/2005/8/layout/vList3"/>
    <dgm:cxn modelId="{2CFAF3C8-9411-4D35-BEE3-69AAD2F519C8}" type="presParOf" srcId="{15557CFB-CFB4-4886-A900-6EEBFAE686E3}" destId="{156656E6-4C03-4B8A-A199-9389EDEA97A2}" srcOrd="0" destOrd="0" presId="urn:microsoft.com/office/officeart/2005/8/layout/vList3"/>
    <dgm:cxn modelId="{1B3A86B0-72CC-4A4D-B15C-DA9D3D8CAE82}" type="presParOf" srcId="{15557CFB-CFB4-4886-A900-6EEBFAE686E3}" destId="{DE301B06-46AA-4711-B92D-6DB3EED8ACC5}" srcOrd="1" destOrd="0" presId="urn:microsoft.com/office/officeart/2005/8/layout/vList3"/>
    <dgm:cxn modelId="{D1E142A6-FF76-4819-A1CE-47F36B1E1B4D}" type="presParOf" srcId="{8517F07C-17A1-4FD2-A9FB-4073B82CB6EF}" destId="{098AD194-D82E-4F5C-8208-3B8A95B28202}" srcOrd="5" destOrd="0" presId="urn:microsoft.com/office/officeart/2005/8/layout/vList3"/>
    <dgm:cxn modelId="{BFFEEB47-98BD-43E4-B8D5-4CB7A9C7726A}" type="presParOf" srcId="{8517F07C-17A1-4FD2-A9FB-4073B82CB6EF}" destId="{99927222-2C35-4B00-9681-70E4CEB55EE0}" srcOrd="6" destOrd="0" presId="urn:microsoft.com/office/officeart/2005/8/layout/vList3"/>
    <dgm:cxn modelId="{81A8153B-E9E6-47B0-B43C-A865C1A1D77B}" type="presParOf" srcId="{99927222-2C35-4B00-9681-70E4CEB55EE0}" destId="{B24FFB53-3AD6-4C69-ABB3-D560A26D1E84}" srcOrd="0" destOrd="0" presId="urn:microsoft.com/office/officeart/2005/8/layout/vList3"/>
    <dgm:cxn modelId="{B723670E-F411-429D-BF56-CA8222D4982A}" type="presParOf" srcId="{99927222-2C35-4B00-9681-70E4CEB55EE0}" destId="{B1B1660B-9B34-4593-B1AF-E62839DD6423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FAF63E6-93A5-4603-B623-5EA346C68EC2}">
      <dsp:nvSpPr>
        <dsp:cNvPr id="0" name=""/>
        <dsp:cNvSpPr/>
      </dsp:nvSpPr>
      <dsp:spPr>
        <a:xfrm rot="10800000">
          <a:off x="1791915" y="3621"/>
          <a:ext cx="6225091" cy="895766"/>
        </a:xfrm>
        <a:prstGeom prst="homePlate">
          <a:avLst/>
        </a:prstGeom>
        <a:solidFill>
          <a:schemeClr val="bg1"/>
        </a:solidFill>
        <a:ln w="12700" cap="flat" cmpd="sng" algn="ctr">
          <a:solidFill>
            <a:srgbClr val="4B4E7A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95008" tIns="60960" rIns="113792" bIns="6096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07 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底创办浙商创投，浙商创投所管理的基金已成功投资郑煤机、华策影视、华数传媒、贝因美、宇天科技、侨联风机、普路通、三洲特管等</a:t>
          </a: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家企业。</a:t>
          </a:r>
          <a:endParaRPr lang="zh-CN" altLang="en-US" sz="1600" kern="12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sp:txBody>
      <dsp:txXfrm rot="10800000">
        <a:off x="2015856" y="3621"/>
        <a:ext cx="6001150" cy="895766"/>
      </dsp:txXfrm>
    </dsp:sp>
    <dsp:sp modelId="{1104D7D4-765A-432D-8FF7-F1D7C5CD499A}">
      <dsp:nvSpPr>
        <dsp:cNvPr id="0" name=""/>
        <dsp:cNvSpPr/>
      </dsp:nvSpPr>
      <dsp:spPr>
        <a:xfrm>
          <a:off x="1344032" y="3621"/>
          <a:ext cx="895766" cy="895766"/>
        </a:xfrm>
        <a:prstGeom prst="ellipse">
          <a:avLst/>
        </a:prstGeom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6000" b="-6000"/>
          </a:stretch>
        </a:blipFill>
        <a:ln w="25400" cap="flat" cmpd="sng" algn="ctr">
          <a:solidFill>
            <a:srgbClr val="4B4E7A"/>
          </a:solidFill>
          <a:prstDash val="sysDot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AF56CBE2-A853-4FA0-B880-177DD9517353}">
      <dsp:nvSpPr>
        <dsp:cNvPr id="0" name=""/>
        <dsp:cNvSpPr/>
      </dsp:nvSpPr>
      <dsp:spPr>
        <a:xfrm rot="10800000">
          <a:off x="1791915" y="1166780"/>
          <a:ext cx="6225091" cy="895766"/>
        </a:xfrm>
        <a:prstGeom prst="homePlate">
          <a:avLst/>
        </a:prstGeom>
        <a:solidFill>
          <a:schemeClr val="bg1"/>
        </a:solidFill>
        <a:ln w="12700" cap="flat" cmpd="sng" algn="ctr">
          <a:solidFill>
            <a:srgbClr val="4B4E7A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95008" tIns="60960" rIns="113792" bIns="6096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担任凯石投资副总经理，凯石投资成立于</a:t>
          </a: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08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，雅戈尔与凯石管理团队持股比例为七三分，为内地注册资本最大的私募公司，旗下管理资产规模一度超过</a:t>
          </a: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100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亿。</a:t>
          </a:r>
          <a:endParaRPr lang="zh-CN" altLang="en-US" sz="1600" kern="12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sp:txBody>
      <dsp:txXfrm rot="10800000">
        <a:off x="2015856" y="1166780"/>
        <a:ext cx="6001150" cy="895766"/>
      </dsp:txXfrm>
    </dsp:sp>
    <dsp:sp modelId="{BE10FD8D-42E2-44A0-873E-0750D3C01635}">
      <dsp:nvSpPr>
        <dsp:cNvPr id="0" name=""/>
        <dsp:cNvSpPr/>
      </dsp:nvSpPr>
      <dsp:spPr>
        <a:xfrm>
          <a:off x="1344032" y="1166780"/>
          <a:ext cx="895766" cy="895766"/>
        </a:xfrm>
        <a:prstGeom prst="ellipse">
          <a:avLst/>
        </a:prstGeom>
        <a:blipFill>
          <a:blip xmlns:r="http://schemas.openxmlformats.org/officeDocument/2006/relationships" r:embed="rId2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1000" b="-1000"/>
          </a:stretch>
        </a:blipFill>
        <a:ln w="25400" cap="flat" cmpd="sng" algn="ctr">
          <a:solidFill>
            <a:srgbClr val="4B4E7A"/>
          </a:solidFill>
          <a:prstDash val="sysDot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E301B06-46AA-4711-B92D-6DB3EED8ACC5}">
      <dsp:nvSpPr>
        <dsp:cNvPr id="0" name=""/>
        <dsp:cNvSpPr/>
      </dsp:nvSpPr>
      <dsp:spPr>
        <a:xfrm rot="10800000">
          <a:off x="1791915" y="2329940"/>
          <a:ext cx="6225091" cy="895766"/>
        </a:xfrm>
        <a:prstGeom prst="homePlate">
          <a:avLst/>
        </a:prstGeom>
        <a:solidFill>
          <a:schemeClr val="bg1"/>
        </a:solidFill>
        <a:ln w="12700" cap="flat" cmpd="sng" algn="ctr">
          <a:solidFill>
            <a:srgbClr val="4B4E7A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95008" tIns="60960" rIns="113792" bIns="6096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其对资本运作的热情始终高涨，通过万向财务公司和通联资本两大平台控股民生保险、万向期货、万向租赁，参股浙商银行、浙商基金、浙江工商信托。</a:t>
          </a:r>
          <a:endParaRPr lang="zh-CN" altLang="en-US" sz="1600" kern="12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sp:txBody>
      <dsp:txXfrm rot="10800000">
        <a:off x="2015856" y="2329940"/>
        <a:ext cx="6001150" cy="895766"/>
      </dsp:txXfrm>
    </dsp:sp>
    <dsp:sp modelId="{156656E6-4C03-4B8A-A199-9389EDEA97A2}">
      <dsp:nvSpPr>
        <dsp:cNvPr id="0" name=""/>
        <dsp:cNvSpPr/>
      </dsp:nvSpPr>
      <dsp:spPr>
        <a:xfrm>
          <a:off x="1344032" y="2329940"/>
          <a:ext cx="895766" cy="895766"/>
        </a:xfrm>
        <a:prstGeom prst="ellipse">
          <a:avLst/>
        </a:prstGeom>
        <a:blipFill>
          <a:blip xmlns:r="http://schemas.openxmlformats.org/officeDocument/2006/relationships" r:embed="rId3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3000" b="-3000"/>
          </a:stretch>
        </a:blipFill>
        <a:ln w="25400" cap="flat" cmpd="sng" algn="ctr">
          <a:solidFill>
            <a:srgbClr val="4B4E7A"/>
          </a:solidFill>
          <a:prstDash val="sysDot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1B1660B-9B34-4593-B1AF-E62839DD6423}">
      <dsp:nvSpPr>
        <dsp:cNvPr id="0" name=""/>
        <dsp:cNvSpPr/>
      </dsp:nvSpPr>
      <dsp:spPr>
        <a:xfrm rot="10800000">
          <a:off x="1791915" y="3493099"/>
          <a:ext cx="6225091" cy="895766"/>
        </a:xfrm>
        <a:prstGeom prst="homePlate">
          <a:avLst/>
        </a:prstGeom>
        <a:solidFill>
          <a:schemeClr val="bg1"/>
        </a:solidFill>
        <a:ln w="12700" cap="flat" cmpd="sng" algn="ctr">
          <a:solidFill>
            <a:srgbClr val="4B4E7A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95008" tIns="60960" rIns="113792" bIns="6096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山西首富李兆会在父亲意外去世，仓促接班后</a:t>
          </a: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7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时间里，构得包括银华基金、民生人寿、民生银行、山西证券在内的资本版图。</a:t>
          </a:r>
          <a:endParaRPr lang="zh-CN" altLang="en-US" sz="1600" kern="12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sp:txBody>
      <dsp:txXfrm rot="10800000">
        <a:off x="2015856" y="3493099"/>
        <a:ext cx="6001150" cy="895766"/>
      </dsp:txXfrm>
    </dsp:sp>
    <dsp:sp modelId="{B24FFB53-3AD6-4C69-ABB3-D560A26D1E84}">
      <dsp:nvSpPr>
        <dsp:cNvPr id="0" name=""/>
        <dsp:cNvSpPr/>
      </dsp:nvSpPr>
      <dsp:spPr>
        <a:xfrm>
          <a:off x="1344032" y="3493099"/>
          <a:ext cx="895766" cy="895766"/>
        </a:xfrm>
        <a:prstGeom prst="ellipse">
          <a:avLst/>
        </a:prstGeom>
        <a:blipFill>
          <a:blip xmlns:r="http://schemas.openxmlformats.org/officeDocument/2006/relationships" r:embed="rId4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2000" b="-2000"/>
          </a:stretch>
        </a:blipFill>
        <a:ln w="25400" cap="flat" cmpd="sng" algn="ctr">
          <a:solidFill>
            <a:srgbClr val="4B4E7A"/>
          </a:solidFill>
          <a:prstDash val="sysDot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E77958-7AFF-4EB7-86F7-913E9E4F0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03F54E-E017-406C-A9E7-B6434C4B3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9543A4-9F6A-472E-B57A-47FEE1248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917E52-D2A8-4E94-AFB2-913D89673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73338F-0A30-47B8-9588-F643D8D45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F3E21A-6FB5-42C6-BA49-06C8D9034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20A4EC-44D5-4920-9E27-9E0EDF73E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498FCC-407D-4985-ABA3-B0308F45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直接连接符 3"/>
          <p:cNvCxnSpPr/>
          <p:nvPr/>
        </p:nvCxnSpPr>
        <p:spPr>
          <a:xfrm>
            <a:off x="287280" y="6561000"/>
            <a:ext cx="8584200" cy="36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  <a:prstDash val="sysDot"/>
            <a:round/>
          </a:ln>
        </p:spPr>
      </p:cxn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4"/>
          <p:cNvSpPr/>
          <p:nvPr/>
        </p:nvSpPr>
        <p:spPr>
          <a:xfrm flipH="1" rot="16200000">
            <a:off x="2226960" y="-2227320"/>
            <a:ext cx="4688640" cy="9143640"/>
          </a:xfrm>
          <a:prstGeom prst="rect">
            <a:avLst/>
          </a:prstGeom>
          <a:gradFill rotWithShape="0">
            <a:gsLst>
              <a:gs pos="56000">
                <a:srgbClr val="ffffff"/>
              </a:gs>
              <a:gs pos="100000">
                <a:srgbClr val="edfad2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Picture 2" descr="D:\锐 改\01  自学教程\10 天天向上\richer.jpg"/>
          <p:cNvPicPr/>
          <p:nvPr/>
        </p:nvPicPr>
        <p:blipFill>
          <a:blip r:embed="rId2"/>
          <a:srcRect l="0" t="0" r="60572" b="90786"/>
          <a:stretch/>
        </p:blipFill>
        <p:spPr>
          <a:xfrm>
            <a:off x="7560" y="0"/>
            <a:ext cx="3605040" cy="397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1279440" y="1369080"/>
            <a:ext cx="78483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65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热衷投资金融</a:t>
            </a: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连接符 20"/>
          <p:cNvCxnSpPr/>
          <p:nvPr/>
        </p:nvCxnSpPr>
        <p:spPr>
          <a:xfrm>
            <a:off x="3722760" y="2816640"/>
            <a:ext cx="5148720" cy="360"/>
          </a:xfrm>
          <a:prstGeom prst="straightConnector1">
            <a:avLst/>
          </a:prstGeom>
          <a:ln w="28575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49" name="TextBox 21"/>
          <p:cNvSpPr/>
          <p:nvPr/>
        </p:nvSpPr>
        <p:spPr>
          <a:xfrm>
            <a:off x="3612600" y="2889000"/>
            <a:ext cx="538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营企业逐渐进入交班高峰期，令大多数第一代企业家尴尬的是，自己的子女似乎对自己的这份实业并不感兴趣，他们更钟情于“虚拟经济”，热衷与投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arallelogram 10"/>
          <p:cNvSpPr/>
          <p:nvPr/>
        </p:nvSpPr>
        <p:spPr>
          <a:xfrm>
            <a:off x="287640" y="573336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1" name="Parallelogram 10"/>
          <p:cNvSpPr/>
          <p:nvPr/>
        </p:nvSpPr>
        <p:spPr>
          <a:xfrm>
            <a:off x="532800" y="573336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7848720" y="-65880"/>
            <a:ext cx="1361520" cy="1359000"/>
            <a:chOff x="7848720" y="-65880"/>
            <a:chExt cx="1361520" cy="1359000"/>
          </a:xfrm>
        </p:grpSpPr>
        <p:sp>
          <p:nvSpPr>
            <p:cNvPr id="53" name="斜纹 22"/>
            <p:cNvSpPr/>
            <p:nvPr/>
          </p:nvSpPr>
          <p:spPr>
            <a:xfrm rot="5400000">
              <a:off x="7848720" y="-2520"/>
              <a:ext cx="1295640" cy="1295640"/>
            </a:xfrm>
            <a:prstGeom prst="diagStripe">
              <a:avLst>
                <a:gd name="adj" fmla="val 50000"/>
              </a:avLst>
            </a:prstGeom>
            <a:solidFill>
              <a:srgbClr val="3fa9f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" name="TextBox 27"/>
            <p:cNvSpPr/>
            <p:nvPr/>
          </p:nvSpPr>
          <p:spPr>
            <a:xfrm rot="2620200">
              <a:off x="8154000" y="362160"/>
              <a:ext cx="1066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49" strike="noStrike">
                  <a:solidFill>
                    <a:srgbClr val="fbfcfd">
                      <a:alpha val="95000"/>
                    </a:srgbClr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1800" spc="49" strike="noStrike">
                  <a:solidFill>
                    <a:srgbClr val="fbfcfd">
                      <a:alpha val="95000"/>
                    </a:srgbClr>
                  </a:solidFill>
                  <a:latin typeface="Arial Black"/>
                  <a:ea typeface="微软雅黑"/>
                </a:rPr>
                <a:t>4</a:t>
              </a:r>
              <a:r>
                <a:rPr b="1" lang="zh-CN" sz="1800" spc="49" strike="noStrike">
                  <a:solidFill>
                    <a:srgbClr val="fbfcfd">
                      <a:alpha val="95000"/>
                    </a:srgbClr>
                  </a:solidFill>
                  <a:latin typeface="微软雅黑"/>
                  <a:ea typeface="微软雅黑"/>
                </a:rPr>
                <a:t>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3" descr=""/>
            <p:cNvPicPr/>
            <p:nvPr/>
          </p:nvPicPr>
          <p:blipFill>
            <a:blip r:embed="rId3"/>
            <a:srcRect l="0" t="24037" r="0" b="0"/>
            <a:stretch/>
          </p:blipFill>
          <p:spPr>
            <a:xfrm rot="2404200">
              <a:off x="8714520" y="7920"/>
              <a:ext cx="395640" cy="45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8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仅</a:t>
            </a:r>
            <a:r>
              <a:rPr b="1" lang="en-US" sz="2400" spc="-1" strike="noStrike">
                <a:solidFill>
                  <a:srgbClr val="4b4e7b"/>
                </a:solidFill>
                <a:latin typeface="Arial"/>
                <a:ea typeface="微软雅黑"/>
              </a:rPr>
              <a:t>7%</a:t>
            </a: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的家族企业已实现二代接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87640" y="1079280"/>
            <a:ext cx="858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调查显示，越来越多的富二代不愿接替父辈们辛苦的实体产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700360" y="2079720"/>
            <a:ext cx="3707640" cy="484920"/>
          </a:xfrm>
          <a:prstGeom prst="roundRect">
            <a:avLst>
              <a:gd name="adj" fmla="val 50000"/>
            </a:avLst>
          </a:prstGeom>
          <a:solidFill>
            <a:srgbClr val="4b4e7b"/>
          </a:solidFill>
          <a:ln w="2540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上市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8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家族企业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523"/>
          <p:cNvGraphicFramePr/>
          <p:nvPr/>
        </p:nvGraphicFramePr>
        <p:xfrm>
          <a:off x="2339640" y="2961000"/>
          <a:ext cx="4220640" cy="376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pSp>
        <p:nvGrpSpPr>
          <p:cNvPr id="63" name="组合 34"/>
          <p:cNvGrpSpPr/>
          <p:nvPr/>
        </p:nvGrpSpPr>
        <p:grpSpPr>
          <a:xfrm>
            <a:off x="5486760" y="4057920"/>
            <a:ext cx="3549240" cy="1265040"/>
            <a:chOff x="5486760" y="4057920"/>
            <a:chExt cx="3549240" cy="1265040"/>
          </a:xfrm>
        </p:grpSpPr>
        <p:grpSp>
          <p:nvGrpSpPr>
            <p:cNvPr id="64" name="组合 26"/>
            <p:cNvGrpSpPr/>
            <p:nvPr/>
          </p:nvGrpSpPr>
          <p:grpSpPr>
            <a:xfrm>
              <a:off x="5486760" y="4057920"/>
              <a:ext cx="3384360" cy="199080"/>
              <a:chOff x="5486760" y="4057920"/>
              <a:chExt cx="3384360" cy="199080"/>
            </a:xfrm>
          </p:grpSpPr>
          <p:cxnSp>
            <p:nvCxnSpPr>
              <p:cNvPr id="65" name="直接连接符 23"/>
              <p:cNvCxnSpPr/>
              <p:nvPr/>
            </p:nvCxnSpPr>
            <p:spPr>
              <a:xfrm flipV="1">
                <a:off x="5486760" y="4057920"/>
                <a:ext cx="203760" cy="199440"/>
              </a:xfrm>
              <a:prstGeom prst="straightConnector1">
                <a:avLst/>
              </a:prstGeom>
              <a:ln w="19050">
                <a:solidFill>
                  <a:srgbClr val="4b4e7b"/>
                </a:solidFill>
                <a:round/>
              </a:ln>
            </p:spPr>
          </p:cxnSp>
          <p:cxnSp>
            <p:nvCxnSpPr>
              <p:cNvPr id="66" name="直接连接符 25"/>
              <p:cNvCxnSpPr/>
              <p:nvPr/>
            </p:nvCxnSpPr>
            <p:spPr>
              <a:xfrm>
                <a:off x="5675040" y="4057920"/>
                <a:ext cx="3196440" cy="360"/>
              </a:xfrm>
              <a:prstGeom prst="straightConnector1">
                <a:avLst/>
              </a:prstGeom>
              <a:ln w="19050">
                <a:solidFill>
                  <a:srgbClr val="4b4e7b"/>
                </a:solidFill>
                <a:round/>
              </a:ln>
            </p:spPr>
          </p:cxnSp>
        </p:grpSp>
        <p:sp>
          <p:nvSpPr>
            <p:cNvPr id="67" name="TextBox 27"/>
            <p:cNvSpPr/>
            <p:nvPr/>
          </p:nvSpPr>
          <p:spPr>
            <a:xfrm>
              <a:off x="5868000" y="4090680"/>
              <a:ext cx="31680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一二代同时任职的只有</a:t>
              </a:r>
              <a:r>
                <a:rPr b="0" lang="en-US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276</a:t>
              </a:r>
              <a:r>
                <a:rPr b="0" lang="zh-CN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约占</a:t>
              </a:r>
              <a:r>
                <a:rPr b="0" lang="en-US" sz="32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4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35"/>
          <p:cNvGrpSpPr/>
          <p:nvPr/>
        </p:nvGrpSpPr>
        <p:grpSpPr>
          <a:xfrm>
            <a:off x="287280" y="3753000"/>
            <a:ext cx="3465000" cy="1232280"/>
            <a:chOff x="287280" y="3753000"/>
            <a:chExt cx="3465000" cy="1232280"/>
          </a:xfrm>
        </p:grpSpPr>
        <p:grpSp>
          <p:nvGrpSpPr>
            <p:cNvPr id="69" name="组合 29"/>
            <p:cNvGrpSpPr/>
            <p:nvPr/>
          </p:nvGrpSpPr>
          <p:grpSpPr>
            <a:xfrm>
              <a:off x="287280" y="3753000"/>
              <a:ext cx="3465000" cy="398160"/>
              <a:chOff x="287280" y="3753000"/>
              <a:chExt cx="3465000" cy="398160"/>
            </a:xfrm>
          </p:grpSpPr>
          <p:cxnSp>
            <p:nvCxnSpPr>
              <p:cNvPr id="70" name="直接连接符 30"/>
              <p:cNvCxnSpPr/>
              <p:nvPr/>
            </p:nvCxnSpPr>
            <p:spPr>
              <a:xfrm flipH="1" flipV="1">
                <a:off x="3544920" y="3753000"/>
                <a:ext cx="207720" cy="398520"/>
              </a:xfrm>
              <a:prstGeom prst="straightConnector1">
                <a:avLst/>
              </a:prstGeom>
              <a:ln w="19050">
                <a:solidFill>
                  <a:srgbClr val="ff931d"/>
                </a:solidFill>
                <a:round/>
              </a:ln>
            </p:spPr>
          </p:cxnSp>
          <p:cxnSp>
            <p:nvCxnSpPr>
              <p:cNvPr id="71" name="直接连接符 31"/>
              <p:cNvCxnSpPr/>
              <p:nvPr/>
            </p:nvCxnSpPr>
            <p:spPr>
              <a:xfrm flipH="1">
                <a:off x="287280" y="3753000"/>
                <a:ext cx="3258000" cy="360"/>
              </a:xfrm>
              <a:prstGeom prst="straightConnector1">
                <a:avLst/>
              </a:prstGeom>
              <a:ln w="19050">
                <a:solidFill>
                  <a:srgbClr val="ff931d"/>
                </a:solidFill>
                <a:round/>
              </a:ln>
            </p:spPr>
          </p:cxnSp>
        </p:grpSp>
        <p:sp>
          <p:nvSpPr>
            <p:cNvPr id="72" name="TextBox 32"/>
            <p:cNvSpPr/>
            <p:nvPr/>
          </p:nvSpPr>
          <p:spPr>
            <a:xfrm>
              <a:off x="287640" y="3753000"/>
              <a:ext cx="31680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二代已正式接班的有</a:t>
              </a:r>
              <a:r>
                <a:rPr b="0" lang="en-US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45</a:t>
              </a:r>
              <a:r>
                <a:rPr b="0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仅占</a:t>
              </a:r>
              <a:r>
                <a:rPr b="0" lang="en-US" sz="32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7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4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4b4e7b"/>
                </a:solidFill>
                <a:latin typeface="Arial"/>
                <a:ea typeface="微软雅黑"/>
              </a:rPr>
              <a:t>82%</a:t>
            </a: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的第二代企业家并非主动接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87640" y="1079280"/>
            <a:ext cx="85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上海交通大学管理学院教授余明阳团队对最具代表性的</a:t>
            </a:r>
            <a:r>
              <a:rPr b="0" lang="en-US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54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个中国家族企业接班人状态加以剖析。结果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57"/>
          <p:cNvGrpSpPr/>
          <p:nvPr/>
        </p:nvGrpSpPr>
        <p:grpSpPr>
          <a:xfrm>
            <a:off x="5472000" y="3213000"/>
            <a:ext cx="3399480" cy="878400"/>
            <a:chOff x="5472000" y="3213000"/>
            <a:chExt cx="3399480" cy="878400"/>
          </a:xfrm>
        </p:grpSpPr>
        <p:sp>
          <p:nvSpPr>
            <p:cNvPr id="78" name="圆角矩形标注 28"/>
            <p:cNvSpPr/>
            <p:nvPr/>
          </p:nvSpPr>
          <p:spPr>
            <a:xfrm rot="5400000">
              <a:off x="6739920" y="1945080"/>
              <a:ext cx="863640" cy="3399120"/>
            </a:xfrm>
            <a:prstGeom prst="wedgeRoundRectCallout">
              <a:avLst>
                <a:gd name="adj1" fmla="val 12320"/>
                <a:gd name="adj2" fmla="val 73164"/>
                <a:gd name="adj3" fmla="val 16667"/>
              </a:avLst>
            </a:prstGeom>
            <a:solidFill>
              <a:schemeClr val="bg1"/>
            </a:solidFill>
            <a:ln>
              <a:solidFill>
                <a:srgbClr val="4b4e7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9" name="TextBox 29"/>
            <p:cNvSpPr/>
            <p:nvPr/>
          </p:nvSpPr>
          <p:spPr>
            <a:xfrm>
              <a:off x="5472000" y="3240000"/>
              <a:ext cx="339912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2800" spc="-1" strike="noStrike">
                  <a:solidFill>
                    <a:srgbClr val="4b4e7b"/>
                  </a:solidFill>
                  <a:latin typeface="Arial Black"/>
                  <a:ea typeface="微软雅黑"/>
                </a:rPr>
                <a:t>1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</a:pPr>
              <a:r>
                <a:rPr b="0" lang="en-US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第二代企业家”</a:t>
              </a:r>
              <a:r>
                <a:rPr b="0" lang="zh-CN" sz="16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愿意并主动接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56"/>
          <p:cNvGrpSpPr/>
          <p:nvPr/>
        </p:nvGrpSpPr>
        <p:grpSpPr>
          <a:xfrm>
            <a:off x="4052880" y="3441960"/>
            <a:ext cx="1007640" cy="2903040"/>
            <a:chOff x="4052880" y="3441960"/>
            <a:chExt cx="1007640" cy="2903040"/>
          </a:xfrm>
        </p:grpSpPr>
        <p:pic>
          <p:nvPicPr>
            <p:cNvPr id="81" name="Picture 13" descr=""/>
            <p:cNvPicPr/>
            <p:nvPr/>
          </p:nvPicPr>
          <p:blipFill>
            <a:blip r:embed="rId2"/>
            <a:stretch/>
          </p:blipFill>
          <p:spPr>
            <a:xfrm>
              <a:off x="4052880" y="3441960"/>
              <a:ext cx="1007640" cy="29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7" descr=""/>
            <p:cNvPicPr/>
            <p:nvPr/>
          </p:nvPicPr>
          <p:blipFill>
            <a:blip r:embed="rId3"/>
            <a:srcRect l="0" t="23104" r="0" b="0"/>
            <a:stretch/>
          </p:blipFill>
          <p:spPr>
            <a:xfrm>
              <a:off x="4053600" y="4077000"/>
              <a:ext cx="1006200" cy="79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组合 44"/>
          <p:cNvGrpSpPr/>
          <p:nvPr/>
        </p:nvGrpSpPr>
        <p:grpSpPr>
          <a:xfrm>
            <a:off x="287640" y="3848760"/>
            <a:ext cx="3492000" cy="851400"/>
            <a:chOff x="287640" y="3848760"/>
            <a:chExt cx="3492000" cy="851400"/>
          </a:xfrm>
        </p:grpSpPr>
        <p:sp>
          <p:nvSpPr>
            <p:cNvPr id="84" name="圆角矩形标注 30"/>
            <p:cNvSpPr/>
            <p:nvPr/>
          </p:nvSpPr>
          <p:spPr>
            <a:xfrm rot="16200000">
              <a:off x="1631520" y="2504880"/>
              <a:ext cx="804240" cy="3492000"/>
            </a:xfrm>
            <a:prstGeom prst="wedgeRoundRectCallout">
              <a:avLst>
                <a:gd name="adj1" fmla="val -7790"/>
                <a:gd name="adj2" fmla="val 67900"/>
                <a:gd name="adj3" fmla="val 16667"/>
              </a:avLst>
            </a:prstGeom>
            <a:solidFill>
              <a:schemeClr val="bg1"/>
            </a:solidFill>
            <a:ln>
              <a:solidFill>
                <a:srgbClr val="f88e07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5" name="TextBox 32"/>
            <p:cNvSpPr/>
            <p:nvPr/>
          </p:nvSpPr>
          <p:spPr>
            <a:xfrm>
              <a:off x="329400" y="3848760"/>
              <a:ext cx="339912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2800" spc="-1" strike="noStrike">
                  <a:solidFill>
                    <a:srgbClr val="4b4e7b"/>
                  </a:solidFill>
                  <a:latin typeface="Arial Black"/>
                  <a:ea typeface="微软雅黑"/>
                </a:rPr>
                <a:t>8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</a:pPr>
              <a:r>
                <a:rPr b="0" lang="en-US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接班人”</a:t>
              </a:r>
              <a:r>
                <a:rPr b="0" lang="zh-CN" sz="16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不愿意、非主动接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7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许多二代已经不认同父辈成功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7640" y="1079280"/>
            <a:ext cx="85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一份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《民企二代生存现状调研报告》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锐 改\01  自学教程\10 天天向上\richer.jpg"/>
          <p:cNvPicPr/>
          <p:nvPr/>
        </p:nvPicPr>
        <p:blipFill>
          <a:blip r:embed="rId2"/>
          <a:srcRect l="26523" t="37455" r="30566" b="56644"/>
          <a:stretch/>
        </p:blipFill>
        <p:spPr>
          <a:xfrm>
            <a:off x="2814120" y="4133520"/>
            <a:ext cx="3239640" cy="210348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7"/>
          <p:cNvGrpSpPr/>
          <p:nvPr/>
        </p:nvGrpSpPr>
        <p:grpSpPr>
          <a:xfrm>
            <a:off x="611640" y="2205000"/>
            <a:ext cx="1230480" cy="935640"/>
            <a:chOff x="611640" y="2205000"/>
            <a:chExt cx="1230480" cy="935640"/>
          </a:xfrm>
        </p:grpSpPr>
        <p:sp>
          <p:nvSpPr>
            <p:cNvPr id="92" name="流程图: 联系 1"/>
            <p:cNvSpPr/>
            <p:nvPr/>
          </p:nvSpPr>
          <p:spPr>
            <a:xfrm>
              <a:off x="734400" y="2205000"/>
              <a:ext cx="971640" cy="935640"/>
            </a:xfrm>
            <a:prstGeom prst="flowChartConnector">
              <a:avLst/>
            </a:prstGeom>
            <a:solidFill>
              <a:srgbClr val="f88e07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Black"/>
                <a:ea typeface="宋体"/>
              </a:endParaRPr>
            </a:p>
          </p:txBody>
        </p:sp>
        <p:sp>
          <p:nvSpPr>
            <p:cNvPr id="93" name="TextBox 6"/>
            <p:cNvSpPr/>
            <p:nvPr/>
          </p:nvSpPr>
          <p:spPr>
            <a:xfrm>
              <a:off x="611640" y="2411280"/>
              <a:ext cx="12304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7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9"/>
          <p:cNvGrpSpPr/>
          <p:nvPr/>
        </p:nvGrpSpPr>
        <p:grpSpPr>
          <a:xfrm>
            <a:off x="5321520" y="2205000"/>
            <a:ext cx="1230480" cy="935640"/>
            <a:chOff x="5321520" y="2205000"/>
            <a:chExt cx="1230480" cy="935640"/>
          </a:xfrm>
        </p:grpSpPr>
        <p:sp>
          <p:nvSpPr>
            <p:cNvPr id="95" name="流程图: 联系 20"/>
            <p:cNvSpPr/>
            <p:nvPr/>
          </p:nvSpPr>
          <p:spPr>
            <a:xfrm>
              <a:off x="5444640" y="2205000"/>
              <a:ext cx="971640" cy="935640"/>
            </a:xfrm>
            <a:prstGeom prst="flowChartConnector">
              <a:avLst/>
            </a:prstGeom>
            <a:solidFill>
              <a:srgbClr val="f88e07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Black"/>
                <a:ea typeface="宋体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5321520" y="2411280"/>
              <a:ext cx="12304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49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22"/>
          <p:cNvSpPr/>
          <p:nvPr/>
        </p:nvSpPr>
        <p:spPr>
          <a:xfrm>
            <a:off x="1732320" y="2255760"/>
            <a:ext cx="2983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的“富二代”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现在和父辈时代的成功模式有很大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6461280" y="2265120"/>
            <a:ext cx="2610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的“富二代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不赞同父辈的经营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5811120" y="4509000"/>
            <a:ext cx="327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富二代教育也倾向于海外教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有</a:t>
            </a:r>
            <a:r>
              <a:rPr b="0" lang="en-US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43.5%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的富二代有海外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287640" y="4257000"/>
            <a:ext cx="2849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富二代学历普遍偏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大学本科以上学历高达</a:t>
            </a:r>
            <a:r>
              <a:rPr b="0" lang="en-US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8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2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更多的二代接班人热衷于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87640" y="1079280"/>
            <a:ext cx="85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余明阳的研究显示，更多的二代接班人钟情于“虚拟经济”，热衷于投资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D:\锐 改\01  自学教程\10 天天向上\richer.jpg"/>
          <p:cNvPicPr/>
          <p:nvPr/>
        </p:nvPicPr>
        <p:blipFill>
          <a:blip r:embed="rId2"/>
          <a:srcRect l="20254" t="47015" r="19756" b="41538"/>
          <a:stretch/>
        </p:blipFill>
        <p:spPr>
          <a:xfrm>
            <a:off x="2226240" y="2055960"/>
            <a:ext cx="4679640" cy="4217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75640" y="224100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673920" y="322884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电子商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89680" y="429300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盈利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1043640" y="518904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创业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500000" y="5657040"/>
            <a:ext cx="1882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私募股权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6516360" y="2673000"/>
            <a:ext cx="133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创办实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894000" y="371700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成本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6624360" y="472500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精细化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5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其中已经涌现出了不少典型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87640" y="1079280"/>
            <a:ext cx="85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很多二代粉丝借助父辈们积攒下来的第一桶金，在资本市场上展开腾挪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6003114"/>
              </p:ext>
            </p:extLst>
          </p:nvPr>
        </p:nvGraphicFramePr>
        <p:xfrm>
          <a:off x="827640" y="1917000"/>
          <a:ext cx="9360720" cy="4392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grpSp>
        <p:nvGrpSpPr>
          <p:cNvPr id="118" name="组合 18"/>
          <p:cNvGrpSpPr/>
          <p:nvPr/>
        </p:nvGrpSpPr>
        <p:grpSpPr>
          <a:xfrm>
            <a:off x="287640" y="1922760"/>
            <a:ext cx="1836000" cy="853920"/>
            <a:chOff x="287640" y="1922760"/>
            <a:chExt cx="1836000" cy="853920"/>
          </a:xfrm>
        </p:grpSpPr>
        <p:sp>
          <p:nvSpPr>
            <p:cNvPr id="119" name="圆角矩形标注 6"/>
            <p:cNvSpPr/>
            <p:nvPr/>
          </p:nvSpPr>
          <p:spPr>
            <a:xfrm>
              <a:off x="287640" y="1922760"/>
              <a:ext cx="1836000" cy="395640"/>
            </a:xfrm>
            <a:prstGeom prst="wedgeRoundRectCallout">
              <a:avLst>
                <a:gd name="adj1" fmla="val 64985"/>
                <a:gd name="adj2" fmla="val -5629"/>
                <a:gd name="adj3" fmla="val 16667"/>
              </a:avLst>
            </a:prstGeom>
            <a:solidFill>
              <a:srgbClr val="ff931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浙江惠康集团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接班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25"/>
            <p:cNvSpPr/>
            <p:nvPr/>
          </p:nvSpPr>
          <p:spPr>
            <a:xfrm>
              <a:off x="287640" y="2322000"/>
              <a:ext cx="136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陈越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9"/>
          <p:cNvGrpSpPr/>
          <p:nvPr/>
        </p:nvGrpSpPr>
        <p:grpSpPr>
          <a:xfrm>
            <a:off x="302400" y="3090240"/>
            <a:ext cx="1836000" cy="874440"/>
            <a:chOff x="302400" y="3090240"/>
            <a:chExt cx="1836000" cy="874440"/>
          </a:xfrm>
        </p:grpSpPr>
        <p:sp>
          <p:nvSpPr>
            <p:cNvPr id="122" name="圆角矩形标注 26"/>
            <p:cNvSpPr/>
            <p:nvPr/>
          </p:nvSpPr>
          <p:spPr>
            <a:xfrm>
              <a:off x="302400" y="3090240"/>
              <a:ext cx="1836000" cy="395640"/>
            </a:xfrm>
            <a:prstGeom prst="wedgeRoundRectCallout">
              <a:avLst>
                <a:gd name="adj1" fmla="val 64985"/>
                <a:gd name="adj2" fmla="val -5629"/>
                <a:gd name="adj3" fmla="val 16667"/>
              </a:avLst>
            </a:prstGeom>
            <a:solidFill>
              <a:srgbClr val="ff931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雅戈尔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董事长李如成独生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7"/>
            <p:cNvSpPr/>
            <p:nvPr/>
          </p:nvSpPr>
          <p:spPr>
            <a:xfrm>
              <a:off x="302400" y="3510000"/>
              <a:ext cx="136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李寒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22"/>
          <p:cNvGrpSpPr/>
          <p:nvPr/>
        </p:nvGrpSpPr>
        <p:grpSpPr>
          <a:xfrm>
            <a:off x="293400" y="4246920"/>
            <a:ext cx="1836000" cy="874800"/>
            <a:chOff x="293400" y="4246920"/>
            <a:chExt cx="1836000" cy="874800"/>
          </a:xfrm>
        </p:grpSpPr>
        <p:sp>
          <p:nvSpPr>
            <p:cNvPr id="125" name="圆角矩形标注 28"/>
            <p:cNvSpPr/>
            <p:nvPr/>
          </p:nvSpPr>
          <p:spPr>
            <a:xfrm>
              <a:off x="293400" y="4246920"/>
              <a:ext cx="1836000" cy="395640"/>
            </a:xfrm>
            <a:prstGeom prst="wedgeRoundRectCallout">
              <a:avLst>
                <a:gd name="adj1" fmla="val 64985"/>
                <a:gd name="adj2" fmla="val -5629"/>
                <a:gd name="adj3" fmla="val 16667"/>
              </a:avLst>
            </a:prstGeom>
            <a:solidFill>
              <a:srgbClr val="ff931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向集团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董事长鲁冠球儿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9"/>
            <p:cNvSpPr/>
            <p:nvPr/>
          </p:nvSpPr>
          <p:spPr>
            <a:xfrm>
              <a:off x="293400" y="4667040"/>
              <a:ext cx="136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鲁伟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3"/>
          <p:cNvGrpSpPr/>
          <p:nvPr/>
        </p:nvGrpSpPr>
        <p:grpSpPr>
          <a:xfrm>
            <a:off x="293400" y="5399280"/>
            <a:ext cx="1836000" cy="874440"/>
            <a:chOff x="293400" y="5399280"/>
            <a:chExt cx="1836000" cy="874440"/>
          </a:xfrm>
        </p:grpSpPr>
        <p:sp>
          <p:nvSpPr>
            <p:cNvPr id="128" name="圆角矩形标注 30"/>
            <p:cNvSpPr/>
            <p:nvPr/>
          </p:nvSpPr>
          <p:spPr>
            <a:xfrm>
              <a:off x="293400" y="5399280"/>
              <a:ext cx="1836000" cy="395640"/>
            </a:xfrm>
            <a:prstGeom prst="wedgeRoundRectCallout">
              <a:avLst>
                <a:gd name="adj1" fmla="val 64985"/>
                <a:gd name="adj2" fmla="val -5629"/>
                <a:gd name="adj3" fmla="val 16667"/>
              </a:avLst>
            </a:prstGeom>
            <a:solidFill>
              <a:srgbClr val="ff931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海鑫钢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董事长李海仓儿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31"/>
            <p:cNvSpPr/>
            <p:nvPr/>
          </p:nvSpPr>
          <p:spPr>
            <a:xfrm>
              <a:off x="293400" y="5819040"/>
              <a:ext cx="136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李兆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只因实业太过于辛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87640" y="1079280"/>
            <a:ext cx="8748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温州一家打火机生产企业老板的独子表示，生产一个打火机利润只有两美分。为了挣这两美分，还得跟外商谈判</a:t>
            </a:r>
            <a:r>
              <a:rPr b="0" lang="en-US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个小时，如果汇率稍微变动下，可能这点利润也没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4"/>
          <p:cNvGrpSpPr/>
          <p:nvPr/>
        </p:nvGrpSpPr>
        <p:grpSpPr>
          <a:xfrm>
            <a:off x="1871640" y="3465000"/>
            <a:ext cx="981000" cy="1154520"/>
            <a:chOff x="1871640" y="3465000"/>
            <a:chExt cx="981000" cy="1154520"/>
          </a:xfrm>
        </p:grpSpPr>
        <p:grpSp>
          <p:nvGrpSpPr>
            <p:cNvPr id="136" name="组合 11"/>
            <p:cNvGrpSpPr/>
            <p:nvPr/>
          </p:nvGrpSpPr>
          <p:grpSpPr>
            <a:xfrm>
              <a:off x="1871640" y="3465000"/>
              <a:ext cx="539640" cy="539640"/>
              <a:chOff x="1871640" y="3465000"/>
              <a:chExt cx="539640" cy="5396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871640" y="3465000"/>
                <a:ext cx="5396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8" name="Freeform 6"/>
              <p:cNvSpPr/>
              <p:nvPr/>
            </p:nvSpPr>
            <p:spPr>
              <a:xfrm>
                <a:off x="2078640" y="3579480"/>
                <a:ext cx="332640" cy="33156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9" name="Freeform 7"/>
              <p:cNvSpPr/>
              <p:nvPr/>
            </p:nvSpPr>
            <p:spPr>
              <a:xfrm>
                <a:off x="1871640" y="3465000"/>
                <a:ext cx="457920" cy="53964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0" name="组合 32"/>
            <p:cNvGrpSpPr/>
            <p:nvPr/>
          </p:nvGrpSpPr>
          <p:grpSpPr>
            <a:xfrm>
              <a:off x="2313000" y="3713760"/>
              <a:ext cx="539640" cy="539640"/>
              <a:chOff x="2313000" y="3713760"/>
              <a:chExt cx="539640" cy="539640"/>
            </a:xfrm>
          </p:grpSpPr>
          <p:sp>
            <p:nvSpPr>
              <p:cNvPr id="141" name="AutoShape 4"/>
              <p:cNvSpPr/>
              <p:nvPr/>
            </p:nvSpPr>
            <p:spPr>
              <a:xfrm>
                <a:off x="2313000" y="3713760"/>
                <a:ext cx="5396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2" name="Freeform 6"/>
              <p:cNvSpPr/>
              <p:nvPr/>
            </p:nvSpPr>
            <p:spPr>
              <a:xfrm>
                <a:off x="2520000" y="3828240"/>
                <a:ext cx="332640" cy="33156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2313000" y="3713760"/>
                <a:ext cx="457920" cy="53964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4" name="组合 36"/>
            <p:cNvGrpSpPr/>
            <p:nvPr/>
          </p:nvGrpSpPr>
          <p:grpSpPr>
            <a:xfrm>
              <a:off x="1917000" y="4079880"/>
              <a:ext cx="539640" cy="539640"/>
              <a:chOff x="1917000" y="4079880"/>
              <a:chExt cx="539640" cy="539640"/>
            </a:xfrm>
          </p:grpSpPr>
          <p:sp>
            <p:nvSpPr>
              <p:cNvPr id="145" name="AutoShape 4"/>
              <p:cNvSpPr/>
              <p:nvPr/>
            </p:nvSpPr>
            <p:spPr>
              <a:xfrm>
                <a:off x="1917000" y="4079880"/>
                <a:ext cx="5396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6" name="Freeform 6"/>
              <p:cNvSpPr/>
              <p:nvPr/>
            </p:nvSpPr>
            <p:spPr>
              <a:xfrm>
                <a:off x="2123640" y="4194720"/>
                <a:ext cx="332640" cy="33156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1917000" y="4079880"/>
                <a:ext cx="457920" cy="53964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48" name="圆角矩形标注 13"/>
          <p:cNvSpPr/>
          <p:nvPr/>
        </p:nvSpPr>
        <p:spPr>
          <a:xfrm>
            <a:off x="1367640" y="2092680"/>
            <a:ext cx="2094120" cy="910440"/>
          </a:xfrm>
          <a:prstGeom prst="wedgeRoundRectCallout">
            <a:avLst>
              <a:gd name="adj1" fmla="val -2738"/>
              <a:gd name="adj2" fmla="val 80500"/>
              <a:gd name="adj3" fmla="val 16667"/>
            </a:avLst>
          </a:prstGeom>
          <a:solidFill>
            <a:srgbClr val="4b4e7a"/>
          </a:solidFill>
          <a:ln>
            <a:solidFill>
              <a:srgbClr val="004292"/>
            </a:solidFill>
            <a:prstDash val="sys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起早贪黑一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利润最多</a:t>
            </a:r>
            <a:r>
              <a:rPr b="1" lang="en-US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1"/>
          <p:cNvGrpSpPr/>
          <p:nvPr/>
        </p:nvGrpSpPr>
        <p:grpSpPr>
          <a:xfrm>
            <a:off x="5304240" y="3177000"/>
            <a:ext cx="2159640" cy="1495080"/>
            <a:chOff x="5304240" y="3177000"/>
            <a:chExt cx="2159640" cy="1495080"/>
          </a:xfrm>
        </p:grpSpPr>
        <p:grpSp>
          <p:nvGrpSpPr>
            <p:cNvPr id="150" name="组合 68"/>
            <p:cNvGrpSpPr/>
            <p:nvPr/>
          </p:nvGrpSpPr>
          <p:grpSpPr>
            <a:xfrm>
              <a:off x="5792760" y="4086000"/>
              <a:ext cx="586080" cy="586080"/>
              <a:chOff x="5792760" y="4086000"/>
              <a:chExt cx="586080" cy="586080"/>
            </a:xfrm>
          </p:grpSpPr>
          <p:sp>
            <p:nvSpPr>
              <p:cNvPr id="151" name="AutoShape 4"/>
              <p:cNvSpPr/>
              <p:nvPr/>
            </p:nvSpPr>
            <p:spPr>
              <a:xfrm>
                <a:off x="5792760" y="408600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6017400" y="421056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5792760" y="408600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54" name="组合 69"/>
            <p:cNvGrpSpPr/>
            <p:nvPr/>
          </p:nvGrpSpPr>
          <p:grpSpPr>
            <a:xfrm>
              <a:off x="6139800" y="3674160"/>
              <a:ext cx="586080" cy="586080"/>
              <a:chOff x="6139800" y="3674160"/>
              <a:chExt cx="586080" cy="586080"/>
            </a:xfrm>
          </p:grpSpPr>
          <p:sp>
            <p:nvSpPr>
              <p:cNvPr id="155" name="AutoShape 4"/>
              <p:cNvSpPr/>
              <p:nvPr/>
            </p:nvSpPr>
            <p:spPr>
              <a:xfrm>
                <a:off x="6139800" y="367416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6" name="Freeform 6"/>
              <p:cNvSpPr/>
              <p:nvPr/>
            </p:nvSpPr>
            <p:spPr>
              <a:xfrm>
                <a:off x="6364440" y="379872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7" name="Freeform 7"/>
              <p:cNvSpPr/>
              <p:nvPr/>
            </p:nvSpPr>
            <p:spPr>
              <a:xfrm>
                <a:off x="6139800" y="367416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58" name="组合 40"/>
            <p:cNvGrpSpPr/>
            <p:nvPr/>
          </p:nvGrpSpPr>
          <p:grpSpPr>
            <a:xfrm>
              <a:off x="5304240" y="3386880"/>
              <a:ext cx="1016280" cy="1214640"/>
              <a:chOff x="5304240" y="3386880"/>
              <a:chExt cx="1016280" cy="1214640"/>
            </a:xfrm>
          </p:grpSpPr>
          <p:grpSp>
            <p:nvGrpSpPr>
              <p:cNvPr id="159" name="组合 41"/>
              <p:cNvGrpSpPr/>
              <p:nvPr/>
            </p:nvGrpSpPr>
            <p:grpSpPr>
              <a:xfrm>
                <a:off x="5304240" y="3386880"/>
                <a:ext cx="586080" cy="586080"/>
                <a:chOff x="5304240" y="3386880"/>
                <a:chExt cx="586080" cy="586080"/>
              </a:xfrm>
            </p:grpSpPr>
            <p:sp>
              <p:nvSpPr>
                <p:cNvPr id="160" name="AutoShape 4"/>
                <p:cNvSpPr/>
                <p:nvPr/>
              </p:nvSpPr>
              <p:spPr>
                <a:xfrm>
                  <a:off x="5304240" y="3386880"/>
                  <a:ext cx="5860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1" name="Freeform 6"/>
                <p:cNvSpPr/>
                <p:nvPr/>
              </p:nvSpPr>
              <p:spPr>
                <a:xfrm>
                  <a:off x="5528880" y="3511080"/>
                  <a:ext cx="361440" cy="36000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360000"/>
                    <a:gd name="textAreaBottom" fmla="*/ 360360 h 360000"/>
                  </a:gdLst>
                  <a:ahLst/>
                  <a:rect l="textAreaLeft" t="textAreaTop" r="textAreaRight" b="textAreaBottom"/>
                  <a:pathLst>
                    <a:path w="1383" h="1383">
                      <a:moveTo>
                        <a:pt x="876" y="260"/>
                      </a:moveTo>
                      <a:lnTo>
                        <a:pt x="738" y="260"/>
                      </a:lnTo>
                      <a:lnTo>
                        <a:pt x="738" y="389"/>
                      </a:lnTo>
                      <a:lnTo>
                        <a:pt x="829" y="389"/>
                      </a:lnTo>
                      <a:lnTo>
                        <a:pt x="693" y="688"/>
                      </a:lnTo>
                      <a:lnTo>
                        <a:pt x="558" y="389"/>
                      </a:lnTo>
                      <a:lnTo>
                        <a:pt x="652" y="389"/>
                      </a:lnTo>
                      <a:lnTo>
                        <a:pt x="652" y="260"/>
                      </a:lnTo>
                      <a:lnTo>
                        <a:pt x="324" y="260"/>
                      </a:lnTo>
                      <a:lnTo>
                        <a:pt x="324" y="389"/>
                      </a:lnTo>
                      <a:lnTo>
                        <a:pt x="383" y="389"/>
                      </a:lnTo>
                      <a:lnTo>
                        <a:pt x="479" y="590"/>
                      </a:lnTo>
                      <a:lnTo>
                        <a:pt x="266" y="590"/>
                      </a:lnTo>
                      <a:lnTo>
                        <a:pt x="266" y="711"/>
                      </a:lnTo>
                      <a:lnTo>
                        <a:pt x="536" y="711"/>
                      </a:lnTo>
                      <a:lnTo>
                        <a:pt x="577" y="796"/>
                      </a:lnTo>
                      <a:lnTo>
                        <a:pt x="266" y="796"/>
                      </a:lnTo>
                      <a:lnTo>
                        <a:pt x="266" y="917"/>
                      </a:lnTo>
                      <a:lnTo>
                        <a:pt x="601" y="917"/>
                      </a:lnTo>
                      <a:lnTo>
                        <a:pt x="601" y="1011"/>
                      </a:lnTo>
                      <a:lnTo>
                        <a:pt x="524" y="1011"/>
                      </a:lnTo>
                      <a:lnTo>
                        <a:pt x="524" y="1139"/>
                      </a:lnTo>
                      <a:lnTo>
                        <a:pt x="845" y="1139"/>
                      </a:lnTo>
                      <a:lnTo>
                        <a:pt x="845" y="1011"/>
                      </a:lnTo>
                      <a:lnTo>
                        <a:pt x="766" y="1011"/>
                      </a:lnTo>
                      <a:lnTo>
                        <a:pt x="766" y="917"/>
                      </a:lnTo>
                      <a:lnTo>
                        <a:pt x="1103" y="917"/>
                      </a:lnTo>
                      <a:lnTo>
                        <a:pt x="1103" y="796"/>
                      </a:lnTo>
                      <a:lnTo>
                        <a:pt x="790" y="796"/>
                      </a:lnTo>
                      <a:lnTo>
                        <a:pt x="831" y="711"/>
                      </a:lnTo>
                      <a:lnTo>
                        <a:pt x="1103" y="711"/>
                      </a:lnTo>
                      <a:lnTo>
                        <a:pt x="1103" y="590"/>
                      </a:lnTo>
                      <a:lnTo>
                        <a:pt x="889" y="590"/>
                      </a:lnTo>
                      <a:lnTo>
                        <a:pt x="984" y="389"/>
                      </a:lnTo>
                      <a:lnTo>
                        <a:pt x="1039" y="389"/>
                      </a:lnTo>
                      <a:lnTo>
                        <a:pt x="1039" y="260"/>
                      </a:lnTo>
                      <a:lnTo>
                        <a:pt x="876" y="260"/>
                      </a:lnTo>
                      <a:lnTo>
                        <a:pt x="1006" y="76"/>
                      </a:lnTo>
                      <a:lnTo>
                        <a:pt x="1048" y="99"/>
                      </a:lnTo>
                      <a:lnTo>
                        <a:pt x="1087" y="124"/>
                      </a:lnTo>
                      <a:lnTo>
                        <a:pt x="1124" y="153"/>
                      </a:lnTo>
                      <a:lnTo>
                        <a:pt x="1160" y="183"/>
                      </a:lnTo>
                      <a:lnTo>
                        <a:pt x="1193" y="215"/>
                      </a:lnTo>
                      <a:lnTo>
                        <a:pt x="1224" y="251"/>
                      </a:lnTo>
                      <a:lnTo>
                        <a:pt x="1253" y="288"/>
                      </a:lnTo>
                      <a:lnTo>
                        <a:pt x="1278" y="326"/>
                      </a:lnTo>
                      <a:lnTo>
                        <a:pt x="1302" y="368"/>
                      </a:lnTo>
                      <a:lnTo>
                        <a:pt x="1323" y="409"/>
                      </a:lnTo>
                      <a:lnTo>
                        <a:pt x="1340" y="453"/>
                      </a:lnTo>
                      <a:lnTo>
                        <a:pt x="1355" y="499"/>
                      </a:lnTo>
                      <a:lnTo>
                        <a:pt x="1367" y="545"/>
                      </a:lnTo>
                      <a:lnTo>
                        <a:pt x="1376" y="593"/>
                      </a:lnTo>
                      <a:lnTo>
                        <a:pt x="1381" y="642"/>
                      </a:lnTo>
                      <a:lnTo>
                        <a:pt x="1383" y="691"/>
                      </a:lnTo>
                      <a:lnTo>
                        <a:pt x="1380" y="761"/>
                      </a:lnTo>
                      <a:lnTo>
                        <a:pt x="1369" y="831"/>
                      </a:lnTo>
                      <a:lnTo>
                        <a:pt x="1352" y="897"/>
                      </a:lnTo>
                      <a:lnTo>
                        <a:pt x="1329" y="961"/>
                      </a:lnTo>
                      <a:lnTo>
                        <a:pt x="1299" y="1022"/>
                      </a:lnTo>
                      <a:lnTo>
                        <a:pt x="1264" y="1078"/>
                      </a:lnTo>
                      <a:lnTo>
                        <a:pt x="1225" y="1131"/>
                      </a:lnTo>
                      <a:lnTo>
                        <a:pt x="1180" y="1181"/>
                      </a:lnTo>
                      <a:lnTo>
                        <a:pt x="1131" y="1226"/>
                      </a:lnTo>
                      <a:lnTo>
                        <a:pt x="1078" y="1265"/>
                      </a:lnTo>
                      <a:lnTo>
                        <a:pt x="1021" y="1299"/>
                      </a:lnTo>
                      <a:lnTo>
                        <a:pt x="960" y="1329"/>
                      </a:lnTo>
                      <a:lnTo>
                        <a:pt x="897" y="1352"/>
                      </a:lnTo>
                      <a:lnTo>
                        <a:pt x="830" y="1370"/>
                      </a:lnTo>
                      <a:lnTo>
                        <a:pt x="761" y="1380"/>
                      </a:lnTo>
                      <a:lnTo>
                        <a:pt x="691" y="1383"/>
                      </a:lnTo>
                      <a:lnTo>
                        <a:pt x="620" y="1380"/>
                      </a:lnTo>
                      <a:lnTo>
                        <a:pt x="551" y="1370"/>
                      </a:lnTo>
                      <a:lnTo>
                        <a:pt x="486" y="1352"/>
                      </a:lnTo>
                      <a:lnTo>
                        <a:pt x="422" y="1329"/>
                      </a:lnTo>
                      <a:lnTo>
                        <a:pt x="361" y="1299"/>
                      </a:lnTo>
                      <a:lnTo>
                        <a:pt x="305" y="1265"/>
                      </a:lnTo>
                      <a:lnTo>
                        <a:pt x="251" y="1226"/>
                      </a:lnTo>
                      <a:lnTo>
                        <a:pt x="202" y="1181"/>
                      </a:lnTo>
                      <a:lnTo>
                        <a:pt x="157" y="1131"/>
                      </a:lnTo>
                      <a:lnTo>
                        <a:pt x="118" y="1078"/>
                      </a:lnTo>
                      <a:lnTo>
                        <a:pt x="82" y="1022"/>
                      </a:lnTo>
                      <a:lnTo>
                        <a:pt x="54" y="961"/>
                      </a:lnTo>
                      <a:lnTo>
                        <a:pt x="31" y="897"/>
                      </a:lnTo>
                      <a:lnTo>
                        <a:pt x="13" y="831"/>
                      </a:lnTo>
                      <a:lnTo>
                        <a:pt x="3" y="761"/>
                      </a:lnTo>
                      <a:lnTo>
                        <a:pt x="0" y="691"/>
                      </a:lnTo>
                      <a:lnTo>
                        <a:pt x="3" y="621"/>
                      </a:lnTo>
                      <a:lnTo>
                        <a:pt x="13" y="552"/>
                      </a:lnTo>
                      <a:lnTo>
                        <a:pt x="31" y="486"/>
                      </a:lnTo>
                      <a:lnTo>
                        <a:pt x="54" y="423"/>
                      </a:lnTo>
                      <a:lnTo>
                        <a:pt x="82" y="362"/>
                      </a:lnTo>
                      <a:lnTo>
                        <a:pt x="118" y="305"/>
                      </a:lnTo>
                      <a:lnTo>
                        <a:pt x="157" y="251"/>
                      </a:lnTo>
                      <a:lnTo>
                        <a:pt x="202" y="203"/>
                      </a:lnTo>
                      <a:lnTo>
                        <a:pt x="251" y="158"/>
                      </a:lnTo>
                      <a:lnTo>
                        <a:pt x="305" y="119"/>
                      </a:lnTo>
                      <a:lnTo>
                        <a:pt x="361" y="83"/>
                      </a:lnTo>
                      <a:lnTo>
                        <a:pt x="422" y="54"/>
                      </a:lnTo>
                      <a:lnTo>
                        <a:pt x="486" y="31"/>
                      </a:lnTo>
                      <a:lnTo>
                        <a:pt x="551" y="14"/>
                      </a:lnTo>
                      <a:lnTo>
                        <a:pt x="620" y="4"/>
                      </a:lnTo>
                      <a:lnTo>
                        <a:pt x="691" y="0"/>
                      </a:lnTo>
                      <a:lnTo>
                        <a:pt x="711" y="0"/>
                      </a:lnTo>
                      <a:lnTo>
                        <a:pt x="733" y="1"/>
                      </a:lnTo>
                      <a:lnTo>
                        <a:pt x="754" y="2"/>
                      </a:lnTo>
                      <a:lnTo>
                        <a:pt x="775" y="5"/>
                      </a:lnTo>
                      <a:lnTo>
                        <a:pt x="794" y="8"/>
                      </a:lnTo>
                      <a:lnTo>
                        <a:pt x="815" y="12"/>
                      </a:lnTo>
                      <a:lnTo>
                        <a:pt x="836" y="15"/>
                      </a:lnTo>
                      <a:lnTo>
                        <a:pt x="855" y="20"/>
                      </a:lnTo>
                      <a:lnTo>
                        <a:pt x="875" y="25"/>
                      </a:lnTo>
                      <a:lnTo>
                        <a:pt x="895" y="31"/>
                      </a:lnTo>
                      <a:lnTo>
                        <a:pt x="914" y="37"/>
                      </a:lnTo>
                      <a:lnTo>
                        <a:pt x="933" y="44"/>
                      </a:lnTo>
                      <a:lnTo>
                        <a:pt x="952" y="51"/>
                      </a:lnTo>
                      <a:lnTo>
                        <a:pt x="971" y="59"/>
                      </a:lnTo>
                      <a:lnTo>
                        <a:pt x="988" y="67"/>
                      </a:lnTo>
                      <a:lnTo>
                        <a:pt x="1006" y="76"/>
                      </a:lnTo>
                      <a:lnTo>
                        <a:pt x="876" y="260"/>
                      </a:lnTo>
                      <a:close/>
                    </a:path>
                  </a:pathLst>
                </a:custGeom>
                <a:solidFill>
                  <a:srgbClr val="4b4e7a"/>
                </a:solidFill>
                <a:ln w="0">
                  <a:noFill/>
                </a:ln>
                <a:scene3d>
                  <a:camera prst="orthographicFront">
                    <a:rot lat="0" lon="0" rev="0"/>
                  </a:camera>
                  <a:lightRig dir="t" rig="contrasting">
                    <a:rot lat="0" lon="0" rev="7800000"/>
                  </a:lightRig>
                </a:scene3d>
                <a:sp3d>
                  <a:bevelT w="139700" h="1397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2" name="Freeform 7"/>
                <p:cNvSpPr/>
                <p:nvPr/>
              </p:nvSpPr>
              <p:spPr>
                <a:xfrm>
                  <a:off x="5304240" y="3386880"/>
                  <a:ext cx="497160" cy="586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586080"/>
                    <a:gd name="textAreaBottom" fmla="*/ 586440 h 586080"/>
                  </a:gdLst>
                  <a:ahLst/>
                  <a:rect l="textAreaLeft" t="textAreaTop" r="textAreaRight" b="textAreaBottom"/>
                  <a:pathLst>
                    <a:path w="1904" h="2252">
                      <a:moveTo>
                        <a:pt x="968" y="1746"/>
                      </a:moveTo>
                      <a:lnTo>
                        <a:pt x="939" y="1716"/>
                      </a:lnTo>
                      <a:lnTo>
                        <a:pt x="911" y="1685"/>
                      </a:lnTo>
                      <a:lnTo>
                        <a:pt x="887" y="1653"/>
                      </a:lnTo>
                      <a:lnTo>
                        <a:pt x="863" y="1620"/>
                      </a:lnTo>
                      <a:lnTo>
                        <a:pt x="842" y="1586"/>
                      </a:lnTo>
                      <a:lnTo>
                        <a:pt x="822" y="1553"/>
                      </a:lnTo>
                      <a:lnTo>
                        <a:pt x="804" y="1517"/>
                      </a:lnTo>
                      <a:lnTo>
                        <a:pt x="789" y="1481"/>
                      </a:lnTo>
                      <a:lnTo>
                        <a:pt x="775" y="1446"/>
                      </a:lnTo>
                      <a:lnTo>
                        <a:pt x="763" y="1409"/>
                      </a:lnTo>
                      <a:lnTo>
                        <a:pt x="752" y="1371"/>
                      </a:lnTo>
                      <a:lnTo>
                        <a:pt x="744" y="1332"/>
                      </a:lnTo>
                      <a:lnTo>
                        <a:pt x="737" y="1292"/>
                      </a:lnTo>
                      <a:lnTo>
                        <a:pt x="733" y="1252"/>
                      </a:lnTo>
                      <a:lnTo>
                        <a:pt x="730" y="1211"/>
                      </a:lnTo>
                      <a:lnTo>
                        <a:pt x="729" y="1169"/>
                      </a:lnTo>
                      <a:lnTo>
                        <a:pt x="730" y="1128"/>
                      </a:lnTo>
                      <a:lnTo>
                        <a:pt x="733" y="1086"/>
                      </a:lnTo>
                      <a:lnTo>
                        <a:pt x="737" y="1046"/>
                      </a:lnTo>
                      <a:lnTo>
                        <a:pt x="744" y="1007"/>
                      </a:lnTo>
                      <a:lnTo>
                        <a:pt x="752" y="969"/>
                      </a:lnTo>
                      <a:lnTo>
                        <a:pt x="763" y="931"/>
                      </a:lnTo>
                      <a:lnTo>
                        <a:pt x="775" y="894"/>
                      </a:lnTo>
                      <a:lnTo>
                        <a:pt x="789" y="857"/>
                      </a:lnTo>
                      <a:lnTo>
                        <a:pt x="804" y="821"/>
                      </a:lnTo>
                      <a:lnTo>
                        <a:pt x="822" y="787"/>
                      </a:lnTo>
                      <a:lnTo>
                        <a:pt x="842" y="752"/>
                      </a:lnTo>
                      <a:lnTo>
                        <a:pt x="863" y="719"/>
                      </a:lnTo>
                      <a:lnTo>
                        <a:pt x="887" y="687"/>
                      </a:lnTo>
                      <a:lnTo>
                        <a:pt x="911" y="654"/>
                      </a:lnTo>
                      <a:lnTo>
                        <a:pt x="939" y="623"/>
                      </a:lnTo>
                      <a:lnTo>
                        <a:pt x="968" y="593"/>
                      </a:lnTo>
                      <a:lnTo>
                        <a:pt x="998" y="564"/>
                      </a:lnTo>
                      <a:lnTo>
                        <a:pt x="1029" y="537"/>
                      </a:lnTo>
                      <a:lnTo>
                        <a:pt x="1061" y="513"/>
                      </a:lnTo>
                      <a:lnTo>
                        <a:pt x="1093" y="488"/>
                      </a:lnTo>
                      <a:lnTo>
                        <a:pt x="1127" y="468"/>
                      </a:lnTo>
                      <a:lnTo>
                        <a:pt x="1161" y="448"/>
                      </a:lnTo>
                      <a:lnTo>
                        <a:pt x="1196" y="430"/>
                      </a:lnTo>
                      <a:lnTo>
                        <a:pt x="1231" y="415"/>
                      </a:lnTo>
                      <a:lnTo>
                        <a:pt x="1268" y="401"/>
                      </a:lnTo>
                      <a:lnTo>
                        <a:pt x="1305" y="388"/>
                      </a:lnTo>
                      <a:lnTo>
                        <a:pt x="1343" y="378"/>
                      </a:lnTo>
                      <a:lnTo>
                        <a:pt x="1381" y="370"/>
                      </a:lnTo>
                      <a:lnTo>
                        <a:pt x="1420" y="363"/>
                      </a:lnTo>
                      <a:lnTo>
                        <a:pt x="1461" y="358"/>
                      </a:lnTo>
                      <a:lnTo>
                        <a:pt x="1502" y="356"/>
                      </a:lnTo>
                      <a:lnTo>
                        <a:pt x="1544" y="355"/>
                      </a:lnTo>
                      <a:lnTo>
                        <a:pt x="1568" y="355"/>
                      </a:lnTo>
                      <a:lnTo>
                        <a:pt x="1592" y="356"/>
                      </a:lnTo>
                      <a:lnTo>
                        <a:pt x="1616" y="357"/>
                      </a:lnTo>
                      <a:lnTo>
                        <a:pt x="1640" y="359"/>
                      </a:lnTo>
                      <a:lnTo>
                        <a:pt x="1663" y="363"/>
                      </a:lnTo>
                      <a:lnTo>
                        <a:pt x="1686" y="366"/>
                      </a:lnTo>
                      <a:lnTo>
                        <a:pt x="1709" y="370"/>
                      </a:lnTo>
                      <a:lnTo>
                        <a:pt x="1733" y="374"/>
                      </a:lnTo>
                      <a:lnTo>
                        <a:pt x="1754" y="380"/>
                      </a:lnTo>
                      <a:lnTo>
                        <a:pt x="1776" y="386"/>
                      </a:lnTo>
                      <a:lnTo>
                        <a:pt x="1798" y="393"/>
                      </a:lnTo>
                      <a:lnTo>
                        <a:pt x="1820" y="400"/>
                      </a:lnTo>
                      <a:lnTo>
                        <a:pt x="1842" y="408"/>
                      </a:lnTo>
                      <a:lnTo>
                        <a:pt x="1863" y="416"/>
                      </a:lnTo>
                      <a:lnTo>
                        <a:pt x="1883" y="425"/>
                      </a:lnTo>
                      <a:lnTo>
                        <a:pt x="1904" y="435"/>
                      </a:lnTo>
                      <a:lnTo>
                        <a:pt x="1824" y="0"/>
                      </a:lnTo>
                      <a:lnTo>
                        <a:pt x="1815" y="1"/>
                      </a:lnTo>
                      <a:lnTo>
                        <a:pt x="1809" y="2"/>
                      </a:lnTo>
                      <a:lnTo>
                        <a:pt x="1800" y="3"/>
                      </a:lnTo>
                      <a:lnTo>
                        <a:pt x="1794" y="5"/>
                      </a:lnTo>
                      <a:lnTo>
                        <a:pt x="1786" y="6"/>
                      </a:lnTo>
                      <a:lnTo>
                        <a:pt x="1777" y="7"/>
                      </a:lnTo>
                      <a:lnTo>
                        <a:pt x="1771" y="9"/>
                      </a:lnTo>
                      <a:lnTo>
                        <a:pt x="1762" y="10"/>
                      </a:lnTo>
                      <a:lnTo>
                        <a:pt x="1715" y="22"/>
                      </a:lnTo>
                      <a:lnTo>
                        <a:pt x="1669" y="33"/>
                      </a:lnTo>
                      <a:lnTo>
                        <a:pt x="1623" y="46"/>
                      </a:lnTo>
                      <a:lnTo>
                        <a:pt x="1578" y="59"/>
                      </a:lnTo>
                      <a:lnTo>
                        <a:pt x="1534" y="73"/>
                      </a:lnTo>
                      <a:lnTo>
                        <a:pt x="1491" y="88"/>
                      </a:lnTo>
                      <a:lnTo>
                        <a:pt x="1448" y="103"/>
                      </a:lnTo>
                      <a:lnTo>
                        <a:pt x="1407" y="117"/>
                      </a:lnTo>
                      <a:lnTo>
                        <a:pt x="1365" y="134"/>
                      </a:lnTo>
                      <a:lnTo>
                        <a:pt x="1325" y="150"/>
                      </a:lnTo>
                      <a:lnTo>
                        <a:pt x="1284" y="167"/>
                      </a:lnTo>
                      <a:lnTo>
                        <a:pt x="1245" y="185"/>
                      </a:lnTo>
                      <a:lnTo>
                        <a:pt x="1206" y="203"/>
                      </a:lnTo>
                      <a:lnTo>
                        <a:pt x="1168" y="222"/>
                      </a:lnTo>
                      <a:lnTo>
                        <a:pt x="1130" y="241"/>
                      </a:lnTo>
                      <a:lnTo>
                        <a:pt x="1094" y="260"/>
                      </a:lnTo>
                      <a:lnTo>
                        <a:pt x="1057" y="281"/>
                      </a:lnTo>
                      <a:lnTo>
                        <a:pt x="1022" y="302"/>
                      </a:lnTo>
                      <a:lnTo>
                        <a:pt x="987" y="323"/>
                      </a:lnTo>
                      <a:lnTo>
                        <a:pt x="953" y="344"/>
                      </a:lnTo>
                      <a:lnTo>
                        <a:pt x="918" y="366"/>
                      </a:lnTo>
                      <a:lnTo>
                        <a:pt x="885" y="389"/>
                      </a:lnTo>
                      <a:lnTo>
                        <a:pt x="852" y="412"/>
                      </a:lnTo>
                      <a:lnTo>
                        <a:pt x="820" y="435"/>
                      </a:lnTo>
                      <a:lnTo>
                        <a:pt x="788" y="460"/>
                      </a:lnTo>
                      <a:lnTo>
                        <a:pt x="757" y="484"/>
                      </a:lnTo>
                      <a:lnTo>
                        <a:pt x="727" y="508"/>
                      </a:lnTo>
                      <a:lnTo>
                        <a:pt x="696" y="533"/>
                      </a:lnTo>
                      <a:lnTo>
                        <a:pt x="667" y="559"/>
                      </a:lnTo>
                      <a:lnTo>
                        <a:pt x="637" y="585"/>
                      </a:lnTo>
                      <a:lnTo>
                        <a:pt x="608" y="612"/>
                      </a:lnTo>
                      <a:lnTo>
                        <a:pt x="581" y="638"/>
                      </a:lnTo>
                      <a:lnTo>
                        <a:pt x="537" y="682"/>
                      </a:lnTo>
                      <a:lnTo>
                        <a:pt x="493" y="726"/>
                      </a:lnTo>
                      <a:lnTo>
                        <a:pt x="452" y="772"/>
                      </a:lnTo>
                      <a:lnTo>
                        <a:pt x="411" y="818"/>
                      </a:lnTo>
                      <a:lnTo>
                        <a:pt x="372" y="864"/>
                      </a:lnTo>
                      <a:lnTo>
                        <a:pt x="333" y="912"/>
                      </a:lnTo>
                      <a:lnTo>
                        <a:pt x="296" y="961"/>
                      </a:lnTo>
                      <a:lnTo>
                        <a:pt x="259" y="1009"/>
                      </a:lnTo>
                      <a:lnTo>
                        <a:pt x="225" y="1060"/>
                      </a:lnTo>
                      <a:lnTo>
                        <a:pt x="190" y="1110"/>
                      </a:lnTo>
                      <a:lnTo>
                        <a:pt x="156" y="1161"/>
                      </a:lnTo>
                      <a:lnTo>
                        <a:pt x="123" y="1213"/>
                      </a:lnTo>
                      <a:lnTo>
                        <a:pt x="91" y="1266"/>
                      </a:lnTo>
                      <a:lnTo>
                        <a:pt x="60" y="1319"/>
                      </a:lnTo>
                      <a:lnTo>
                        <a:pt x="30" y="1372"/>
                      </a:lnTo>
                      <a:lnTo>
                        <a:pt x="0" y="1426"/>
                      </a:lnTo>
                      <a:lnTo>
                        <a:pt x="1419" y="2252"/>
                      </a:lnTo>
                      <a:lnTo>
                        <a:pt x="1431" y="2232"/>
                      </a:lnTo>
                      <a:lnTo>
                        <a:pt x="1441" y="2214"/>
                      </a:lnTo>
                      <a:lnTo>
                        <a:pt x="1454" y="2196"/>
                      </a:lnTo>
                      <a:lnTo>
                        <a:pt x="1465" y="2177"/>
                      </a:lnTo>
                      <a:lnTo>
                        <a:pt x="1478" y="2159"/>
                      </a:lnTo>
                      <a:lnTo>
                        <a:pt x="1491" y="2141"/>
                      </a:lnTo>
                      <a:lnTo>
                        <a:pt x="1504" y="2124"/>
                      </a:lnTo>
                      <a:lnTo>
                        <a:pt x="1518" y="2107"/>
                      </a:lnTo>
                      <a:lnTo>
                        <a:pt x="1532" y="2090"/>
                      </a:lnTo>
                      <a:lnTo>
                        <a:pt x="1547" y="2073"/>
                      </a:lnTo>
                      <a:lnTo>
                        <a:pt x="1561" y="2056"/>
                      </a:lnTo>
                      <a:lnTo>
                        <a:pt x="1577" y="2041"/>
                      </a:lnTo>
                      <a:lnTo>
                        <a:pt x="1592" y="2025"/>
                      </a:lnTo>
                      <a:lnTo>
                        <a:pt x="1608" y="2010"/>
                      </a:lnTo>
                      <a:lnTo>
                        <a:pt x="1624" y="1995"/>
                      </a:lnTo>
                      <a:lnTo>
                        <a:pt x="1640" y="1980"/>
                      </a:lnTo>
                      <a:lnTo>
                        <a:pt x="1629" y="1981"/>
                      </a:lnTo>
                      <a:lnTo>
                        <a:pt x="1617" y="1982"/>
                      </a:lnTo>
                      <a:lnTo>
                        <a:pt x="1605" y="1984"/>
                      </a:lnTo>
                      <a:lnTo>
                        <a:pt x="1593" y="1984"/>
                      </a:lnTo>
                      <a:lnTo>
                        <a:pt x="1580" y="1985"/>
                      </a:lnTo>
                      <a:lnTo>
                        <a:pt x="1569" y="1985"/>
                      </a:lnTo>
                      <a:lnTo>
                        <a:pt x="1556" y="1985"/>
                      </a:lnTo>
                      <a:lnTo>
                        <a:pt x="1544" y="1985"/>
                      </a:lnTo>
                      <a:lnTo>
                        <a:pt x="1502" y="1984"/>
                      </a:lnTo>
                      <a:lnTo>
                        <a:pt x="1461" y="1981"/>
                      </a:lnTo>
                      <a:lnTo>
                        <a:pt x="1420" y="1977"/>
                      </a:lnTo>
                      <a:lnTo>
                        <a:pt x="1381" y="1970"/>
                      </a:lnTo>
                      <a:lnTo>
                        <a:pt x="1343" y="1962"/>
                      </a:lnTo>
                      <a:lnTo>
                        <a:pt x="1305" y="1951"/>
                      </a:lnTo>
                      <a:lnTo>
                        <a:pt x="1268" y="1939"/>
                      </a:lnTo>
                      <a:lnTo>
                        <a:pt x="1231" y="1925"/>
                      </a:lnTo>
                      <a:lnTo>
                        <a:pt x="1196" y="1910"/>
                      </a:lnTo>
                      <a:lnTo>
                        <a:pt x="1161" y="1891"/>
                      </a:lnTo>
                      <a:lnTo>
                        <a:pt x="1127" y="1872"/>
                      </a:lnTo>
                      <a:lnTo>
                        <a:pt x="1093" y="1851"/>
                      </a:lnTo>
                      <a:lnTo>
                        <a:pt x="1061" y="1827"/>
                      </a:lnTo>
                      <a:lnTo>
                        <a:pt x="1029" y="1803"/>
                      </a:lnTo>
                      <a:lnTo>
                        <a:pt x="998" y="1775"/>
                      </a:lnTo>
                      <a:lnTo>
                        <a:pt x="968" y="1746"/>
                      </a:lnTo>
                      <a:close/>
                    </a:path>
                  </a:pathLst>
                </a:cu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  <a:effectLst>
                  <a:outerShdw algn="ctr" blurRad="44280" dir="5400000" dist="28080">
                    <a:srgbClr val="000000">
                      <a:alpha val="32000"/>
                    </a:srgbClr>
                  </a:outerShdw>
                </a:effectLst>
                <a:scene3d>
                  <a:camera prst="orthographicFront">
                    <a:rot lat="0" lon="0" rev="0"/>
                  </a:camera>
                  <a:lightRig dir="t" rig="balanced">
                    <a:rot lat="0" lon="0" rev="8700000"/>
                  </a:lightRig>
                </a:scene3d>
                <a:sp3d>
                  <a:bevelT w="1905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163" name="组合 42"/>
              <p:cNvGrpSpPr/>
              <p:nvPr/>
            </p:nvGrpSpPr>
            <p:grpSpPr>
              <a:xfrm>
                <a:off x="5734440" y="3617640"/>
                <a:ext cx="586080" cy="586080"/>
                <a:chOff x="5734440" y="3617640"/>
                <a:chExt cx="586080" cy="586080"/>
              </a:xfrm>
            </p:grpSpPr>
            <p:sp>
              <p:nvSpPr>
                <p:cNvPr id="164" name="AutoShape 4"/>
                <p:cNvSpPr/>
                <p:nvPr/>
              </p:nvSpPr>
              <p:spPr>
                <a:xfrm>
                  <a:off x="5734440" y="3617640"/>
                  <a:ext cx="5860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5" name="Freeform 6"/>
                <p:cNvSpPr/>
                <p:nvPr/>
              </p:nvSpPr>
              <p:spPr>
                <a:xfrm>
                  <a:off x="5959080" y="3742200"/>
                  <a:ext cx="361440" cy="36000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360000"/>
                    <a:gd name="textAreaBottom" fmla="*/ 360360 h 360000"/>
                  </a:gdLst>
                  <a:ahLst/>
                  <a:rect l="textAreaLeft" t="textAreaTop" r="textAreaRight" b="textAreaBottom"/>
                  <a:pathLst>
                    <a:path w="1383" h="1383">
                      <a:moveTo>
                        <a:pt x="876" y="260"/>
                      </a:moveTo>
                      <a:lnTo>
                        <a:pt x="738" y="260"/>
                      </a:lnTo>
                      <a:lnTo>
                        <a:pt x="738" y="389"/>
                      </a:lnTo>
                      <a:lnTo>
                        <a:pt x="829" y="389"/>
                      </a:lnTo>
                      <a:lnTo>
                        <a:pt x="693" y="688"/>
                      </a:lnTo>
                      <a:lnTo>
                        <a:pt x="558" y="389"/>
                      </a:lnTo>
                      <a:lnTo>
                        <a:pt x="652" y="389"/>
                      </a:lnTo>
                      <a:lnTo>
                        <a:pt x="652" y="260"/>
                      </a:lnTo>
                      <a:lnTo>
                        <a:pt x="324" y="260"/>
                      </a:lnTo>
                      <a:lnTo>
                        <a:pt x="324" y="389"/>
                      </a:lnTo>
                      <a:lnTo>
                        <a:pt x="383" y="389"/>
                      </a:lnTo>
                      <a:lnTo>
                        <a:pt x="479" y="590"/>
                      </a:lnTo>
                      <a:lnTo>
                        <a:pt x="266" y="590"/>
                      </a:lnTo>
                      <a:lnTo>
                        <a:pt x="266" y="711"/>
                      </a:lnTo>
                      <a:lnTo>
                        <a:pt x="536" y="711"/>
                      </a:lnTo>
                      <a:lnTo>
                        <a:pt x="577" y="796"/>
                      </a:lnTo>
                      <a:lnTo>
                        <a:pt x="266" y="796"/>
                      </a:lnTo>
                      <a:lnTo>
                        <a:pt x="266" y="917"/>
                      </a:lnTo>
                      <a:lnTo>
                        <a:pt x="601" y="917"/>
                      </a:lnTo>
                      <a:lnTo>
                        <a:pt x="601" y="1011"/>
                      </a:lnTo>
                      <a:lnTo>
                        <a:pt x="524" y="1011"/>
                      </a:lnTo>
                      <a:lnTo>
                        <a:pt x="524" y="1139"/>
                      </a:lnTo>
                      <a:lnTo>
                        <a:pt x="845" y="1139"/>
                      </a:lnTo>
                      <a:lnTo>
                        <a:pt x="845" y="1011"/>
                      </a:lnTo>
                      <a:lnTo>
                        <a:pt x="766" y="1011"/>
                      </a:lnTo>
                      <a:lnTo>
                        <a:pt x="766" y="917"/>
                      </a:lnTo>
                      <a:lnTo>
                        <a:pt x="1103" y="917"/>
                      </a:lnTo>
                      <a:lnTo>
                        <a:pt x="1103" y="796"/>
                      </a:lnTo>
                      <a:lnTo>
                        <a:pt x="790" y="796"/>
                      </a:lnTo>
                      <a:lnTo>
                        <a:pt x="831" y="711"/>
                      </a:lnTo>
                      <a:lnTo>
                        <a:pt x="1103" y="711"/>
                      </a:lnTo>
                      <a:lnTo>
                        <a:pt x="1103" y="590"/>
                      </a:lnTo>
                      <a:lnTo>
                        <a:pt x="889" y="590"/>
                      </a:lnTo>
                      <a:lnTo>
                        <a:pt x="984" y="389"/>
                      </a:lnTo>
                      <a:lnTo>
                        <a:pt x="1039" y="389"/>
                      </a:lnTo>
                      <a:lnTo>
                        <a:pt x="1039" y="260"/>
                      </a:lnTo>
                      <a:lnTo>
                        <a:pt x="876" y="260"/>
                      </a:lnTo>
                      <a:lnTo>
                        <a:pt x="1006" y="76"/>
                      </a:lnTo>
                      <a:lnTo>
                        <a:pt x="1048" y="99"/>
                      </a:lnTo>
                      <a:lnTo>
                        <a:pt x="1087" y="124"/>
                      </a:lnTo>
                      <a:lnTo>
                        <a:pt x="1124" y="153"/>
                      </a:lnTo>
                      <a:lnTo>
                        <a:pt x="1160" y="183"/>
                      </a:lnTo>
                      <a:lnTo>
                        <a:pt x="1193" y="215"/>
                      </a:lnTo>
                      <a:lnTo>
                        <a:pt x="1224" y="251"/>
                      </a:lnTo>
                      <a:lnTo>
                        <a:pt x="1253" y="288"/>
                      </a:lnTo>
                      <a:lnTo>
                        <a:pt x="1278" y="326"/>
                      </a:lnTo>
                      <a:lnTo>
                        <a:pt x="1302" y="368"/>
                      </a:lnTo>
                      <a:lnTo>
                        <a:pt x="1323" y="409"/>
                      </a:lnTo>
                      <a:lnTo>
                        <a:pt x="1340" y="453"/>
                      </a:lnTo>
                      <a:lnTo>
                        <a:pt x="1355" y="499"/>
                      </a:lnTo>
                      <a:lnTo>
                        <a:pt x="1367" y="545"/>
                      </a:lnTo>
                      <a:lnTo>
                        <a:pt x="1376" y="593"/>
                      </a:lnTo>
                      <a:lnTo>
                        <a:pt x="1381" y="642"/>
                      </a:lnTo>
                      <a:lnTo>
                        <a:pt x="1383" y="691"/>
                      </a:lnTo>
                      <a:lnTo>
                        <a:pt x="1380" y="761"/>
                      </a:lnTo>
                      <a:lnTo>
                        <a:pt x="1369" y="831"/>
                      </a:lnTo>
                      <a:lnTo>
                        <a:pt x="1352" y="897"/>
                      </a:lnTo>
                      <a:lnTo>
                        <a:pt x="1329" y="961"/>
                      </a:lnTo>
                      <a:lnTo>
                        <a:pt x="1299" y="1022"/>
                      </a:lnTo>
                      <a:lnTo>
                        <a:pt x="1264" y="1078"/>
                      </a:lnTo>
                      <a:lnTo>
                        <a:pt x="1225" y="1131"/>
                      </a:lnTo>
                      <a:lnTo>
                        <a:pt x="1180" y="1181"/>
                      </a:lnTo>
                      <a:lnTo>
                        <a:pt x="1131" y="1226"/>
                      </a:lnTo>
                      <a:lnTo>
                        <a:pt x="1078" y="1265"/>
                      </a:lnTo>
                      <a:lnTo>
                        <a:pt x="1021" y="1299"/>
                      </a:lnTo>
                      <a:lnTo>
                        <a:pt x="960" y="1329"/>
                      </a:lnTo>
                      <a:lnTo>
                        <a:pt x="897" y="1352"/>
                      </a:lnTo>
                      <a:lnTo>
                        <a:pt x="830" y="1370"/>
                      </a:lnTo>
                      <a:lnTo>
                        <a:pt x="761" y="1380"/>
                      </a:lnTo>
                      <a:lnTo>
                        <a:pt x="691" y="1383"/>
                      </a:lnTo>
                      <a:lnTo>
                        <a:pt x="620" y="1380"/>
                      </a:lnTo>
                      <a:lnTo>
                        <a:pt x="551" y="1370"/>
                      </a:lnTo>
                      <a:lnTo>
                        <a:pt x="486" y="1352"/>
                      </a:lnTo>
                      <a:lnTo>
                        <a:pt x="422" y="1329"/>
                      </a:lnTo>
                      <a:lnTo>
                        <a:pt x="361" y="1299"/>
                      </a:lnTo>
                      <a:lnTo>
                        <a:pt x="305" y="1265"/>
                      </a:lnTo>
                      <a:lnTo>
                        <a:pt x="251" y="1226"/>
                      </a:lnTo>
                      <a:lnTo>
                        <a:pt x="202" y="1181"/>
                      </a:lnTo>
                      <a:lnTo>
                        <a:pt x="157" y="1131"/>
                      </a:lnTo>
                      <a:lnTo>
                        <a:pt x="118" y="1078"/>
                      </a:lnTo>
                      <a:lnTo>
                        <a:pt x="82" y="1022"/>
                      </a:lnTo>
                      <a:lnTo>
                        <a:pt x="54" y="961"/>
                      </a:lnTo>
                      <a:lnTo>
                        <a:pt x="31" y="897"/>
                      </a:lnTo>
                      <a:lnTo>
                        <a:pt x="13" y="831"/>
                      </a:lnTo>
                      <a:lnTo>
                        <a:pt x="3" y="761"/>
                      </a:lnTo>
                      <a:lnTo>
                        <a:pt x="0" y="691"/>
                      </a:lnTo>
                      <a:lnTo>
                        <a:pt x="3" y="621"/>
                      </a:lnTo>
                      <a:lnTo>
                        <a:pt x="13" y="552"/>
                      </a:lnTo>
                      <a:lnTo>
                        <a:pt x="31" y="486"/>
                      </a:lnTo>
                      <a:lnTo>
                        <a:pt x="54" y="423"/>
                      </a:lnTo>
                      <a:lnTo>
                        <a:pt x="82" y="362"/>
                      </a:lnTo>
                      <a:lnTo>
                        <a:pt x="118" y="305"/>
                      </a:lnTo>
                      <a:lnTo>
                        <a:pt x="157" y="251"/>
                      </a:lnTo>
                      <a:lnTo>
                        <a:pt x="202" y="203"/>
                      </a:lnTo>
                      <a:lnTo>
                        <a:pt x="251" y="158"/>
                      </a:lnTo>
                      <a:lnTo>
                        <a:pt x="305" y="119"/>
                      </a:lnTo>
                      <a:lnTo>
                        <a:pt x="361" y="83"/>
                      </a:lnTo>
                      <a:lnTo>
                        <a:pt x="422" y="54"/>
                      </a:lnTo>
                      <a:lnTo>
                        <a:pt x="486" y="31"/>
                      </a:lnTo>
                      <a:lnTo>
                        <a:pt x="551" y="14"/>
                      </a:lnTo>
                      <a:lnTo>
                        <a:pt x="620" y="4"/>
                      </a:lnTo>
                      <a:lnTo>
                        <a:pt x="691" y="0"/>
                      </a:lnTo>
                      <a:lnTo>
                        <a:pt x="711" y="0"/>
                      </a:lnTo>
                      <a:lnTo>
                        <a:pt x="733" y="1"/>
                      </a:lnTo>
                      <a:lnTo>
                        <a:pt x="754" y="2"/>
                      </a:lnTo>
                      <a:lnTo>
                        <a:pt x="775" y="5"/>
                      </a:lnTo>
                      <a:lnTo>
                        <a:pt x="794" y="8"/>
                      </a:lnTo>
                      <a:lnTo>
                        <a:pt x="815" y="12"/>
                      </a:lnTo>
                      <a:lnTo>
                        <a:pt x="836" y="15"/>
                      </a:lnTo>
                      <a:lnTo>
                        <a:pt x="855" y="20"/>
                      </a:lnTo>
                      <a:lnTo>
                        <a:pt x="875" y="25"/>
                      </a:lnTo>
                      <a:lnTo>
                        <a:pt x="895" y="31"/>
                      </a:lnTo>
                      <a:lnTo>
                        <a:pt x="914" y="37"/>
                      </a:lnTo>
                      <a:lnTo>
                        <a:pt x="933" y="44"/>
                      </a:lnTo>
                      <a:lnTo>
                        <a:pt x="952" y="51"/>
                      </a:lnTo>
                      <a:lnTo>
                        <a:pt x="971" y="59"/>
                      </a:lnTo>
                      <a:lnTo>
                        <a:pt x="988" y="67"/>
                      </a:lnTo>
                      <a:lnTo>
                        <a:pt x="1006" y="76"/>
                      </a:lnTo>
                      <a:lnTo>
                        <a:pt x="876" y="260"/>
                      </a:lnTo>
                      <a:close/>
                    </a:path>
                  </a:pathLst>
                </a:custGeom>
                <a:solidFill>
                  <a:srgbClr val="4b4e7a"/>
                </a:solidFill>
                <a:ln w="0">
                  <a:noFill/>
                </a:ln>
                <a:scene3d>
                  <a:camera prst="orthographicFront">
                    <a:rot lat="0" lon="0" rev="0"/>
                  </a:camera>
                  <a:lightRig dir="t" rig="contrasting">
                    <a:rot lat="0" lon="0" rev="7800000"/>
                  </a:lightRig>
                </a:scene3d>
                <a:sp3d>
                  <a:bevelT w="139700" h="1397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6" name="Freeform 7"/>
                <p:cNvSpPr/>
                <p:nvPr/>
              </p:nvSpPr>
              <p:spPr>
                <a:xfrm>
                  <a:off x="5734440" y="3617640"/>
                  <a:ext cx="497160" cy="586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586080"/>
                    <a:gd name="textAreaBottom" fmla="*/ 586440 h 586080"/>
                  </a:gdLst>
                  <a:ahLst/>
                  <a:rect l="textAreaLeft" t="textAreaTop" r="textAreaRight" b="textAreaBottom"/>
                  <a:pathLst>
                    <a:path w="1904" h="2252">
                      <a:moveTo>
                        <a:pt x="968" y="1746"/>
                      </a:moveTo>
                      <a:lnTo>
                        <a:pt x="939" y="1716"/>
                      </a:lnTo>
                      <a:lnTo>
                        <a:pt x="911" y="1685"/>
                      </a:lnTo>
                      <a:lnTo>
                        <a:pt x="887" y="1653"/>
                      </a:lnTo>
                      <a:lnTo>
                        <a:pt x="863" y="1620"/>
                      </a:lnTo>
                      <a:lnTo>
                        <a:pt x="842" y="1586"/>
                      </a:lnTo>
                      <a:lnTo>
                        <a:pt x="822" y="1553"/>
                      </a:lnTo>
                      <a:lnTo>
                        <a:pt x="804" y="1517"/>
                      </a:lnTo>
                      <a:lnTo>
                        <a:pt x="789" y="1481"/>
                      </a:lnTo>
                      <a:lnTo>
                        <a:pt x="775" y="1446"/>
                      </a:lnTo>
                      <a:lnTo>
                        <a:pt x="763" y="1409"/>
                      </a:lnTo>
                      <a:lnTo>
                        <a:pt x="752" y="1371"/>
                      </a:lnTo>
                      <a:lnTo>
                        <a:pt x="744" y="1332"/>
                      </a:lnTo>
                      <a:lnTo>
                        <a:pt x="737" y="1292"/>
                      </a:lnTo>
                      <a:lnTo>
                        <a:pt x="733" y="1252"/>
                      </a:lnTo>
                      <a:lnTo>
                        <a:pt x="730" y="1211"/>
                      </a:lnTo>
                      <a:lnTo>
                        <a:pt x="729" y="1169"/>
                      </a:lnTo>
                      <a:lnTo>
                        <a:pt x="730" y="1128"/>
                      </a:lnTo>
                      <a:lnTo>
                        <a:pt x="733" y="1086"/>
                      </a:lnTo>
                      <a:lnTo>
                        <a:pt x="737" y="1046"/>
                      </a:lnTo>
                      <a:lnTo>
                        <a:pt x="744" y="1007"/>
                      </a:lnTo>
                      <a:lnTo>
                        <a:pt x="752" y="969"/>
                      </a:lnTo>
                      <a:lnTo>
                        <a:pt x="763" y="931"/>
                      </a:lnTo>
                      <a:lnTo>
                        <a:pt x="775" y="894"/>
                      </a:lnTo>
                      <a:lnTo>
                        <a:pt x="789" y="857"/>
                      </a:lnTo>
                      <a:lnTo>
                        <a:pt x="804" y="821"/>
                      </a:lnTo>
                      <a:lnTo>
                        <a:pt x="822" y="787"/>
                      </a:lnTo>
                      <a:lnTo>
                        <a:pt x="842" y="752"/>
                      </a:lnTo>
                      <a:lnTo>
                        <a:pt x="863" y="719"/>
                      </a:lnTo>
                      <a:lnTo>
                        <a:pt x="887" y="687"/>
                      </a:lnTo>
                      <a:lnTo>
                        <a:pt x="911" y="654"/>
                      </a:lnTo>
                      <a:lnTo>
                        <a:pt x="939" y="623"/>
                      </a:lnTo>
                      <a:lnTo>
                        <a:pt x="968" y="593"/>
                      </a:lnTo>
                      <a:lnTo>
                        <a:pt x="998" y="564"/>
                      </a:lnTo>
                      <a:lnTo>
                        <a:pt x="1029" y="537"/>
                      </a:lnTo>
                      <a:lnTo>
                        <a:pt x="1061" y="513"/>
                      </a:lnTo>
                      <a:lnTo>
                        <a:pt x="1093" y="488"/>
                      </a:lnTo>
                      <a:lnTo>
                        <a:pt x="1127" y="468"/>
                      </a:lnTo>
                      <a:lnTo>
                        <a:pt x="1161" y="448"/>
                      </a:lnTo>
                      <a:lnTo>
                        <a:pt x="1196" y="430"/>
                      </a:lnTo>
                      <a:lnTo>
                        <a:pt x="1231" y="415"/>
                      </a:lnTo>
                      <a:lnTo>
                        <a:pt x="1268" y="401"/>
                      </a:lnTo>
                      <a:lnTo>
                        <a:pt x="1305" y="388"/>
                      </a:lnTo>
                      <a:lnTo>
                        <a:pt x="1343" y="378"/>
                      </a:lnTo>
                      <a:lnTo>
                        <a:pt x="1381" y="370"/>
                      </a:lnTo>
                      <a:lnTo>
                        <a:pt x="1420" y="363"/>
                      </a:lnTo>
                      <a:lnTo>
                        <a:pt x="1461" y="358"/>
                      </a:lnTo>
                      <a:lnTo>
                        <a:pt x="1502" y="356"/>
                      </a:lnTo>
                      <a:lnTo>
                        <a:pt x="1544" y="355"/>
                      </a:lnTo>
                      <a:lnTo>
                        <a:pt x="1568" y="355"/>
                      </a:lnTo>
                      <a:lnTo>
                        <a:pt x="1592" y="356"/>
                      </a:lnTo>
                      <a:lnTo>
                        <a:pt x="1616" y="357"/>
                      </a:lnTo>
                      <a:lnTo>
                        <a:pt x="1640" y="359"/>
                      </a:lnTo>
                      <a:lnTo>
                        <a:pt x="1663" y="363"/>
                      </a:lnTo>
                      <a:lnTo>
                        <a:pt x="1686" y="366"/>
                      </a:lnTo>
                      <a:lnTo>
                        <a:pt x="1709" y="370"/>
                      </a:lnTo>
                      <a:lnTo>
                        <a:pt x="1733" y="374"/>
                      </a:lnTo>
                      <a:lnTo>
                        <a:pt x="1754" y="380"/>
                      </a:lnTo>
                      <a:lnTo>
                        <a:pt x="1776" y="386"/>
                      </a:lnTo>
                      <a:lnTo>
                        <a:pt x="1798" y="393"/>
                      </a:lnTo>
                      <a:lnTo>
                        <a:pt x="1820" y="400"/>
                      </a:lnTo>
                      <a:lnTo>
                        <a:pt x="1842" y="408"/>
                      </a:lnTo>
                      <a:lnTo>
                        <a:pt x="1863" y="416"/>
                      </a:lnTo>
                      <a:lnTo>
                        <a:pt x="1883" y="425"/>
                      </a:lnTo>
                      <a:lnTo>
                        <a:pt x="1904" y="435"/>
                      </a:lnTo>
                      <a:lnTo>
                        <a:pt x="1824" y="0"/>
                      </a:lnTo>
                      <a:lnTo>
                        <a:pt x="1815" y="1"/>
                      </a:lnTo>
                      <a:lnTo>
                        <a:pt x="1809" y="2"/>
                      </a:lnTo>
                      <a:lnTo>
                        <a:pt x="1800" y="3"/>
                      </a:lnTo>
                      <a:lnTo>
                        <a:pt x="1794" y="5"/>
                      </a:lnTo>
                      <a:lnTo>
                        <a:pt x="1786" y="6"/>
                      </a:lnTo>
                      <a:lnTo>
                        <a:pt x="1777" y="7"/>
                      </a:lnTo>
                      <a:lnTo>
                        <a:pt x="1771" y="9"/>
                      </a:lnTo>
                      <a:lnTo>
                        <a:pt x="1762" y="10"/>
                      </a:lnTo>
                      <a:lnTo>
                        <a:pt x="1715" y="22"/>
                      </a:lnTo>
                      <a:lnTo>
                        <a:pt x="1669" y="33"/>
                      </a:lnTo>
                      <a:lnTo>
                        <a:pt x="1623" y="46"/>
                      </a:lnTo>
                      <a:lnTo>
                        <a:pt x="1578" y="59"/>
                      </a:lnTo>
                      <a:lnTo>
                        <a:pt x="1534" y="73"/>
                      </a:lnTo>
                      <a:lnTo>
                        <a:pt x="1491" y="88"/>
                      </a:lnTo>
                      <a:lnTo>
                        <a:pt x="1448" y="103"/>
                      </a:lnTo>
                      <a:lnTo>
                        <a:pt x="1407" y="117"/>
                      </a:lnTo>
                      <a:lnTo>
                        <a:pt x="1365" y="134"/>
                      </a:lnTo>
                      <a:lnTo>
                        <a:pt x="1325" y="150"/>
                      </a:lnTo>
                      <a:lnTo>
                        <a:pt x="1284" y="167"/>
                      </a:lnTo>
                      <a:lnTo>
                        <a:pt x="1245" y="185"/>
                      </a:lnTo>
                      <a:lnTo>
                        <a:pt x="1206" y="203"/>
                      </a:lnTo>
                      <a:lnTo>
                        <a:pt x="1168" y="222"/>
                      </a:lnTo>
                      <a:lnTo>
                        <a:pt x="1130" y="241"/>
                      </a:lnTo>
                      <a:lnTo>
                        <a:pt x="1094" y="260"/>
                      </a:lnTo>
                      <a:lnTo>
                        <a:pt x="1057" y="281"/>
                      </a:lnTo>
                      <a:lnTo>
                        <a:pt x="1022" y="302"/>
                      </a:lnTo>
                      <a:lnTo>
                        <a:pt x="987" y="323"/>
                      </a:lnTo>
                      <a:lnTo>
                        <a:pt x="953" y="344"/>
                      </a:lnTo>
                      <a:lnTo>
                        <a:pt x="918" y="366"/>
                      </a:lnTo>
                      <a:lnTo>
                        <a:pt x="885" y="389"/>
                      </a:lnTo>
                      <a:lnTo>
                        <a:pt x="852" y="412"/>
                      </a:lnTo>
                      <a:lnTo>
                        <a:pt x="820" y="435"/>
                      </a:lnTo>
                      <a:lnTo>
                        <a:pt x="788" y="460"/>
                      </a:lnTo>
                      <a:lnTo>
                        <a:pt x="757" y="484"/>
                      </a:lnTo>
                      <a:lnTo>
                        <a:pt x="727" y="508"/>
                      </a:lnTo>
                      <a:lnTo>
                        <a:pt x="696" y="533"/>
                      </a:lnTo>
                      <a:lnTo>
                        <a:pt x="667" y="559"/>
                      </a:lnTo>
                      <a:lnTo>
                        <a:pt x="637" y="585"/>
                      </a:lnTo>
                      <a:lnTo>
                        <a:pt x="608" y="612"/>
                      </a:lnTo>
                      <a:lnTo>
                        <a:pt x="581" y="638"/>
                      </a:lnTo>
                      <a:lnTo>
                        <a:pt x="537" y="682"/>
                      </a:lnTo>
                      <a:lnTo>
                        <a:pt x="493" y="726"/>
                      </a:lnTo>
                      <a:lnTo>
                        <a:pt x="452" y="772"/>
                      </a:lnTo>
                      <a:lnTo>
                        <a:pt x="411" y="818"/>
                      </a:lnTo>
                      <a:lnTo>
                        <a:pt x="372" y="864"/>
                      </a:lnTo>
                      <a:lnTo>
                        <a:pt x="333" y="912"/>
                      </a:lnTo>
                      <a:lnTo>
                        <a:pt x="296" y="961"/>
                      </a:lnTo>
                      <a:lnTo>
                        <a:pt x="259" y="1009"/>
                      </a:lnTo>
                      <a:lnTo>
                        <a:pt x="225" y="1060"/>
                      </a:lnTo>
                      <a:lnTo>
                        <a:pt x="190" y="1110"/>
                      </a:lnTo>
                      <a:lnTo>
                        <a:pt x="156" y="1161"/>
                      </a:lnTo>
                      <a:lnTo>
                        <a:pt x="123" y="1213"/>
                      </a:lnTo>
                      <a:lnTo>
                        <a:pt x="91" y="1266"/>
                      </a:lnTo>
                      <a:lnTo>
                        <a:pt x="60" y="1319"/>
                      </a:lnTo>
                      <a:lnTo>
                        <a:pt x="30" y="1372"/>
                      </a:lnTo>
                      <a:lnTo>
                        <a:pt x="0" y="1426"/>
                      </a:lnTo>
                      <a:lnTo>
                        <a:pt x="1419" y="2252"/>
                      </a:lnTo>
                      <a:lnTo>
                        <a:pt x="1431" y="2232"/>
                      </a:lnTo>
                      <a:lnTo>
                        <a:pt x="1441" y="2214"/>
                      </a:lnTo>
                      <a:lnTo>
                        <a:pt x="1454" y="2196"/>
                      </a:lnTo>
                      <a:lnTo>
                        <a:pt x="1465" y="2177"/>
                      </a:lnTo>
                      <a:lnTo>
                        <a:pt x="1478" y="2159"/>
                      </a:lnTo>
                      <a:lnTo>
                        <a:pt x="1491" y="2141"/>
                      </a:lnTo>
                      <a:lnTo>
                        <a:pt x="1504" y="2124"/>
                      </a:lnTo>
                      <a:lnTo>
                        <a:pt x="1518" y="2107"/>
                      </a:lnTo>
                      <a:lnTo>
                        <a:pt x="1532" y="2090"/>
                      </a:lnTo>
                      <a:lnTo>
                        <a:pt x="1547" y="2073"/>
                      </a:lnTo>
                      <a:lnTo>
                        <a:pt x="1561" y="2056"/>
                      </a:lnTo>
                      <a:lnTo>
                        <a:pt x="1577" y="2041"/>
                      </a:lnTo>
                      <a:lnTo>
                        <a:pt x="1592" y="2025"/>
                      </a:lnTo>
                      <a:lnTo>
                        <a:pt x="1608" y="2010"/>
                      </a:lnTo>
                      <a:lnTo>
                        <a:pt x="1624" y="1995"/>
                      </a:lnTo>
                      <a:lnTo>
                        <a:pt x="1640" y="1980"/>
                      </a:lnTo>
                      <a:lnTo>
                        <a:pt x="1629" y="1981"/>
                      </a:lnTo>
                      <a:lnTo>
                        <a:pt x="1617" y="1982"/>
                      </a:lnTo>
                      <a:lnTo>
                        <a:pt x="1605" y="1984"/>
                      </a:lnTo>
                      <a:lnTo>
                        <a:pt x="1593" y="1984"/>
                      </a:lnTo>
                      <a:lnTo>
                        <a:pt x="1580" y="1985"/>
                      </a:lnTo>
                      <a:lnTo>
                        <a:pt x="1569" y="1985"/>
                      </a:lnTo>
                      <a:lnTo>
                        <a:pt x="1556" y="1985"/>
                      </a:lnTo>
                      <a:lnTo>
                        <a:pt x="1544" y="1985"/>
                      </a:lnTo>
                      <a:lnTo>
                        <a:pt x="1502" y="1984"/>
                      </a:lnTo>
                      <a:lnTo>
                        <a:pt x="1461" y="1981"/>
                      </a:lnTo>
                      <a:lnTo>
                        <a:pt x="1420" y="1977"/>
                      </a:lnTo>
                      <a:lnTo>
                        <a:pt x="1381" y="1970"/>
                      </a:lnTo>
                      <a:lnTo>
                        <a:pt x="1343" y="1962"/>
                      </a:lnTo>
                      <a:lnTo>
                        <a:pt x="1305" y="1951"/>
                      </a:lnTo>
                      <a:lnTo>
                        <a:pt x="1268" y="1939"/>
                      </a:lnTo>
                      <a:lnTo>
                        <a:pt x="1231" y="1925"/>
                      </a:lnTo>
                      <a:lnTo>
                        <a:pt x="1196" y="1910"/>
                      </a:lnTo>
                      <a:lnTo>
                        <a:pt x="1161" y="1891"/>
                      </a:lnTo>
                      <a:lnTo>
                        <a:pt x="1127" y="1872"/>
                      </a:lnTo>
                      <a:lnTo>
                        <a:pt x="1093" y="1851"/>
                      </a:lnTo>
                      <a:lnTo>
                        <a:pt x="1061" y="1827"/>
                      </a:lnTo>
                      <a:lnTo>
                        <a:pt x="1029" y="1803"/>
                      </a:lnTo>
                      <a:lnTo>
                        <a:pt x="998" y="1775"/>
                      </a:lnTo>
                      <a:lnTo>
                        <a:pt x="968" y="1746"/>
                      </a:lnTo>
                      <a:close/>
                    </a:path>
                  </a:pathLst>
                </a:cu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  <a:effectLst>
                  <a:outerShdw algn="ctr" blurRad="44280" dir="5400000" dist="28080">
                    <a:srgbClr val="000000">
                      <a:alpha val="32000"/>
                    </a:srgbClr>
                  </a:outerShdw>
                </a:effectLst>
                <a:scene3d>
                  <a:camera prst="orthographicFront">
                    <a:rot lat="0" lon="0" rev="0"/>
                  </a:camera>
                  <a:lightRig dir="t" rig="balanced">
                    <a:rot lat="0" lon="0" rev="8700000"/>
                  </a:lightRig>
                </a:scene3d>
                <a:sp3d>
                  <a:bevelT w="1905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167" name="组合 43"/>
              <p:cNvGrpSpPr/>
              <p:nvPr/>
            </p:nvGrpSpPr>
            <p:grpSpPr>
              <a:xfrm>
                <a:off x="5304240" y="4015440"/>
                <a:ext cx="586080" cy="586080"/>
                <a:chOff x="5304240" y="4015440"/>
                <a:chExt cx="586080" cy="586080"/>
              </a:xfrm>
            </p:grpSpPr>
            <p:sp>
              <p:nvSpPr>
                <p:cNvPr id="168" name="AutoShape 4"/>
                <p:cNvSpPr/>
                <p:nvPr/>
              </p:nvSpPr>
              <p:spPr>
                <a:xfrm>
                  <a:off x="5304240" y="4015440"/>
                  <a:ext cx="5860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9" name="Freeform 6"/>
                <p:cNvSpPr/>
                <p:nvPr/>
              </p:nvSpPr>
              <p:spPr>
                <a:xfrm>
                  <a:off x="5528880" y="4140000"/>
                  <a:ext cx="361440" cy="36000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360000"/>
                    <a:gd name="textAreaBottom" fmla="*/ 360360 h 360000"/>
                  </a:gdLst>
                  <a:ahLst/>
                  <a:rect l="textAreaLeft" t="textAreaTop" r="textAreaRight" b="textAreaBottom"/>
                  <a:pathLst>
                    <a:path w="1383" h="1383">
                      <a:moveTo>
                        <a:pt x="876" y="260"/>
                      </a:moveTo>
                      <a:lnTo>
                        <a:pt x="738" y="260"/>
                      </a:lnTo>
                      <a:lnTo>
                        <a:pt x="738" y="389"/>
                      </a:lnTo>
                      <a:lnTo>
                        <a:pt x="829" y="389"/>
                      </a:lnTo>
                      <a:lnTo>
                        <a:pt x="693" y="688"/>
                      </a:lnTo>
                      <a:lnTo>
                        <a:pt x="558" y="389"/>
                      </a:lnTo>
                      <a:lnTo>
                        <a:pt x="652" y="389"/>
                      </a:lnTo>
                      <a:lnTo>
                        <a:pt x="652" y="260"/>
                      </a:lnTo>
                      <a:lnTo>
                        <a:pt x="324" y="260"/>
                      </a:lnTo>
                      <a:lnTo>
                        <a:pt x="324" y="389"/>
                      </a:lnTo>
                      <a:lnTo>
                        <a:pt x="383" y="389"/>
                      </a:lnTo>
                      <a:lnTo>
                        <a:pt x="479" y="590"/>
                      </a:lnTo>
                      <a:lnTo>
                        <a:pt x="266" y="590"/>
                      </a:lnTo>
                      <a:lnTo>
                        <a:pt x="266" y="711"/>
                      </a:lnTo>
                      <a:lnTo>
                        <a:pt x="536" y="711"/>
                      </a:lnTo>
                      <a:lnTo>
                        <a:pt x="577" y="796"/>
                      </a:lnTo>
                      <a:lnTo>
                        <a:pt x="266" y="796"/>
                      </a:lnTo>
                      <a:lnTo>
                        <a:pt x="266" y="917"/>
                      </a:lnTo>
                      <a:lnTo>
                        <a:pt x="601" y="917"/>
                      </a:lnTo>
                      <a:lnTo>
                        <a:pt x="601" y="1011"/>
                      </a:lnTo>
                      <a:lnTo>
                        <a:pt x="524" y="1011"/>
                      </a:lnTo>
                      <a:lnTo>
                        <a:pt x="524" y="1139"/>
                      </a:lnTo>
                      <a:lnTo>
                        <a:pt x="845" y="1139"/>
                      </a:lnTo>
                      <a:lnTo>
                        <a:pt x="845" y="1011"/>
                      </a:lnTo>
                      <a:lnTo>
                        <a:pt x="766" y="1011"/>
                      </a:lnTo>
                      <a:lnTo>
                        <a:pt x="766" y="917"/>
                      </a:lnTo>
                      <a:lnTo>
                        <a:pt x="1103" y="917"/>
                      </a:lnTo>
                      <a:lnTo>
                        <a:pt x="1103" y="796"/>
                      </a:lnTo>
                      <a:lnTo>
                        <a:pt x="790" y="796"/>
                      </a:lnTo>
                      <a:lnTo>
                        <a:pt x="831" y="711"/>
                      </a:lnTo>
                      <a:lnTo>
                        <a:pt x="1103" y="711"/>
                      </a:lnTo>
                      <a:lnTo>
                        <a:pt x="1103" y="590"/>
                      </a:lnTo>
                      <a:lnTo>
                        <a:pt x="889" y="590"/>
                      </a:lnTo>
                      <a:lnTo>
                        <a:pt x="984" y="389"/>
                      </a:lnTo>
                      <a:lnTo>
                        <a:pt x="1039" y="389"/>
                      </a:lnTo>
                      <a:lnTo>
                        <a:pt x="1039" y="260"/>
                      </a:lnTo>
                      <a:lnTo>
                        <a:pt x="876" y="260"/>
                      </a:lnTo>
                      <a:lnTo>
                        <a:pt x="1006" y="76"/>
                      </a:lnTo>
                      <a:lnTo>
                        <a:pt x="1048" y="99"/>
                      </a:lnTo>
                      <a:lnTo>
                        <a:pt x="1087" y="124"/>
                      </a:lnTo>
                      <a:lnTo>
                        <a:pt x="1124" y="153"/>
                      </a:lnTo>
                      <a:lnTo>
                        <a:pt x="1160" y="183"/>
                      </a:lnTo>
                      <a:lnTo>
                        <a:pt x="1193" y="215"/>
                      </a:lnTo>
                      <a:lnTo>
                        <a:pt x="1224" y="251"/>
                      </a:lnTo>
                      <a:lnTo>
                        <a:pt x="1253" y="288"/>
                      </a:lnTo>
                      <a:lnTo>
                        <a:pt x="1278" y="326"/>
                      </a:lnTo>
                      <a:lnTo>
                        <a:pt x="1302" y="368"/>
                      </a:lnTo>
                      <a:lnTo>
                        <a:pt x="1323" y="409"/>
                      </a:lnTo>
                      <a:lnTo>
                        <a:pt x="1340" y="453"/>
                      </a:lnTo>
                      <a:lnTo>
                        <a:pt x="1355" y="499"/>
                      </a:lnTo>
                      <a:lnTo>
                        <a:pt x="1367" y="545"/>
                      </a:lnTo>
                      <a:lnTo>
                        <a:pt x="1376" y="593"/>
                      </a:lnTo>
                      <a:lnTo>
                        <a:pt x="1381" y="642"/>
                      </a:lnTo>
                      <a:lnTo>
                        <a:pt x="1383" y="691"/>
                      </a:lnTo>
                      <a:lnTo>
                        <a:pt x="1380" y="761"/>
                      </a:lnTo>
                      <a:lnTo>
                        <a:pt x="1369" y="831"/>
                      </a:lnTo>
                      <a:lnTo>
                        <a:pt x="1352" y="897"/>
                      </a:lnTo>
                      <a:lnTo>
                        <a:pt x="1329" y="961"/>
                      </a:lnTo>
                      <a:lnTo>
                        <a:pt x="1299" y="1022"/>
                      </a:lnTo>
                      <a:lnTo>
                        <a:pt x="1264" y="1078"/>
                      </a:lnTo>
                      <a:lnTo>
                        <a:pt x="1225" y="1131"/>
                      </a:lnTo>
                      <a:lnTo>
                        <a:pt x="1180" y="1181"/>
                      </a:lnTo>
                      <a:lnTo>
                        <a:pt x="1131" y="1226"/>
                      </a:lnTo>
                      <a:lnTo>
                        <a:pt x="1078" y="1265"/>
                      </a:lnTo>
                      <a:lnTo>
                        <a:pt x="1021" y="1299"/>
                      </a:lnTo>
                      <a:lnTo>
                        <a:pt x="960" y="1329"/>
                      </a:lnTo>
                      <a:lnTo>
                        <a:pt x="897" y="1352"/>
                      </a:lnTo>
                      <a:lnTo>
                        <a:pt x="830" y="1370"/>
                      </a:lnTo>
                      <a:lnTo>
                        <a:pt x="761" y="1380"/>
                      </a:lnTo>
                      <a:lnTo>
                        <a:pt x="691" y="1383"/>
                      </a:lnTo>
                      <a:lnTo>
                        <a:pt x="620" y="1380"/>
                      </a:lnTo>
                      <a:lnTo>
                        <a:pt x="551" y="1370"/>
                      </a:lnTo>
                      <a:lnTo>
                        <a:pt x="486" y="1352"/>
                      </a:lnTo>
                      <a:lnTo>
                        <a:pt x="422" y="1329"/>
                      </a:lnTo>
                      <a:lnTo>
                        <a:pt x="361" y="1299"/>
                      </a:lnTo>
                      <a:lnTo>
                        <a:pt x="305" y="1265"/>
                      </a:lnTo>
                      <a:lnTo>
                        <a:pt x="251" y="1226"/>
                      </a:lnTo>
                      <a:lnTo>
                        <a:pt x="202" y="1181"/>
                      </a:lnTo>
                      <a:lnTo>
                        <a:pt x="157" y="1131"/>
                      </a:lnTo>
                      <a:lnTo>
                        <a:pt x="118" y="1078"/>
                      </a:lnTo>
                      <a:lnTo>
                        <a:pt x="82" y="1022"/>
                      </a:lnTo>
                      <a:lnTo>
                        <a:pt x="54" y="961"/>
                      </a:lnTo>
                      <a:lnTo>
                        <a:pt x="31" y="897"/>
                      </a:lnTo>
                      <a:lnTo>
                        <a:pt x="13" y="831"/>
                      </a:lnTo>
                      <a:lnTo>
                        <a:pt x="3" y="761"/>
                      </a:lnTo>
                      <a:lnTo>
                        <a:pt x="0" y="691"/>
                      </a:lnTo>
                      <a:lnTo>
                        <a:pt x="3" y="621"/>
                      </a:lnTo>
                      <a:lnTo>
                        <a:pt x="13" y="552"/>
                      </a:lnTo>
                      <a:lnTo>
                        <a:pt x="31" y="486"/>
                      </a:lnTo>
                      <a:lnTo>
                        <a:pt x="54" y="423"/>
                      </a:lnTo>
                      <a:lnTo>
                        <a:pt x="82" y="362"/>
                      </a:lnTo>
                      <a:lnTo>
                        <a:pt x="118" y="305"/>
                      </a:lnTo>
                      <a:lnTo>
                        <a:pt x="157" y="251"/>
                      </a:lnTo>
                      <a:lnTo>
                        <a:pt x="202" y="203"/>
                      </a:lnTo>
                      <a:lnTo>
                        <a:pt x="251" y="158"/>
                      </a:lnTo>
                      <a:lnTo>
                        <a:pt x="305" y="119"/>
                      </a:lnTo>
                      <a:lnTo>
                        <a:pt x="361" y="83"/>
                      </a:lnTo>
                      <a:lnTo>
                        <a:pt x="422" y="54"/>
                      </a:lnTo>
                      <a:lnTo>
                        <a:pt x="486" y="31"/>
                      </a:lnTo>
                      <a:lnTo>
                        <a:pt x="551" y="14"/>
                      </a:lnTo>
                      <a:lnTo>
                        <a:pt x="620" y="4"/>
                      </a:lnTo>
                      <a:lnTo>
                        <a:pt x="691" y="0"/>
                      </a:lnTo>
                      <a:lnTo>
                        <a:pt x="711" y="0"/>
                      </a:lnTo>
                      <a:lnTo>
                        <a:pt x="733" y="1"/>
                      </a:lnTo>
                      <a:lnTo>
                        <a:pt x="754" y="2"/>
                      </a:lnTo>
                      <a:lnTo>
                        <a:pt x="775" y="5"/>
                      </a:lnTo>
                      <a:lnTo>
                        <a:pt x="794" y="8"/>
                      </a:lnTo>
                      <a:lnTo>
                        <a:pt x="815" y="12"/>
                      </a:lnTo>
                      <a:lnTo>
                        <a:pt x="836" y="15"/>
                      </a:lnTo>
                      <a:lnTo>
                        <a:pt x="855" y="20"/>
                      </a:lnTo>
                      <a:lnTo>
                        <a:pt x="875" y="25"/>
                      </a:lnTo>
                      <a:lnTo>
                        <a:pt x="895" y="31"/>
                      </a:lnTo>
                      <a:lnTo>
                        <a:pt x="914" y="37"/>
                      </a:lnTo>
                      <a:lnTo>
                        <a:pt x="933" y="44"/>
                      </a:lnTo>
                      <a:lnTo>
                        <a:pt x="952" y="51"/>
                      </a:lnTo>
                      <a:lnTo>
                        <a:pt x="971" y="59"/>
                      </a:lnTo>
                      <a:lnTo>
                        <a:pt x="988" y="67"/>
                      </a:lnTo>
                      <a:lnTo>
                        <a:pt x="1006" y="76"/>
                      </a:lnTo>
                      <a:lnTo>
                        <a:pt x="876" y="260"/>
                      </a:lnTo>
                      <a:close/>
                    </a:path>
                  </a:pathLst>
                </a:custGeom>
                <a:solidFill>
                  <a:srgbClr val="4b4e7a"/>
                </a:solidFill>
                <a:ln w="0">
                  <a:noFill/>
                </a:ln>
                <a:scene3d>
                  <a:camera prst="orthographicFront">
                    <a:rot lat="0" lon="0" rev="0"/>
                  </a:camera>
                  <a:lightRig dir="t" rig="contrasting">
                    <a:rot lat="0" lon="0" rev="7800000"/>
                  </a:lightRig>
                </a:scene3d>
                <a:sp3d>
                  <a:bevelT w="139700" h="1397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70" name="Freeform 7"/>
                <p:cNvSpPr/>
                <p:nvPr/>
              </p:nvSpPr>
              <p:spPr>
                <a:xfrm>
                  <a:off x="5304240" y="4015440"/>
                  <a:ext cx="497160" cy="586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586080"/>
                    <a:gd name="textAreaBottom" fmla="*/ 586440 h 586080"/>
                  </a:gdLst>
                  <a:ahLst/>
                  <a:rect l="textAreaLeft" t="textAreaTop" r="textAreaRight" b="textAreaBottom"/>
                  <a:pathLst>
                    <a:path w="1904" h="2252">
                      <a:moveTo>
                        <a:pt x="968" y="1746"/>
                      </a:moveTo>
                      <a:lnTo>
                        <a:pt x="939" y="1716"/>
                      </a:lnTo>
                      <a:lnTo>
                        <a:pt x="911" y="1685"/>
                      </a:lnTo>
                      <a:lnTo>
                        <a:pt x="887" y="1653"/>
                      </a:lnTo>
                      <a:lnTo>
                        <a:pt x="863" y="1620"/>
                      </a:lnTo>
                      <a:lnTo>
                        <a:pt x="842" y="1586"/>
                      </a:lnTo>
                      <a:lnTo>
                        <a:pt x="822" y="1553"/>
                      </a:lnTo>
                      <a:lnTo>
                        <a:pt x="804" y="1517"/>
                      </a:lnTo>
                      <a:lnTo>
                        <a:pt x="789" y="1481"/>
                      </a:lnTo>
                      <a:lnTo>
                        <a:pt x="775" y="1446"/>
                      </a:lnTo>
                      <a:lnTo>
                        <a:pt x="763" y="1409"/>
                      </a:lnTo>
                      <a:lnTo>
                        <a:pt x="752" y="1371"/>
                      </a:lnTo>
                      <a:lnTo>
                        <a:pt x="744" y="1332"/>
                      </a:lnTo>
                      <a:lnTo>
                        <a:pt x="737" y="1292"/>
                      </a:lnTo>
                      <a:lnTo>
                        <a:pt x="733" y="1252"/>
                      </a:lnTo>
                      <a:lnTo>
                        <a:pt x="730" y="1211"/>
                      </a:lnTo>
                      <a:lnTo>
                        <a:pt x="729" y="1169"/>
                      </a:lnTo>
                      <a:lnTo>
                        <a:pt x="730" y="1128"/>
                      </a:lnTo>
                      <a:lnTo>
                        <a:pt x="733" y="1086"/>
                      </a:lnTo>
                      <a:lnTo>
                        <a:pt x="737" y="1046"/>
                      </a:lnTo>
                      <a:lnTo>
                        <a:pt x="744" y="1007"/>
                      </a:lnTo>
                      <a:lnTo>
                        <a:pt x="752" y="969"/>
                      </a:lnTo>
                      <a:lnTo>
                        <a:pt x="763" y="931"/>
                      </a:lnTo>
                      <a:lnTo>
                        <a:pt x="775" y="894"/>
                      </a:lnTo>
                      <a:lnTo>
                        <a:pt x="789" y="857"/>
                      </a:lnTo>
                      <a:lnTo>
                        <a:pt x="804" y="821"/>
                      </a:lnTo>
                      <a:lnTo>
                        <a:pt x="822" y="787"/>
                      </a:lnTo>
                      <a:lnTo>
                        <a:pt x="842" y="752"/>
                      </a:lnTo>
                      <a:lnTo>
                        <a:pt x="863" y="719"/>
                      </a:lnTo>
                      <a:lnTo>
                        <a:pt x="887" y="687"/>
                      </a:lnTo>
                      <a:lnTo>
                        <a:pt x="911" y="654"/>
                      </a:lnTo>
                      <a:lnTo>
                        <a:pt x="939" y="623"/>
                      </a:lnTo>
                      <a:lnTo>
                        <a:pt x="968" y="593"/>
                      </a:lnTo>
                      <a:lnTo>
                        <a:pt x="998" y="564"/>
                      </a:lnTo>
                      <a:lnTo>
                        <a:pt x="1029" y="537"/>
                      </a:lnTo>
                      <a:lnTo>
                        <a:pt x="1061" y="513"/>
                      </a:lnTo>
                      <a:lnTo>
                        <a:pt x="1093" y="488"/>
                      </a:lnTo>
                      <a:lnTo>
                        <a:pt x="1127" y="468"/>
                      </a:lnTo>
                      <a:lnTo>
                        <a:pt x="1161" y="448"/>
                      </a:lnTo>
                      <a:lnTo>
                        <a:pt x="1196" y="430"/>
                      </a:lnTo>
                      <a:lnTo>
                        <a:pt x="1231" y="415"/>
                      </a:lnTo>
                      <a:lnTo>
                        <a:pt x="1268" y="401"/>
                      </a:lnTo>
                      <a:lnTo>
                        <a:pt x="1305" y="388"/>
                      </a:lnTo>
                      <a:lnTo>
                        <a:pt x="1343" y="378"/>
                      </a:lnTo>
                      <a:lnTo>
                        <a:pt x="1381" y="370"/>
                      </a:lnTo>
                      <a:lnTo>
                        <a:pt x="1420" y="363"/>
                      </a:lnTo>
                      <a:lnTo>
                        <a:pt x="1461" y="358"/>
                      </a:lnTo>
                      <a:lnTo>
                        <a:pt x="1502" y="356"/>
                      </a:lnTo>
                      <a:lnTo>
                        <a:pt x="1544" y="355"/>
                      </a:lnTo>
                      <a:lnTo>
                        <a:pt x="1568" y="355"/>
                      </a:lnTo>
                      <a:lnTo>
                        <a:pt x="1592" y="356"/>
                      </a:lnTo>
                      <a:lnTo>
                        <a:pt x="1616" y="357"/>
                      </a:lnTo>
                      <a:lnTo>
                        <a:pt x="1640" y="359"/>
                      </a:lnTo>
                      <a:lnTo>
                        <a:pt x="1663" y="363"/>
                      </a:lnTo>
                      <a:lnTo>
                        <a:pt x="1686" y="366"/>
                      </a:lnTo>
                      <a:lnTo>
                        <a:pt x="1709" y="370"/>
                      </a:lnTo>
                      <a:lnTo>
                        <a:pt x="1733" y="374"/>
                      </a:lnTo>
                      <a:lnTo>
                        <a:pt x="1754" y="380"/>
                      </a:lnTo>
                      <a:lnTo>
                        <a:pt x="1776" y="386"/>
                      </a:lnTo>
                      <a:lnTo>
                        <a:pt x="1798" y="393"/>
                      </a:lnTo>
                      <a:lnTo>
                        <a:pt x="1820" y="400"/>
                      </a:lnTo>
                      <a:lnTo>
                        <a:pt x="1842" y="408"/>
                      </a:lnTo>
                      <a:lnTo>
                        <a:pt x="1863" y="416"/>
                      </a:lnTo>
                      <a:lnTo>
                        <a:pt x="1883" y="425"/>
                      </a:lnTo>
                      <a:lnTo>
                        <a:pt x="1904" y="435"/>
                      </a:lnTo>
                      <a:lnTo>
                        <a:pt x="1824" y="0"/>
                      </a:lnTo>
                      <a:lnTo>
                        <a:pt x="1815" y="1"/>
                      </a:lnTo>
                      <a:lnTo>
                        <a:pt x="1809" y="2"/>
                      </a:lnTo>
                      <a:lnTo>
                        <a:pt x="1800" y="3"/>
                      </a:lnTo>
                      <a:lnTo>
                        <a:pt x="1794" y="5"/>
                      </a:lnTo>
                      <a:lnTo>
                        <a:pt x="1786" y="6"/>
                      </a:lnTo>
                      <a:lnTo>
                        <a:pt x="1777" y="7"/>
                      </a:lnTo>
                      <a:lnTo>
                        <a:pt x="1771" y="9"/>
                      </a:lnTo>
                      <a:lnTo>
                        <a:pt x="1762" y="10"/>
                      </a:lnTo>
                      <a:lnTo>
                        <a:pt x="1715" y="22"/>
                      </a:lnTo>
                      <a:lnTo>
                        <a:pt x="1669" y="33"/>
                      </a:lnTo>
                      <a:lnTo>
                        <a:pt x="1623" y="46"/>
                      </a:lnTo>
                      <a:lnTo>
                        <a:pt x="1578" y="59"/>
                      </a:lnTo>
                      <a:lnTo>
                        <a:pt x="1534" y="73"/>
                      </a:lnTo>
                      <a:lnTo>
                        <a:pt x="1491" y="88"/>
                      </a:lnTo>
                      <a:lnTo>
                        <a:pt x="1448" y="103"/>
                      </a:lnTo>
                      <a:lnTo>
                        <a:pt x="1407" y="117"/>
                      </a:lnTo>
                      <a:lnTo>
                        <a:pt x="1365" y="134"/>
                      </a:lnTo>
                      <a:lnTo>
                        <a:pt x="1325" y="150"/>
                      </a:lnTo>
                      <a:lnTo>
                        <a:pt x="1284" y="167"/>
                      </a:lnTo>
                      <a:lnTo>
                        <a:pt x="1245" y="185"/>
                      </a:lnTo>
                      <a:lnTo>
                        <a:pt x="1206" y="203"/>
                      </a:lnTo>
                      <a:lnTo>
                        <a:pt x="1168" y="222"/>
                      </a:lnTo>
                      <a:lnTo>
                        <a:pt x="1130" y="241"/>
                      </a:lnTo>
                      <a:lnTo>
                        <a:pt x="1094" y="260"/>
                      </a:lnTo>
                      <a:lnTo>
                        <a:pt x="1057" y="281"/>
                      </a:lnTo>
                      <a:lnTo>
                        <a:pt x="1022" y="302"/>
                      </a:lnTo>
                      <a:lnTo>
                        <a:pt x="987" y="323"/>
                      </a:lnTo>
                      <a:lnTo>
                        <a:pt x="953" y="344"/>
                      </a:lnTo>
                      <a:lnTo>
                        <a:pt x="918" y="366"/>
                      </a:lnTo>
                      <a:lnTo>
                        <a:pt x="885" y="389"/>
                      </a:lnTo>
                      <a:lnTo>
                        <a:pt x="852" y="412"/>
                      </a:lnTo>
                      <a:lnTo>
                        <a:pt x="820" y="435"/>
                      </a:lnTo>
                      <a:lnTo>
                        <a:pt x="788" y="460"/>
                      </a:lnTo>
                      <a:lnTo>
                        <a:pt x="757" y="484"/>
                      </a:lnTo>
                      <a:lnTo>
                        <a:pt x="727" y="508"/>
                      </a:lnTo>
                      <a:lnTo>
                        <a:pt x="696" y="533"/>
                      </a:lnTo>
                      <a:lnTo>
                        <a:pt x="667" y="559"/>
                      </a:lnTo>
                      <a:lnTo>
                        <a:pt x="637" y="585"/>
                      </a:lnTo>
                      <a:lnTo>
                        <a:pt x="608" y="612"/>
                      </a:lnTo>
                      <a:lnTo>
                        <a:pt x="581" y="638"/>
                      </a:lnTo>
                      <a:lnTo>
                        <a:pt x="537" y="682"/>
                      </a:lnTo>
                      <a:lnTo>
                        <a:pt x="493" y="726"/>
                      </a:lnTo>
                      <a:lnTo>
                        <a:pt x="452" y="772"/>
                      </a:lnTo>
                      <a:lnTo>
                        <a:pt x="411" y="818"/>
                      </a:lnTo>
                      <a:lnTo>
                        <a:pt x="372" y="864"/>
                      </a:lnTo>
                      <a:lnTo>
                        <a:pt x="333" y="912"/>
                      </a:lnTo>
                      <a:lnTo>
                        <a:pt x="296" y="961"/>
                      </a:lnTo>
                      <a:lnTo>
                        <a:pt x="259" y="1009"/>
                      </a:lnTo>
                      <a:lnTo>
                        <a:pt x="225" y="1060"/>
                      </a:lnTo>
                      <a:lnTo>
                        <a:pt x="190" y="1110"/>
                      </a:lnTo>
                      <a:lnTo>
                        <a:pt x="156" y="1161"/>
                      </a:lnTo>
                      <a:lnTo>
                        <a:pt x="123" y="1213"/>
                      </a:lnTo>
                      <a:lnTo>
                        <a:pt x="91" y="1266"/>
                      </a:lnTo>
                      <a:lnTo>
                        <a:pt x="60" y="1319"/>
                      </a:lnTo>
                      <a:lnTo>
                        <a:pt x="30" y="1372"/>
                      </a:lnTo>
                      <a:lnTo>
                        <a:pt x="0" y="1426"/>
                      </a:lnTo>
                      <a:lnTo>
                        <a:pt x="1419" y="2252"/>
                      </a:lnTo>
                      <a:lnTo>
                        <a:pt x="1431" y="2232"/>
                      </a:lnTo>
                      <a:lnTo>
                        <a:pt x="1441" y="2214"/>
                      </a:lnTo>
                      <a:lnTo>
                        <a:pt x="1454" y="2196"/>
                      </a:lnTo>
                      <a:lnTo>
                        <a:pt x="1465" y="2177"/>
                      </a:lnTo>
                      <a:lnTo>
                        <a:pt x="1478" y="2159"/>
                      </a:lnTo>
                      <a:lnTo>
                        <a:pt x="1491" y="2141"/>
                      </a:lnTo>
                      <a:lnTo>
                        <a:pt x="1504" y="2124"/>
                      </a:lnTo>
                      <a:lnTo>
                        <a:pt x="1518" y="2107"/>
                      </a:lnTo>
                      <a:lnTo>
                        <a:pt x="1532" y="2090"/>
                      </a:lnTo>
                      <a:lnTo>
                        <a:pt x="1547" y="2073"/>
                      </a:lnTo>
                      <a:lnTo>
                        <a:pt x="1561" y="2056"/>
                      </a:lnTo>
                      <a:lnTo>
                        <a:pt x="1577" y="2041"/>
                      </a:lnTo>
                      <a:lnTo>
                        <a:pt x="1592" y="2025"/>
                      </a:lnTo>
                      <a:lnTo>
                        <a:pt x="1608" y="2010"/>
                      </a:lnTo>
                      <a:lnTo>
                        <a:pt x="1624" y="1995"/>
                      </a:lnTo>
                      <a:lnTo>
                        <a:pt x="1640" y="1980"/>
                      </a:lnTo>
                      <a:lnTo>
                        <a:pt x="1629" y="1981"/>
                      </a:lnTo>
                      <a:lnTo>
                        <a:pt x="1617" y="1982"/>
                      </a:lnTo>
                      <a:lnTo>
                        <a:pt x="1605" y="1984"/>
                      </a:lnTo>
                      <a:lnTo>
                        <a:pt x="1593" y="1984"/>
                      </a:lnTo>
                      <a:lnTo>
                        <a:pt x="1580" y="1985"/>
                      </a:lnTo>
                      <a:lnTo>
                        <a:pt x="1569" y="1985"/>
                      </a:lnTo>
                      <a:lnTo>
                        <a:pt x="1556" y="1985"/>
                      </a:lnTo>
                      <a:lnTo>
                        <a:pt x="1544" y="1985"/>
                      </a:lnTo>
                      <a:lnTo>
                        <a:pt x="1502" y="1984"/>
                      </a:lnTo>
                      <a:lnTo>
                        <a:pt x="1461" y="1981"/>
                      </a:lnTo>
                      <a:lnTo>
                        <a:pt x="1420" y="1977"/>
                      </a:lnTo>
                      <a:lnTo>
                        <a:pt x="1381" y="1970"/>
                      </a:lnTo>
                      <a:lnTo>
                        <a:pt x="1343" y="1962"/>
                      </a:lnTo>
                      <a:lnTo>
                        <a:pt x="1305" y="1951"/>
                      </a:lnTo>
                      <a:lnTo>
                        <a:pt x="1268" y="1939"/>
                      </a:lnTo>
                      <a:lnTo>
                        <a:pt x="1231" y="1925"/>
                      </a:lnTo>
                      <a:lnTo>
                        <a:pt x="1196" y="1910"/>
                      </a:lnTo>
                      <a:lnTo>
                        <a:pt x="1161" y="1891"/>
                      </a:lnTo>
                      <a:lnTo>
                        <a:pt x="1127" y="1872"/>
                      </a:lnTo>
                      <a:lnTo>
                        <a:pt x="1093" y="1851"/>
                      </a:lnTo>
                      <a:lnTo>
                        <a:pt x="1061" y="1827"/>
                      </a:lnTo>
                      <a:lnTo>
                        <a:pt x="1029" y="1803"/>
                      </a:lnTo>
                      <a:lnTo>
                        <a:pt x="998" y="1775"/>
                      </a:lnTo>
                      <a:lnTo>
                        <a:pt x="968" y="1746"/>
                      </a:lnTo>
                      <a:close/>
                    </a:path>
                  </a:pathLst>
                </a:cu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  <a:effectLst>
                  <a:outerShdw algn="ctr" blurRad="44280" dir="5400000" dist="28080">
                    <a:srgbClr val="000000">
                      <a:alpha val="32000"/>
                    </a:srgbClr>
                  </a:outerShdw>
                </a:effectLst>
                <a:scene3d>
                  <a:camera prst="orthographicFront">
                    <a:rot lat="0" lon="0" rev="0"/>
                  </a:camera>
                  <a:lightRig dir="t" rig="balanced">
                    <a:rot lat="0" lon="0" rev="8700000"/>
                  </a:lightRig>
                </a:scene3d>
                <a:sp3d>
                  <a:bevelT w="1905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171" name="组合 54"/>
            <p:cNvGrpSpPr/>
            <p:nvPr/>
          </p:nvGrpSpPr>
          <p:grpSpPr>
            <a:xfrm>
              <a:off x="6584400" y="3294360"/>
              <a:ext cx="586440" cy="586080"/>
              <a:chOff x="6584400" y="3294360"/>
              <a:chExt cx="586440" cy="586080"/>
            </a:xfrm>
          </p:grpSpPr>
          <p:sp>
            <p:nvSpPr>
              <p:cNvPr id="172" name="AutoShape 4"/>
              <p:cNvSpPr/>
              <p:nvPr/>
            </p:nvSpPr>
            <p:spPr>
              <a:xfrm>
                <a:off x="6584400" y="329436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6809400" y="341856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584400" y="329436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5" name="组合 55"/>
            <p:cNvGrpSpPr/>
            <p:nvPr/>
          </p:nvGrpSpPr>
          <p:grpSpPr>
            <a:xfrm>
              <a:off x="6877800" y="3646080"/>
              <a:ext cx="586080" cy="586080"/>
              <a:chOff x="6877800" y="3646080"/>
              <a:chExt cx="586080" cy="586080"/>
            </a:xfrm>
          </p:grpSpPr>
          <p:sp>
            <p:nvSpPr>
              <p:cNvPr id="176" name="AutoShape 4"/>
              <p:cNvSpPr/>
              <p:nvPr/>
            </p:nvSpPr>
            <p:spPr>
              <a:xfrm>
                <a:off x="6877800" y="364608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7102440" y="377064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6877800" y="364608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9" name="组合 56"/>
            <p:cNvGrpSpPr/>
            <p:nvPr/>
          </p:nvGrpSpPr>
          <p:grpSpPr>
            <a:xfrm>
              <a:off x="6437880" y="4056840"/>
              <a:ext cx="586080" cy="586080"/>
              <a:chOff x="6437880" y="4056840"/>
              <a:chExt cx="586080" cy="586080"/>
            </a:xfrm>
          </p:grpSpPr>
          <p:sp>
            <p:nvSpPr>
              <p:cNvPr id="180" name="AutoShape 4"/>
              <p:cNvSpPr/>
              <p:nvPr/>
            </p:nvSpPr>
            <p:spPr>
              <a:xfrm>
                <a:off x="6437880" y="405684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1" name="Freeform 6"/>
              <p:cNvSpPr/>
              <p:nvPr/>
            </p:nvSpPr>
            <p:spPr>
              <a:xfrm>
                <a:off x="6662520" y="418104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2" name="Freeform 7"/>
              <p:cNvSpPr/>
              <p:nvPr/>
            </p:nvSpPr>
            <p:spPr>
              <a:xfrm>
                <a:off x="6437880" y="405684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83" name="组合 67"/>
            <p:cNvGrpSpPr/>
            <p:nvPr/>
          </p:nvGrpSpPr>
          <p:grpSpPr>
            <a:xfrm>
              <a:off x="5884560" y="3177000"/>
              <a:ext cx="586080" cy="586080"/>
              <a:chOff x="5884560" y="3177000"/>
              <a:chExt cx="586080" cy="586080"/>
            </a:xfrm>
          </p:grpSpPr>
          <p:sp>
            <p:nvSpPr>
              <p:cNvPr id="184" name="AutoShape 4"/>
              <p:cNvSpPr/>
              <p:nvPr/>
            </p:nvSpPr>
            <p:spPr>
              <a:xfrm>
                <a:off x="5884560" y="317700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5" name="Freeform 6"/>
              <p:cNvSpPr/>
              <p:nvPr/>
            </p:nvSpPr>
            <p:spPr>
              <a:xfrm>
                <a:off x="6109200" y="330156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6" name="Freeform 7"/>
              <p:cNvSpPr/>
              <p:nvPr/>
            </p:nvSpPr>
            <p:spPr>
              <a:xfrm>
                <a:off x="5884560" y="317700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87" name="圆角矩形标注 79"/>
          <p:cNvSpPr/>
          <p:nvPr/>
        </p:nvSpPr>
        <p:spPr>
          <a:xfrm>
            <a:off x="5304240" y="2061000"/>
            <a:ext cx="2867760" cy="910440"/>
          </a:xfrm>
          <a:prstGeom prst="wedgeRoundRectCallout">
            <a:avLst>
              <a:gd name="adj1" fmla="val 4545"/>
              <a:gd name="adj2" fmla="val 78292"/>
              <a:gd name="adj3" fmla="val 16667"/>
            </a:avLst>
          </a:prstGeom>
          <a:solidFill>
            <a:srgbClr val="4b4e7a"/>
          </a:solidFill>
          <a:ln>
            <a:solidFill>
              <a:srgbClr val="004292"/>
            </a:solidFill>
            <a:prstDash val="sys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找准一个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动辄有数倍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0"/>
          <p:cNvSpPr/>
          <p:nvPr/>
        </p:nvSpPr>
        <p:spPr>
          <a:xfrm>
            <a:off x="287640" y="4725000"/>
            <a:ext cx="8748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由于做实业过于辛苦，很多制造业出身的企业家也不愿意子女从事制造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7"/>
          <p:cNvGrpSpPr/>
          <p:nvPr/>
        </p:nvGrpSpPr>
        <p:grpSpPr>
          <a:xfrm>
            <a:off x="1707480" y="6334920"/>
            <a:ext cx="5316480" cy="454680"/>
            <a:chOff x="1707480" y="6334920"/>
            <a:chExt cx="5316480" cy="454680"/>
          </a:xfrm>
        </p:grpSpPr>
        <p:sp>
          <p:nvSpPr>
            <p:cNvPr id="190" name="流程图: 可选过程 6"/>
            <p:cNvSpPr/>
            <p:nvPr/>
          </p:nvSpPr>
          <p:spPr>
            <a:xfrm>
              <a:off x="1741320" y="6417360"/>
              <a:ext cx="5282640" cy="296280"/>
            </a:xfrm>
            <a:prstGeom prst="flowChartAlternateProcess">
              <a:avLst/>
            </a:prstGeom>
            <a:solidFill>
              <a:srgbClr val="f3f3f3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TextBox 81"/>
            <p:cNvSpPr/>
            <p:nvPr/>
          </p:nvSpPr>
          <p:spPr>
            <a:xfrm>
              <a:off x="1707480" y="6334920"/>
              <a:ext cx="531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数据来源：投资界 </a:t>
              </a:r>
              <a:r>
                <a:rPr b="0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｜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 经济观察网 </a:t>
              </a:r>
              <a:r>
                <a:rPr b="0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｜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法治周末 </a:t>
              </a:r>
              <a:r>
                <a:rPr b="0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｜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1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世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theme/theme1.xml><?xml version="1.0" encoding="utf-8"?>
<a:theme xmlns:a="http://schemas.openxmlformats.org/drawingml/2006/main" name="1_默认设计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2</TotalTime>
  <Application>LibreOffice/7.4.7.2$Linux_X86_64 LibreOffice_project/40$Build-2</Application>
  <AppVersion>15.0000</AppVersion>
  <Words>639</Words>
  <Paragraphs>73</Paragraphs>
  <Company>Grea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腾讯财经</cp:category>
  <dcterms:created xsi:type="dcterms:W3CDTF">2011-03-01T03:06:40Z</dcterms:created>
  <dc:creator>袁健</dc:creator>
  <dc:description/>
  <dc:language>en-US</dc:language>
  <cp:lastModifiedBy>王玉清</cp:lastModifiedBy>
  <dcterms:modified xsi:type="dcterms:W3CDTF">2016-02-15T04:43:06Z</dcterms:modified>
  <cp:revision>4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  <property fmtid="{D5CDD505-2E9C-101B-9397-08002B2CF9AE}" pid="6" name="Notes">
    <vt:r8>7</vt:r8>
  </property>
  <property fmtid="{D5CDD505-2E9C-101B-9397-08002B2CF9AE}" pid="7" name="PresentationFormat">
    <vt:lpwstr>全屏显示(4:3)</vt:lpwstr>
  </property>
  <property fmtid="{D5CDD505-2E9C-101B-9397-08002B2CF9AE}" pid="8" name="Slides">
    <vt:r8>7</vt:r8>
  </property>
</Properties>
</file>