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0D3-FB82-4DF6-AD9A-77E22AAC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DE27-B35D-4A7C-9B92-1838EECC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305-A136-4A41-A99C-EC0FF39C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B9C-89D5-4533-A5CE-C6D4650F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E586-B759-4B55-B8F8-034365B5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A8A-CA56-4DCE-9F8E-4DF9C713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AAE-85AA-4FE7-953E-0348F1B5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B283-2D0A-4882-8CE7-902F5667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20B-ACE9-4408-B082-15C9E843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0ACE-F4CB-4BA9-9804-40B6C506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381E-3606-46C1-AAD6-F2EDAE59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35B-2AB1-435C-9D34-318B9034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2459-15FD-4B0D-82EE-8EC6DDA160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103"/>
          <p:cNvSpPr/>
          <p:nvPr/>
        </p:nvSpPr>
        <p:spPr>
          <a:xfrm>
            <a:off x="-9360" y="0"/>
            <a:ext cx="3719520" cy="3720960"/>
          </a:xfrm>
          <a:custGeom>
            <a:avLst/>
            <a:gdLst>
              <a:gd name="textAreaLeft" fmla="*/ 0 w 3719520"/>
              <a:gd name="textAreaRight" fmla="*/ 3719880 w 3719520"/>
              <a:gd name="textAreaTop" fmla="*/ 0 h 3720960"/>
              <a:gd name="textAreaBottom" fmla="*/ 3721320 h 372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6bb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06"/>
          <p:cNvSpPr/>
          <p:nvPr/>
        </p:nvSpPr>
        <p:spPr>
          <a:xfrm>
            <a:off x="-20520" y="-27000"/>
            <a:ext cx="5892840" cy="5905440"/>
          </a:xfrm>
          <a:custGeom>
            <a:avLst/>
            <a:gdLst>
              <a:gd name="textAreaLeft" fmla="*/ 0 w 5892840"/>
              <a:gd name="textAreaRight" fmla="*/ 5893200 w 5892840"/>
              <a:gd name="textAreaTop" fmla="*/ 0 h 5905440"/>
              <a:gd name="textAreaBottom" fmla="*/ 5905800 h 5905440"/>
            </a:gdLst>
            <a:ahLst/>
            <a:rect l="textAreaLeft" t="textAreaTop" r="textAreaRight" b="textAreaBottom"/>
            <a:pathLst>
              <a:path w="21600" h="21600">
                <a:moveTo>
                  <a:pt x="14058" y="0"/>
                </a:moveTo>
                <a:lnTo>
                  <a:pt x="0" y="14028"/>
                </a:lnTo>
                <a:lnTo>
                  <a:pt x="0" y="21600"/>
                </a:lnTo>
                <a:lnTo>
                  <a:pt x="21600" y="48"/>
                </a:lnTo>
                <a:lnTo>
                  <a:pt x="14058" y="0"/>
                </a:lnTo>
                <a:close/>
              </a:path>
            </a:pathLst>
          </a:custGeom>
          <a:solidFill>
            <a:srgbClr val="3b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08"/>
          <p:cNvSpPr/>
          <p:nvPr/>
        </p:nvSpPr>
        <p:spPr>
          <a:xfrm>
            <a:off x="-54000" y="-39600"/>
            <a:ext cx="9207360" cy="6985080"/>
          </a:xfrm>
          <a:custGeom>
            <a:avLst/>
            <a:gdLst>
              <a:gd name="textAreaLeft" fmla="*/ 0 w 9207360"/>
              <a:gd name="textAreaRight" fmla="*/ 9207720 w 9207360"/>
              <a:gd name="textAreaTop" fmla="*/ 0 h 6985080"/>
              <a:gd name="textAreaBottom" fmla="*/ 6985440 h 6985080"/>
            </a:gdLst>
            <a:ahLst/>
            <a:rect l="textAreaLeft" t="textAreaTop" r="textAreaRight" b="textAreaBottom"/>
            <a:pathLst>
              <a:path w="21600" h="21600">
                <a:moveTo>
                  <a:pt x="14092" y="39"/>
                </a:moveTo>
                <a:lnTo>
                  <a:pt x="0" y="18615"/>
                </a:ln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14092" y="39"/>
                </a:lnTo>
                <a:close/>
              </a:path>
            </a:pathLst>
          </a:custGeom>
          <a:solidFill>
            <a:srgbClr val="db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三角箭头2 123"/>
          <p:cNvSpPr/>
          <p:nvPr/>
        </p:nvSpPr>
        <p:spPr>
          <a:xfrm>
            <a:off x="1042920" y="549360"/>
            <a:ext cx="432000" cy="576000"/>
          </a:xfrm>
          <a:custGeom>
            <a:avLst/>
            <a:gdLst>
              <a:gd name="textAreaLeft" fmla="*/ 0 w 432000"/>
              <a:gd name="textAreaRight" fmla="*/ 432360 w 43200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1360" h="1362">
                <a:moveTo>
                  <a:pt x="0" y="0"/>
                </a:moveTo>
                <a:lnTo>
                  <a:pt x="1360" y="680"/>
                </a:lnTo>
                <a:lnTo>
                  <a:pt x="0" y="1362"/>
                </a:lnTo>
                <a:lnTo>
                  <a:pt x="0" y="766"/>
                </a:lnTo>
                <a:lnTo>
                  <a:pt x="340" y="766"/>
                </a:lnTo>
                <a:lnTo>
                  <a:pt x="340" y="953"/>
                </a:lnTo>
                <a:lnTo>
                  <a:pt x="880" y="680"/>
                </a:lnTo>
                <a:lnTo>
                  <a:pt x="340" y="409"/>
                </a:lnTo>
                <a:lnTo>
                  <a:pt x="340" y="596"/>
                </a:lnTo>
                <a:lnTo>
                  <a:pt x="0" y="59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三角箭头2 123"/>
          <p:cNvSpPr/>
          <p:nvPr/>
        </p:nvSpPr>
        <p:spPr>
          <a:xfrm>
            <a:off x="2700360" y="1486080"/>
            <a:ext cx="431640" cy="574560"/>
          </a:xfrm>
          <a:custGeom>
            <a:avLst/>
            <a:gdLst>
              <a:gd name="textAreaLeft" fmla="*/ 0 w 431640"/>
              <a:gd name="textAreaRight" fmla="*/ 432000 w 43164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360" h="1362">
                <a:moveTo>
                  <a:pt x="0" y="0"/>
                </a:moveTo>
                <a:lnTo>
                  <a:pt x="1360" y="680"/>
                </a:lnTo>
                <a:lnTo>
                  <a:pt x="0" y="1362"/>
                </a:lnTo>
                <a:lnTo>
                  <a:pt x="0" y="766"/>
                </a:lnTo>
                <a:lnTo>
                  <a:pt x="340" y="766"/>
                </a:lnTo>
                <a:lnTo>
                  <a:pt x="340" y="953"/>
                </a:lnTo>
                <a:lnTo>
                  <a:pt x="880" y="680"/>
                </a:lnTo>
                <a:lnTo>
                  <a:pt x="340" y="409"/>
                </a:lnTo>
                <a:lnTo>
                  <a:pt x="340" y="596"/>
                </a:lnTo>
                <a:lnTo>
                  <a:pt x="0" y="59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797120" y="3068640"/>
            <a:ext cx="624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三色扁平时尚商务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小人3 184"/>
          <p:cNvSpPr/>
          <p:nvPr/>
        </p:nvSpPr>
        <p:spPr>
          <a:xfrm rot="10800000">
            <a:off x="7812000" y="549360"/>
            <a:ext cx="433440" cy="107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小人2 185"/>
          <p:cNvSpPr/>
          <p:nvPr/>
        </p:nvSpPr>
        <p:spPr>
          <a:xfrm>
            <a:off x="2124000" y="5157720"/>
            <a:ext cx="505080" cy="1079640"/>
          </a:xfrm>
          <a:custGeom>
            <a:avLst/>
            <a:gdLst>
              <a:gd name="textAreaLeft" fmla="*/ 0 w 505080"/>
              <a:gd name="textAreaRight" fmla="*/ 505440 w 5050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2556000" y="4076640"/>
            <a:ext cx="1295280" cy="11527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50000">
                <a:srgbClr val="db4453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 rot="10740000">
            <a:off x="6587640" y="1628280"/>
            <a:ext cx="1297080" cy="11527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50000">
                <a:srgbClr val="db4453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565200" y="-12600"/>
            <a:ext cx="8624880" cy="6921360"/>
            <a:chOff x="565200" y="-12600"/>
            <a:chExt cx="8624880" cy="6921360"/>
          </a:xfrm>
        </p:grpSpPr>
        <p:pic>
          <p:nvPicPr>
            <p:cNvPr id="53" name="Picture 3" descr="11"/>
            <p:cNvPicPr/>
            <p:nvPr/>
          </p:nvPicPr>
          <p:blipFill>
            <a:blip r:embed="rId1"/>
            <a:stretch/>
          </p:blipFill>
          <p:spPr>
            <a:xfrm>
              <a:off x="621000" y="-1440"/>
              <a:ext cx="8545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任意多边形 27"/>
            <p:cNvSpPr/>
            <p:nvPr/>
          </p:nvSpPr>
          <p:spPr>
            <a:xfrm>
              <a:off x="565200" y="-12600"/>
              <a:ext cx="5557320" cy="6921360"/>
            </a:xfrm>
            <a:custGeom>
              <a:avLst/>
              <a:gdLst>
                <a:gd name="textAreaLeft" fmla="*/ 0 w 5557320"/>
                <a:gd name="textAreaRight" fmla="*/ 5557680 w 5557320"/>
                <a:gd name="textAreaTop" fmla="*/ 0 h 6921360"/>
                <a:gd name="textAreaBottom" fmla="*/ 6921720 h 692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15588" y="0"/>
                  </a:lnTo>
                  <a:lnTo>
                    <a:pt x="21600" y="0"/>
                  </a:lnTo>
                  <a:lnTo>
                    <a:pt x="6044" y="21554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6bb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27"/>
            <p:cNvSpPr/>
            <p:nvPr/>
          </p:nvSpPr>
          <p:spPr>
            <a:xfrm>
              <a:off x="2121480" y="-12600"/>
              <a:ext cx="5537160" cy="6921360"/>
            </a:xfrm>
            <a:custGeom>
              <a:avLst/>
              <a:gdLst>
                <a:gd name="textAreaLeft" fmla="*/ 0 w 5537160"/>
                <a:gd name="textAreaRight" fmla="*/ 5537520 w 5537160"/>
                <a:gd name="textAreaTop" fmla="*/ 0 h 6921360"/>
                <a:gd name="textAreaBottom" fmla="*/ 6921720 h 692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15588" y="0"/>
                  </a:lnTo>
                  <a:lnTo>
                    <a:pt x="21600" y="0"/>
                  </a:lnTo>
                  <a:lnTo>
                    <a:pt x="6044" y="21554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3bae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27"/>
            <p:cNvSpPr/>
            <p:nvPr/>
          </p:nvSpPr>
          <p:spPr>
            <a:xfrm>
              <a:off x="3621240" y="-12600"/>
              <a:ext cx="5568840" cy="6921360"/>
            </a:xfrm>
            <a:custGeom>
              <a:avLst/>
              <a:gdLst>
                <a:gd name="textAreaLeft" fmla="*/ 0 w 5568840"/>
                <a:gd name="textAreaRight" fmla="*/ 5569200 w 5568840"/>
                <a:gd name="textAreaTop" fmla="*/ 0 h 6921360"/>
                <a:gd name="textAreaBottom" fmla="*/ 6921720 h 692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15588" y="0"/>
                  </a:lnTo>
                  <a:lnTo>
                    <a:pt x="21600" y="0"/>
                  </a:lnTo>
                  <a:lnTo>
                    <a:pt x="6044" y="21554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db44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Line 7"/>
          <p:cNvSpPr/>
          <p:nvPr/>
        </p:nvSpPr>
        <p:spPr>
          <a:xfrm>
            <a:off x="1187280" y="2060640"/>
            <a:ext cx="2016360" cy="14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971640" y="549360"/>
            <a:ext cx="11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835280" y="1079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349280" y="2133720"/>
            <a:ext cx="16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373560" y="1379520"/>
            <a:ext cx="156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1d22f"/>
                </a:solidFill>
                <a:latin typeface="Times New Roman"/>
              </a:rPr>
              <a:t>0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960800" y="1366920"/>
            <a:ext cx="156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1ced1"/>
                </a:solidFill>
                <a:latin typeface="Times New Roman"/>
              </a:rPr>
              <a:t>0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485040" y="1362240"/>
            <a:ext cx="156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14444"/>
                </a:solidFill>
                <a:latin typeface="Times New Roman"/>
              </a:rPr>
              <a:t>0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 rot="18000000">
            <a:off x="2542320" y="3102480"/>
            <a:ext cx="18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 rot="18000000">
            <a:off x="3951720" y="3102480"/>
            <a:ext cx="18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 rot="18000000">
            <a:off x="5437800" y="3102480"/>
            <a:ext cx="18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任意多边形 96"/>
          <p:cNvSpPr/>
          <p:nvPr/>
        </p:nvSpPr>
        <p:spPr>
          <a:xfrm>
            <a:off x="0" y="-7920"/>
            <a:ext cx="5892840" cy="6918480"/>
          </a:xfrm>
          <a:custGeom>
            <a:avLst/>
            <a:gdLst>
              <a:gd name="textAreaLeft" fmla="*/ 0 w 5892840"/>
              <a:gd name="textAreaRight" fmla="*/ 5893200 w 5892840"/>
              <a:gd name="textAreaTop" fmla="*/ 0 h 6918480"/>
              <a:gd name="textAreaBottom" fmla="*/ 6918840 h 6918480"/>
            </a:gdLst>
            <a:ahLst/>
            <a:rect l="textAreaLeft" t="textAreaTop" r="textAreaRight" b="textAreaBottom"/>
            <a:pathLst>
              <a:path w="21600" h="21600">
                <a:moveTo>
                  <a:pt x="0" y="21520"/>
                </a:moveTo>
                <a:lnTo>
                  <a:pt x="0" y="15176"/>
                </a:lnTo>
                <a:lnTo>
                  <a:pt x="10999" y="0"/>
                </a:lnTo>
                <a:lnTo>
                  <a:pt x="21600" y="0"/>
                </a:lnTo>
                <a:lnTo>
                  <a:pt x="21600" y="21600"/>
                </a:lnTo>
                <a:lnTo>
                  <a:pt x="0" y="21520"/>
                </a:lnTo>
                <a:close/>
              </a:path>
            </a:pathLst>
          </a:custGeom>
          <a:solidFill>
            <a:srgbClr val="404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37"/>
          <p:cNvSpPr/>
          <p:nvPr/>
        </p:nvSpPr>
        <p:spPr>
          <a:xfrm>
            <a:off x="5878440" y="-17640"/>
            <a:ext cx="3265560" cy="6939000"/>
          </a:xfrm>
          <a:custGeom>
            <a:avLst/>
            <a:gdLst>
              <a:gd name="textAreaLeft" fmla="*/ 0 w 3265560"/>
              <a:gd name="textAreaRight" fmla="*/ 3265920 w 3265560"/>
              <a:gd name="textAreaTop" fmla="*/ 0 h 6939000"/>
              <a:gd name="textAreaBottom" fmla="*/ 6939360 h 693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3"/>
                </a:lnTo>
                <a:lnTo>
                  <a:pt x="0" y="0"/>
                </a:lnTo>
                <a:close/>
              </a:path>
            </a:pathLst>
          </a:custGeom>
          <a:solidFill>
            <a:srgbClr val="787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6016680" y="620640"/>
            <a:ext cx="576360" cy="0"/>
          </a:xfrm>
          <a:prstGeom prst="line">
            <a:avLst/>
          </a:prstGeom>
          <a:ln w="9360">
            <a:solidFill>
              <a:srgbClr val="d1d2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940360" y="6206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22f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22f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6012000" y="1495440"/>
            <a:ext cx="142560" cy="1440"/>
          </a:xfrm>
          <a:prstGeom prst="line">
            <a:avLst/>
          </a:prstGeom>
          <a:ln w="9360">
            <a:solidFill>
              <a:srgbClr val="e8e8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940360" y="14954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6019920" y="2328840"/>
            <a:ext cx="142920" cy="1440"/>
          </a:xfrm>
          <a:prstGeom prst="line">
            <a:avLst/>
          </a:prstGeom>
          <a:ln w="9360">
            <a:solidFill>
              <a:srgbClr val="e8e8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948280" y="23288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2700360" y="622440"/>
            <a:ext cx="302400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1352520" y="2751120"/>
            <a:ext cx="437184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44280" y="4870440"/>
            <a:ext cx="568008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2266920" y="127008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203640" y="1247760"/>
            <a:ext cx="18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>
            <a:off x="3060720" y="1197000"/>
            <a:ext cx="0" cy="1008000"/>
          </a:xfrm>
          <a:prstGeom prst="line">
            <a:avLst/>
          </a:prstGeom>
          <a:ln w="25560">
            <a:solidFill>
              <a:srgbClr val="d1d2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971640" y="3348000"/>
            <a:ext cx="9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2073240" y="3327480"/>
            <a:ext cx="35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8"/>
          <p:cNvSpPr/>
          <p:nvPr/>
        </p:nvSpPr>
        <p:spPr>
          <a:xfrm>
            <a:off x="1930320" y="3276720"/>
            <a:ext cx="0" cy="1006200"/>
          </a:xfrm>
          <a:prstGeom prst="line">
            <a:avLst/>
          </a:prstGeom>
          <a:ln w="25560">
            <a:solidFill>
              <a:srgbClr val="d1d2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185760" y="532116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th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1122480" y="5299200"/>
            <a:ext cx="35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977760" y="5248440"/>
            <a:ext cx="1800" cy="1008000"/>
          </a:xfrm>
          <a:prstGeom prst="line">
            <a:avLst/>
          </a:prstGeom>
          <a:ln w="25560">
            <a:solidFill>
              <a:srgbClr val="d1d2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27"/>
          <p:cNvSpPr/>
          <p:nvPr/>
        </p:nvSpPr>
        <p:spPr>
          <a:xfrm>
            <a:off x="-9360" y="-19080"/>
            <a:ext cx="2898720" cy="4719600"/>
          </a:xfrm>
          <a:custGeom>
            <a:avLst/>
            <a:gdLst>
              <a:gd name="textAreaLeft" fmla="*/ 0 w 2898720"/>
              <a:gd name="textAreaRight" fmla="*/ 2899080 w 2898720"/>
              <a:gd name="textAreaTop" fmla="*/ 0 h 4719600"/>
              <a:gd name="textAreaBottom" fmla="*/ 4719960 h 471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81"/>
                </a:lnTo>
                <a:lnTo>
                  <a:pt x="56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6bb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27"/>
          <p:cNvSpPr/>
          <p:nvPr/>
        </p:nvSpPr>
        <p:spPr>
          <a:xfrm>
            <a:off x="6016680" y="98280"/>
            <a:ext cx="3133800" cy="6762960"/>
          </a:xfrm>
          <a:custGeom>
            <a:avLst/>
            <a:gdLst>
              <a:gd name="textAreaLeft" fmla="*/ 0 w 3133800"/>
              <a:gd name="textAreaRight" fmla="*/ 3134160 w 3133800"/>
              <a:gd name="textAreaTop" fmla="*/ 0 h 6762960"/>
              <a:gd name="textAreaBottom" fmla="*/ 6763320 h 6762960"/>
            </a:gdLst>
            <a:ahLst/>
            <a:rect l="textAreaLeft" t="textAreaTop" r="textAreaRight" b="textAreaBottom"/>
            <a:pathLst>
              <a:path w="21600" h="21600">
                <a:moveTo>
                  <a:pt x="21551" y="21600"/>
                </a:moveTo>
                <a:lnTo>
                  <a:pt x="0" y="21563"/>
                </a:lnTo>
                <a:lnTo>
                  <a:pt x="21600" y="0"/>
                </a:lnTo>
                <a:lnTo>
                  <a:pt x="21551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6bb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 flipH="1">
            <a:off x="5806440" y="-17640"/>
            <a:ext cx="74520" cy="6912000"/>
          </a:xfrm>
          <a:prstGeom prst="rect">
            <a:avLst/>
          </a:prstGeom>
          <a:gradFill rotWithShape="0">
            <a:gsLst>
              <a:gs pos="0">
                <a:srgbClr val="404041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任意多边形 37"/>
          <p:cNvSpPr/>
          <p:nvPr/>
        </p:nvSpPr>
        <p:spPr>
          <a:xfrm>
            <a:off x="5878440" y="-17640"/>
            <a:ext cx="3265560" cy="6939000"/>
          </a:xfrm>
          <a:custGeom>
            <a:avLst/>
            <a:gdLst>
              <a:gd name="textAreaLeft" fmla="*/ 0 w 3265560"/>
              <a:gd name="textAreaRight" fmla="*/ 3265920 w 3265560"/>
              <a:gd name="textAreaTop" fmla="*/ 0 h 6939000"/>
              <a:gd name="textAreaBottom" fmla="*/ 6939360 h 693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3"/>
                </a:lnTo>
                <a:lnTo>
                  <a:pt x="0" y="0"/>
                </a:lnTo>
                <a:close/>
              </a:path>
            </a:pathLst>
          </a:custGeom>
          <a:solidFill>
            <a:srgbClr val="787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96"/>
          <p:cNvSpPr/>
          <p:nvPr/>
        </p:nvSpPr>
        <p:spPr>
          <a:xfrm>
            <a:off x="0" y="-7920"/>
            <a:ext cx="5892840" cy="6918480"/>
          </a:xfrm>
          <a:custGeom>
            <a:avLst/>
            <a:gdLst>
              <a:gd name="textAreaLeft" fmla="*/ 0 w 5892840"/>
              <a:gd name="textAreaRight" fmla="*/ 5893200 w 5892840"/>
              <a:gd name="textAreaTop" fmla="*/ 0 h 6918480"/>
              <a:gd name="textAreaBottom" fmla="*/ 6918840 h 6918480"/>
            </a:gdLst>
            <a:ahLst/>
            <a:rect l="textAreaLeft" t="textAreaTop" r="textAreaRight" b="textAreaBottom"/>
            <a:pathLst>
              <a:path w="21600" h="21600">
                <a:moveTo>
                  <a:pt x="0" y="21520"/>
                </a:moveTo>
                <a:lnTo>
                  <a:pt x="0" y="15176"/>
                </a:lnTo>
                <a:lnTo>
                  <a:pt x="10999" y="0"/>
                </a:lnTo>
                <a:lnTo>
                  <a:pt x="21600" y="0"/>
                </a:lnTo>
                <a:lnTo>
                  <a:pt x="21600" y="21600"/>
                </a:lnTo>
                <a:lnTo>
                  <a:pt x="0" y="21520"/>
                </a:lnTo>
                <a:close/>
              </a:path>
            </a:pathLst>
          </a:custGeom>
          <a:solidFill>
            <a:srgbClr val="404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6016680" y="620640"/>
            <a:ext cx="139680" cy="1800"/>
          </a:xfrm>
          <a:prstGeom prst="line">
            <a:avLst/>
          </a:prstGeom>
          <a:ln w="9360">
            <a:solidFill>
              <a:srgbClr val="e8e8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940360" y="6206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6012000" y="1496880"/>
            <a:ext cx="576000" cy="0"/>
          </a:xfrm>
          <a:prstGeom prst="line">
            <a:avLst/>
          </a:prstGeom>
          <a:ln w="9360">
            <a:solidFill>
              <a:srgbClr val="71c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940360" y="14954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1ced1"/>
                </a:solidFill>
                <a:latin typeface="Times New Roman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1ced1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6019920" y="2328840"/>
            <a:ext cx="142920" cy="1440"/>
          </a:xfrm>
          <a:prstGeom prst="line">
            <a:avLst/>
          </a:prstGeom>
          <a:ln w="9360">
            <a:solidFill>
              <a:srgbClr val="e8e8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948280" y="23288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700360" y="622440"/>
            <a:ext cx="302400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1352520" y="2751120"/>
            <a:ext cx="437184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44280" y="4870440"/>
            <a:ext cx="568008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2266920" y="127008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3203640" y="1247760"/>
            <a:ext cx="18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3060720" y="1197000"/>
            <a:ext cx="0" cy="1008000"/>
          </a:xfrm>
          <a:prstGeom prst="line">
            <a:avLst/>
          </a:prstGeom>
          <a:ln w="25560">
            <a:solidFill>
              <a:srgbClr val="71c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971640" y="3348000"/>
            <a:ext cx="9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2073240" y="3327480"/>
            <a:ext cx="35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1930320" y="3276720"/>
            <a:ext cx="0" cy="1006200"/>
          </a:xfrm>
          <a:prstGeom prst="line">
            <a:avLst/>
          </a:prstGeom>
          <a:ln w="25560">
            <a:solidFill>
              <a:srgbClr val="71c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185760" y="532116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th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1122480" y="5299200"/>
            <a:ext cx="35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977760" y="5248440"/>
            <a:ext cx="1800" cy="1008000"/>
          </a:xfrm>
          <a:prstGeom prst="line">
            <a:avLst/>
          </a:prstGeom>
          <a:ln w="25560">
            <a:solidFill>
              <a:srgbClr val="71c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27"/>
          <p:cNvSpPr/>
          <p:nvPr/>
        </p:nvSpPr>
        <p:spPr>
          <a:xfrm>
            <a:off x="-9360" y="-19080"/>
            <a:ext cx="2898720" cy="4719600"/>
          </a:xfrm>
          <a:custGeom>
            <a:avLst/>
            <a:gdLst>
              <a:gd name="textAreaLeft" fmla="*/ 0 w 2898720"/>
              <a:gd name="textAreaRight" fmla="*/ 2899080 w 2898720"/>
              <a:gd name="textAreaTop" fmla="*/ 0 h 4719600"/>
              <a:gd name="textAreaBottom" fmla="*/ 4719960 h 471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81"/>
                </a:lnTo>
                <a:lnTo>
                  <a:pt x="56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bae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 flipH="1">
            <a:off x="5806440" y="-17640"/>
            <a:ext cx="74520" cy="6912000"/>
          </a:xfrm>
          <a:prstGeom prst="rect">
            <a:avLst/>
          </a:prstGeom>
          <a:gradFill rotWithShape="0">
            <a:gsLst>
              <a:gs pos="0">
                <a:srgbClr val="404041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27"/>
          <p:cNvSpPr/>
          <p:nvPr/>
        </p:nvSpPr>
        <p:spPr>
          <a:xfrm>
            <a:off x="6016680" y="98280"/>
            <a:ext cx="3133800" cy="6762960"/>
          </a:xfrm>
          <a:custGeom>
            <a:avLst/>
            <a:gdLst>
              <a:gd name="textAreaLeft" fmla="*/ 0 w 3133800"/>
              <a:gd name="textAreaRight" fmla="*/ 3134160 w 3133800"/>
              <a:gd name="textAreaTop" fmla="*/ 0 h 6762960"/>
              <a:gd name="textAreaBottom" fmla="*/ 6763320 h 6762960"/>
            </a:gdLst>
            <a:ahLst/>
            <a:rect l="textAreaLeft" t="textAreaTop" r="textAreaRight" b="textAreaBottom"/>
            <a:pathLst>
              <a:path w="21600" h="21600">
                <a:moveTo>
                  <a:pt x="21551" y="21600"/>
                </a:moveTo>
                <a:lnTo>
                  <a:pt x="0" y="21563"/>
                </a:lnTo>
                <a:lnTo>
                  <a:pt x="21600" y="0"/>
                </a:lnTo>
                <a:lnTo>
                  <a:pt x="21551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bae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任意多边形 37"/>
          <p:cNvSpPr/>
          <p:nvPr/>
        </p:nvSpPr>
        <p:spPr>
          <a:xfrm>
            <a:off x="5878440" y="-17640"/>
            <a:ext cx="3265560" cy="6939000"/>
          </a:xfrm>
          <a:custGeom>
            <a:avLst/>
            <a:gdLst>
              <a:gd name="textAreaLeft" fmla="*/ 0 w 3265560"/>
              <a:gd name="textAreaRight" fmla="*/ 3265920 w 3265560"/>
              <a:gd name="textAreaTop" fmla="*/ 0 h 6939000"/>
              <a:gd name="textAreaBottom" fmla="*/ 6939360 h 693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3"/>
                </a:lnTo>
                <a:lnTo>
                  <a:pt x="0" y="0"/>
                </a:lnTo>
                <a:close/>
              </a:path>
            </a:pathLst>
          </a:custGeom>
          <a:solidFill>
            <a:srgbClr val="787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96"/>
          <p:cNvSpPr/>
          <p:nvPr/>
        </p:nvSpPr>
        <p:spPr>
          <a:xfrm>
            <a:off x="0" y="-7920"/>
            <a:ext cx="5892840" cy="6918480"/>
          </a:xfrm>
          <a:custGeom>
            <a:avLst/>
            <a:gdLst>
              <a:gd name="textAreaLeft" fmla="*/ 0 w 5892840"/>
              <a:gd name="textAreaRight" fmla="*/ 5893200 w 5892840"/>
              <a:gd name="textAreaTop" fmla="*/ 0 h 6918480"/>
              <a:gd name="textAreaBottom" fmla="*/ 6918840 h 6918480"/>
            </a:gdLst>
            <a:ahLst/>
            <a:rect l="textAreaLeft" t="textAreaTop" r="textAreaRight" b="textAreaBottom"/>
            <a:pathLst>
              <a:path w="21600" h="21600">
                <a:moveTo>
                  <a:pt x="0" y="21520"/>
                </a:moveTo>
                <a:lnTo>
                  <a:pt x="0" y="15176"/>
                </a:lnTo>
                <a:lnTo>
                  <a:pt x="10999" y="0"/>
                </a:lnTo>
                <a:lnTo>
                  <a:pt x="21600" y="0"/>
                </a:lnTo>
                <a:lnTo>
                  <a:pt x="21600" y="21600"/>
                </a:lnTo>
                <a:lnTo>
                  <a:pt x="0" y="21520"/>
                </a:lnTo>
                <a:close/>
              </a:path>
            </a:pathLst>
          </a:custGeom>
          <a:solidFill>
            <a:srgbClr val="404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6012000" y="1495440"/>
            <a:ext cx="142560" cy="1440"/>
          </a:xfrm>
          <a:prstGeom prst="line">
            <a:avLst/>
          </a:prstGeom>
          <a:ln w="9360">
            <a:solidFill>
              <a:srgbClr val="e8e8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940360" y="14954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6019920" y="2330280"/>
            <a:ext cx="568080" cy="0"/>
          </a:xfrm>
          <a:prstGeom prst="line">
            <a:avLst/>
          </a:prstGeom>
          <a:ln w="9360">
            <a:solidFill>
              <a:srgbClr val="d1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5948280" y="23288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4444"/>
                </a:solidFill>
                <a:latin typeface="Times New Roman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4444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2700360" y="622440"/>
            <a:ext cx="302400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52520" y="2751120"/>
            <a:ext cx="437184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44280" y="4870440"/>
            <a:ext cx="5680080" cy="0"/>
          </a:xfrm>
          <a:prstGeom prst="line">
            <a:avLst/>
          </a:prstGeom>
          <a:ln w="9360">
            <a:solidFill>
              <a:srgbClr val="787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266920" y="127008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203640" y="1247760"/>
            <a:ext cx="18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3060720" y="1197000"/>
            <a:ext cx="0" cy="1008000"/>
          </a:xfrm>
          <a:prstGeom prst="line">
            <a:avLst/>
          </a:prstGeom>
          <a:ln w="25560">
            <a:solidFill>
              <a:srgbClr val="d1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971640" y="3348000"/>
            <a:ext cx="9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073240" y="3327480"/>
            <a:ext cx="35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1930320" y="3276720"/>
            <a:ext cx="0" cy="1006200"/>
          </a:xfrm>
          <a:prstGeom prst="line">
            <a:avLst/>
          </a:prstGeom>
          <a:ln w="25560">
            <a:solidFill>
              <a:srgbClr val="d1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85760" y="532116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5c7"/>
                </a:solidFill>
                <a:latin typeface="Times New Roman"/>
              </a:rPr>
              <a:t>th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1122480" y="5299200"/>
            <a:ext cx="35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You can write whatever your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977760" y="5248440"/>
            <a:ext cx="1800" cy="1008000"/>
          </a:xfrm>
          <a:prstGeom prst="line">
            <a:avLst/>
          </a:prstGeom>
          <a:ln w="25560">
            <a:solidFill>
              <a:srgbClr val="d1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6016680" y="620640"/>
            <a:ext cx="139680" cy="1800"/>
          </a:xfrm>
          <a:prstGeom prst="line">
            <a:avLst/>
          </a:prstGeom>
          <a:ln w="9360">
            <a:solidFill>
              <a:srgbClr val="e8e8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5940360" y="620640"/>
            <a:ext cx="982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e8e9"/>
                </a:solidFill>
                <a:latin typeface="Times New Roman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任意多边形 27"/>
          <p:cNvSpPr/>
          <p:nvPr/>
        </p:nvSpPr>
        <p:spPr>
          <a:xfrm>
            <a:off x="-9360" y="-19080"/>
            <a:ext cx="2898720" cy="4719600"/>
          </a:xfrm>
          <a:custGeom>
            <a:avLst/>
            <a:gdLst>
              <a:gd name="textAreaLeft" fmla="*/ 0 w 2898720"/>
              <a:gd name="textAreaRight" fmla="*/ 2899080 w 2898720"/>
              <a:gd name="textAreaTop" fmla="*/ 0 h 4719600"/>
              <a:gd name="textAreaBottom" fmla="*/ 4719960 h 471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81"/>
                </a:lnTo>
                <a:lnTo>
                  <a:pt x="56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44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3"/>
          <p:cNvSpPr/>
          <p:nvPr/>
        </p:nvSpPr>
        <p:spPr>
          <a:xfrm flipH="1">
            <a:off x="5806440" y="-17640"/>
            <a:ext cx="74520" cy="6912000"/>
          </a:xfrm>
          <a:prstGeom prst="rect">
            <a:avLst/>
          </a:prstGeom>
          <a:gradFill rotWithShape="0">
            <a:gsLst>
              <a:gs pos="0">
                <a:srgbClr val="404041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任意多边形 27"/>
          <p:cNvSpPr/>
          <p:nvPr/>
        </p:nvSpPr>
        <p:spPr>
          <a:xfrm>
            <a:off x="6016680" y="98280"/>
            <a:ext cx="3133800" cy="6762960"/>
          </a:xfrm>
          <a:custGeom>
            <a:avLst/>
            <a:gdLst>
              <a:gd name="textAreaLeft" fmla="*/ 0 w 3133800"/>
              <a:gd name="textAreaRight" fmla="*/ 3134160 w 3133800"/>
              <a:gd name="textAreaTop" fmla="*/ 0 h 6762960"/>
              <a:gd name="textAreaBottom" fmla="*/ 6763320 h 6762960"/>
            </a:gdLst>
            <a:ahLst/>
            <a:rect l="textAreaLeft" t="textAreaTop" r="textAreaRight" b="textAreaBottom"/>
            <a:pathLst>
              <a:path w="21600" h="21600">
                <a:moveTo>
                  <a:pt x="21551" y="21600"/>
                </a:moveTo>
                <a:lnTo>
                  <a:pt x="0" y="21563"/>
                </a:lnTo>
                <a:lnTo>
                  <a:pt x="21600" y="0"/>
                </a:lnTo>
                <a:lnTo>
                  <a:pt x="21551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44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23880" y="64371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任意多边形 27"/>
          <p:cNvSpPr/>
          <p:nvPr/>
        </p:nvSpPr>
        <p:spPr>
          <a:xfrm>
            <a:off x="0" y="-204840"/>
            <a:ext cx="6122880" cy="7093080"/>
          </a:xfrm>
          <a:custGeom>
            <a:avLst/>
            <a:gdLst>
              <a:gd name="textAreaLeft" fmla="*/ 0 w 6122880"/>
              <a:gd name="textAreaRight" fmla="*/ 6123240 w 6122880"/>
              <a:gd name="textAreaTop" fmla="*/ 0 h 7093080"/>
              <a:gd name="textAreaBottom" fmla="*/ 7093440 h 709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15588" y="0"/>
                </a:lnTo>
                <a:lnTo>
                  <a:pt x="21600" y="0"/>
                </a:lnTo>
                <a:lnTo>
                  <a:pt x="6044" y="21554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6bb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27"/>
          <p:cNvSpPr/>
          <p:nvPr/>
        </p:nvSpPr>
        <p:spPr>
          <a:xfrm>
            <a:off x="1714680" y="-204840"/>
            <a:ext cx="6102000" cy="7093080"/>
          </a:xfrm>
          <a:custGeom>
            <a:avLst/>
            <a:gdLst>
              <a:gd name="textAreaLeft" fmla="*/ 0 w 6102000"/>
              <a:gd name="textAreaRight" fmla="*/ 6102360 w 6102000"/>
              <a:gd name="textAreaTop" fmla="*/ 0 h 7093080"/>
              <a:gd name="textAreaBottom" fmla="*/ 7093440 h 709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15588" y="0"/>
                </a:lnTo>
                <a:lnTo>
                  <a:pt x="21600" y="0"/>
                </a:lnTo>
                <a:lnTo>
                  <a:pt x="6044" y="21554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bae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27"/>
          <p:cNvSpPr/>
          <p:nvPr/>
        </p:nvSpPr>
        <p:spPr>
          <a:xfrm>
            <a:off x="3392640" y="-204840"/>
            <a:ext cx="6135480" cy="7093080"/>
          </a:xfrm>
          <a:custGeom>
            <a:avLst/>
            <a:gdLst>
              <a:gd name="textAreaLeft" fmla="*/ 0 w 6135480"/>
              <a:gd name="textAreaRight" fmla="*/ 6135840 w 6135480"/>
              <a:gd name="textAreaTop" fmla="*/ 0 h 7093080"/>
              <a:gd name="textAreaBottom" fmla="*/ 7093440 h 709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15588" y="0"/>
                </a:lnTo>
                <a:lnTo>
                  <a:pt x="21600" y="0"/>
                </a:lnTo>
                <a:lnTo>
                  <a:pt x="6044" y="21554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44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158840" y="2637000"/>
            <a:ext cx="713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Thank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for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d14444"/>
                </a:solidFill>
                <a:latin typeface="Times New Roman"/>
                <a:ea typeface="Times New Roman"/>
              </a:rPr>
              <a:t>listen</a:t>
            </a:r>
            <a:r>
              <a:rPr b="0" lang="zh-CN" sz="6000" spc="-1" strike="noStrike">
                <a:solidFill>
                  <a:srgbClr val="d14444"/>
                </a:solidFill>
                <a:latin typeface="Times New Roman"/>
                <a:ea typeface="Times New Roman"/>
              </a:rPr>
              <a:t>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05:51:43Z</dcterms:created>
  <dc:creator>www.pptbz.com</dc:creator>
  <dc:description/>
  <dc:language>en-US</dc:language>
  <cp:lastModifiedBy>a</cp:lastModifiedBy>
  <dcterms:modified xsi:type="dcterms:W3CDTF">2015-07-25T02:13:57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