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C943-0EDA-410D-8BD9-2DCAEB1690B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499-23E1-40DA-A6F7-44E9C8AD6F5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BC58-1551-4750-A8BE-01E317FD0B4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6240-729D-4AAF-8BE6-5C6019C57E0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6D98-AA39-4135-BF48-A737EBA9C5C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6D15-C6E1-4E60-A8C1-F2C5108E635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3F22-47E3-408B-8B38-F5F472E345D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A82-AAD6-464E-9029-5AB2571B860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1F88-998D-457E-9B06-DCC9CCB063F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4C8-CB31-43E8-B917-E78F24F926E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D38-FB52-429C-BCD6-9B6753C8E36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AFF4-30DF-4146-A781-341086F5518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37AF-D7DA-4B28-B010-D53137644C0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C99D-E1AF-4238-A2BD-CA6B7FB2B7A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A623-A068-4111-8026-55C3E1D7413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F46-CEEA-46A4-93F9-59872AD9D11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FBA0-2F98-4EF9-B22A-1DF390C7C7D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5E1-FF02-4808-B55F-9D263EE785E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0EC-499B-45FB-ABFD-587855897D2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E498-7458-43AA-8D98-96D52DE8C57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7CF1-ED9D-40C5-BB1F-973D53125B2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A73-ECFD-4FE4-88B2-A11E653FAC4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881-5822-4BA1-9B95-1062B354A7F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18F8-4957-4017-9AE6-01215783A70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9907-8BC4-4F33-8A43-BEC4B0ED789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5FD-03CC-4B44-BC38-4E79E9F31FF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3651-34E1-4756-9A62-110C4FE8B32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A95-84FB-4A3B-A5ED-8555D4B98AC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5C6-033B-41CB-B0DE-A6A7977FC16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1BF0-4F8F-4A82-802E-705B1F61A03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C6F-08B8-4B18-B62C-70CC8BEE8C0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ECD-38FC-434E-8AC2-79A18A51C2D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B501-C1B6-4095-849D-BBB69F5A3C4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BB2D-0353-4383-85A0-AC7104C18CF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F23-710F-4991-A09B-23D0A1EC20D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0F2-2820-4D95-B5EF-037702E6CFB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637-4B9C-4B74-A4F6-498D4AF72C9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BFA-D724-4089-8F6C-373B86FBE00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807-4ABC-40EC-A6C2-AAB2D544B89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F7C-A845-43F5-863E-B61ADF77712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1E7-AA95-4A3F-BFEB-82481C85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D22-2132-471C-9F08-A41D75A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BF0A9-E71D-4DD2-A0DA-2AE47E1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4BDD3-7947-4E1A-9B72-088E720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F4C05-1D5B-41C3-AC49-783EE432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1A479-AFD1-4F7D-991D-DACDE37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9B40A-4C38-4749-88F7-29E9484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6C18B-BD88-4842-A6E1-90CC781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764A5-89E3-4150-A365-3BE7587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1713-27F8-42EA-BC6C-E9F8849B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F64A0-D40B-40F7-8658-D59EC5D1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C9F7D-1287-4154-8E8E-FE096A40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83C-4C0E-4312-AEDD-8A325F4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C0572-7FDE-403A-80CC-3993329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12215-7941-40F1-A555-2659BA5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5FB62-FC23-4350-BEE4-C5D4E09A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961D2-E450-44E4-B599-4AE3EF5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7348C-F8E7-4897-9878-425B289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392E3-A3EA-4715-88B5-FDF6855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E8BC7-BC4E-4213-A722-E2F3CED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2F49F-7213-4ED4-9B89-DE58B28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A8D4E-B81A-420F-895A-B9158C8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5083-0246-4014-A592-F1E7AE1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BC0-35B6-43B8-84D6-D96B3AF2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4B59-F0B0-4916-8A83-0F2B786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B37C9-E1AF-4A57-9943-D0D7AD77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6425-1091-454E-B22D-F078F8B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1BB0F-B22F-4E26-8711-BBF841A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60EFA-0191-4C89-9C65-1E1A1E75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27EA2-BA9E-4DD3-AB3F-C6C5FEE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C0471-734B-44D4-96AB-BA500AC5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E93EC-39E2-4E95-A20D-00CAA5A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73DC0-6C0E-4106-B48C-8F579DFC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67A7-C240-4193-8192-43B085A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C7CF-38B7-436C-9C26-0BAAD3C6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7084-AA5E-4A67-8DDB-775050E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1772D-E408-4EFF-A2AA-21B9E0E1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62EF-8327-4C6A-BFC9-D5F0F75A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8609B-1AF0-4299-AED9-CA57B996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64779-78D1-42A2-9697-BB5C0D4F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86DA1-EC76-4CE2-B620-3ACB43AF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4754A-417A-4508-8815-EF8AEE4B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9BC30-4EBE-4755-9E5F-123641EA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D6F0-CAEC-43E3-AB92-536C6536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44853-A875-4062-BF7A-7221F02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DF0-0634-429E-B61D-1C8F330D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D1013-0C5F-4FFC-A5D2-CC204C3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A163-D143-490C-8FDB-FBA9C94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43C14-B344-4748-9E60-932D9F5D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5EAC6-8C81-40EA-8E45-F5CB035F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05985-091E-4406-B56B-46389A09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A23D-3A21-4520-928B-6B5B500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DD51-3CB2-4F18-8AFD-73A263D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7620-16DE-4A02-BFC3-E1B451D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C2B-9921-44E5-AC86-B62C0F4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4C5-922B-448D-B095-F881573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DBB-7156-4846-A4AE-11F20EA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92D1-ACE5-4F1D-BA4D-5211950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701-6051-4C88-856B-E8D9260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A7A-B5B8-48F6-8066-D29A48CE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36C1-DC93-4524-BA15-55E97320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0F22-13A2-446E-B305-B81C480F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8BE7-E4C0-40C1-917F-A264BBFB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F196-7B70-4A39-9295-8BE7C74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7D6D-224E-403B-8A98-D57E8768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3BE8-D063-44AD-918E-FBE3046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8785-C411-43E4-A272-62B1715A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A6-CCF7-4B40-AD2D-B7D3C97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A6E9-403B-45E3-8B89-4EC3E79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7445-0D44-4938-B8FE-49735A1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430E-DE08-4B6E-A4C2-16023CC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2D2D-9C17-4AF9-A490-0C9DECE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B858-6D51-4454-ADD8-6F9E504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1CC7-0925-4392-B63F-F8D3128F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41B0-7BFB-4DCE-9C9B-601DC9E6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4A8F-C7B4-4992-A76C-B131FDDC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EDCA-8843-4888-94DE-452CBD2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AE16-E478-4A7D-8614-0953E27B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B6A-6635-436B-8B3E-FF4476B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0585-A8E6-44FB-82D0-9727D5B1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717B-1FD6-475B-86E3-D42DE8B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C0F2-2AFA-4D58-A697-60E5934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08B9-BD1A-4F01-9B9D-A47591B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1D89-19B6-4B45-9263-AF901B3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4A55-9BB3-45D8-9349-DF08D47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3F90-6522-4DF6-8201-69E8334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86E1-D684-4964-83A5-1AB1BC25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7BF0-2B35-4399-A0AF-1156177B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30A6-16D2-465F-861C-3A98E2ED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58C-2EE4-4AE8-8ABC-6DD2049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AFCB-B1A3-4392-B49F-A4E5F19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45F8-A5CB-400E-9ABA-B677BE5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63B47-C5B1-47E8-B48E-9F40840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66EED-19BE-41E9-B321-2150041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D4B5-179F-4186-8382-004D1C0E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F7B2-3C18-45BF-8C80-539C5073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EAFD-2537-4908-8BAD-26C25CD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BD16-AADC-4384-A1C1-BF5BFA6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8880-DE38-4288-A79C-1A96D896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C7C9-3DE9-498A-A6F6-45C0EDDA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1C4-B0CA-48CA-8D77-1A002C7E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B3D8-0E07-43F4-A4B5-47BDBC21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940A-DE70-4CFE-AC46-39CB2EBF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D511-E04D-462B-9344-59605864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70AA-722B-45D4-B7E3-5C27EC9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9023-38E1-42A8-ADFC-F56113D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9B2A-410B-4837-9F04-9D54118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4F311-0400-412F-9A90-BA5D460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FA0C3-2CFB-4798-B142-7D792D3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6503-3BB8-4DD9-896D-6D34B4C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FFC5-143F-4A6F-896B-A26C0D9C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9D8-5687-480F-B886-7703BEF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C527-3C01-47CB-B9C3-23136E3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7DF0-5209-4C97-97CB-21E682DA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DBF9-89B5-4925-8C86-4A36E2E6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05FD5-FF9E-48B7-9F3D-1D066AB6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D0CA-158B-4A82-9CFC-6C0BE0F1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C0B8D-5913-4E1F-8F04-1D66C65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A7E0D-A75A-45B4-8F96-84CFB72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264D-3932-4CFE-8F34-00BA870F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3E03-E388-41FF-AB3A-C86A2CAF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71CBF-DC7A-4AB0-9AE3-E9D5217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F8B-40E0-438E-8C41-42C3392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EF3D-3954-4F05-B43C-CDB4909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43D9-84C7-400B-96B4-FA7FFBF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90FA-A086-4629-8F68-4C473721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77E9-2108-4BCC-92F5-B86D78B6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F049-19AF-4515-B76C-1E31D1D5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17B8-B895-40D6-BE2E-8F29D5CC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4B23-C0E1-40D7-91D7-E96D035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B32F-03E7-4E58-B57D-0892C546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C428-2E88-4635-9AD3-5E42791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4C3E-300E-4C72-A318-0351F16E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10D-BCAF-44F1-9D29-A04CB47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B26E-D657-4C1C-BBD1-E8B91FDF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B7ACB-D879-4B0C-9165-B4DB8FF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2F343-512C-4EE9-9095-4DC1EFB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FD3B-A898-450B-B608-705CF52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5854-3717-44C5-B5A7-EF4DB45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C095-8EEF-47D6-A06A-1E0E1CC9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B09F2-0C15-4DBF-A51C-159EA8C0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A8669-6AC3-4DC8-B91F-07BAFFDF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492D1-5D48-497A-90DF-A850AC6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4576F-29A1-4E9C-AEF1-9F87A19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93C-57E8-40C2-A5A2-ABFFA41A56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25E-E653-4C8E-90AF-DABF5C5DC4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984C-B1B8-4CD2-9540-9447C14E3D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011-F840-40DB-94C9-AA5A9BAB2C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09A-379E-417E-93BD-A6E14A1D1D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254D-1CF0-4FD9-A1D6-A496746C2D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443-DB47-4BD3-A46D-678A0DDB8F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4600-E9DA-466F-9927-DFAC99B12F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49FD-38C0-44FD-9089-19D585C00F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522-1962-45F6-AE78-DCE6116CA3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B09-DD0D-4D5A-B44E-35E52FAA88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CD3C-23C1-4F19-8E5D-81C57702B7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DB98-92E0-4EEE-8A75-53ECAA012C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DDF-9CA2-4802-BA67-D4DDBAA8C4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B8C-7E66-4FF6-8FB9-4DDC2D83B8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FD02-D62E-495E-A645-C2CFBA1806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BB4-D051-4D59-8A70-7E5A58190D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90A-2DF0-49AB-874D-B101199B16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105-F104-4127-87F8-BD6CAF76B4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2E4-8AF6-4B55-8821-305CB91056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B2C-8338-4E14-8C0A-A4366F466F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5BEE-AA43-4745-9253-5B5D515A09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64E-F1E4-4F4E-8DF5-D0714D9050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4CB-A799-49E3-B3EF-48396DD487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20"/>
          <p:cNvSpPr/>
          <p:nvPr/>
        </p:nvSpPr>
        <p:spPr>
          <a:xfrm>
            <a:off x="2238480" y="2571840"/>
            <a:ext cx="87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时尚简约大气商务类总结</a:t>
            </a:r>
            <a:r>
              <a:rPr b="0" lang="en-US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25f6d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1"/>
          <p:cNvSpPr/>
          <p:nvPr/>
        </p:nvSpPr>
        <p:spPr>
          <a:xfrm>
            <a:off x="2589120" y="356076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"/>
          <p:cNvSpPr/>
          <p:nvPr/>
        </p:nvSpPr>
        <p:spPr>
          <a:xfrm>
            <a:off x="4259160" y="438156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69"/>
          <p:cNvGrpSpPr/>
          <p:nvPr/>
        </p:nvGrpSpPr>
        <p:grpSpPr>
          <a:xfrm>
            <a:off x="8450640" y="1746000"/>
            <a:ext cx="3671640" cy="4281120"/>
            <a:chOff x="8450640" y="1746000"/>
            <a:chExt cx="3671640" cy="4281120"/>
          </a:xfrm>
        </p:grpSpPr>
        <p:sp>
          <p:nvSpPr>
            <p:cNvPr id="504" name="Rounded Rectangle 70"/>
            <p:cNvSpPr/>
            <p:nvPr/>
          </p:nvSpPr>
          <p:spPr>
            <a:xfrm rot="18600000">
              <a:off x="11467440" y="196272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Isosceles Triangle 12"/>
            <p:cNvSpPr/>
            <p:nvPr/>
          </p:nvSpPr>
          <p:spPr>
            <a:xfrm rot="13200000">
              <a:off x="8571600" y="575748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ounded Rectangle 72"/>
            <p:cNvSpPr/>
            <p:nvPr/>
          </p:nvSpPr>
          <p:spPr>
            <a:xfrm rot="18600000">
              <a:off x="8629920" y="453132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Isosceles Triangle 24"/>
            <p:cNvSpPr/>
            <p:nvPr/>
          </p:nvSpPr>
          <p:spPr>
            <a:xfrm rot="13200000">
              <a:off x="8584200" y="541692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8600000">
              <a:off x="9682920" y="276768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5"/>
            <p:cNvSpPr/>
            <p:nvPr/>
          </p:nvSpPr>
          <p:spPr>
            <a:xfrm rot="18600000">
              <a:off x="10134000" y="383220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76"/>
            <p:cNvSpPr/>
            <p:nvPr/>
          </p:nvSpPr>
          <p:spPr>
            <a:xfrm rot="18600000">
              <a:off x="8940600" y="525888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7"/>
            <p:cNvSpPr/>
            <p:nvPr/>
          </p:nvSpPr>
          <p:spPr>
            <a:xfrm rot="18600000">
              <a:off x="11725920" y="191556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8"/>
            <p:cNvSpPr/>
            <p:nvPr/>
          </p:nvSpPr>
          <p:spPr>
            <a:xfrm rot="18600000">
              <a:off x="10679400" y="250344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9"/>
            <p:cNvGrpSpPr/>
            <p:nvPr/>
          </p:nvGrpSpPr>
          <p:grpSpPr>
            <a:xfrm>
              <a:off x="11006280" y="2085120"/>
              <a:ext cx="824400" cy="970560"/>
              <a:chOff x="11006280" y="2085120"/>
              <a:chExt cx="824400" cy="970560"/>
            </a:xfrm>
          </p:grpSpPr>
          <p:sp>
            <p:nvSpPr>
              <p:cNvPr id="514" name="Straight Connector 80"/>
              <p:cNvSpPr/>
              <p:nvPr/>
            </p:nvSpPr>
            <p:spPr>
              <a:xfrm flipV="1">
                <a:off x="11040480" y="211392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Straight Connector 81"/>
              <p:cNvSpPr/>
              <p:nvPr/>
            </p:nvSpPr>
            <p:spPr>
              <a:xfrm flipV="1">
                <a:off x="11006280" y="208512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文本框 2"/>
          <p:cNvSpPr/>
          <p:nvPr/>
        </p:nvSpPr>
        <p:spPr>
          <a:xfrm>
            <a:off x="82440" y="1795320"/>
            <a:ext cx="2833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1D4-5E13-41A6-8AF7-1C4478B826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691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701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5F2-3CE5-4418-8820-2A9AA42F2F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712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721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3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3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B78-E84D-4064-B6E9-11FF58142A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740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743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746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749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8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1"/>
          <p:cNvSpPr/>
          <p:nvPr/>
        </p:nvSpPr>
        <p:spPr>
          <a:xfrm>
            <a:off x="795240" y="1979640"/>
            <a:ext cx="19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</a:t>
            </a:r>
            <a:r>
              <a:rPr b="0" lang="en-US" sz="1800" spc="-1" strike="noStrike">
                <a:solidFill>
                  <a:srgbClr val="ee0f6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3"/>
          <p:cNvSpPr/>
          <p:nvPr/>
        </p:nvSpPr>
        <p:spPr>
          <a:xfrm>
            <a:off x="747720" y="455148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24"/>
          <p:cNvSpPr/>
          <p:nvPr/>
        </p:nvSpPr>
        <p:spPr>
          <a:xfrm>
            <a:off x="9460080" y="195588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25"/>
          <p:cNvSpPr/>
          <p:nvPr/>
        </p:nvSpPr>
        <p:spPr>
          <a:xfrm>
            <a:off x="9460080" y="4584600"/>
            <a:ext cx="19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5f6d"/>
                </a:solidFill>
                <a:latin typeface="Arial"/>
              </a:rPr>
              <a:t>This is a sample text. Insert your desired text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9AB-51F8-47D6-AA92-A980FE4E5B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767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770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773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776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779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5f6d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782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785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788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791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794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矩形 47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8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9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2876-0894-424A-BEDE-DEA21B6E9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4"/>
          <p:cNvGrpSpPr/>
          <p:nvPr/>
        </p:nvGrpSpPr>
        <p:grpSpPr>
          <a:xfrm>
            <a:off x="901800" y="1584000"/>
            <a:ext cx="7416360" cy="4003560"/>
            <a:chOff x="901800" y="1584000"/>
            <a:chExt cx="7416360" cy="4003560"/>
          </a:xfrm>
        </p:grpSpPr>
        <p:sp>
          <p:nvSpPr>
            <p:cNvPr id="801" name="Oval 4"/>
            <p:cNvSpPr/>
            <p:nvPr/>
          </p:nvSpPr>
          <p:spPr>
            <a:xfrm>
              <a:off x="901800" y="3510360"/>
              <a:ext cx="1361880" cy="12823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3690720" y="3799080"/>
              <a:ext cx="1899720" cy="178848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3840480" y="2845080"/>
              <a:ext cx="799920" cy="75420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3894840" y="289728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7" name="AutoShape 10"/>
            <p:cNvCxnSpPr>
              <a:stCxn id="801" idx="0"/>
            </p:cNvCxnSpPr>
            <p:nvPr/>
          </p:nvCxnSpPr>
          <p:spPr>
            <a:xfrm flipV="1">
              <a:off x="1582560" y="158400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08" name="AutoShape 11"/>
            <p:cNvCxnSpPr>
              <a:stCxn id="801" idx="7"/>
              <a:endCxn id="805" idx="2"/>
            </p:cNvCxnSpPr>
            <p:nvPr/>
          </p:nvCxnSpPr>
          <p:spPr>
            <a:xfrm flipV="1">
              <a:off x="2063160" y="322092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09" name="AutoShape 12"/>
            <p:cNvCxnSpPr>
              <a:stCxn id="801" idx="5"/>
              <a:endCxn id="803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0" name="AutoShape 13"/>
            <p:cNvCxnSpPr>
              <a:stCxn id="805" idx="6"/>
              <a:endCxn id="811" idx="2"/>
            </p:cNvCxnSpPr>
            <p:nvPr/>
          </p:nvCxnSpPr>
          <p:spPr>
            <a:xfrm>
              <a:off x="4640400" y="322128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2" name="AutoShape 14"/>
            <p:cNvCxnSpPr>
              <a:stCxn id="803" idx="6"/>
              <a:endCxn id="811" idx="3"/>
            </p:cNvCxnSpPr>
            <p:nvPr/>
          </p:nvCxnSpPr>
          <p:spPr>
            <a:xfrm flipV="1">
              <a:off x="5590440" y="372600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3" name="AutoShape 15"/>
            <p:cNvCxnSpPr>
              <a:stCxn id="803" idx="1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4" name="AutoShape 16"/>
            <p:cNvCxnSpPr>
              <a:stCxn id="805" idx="1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15" name="AutoShape 17"/>
            <p:cNvCxnSpPr>
              <a:stCxn id="816" idx="1"/>
            </p:cNvCxnSpPr>
            <p:nvPr/>
          </p:nvCxnSpPr>
          <p:spPr>
            <a:xfrm flipH="1" flipV="1">
              <a:off x="3529080" y="235620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sp>
          <p:nvSpPr>
            <p:cNvPr id="811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3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3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3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"/>
          <p:cNvSpPr/>
          <p:nvPr/>
        </p:nvSpPr>
        <p:spPr>
          <a:xfrm>
            <a:off x="1630440" y="1371600"/>
            <a:ext cx="1898640" cy="178920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F35-A389-4830-880B-1F87A2468E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82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83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F7B-5D57-4803-9F9C-425A8DD2EA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847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962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965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968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矩形 135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6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37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F85-3002-487D-BF7C-8082295202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32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33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34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B6C-BB1D-4B0A-A9EB-9C3C05DA21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003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13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B52-8927-4769-942B-DF39C5F429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</a:t>
            </a: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1028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0" name="组合 34" descr=""/>
          <p:cNvPicPr/>
          <p:nvPr/>
        </p:nvPicPr>
        <p:blipFill>
          <a:blip r:embed="rId1"/>
          <a:stretch/>
        </p:blipFill>
        <p:spPr>
          <a:xfrm>
            <a:off x="6711840" y="1689120"/>
            <a:ext cx="1305000" cy="29433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3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24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5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空心弧 7"/>
          <p:cNvSpPr/>
          <p:nvPr/>
        </p:nvSpPr>
        <p:spPr>
          <a:xfrm>
            <a:off x="5202360" y="2303640"/>
            <a:ext cx="2322360" cy="2250720"/>
          </a:xfrm>
          <a:custGeom>
            <a:avLst/>
            <a:gdLst/>
            <a:ahLst/>
            <a:rect l="l" t="t" r="r" b="b"/>
            <a:pathLst>
              <a:path w="2322512" h="2251075">
                <a:moveTo>
                  <a:pt x="1164836" y="5"/>
                </a:moveTo>
                <a:cubicBezTo>
                  <a:pt x="1804779" y="1917"/>
                  <a:pt x="2322512" y="505275"/>
                  <a:pt x="2322512" y="1125538"/>
                </a:cubicBezTo>
                <a:lnTo>
                  <a:pt x="1759743" y="1125538"/>
                </a:lnTo>
                <a:cubicBezTo>
                  <a:pt x="1759743" y="815386"/>
                  <a:pt x="1492881" y="563699"/>
                  <a:pt x="1163046" y="562772"/>
                </a:cubicBezTo>
                <a:cubicBezTo>
                  <a:pt x="1163643" y="375183"/>
                  <a:pt x="1164239" y="187594"/>
                  <a:pt x="1164836" y="5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空心弧 8"/>
          <p:cNvSpPr/>
          <p:nvPr/>
        </p:nvSpPr>
        <p:spPr>
          <a:xfrm rot="16200000">
            <a:off x="4651560" y="2338200"/>
            <a:ext cx="2322360" cy="2252520"/>
          </a:xfrm>
          <a:custGeom>
            <a:avLst/>
            <a:gdLst/>
            <a:ahLst/>
            <a:rect l="l" t="t" r="r" b="b"/>
            <a:pathLst>
              <a:path w="2322512" h="2252663">
                <a:moveTo>
                  <a:pt x="1164838" y="5"/>
                </a:moveTo>
                <a:cubicBezTo>
                  <a:pt x="1804780" y="1920"/>
                  <a:pt x="2322512" y="505632"/>
                  <a:pt x="2322512" y="1126332"/>
                </a:cubicBezTo>
                <a:lnTo>
                  <a:pt x="1759346" y="1126332"/>
                </a:lnTo>
                <a:cubicBezTo>
                  <a:pt x="1759346" y="815962"/>
                  <a:pt x="1492662" y="564098"/>
                  <a:pt x="1163047" y="563169"/>
                </a:cubicBezTo>
                <a:lnTo>
                  <a:pt x="1164838" y="5"/>
                </a:lnTo>
                <a:close/>
              </a:path>
            </a:pathLst>
          </a:custGeom>
          <a:solidFill>
            <a:srgbClr val="f57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空心弧 9"/>
          <p:cNvSpPr/>
          <p:nvPr/>
        </p:nvSpPr>
        <p:spPr>
          <a:xfrm rot="10800000">
            <a:off x="4665600" y="3027240"/>
            <a:ext cx="2324160" cy="2252880"/>
          </a:xfrm>
          <a:custGeom>
            <a:avLst/>
            <a:gdLst/>
            <a:ahLst/>
            <a:rect l="l" t="t" r="r" b="b"/>
            <a:pathLst>
              <a:path w="2324100" h="2252662">
                <a:moveTo>
                  <a:pt x="1165632" y="5"/>
                </a:moveTo>
                <a:cubicBezTo>
                  <a:pt x="1806013" y="1918"/>
                  <a:pt x="2324100" y="505631"/>
                  <a:pt x="2324100" y="1126331"/>
                </a:cubicBezTo>
                <a:lnTo>
                  <a:pt x="1760935" y="1126331"/>
                </a:lnTo>
                <a:cubicBezTo>
                  <a:pt x="1760935" y="815961"/>
                  <a:pt x="1493895" y="564096"/>
                  <a:pt x="1163841" y="563168"/>
                </a:cubicBezTo>
                <a:lnTo>
                  <a:pt x="1165632" y="5"/>
                </a:ln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空心弧 10"/>
          <p:cNvSpPr/>
          <p:nvPr/>
        </p:nvSpPr>
        <p:spPr>
          <a:xfrm rot="5400000">
            <a:off x="5236560" y="3027240"/>
            <a:ext cx="2322720" cy="2252520"/>
          </a:xfrm>
          <a:custGeom>
            <a:avLst/>
            <a:gdLst/>
            <a:ahLst/>
            <a:rect l="l" t="t" r="r" b="b"/>
            <a:pathLst>
              <a:path w="2322512" h="2252662">
                <a:moveTo>
                  <a:pt x="1164838" y="5"/>
                </a:moveTo>
                <a:cubicBezTo>
                  <a:pt x="1804780" y="1920"/>
                  <a:pt x="2322512" y="505632"/>
                  <a:pt x="2322512" y="1126331"/>
                </a:cubicBezTo>
                <a:lnTo>
                  <a:pt x="1759347" y="1126331"/>
                </a:lnTo>
                <a:cubicBezTo>
                  <a:pt x="1759347" y="815961"/>
                  <a:pt x="1492663" y="564097"/>
                  <a:pt x="1163047" y="563168"/>
                </a:cubicBezTo>
                <a:lnTo>
                  <a:pt x="1164838" y="5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21"/>
          <p:cNvGrpSpPr/>
          <p:nvPr/>
        </p:nvGrpSpPr>
        <p:grpSpPr>
          <a:xfrm>
            <a:off x="2679840" y="2099880"/>
            <a:ext cx="2522520" cy="717480"/>
            <a:chOff x="2679840" y="2099880"/>
            <a:chExt cx="2522520" cy="717480"/>
          </a:xfrm>
        </p:grpSpPr>
        <p:sp>
          <p:nvSpPr>
            <p:cNvPr id="523" name="直接连接符 2"/>
            <p:cNvSpPr/>
            <p:nvPr/>
          </p:nvSpPr>
          <p:spPr>
            <a:xfrm flipH="1" flipV="1">
              <a:off x="4535640" y="2099880"/>
              <a:ext cx="666720" cy="71748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6"/>
            <p:cNvSpPr/>
            <p:nvPr/>
          </p:nvSpPr>
          <p:spPr>
            <a:xfrm flipH="1">
              <a:off x="2679840" y="2112840"/>
              <a:ext cx="187632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22"/>
          <p:cNvGrpSpPr/>
          <p:nvPr/>
        </p:nvGrpSpPr>
        <p:grpSpPr>
          <a:xfrm>
            <a:off x="6989760" y="1944360"/>
            <a:ext cx="2911320" cy="873000"/>
            <a:chOff x="6989760" y="1944360"/>
            <a:chExt cx="2911320" cy="873000"/>
          </a:xfrm>
        </p:grpSpPr>
        <p:sp>
          <p:nvSpPr>
            <p:cNvPr id="526" name="直接连接符 12"/>
            <p:cNvSpPr/>
            <p:nvPr/>
          </p:nvSpPr>
          <p:spPr>
            <a:xfrm flipV="1">
              <a:off x="6989760" y="1944360"/>
              <a:ext cx="687240" cy="8730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14"/>
            <p:cNvSpPr/>
            <p:nvPr/>
          </p:nvSpPr>
          <p:spPr>
            <a:xfrm>
              <a:off x="7665840" y="1944720"/>
              <a:ext cx="223524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39942"/>
          <p:cNvGrpSpPr/>
          <p:nvPr/>
        </p:nvGrpSpPr>
        <p:grpSpPr>
          <a:xfrm>
            <a:off x="6959520" y="4861080"/>
            <a:ext cx="2941560" cy="663480"/>
            <a:chOff x="6959520" y="4861080"/>
            <a:chExt cx="2941560" cy="663480"/>
          </a:xfrm>
        </p:grpSpPr>
        <p:sp>
          <p:nvSpPr>
            <p:cNvPr id="532" name="直接连接符 27"/>
            <p:cNvSpPr/>
            <p:nvPr/>
          </p:nvSpPr>
          <p:spPr>
            <a:xfrm>
              <a:off x="6959520" y="4861080"/>
              <a:ext cx="565200" cy="62856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直接连接符 29"/>
            <p:cNvSpPr/>
            <p:nvPr/>
          </p:nvSpPr>
          <p:spPr>
            <a:xfrm>
              <a:off x="7524720" y="5489640"/>
              <a:ext cx="2376360" cy="3492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39941"/>
          <p:cNvGrpSpPr/>
          <p:nvPr/>
        </p:nvGrpSpPr>
        <p:grpSpPr>
          <a:xfrm>
            <a:off x="2695680" y="4745160"/>
            <a:ext cx="2506680" cy="779400"/>
            <a:chOff x="2695680" y="4745160"/>
            <a:chExt cx="2506680" cy="779400"/>
          </a:xfrm>
        </p:grpSpPr>
        <p:sp>
          <p:nvSpPr>
            <p:cNvPr id="535" name="直接连接符 39935"/>
            <p:cNvSpPr/>
            <p:nvPr/>
          </p:nvSpPr>
          <p:spPr>
            <a:xfrm flipH="1">
              <a:off x="4735800" y="4745160"/>
              <a:ext cx="466560" cy="779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39938"/>
            <p:cNvSpPr/>
            <p:nvPr/>
          </p:nvSpPr>
          <p:spPr>
            <a:xfrm flipH="1">
              <a:off x="2695680" y="5524560"/>
              <a:ext cx="206856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文本框 10"/>
          <p:cNvSpPr/>
          <p:nvPr/>
        </p:nvSpPr>
        <p:spPr>
          <a:xfrm>
            <a:off x="10209240" y="119232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0"/>
          <p:cNvSpPr/>
          <p:nvPr/>
        </p:nvSpPr>
        <p:spPr>
          <a:xfrm>
            <a:off x="10209240" y="459900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784080" y="4843440"/>
            <a:ext cx="1501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0"/>
          <p:cNvSpPr/>
          <p:nvPr/>
        </p:nvSpPr>
        <p:spPr>
          <a:xfrm>
            <a:off x="766800" y="1395360"/>
            <a:ext cx="1501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9943"/>
          <p:cNvSpPr/>
          <p:nvPr/>
        </p:nvSpPr>
        <p:spPr>
          <a:xfrm>
            <a:off x="5135400" y="2579760"/>
            <a:ext cx="1717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7f7f7f"/>
                </a:solidFill>
                <a:latin typeface="Webdings"/>
                <a:ea typeface="Webdings"/>
              </a:rPr>
              <a:t>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682C-290D-4B8A-A17D-05F0FCD5D2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5f6d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1051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1054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1057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solidFill>
              <a:srgbClr val="f57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57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26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27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28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482-72A0-4522-9E2E-3E7C927208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20"/>
          <p:cNvSpPr/>
          <p:nvPr/>
        </p:nvSpPr>
        <p:spPr>
          <a:xfrm>
            <a:off x="1550880" y="306540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5f6d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1070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1080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文本框 18"/>
          <p:cNvSpPr/>
          <p:nvPr/>
        </p:nvSpPr>
        <p:spPr>
          <a:xfrm>
            <a:off x="3863880" y="-488880"/>
            <a:ext cx="4562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0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6FB-4C87-4385-830E-E637045BC4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f25f6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椭圆 18"/>
          <p:cNvSpPr/>
          <p:nvPr/>
        </p:nvSpPr>
        <p:spPr>
          <a:xfrm>
            <a:off x="7870680" y="3979800"/>
            <a:ext cx="1295640" cy="129564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7"/>
          <p:cNvSpPr/>
          <p:nvPr/>
        </p:nvSpPr>
        <p:spPr>
          <a:xfrm>
            <a:off x="7746840" y="46195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0"/>
          <p:cNvSpPr/>
          <p:nvPr/>
        </p:nvSpPr>
        <p:spPr>
          <a:xfrm>
            <a:off x="8293680" y="4086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34"/>
          <p:cNvSpPr/>
          <p:nvPr/>
        </p:nvSpPr>
        <p:spPr>
          <a:xfrm flipV="1">
            <a:off x="8507520" y="1519200"/>
            <a:ext cx="1440" cy="248760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f25f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30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1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2"/>
          <p:cNvSpPr/>
          <p:nvPr/>
        </p:nvSpPr>
        <p:spPr>
          <a:xfrm flipV="1">
            <a:off x="1557360" y="1518840"/>
            <a:ext cx="9726480" cy="27000"/>
          </a:xfrm>
          <a:prstGeom prst="line">
            <a:avLst/>
          </a:prstGeom>
          <a:ln w="936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泪滴形 2"/>
          <p:cNvGrpSpPr/>
          <p:nvPr/>
        </p:nvGrpSpPr>
        <p:grpSpPr>
          <a:xfrm>
            <a:off x="4591080" y="3432240"/>
            <a:ext cx="1638360" cy="1603440"/>
            <a:chOff x="4591080" y="3432240"/>
            <a:chExt cx="1638360" cy="1603440"/>
          </a:xfrm>
        </p:grpSpPr>
        <p:pic>
          <p:nvPicPr>
            <p:cNvPr id="564" name="泪滴形 2" descr=""/>
            <p:cNvPicPr/>
            <p:nvPr/>
          </p:nvPicPr>
          <p:blipFill>
            <a:blip r:embed="rId1"/>
            <a:stretch/>
          </p:blipFill>
          <p:spPr>
            <a:xfrm>
              <a:off x="4591080" y="3432240"/>
              <a:ext cx="16383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 rot="250800">
              <a:off x="4986000" y="3832200"/>
              <a:ext cx="803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泪滴形 3"/>
          <p:cNvGrpSpPr/>
          <p:nvPr/>
        </p:nvGrpSpPr>
        <p:grpSpPr>
          <a:xfrm>
            <a:off x="6016680" y="3395520"/>
            <a:ext cx="1676520" cy="1603440"/>
            <a:chOff x="6016680" y="3395520"/>
            <a:chExt cx="1676520" cy="1603440"/>
          </a:xfrm>
        </p:grpSpPr>
        <p:pic>
          <p:nvPicPr>
            <p:cNvPr id="567" name="泪滴形 3" descr=""/>
            <p:cNvPicPr/>
            <p:nvPr/>
          </p:nvPicPr>
          <p:blipFill>
            <a:blip r:embed="rId2"/>
            <a:stretch/>
          </p:blipFill>
          <p:spPr>
            <a:xfrm>
              <a:off x="6016680" y="3395520"/>
              <a:ext cx="16765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 rot="15694800">
              <a:off x="6491160" y="3795120"/>
              <a:ext cx="8031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泪滴形 4"/>
          <p:cNvGrpSpPr/>
          <p:nvPr/>
        </p:nvGrpSpPr>
        <p:grpSpPr>
          <a:xfrm>
            <a:off x="6040440" y="2030400"/>
            <a:ext cx="1676520" cy="1596960"/>
            <a:chOff x="6040440" y="2030400"/>
            <a:chExt cx="1676520" cy="1596960"/>
          </a:xfrm>
        </p:grpSpPr>
        <p:pic>
          <p:nvPicPr>
            <p:cNvPr id="570" name="泪滴形 4" descr=""/>
            <p:cNvPicPr/>
            <p:nvPr/>
          </p:nvPicPr>
          <p:blipFill>
            <a:blip r:embed="rId3"/>
            <a:stretch/>
          </p:blipFill>
          <p:spPr>
            <a:xfrm>
              <a:off x="6040440" y="2030400"/>
              <a:ext cx="16765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 rot="11317800">
              <a:off x="6518160" y="2427120"/>
              <a:ext cx="8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泪滴形 5"/>
          <p:cNvGrpSpPr/>
          <p:nvPr/>
        </p:nvGrpSpPr>
        <p:grpSpPr>
          <a:xfrm>
            <a:off x="4572000" y="2030400"/>
            <a:ext cx="1657440" cy="1596960"/>
            <a:chOff x="4572000" y="2030400"/>
            <a:chExt cx="1657440" cy="1596960"/>
          </a:xfrm>
        </p:grpSpPr>
        <p:pic>
          <p:nvPicPr>
            <p:cNvPr id="573" name="泪滴形 5" descr=""/>
            <p:cNvPicPr/>
            <p:nvPr/>
          </p:nvPicPr>
          <p:blipFill>
            <a:blip r:embed="rId4"/>
            <a:stretch/>
          </p:blipFill>
          <p:spPr>
            <a:xfrm>
              <a:off x="4572000" y="2030400"/>
              <a:ext cx="1657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 rot="5026800">
              <a:off x="4966200" y="2428200"/>
              <a:ext cx="8031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3"/>
          <p:cNvGrpSpPr/>
          <p:nvPr/>
        </p:nvGrpSpPr>
        <p:grpSpPr>
          <a:xfrm>
            <a:off x="773280" y="1900080"/>
            <a:ext cx="3474720" cy="1306800"/>
            <a:chOff x="773280" y="1900080"/>
            <a:chExt cx="3474720" cy="1306800"/>
          </a:xfrm>
        </p:grpSpPr>
        <p:sp>
          <p:nvSpPr>
            <p:cNvPr id="579" name="Rectangle 44"/>
            <p:cNvSpPr/>
            <p:nvPr/>
          </p:nvSpPr>
          <p:spPr>
            <a:xfrm>
              <a:off x="773280" y="190008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5"/>
            <p:cNvSpPr/>
            <p:nvPr/>
          </p:nvSpPr>
          <p:spPr>
            <a:xfrm>
              <a:off x="773280" y="2232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43"/>
          <p:cNvGrpSpPr/>
          <p:nvPr/>
        </p:nvGrpSpPr>
        <p:grpSpPr>
          <a:xfrm>
            <a:off x="8397720" y="1789200"/>
            <a:ext cx="3475080" cy="1306440"/>
            <a:chOff x="8397720" y="1789200"/>
            <a:chExt cx="3475080" cy="1306440"/>
          </a:xfrm>
        </p:grpSpPr>
        <p:sp>
          <p:nvSpPr>
            <p:cNvPr id="582" name="Rectangle 44"/>
            <p:cNvSpPr/>
            <p:nvPr/>
          </p:nvSpPr>
          <p:spPr>
            <a:xfrm>
              <a:off x="8397720" y="17892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45"/>
            <p:cNvSpPr/>
            <p:nvPr/>
          </p:nvSpPr>
          <p:spPr>
            <a:xfrm>
              <a:off x="8397720" y="21214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3"/>
          <p:cNvGrpSpPr/>
          <p:nvPr/>
        </p:nvGrpSpPr>
        <p:grpSpPr>
          <a:xfrm>
            <a:off x="773280" y="4051440"/>
            <a:ext cx="3474720" cy="1306440"/>
            <a:chOff x="773280" y="4051440"/>
            <a:chExt cx="3474720" cy="1306440"/>
          </a:xfrm>
        </p:grpSpPr>
        <p:sp>
          <p:nvSpPr>
            <p:cNvPr id="585" name="Rectangle 44"/>
            <p:cNvSpPr/>
            <p:nvPr/>
          </p:nvSpPr>
          <p:spPr>
            <a:xfrm>
              <a:off x="773280" y="405144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45"/>
            <p:cNvSpPr/>
            <p:nvPr/>
          </p:nvSpPr>
          <p:spPr>
            <a:xfrm>
              <a:off x="773280" y="4383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3"/>
          <p:cNvGrpSpPr/>
          <p:nvPr/>
        </p:nvGrpSpPr>
        <p:grpSpPr>
          <a:xfrm>
            <a:off x="8397720" y="4384800"/>
            <a:ext cx="3475080" cy="1306440"/>
            <a:chOff x="8397720" y="4384800"/>
            <a:chExt cx="3475080" cy="1306440"/>
          </a:xfrm>
        </p:grpSpPr>
        <p:sp>
          <p:nvSpPr>
            <p:cNvPr id="588" name="Rectangle 44"/>
            <p:cNvSpPr/>
            <p:nvPr/>
          </p:nvSpPr>
          <p:spPr>
            <a:xfrm>
              <a:off x="8397720" y="43848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45"/>
            <p:cNvSpPr/>
            <p:nvPr/>
          </p:nvSpPr>
          <p:spPr>
            <a:xfrm>
              <a:off x="8397720" y="47170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4"/>
          <p:cNvSpPr/>
          <p:nvPr/>
        </p:nvSpPr>
        <p:spPr>
          <a:xfrm>
            <a:off x="773280" y="602604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A56-FFE8-4A87-B4D3-4EF2D09925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5f6d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f25f6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f6d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96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f25f6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5400000"/>
            </a:gra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f25f6d"/>
            </a:solidFill>
            <a:ln w="12600">
              <a:solidFill>
                <a:srgbClr val="ee0f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606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f2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9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3"/>
          <p:cNvSpPr/>
          <p:nvPr/>
        </p:nvSpPr>
        <p:spPr>
          <a:xfrm>
            <a:off x="700200" y="1263600"/>
            <a:ext cx="28335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25f6d"/>
                </a:solidFill>
                <a:latin typeface="Wingdings 2"/>
                <a:ea typeface="Wingdings 2"/>
              </a:rPr>
              <a:t>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1"/>
          <p:cNvSpPr/>
          <p:nvPr/>
        </p:nvSpPr>
        <p:spPr>
          <a:xfrm>
            <a:off x="6905520" y="4336920"/>
            <a:ext cx="4240440" cy="2022480"/>
          </a:xfrm>
          <a:prstGeom prst="rect">
            <a:avLst/>
          </a:prstGeom>
          <a:noFill/>
          <a:ln w="25560">
            <a:solidFill>
              <a:srgbClr val="f25f6d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DD8-4CA0-448E-87F2-120F43E6B9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616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5f6d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5f6d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619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5f6d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5f6d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泪滴形 3"/>
          <p:cNvSpPr/>
          <p:nvPr/>
        </p:nvSpPr>
        <p:spPr>
          <a:xfrm rot="8189400">
            <a:off x="8067240" y="1693440"/>
            <a:ext cx="1955880" cy="1955880"/>
          </a:xfrm>
          <a:custGeom>
            <a:avLst/>
            <a:gdLst/>
            <a:ahLst/>
            <a:rect l="l" t="t" r="r" b="b"/>
            <a:pathLst>
              <a:path w="1955800" h="1955800">
                <a:moveTo>
                  <a:pt x="0" y="977900"/>
                </a:moveTo>
                <a:cubicBezTo>
                  <a:pt x="0" y="437821"/>
                  <a:pt x="437821" y="0"/>
                  <a:pt x="977900" y="0"/>
                </a:cubicBezTo>
                <a:lnTo>
                  <a:pt x="1955800" y="0"/>
                </a:lnTo>
                <a:lnTo>
                  <a:pt x="1955800" y="977900"/>
                </a:lnTo>
                <a:cubicBezTo>
                  <a:pt x="1955800" y="1517979"/>
                  <a:pt x="1517979" y="1955800"/>
                  <a:pt x="977900" y="1955800"/>
                </a:cubicBezTo>
                <a:cubicBezTo>
                  <a:pt x="437821" y="1955800"/>
                  <a:pt x="0" y="1517979"/>
                  <a:pt x="0" y="977900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泪滴形 17"/>
          <p:cNvSpPr/>
          <p:nvPr/>
        </p:nvSpPr>
        <p:spPr>
          <a:xfrm rot="18702000">
            <a:off x="1975680" y="4694760"/>
            <a:ext cx="1955880" cy="1957320"/>
          </a:xfrm>
          <a:custGeom>
            <a:avLst/>
            <a:gdLst/>
            <a:ahLst/>
            <a:rect l="l" t="t" r="r" b="b"/>
            <a:pathLst>
              <a:path w="1955800" h="1957388">
                <a:moveTo>
                  <a:pt x="0" y="978694"/>
                </a:moveTo>
                <a:cubicBezTo>
                  <a:pt x="0" y="438176"/>
                  <a:pt x="437821" y="0"/>
                  <a:pt x="977900" y="0"/>
                </a:cubicBezTo>
                <a:lnTo>
                  <a:pt x="1955800" y="0"/>
                </a:lnTo>
                <a:lnTo>
                  <a:pt x="1955800" y="978694"/>
                </a:lnTo>
                <a:cubicBezTo>
                  <a:pt x="1955800" y="1519212"/>
                  <a:pt x="1517979" y="1957388"/>
                  <a:pt x="977900" y="1957388"/>
                </a:cubicBezTo>
                <a:cubicBezTo>
                  <a:pt x="437821" y="1957388"/>
                  <a:pt x="0" y="1519212"/>
                  <a:pt x="0" y="978694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4"/>
          <p:cNvSpPr/>
          <p:nvPr/>
        </p:nvSpPr>
        <p:spPr>
          <a:xfrm>
            <a:off x="8761320" y="2251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679840" y="51656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8"/>
          <p:cNvSpPr/>
          <p:nvPr/>
        </p:nvSpPr>
        <p:spPr>
          <a:xfrm>
            <a:off x="977760" y="2066760"/>
            <a:ext cx="4240440" cy="2022480"/>
          </a:xfrm>
          <a:prstGeom prst="rect">
            <a:avLst/>
          </a:prstGeom>
          <a:noFill/>
          <a:ln w="25560">
            <a:solidFill>
              <a:srgbClr val="f25f6d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FD7C-894D-46FA-9CAD-6EE088DAE4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631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f25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4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5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26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D60-C1CC-474E-AEFA-3BE43E0E34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648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651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同心圆 1"/>
          <p:cNvSpPr/>
          <p:nvPr/>
        </p:nvSpPr>
        <p:spPr>
          <a:xfrm>
            <a:off x="4649760" y="1844640"/>
            <a:ext cx="3405240" cy="3405240"/>
          </a:xfrm>
          <a:custGeom>
            <a:avLst/>
            <a:gdLst/>
            <a:ahLst/>
            <a:rect l="l" t="t" r="r" b="b"/>
            <a:pathLst>
              <a:path w="3405187" h="3405188">
                <a:moveTo>
                  <a:pt x="0" y="1702594"/>
                </a:moveTo>
                <a:cubicBezTo>
                  <a:pt x="0" y="762277"/>
                  <a:pt x="762277" y="0"/>
                  <a:pt x="1702594" y="0"/>
                </a:cubicBezTo>
                <a:cubicBezTo>
                  <a:pt x="2642911" y="0"/>
                  <a:pt x="3405188" y="762277"/>
                  <a:pt x="3405188" y="1702594"/>
                </a:cubicBezTo>
                <a:cubicBezTo>
                  <a:pt x="3405188" y="2642911"/>
                  <a:pt x="2642911" y="3405188"/>
                  <a:pt x="1702594" y="3405188"/>
                </a:cubicBezTo>
                <a:cubicBezTo>
                  <a:pt x="762277" y="3405188"/>
                  <a:pt x="0" y="2642911"/>
                  <a:pt x="0" y="1702594"/>
                </a:cubicBezTo>
                <a:close/>
                <a:moveTo>
                  <a:pt x="851297" y="1702594"/>
                </a:moveTo>
                <a:cubicBezTo>
                  <a:pt x="851297" y="2172752"/>
                  <a:pt x="1232436" y="2553891"/>
                  <a:pt x="1702594" y="2553891"/>
                </a:cubicBezTo>
                <a:cubicBezTo>
                  <a:pt x="2172752" y="2553891"/>
                  <a:pt x="2553891" y="2172752"/>
                  <a:pt x="2553891" y="1702594"/>
                </a:cubicBezTo>
                <a:cubicBezTo>
                  <a:pt x="2553891" y="1232436"/>
                  <a:pt x="2172752" y="851297"/>
                  <a:pt x="1702594" y="851297"/>
                </a:cubicBezTo>
                <a:cubicBezTo>
                  <a:pt x="1232436" y="851297"/>
                  <a:pt x="851297" y="1232436"/>
                  <a:pt x="851297" y="1702594"/>
                </a:cubicBezTo>
                <a:close/>
              </a:path>
            </a:pathLst>
          </a:cu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空心弧 4"/>
          <p:cNvSpPr/>
          <p:nvPr/>
        </p:nvSpPr>
        <p:spPr>
          <a:xfrm>
            <a:off x="4508640" y="1844640"/>
            <a:ext cx="3562200" cy="3422520"/>
          </a:xfrm>
          <a:custGeom>
            <a:avLst/>
            <a:gdLst/>
            <a:ahLst/>
            <a:rect l="l" t="t" r="r" b="b"/>
            <a:pathLst>
              <a:path w="3562350" h="3422650">
                <a:moveTo>
                  <a:pt x="2994711" y="458647"/>
                </a:moveTo>
                <a:cubicBezTo>
                  <a:pt x="3356726" y="782384"/>
                  <a:pt x="3562350" y="1236159"/>
                  <a:pt x="3562350" y="1711325"/>
                </a:cubicBezTo>
                <a:lnTo>
                  <a:pt x="2706688" y="1711325"/>
                </a:lnTo>
                <a:cubicBezTo>
                  <a:pt x="2706688" y="1468036"/>
                  <a:pt x="2594669" y="1236250"/>
                  <a:pt x="2398648" y="1073936"/>
                </a:cubicBezTo>
                <a:lnTo>
                  <a:pt x="2994711" y="458647"/>
                </a:lnTo>
                <a:close/>
              </a:path>
            </a:pathLst>
          </a:custGeom>
          <a:solidFill>
            <a:srgbClr val="e7132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泪滴形 2"/>
          <p:cNvGrpSpPr/>
          <p:nvPr/>
        </p:nvGrpSpPr>
        <p:grpSpPr>
          <a:xfrm>
            <a:off x="4591080" y="3432240"/>
            <a:ext cx="1638360" cy="1603440"/>
            <a:chOff x="4591080" y="3432240"/>
            <a:chExt cx="1638360" cy="1603440"/>
          </a:xfrm>
        </p:grpSpPr>
        <p:pic>
          <p:nvPicPr>
            <p:cNvPr id="660" name="泪滴形 2" descr=""/>
            <p:cNvPicPr/>
            <p:nvPr/>
          </p:nvPicPr>
          <p:blipFill>
            <a:blip r:embed="rId1"/>
            <a:stretch/>
          </p:blipFill>
          <p:spPr>
            <a:xfrm>
              <a:off x="4591080" y="3432240"/>
              <a:ext cx="16383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 rot="250800">
              <a:off x="4986000" y="3832200"/>
              <a:ext cx="803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泪滴形 3"/>
          <p:cNvGrpSpPr/>
          <p:nvPr/>
        </p:nvGrpSpPr>
        <p:grpSpPr>
          <a:xfrm>
            <a:off x="6016680" y="3395520"/>
            <a:ext cx="1676520" cy="1603440"/>
            <a:chOff x="6016680" y="3395520"/>
            <a:chExt cx="1676520" cy="1603440"/>
          </a:xfrm>
        </p:grpSpPr>
        <p:pic>
          <p:nvPicPr>
            <p:cNvPr id="663" name="泪滴形 3" descr=""/>
            <p:cNvPicPr/>
            <p:nvPr/>
          </p:nvPicPr>
          <p:blipFill>
            <a:blip r:embed="rId2"/>
            <a:stretch/>
          </p:blipFill>
          <p:spPr>
            <a:xfrm>
              <a:off x="6016680" y="3395520"/>
              <a:ext cx="16765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 rot="15694800">
              <a:off x="6491160" y="3795120"/>
              <a:ext cx="80316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泪滴形 4"/>
          <p:cNvGrpSpPr/>
          <p:nvPr/>
        </p:nvGrpSpPr>
        <p:grpSpPr>
          <a:xfrm>
            <a:off x="6040440" y="2030400"/>
            <a:ext cx="1676520" cy="1596960"/>
            <a:chOff x="6040440" y="2030400"/>
            <a:chExt cx="1676520" cy="1596960"/>
          </a:xfrm>
        </p:grpSpPr>
        <p:pic>
          <p:nvPicPr>
            <p:cNvPr id="666" name="泪滴形 4" descr=""/>
            <p:cNvPicPr/>
            <p:nvPr/>
          </p:nvPicPr>
          <p:blipFill>
            <a:blip r:embed="rId3"/>
            <a:stretch/>
          </p:blipFill>
          <p:spPr>
            <a:xfrm>
              <a:off x="6040440" y="2030400"/>
              <a:ext cx="16765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 rot="11317800">
              <a:off x="6518160" y="2427120"/>
              <a:ext cx="8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泪滴形 5"/>
          <p:cNvGrpSpPr/>
          <p:nvPr/>
        </p:nvGrpSpPr>
        <p:grpSpPr>
          <a:xfrm>
            <a:off x="4572000" y="2030400"/>
            <a:ext cx="1657440" cy="1596960"/>
            <a:chOff x="4572000" y="2030400"/>
            <a:chExt cx="1657440" cy="1596960"/>
          </a:xfrm>
        </p:grpSpPr>
        <p:pic>
          <p:nvPicPr>
            <p:cNvPr id="669" name="泪滴形 5" descr=""/>
            <p:cNvPicPr/>
            <p:nvPr/>
          </p:nvPicPr>
          <p:blipFill>
            <a:blip r:embed="rId4"/>
            <a:stretch/>
          </p:blipFill>
          <p:spPr>
            <a:xfrm>
              <a:off x="4572000" y="2030400"/>
              <a:ext cx="16574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 rot="5026800">
              <a:off x="4966200" y="2428200"/>
              <a:ext cx="8031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21"/>
          <p:cNvSpPr/>
          <p:nvPr/>
        </p:nvSpPr>
        <p:spPr>
          <a:xfrm>
            <a:off x="0" y="252360"/>
            <a:ext cx="55260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22"/>
          <p:cNvSpPr/>
          <p:nvPr/>
        </p:nvSpPr>
        <p:spPr>
          <a:xfrm>
            <a:off x="773280" y="252360"/>
            <a:ext cx="188640" cy="662040"/>
          </a:xfrm>
          <a:prstGeom prst="rect">
            <a:avLst/>
          </a:prstGeom>
          <a:solidFill>
            <a:srgbClr val="f2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23"/>
          <p:cNvSpPr/>
          <p:nvPr/>
        </p:nvSpPr>
        <p:spPr>
          <a:xfrm>
            <a:off x="498960" y="220680"/>
            <a:ext cx="55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5f6d"/>
                </a:solidFill>
                <a:latin typeface="Calibri Light"/>
              </a:rPr>
              <a:t>Add your text i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3"/>
          <p:cNvGrpSpPr/>
          <p:nvPr/>
        </p:nvGrpSpPr>
        <p:grpSpPr>
          <a:xfrm>
            <a:off x="773280" y="1900080"/>
            <a:ext cx="3474720" cy="1306800"/>
            <a:chOff x="773280" y="1900080"/>
            <a:chExt cx="3474720" cy="1306800"/>
          </a:xfrm>
        </p:grpSpPr>
        <p:sp>
          <p:nvSpPr>
            <p:cNvPr id="675" name="Rectangle 44"/>
            <p:cNvSpPr/>
            <p:nvPr/>
          </p:nvSpPr>
          <p:spPr>
            <a:xfrm>
              <a:off x="773280" y="190008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5"/>
            <p:cNvSpPr/>
            <p:nvPr/>
          </p:nvSpPr>
          <p:spPr>
            <a:xfrm>
              <a:off x="773280" y="2232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8397720" y="1789200"/>
            <a:ext cx="3475080" cy="1306440"/>
            <a:chOff x="8397720" y="1789200"/>
            <a:chExt cx="3475080" cy="1306440"/>
          </a:xfrm>
        </p:grpSpPr>
        <p:sp>
          <p:nvSpPr>
            <p:cNvPr id="678" name="Rectangle 44"/>
            <p:cNvSpPr/>
            <p:nvPr/>
          </p:nvSpPr>
          <p:spPr>
            <a:xfrm>
              <a:off x="8397720" y="17892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5"/>
            <p:cNvSpPr/>
            <p:nvPr/>
          </p:nvSpPr>
          <p:spPr>
            <a:xfrm>
              <a:off x="8397720" y="21214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773280" y="4051440"/>
            <a:ext cx="3474720" cy="1306440"/>
            <a:chOff x="773280" y="4051440"/>
            <a:chExt cx="3474720" cy="1306440"/>
          </a:xfrm>
        </p:grpSpPr>
        <p:sp>
          <p:nvSpPr>
            <p:cNvPr id="681" name="Rectangle 44"/>
            <p:cNvSpPr/>
            <p:nvPr/>
          </p:nvSpPr>
          <p:spPr>
            <a:xfrm>
              <a:off x="773280" y="4051440"/>
              <a:ext cx="274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773280" y="4383720"/>
              <a:ext cx="34747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43"/>
          <p:cNvGrpSpPr/>
          <p:nvPr/>
        </p:nvGrpSpPr>
        <p:grpSpPr>
          <a:xfrm>
            <a:off x="8397720" y="4384800"/>
            <a:ext cx="3475080" cy="1306440"/>
            <a:chOff x="8397720" y="4384800"/>
            <a:chExt cx="3475080" cy="1306440"/>
          </a:xfrm>
        </p:grpSpPr>
        <p:sp>
          <p:nvSpPr>
            <p:cNvPr id="684" name="Rectangle 44"/>
            <p:cNvSpPr/>
            <p:nvPr/>
          </p:nvSpPr>
          <p:spPr>
            <a:xfrm>
              <a:off x="8397720" y="438480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8397720" y="471708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www.pptbz.com</dc:creator>
  <dc:description/>
  <cp:keywords/>
  <dc:language>en-US</dc:language>
  <cp:lastModifiedBy>a</cp:lastModifiedBy>
  <dcterms:modified xsi:type="dcterms:W3CDTF">2015-07-25T02:33:16Z</dcterms:modified>
  <cp:revision>80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