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B4C-AA8D-40E4-8BB8-17D7F63A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6A4-8110-4D4E-AC44-2016A1AA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F37-4E11-436E-9DBF-3C85DE19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130-C45F-427C-A90D-CE8507EA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561D-77E1-41A2-A55F-2AE73356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DF49-E8D1-4853-A046-16C2EB23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A617-FFF8-4F2E-A055-8437F85F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C19C-5D2B-439E-ADF0-DDFEC607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2FCE-F99F-46D8-9B42-1AD44CD0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1F48-5CD3-4A6D-AEE0-4FCF117B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74D2-6F1A-4938-98CD-069AE3CD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026-2598-4799-943D-0AC6ACD3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AB18-6554-4878-B00E-2BC0590A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CCF5-8F51-478E-B5CB-81B3698F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E5EC-6DC5-4C61-90AB-5FF1123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18FC-FBEB-46C8-9065-644C091D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934B-4943-4237-A7FA-20EA101F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4F3-A509-48BF-8165-7D8F1346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EA0-995C-44C0-9F53-E1331686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E7C-BA30-412E-8149-B6933258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13D-B968-4A19-B6D9-4727C719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5C4-E6E2-4C81-9C31-53BB919B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573-7705-4E9E-BE1A-93D7E46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11E-461B-4611-852E-63D12A7E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604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3DA-E574-4E44-A105-388D2AECDE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2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d528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06BE-4DF9-4DDC-94E9-F82CDC8500FE}" type="slidenum">
              <a:rPr b="0" lang="zh-CN" sz="1400" spc="-1" strike="noStrike">
                <a:solidFill>
                  <a:srgbClr val="1d528d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8062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微软官方模板之商务谈判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副标题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日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752480" y="228600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752480" y="304812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84e03"/>
              </a:gs>
              <a:gs pos="50000">
                <a:srgbClr val="bfa907"/>
              </a:gs>
              <a:gs pos="100000">
                <a:srgbClr val="584e0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1752480" y="380988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3c68"/>
              </a:gs>
              <a:gs pos="50000">
                <a:srgbClr val="6e81e0"/>
              </a:gs>
              <a:gs pos="100000">
                <a:srgbClr val="333c68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52480" y="457200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 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循环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5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4f4f4"/>
              </a:gs>
              <a:gs pos="100000">
                <a:srgbClr val="cacaca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a1c3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3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bfa907"/>
              </a:gs>
              <a:gs pos="100000">
                <a:srgbClr val="443c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1640160" y="3657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23180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7163640" y="241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37372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552760" y="5348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循环名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28" name="AutoShape 28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29" name="Text Box 29"/>
          <p:cNvSpPr/>
          <p:nvPr/>
        </p:nvSpPr>
        <p:spPr>
          <a:xfrm>
            <a:off x="101484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Verdana"/>
                <a:ea typeface="宋体"/>
              </a:rPr>
              <a:t>添加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流程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bfa907"/>
              </a:gs>
              <a:gs pos="100000">
                <a:srgbClr val="584e0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fa907"/>
              </a:gs>
              <a:gs pos="100000">
                <a:srgbClr val="584e0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框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63118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559400" y="32767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81952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0540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1111680" y="1782000"/>
            <a:ext cx="6437160" cy="1388160"/>
            <a:chOff x="1111680" y="1782000"/>
            <a:chExt cx="6437160" cy="1388160"/>
          </a:xfrm>
        </p:grpSpPr>
        <p:sp>
          <p:nvSpPr>
            <p:cNvPr id="143" name="Rectangle 10"/>
            <p:cNvSpPr/>
            <p:nvPr/>
          </p:nvSpPr>
          <p:spPr>
            <a:xfrm rot="3418800">
              <a:off x="1321920" y="20073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4" name="Group 11"/>
            <p:cNvGrpSpPr/>
            <p:nvPr/>
          </p:nvGrpSpPr>
          <p:grpSpPr>
            <a:xfrm>
              <a:off x="2286360" y="2179080"/>
              <a:ext cx="931680" cy="131760"/>
              <a:chOff x="2286360" y="2179080"/>
              <a:chExt cx="931680" cy="131760"/>
            </a:xfrm>
          </p:grpSpPr>
          <p:sp>
            <p:nvSpPr>
              <p:cNvPr id="145" name="Oval 12"/>
              <p:cNvSpPr/>
              <p:nvPr/>
            </p:nvSpPr>
            <p:spPr>
              <a:xfrm>
                <a:off x="228636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6" name="Rectangle 13"/>
              <p:cNvSpPr/>
              <p:nvPr/>
            </p:nvSpPr>
            <p:spPr>
              <a:xfrm>
                <a:off x="237564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7" name="Oval 14"/>
              <p:cNvSpPr/>
              <p:nvPr/>
            </p:nvSpPr>
            <p:spPr>
              <a:xfrm>
                <a:off x="3076920" y="21812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8" name="Oval 15"/>
              <p:cNvSpPr/>
              <p:nvPr/>
            </p:nvSpPr>
            <p:spPr>
              <a:xfrm>
                <a:off x="3154680" y="22222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9" name="Rectangle 16"/>
            <p:cNvSpPr/>
            <p:nvPr/>
          </p:nvSpPr>
          <p:spPr>
            <a:xfrm rot="3418800">
              <a:off x="3042000" y="19407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bfa907"/>
                </a:gs>
                <a:gs pos="100000">
                  <a:srgbClr val="584e0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0" name="Group 17"/>
            <p:cNvGrpSpPr/>
            <p:nvPr/>
          </p:nvGrpSpPr>
          <p:grpSpPr>
            <a:xfrm>
              <a:off x="4007880" y="2179080"/>
              <a:ext cx="931680" cy="131760"/>
              <a:chOff x="4007880" y="2179080"/>
              <a:chExt cx="931680" cy="131760"/>
            </a:xfrm>
          </p:grpSpPr>
          <p:sp>
            <p:nvSpPr>
              <p:cNvPr id="151" name="Oval 18"/>
              <p:cNvSpPr/>
              <p:nvPr/>
            </p:nvSpPr>
            <p:spPr>
              <a:xfrm>
                <a:off x="40078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2" name="Rectangle 19"/>
              <p:cNvSpPr/>
              <p:nvPr/>
            </p:nvSpPr>
            <p:spPr>
              <a:xfrm>
                <a:off x="40971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3" name="Oval 20"/>
              <p:cNvSpPr/>
              <p:nvPr/>
            </p:nvSpPr>
            <p:spPr>
              <a:xfrm>
                <a:off x="4798440" y="21812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4" name="Oval 21"/>
              <p:cNvSpPr/>
              <p:nvPr/>
            </p:nvSpPr>
            <p:spPr>
              <a:xfrm>
                <a:off x="4874400" y="22222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5" name="Rectangle 22"/>
            <p:cNvSpPr/>
            <p:nvPr/>
          </p:nvSpPr>
          <p:spPr>
            <a:xfrm rot="3418800">
              <a:off x="4692240" y="19407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729040" y="2179080"/>
              <a:ext cx="1218240" cy="131760"/>
              <a:chOff x="5729040" y="2179080"/>
              <a:chExt cx="1218240" cy="131760"/>
            </a:xfrm>
          </p:grpSpPr>
          <p:sp>
            <p:nvSpPr>
              <p:cNvPr id="157" name="Oval 24"/>
              <p:cNvSpPr/>
              <p:nvPr/>
            </p:nvSpPr>
            <p:spPr>
              <a:xfrm>
                <a:off x="572904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4568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9" name="Oval 26"/>
              <p:cNvSpPr/>
              <p:nvPr/>
            </p:nvSpPr>
            <p:spPr>
              <a:xfrm>
                <a:off x="6762600" y="21812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0" name="Oval 27"/>
              <p:cNvSpPr/>
              <p:nvPr/>
            </p:nvSpPr>
            <p:spPr>
              <a:xfrm>
                <a:off x="6861960" y="22222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1" name="Rectangle 28"/>
            <p:cNvSpPr/>
            <p:nvPr/>
          </p:nvSpPr>
          <p:spPr>
            <a:xfrm rot="3418800">
              <a:off x="6413760" y="1941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bfa907"/>
                </a:gs>
                <a:gs pos="100000">
                  <a:srgbClr val="584e0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2" name="Rectangle 30"/>
          <p:cNvSpPr/>
          <p:nvPr/>
        </p:nvSpPr>
        <p:spPr>
          <a:xfrm>
            <a:off x="159804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335052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32"/>
          <p:cNvSpPr/>
          <p:nvPr/>
        </p:nvSpPr>
        <p:spPr>
          <a:xfrm>
            <a:off x="495072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670356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160452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335700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510948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86232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838160"/>
          <a:ext cx="7620120" cy="7212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三维饼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Arc 8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Arc 9"/>
          <p:cNvSpPr/>
          <p:nvPr/>
        </p:nvSpPr>
        <p:spPr>
          <a:xfrm rot="20601600">
            <a:off x="4167360" y="2268360"/>
            <a:ext cx="2849400" cy="1538640"/>
          </a:xfrm>
          <a:prstGeom prst="pi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Arc 10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Arc 11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Arc 12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Freeform 13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Freeform 14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3" name="Group 15"/>
          <p:cNvGrpSpPr/>
          <p:nvPr/>
        </p:nvGrpSpPr>
        <p:grpSpPr>
          <a:xfrm>
            <a:off x="3988800" y="2935440"/>
            <a:ext cx="3251880" cy="2231640"/>
            <a:chOff x="3988800" y="2935440"/>
            <a:chExt cx="3251880" cy="2231640"/>
          </a:xfrm>
        </p:grpSpPr>
        <p:sp>
          <p:nvSpPr>
            <p:cNvPr id="184" name="Arc 16"/>
            <p:cNvSpPr/>
            <p:nvPr/>
          </p:nvSpPr>
          <p:spPr>
            <a:xfrm rot="20712600">
              <a:off x="4102200" y="329040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87" name="Group 24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188" name="Freeform 19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Arc 20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>
                <a:gd name="textAreaLeft" fmla="*/ 0 w 2905200"/>
                <a:gd name="textAreaRight" fmla="*/ 2905200 w 290520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1" name="Oval 22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5871600" y="2725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271400" y="2268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442600" y="3030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2214000" y="4325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3966480" y="4554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5947920" y="37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36"/>
          <p:cNvGrpSpPr/>
          <p:nvPr/>
        </p:nvGrpSpPr>
        <p:grpSpPr>
          <a:xfrm>
            <a:off x="838080" y="4267080"/>
            <a:ext cx="1513080" cy="1511280"/>
            <a:chOff x="838080" y="4267080"/>
            <a:chExt cx="1513080" cy="1511280"/>
          </a:xfrm>
        </p:grpSpPr>
        <p:sp>
          <p:nvSpPr>
            <p:cNvPr id="200" name="Oval 37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81e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Oval 38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d2c352"/>
                </a:gs>
                <a:gs pos="100000">
                  <a:srgbClr val="bfa9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39"/>
            <p:cNvSpPr/>
            <p:nvPr/>
          </p:nvSpPr>
          <p:spPr>
            <a:xfrm>
              <a:off x="936000" y="43650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3c4679"/>
                </a:gs>
                <a:gs pos="50000">
                  <a:srgbClr val="6e81e0"/>
                </a:gs>
                <a:gs pos="100000">
                  <a:srgbClr val="3c46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40"/>
            <p:cNvSpPr/>
            <p:nvPr/>
          </p:nvSpPr>
          <p:spPr>
            <a:xfrm>
              <a:off x="936000" y="43650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bfa907"/>
                </a:gs>
                <a:gs pos="100000">
                  <a:srgbClr val="5d52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Oval 41"/>
            <p:cNvSpPr/>
            <p:nvPr/>
          </p:nvSpPr>
          <p:spPr>
            <a:xfrm>
              <a:off x="1002960" y="4431600"/>
              <a:ext cx="1182240" cy="1180800"/>
            </a:xfrm>
            <a:prstGeom prst="ellipse">
              <a:avLst/>
            </a:prstGeom>
            <a:gradFill rotWithShape="0">
              <a:gsLst>
                <a:gs pos="0">
                  <a:srgbClr val="584e03"/>
                </a:gs>
                <a:gs pos="100000">
                  <a:srgbClr val="bfa9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市场分析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1463760" y="25560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acaca"/>
              </a:gs>
              <a:gs pos="100000">
                <a:srgbClr val="edede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4486320" y="4280040"/>
            <a:ext cx="1512720" cy="1511280"/>
            <a:chOff x="4486320" y="4280040"/>
            <a:chExt cx="1512720" cy="1511280"/>
          </a:xfrm>
        </p:grpSpPr>
        <p:sp>
          <p:nvSpPr>
            <p:cNvPr id="208" name="Oval 7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dc5e2"/>
                </a:gs>
                <a:gs pos="100000">
                  <a:srgbClr val="00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458424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458424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a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Oval 11"/>
            <p:cNvSpPr/>
            <p:nvPr/>
          </p:nvSpPr>
          <p:spPr>
            <a:xfrm>
              <a:off x="4651200" y="444456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3" name="Group 18"/>
          <p:cNvGrpSpPr/>
          <p:nvPr/>
        </p:nvGrpSpPr>
        <p:grpSpPr>
          <a:xfrm>
            <a:off x="6359400" y="4280040"/>
            <a:ext cx="1513080" cy="1511280"/>
            <a:chOff x="6359400" y="4280040"/>
            <a:chExt cx="1513080" cy="1511280"/>
          </a:xfrm>
        </p:grpSpPr>
        <p:sp>
          <p:nvSpPr>
            <p:cNvPr id="214" name="Oval 19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Oval 20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55bbb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Oval 21"/>
            <p:cNvSpPr/>
            <p:nvPr/>
          </p:nvSpPr>
          <p:spPr>
            <a:xfrm>
              <a:off x="6457320" y="437796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Oval 22"/>
            <p:cNvSpPr/>
            <p:nvPr/>
          </p:nvSpPr>
          <p:spPr>
            <a:xfrm>
              <a:off x="6457320" y="437796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a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Oval 23"/>
            <p:cNvSpPr/>
            <p:nvPr/>
          </p:nvSpPr>
          <p:spPr>
            <a:xfrm>
              <a:off x="6524280" y="4444560"/>
              <a:ext cx="1182240" cy="118080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9" name="Group 24"/>
          <p:cNvGrpSpPr/>
          <p:nvPr/>
        </p:nvGrpSpPr>
        <p:grpSpPr>
          <a:xfrm>
            <a:off x="2687760" y="4280040"/>
            <a:ext cx="1512720" cy="1511280"/>
            <a:chOff x="2687760" y="4280040"/>
            <a:chExt cx="1512720" cy="1511280"/>
          </a:xfrm>
        </p:grpSpPr>
        <p:sp>
          <p:nvSpPr>
            <p:cNvPr id="220" name="Oval 25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81e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9aa7e9"/>
                </a:gs>
                <a:gs pos="100000">
                  <a:srgbClr val="6e81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7"/>
            <p:cNvSpPr/>
            <p:nvPr/>
          </p:nvSpPr>
          <p:spPr>
            <a:xfrm>
              <a:off x="278568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3c4679"/>
                </a:gs>
                <a:gs pos="50000">
                  <a:srgbClr val="6e81e0"/>
                </a:gs>
                <a:gs pos="100000">
                  <a:srgbClr val="3c46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278568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6e81e0"/>
                </a:gs>
                <a:gs pos="100000">
                  <a:srgbClr val="353f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9"/>
            <p:cNvSpPr/>
            <p:nvPr/>
          </p:nvSpPr>
          <p:spPr>
            <a:xfrm>
              <a:off x="2852640" y="444456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333c68"/>
                </a:gs>
                <a:gs pos="100000">
                  <a:srgbClr val="6e81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AutoShape 31"/>
          <p:cNvSpPr/>
          <p:nvPr/>
        </p:nvSpPr>
        <p:spPr>
          <a:xfrm>
            <a:off x="1905120" y="19177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50000">
                <a:srgbClr val="dce0f7"/>
              </a:gs>
              <a:gs pos="100000">
                <a:srgbClr val="6e81e0"/>
              </a:gs>
            </a:gsLst>
            <a:lin ang="0"/>
          </a:gradFill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标题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Rectangle 32"/>
          <p:cNvSpPr/>
          <p:nvPr/>
        </p:nvSpPr>
        <p:spPr>
          <a:xfrm>
            <a:off x="13759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50335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32047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6938280" y="488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3:32:09Z</dcterms:created>
  <dc:creator>ppt宝藏</dc:creator>
  <dc:description/>
  <dc:language>en-US</dc:language>
  <cp:lastModifiedBy>a</cp:lastModifiedBy>
  <dcterms:modified xsi:type="dcterms:W3CDTF">2015-07-25T06:33:59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2052</vt:lpwstr>
  </property>
</Properties>
</file>