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hdphoto2.wdp" ContentType="image/vnd.ms-photo"/>
  <Override PartName="/ppt/media/image12.png" ContentType="image/png"/>
  <Override PartName="/ppt/media/image11.png" ContentType="image/png"/>
  <Override PartName="/ppt/media/hdphoto1.wdp" ContentType="image/vnd.ms-photo"/>
  <Override PartName="/ppt/media/image16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29.png" ContentType="image/png"/>
  <Override PartName="/ppt/media/image31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A34441-8434-4F7A-81D1-6AE24FA47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742EE4-84AE-4C45-80AC-C4739D89EFA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E14650-4598-438A-B1EC-74BD67CD99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F4707D-811D-41A5-B439-5231EA3C0C8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5994CC-5ED9-4FE7-B20E-88607F98FA6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45FF33-18B2-4F07-B77D-AAD8731F0B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4A4E7B-72CC-4884-9432-64F5711C107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67C6C4-48C1-4A27-9196-9EEC9B21EA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F4DAD3-F385-479C-9638-A59CAB1864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107D3-43A7-47E1-8565-D096B57F81F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F3EA99-223B-4796-BB40-E8B803F7978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0E48C9-AE49-4B59-B25E-25564783D1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5294E7-BFAB-4BF3-9DDE-62182D782A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E6F0CF-0CDB-48F9-A305-36C9713C25B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3F1D29-3BFE-45C3-8D32-7B8D0FD8328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0C4CE0-F435-4401-8E10-C737F52A916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06656C-B2F8-4F9E-9489-E06210313AA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5D7D2A-9D72-49A4-A03C-4CEC1CF5814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47CA2A-5B7A-4F5B-9341-D7DF31A372D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96487E-4164-48E5-AA55-BBB00E68F9A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E47-356C-42DC-8CDD-BA4DB31B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99B-0BFC-4D53-8F3E-37365CD7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139-574B-4E39-8A8C-F383DD77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D65-A1A0-482C-9CB2-86B8B4F0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87F-C8B8-40C9-BFF6-47BF186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5AE-E5BC-4F6F-BAD3-DF4A3A18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954-7C3E-4E6E-83B3-482B89E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B71-FB41-4A8E-89BB-E315865E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AAC-E2BF-48D4-A766-51AC1B29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E31-4926-44BA-9718-67FA2D3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B66-91ED-48A6-BC61-32788BB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E39-4993-4DA1-9637-F1E7CADA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03182F-6051-44C4-86DA-08A5AD070CD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microsoft.com/office/2007/relationships/hdphoto" Target="../media/hdphoto2.wdp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microsoft.com/office/2007/relationships/hdphoto" Target="../media/hdphoto1.wdp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2"/>
          <a:stretch/>
        </p:blipFill>
        <p:spPr>
          <a:xfrm>
            <a:off x="3852000" y="404640"/>
            <a:ext cx="4427640" cy="353196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"/>
          <p:cNvSpPr/>
          <p:nvPr/>
        </p:nvSpPr>
        <p:spPr>
          <a:xfrm>
            <a:off x="7184520" y="3465360"/>
            <a:ext cx="302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李响 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6" descr=""/>
          <p:cNvPicPr/>
          <p:nvPr/>
        </p:nvPicPr>
        <p:blipFill>
          <a:blip r:embed="rId3"/>
          <a:stretch/>
        </p:blipFill>
        <p:spPr>
          <a:xfrm>
            <a:off x="886320" y="1170000"/>
            <a:ext cx="1849680" cy="261864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sp>
        <p:nvSpPr>
          <p:cNvPr id="5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grpSp>
        <p:nvGrpSpPr>
          <p:cNvPr id="131" name="组合 4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132" name="矩形 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4" name="文本框 8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年轻人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表格 9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e99e39"/>
                          </a:solidFill>
                          <a:latin typeface="华康少女文字W5(P)"/>
                          <a:ea typeface="华康少女文字W5(P)"/>
                        </a:rPr>
                        <a:t>申晨</a:t>
                      </a:r>
                      <a:r>
                        <a:rPr b="1" lang="en-US" sz="2400" spc="-1" strike="noStrike">
                          <a:solidFill>
                            <a:srgbClr val="e99e39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/>
                    </a:solidFill>
                  </a:tcPr>
                </a:tc>
              </a:tr>
            </a:tbl>
          </a:graphicData>
        </a:graphic>
      </p:graphicFrame>
      <p:sp>
        <p:nvSpPr>
          <p:cNvPr id="136" name="文本框 10"/>
          <p:cNvSpPr/>
          <p:nvPr/>
        </p:nvSpPr>
        <p:spPr>
          <a:xfrm>
            <a:off x="932400" y="5488920"/>
            <a:ext cx="6159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谁都不是一生出来什么都会的，问一次，记住了，下次就多个本事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内容占位符 11" descr=""/>
          <p:cNvPicPr/>
          <p:nvPr/>
        </p:nvPicPr>
        <p:blipFill>
          <a:blip r:embed="rId2"/>
          <a:stretch/>
        </p:blipFill>
        <p:spPr>
          <a:xfrm>
            <a:off x="7092360" y="3402000"/>
            <a:ext cx="1483200" cy="1644120"/>
          </a:xfrm>
          <a:prstGeom prst="rect">
            <a:avLst/>
          </a:prstGeom>
          <a:ln w="0">
            <a:noFill/>
          </a:ln>
        </p:spPr>
      </p:pic>
      <p:sp>
        <p:nvSpPr>
          <p:cNvPr id="138" name="图片 12"/>
          <p:cNvSpPr/>
          <p:nvPr/>
        </p:nvSpPr>
        <p:spPr>
          <a:xfrm>
            <a:off x="7003800" y="2275560"/>
            <a:ext cx="1305720" cy="136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e99e39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表格 13"/>
          <p:cNvGraphicFramePr/>
          <p:nvPr/>
        </p:nvGraphicFramePr>
        <p:xfrm>
          <a:off x="1259640" y="1845000"/>
          <a:ext cx="4771800" cy="1403280"/>
        </p:xfrm>
        <a:graphic>
          <a:graphicData uri="http://schemas.openxmlformats.org/drawingml/2006/table">
            <a:tbl>
              <a:tblPr/>
              <a:tblGrid>
                <a:gridCol w="1578240"/>
                <a:gridCol w="31935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要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   “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我不会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大家都是从新人学过来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要敢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   “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问问题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新人不懂问问题不丢脸，都可以被理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图片 3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grpSp>
        <p:nvGrpSpPr>
          <p:cNvPr id="142" name="组合 4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143" name="矩形 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矩形 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5" name="文本框 8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简历、面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表格 9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e99e39"/>
                          </a:solidFill>
                          <a:latin typeface="华康少女文字W5(P)"/>
                          <a:ea typeface="华康少女文字W5(P)"/>
                        </a:rPr>
                        <a:t>申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e99e39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/>
                    </a:solidFill>
                  </a:tcPr>
                </a:tc>
              </a:tr>
            </a:tbl>
          </a:graphicData>
        </a:graphic>
      </p:graphicFrame>
      <p:sp>
        <p:nvSpPr>
          <p:cNvPr id="147" name="文本框 10"/>
          <p:cNvSpPr/>
          <p:nvPr/>
        </p:nvSpPr>
        <p:spPr>
          <a:xfrm>
            <a:off x="870840" y="573624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人应该要有自己的格局，还要会自己布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内容占位符 11" descr=""/>
          <p:cNvPicPr/>
          <p:nvPr/>
        </p:nvPicPr>
        <p:blipFill>
          <a:blip r:embed="rId2"/>
          <a:stretch/>
        </p:blipFill>
        <p:spPr>
          <a:xfrm>
            <a:off x="7092360" y="3402000"/>
            <a:ext cx="1483200" cy="1644120"/>
          </a:xfrm>
          <a:prstGeom prst="rect">
            <a:avLst/>
          </a:prstGeom>
          <a:ln w="0">
            <a:noFill/>
          </a:ln>
        </p:spPr>
      </p:pic>
      <p:sp>
        <p:nvSpPr>
          <p:cNvPr id="149" name="图片 12"/>
          <p:cNvSpPr/>
          <p:nvPr/>
        </p:nvSpPr>
        <p:spPr>
          <a:xfrm>
            <a:off x="7003800" y="2275560"/>
            <a:ext cx="1305720" cy="136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e99e39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表格 13"/>
          <p:cNvGraphicFramePr/>
          <p:nvPr/>
        </p:nvGraphicFramePr>
        <p:xfrm>
          <a:off x="1187640" y="1879200"/>
          <a:ext cx="4771800" cy="793440"/>
        </p:xfrm>
        <a:graphic>
          <a:graphicData uri="http://schemas.openxmlformats.org/drawingml/2006/table">
            <a:tbl>
              <a:tblPr/>
              <a:tblGrid>
                <a:gridCol w="713520"/>
                <a:gridCol w="40582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简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适合公司、适合岗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作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表格 14"/>
          <p:cNvGraphicFramePr/>
          <p:nvPr/>
        </p:nvGraphicFramePr>
        <p:xfrm>
          <a:off x="1835640" y="3141000"/>
          <a:ext cx="4771800" cy="801720"/>
        </p:xfrm>
        <a:graphic>
          <a:graphicData uri="http://schemas.openxmlformats.org/drawingml/2006/table">
            <a:tbl>
              <a:tblPr/>
              <a:tblGrid>
                <a:gridCol w="713520"/>
                <a:gridCol w="4058280"/>
              </a:tblGrid>
              <a:tr h="40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面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摆正心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认真思考再作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图片 3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grpSp>
        <p:nvGrpSpPr>
          <p:cNvPr id="154" name="组合 4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155" name="矩形 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矩形 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7" name="文本框 8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今天你“细心”了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表格 9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e99e39"/>
                          </a:solidFill>
                          <a:latin typeface="华康少女文字W5(P)"/>
                          <a:ea typeface="华康少女文字W5(P)"/>
                        </a:rPr>
                        <a:t>石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e99e39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/>
                    </a:solidFill>
                  </a:tcPr>
                </a:tc>
              </a:tr>
            </a:tbl>
          </a:graphicData>
        </a:graphic>
      </p:graphicFrame>
      <p:sp>
        <p:nvSpPr>
          <p:cNvPr id="159" name="文本框 10"/>
          <p:cNvSpPr/>
          <p:nvPr/>
        </p:nvSpPr>
        <p:spPr>
          <a:xfrm>
            <a:off x="932400" y="5488920"/>
            <a:ext cx="7023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不把时间花在斤斤计较、公司八卦、明星八卦上面，不做团队里的不稳定因素，用心地对待自己每一次小小的工作任务，小胖子也有春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内容占位符 11" descr=""/>
          <p:cNvPicPr/>
          <p:nvPr/>
        </p:nvPicPr>
        <p:blipFill>
          <a:blip r:embed="rId2"/>
          <a:stretch/>
        </p:blipFill>
        <p:spPr>
          <a:xfrm>
            <a:off x="7092360" y="3402000"/>
            <a:ext cx="1483200" cy="1644120"/>
          </a:xfrm>
          <a:prstGeom prst="rect">
            <a:avLst/>
          </a:prstGeom>
          <a:ln w="0">
            <a:noFill/>
          </a:ln>
        </p:spPr>
      </p:pic>
      <p:sp>
        <p:nvSpPr>
          <p:cNvPr id="161" name="图片 12"/>
          <p:cNvSpPr/>
          <p:nvPr/>
        </p:nvSpPr>
        <p:spPr>
          <a:xfrm>
            <a:off x="7003800" y="2275560"/>
            <a:ext cx="1305720" cy="136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e99e39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表格 2"/>
          <p:cNvGraphicFramePr/>
          <p:nvPr/>
        </p:nvGraphicFramePr>
        <p:xfrm>
          <a:off x="251640" y="1417680"/>
          <a:ext cx="6264360" cy="2970000"/>
        </p:xfrm>
        <a:graphic>
          <a:graphicData uri="http://schemas.openxmlformats.org/drawingml/2006/table">
            <a:tbl>
              <a:tblPr/>
              <a:tblGrid>
                <a:gridCol w="1231200"/>
                <a:gridCol w="1044000"/>
                <a:gridCol w="1405440"/>
                <a:gridCol w="1003680"/>
                <a:gridCol w="1579320"/>
              </a:tblGrid>
              <a:tr h="26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失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正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突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结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务必不要吃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务必不要迟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造成多人误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</a:tr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应征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期待月薪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50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期待月薪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0.5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直接被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秘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切忌穿正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切记穿正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被开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9e39">
                        <a:alpha val="49000"/>
                      </a:srgbClr>
                    </a:solidFill>
                  </a:tcPr>
                </a:tc>
              </a:tr>
              <a:tr h="131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新人（申晨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完成书面通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完成后还制作小卡片，记录工作人员联系方式，天气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大家都记住这个细心的小胖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164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92d05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半闭框 8"/>
          <p:cNvSpPr/>
          <p:nvPr/>
        </p:nvSpPr>
        <p:spPr>
          <a:xfrm>
            <a:off x="2923200" y="214848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92d05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没有退路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被认可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突发事件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1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170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172" name="表格 14"/>
          <p:cNvGraphicFramePr/>
          <p:nvPr/>
        </p:nvGraphicFramePr>
        <p:xfrm>
          <a:off x="644400" y="5273640"/>
          <a:ext cx="8100360" cy="1190160"/>
        </p:xfrm>
        <a:graphic>
          <a:graphicData uri="http://schemas.openxmlformats.org/drawingml/2006/table">
            <a:tbl>
              <a:tblPr/>
              <a:tblGrid>
                <a:gridCol w="8100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大学一门功课考试很可能挂科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电视台面试，资历远低于竞争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被某公司老总贬得一文不值，还带有侮辱成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电视节目缺有经验的主持人，快办不下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文本框 17"/>
          <p:cNvSpPr/>
          <p:nvPr/>
        </p:nvSpPr>
        <p:spPr>
          <a:xfrm>
            <a:off x="1444680" y="44064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92d050"/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175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92d05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半闭框 8"/>
          <p:cNvSpPr/>
          <p:nvPr/>
        </p:nvSpPr>
        <p:spPr>
          <a:xfrm>
            <a:off x="2923200" y="214848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92d05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1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180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182" name="表格 14"/>
          <p:cNvGraphicFramePr/>
          <p:nvPr/>
        </p:nvGraphicFramePr>
        <p:xfrm>
          <a:off x="1076400" y="5301360"/>
          <a:ext cx="7832520" cy="1216440"/>
        </p:xfrm>
        <a:graphic>
          <a:graphicData uri="http://schemas.openxmlformats.org/drawingml/2006/table">
            <a:tbl>
              <a:tblPr/>
              <a:tblGrid>
                <a:gridCol w="78328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用自己的知识与诚意跟老师商量，成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用黑色简历搏一搏，成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用一年的时间，披星戴月地工作，成为公司的顶梁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逼着自己想对策，策划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《明星记者会》，活了，火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图片 2"/>
          <p:cNvSpPr/>
          <p:nvPr/>
        </p:nvSpPr>
        <p:spPr>
          <a:xfrm>
            <a:off x="912240" y="748080"/>
            <a:ext cx="2132280" cy="1574640"/>
          </a:xfrm>
          <a:prstGeom prst="roundRect">
            <a:avLst>
              <a:gd name="adj" fmla="val 8594"/>
            </a:avLst>
          </a:prstGeom>
          <a:blipFill rotWithShape="0"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6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表格 17"/>
          <p:cNvGraphicFramePr/>
          <p:nvPr/>
        </p:nvGraphicFramePr>
        <p:xfrm>
          <a:off x="4083840" y="1612440"/>
          <a:ext cx="4180320" cy="155520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没有退路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峰回路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被认可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实力说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突发事件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生于忧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图片 18"/>
          <p:cNvSpPr/>
          <p:nvPr/>
        </p:nvSpPr>
        <p:spPr>
          <a:xfrm>
            <a:off x="644400" y="5373360"/>
            <a:ext cx="346680" cy="35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图片 19"/>
          <p:cNvSpPr/>
          <p:nvPr/>
        </p:nvSpPr>
        <p:spPr>
          <a:xfrm>
            <a:off x="644400" y="5761440"/>
            <a:ext cx="346680" cy="35964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图片 20"/>
          <p:cNvSpPr/>
          <p:nvPr/>
        </p:nvSpPr>
        <p:spPr>
          <a:xfrm>
            <a:off x="644400" y="6164280"/>
            <a:ext cx="346680" cy="359640"/>
          </a:xfrm>
          <a:prstGeom prst="ellipse">
            <a:avLst/>
          </a:prstGeom>
          <a:blipFill rotWithShape="0">
            <a:blip r:embed="rId6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1"/>
          <p:cNvSpPr/>
          <p:nvPr/>
        </p:nvSpPr>
        <p:spPr>
          <a:xfrm>
            <a:off x="628560" y="2966040"/>
            <a:ext cx="3422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92d050"/>
                </a:solidFill>
                <a:latin typeface="华康少女文字W5(P)"/>
                <a:ea typeface="华康少女文字W5(P)"/>
              </a:rPr>
              <a:t>刘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92d050"/>
                </a:solidFill>
                <a:latin typeface="华康少女文字W5(P)"/>
                <a:ea typeface="华康少女文字W5(P)"/>
              </a:rPr>
              <a:t>光线传媒事业部联合总经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640" y="6397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grpSp>
        <p:nvGrpSpPr>
          <p:cNvPr id="191" name="组合 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192" name="矩形 3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矩形 4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4" name="文本框 6"/>
          <p:cNvSpPr/>
          <p:nvPr/>
        </p:nvSpPr>
        <p:spPr>
          <a:xfrm rot="21406200">
            <a:off x="840240" y="527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一年修成“职业电视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刘同</a:t>
                      </a:r>
                      <a:r>
                        <a:rPr b="1" lang="en-US" sz="24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96" name="文本框 9"/>
          <p:cNvSpPr/>
          <p:nvPr/>
        </p:nvSpPr>
        <p:spPr>
          <a:xfrm>
            <a:off x="870840" y="5264640"/>
            <a:ext cx="7402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在我们生命当中，总有一些人激怒你，有一些人令你讨厌，但当你实现梦想的时候，反而会突然觉得，那些人的存在其实还蛮好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谢谢你这一年给我的机会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1" descr=""/>
          <p:cNvPicPr/>
          <p:nvPr/>
        </p:nvPicPr>
        <p:blipFill>
          <a:blip r:embed="rId2"/>
          <a:stretch/>
        </p:blipFill>
        <p:spPr>
          <a:xfrm>
            <a:off x="6948360" y="3337920"/>
            <a:ext cx="1630440" cy="1807560"/>
          </a:xfrm>
          <a:prstGeom prst="rect">
            <a:avLst/>
          </a:prstGeom>
          <a:ln w="0">
            <a:noFill/>
          </a:ln>
        </p:spPr>
      </p:pic>
      <p:sp>
        <p:nvSpPr>
          <p:cNvPr id="198" name="图片 13"/>
          <p:cNvSpPr/>
          <p:nvPr/>
        </p:nvSpPr>
        <p:spPr>
          <a:xfrm>
            <a:off x="7093800" y="2358720"/>
            <a:ext cx="1172520" cy="121572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2d05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表格 14"/>
          <p:cNvGraphicFramePr/>
          <p:nvPr/>
        </p:nvGraphicFramePr>
        <p:xfrm>
          <a:off x="1054800" y="1208520"/>
          <a:ext cx="5328360" cy="3297240"/>
        </p:xfrm>
        <a:graphic>
          <a:graphicData uri="http://schemas.openxmlformats.org/drawingml/2006/table">
            <a:tbl>
              <a:tblPr/>
              <a:tblGrid>
                <a:gridCol w="1080000"/>
                <a:gridCol w="4248360"/>
              </a:tblGrid>
              <a:tr h="3628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10a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起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11a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到公司审片，然后发带子到电视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1p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批自己的选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3p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与编导开会商量明天选题的策划与拍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5p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审当日记者带来的片子，指导撰写、配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8p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盯主持人录制，结束后开会总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11p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审所有记者的粗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3/4a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交代当日轮班的责编然后再看看一天的新闻，琢磨明天的题材和角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5a.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回家睡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grpSp>
        <p:nvGrpSpPr>
          <p:cNvPr id="201" name="组合 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202" name="矩形 3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3" name="矩形 4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创新</a:t>
            </a:r>
            <a:r>
              <a:rPr b="0" lang="en-US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~</a:t>
            </a: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《明星记者会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刘同</a:t>
                      </a:r>
                      <a:r>
                        <a:rPr b="1" lang="en-US" sz="24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206" name="文本框 9"/>
          <p:cNvSpPr/>
          <p:nvPr/>
        </p:nvSpPr>
        <p:spPr>
          <a:xfrm>
            <a:off x="971640" y="57967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电视人应该努力让自己有良心。做不到太多，总得从自己做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" descr=""/>
          <p:cNvPicPr/>
          <p:nvPr/>
        </p:nvPicPr>
        <p:blipFill>
          <a:blip r:embed="rId2"/>
          <a:stretch/>
        </p:blipFill>
        <p:spPr>
          <a:xfrm>
            <a:off x="6948360" y="3337920"/>
            <a:ext cx="1630440" cy="1807560"/>
          </a:xfrm>
          <a:prstGeom prst="rect">
            <a:avLst/>
          </a:prstGeom>
          <a:ln w="0">
            <a:noFill/>
          </a:ln>
        </p:spPr>
      </p:pic>
      <p:sp>
        <p:nvSpPr>
          <p:cNvPr id="208" name="图片 13"/>
          <p:cNvSpPr/>
          <p:nvPr/>
        </p:nvSpPr>
        <p:spPr>
          <a:xfrm>
            <a:off x="7093800" y="2358720"/>
            <a:ext cx="1172520" cy="121572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2d05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表格 5"/>
          <p:cNvGraphicFramePr/>
          <p:nvPr/>
        </p:nvGraphicFramePr>
        <p:xfrm>
          <a:off x="819360" y="1776240"/>
          <a:ext cx="5552280" cy="1736280"/>
        </p:xfrm>
        <a:graphic>
          <a:graphicData uri="http://schemas.openxmlformats.org/drawingml/2006/table">
            <a:tbl>
              <a:tblPr/>
              <a:tblGrid>
                <a:gridCol w="1485000"/>
                <a:gridCol w="406764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原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主持人是新人，经验不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效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八个脑袋对一个脑袋，尴尬不见了，现场气氛保持活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意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收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明星嘉宾展现真实一面，彼此的心更容易走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212" name="矩形 3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矩形 4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92d05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4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半年广告人的领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刘同</a:t>
                      </a:r>
                      <a:r>
                        <a:rPr b="1" lang="en-US" sz="24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216" name="文本框 9"/>
          <p:cNvSpPr/>
          <p:nvPr/>
        </p:nvSpPr>
        <p:spPr>
          <a:xfrm>
            <a:off x="876240" y="573336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与人方便，就是与己方便。你怎么对别人，别人就会怎么对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"/>
          <p:cNvPicPr/>
          <p:nvPr/>
        </p:nvPicPr>
        <p:blipFill>
          <a:blip r:embed="rId2"/>
          <a:stretch/>
        </p:blipFill>
        <p:spPr>
          <a:xfrm>
            <a:off x="6948360" y="3337920"/>
            <a:ext cx="1630440" cy="1807560"/>
          </a:xfrm>
          <a:prstGeom prst="rect">
            <a:avLst/>
          </a:prstGeom>
          <a:ln w="0">
            <a:noFill/>
          </a:ln>
        </p:spPr>
      </p:pic>
      <p:sp>
        <p:nvSpPr>
          <p:cNvPr id="218" name="图片 13"/>
          <p:cNvSpPr/>
          <p:nvPr/>
        </p:nvSpPr>
        <p:spPr>
          <a:xfrm>
            <a:off x="7093800" y="2358720"/>
            <a:ext cx="1172520" cy="121572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2d05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表格 10"/>
          <p:cNvGraphicFramePr/>
          <p:nvPr/>
        </p:nvGraphicFramePr>
        <p:xfrm>
          <a:off x="876240" y="2172600"/>
          <a:ext cx="5328360" cy="1403280"/>
        </p:xfrm>
        <a:graphic>
          <a:graphicData uri="http://schemas.openxmlformats.org/drawingml/2006/table">
            <a:tbl>
              <a:tblPr/>
              <a:tblGrid>
                <a:gridCol w="1592280"/>
                <a:gridCol w="373608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懂销售的业务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以为节目时艺术，不考虑是否有价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懂业务的销售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把自己看低，忽略节目价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221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00b0f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半闭框 8"/>
          <p:cNvSpPr/>
          <p:nvPr/>
        </p:nvSpPr>
        <p:spPr>
          <a:xfrm>
            <a:off x="2252160" y="256212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00b0f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7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226" name="矩形 18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矩形 19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228" name="表格 12"/>
          <p:cNvGraphicFramePr/>
          <p:nvPr/>
        </p:nvGraphicFramePr>
        <p:xfrm>
          <a:off x="4083840" y="1612440"/>
          <a:ext cx="5059800" cy="1555200"/>
        </p:xfrm>
        <a:graphic>
          <a:graphicData uri="http://schemas.openxmlformats.org/drawingml/2006/table">
            <a:tbl>
              <a:tblPr/>
              <a:tblGrid>
                <a:gridCol w="5059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怎么“将兴趣化成生产力”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怎么“得到晋升”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学与做不对口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表格 15"/>
          <p:cNvGraphicFramePr/>
          <p:nvPr/>
        </p:nvGraphicFramePr>
        <p:xfrm>
          <a:off x="644400" y="5273640"/>
          <a:ext cx="8100360" cy="1190160"/>
        </p:xfrm>
        <a:graphic>
          <a:graphicData uri="http://schemas.openxmlformats.org/drawingml/2006/table">
            <a:tbl>
              <a:tblPr/>
              <a:tblGrid>
                <a:gridCol w="8100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小时候喜欢按钮，所以想当电梯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年实现：业务执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--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业务经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--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业务副总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--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业务总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--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客户群总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读的是法律做的是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文本框 14"/>
          <p:cNvSpPr/>
          <p:nvPr/>
        </p:nvSpPr>
        <p:spPr>
          <a:xfrm>
            <a:off x="997560" y="66672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00b0f0"/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232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00b0f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半闭框 8"/>
          <p:cNvSpPr/>
          <p:nvPr/>
        </p:nvSpPr>
        <p:spPr>
          <a:xfrm>
            <a:off x="2252160" y="256212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00b0f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表格 9"/>
          <p:cNvGraphicFramePr/>
          <p:nvPr/>
        </p:nvGraphicFramePr>
        <p:xfrm>
          <a:off x="4083840" y="1612440"/>
          <a:ext cx="5059800" cy="1724760"/>
        </p:xfrm>
        <a:graphic>
          <a:graphicData uri="http://schemas.openxmlformats.org/drawingml/2006/table">
            <a:tbl>
              <a:tblPr/>
              <a:tblGrid>
                <a:gridCol w="5059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兴趣化成生产力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研究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得到晋升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做深工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学与做不对口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不会白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17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238" name="矩形 18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矩形 19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240" name="表格 14"/>
          <p:cNvGraphicFramePr/>
          <p:nvPr/>
        </p:nvGraphicFramePr>
        <p:xfrm>
          <a:off x="1076400" y="50792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学习计算机（多个按钮），充分研究掌握，在一两小时做完别人一天做的工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年轻不能靠客户量取胜，只有把工作做得更深，承担更多的工作作为经验的积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法律利于更明白合同内容、人际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图片 1"/>
          <p:cNvSpPr/>
          <p:nvPr/>
        </p:nvSpPr>
        <p:spPr>
          <a:xfrm>
            <a:off x="941040" y="692640"/>
            <a:ext cx="1433520" cy="21211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图片 12"/>
          <p:cNvSpPr/>
          <p:nvPr/>
        </p:nvSpPr>
        <p:spPr>
          <a:xfrm>
            <a:off x="631080" y="5162040"/>
            <a:ext cx="380160" cy="39168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图片 15"/>
          <p:cNvSpPr/>
          <p:nvPr/>
        </p:nvSpPr>
        <p:spPr>
          <a:xfrm>
            <a:off x="644400" y="5842440"/>
            <a:ext cx="380160" cy="39168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图片 16"/>
          <p:cNvSpPr/>
          <p:nvPr/>
        </p:nvSpPr>
        <p:spPr>
          <a:xfrm>
            <a:off x="631080" y="5811480"/>
            <a:ext cx="380160" cy="39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图片 20"/>
          <p:cNvSpPr/>
          <p:nvPr/>
        </p:nvSpPr>
        <p:spPr>
          <a:xfrm>
            <a:off x="631080" y="6453000"/>
            <a:ext cx="380160" cy="391680"/>
          </a:xfrm>
          <a:prstGeom prst="ellipse">
            <a:avLst/>
          </a:prstGeom>
          <a:blipFill rotWithShape="0">
            <a:blip r:embed="rId6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1"/>
          <p:cNvSpPr/>
          <p:nvPr/>
        </p:nvSpPr>
        <p:spPr>
          <a:xfrm>
            <a:off x="685440" y="3261960"/>
            <a:ext cx="3670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华康少女文字W5(P)"/>
                <a:ea typeface="华康少女文字W5(P)"/>
              </a:rPr>
              <a:t>陈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b0f0"/>
                </a:solidFill>
                <a:latin typeface="华康少女文字W5(P)"/>
                <a:ea typeface="华康少女文字W5(P)"/>
              </a:rPr>
              <a:t>宝洁大中华区品牌公关总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"/>
          <p:cNvPicPr/>
          <p:nvPr/>
        </p:nvPicPr>
        <p:blipFill>
          <a:blip r:embed="rId1"/>
          <a:stretch/>
        </p:blipFill>
        <p:spPr>
          <a:xfrm>
            <a:off x="144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6"/>
          <p:cNvSpPr/>
          <p:nvPr/>
        </p:nvSpPr>
        <p:spPr>
          <a:xfrm>
            <a:off x="2161800" y="1268640"/>
            <a:ext cx="4822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多一个人和你分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少一点难自己肩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8" descr=""/>
          <p:cNvPicPr/>
          <p:nvPr/>
        </p:nvPicPr>
        <p:blipFill>
          <a:blip r:embed="rId2"/>
          <a:stretch/>
        </p:blipFill>
        <p:spPr>
          <a:xfrm>
            <a:off x="309600" y="192960"/>
            <a:ext cx="1328400" cy="1059480"/>
          </a:xfrm>
          <a:prstGeom prst="rect">
            <a:avLst/>
          </a:prstGeom>
          <a:ln w="0">
            <a:noFill/>
          </a:ln>
        </p:spPr>
      </p:pic>
      <p:sp>
        <p:nvSpPr>
          <p:cNvPr id="55" name="椭圆 5"/>
          <p:cNvSpPr/>
          <p:nvPr/>
        </p:nvSpPr>
        <p:spPr>
          <a:xfrm>
            <a:off x="7146000" y="2565000"/>
            <a:ext cx="1170000" cy="23760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" name="图片 7" descr=""/>
          <p:cNvPicPr/>
          <p:nvPr/>
        </p:nvPicPr>
        <p:blipFill>
          <a:blip r:embed="rId3"/>
          <a:stretch/>
        </p:blipFill>
        <p:spPr>
          <a:xfrm>
            <a:off x="3060000" y="329040"/>
            <a:ext cx="9143640" cy="68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248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如何真正掌握一门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00b0f0"/>
                          </a:solidFill>
                          <a:latin typeface="华康少女文字W5(P)"/>
                          <a:ea typeface="华康少女文字W5(P)"/>
                        </a:rPr>
                        <a:t>陈默</a:t>
                      </a:r>
                      <a:r>
                        <a:rPr b="1" lang="en-US" sz="2400" spc="-1" strike="noStrike">
                          <a:solidFill>
                            <a:srgbClr val="00b0f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grpSp>
        <p:nvGrpSpPr>
          <p:cNvPr id="250" name="组合 10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251" name="矩形 11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矩形 12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3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学习不是背书、不是做作业，而是你得把书上的知识真正弄明白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5" descr=""/>
          <p:cNvPicPr/>
          <p:nvPr/>
        </p:nvPicPr>
        <p:blipFill>
          <a:blip r:embed="rId2"/>
          <a:stretch/>
        </p:blipFill>
        <p:spPr>
          <a:xfrm>
            <a:off x="6804360" y="3357000"/>
            <a:ext cx="1728000" cy="1915560"/>
          </a:xfrm>
          <a:prstGeom prst="rect">
            <a:avLst/>
          </a:prstGeom>
          <a:ln w="0">
            <a:noFill/>
          </a:ln>
        </p:spPr>
      </p:pic>
      <p:sp>
        <p:nvSpPr>
          <p:cNvPr id="255" name="图片 14"/>
          <p:cNvSpPr/>
          <p:nvPr/>
        </p:nvSpPr>
        <p:spPr>
          <a:xfrm>
            <a:off x="6948360" y="2422440"/>
            <a:ext cx="1148040" cy="118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00b0f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表格 15"/>
          <p:cNvGraphicFramePr/>
          <p:nvPr/>
        </p:nvGraphicFramePr>
        <p:xfrm>
          <a:off x="2555640" y="1353240"/>
          <a:ext cx="1511640" cy="1037160"/>
        </p:xfrm>
        <a:graphic>
          <a:graphicData uri="http://schemas.openxmlformats.org/drawingml/2006/table">
            <a:tbl>
              <a:tblPr/>
              <a:tblGrid>
                <a:gridCol w="1512000"/>
              </a:tblGrid>
              <a:tr h="1037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做自己的</a:t>
                      </a:r>
                      <a:r>
                        <a:rPr b="0" lang="zh-CN" sz="3600" spc="-1" strike="noStrike" u="sng">
                          <a:solidFill>
                            <a:srgbClr val="000000"/>
                          </a:solidFill>
                          <a:uFillTx/>
                          <a:latin typeface="华康少女文字W5(P)"/>
                          <a:ea typeface="华康少女文字W5(P)"/>
                        </a:rPr>
                        <a:t>老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7" name="矩形 16"/>
          <p:cNvSpPr/>
          <p:nvPr/>
        </p:nvSpPr>
        <p:spPr>
          <a:xfrm>
            <a:off x="5076000" y="405720"/>
            <a:ext cx="1177560" cy="355680"/>
          </a:xfrm>
          <a:prstGeom prst="rect">
            <a:avLst/>
          </a:prstGeom>
          <a:solidFill>
            <a:srgbClr val="558ed5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下箭头 20"/>
          <p:cNvSpPr/>
          <p:nvPr/>
        </p:nvSpPr>
        <p:spPr>
          <a:xfrm>
            <a:off x="5652000" y="836640"/>
            <a:ext cx="52200" cy="227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5076000" y="1188720"/>
            <a:ext cx="1367640" cy="386640"/>
          </a:xfrm>
          <a:prstGeom prst="rect">
            <a:avLst/>
          </a:prstGeom>
          <a:solidFill>
            <a:srgbClr val="558ed5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知识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下箭头 22"/>
          <p:cNvSpPr/>
          <p:nvPr/>
        </p:nvSpPr>
        <p:spPr>
          <a:xfrm>
            <a:off x="5652000" y="1641600"/>
            <a:ext cx="73800" cy="30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菱形 23"/>
          <p:cNvSpPr/>
          <p:nvPr/>
        </p:nvSpPr>
        <p:spPr>
          <a:xfrm>
            <a:off x="4952520" y="2021040"/>
            <a:ext cx="1507320" cy="647640"/>
          </a:xfrm>
          <a:prstGeom prst="diamond">
            <a:avLst/>
          </a:prstGeom>
          <a:solidFill>
            <a:srgbClr val="558ed5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明白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下箭头 24"/>
          <p:cNvSpPr/>
          <p:nvPr/>
        </p:nvSpPr>
        <p:spPr>
          <a:xfrm>
            <a:off x="5678280" y="2764440"/>
            <a:ext cx="45360" cy="452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文本框 25"/>
          <p:cNvSpPr/>
          <p:nvPr/>
        </p:nvSpPr>
        <p:spPr>
          <a:xfrm>
            <a:off x="5811480" y="2828880"/>
            <a:ext cx="313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6"/>
          <p:cNvSpPr/>
          <p:nvPr/>
        </p:nvSpPr>
        <p:spPr>
          <a:xfrm>
            <a:off x="5135040" y="3370320"/>
            <a:ext cx="1177560" cy="355680"/>
          </a:xfrm>
          <a:prstGeom prst="rect">
            <a:avLst/>
          </a:prstGeom>
          <a:solidFill>
            <a:srgbClr val="558ed5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结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右箭头 27"/>
          <p:cNvSpPr/>
          <p:nvPr/>
        </p:nvSpPr>
        <p:spPr>
          <a:xfrm>
            <a:off x="4068000" y="1353240"/>
            <a:ext cx="936720" cy="4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4068000" y="1375920"/>
            <a:ext cx="45360" cy="9687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4068000" y="2345040"/>
            <a:ext cx="914040" cy="45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文本框 31"/>
          <p:cNvSpPr/>
          <p:nvPr/>
        </p:nvSpPr>
        <p:spPr>
          <a:xfrm>
            <a:off x="4284000" y="2021040"/>
            <a:ext cx="2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如何进入“正循环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00b0f0"/>
                          </a:solidFill>
                          <a:latin typeface="华康少女文字W5(P)"/>
                          <a:ea typeface="华康少女文字W5(P)"/>
                        </a:rPr>
                        <a:t>陈默</a:t>
                      </a:r>
                      <a:r>
                        <a:rPr b="1" lang="en-US" sz="2400" spc="-1" strike="noStrike">
                          <a:solidFill>
                            <a:srgbClr val="00b0f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grpSp>
        <p:nvGrpSpPr>
          <p:cNvPr id="272" name="组合 10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273" name="矩形 11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矩形 12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75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别忘记你要去哪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6804360" y="3357000"/>
            <a:ext cx="1728000" cy="1915560"/>
          </a:xfrm>
          <a:prstGeom prst="rect">
            <a:avLst/>
          </a:prstGeom>
          <a:ln w="0">
            <a:noFill/>
          </a:ln>
        </p:spPr>
      </p:pic>
      <p:sp>
        <p:nvSpPr>
          <p:cNvPr id="277" name="图片 14"/>
          <p:cNvSpPr/>
          <p:nvPr/>
        </p:nvSpPr>
        <p:spPr>
          <a:xfrm>
            <a:off x="6948360" y="2422440"/>
            <a:ext cx="1148040" cy="118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00b0f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表格 13"/>
          <p:cNvGraphicFramePr/>
          <p:nvPr/>
        </p:nvGraphicFramePr>
        <p:xfrm>
          <a:off x="819360" y="1776240"/>
          <a:ext cx="5984640" cy="1495080"/>
        </p:xfrm>
        <a:graphic>
          <a:graphicData uri="http://schemas.openxmlformats.org/drawingml/2006/table">
            <a:tbl>
              <a:tblPr/>
              <a:tblGrid>
                <a:gridCol w="923760"/>
                <a:gridCol w="956520"/>
                <a:gridCol w="4104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自我对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睡觉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安静在脑中思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今天遇到的所有问题该怎么解决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解决得怎么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280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职场中的“信任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00b0f0"/>
                          </a:solidFill>
                          <a:latin typeface="华康少女文字W5(P)"/>
                          <a:ea typeface="华康少女文字W5(P)"/>
                        </a:rPr>
                        <a:t>陈默</a:t>
                      </a:r>
                      <a:r>
                        <a:rPr b="1" lang="en-US" sz="2400" spc="-1" strike="noStrike">
                          <a:solidFill>
                            <a:srgbClr val="00b0f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grpSp>
        <p:nvGrpSpPr>
          <p:cNvPr id="282" name="组合 10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283" name="矩形 11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矩形 12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5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在世界任何一个地方，任何事情的发生都是有原因的，而任何事情都会有解决的办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片 5" descr=""/>
          <p:cNvPicPr/>
          <p:nvPr/>
        </p:nvPicPr>
        <p:blipFill>
          <a:blip r:embed="rId2"/>
          <a:stretch/>
        </p:blipFill>
        <p:spPr>
          <a:xfrm>
            <a:off x="6804360" y="3357000"/>
            <a:ext cx="1728000" cy="1915560"/>
          </a:xfrm>
          <a:prstGeom prst="rect">
            <a:avLst/>
          </a:prstGeom>
          <a:ln w="0">
            <a:noFill/>
          </a:ln>
        </p:spPr>
      </p:pic>
      <p:sp>
        <p:nvSpPr>
          <p:cNvPr id="287" name="图片 14"/>
          <p:cNvSpPr/>
          <p:nvPr/>
        </p:nvSpPr>
        <p:spPr>
          <a:xfrm>
            <a:off x="6948360" y="2422440"/>
            <a:ext cx="1148040" cy="118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00b0f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表格 13"/>
          <p:cNvGraphicFramePr/>
          <p:nvPr/>
        </p:nvGraphicFramePr>
        <p:xfrm>
          <a:off x="814680" y="1917000"/>
          <a:ext cx="5328360" cy="2016000"/>
        </p:xfrm>
        <a:graphic>
          <a:graphicData uri="http://schemas.openxmlformats.org/drawingml/2006/table">
            <a:tbl>
              <a:tblPr/>
              <a:tblGrid>
                <a:gridCol w="2448000"/>
                <a:gridCol w="2880000"/>
              </a:tblGrid>
              <a:tr h="4467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观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做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团队的成功</a:t>
                      </a:r>
                      <a:r>
                        <a:rPr b="1" lang="zh-CN" sz="2000" spc="-1" strike="noStrike">
                          <a:solidFill>
                            <a:srgbClr val="00b0f0"/>
                          </a:solidFill>
                          <a:latin typeface="华康少女文字W5(P)"/>
                          <a:ea typeface="华康少女文字W5(P)"/>
                        </a:rPr>
                        <a:t>绝不是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个人成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无论什么角色，都尽全力维护团队的集体形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上下级一定</a:t>
                      </a:r>
                      <a:r>
                        <a:rPr b="1" lang="zh-CN" sz="2000" spc="-1" strike="noStrike">
                          <a:solidFill>
                            <a:srgbClr val="00b0f0"/>
                          </a:solidFill>
                          <a:latin typeface="华康少女文字W5(P)"/>
                          <a:ea typeface="华康少女文字W5(P)"/>
                        </a:rPr>
                        <a:t>要建立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彼此信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长年用行动和磨合去“挣”出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290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半闭框 8"/>
          <p:cNvSpPr/>
          <p:nvPr/>
        </p:nvSpPr>
        <p:spPr>
          <a:xfrm>
            <a:off x="2349720" y="267048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怎么“完成难题”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怎么“成长快点”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怎么“认识牛人”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17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296" name="矩形 18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矩形 19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298" name="表格 14"/>
          <p:cNvGraphicFramePr/>
          <p:nvPr/>
        </p:nvGraphicFramePr>
        <p:xfrm>
          <a:off x="1076400" y="52736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进入新公司被要求用英语给外国客户做份详尽的报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第一份工是机场地面服务人员、不懂吃西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（有很多牛人朋友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文本框 12"/>
          <p:cNvSpPr/>
          <p:nvPr/>
        </p:nvSpPr>
        <p:spPr>
          <a:xfrm>
            <a:off x="997560" y="66672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301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半闭框 8"/>
          <p:cNvSpPr/>
          <p:nvPr/>
        </p:nvSpPr>
        <p:spPr>
          <a:xfrm>
            <a:off x="2349720" y="267048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7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306" name="矩形 18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308" name="表格 14"/>
          <p:cNvGraphicFramePr/>
          <p:nvPr/>
        </p:nvGraphicFramePr>
        <p:xfrm>
          <a:off x="1076400" y="5273640"/>
          <a:ext cx="8067240" cy="1190160"/>
        </p:xfrm>
        <a:graphic>
          <a:graphicData uri="http://schemas.openxmlformats.org/drawingml/2006/table">
            <a:tbl>
              <a:tblPr/>
              <a:tblGrid>
                <a:gridCol w="80676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写下来，请人修改，请人挑刺儿，背诵，多次演练。最后获得好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不懂就静静地去看去听去学，别怕丢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多数牛人是在没牛的时候认识的，一起成长，才算是真正的认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图片 4"/>
          <p:cNvSpPr/>
          <p:nvPr/>
        </p:nvSpPr>
        <p:spPr>
          <a:xfrm>
            <a:off x="886680" y="692640"/>
            <a:ext cx="1652400" cy="21553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表格 12"/>
          <p:cNvGraphicFramePr/>
          <p:nvPr/>
        </p:nvGraphicFramePr>
        <p:xfrm>
          <a:off x="4083840" y="1612440"/>
          <a:ext cx="4180320" cy="155520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完成难题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准备充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成长快点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别怕丢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认识牛人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做好自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图片 15"/>
          <p:cNvSpPr/>
          <p:nvPr/>
        </p:nvSpPr>
        <p:spPr>
          <a:xfrm>
            <a:off x="704160" y="5301360"/>
            <a:ext cx="371880" cy="37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图片 16"/>
          <p:cNvSpPr/>
          <p:nvPr/>
        </p:nvSpPr>
        <p:spPr>
          <a:xfrm>
            <a:off x="704160" y="5726880"/>
            <a:ext cx="371880" cy="37692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图片 20"/>
          <p:cNvSpPr/>
          <p:nvPr/>
        </p:nvSpPr>
        <p:spPr>
          <a:xfrm>
            <a:off x="704160" y="6141240"/>
            <a:ext cx="371880" cy="37692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1"/>
          <p:cNvSpPr/>
          <p:nvPr/>
        </p:nvSpPr>
        <p:spPr>
          <a:xfrm>
            <a:off x="685440" y="3261960"/>
            <a:ext cx="3670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99ff"/>
                </a:solidFill>
                <a:latin typeface="华康少女文字W5(P)"/>
                <a:ea typeface="华康少女文字W5(P)"/>
              </a:rPr>
              <a:t>刘希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99ff"/>
                </a:solidFill>
                <a:latin typeface="华康少女文字W5(P)"/>
                <a:ea typeface="华康少女文字W5(P)"/>
              </a:rPr>
              <a:t>万博宣伟中国区董事总经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316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不跑、穿着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刘希平</a:t>
                      </a:r>
                      <a:r>
                        <a:rPr b="1" lang="en-US" sz="24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</a:tbl>
          </a:graphicData>
        </a:graphic>
      </p:graphicFrame>
      <p:grpSp>
        <p:nvGrpSpPr>
          <p:cNvPr id="318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319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0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21" name="文本框 9"/>
          <p:cNvSpPr/>
          <p:nvPr/>
        </p:nvSpPr>
        <p:spPr>
          <a:xfrm>
            <a:off x="932400" y="5488920"/>
            <a:ext cx="7402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每个人都喜欢真实的人，每个人都讨厌装的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" descr=""/>
          <p:cNvPicPr/>
          <p:nvPr/>
        </p:nvPicPr>
        <p:blipFill>
          <a:blip r:embed="rId2"/>
          <a:stretch/>
        </p:blipFill>
        <p:spPr>
          <a:xfrm>
            <a:off x="6661440" y="3378600"/>
            <a:ext cx="1695240" cy="1879560"/>
          </a:xfrm>
          <a:prstGeom prst="rect">
            <a:avLst/>
          </a:prstGeom>
          <a:ln w="0">
            <a:noFill/>
          </a:ln>
        </p:spPr>
      </p:pic>
      <p:sp>
        <p:nvSpPr>
          <p:cNvPr id="323" name="图片 2"/>
          <p:cNvSpPr/>
          <p:nvPr/>
        </p:nvSpPr>
        <p:spPr>
          <a:xfrm>
            <a:off x="6804360" y="2367000"/>
            <a:ext cx="1207080" cy="122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c0504d">
                <a:lumMod val="60000"/>
                <a:lumOff val="4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表格 17"/>
          <p:cNvGraphicFramePr/>
          <p:nvPr/>
        </p:nvGraphicFramePr>
        <p:xfrm>
          <a:off x="819360" y="1776240"/>
          <a:ext cx="5328360" cy="1098360"/>
        </p:xfrm>
        <a:graphic>
          <a:graphicData uri="http://schemas.openxmlformats.org/drawingml/2006/table">
            <a:tbl>
              <a:tblPr/>
              <a:tblGrid>
                <a:gridCol w="799920"/>
                <a:gridCol w="1080000"/>
                <a:gridCol w="344808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原因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别人看了会觉得你比较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原因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给客户办事时，客户会变得紧张，以为发生什么意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表格 18"/>
          <p:cNvGraphicFramePr/>
          <p:nvPr/>
        </p:nvGraphicFramePr>
        <p:xfrm>
          <a:off x="1332720" y="3393000"/>
          <a:ext cx="5328360" cy="396720"/>
        </p:xfrm>
        <a:graphic>
          <a:graphicData uri="http://schemas.openxmlformats.org/drawingml/2006/table">
            <a:tbl>
              <a:tblPr/>
              <a:tblGrid>
                <a:gridCol w="1424880"/>
                <a:gridCol w="390348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穿着得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在于贵，在于干净、整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Text Box 6"/>
          <p:cNvSpPr/>
          <p:nvPr/>
        </p:nvSpPr>
        <p:spPr>
          <a:xfrm>
            <a:off x="395640" y="6397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328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人和环境</a:t>
            </a:r>
            <a:r>
              <a:rPr b="0" lang="en-US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种相处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刘希平</a:t>
                      </a:r>
                      <a:r>
                        <a:rPr b="1" lang="en-US" sz="24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</a:tbl>
          </a:graphicData>
        </a:graphic>
      </p:graphicFrame>
      <p:grpSp>
        <p:nvGrpSpPr>
          <p:cNvPr id="330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331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2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3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面对挑战，首先自己别害怕，反正只有一个选择，加倍努力，把准备做到不能再好。在准备的过程中，要敢于否定自己，敢于推倒重来，注意办事效率，别怕麻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 1" descr=""/>
          <p:cNvPicPr/>
          <p:nvPr/>
        </p:nvPicPr>
        <p:blipFill>
          <a:blip r:embed="rId2"/>
          <a:stretch/>
        </p:blipFill>
        <p:spPr>
          <a:xfrm>
            <a:off x="6661440" y="3378600"/>
            <a:ext cx="1695240" cy="1879560"/>
          </a:xfrm>
          <a:prstGeom prst="rect">
            <a:avLst/>
          </a:prstGeom>
          <a:ln w="0">
            <a:noFill/>
          </a:ln>
        </p:spPr>
      </p:pic>
      <p:sp>
        <p:nvSpPr>
          <p:cNvPr id="335" name="图片 2"/>
          <p:cNvSpPr/>
          <p:nvPr/>
        </p:nvSpPr>
        <p:spPr>
          <a:xfrm>
            <a:off x="6804360" y="2367000"/>
            <a:ext cx="1207080" cy="122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c0504d">
                <a:lumMod val="60000"/>
                <a:lumOff val="4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表格 10"/>
          <p:cNvGraphicFramePr/>
          <p:nvPr/>
        </p:nvGraphicFramePr>
        <p:xfrm>
          <a:off x="1403640" y="1628640"/>
          <a:ext cx="5814360" cy="2742840"/>
        </p:xfrm>
        <a:graphic>
          <a:graphicData uri="http://schemas.openxmlformats.org/drawingml/2006/table">
            <a:tbl>
              <a:tblPr/>
              <a:tblGrid>
                <a:gridCol w="5814360"/>
              </a:tblGrid>
              <a:tr h="62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适应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         </a:t>
                      </a: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改造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                   </a:t>
                      </a:r>
                      <a:r>
                        <a:rPr b="0" lang="zh-CN" sz="4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逃避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矩形 20"/>
          <p:cNvSpPr/>
          <p:nvPr/>
        </p:nvSpPr>
        <p:spPr>
          <a:xfrm>
            <a:off x="1403640" y="2433600"/>
            <a:ext cx="1518840" cy="6516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矩形 21"/>
          <p:cNvSpPr/>
          <p:nvPr/>
        </p:nvSpPr>
        <p:spPr>
          <a:xfrm>
            <a:off x="1403640" y="3045240"/>
            <a:ext cx="3221280" cy="6516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矩形 22"/>
          <p:cNvSpPr/>
          <p:nvPr/>
        </p:nvSpPr>
        <p:spPr>
          <a:xfrm>
            <a:off x="1403640" y="3691800"/>
            <a:ext cx="5103000" cy="6516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341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自尊</a:t>
            </a:r>
            <a:r>
              <a:rPr b="0" lang="en-US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&amp;</a:t>
            </a: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天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刘希平</a:t>
                      </a:r>
                      <a:r>
                        <a:rPr b="1" lang="en-US" sz="2400" spc="-1" strike="noStrike">
                          <a:solidFill>
                            <a:schemeClr val="accent2">
                              <a:lumMod val="60000"/>
                              <a:lumOff val="4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</a:tbl>
          </a:graphicData>
        </a:graphic>
      </p:graphicFrame>
      <p:grpSp>
        <p:nvGrpSpPr>
          <p:cNvPr id="343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344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5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2">
                <a:lumMod val="60000"/>
                <a:lumOff val="4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6" name="文本框 9"/>
          <p:cNvSpPr/>
          <p:nvPr/>
        </p:nvSpPr>
        <p:spPr>
          <a:xfrm>
            <a:off x="870840" y="565308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一个人的信誉建起了是很不容易的，但毁掉它很简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1" descr=""/>
          <p:cNvPicPr/>
          <p:nvPr/>
        </p:nvPicPr>
        <p:blipFill>
          <a:blip r:embed="rId2"/>
          <a:stretch/>
        </p:blipFill>
        <p:spPr>
          <a:xfrm>
            <a:off x="6661440" y="3378600"/>
            <a:ext cx="1695240" cy="1879560"/>
          </a:xfrm>
          <a:prstGeom prst="rect">
            <a:avLst/>
          </a:prstGeom>
          <a:ln w="0">
            <a:noFill/>
          </a:ln>
        </p:spPr>
      </p:pic>
      <p:sp>
        <p:nvSpPr>
          <p:cNvPr id="348" name="图片 2"/>
          <p:cNvSpPr/>
          <p:nvPr/>
        </p:nvSpPr>
        <p:spPr>
          <a:xfrm>
            <a:off x="6804360" y="2367000"/>
            <a:ext cx="1207080" cy="122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c0504d">
                <a:lumMod val="60000"/>
                <a:lumOff val="4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表格 10"/>
          <p:cNvGraphicFramePr/>
          <p:nvPr/>
        </p:nvGraphicFramePr>
        <p:xfrm>
          <a:off x="1331640" y="1845000"/>
          <a:ext cx="4968360" cy="1006560"/>
        </p:xfrm>
        <a:graphic>
          <a:graphicData uri="http://schemas.openxmlformats.org/drawingml/2006/table">
            <a:tbl>
              <a:tblPr/>
              <a:tblGrid>
                <a:gridCol w="864000"/>
                <a:gridCol w="4104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自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谁的自尊心在自己心里都很了不起，但在别人眼里什么都不是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只有锲而不舍地把工作做得更好，你的自尊才会受到他人的重视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0" name="表格 11"/>
          <p:cNvGraphicFramePr/>
          <p:nvPr/>
        </p:nvGraphicFramePr>
        <p:xfrm>
          <a:off x="1331640" y="3240720"/>
          <a:ext cx="4735080" cy="701640"/>
        </p:xfrm>
        <a:graphic>
          <a:graphicData uri="http://schemas.openxmlformats.org/drawingml/2006/table">
            <a:tbl>
              <a:tblPr/>
              <a:tblGrid>
                <a:gridCol w="864000"/>
                <a:gridCol w="387108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天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或许你是天才，或许你不是天才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天才是相对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352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accent3">
              <a:lumMod val="50000"/>
            </a:schemeClr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半闭框 8"/>
          <p:cNvSpPr/>
          <p:nvPr/>
        </p:nvSpPr>
        <p:spPr>
          <a:xfrm>
            <a:off x="2254680" y="26150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accent3">
              <a:lumMod val="50000"/>
            </a:schemeClr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梦想发窘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无业游民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停滞不前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17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358" name="矩形 18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9" name="矩形 19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360" name="表格 14"/>
          <p:cNvGraphicFramePr/>
          <p:nvPr/>
        </p:nvGraphicFramePr>
        <p:xfrm>
          <a:off x="1076400" y="52736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4bd97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想开间戏剧酒吧，但是经营不当濒临关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4bd97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关掉酒吧后在家待业一段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4bd97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身边的同事开始满足现状，梦想停止升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文本框 12"/>
          <p:cNvSpPr/>
          <p:nvPr/>
        </p:nvSpPr>
        <p:spPr>
          <a:xfrm>
            <a:off x="997560" y="66672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chemeClr val="accent3">
                    <a:lumMod val="75000"/>
                  </a:schemeClr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363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accent3">
              <a:lumMod val="50000"/>
            </a:schemeClr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半闭框 8"/>
          <p:cNvSpPr/>
          <p:nvPr/>
        </p:nvSpPr>
        <p:spPr>
          <a:xfrm>
            <a:off x="2254680" y="26150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chemeClr val="accent3">
              <a:lumMod val="50000"/>
            </a:schemeClr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7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368" name="矩形 18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9" name="矩形 19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370" name="表格 14"/>
          <p:cNvGraphicFramePr/>
          <p:nvPr/>
        </p:nvGraphicFramePr>
        <p:xfrm>
          <a:off x="1076400" y="52736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开戏剧酒吧，昼伏夜出，酒吧不赚钱就兼卖早点，卖盒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上招聘场，给最后一个招聘方欢乐传媒卖广告，开始闯传媒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文艺不息，梦想不止，和李静一起惨淡经营东方风行，一年后迎来事业的春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图片 1"/>
          <p:cNvSpPr/>
          <p:nvPr/>
        </p:nvSpPr>
        <p:spPr>
          <a:xfrm>
            <a:off x="915120" y="692640"/>
            <a:ext cx="1496160" cy="21614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表格 12"/>
          <p:cNvGraphicFramePr/>
          <p:nvPr/>
        </p:nvGraphicFramePr>
        <p:xfrm>
          <a:off x="4083840" y="1612440"/>
          <a:ext cx="4520160" cy="1555200"/>
        </p:xfrm>
        <a:graphic>
          <a:graphicData uri="http://schemas.openxmlformats.org/drawingml/2006/table">
            <a:tbl>
              <a:tblPr/>
              <a:tblGrid>
                <a:gridCol w="45205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梦想发窘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解决温饱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无业游民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找份工作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停滞不前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奋力拼搏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文本框 15"/>
          <p:cNvSpPr/>
          <p:nvPr/>
        </p:nvSpPr>
        <p:spPr>
          <a:xfrm>
            <a:off x="685440" y="3261960"/>
            <a:ext cx="4174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3">
                    <a:lumMod val="75000"/>
                  </a:schemeClr>
                </a:solidFill>
                <a:latin typeface="华康少女文字W5(P)"/>
                <a:ea typeface="华康少女文字W5(P)"/>
              </a:rPr>
              <a:t>夏骄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3">
                    <a:lumMod val="75000"/>
                  </a:schemeClr>
                </a:solidFill>
                <a:latin typeface="华康少女文字W5(P)"/>
                <a:ea typeface="华康少女文字W5(P)"/>
              </a:rPr>
              <a:t>东方风行传媒集团乐蜂网副总经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图片 16"/>
          <p:cNvSpPr/>
          <p:nvPr/>
        </p:nvSpPr>
        <p:spPr>
          <a:xfrm>
            <a:off x="725400" y="5275800"/>
            <a:ext cx="378000" cy="39312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图片 20"/>
          <p:cNvSpPr/>
          <p:nvPr/>
        </p:nvSpPr>
        <p:spPr>
          <a:xfrm>
            <a:off x="725400" y="5720400"/>
            <a:ext cx="378000" cy="39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图片 21"/>
          <p:cNvSpPr/>
          <p:nvPr/>
        </p:nvSpPr>
        <p:spPr>
          <a:xfrm>
            <a:off x="725400" y="6183360"/>
            <a:ext cx="378000" cy="39312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b0c6e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58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ff06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半闭框 8"/>
          <p:cNvSpPr/>
          <p:nvPr/>
        </p:nvSpPr>
        <p:spPr>
          <a:xfrm>
            <a:off x="2093400" y="267120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ff06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老大徒伤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爱情不顺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壮志难酬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表格 14"/>
          <p:cNvGraphicFramePr/>
          <p:nvPr/>
        </p:nvGraphicFramePr>
        <p:xfrm>
          <a:off x="1076400" y="52736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永远在“老”的状态，学习时比同学老，工作时比同事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两任女友都现实离去，第二任甚至拿着石头的钱留学嫁老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创意被否定，而且被批无天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文本框 1"/>
          <p:cNvSpPr/>
          <p:nvPr/>
        </p:nvSpPr>
        <p:spPr>
          <a:xfrm>
            <a:off x="997560" y="66672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378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传媒人心里“两个专家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chemeClr val="accent3">
                              <a:lumMod val="5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夏骄阳</a:t>
                      </a:r>
                      <a:r>
                        <a:rPr b="1" lang="en-US" sz="2400" spc="-1" strike="noStrike">
                          <a:solidFill>
                            <a:schemeClr val="accent3">
                              <a:lumMod val="5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3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  <p:grpSp>
        <p:nvGrpSpPr>
          <p:cNvPr id="380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381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2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83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我们都在生活中遇挫，也都在生活里被打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图片 3" descr=""/>
          <p:cNvPicPr/>
          <p:nvPr/>
        </p:nvPicPr>
        <p:blipFill>
          <a:blip r:embed="rId2"/>
          <a:stretch/>
        </p:blipFill>
        <p:spPr>
          <a:xfrm>
            <a:off x="6606000" y="3306600"/>
            <a:ext cx="1760400" cy="1951560"/>
          </a:xfrm>
          <a:prstGeom prst="rect">
            <a:avLst/>
          </a:prstGeom>
          <a:ln w="0">
            <a:noFill/>
          </a:ln>
        </p:spPr>
      </p:pic>
      <p:sp>
        <p:nvSpPr>
          <p:cNvPr id="385" name="图片 4"/>
          <p:cNvSpPr/>
          <p:nvPr/>
        </p:nvSpPr>
        <p:spPr>
          <a:xfrm>
            <a:off x="6804360" y="2401200"/>
            <a:ext cx="1079640" cy="112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bbb59">
                <a:lumMod val="5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表格 12"/>
          <p:cNvGraphicFramePr/>
          <p:nvPr/>
        </p:nvGraphicFramePr>
        <p:xfrm>
          <a:off x="1002240" y="2133000"/>
          <a:ext cx="5624280" cy="793440"/>
        </p:xfrm>
        <a:graphic>
          <a:graphicData uri="http://schemas.openxmlformats.org/drawingml/2006/table">
            <a:tbl>
              <a:tblPr/>
              <a:tblGrid>
                <a:gridCol w="1016280"/>
                <a:gridCol w="320040"/>
                <a:gridCol w="42883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客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产品生产、品牌传播专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传媒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媒体传播、电视节目制作专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388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不要停止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chemeClr val="accent3">
                              <a:lumMod val="5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夏骄阳</a:t>
                      </a:r>
                      <a:r>
                        <a:rPr b="1" lang="en-US" sz="2400" spc="-1" strike="noStrike">
                          <a:solidFill>
                            <a:schemeClr val="accent3">
                              <a:lumMod val="5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3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  <p:grpSp>
        <p:nvGrpSpPr>
          <p:cNvPr id="390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391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2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93" name="文本框 9"/>
          <p:cNvSpPr/>
          <p:nvPr/>
        </p:nvSpPr>
        <p:spPr>
          <a:xfrm>
            <a:off x="932400" y="5488920"/>
            <a:ext cx="7402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是耽误了很长的时间，但只要用心在干自己认定的事儿，时间是不会白白浪费的。职场不是桃花源，职场只是社会的一小块儿，在职场外积累的生存技能和经验，到了企业里也会发挥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图片 3" descr=""/>
          <p:cNvPicPr/>
          <p:nvPr/>
        </p:nvPicPr>
        <p:blipFill>
          <a:blip r:embed="rId2"/>
          <a:stretch/>
        </p:blipFill>
        <p:spPr>
          <a:xfrm>
            <a:off x="6606000" y="3306600"/>
            <a:ext cx="1760400" cy="1951560"/>
          </a:xfrm>
          <a:prstGeom prst="rect">
            <a:avLst/>
          </a:prstGeom>
          <a:ln w="0">
            <a:noFill/>
          </a:ln>
        </p:spPr>
      </p:pic>
      <p:sp>
        <p:nvSpPr>
          <p:cNvPr id="395" name="图片 4"/>
          <p:cNvSpPr/>
          <p:nvPr/>
        </p:nvSpPr>
        <p:spPr>
          <a:xfrm>
            <a:off x="6804360" y="2401200"/>
            <a:ext cx="1079640" cy="112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bbb59">
                <a:lumMod val="5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表格 1"/>
          <p:cNvGraphicFramePr/>
          <p:nvPr/>
        </p:nvGraphicFramePr>
        <p:xfrm>
          <a:off x="457200" y="1600200"/>
          <a:ext cx="5624280" cy="637920"/>
        </p:xfrm>
        <a:graphic>
          <a:graphicData uri="http://schemas.openxmlformats.org/drawingml/2006/table">
            <a:tbl>
              <a:tblPr/>
              <a:tblGrid>
                <a:gridCol w="1016280"/>
                <a:gridCol w="320040"/>
                <a:gridCol w="428832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表格 2"/>
          <p:cNvGraphicFramePr/>
          <p:nvPr/>
        </p:nvGraphicFramePr>
        <p:xfrm>
          <a:off x="1619640" y="1700640"/>
          <a:ext cx="4402440" cy="2376000"/>
        </p:xfrm>
        <a:graphic>
          <a:graphicData uri="http://schemas.openxmlformats.org/drawingml/2006/table">
            <a:tbl>
              <a:tblPr/>
              <a:tblGrid>
                <a:gridCol w="2242440"/>
                <a:gridCol w="2160000"/>
              </a:tblGrid>
              <a:tr h="237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66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生命不息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3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6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思考不止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399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文艺情结在发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chemeClr val="accent3">
                              <a:lumMod val="5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夏骄阳</a:t>
                      </a:r>
                      <a:r>
                        <a:rPr b="1" lang="en-US" sz="2400" spc="-1" strike="noStrike">
                          <a:solidFill>
                            <a:schemeClr val="accent3">
                              <a:lumMod val="50000"/>
                            </a:schemeClr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c4bd97"/>
                          </a:solidFill>
                          <a:latin typeface="华康少女文字W5(P)"/>
                          <a:ea typeface="华康少女文字W5(P)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3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  <p:grpSp>
        <p:nvGrpSpPr>
          <p:cNvPr id="401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02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04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不要让</a:t>
            </a:r>
            <a:r>
              <a:rPr b="0" lang="en-US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25</a:t>
            </a:r>
            <a:r>
              <a:rPr b="0" lang="zh-CN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岁的你，鄙视</a:t>
            </a:r>
            <a:r>
              <a:rPr b="0" lang="en-US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45</a:t>
            </a:r>
            <a:r>
              <a:rPr b="0" lang="zh-CN" sz="2000" spc="-1" strike="noStrike">
                <a:solidFill>
                  <a:srgbClr val="c4bd97"/>
                </a:solidFill>
                <a:latin typeface="华康少女文字W5(P)"/>
                <a:ea typeface="华康少女文字W5(P)"/>
              </a:rPr>
              <a:t>岁的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3" descr=""/>
          <p:cNvPicPr/>
          <p:nvPr/>
        </p:nvPicPr>
        <p:blipFill>
          <a:blip r:embed="rId2"/>
          <a:stretch/>
        </p:blipFill>
        <p:spPr>
          <a:xfrm>
            <a:off x="6606000" y="3306600"/>
            <a:ext cx="1760400" cy="1951560"/>
          </a:xfrm>
          <a:prstGeom prst="rect">
            <a:avLst/>
          </a:prstGeom>
          <a:ln w="0">
            <a:noFill/>
          </a:ln>
        </p:spPr>
      </p:pic>
      <p:sp>
        <p:nvSpPr>
          <p:cNvPr id="406" name="图片 4"/>
          <p:cNvSpPr/>
          <p:nvPr/>
        </p:nvSpPr>
        <p:spPr>
          <a:xfrm>
            <a:off x="6804360" y="2401200"/>
            <a:ext cx="1079640" cy="112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9bbb59">
                <a:lumMod val="50000"/>
              </a:srgbClr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表格 10"/>
          <p:cNvGraphicFramePr/>
          <p:nvPr/>
        </p:nvGraphicFramePr>
        <p:xfrm>
          <a:off x="575640" y="1451520"/>
          <a:ext cx="6984360" cy="2966400"/>
        </p:xfrm>
        <a:graphic>
          <a:graphicData uri="http://schemas.openxmlformats.org/drawingml/2006/table">
            <a:tbl>
              <a:tblPr/>
              <a:tblGrid>
                <a:gridCol w="1584000"/>
                <a:gridCol w="54003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一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发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作为酒保，把调酒当做艺术，特地找国外的书籍刻苦学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二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发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工作后，补习文化课考中戏，虽落榜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但精神可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三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发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满足职高学历，再去学成人教育室内设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四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发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因酒保不受人尊重，转行去洋酒行做正式外企员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五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发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外企不文艺引发辞职，自己设计制作不同的皮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六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发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开戏剧酒吧，想边卖酒边演戏（实践不了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七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发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在欢乐传媒施展智慧，提升“欢乐”知名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</a:t>
                      </a:r>
                      <a:r>
                        <a:rPr b="0" lang="zh-CN" sz="1600" spc="-1" strike="noStrike">
                          <a:solidFill>
                            <a:srgbClr val="92d050"/>
                          </a:solidFill>
                          <a:latin typeface="华康少女文字W5(P)"/>
                          <a:ea typeface="华康少女文字W5(P)"/>
                        </a:rPr>
                        <a:t>八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次发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和李静一起追梦，经营东方风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409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000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半闭框 8"/>
          <p:cNvSpPr/>
          <p:nvPr/>
        </p:nvSpPr>
        <p:spPr>
          <a:xfrm>
            <a:off x="2374920" y="26150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000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2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怎么“平衡事业家庭”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怎么“面对新的环境”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1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15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6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417" name="表格 14"/>
          <p:cNvGraphicFramePr/>
          <p:nvPr/>
        </p:nvGraphicFramePr>
        <p:xfrm>
          <a:off x="1076400" y="551736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事业处于上升期，也到了该要孩子的岁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连连“跳”：壳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--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亚马逊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--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红帽软件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--3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文本框 17"/>
          <p:cNvSpPr/>
          <p:nvPr/>
        </p:nvSpPr>
        <p:spPr>
          <a:xfrm>
            <a:off x="997560" y="66672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420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000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半闭框 8"/>
          <p:cNvSpPr/>
          <p:nvPr/>
        </p:nvSpPr>
        <p:spPr>
          <a:xfrm>
            <a:off x="2374920" y="26150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000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1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25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6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427" name="表格 14"/>
          <p:cNvGraphicFramePr/>
          <p:nvPr/>
        </p:nvGraphicFramePr>
        <p:xfrm>
          <a:off x="1076400" y="52736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生孩子不能耽误，产假结束回到公司继续创造她的价值，有时候也带着孩子开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满意不是前三天可以看出、适应不是前三月可以做到、对公司的真正了解不是前三年实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图片 1"/>
          <p:cNvSpPr/>
          <p:nvPr/>
        </p:nvSpPr>
        <p:spPr>
          <a:xfrm>
            <a:off x="893520" y="692640"/>
            <a:ext cx="1663920" cy="214848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表格 17"/>
          <p:cNvGraphicFramePr/>
          <p:nvPr/>
        </p:nvGraphicFramePr>
        <p:xfrm>
          <a:off x="4083840" y="1612440"/>
          <a:ext cx="4180320" cy="240840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平衡事业家庭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价值若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工作就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面对新的环境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勿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三三三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图片 18"/>
          <p:cNvSpPr/>
          <p:nvPr/>
        </p:nvSpPr>
        <p:spPr>
          <a:xfrm>
            <a:off x="549720" y="5358960"/>
            <a:ext cx="547560" cy="56448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254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图片 19"/>
          <p:cNvSpPr/>
          <p:nvPr/>
        </p:nvSpPr>
        <p:spPr>
          <a:xfrm>
            <a:off x="540720" y="6059160"/>
            <a:ext cx="547560" cy="56448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254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0"/>
          <p:cNvSpPr/>
          <p:nvPr/>
        </p:nvSpPr>
        <p:spPr>
          <a:xfrm>
            <a:off x="685440" y="3261960"/>
            <a:ext cx="3670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郑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奇虎</a:t>
            </a:r>
            <a:r>
              <a:rPr b="1" lang="en-US" sz="20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360</a:t>
            </a:r>
            <a:r>
              <a:rPr b="1" lang="zh-CN" sz="20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人事总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95640" y="6397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435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亲和，销售的第一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郑艳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pSp>
        <p:nvGrpSpPr>
          <p:cNvPr id="437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38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0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热情可以传染的！亲和同样是一件利器，一件女人得天独厚的利器，有时候它比激光枪都好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1" descr=""/>
          <p:cNvPicPr/>
          <p:nvPr/>
        </p:nvPicPr>
        <p:blipFill>
          <a:blip r:embed="rId2"/>
          <a:stretch/>
        </p:blipFill>
        <p:spPr>
          <a:xfrm>
            <a:off x="6479640" y="3270600"/>
            <a:ext cx="1792800" cy="1987560"/>
          </a:xfrm>
          <a:prstGeom prst="rect">
            <a:avLst/>
          </a:prstGeom>
          <a:ln w="0">
            <a:noFill/>
          </a:ln>
        </p:spPr>
      </p:pic>
      <p:sp>
        <p:nvSpPr>
          <p:cNvPr id="442" name="图片 2"/>
          <p:cNvSpPr/>
          <p:nvPr/>
        </p:nvSpPr>
        <p:spPr>
          <a:xfrm>
            <a:off x="6660360" y="2277000"/>
            <a:ext cx="1189440" cy="122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ff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表格 10"/>
          <p:cNvGraphicFramePr/>
          <p:nvPr/>
        </p:nvGraphicFramePr>
        <p:xfrm>
          <a:off x="611640" y="2283120"/>
          <a:ext cx="6526800" cy="1586880"/>
        </p:xfrm>
        <a:graphic>
          <a:graphicData uri="http://schemas.openxmlformats.org/drawingml/2006/table">
            <a:tbl>
              <a:tblPr/>
              <a:tblGrid>
                <a:gridCol w="1872000"/>
                <a:gridCol w="4654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练摊卖衣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乐呵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地帮顾客试衣服，叠衣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当导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热情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，敢说英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销售面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轻松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自然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，面试官就像上千顾客之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当销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以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亲和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姿态过客户的前台这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445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对上级忠诚很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郑艳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pSp>
        <p:nvGrpSpPr>
          <p:cNvPr id="447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48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9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50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同事评价：“她是一个我做错了她关起门来能把我骂死，但是开门后谁对我使坏，能为了我去和别人拼的人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1" descr=""/>
          <p:cNvPicPr/>
          <p:nvPr/>
        </p:nvPicPr>
        <p:blipFill>
          <a:blip r:embed="rId2"/>
          <a:stretch/>
        </p:blipFill>
        <p:spPr>
          <a:xfrm>
            <a:off x="6479640" y="3270600"/>
            <a:ext cx="1792800" cy="1987560"/>
          </a:xfrm>
          <a:prstGeom prst="rect">
            <a:avLst/>
          </a:prstGeom>
          <a:ln w="0">
            <a:noFill/>
          </a:ln>
        </p:spPr>
      </p:pic>
      <p:sp>
        <p:nvSpPr>
          <p:cNvPr id="452" name="图片 2"/>
          <p:cNvSpPr/>
          <p:nvPr/>
        </p:nvSpPr>
        <p:spPr>
          <a:xfrm>
            <a:off x="6660360" y="2277000"/>
            <a:ext cx="1189440" cy="122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ff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表格 10"/>
          <p:cNvGraphicFramePr/>
          <p:nvPr/>
        </p:nvGraphicFramePr>
        <p:xfrm>
          <a:off x="467640" y="1613880"/>
          <a:ext cx="6192360" cy="1190160"/>
        </p:xfrm>
        <a:graphic>
          <a:graphicData uri="http://schemas.openxmlformats.org/drawingml/2006/table">
            <a:tbl>
              <a:tblPr/>
              <a:tblGrid>
                <a:gridCol w="1296000"/>
                <a:gridCol w="1512000"/>
                <a:gridCol w="338436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上级交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一项工作，下礼拜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一份材料，要报给高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结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第二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三天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认真完成后删掉自己的名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出发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您给的事儿永远都是我的第一件事儿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如果上司因此得到提升，他们的团队也会跟着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455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为家庭营造“安全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郑艳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pSp>
        <p:nvGrpSpPr>
          <p:cNvPr id="457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58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9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ff000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60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有时候要刻意学会“健忘”，吵完了忘了有利于身心健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2"/>
          <a:stretch/>
        </p:blipFill>
        <p:spPr>
          <a:xfrm>
            <a:off x="6479640" y="3270600"/>
            <a:ext cx="1792800" cy="1987560"/>
          </a:xfrm>
          <a:prstGeom prst="rect">
            <a:avLst/>
          </a:prstGeom>
          <a:ln w="0">
            <a:noFill/>
          </a:ln>
        </p:spPr>
      </p:pic>
      <p:sp>
        <p:nvSpPr>
          <p:cNvPr id="462" name="图片 2"/>
          <p:cNvSpPr/>
          <p:nvPr/>
        </p:nvSpPr>
        <p:spPr>
          <a:xfrm>
            <a:off x="6660360" y="2277000"/>
            <a:ext cx="1189440" cy="122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ff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表格 10"/>
          <p:cNvGraphicFramePr/>
          <p:nvPr/>
        </p:nvGraphicFramePr>
        <p:xfrm>
          <a:off x="1115640" y="2173320"/>
          <a:ext cx="6526800" cy="1098360"/>
        </p:xfrm>
        <a:graphic>
          <a:graphicData uri="http://schemas.openxmlformats.org/drawingml/2006/table">
            <a:tbl>
              <a:tblPr/>
              <a:tblGrid>
                <a:gridCol w="2160000"/>
                <a:gridCol w="4366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自己够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成为对方的负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多付出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为对方着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彼此珍惜，才能细水长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465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00206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半闭框 8"/>
          <p:cNvSpPr/>
          <p:nvPr/>
        </p:nvSpPr>
        <p:spPr>
          <a:xfrm>
            <a:off x="2395440" y="256140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00206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考试挂科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工作累人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遭受批评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组合 1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71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2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473" name="表格 14"/>
          <p:cNvGraphicFramePr/>
          <p:nvPr/>
        </p:nvGraphicFramePr>
        <p:xfrm>
          <a:off x="915840" y="5273640"/>
          <a:ext cx="7828920" cy="1190160"/>
        </p:xfrm>
        <a:graphic>
          <a:graphicData uri="http://schemas.openxmlformats.org/drawingml/2006/table">
            <a:tbl>
              <a:tblPr/>
              <a:tblGrid>
                <a:gridCol w="78289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6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司法考试不过，第一年差</a:t>
                      </a:r>
                      <a:r>
                        <a:rPr b="0" lang="en-US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分，接下来几年分别差</a:t>
                      </a:r>
                      <a:r>
                        <a:rPr b="0" lang="en-US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6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每天</a:t>
                      </a:r>
                      <a:r>
                        <a:rPr b="0" lang="en-US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：</a:t>
                      </a:r>
                      <a:r>
                        <a:rPr b="0" lang="en-US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上班，迟到挨批，周末无休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6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在老爹手下工作，一切小心翼翼，时不时挨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文本框 17"/>
          <p:cNvSpPr/>
          <p:nvPr/>
        </p:nvSpPr>
        <p:spPr>
          <a:xfrm>
            <a:off x="997560" y="66672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0070c0"/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476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00206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半闭框 8"/>
          <p:cNvSpPr/>
          <p:nvPr/>
        </p:nvSpPr>
        <p:spPr>
          <a:xfrm>
            <a:off x="2395440" y="256140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002060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12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81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2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483" name="表格 14"/>
          <p:cNvGraphicFramePr/>
          <p:nvPr/>
        </p:nvGraphicFramePr>
        <p:xfrm>
          <a:off x="1076400" y="52736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顶着压力复习，第五次终于通过，基础也一次次得到夯实得更牢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坚持每天准时起床，无论前一天是否熬夜，也养成好作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感谢对自己简单粗暴的人，是他们让自己成长更快更结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图片 1"/>
          <p:cNvSpPr/>
          <p:nvPr/>
        </p:nvSpPr>
        <p:spPr>
          <a:xfrm>
            <a:off x="915840" y="692640"/>
            <a:ext cx="1626840" cy="210420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表格 17"/>
          <p:cNvGraphicFramePr/>
          <p:nvPr/>
        </p:nvGraphicFramePr>
        <p:xfrm>
          <a:off x="4083840" y="1612440"/>
          <a:ext cx="4180320" cy="155520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考试挂科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夯实再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工作累人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坚持适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遭受批评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逆来顺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图片 18"/>
          <p:cNvSpPr/>
          <p:nvPr/>
        </p:nvSpPr>
        <p:spPr>
          <a:xfrm>
            <a:off x="644400" y="5301360"/>
            <a:ext cx="344880" cy="35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图片 19"/>
          <p:cNvSpPr/>
          <p:nvPr/>
        </p:nvSpPr>
        <p:spPr>
          <a:xfrm>
            <a:off x="644400" y="5733360"/>
            <a:ext cx="344880" cy="35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图片 20"/>
          <p:cNvSpPr/>
          <p:nvPr/>
        </p:nvSpPr>
        <p:spPr>
          <a:xfrm>
            <a:off x="644400" y="6165360"/>
            <a:ext cx="344880" cy="35964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21"/>
          <p:cNvSpPr/>
          <p:nvPr/>
        </p:nvSpPr>
        <p:spPr>
          <a:xfrm>
            <a:off x="685440" y="3261960"/>
            <a:ext cx="3238200" cy="69948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2060"/>
                </a:solidFill>
                <a:latin typeface="华康少女文字W5(P)"/>
                <a:ea typeface="华康少女文字W5(P)"/>
              </a:rPr>
              <a:t>岳屾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2060"/>
                </a:solidFill>
                <a:latin typeface="华康少女文字W5(P)"/>
                <a:ea typeface="华康少女文字W5(P)"/>
              </a:rPr>
              <a:t>岳成律师事务所高级合伙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66" name="图片 11"/>
          <p:cNvSpPr/>
          <p:nvPr/>
        </p:nvSpPr>
        <p:spPr>
          <a:xfrm>
            <a:off x="822600" y="692640"/>
            <a:ext cx="1486440" cy="222984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ff06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半闭框 8"/>
          <p:cNvSpPr/>
          <p:nvPr/>
        </p:nvSpPr>
        <p:spPr>
          <a:xfrm>
            <a:off x="2093400" y="267120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ff06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老大徒伤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事半功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爱情不顺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珍惜拥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壮志难酬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另辟蹊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表格 14"/>
          <p:cNvGraphicFramePr/>
          <p:nvPr/>
        </p:nvGraphicFramePr>
        <p:xfrm>
          <a:off x="467640" y="5273640"/>
          <a:ext cx="8343720" cy="1278720"/>
        </p:xfrm>
        <a:graphic>
          <a:graphicData uri="http://schemas.openxmlformats.org/drawingml/2006/table">
            <a:tbl>
              <a:tblPr/>
              <a:tblGrid>
                <a:gridCol w="591120"/>
                <a:gridCol w="7752600"/>
              </a:tblGrid>
              <a:tr h="24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惜时奋发，在大学期间找工作，想办法事半功倍，找回耽误的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生重病的母亲幸运康复，从而领悟要珍惜所拥有的，重新开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从业务部做起，一步步努力为自己争一口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文本框 4"/>
          <p:cNvSpPr/>
          <p:nvPr/>
        </p:nvSpPr>
        <p:spPr>
          <a:xfrm>
            <a:off x="574560" y="3404160"/>
            <a:ext cx="4301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杨石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智立方品牌营销传播集团董事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图片 12"/>
          <p:cNvSpPr/>
          <p:nvPr/>
        </p:nvSpPr>
        <p:spPr>
          <a:xfrm>
            <a:off x="644400" y="5280480"/>
            <a:ext cx="370800" cy="37656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图片 13"/>
          <p:cNvSpPr/>
          <p:nvPr/>
        </p:nvSpPr>
        <p:spPr>
          <a:xfrm>
            <a:off x="644760" y="5676480"/>
            <a:ext cx="370800" cy="37656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图片 15"/>
          <p:cNvSpPr/>
          <p:nvPr/>
        </p:nvSpPr>
        <p:spPr>
          <a:xfrm>
            <a:off x="644400" y="6090480"/>
            <a:ext cx="370800" cy="37656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491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岳律师的寒暑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002060"/>
                          </a:solidFill>
                          <a:latin typeface="华康少女文字W5(P)"/>
                          <a:ea typeface="华康少女文字W5(P)"/>
                        </a:rPr>
                        <a:t>岳屾山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grpSp>
        <p:nvGrpSpPr>
          <p:cNvPr id="493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494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5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96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在那个事务所里，岳家的人从来没有休息日，直到现在，他们兄妹几个还有这个习惯，周末如果不上班，心里就有点不踏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3" descr=""/>
          <p:cNvPicPr/>
          <p:nvPr/>
        </p:nvPicPr>
        <p:blipFill>
          <a:blip r:embed="rId2"/>
          <a:stretch/>
        </p:blipFill>
        <p:spPr>
          <a:xfrm>
            <a:off x="6401160" y="3184200"/>
            <a:ext cx="1840320" cy="2040120"/>
          </a:xfrm>
          <a:prstGeom prst="rect">
            <a:avLst/>
          </a:prstGeom>
          <a:ln w="0">
            <a:noFill/>
          </a:ln>
        </p:spPr>
      </p:pic>
      <p:sp>
        <p:nvSpPr>
          <p:cNvPr id="498" name="图片 4"/>
          <p:cNvSpPr/>
          <p:nvPr/>
        </p:nvSpPr>
        <p:spPr>
          <a:xfrm>
            <a:off x="6588360" y="2158920"/>
            <a:ext cx="1223640" cy="12762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00206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表格 10"/>
          <p:cNvGraphicFramePr/>
          <p:nvPr/>
        </p:nvGraphicFramePr>
        <p:xfrm>
          <a:off x="657720" y="1525680"/>
          <a:ext cx="6095520" cy="2413800"/>
        </p:xfrm>
        <a:graphic>
          <a:graphicData uri="http://schemas.openxmlformats.org/drawingml/2006/table">
            <a:tbl>
              <a:tblPr/>
              <a:tblGrid>
                <a:gridCol w="1441080"/>
                <a:gridCol w="4654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偶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每天（周末无休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看电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穿西装上班，看卷宗，起诉状，答辩状，开庭笔记，律师代理词，判决书，然后做记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聚会吃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陪父亲到客户那儿吃饭谈案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文本框 1"/>
          <p:cNvSpPr/>
          <p:nvPr/>
        </p:nvSpPr>
        <p:spPr>
          <a:xfrm>
            <a:off x="395640" y="2797200"/>
            <a:ext cx="1728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×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2"/>
          <p:cNvSpPr/>
          <p:nvPr/>
        </p:nvSpPr>
        <p:spPr>
          <a:xfrm>
            <a:off x="3356640" y="2604960"/>
            <a:ext cx="1728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0" spc="-1" strike="noStrike">
                <a:solidFill>
                  <a:srgbClr val="ff0000"/>
                </a:solidFill>
                <a:latin typeface="华康少女文字W5(P)"/>
                <a:ea typeface="华康少女文字W5(P)"/>
              </a:rPr>
              <a:t>√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395640" y="6397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504" name="文本框 6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律师的</a:t>
            </a:r>
            <a:r>
              <a:rPr b="0" lang="en-US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种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002060"/>
                          </a:solidFill>
                          <a:latin typeface="华康少女文字W5(P)"/>
                          <a:ea typeface="华康少女文字W5(P)"/>
                        </a:rPr>
                        <a:t>岳屾山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grpSp>
        <p:nvGrpSpPr>
          <p:cNvPr id="506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507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8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09" name="文本框 9"/>
          <p:cNvSpPr/>
          <p:nvPr/>
        </p:nvSpPr>
        <p:spPr>
          <a:xfrm>
            <a:off x="932400" y="5488920"/>
            <a:ext cx="7402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年轻人就像做学徒一样，在做学徒的初期，不能对自己的薪水要求过高，因为培训的成本在里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图片 3" descr=""/>
          <p:cNvPicPr/>
          <p:nvPr/>
        </p:nvPicPr>
        <p:blipFill>
          <a:blip r:embed="rId2"/>
          <a:stretch/>
        </p:blipFill>
        <p:spPr>
          <a:xfrm>
            <a:off x="6401160" y="3184200"/>
            <a:ext cx="1840320" cy="2040120"/>
          </a:xfrm>
          <a:prstGeom prst="rect">
            <a:avLst/>
          </a:prstGeom>
          <a:ln w="0">
            <a:noFill/>
          </a:ln>
        </p:spPr>
      </p:pic>
      <p:sp>
        <p:nvSpPr>
          <p:cNvPr id="511" name="图片 4"/>
          <p:cNvSpPr/>
          <p:nvPr/>
        </p:nvSpPr>
        <p:spPr>
          <a:xfrm>
            <a:off x="6588360" y="2158920"/>
            <a:ext cx="1223640" cy="12762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00206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表格 10"/>
          <p:cNvGraphicFramePr/>
          <p:nvPr/>
        </p:nvGraphicFramePr>
        <p:xfrm>
          <a:off x="754560" y="1898280"/>
          <a:ext cx="6095520" cy="1800000"/>
        </p:xfrm>
        <a:graphic>
          <a:graphicData uri="http://schemas.openxmlformats.org/drawingml/2006/table">
            <a:tbl>
              <a:tblPr/>
              <a:tblGrid>
                <a:gridCol w="1165320"/>
                <a:gridCol w="2291760"/>
                <a:gridCol w="26384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经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生活经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专业经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例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房子漏水原因：水龙头？管道？管道节点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一个案件，法院一般会怎么处理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启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做生活的有心人，多参与进去，积累经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多学习，多积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（如寒暑假的实习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514" name="文本框 6"/>
          <p:cNvSpPr/>
          <p:nvPr/>
        </p:nvSpPr>
        <p:spPr>
          <a:xfrm rot="21406200">
            <a:off x="839880" y="733680"/>
            <a:ext cx="4742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感谢对自己简单粗暴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表格 8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002060"/>
                          </a:solidFill>
                          <a:latin typeface="华康少女文字W5(P)"/>
                          <a:ea typeface="华康少女文字W5(P)"/>
                        </a:rPr>
                        <a:t>岳屾山</a:t>
                      </a: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ffff06"/>
                          </a:solidFill>
                          <a:latin typeface="华康少女文字W5(P)"/>
                          <a:ea typeface="华康少女文字W5(P)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060"/>
                    </a:solidFill>
                  </a:tcPr>
                </a:tc>
              </a:tr>
            </a:tbl>
          </a:graphicData>
        </a:graphic>
      </p:graphicFrame>
      <p:grpSp>
        <p:nvGrpSpPr>
          <p:cNvPr id="516" name="组合 13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517" name="矩形 15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8" name="矩形 16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002060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19" name="文本框 9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对自己在乎的人，是特别容易简单粗暴的，因为关心，就像利益共同体，你要不好我也会受影响，我就得让你好；而那些不相干的人，说好话最容易，你却得不到印象深刻的思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3" descr=""/>
          <p:cNvPicPr/>
          <p:nvPr/>
        </p:nvPicPr>
        <p:blipFill>
          <a:blip r:embed="rId2"/>
          <a:stretch/>
        </p:blipFill>
        <p:spPr>
          <a:xfrm>
            <a:off x="6401160" y="3184200"/>
            <a:ext cx="1840320" cy="2040120"/>
          </a:xfrm>
          <a:prstGeom prst="rect">
            <a:avLst/>
          </a:prstGeom>
          <a:ln w="0">
            <a:noFill/>
          </a:ln>
        </p:spPr>
      </p:pic>
      <p:sp>
        <p:nvSpPr>
          <p:cNvPr id="521" name="图片 4"/>
          <p:cNvSpPr/>
          <p:nvPr/>
        </p:nvSpPr>
        <p:spPr>
          <a:xfrm>
            <a:off x="6588360" y="2158920"/>
            <a:ext cx="1223640" cy="127620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63500">
            <a:solidFill>
              <a:srgbClr val="00206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表格 10"/>
          <p:cNvGraphicFramePr/>
          <p:nvPr/>
        </p:nvGraphicFramePr>
        <p:xfrm>
          <a:off x="611640" y="1826280"/>
          <a:ext cx="6095520" cy="396720"/>
        </p:xfrm>
        <a:graphic>
          <a:graphicData uri="http://schemas.openxmlformats.org/drawingml/2006/table">
            <a:tbl>
              <a:tblPr/>
              <a:tblGrid>
                <a:gridCol w="1585080"/>
                <a:gridCol w="451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选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A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听不得重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马丁他那样说话是不对，我都听不惯了，可他给你亮了灯；在我看来，你什么都好，你这儿也好，那儿也好，我就是不亮灯，你觉得哪一种对你更有帮助？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524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ff06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半闭框 8"/>
          <p:cNvSpPr/>
          <p:nvPr/>
        </p:nvSpPr>
        <p:spPr>
          <a:xfrm>
            <a:off x="2103480" y="257292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ff06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7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竞争激烈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长年被批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自我膨胀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表格 14"/>
          <p:cNvGraphicFramePr/>
          <p:nvPr/>
        </p:nvGraphicFramePr>
        <p:xfrm>
          <a:off x="1076400" y="52736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浙广的同学很刻苦，声线也很好，自己压力山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工作两年多，有五六百天都是被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在电台有点成绩就开始“飘”、开始自我膨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文本框 11"/>
          <p:cNvSpPr/>
          <p:nvPr/>
        </p:nvSpPr>
        <p:spPr>
          <a:xfrm>
            <a:off x="997560" y="66672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532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表格 14"/>
          <p:cNvGraphicFramePr/>
          <p:nvPr/>
        </p:nvGraphicFramePr>
        <p:xfrm>
          <a:off x="467640" y="5273640"/>
          <a:ext cx="8343720" cy="1234440"/>
        </p:xfrm>
        <a:graphic>
          <a:graphicData uri="http://schemas.openxmlformats.org/drawingml/2006/table">
            <a:tbl>
              <a:tblPr/>
              <a:tblGrid>
                <a:gridCol w="591120"/>
                <a:gridCol w="7752600"/>
              </a:tblGrid>
              <a:tr h="24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找出自己的差异化，做足球解说而非播音主持，以此为努力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骂是一种提点，在骂中成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沉淀，做新的自己，真诚去对每个人，让虚伪走开，让节奏紧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文本框 4"/>
          <p:cNvSpPr/>
          <p:nvPr/>
        </p:nvSpPr>
        <p:spPr>
          <a:xfrm>
            <a:off x="574560" y="3404160"/>
            <a:ext cx="4301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李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06"/>
                </a:solidFill>
                <a:latin typeface="华康少女文字W5(P)"/>
                <a:ea typeface="华康少女文字W5(P)"/>
              </a:rPr>
              <a:t>《职来职往》主持人、本书作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半闭框 12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ff06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半闭框 13"/>
          <p:cNvSpPr/>
          <p:nvPr/>
        </p:nvSpPr>
        <p:spPr>
          <a:xfrm>
            <a:off x="2103480" y="257292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ffff06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7" name="表格 15"/>
          <p:cNvGraphicFramePr/>
          <p:nvPr/>
        </p:nvGraphicFramePr>
        <p:xfrm>
          <a:off x="4083840" y="1612440"/>
          <a:ext cx="4180320" cy="155520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竞争激烈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寻找差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长年被批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骂是关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自我膨胀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改过自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图片 19"/>
          <p:cNvSpPr/>
          <p:nvPr/>
        </p:nvSpPr>
        <p:spPr>
          <a:xfrm>
            <a:off x="871200" y="692640"/>
            <a:ext cx="1436760" cy="213192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图片 2"/>
          <p:cNvSpPr/>
          <p:nvPr/>
        </p:nvSpPr>
        <p:spPr>
          <a:xfrm>
            <a:off x="664920" y="5311440"/>
            <a:ext cx="365040" cy="3650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127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图片 20"/>
          <p:cNvSpPr/>
          <p:nvPr/>
        </p:nvSpPr>
        <p:spPr>
          <a:xfrm>
            <a:off x="664920" y="5736960"/>
            <a:ext cx="365040" cy="3650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127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图片 21"/>
          <p:cNvSpPr/>
          <p:nvPr/>
        </p:nvSpPr>
        <p:spPr>
          <a:xfrm>
            <a:off x="664920" y="6162480"/>
            <a:ext cx="365040" cy="36504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127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3" descr=""/>
          <p:cNvPicPr/>
          <p:nvPr/>
        </p:nvPicPr>
        <p:blipFill>
          <a:blip r:embed="rId1"/>
          <a:stretch/>
        </p:blipFill>
        <p:spPr>
          <a:xfrm>
            <a:off x="1440" y="0"/>
            <a:ext cx="9143640" cy="6847560"/>
          </a:xfrm>
          <a:prstGeom prst="rect">
            <a:avLst/>
          </a:prstGeom>
          <a:ln w="0">
            <a:noFill/>
          </a:ln>
        </p:spPr>
      </p:pic>
      <p:sp>
        <p:nvSpPr>
          <p:cNvPr id="543" name="单圆角矩形 7"/>
          <p:cNvSpPr/>
          <p:nvPr/>
        </p:nvSpPr>
        <p:spPr>
          <a:xfrm rot="10417200">
            <a:off x="3233160" y="576720"/>
            <a:ext cx="531000" cy="531000"/>
          </a:xfrm>
          <a:prstGeom prst="round1Rect">
            <a:avLst>
              <a:gd name="adj" fmla="val 16667"/>
            </a:avLst>
          </a:prstGeom>
          <a:solidFill>
            <a:srgbClr val="ffff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4" name="椭圆 4"/>
          <p:cNvSpPr/>
          <p:nvPr/>
        </p:nvSpPr>
        <p:spPr>
          <a:xfrm>
            <a:off x="749880" y="2296080"/>
            <a:ext cx="1042560" cy="22557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5" name="单圆角矩形 8"/>
          <p:cNvSpPr/>
          <p:nvPr/>
        </p:nvSpPr>
        <p:spPr>
          <a:xfrm rot="11223600">
            <a:off x="7045920" y="2215440"/>
            <a:ext cx="438120" cy="438120"/>
          </a:xfrm>
          <a:prstGeom prst="round1Rect">
            <a:avLst>
              <a:gd name="adj" fmla="val 16667"/>
            </a:avLst>
          </a:prstGeom>
          <a:solidFill>
            <a:srgbClr val="ffff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6" name="单圆角矩形 9"/>
          <p:cNvSpPr/>
          <p:nvPr/>
        </p:nvSpPr>
        <p:spPr>
          <a:xfrm rot="1652400">
            <a:off x="3649320" y="3396960"/>
            <a:ext cx="604800" cy="604800"/>
          </a:xfrm>
          <a:prstGeom prst="round1Rect">
            <a:avLst>
              <a:gd name="adj" fmla="val 16667"/>
            </a:avLst>
          </a:prstGeom>
          <a:solidFill>
            <a:srgbClr val="ffff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7" name="文本框 5"/>
          <p:cNvSpPr/>
          <p:nvPr/>
        </p:nvSpPr>
        <p:spPr>
          <a:xfrm>
            <a:off x="3509280" y="980640"/>
            <a:ext cx="4911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职来职往》的达人强调上进心、进取心，激情，不是说你能为企业创造多少价值，而是当你有了进取心，你不服输，你的成长速度就是飞快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0"/>
          <p:cNvSpPr/>
          <p:nvPr/>
        </p:nvSpPr>
        <p:spPr>
          <a:xfrm rot="21397800">
            <a:off x="2547360" y="2434320"/>
            <a:ext cx="434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站在台上主持，脑子里住着的是一个编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1"/>
          <p:cNvSpPr/>
          <p:nvPr/>
        </p:nvSpPr>
        <p:spPr>
          <a:xfrm>
            <a:off x="4423320" y="3391200"/>
            <a:ext cx="439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必须离开这个环境</a:t>
            </a:r>
            <a:r>
              <a:rPr b="0" lang="en-US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自我膨胀的地方</a:t>
            </a:r>
            <a:r>
              <a:rPr b="0" lang="en-US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)</a:t>
            </a: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，哪怕过着一个月一两千块的日子，我都要在未知的地方重新来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2"/>
          <p:cNvSpPr/>
          <p:nvPr/>
        </p:nvSpPr>
        <p:spPr>
          <a:xfrm>
            <a:off x="3058200" y="5430240"/>
            <a:ext cx="4822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多一个人和你分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少一点难自己肩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2" descr=""/>
          <p:cNvPicPr/>
          <p:nvPr/>
        </p:nvPicPr>
        <p:blipFill>
          <a:blip r:embed="rId2"/>
          <a:stretch/>
        </p:blipFill>
        <p:spPr>
          <a:xfrm>
            <a:off x="-248400" y="953280"/>
            <a:ext cx="3040920" cy="61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7024320" y="3450240"/>
            <a:ext cx="1493640" cy="1656000"/>
          </a:xfrm>
          <a:prstGeom prst="rect">
            <a:avLst/>
          </a:prstGeom>
          <a:ln w="0">
            <a:noFill/>
          </a:ln>
        </p:spPr>
      </p:pic>
      <p:sp>
        <p:nvSpPr>
          <p:cNvPr id="78" name="图片 3"/>
          <p:cNvSpPr/>
          <p:nvPr/>
        </p:nvSpPr>
        <p:spPr>
          <a:xfrm>
            <a:off x="7128720" y="2493000"/>
            <a:ext cx="1206000" cy="122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47625">
            <a:solidFill>
              <a:srgbClr val="ffff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表格 2"/>
          <p:cNvGraphicFramePr/>
          <p:nvPr/>
        </p:nvGraphicFramePr>
        <p:xfrm>
          <a:off x="754560" y="1898280"/>
          <a:ext cx="6095520" cy="1756800"/>
        </p:xfrm>
        <a:graphic>
          <a:graphicData uri="http://schemas.openxmlformats.org/drawingml/2006/table">
            <a:tbl>
              <a:tblPr/>
              <a:tblGrid>
                <a:gridCol w="1441080"/>
                <a:gridCol w="4654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队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参与重大案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教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教好新的团队成员一块儿成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学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整理海量课件以做分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传教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分洒阳光、传递价值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文本框 4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角色扮演之品牌顾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"/>
          <p:cNvSpPr/>
          <p:nvPr/>
        </p:nvSpPr>
        <p:spPr>
          <a:xfrm rot="21406200">
            <a:off x="7052040" y="524880"/>
            <a:ext cx="342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00"/>
              </a:solidFill>
              <a:latin typeface="华康少女文字W5(P)"/>
              <a:ea typeface="华康少女文字W5(P)"/>
            </a:endParaRPr>
          </a:p>
        </p:txBody>
      </p:sp>
      <p:graphicFrame>
        <p:nvGraphicFramePr>
          <p:cNvPr id="82" name="表格 5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华康少女文字W5(P)"/>
                          <a:ea typeface="华康少女文字W5(P)"/>
                        </a:rPr>
                        <a:t>石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6"/>
                    </a:solidFill>
                  </a:tcPr>
                </a:tc>
              </a:tr>
            </a:tbl>
          </a:graphicData>
        </a:graphic>
      </p:graphicFrame>
      <p:sp>
        <p:nvSpPr>
          <p:cNvPr id="83" name="文本框 8"/>
          <p:cNvSpPr/>
          <p:nvPr/>
        </p:nvSpPr>
        <p:spPr>
          <a:xfrm>
            <a:off x="932400" y="528048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我是个草根，没有哈佛的背景，也不是</a:t>
            </a: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ABC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，我能混到这个份儿上，你们没有理由比我差，今天我下台的时候，你们可能会赏赐给我一点儿掌声，不过请各位记得，今天为我鼓掌的手，明天请务必为自己加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7024320" y="3450240"/>
            <a:ext cx="1493640" cy="16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表格 2"/>
          <p:cNvGraphicFramePr/>
          <p:nvPr/>
        </p:nvGraphicFramePr>
        <p:xfrm>
          <a:off x="754560" y="1898280"/>
          <a:ext cx="4825080" cy="2190960"/>
        </p:xfrm>
        <a:graphic>
          <a:graphicData uri="http://schemas.openxmlformats.org/drawingml/2006/table">
            <a:tbl>
              <a:tblPr/>
              <a:tblGrid>
                <a:gridCol w="724320"/>
                <a:gridCol w="871920"/>
                <a:gridCol w="911880"/>
                <a:gridCol w="23166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素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努力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大学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学习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+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思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精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6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职场新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文本框 4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职场两类新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 rot="21406200">
            <a:off x="7052040" y="524880"/>
            <a:ext cx="342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00"/>
              </a:solidFill>
              <a:latin typeface="华康少女文字W5(P)"/>
              <a:ea typeface="华康少女文字W5(P)"/>
            </a:endParaRPr>
          </a:p>
        </p:txBody>
      </p:sp>
      <p:graphicFrame>
        <p:nvGraphicFramePr>
          <p:cNvPr id="89" name="表格 5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华康少女文字W5(P)"/>
                          <a:ea typeface="华康少女文字W5(P)"/>
                        </a:rPr>
                        <a:t>石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6"/>
                    </a:solidFill>
                  </a:tcPr>
                </a:tc>
              </a:tr>
            </a:tbl>
          </a:graphicData>
        </a:graphic>
      </p:graphicFrame>
      <p:sp>
        <p:nvSpPr>
          <p:cNvPr id="90" name="文本框 8"/>
          <p:cNvSpPr/>
          <p:nvPr/>
        </p:nvSpPr>
        <p:spPr>
          <a:xfrm>
            <a:off x="932400" y="548892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每个人，每个公司，对面都是一面面的镜子，你做成什么样，在对方眼里就反射成什么样，美的就会反射美的，丑的就会反射丑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图片 9"/>
          <p:cNvSpPr/>
          <p:nvPr/>
        </p:nvSpPr>
        <p:spPr>
          <a:xfrm>
            <a:off x="7128720" y="2493000"/>
            <a:ext cx="1206000" cy="122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47625">
            <a:solidFill>
              <a:srgbClr val="ffff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47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7024320" y="3450240"/>
            <a:ext cx="1493640" cy="16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表格 2"/>
          <p:cNvGraphicFramePr/>
          <p:nvPr/>
        </p:nvGraphicFramePr>
        <p:xfrm>
          <a:off x="425520" y="1816200"/>
          <a:ext cx="5298120" cy="439200"/>
        </p:xfrm>
        <a:graphic>
          <a:graphicData uri="http://schemas.openxmlformats.org/drawingml/2006/table">
            <a:tbl>
              <a:tblPr/>
              <a:tblGrid>
                <a:gridCol w="834120"/>
                <a:gridCol w="1944000"/>
                <a:gridCol w="2520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要达到的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要瞄准的方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文本框 4"/>
          <p:cNvSpPr/>
          <p:nvPr/>
        </p:nvSpPr>
        <p:spPr>
          <a:xfrm rot="21406200">
            <a:off x="840240" y="743760"/>
            <a:ext cx="439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目标、目标达成的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"/>
          <p:cNvSpPr/>
          <p:nvPr/>
        </p:nvSpPr>
        <p:spPr>
          <a:xfrm rot="21406200">
            <a:off x="7052040" y="524880"/>
            <a:ext cx="342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ffff00"/>
              </a:solidFill>
              <a:latin typeface="华康少女文字W5(P)"/>
              <a:ea typeface="华康少女文字W5(P)"/>
            </a:endParaRPr>
          </a:p>
        </p:txBody>
      </p:sp>
      <p:graphicFrame>
        <p:nvGraphicFramePr>
          <p:cNvPr id="97" name="表格 5"/>
          <p:cNvGraphicFramePr/>
          <p:nvPr/>
        </p:nvGraphicFramePr>
        <p:xfrm>
          <a:off x="7511040" y="1486800"/>
          <a:ext cx="1632600" cy="844200"/>
        </p:xfrm>
        <a:graphic>
          <a:graphicData uri="http://schemas.openxmlformats.org/drawingml/2006/table">
            <a:tbl>
              <a:tblPr/>
              <a:tblGrid>
                <a:gridCol w="1099440"/>
                <a:gridCol w="533160"/>
              </a:tblGrid>
              <a:tr h="84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华康少女文字W5(P)"/>
                          <a:ea typeface="华康少女文字W5(P)"/>
                        </a:rPr>
                        <a:t>石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华康少女文字W5(P)"/>
                          <a:ea typeface="华康少女文字W5(P)"/>
                        </a:rPr>
                        <a:t>sty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表格 8"/>
          <p:cNvGraphicFramePr/>
          <p:nvPr/>
        </p:nvGraphicFramePr>
        <p:xfrm>
          <a:off x="395640" y="2348640"/>
          <a:ext cx="6419520" cy="1586880"/>
        </p:xfrm>
        <a:graphic>
          <a:graphicData uri="http://schemas.openxmlformats.org/drawingml/2006/table">
            <a:tbl>
              <a:tblPr/>
              <a:tblGrid>
                <a:gridCol w="847080"/>
                <a:gridCol w="847080"/>
                <a:gridCol w="4725720"/>
              </a:tblGrid>
              <a:tr h="39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基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不断夯实知识结构，进行知识更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见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学会借鉴，从模仿开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胆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学习吸收后再突破，从微创新开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智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勤思考，把知识转化为生产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文本框 9"/>
          <p:cNvSpPr/>
          <p:nvPr/>
        </p:nvSpPr>
        <p:spPr>
          <a:xfrm>
            <a:off x="932400" y="5623200"/>
            <a:ext cx="7402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肤浅的人，把自己所有的理想都写在脸上，真正能实现的人，是把壮志刻在心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图片 10"/>
          <p:cNvSpPr/>
          <p:nvPr/>
        </p:nvSpPr>
        <p:spPr>
          <a:xfrm>
            <a:off x="7128720" y="2493000"/>
            <a:ext cx="1206000" cy="1223640"/>
          </a:xfrm>
          <a:prstGeom prst="ellipse">
            <a:avLst/>
          </a:prstGeom>
          <a:blipFill rotWithShape="0">
            <a:blip r:embed="rId3"/>
            <a:srcRect/>
            <a:stretch/>
          </a:blipFill>
          <a:ln cap="rnd" w="47625">
            <a:solidFill>
              <a:srgbClr val="ffff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102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99e39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半闭框 8"/>
          <p:cNvSpPr/>
          <p:nvPr/>
        </p:nvSpPr>
        <p:spPr>
          <a:xfrm>
            <a:off x="2419920" y="266796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99e39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表格 9"/>
          <p:cNvGraphicFramePr/>
          <p:nvPr/>
        </p:nvGraphicFramePr>
        <p:xfrm>
          <a:off x="4083840" y="1612440"/>
          <a:ext cx="4180320" cy="1724760"/>
        </p:xfrm>
        <a:graphic>
          <a:graphicData uri="http://schemas.openxmlformats.org/drawingml/2006/table">
            <a:tbl>
              <a:tblPr/>
              <a:tblGrid>
                <a:gridCol w="41806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梦想断线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琐事不断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加薪无门”怎么办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怎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5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108" name="矩形 4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矩形 17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110" name="表格 14"/>
          <p:cNvGraphicFramePr/>
          <p:nvPr/>
        </p:nvGraphicFramePr>
        <p:xfrm>
          <a:off x="747000" y="5301360"/>
          <a:ext cx="7937280" cy="1190160"/>
        </p:xfrm>
        <a:graphic>
          <a:graphicData uri="http://schemas.openxmlformats.org/drawingml/2006/table">
            <a:tbl>
              <a:tblPr/>
              <a:tblGrid>
                <a:gridCol w="79376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梦想写作但工作非编辑而是市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两年时间帮领导找书并拍照存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PDF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、接孩子，帮同事遛狗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"/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（秘书成功获得加薪例子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文本框 15"/>
          <p:cNvSpPr/>
          <p:nvPr/>
        </p:nvSpPr>
        <p:spPr>
          <a:xfrm>
            <a:off x="997560" y="666720"/>
            <a:ext cx="129564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5000" spc="-1" strike="noStrike">
                <a:solidFill>
                  <a:srgbClr val="e99e39"/>
                </a:solidFill>
                <a:latin typeface="华康少女文字W5(P)"/>
                <a:ea typeface="华康少女文字W5(P)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5640" y="63975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7" descr=""/>
          <p:cNvPicPr/>
          <p:nvPr/>
        </p:nvPicPr>
        <p:blipFill>
          <a:blip r:embed="rId1"/>
          <a:stretch/>
        </p:blipFill>
        <p:spPr>
          <a:xfrm>
            <a:off x="7560" y="-21960"/>
            <a:ext cx="9143640" cy="6847560"/>
          </a:xfrm>
          <a:prstGeom prst="rect">
            <a:avLst/>
          </a:prstGeom>
          <a:ln w="0">
            <a:noFill/>
          </a:ln>
          <a:scene3d>
            <a:camera prst="orthographicFront">
              <a:rot lat="0" lon="60000" rev="0"/>
            </a:camera>
            <a:lightRig dir="t" rig="threePt"/>
          </a:scene3d>
        </p:spPr>
      </p:pic>
      <p:sp>
        <p:nvSpPr>
          <p:cNvPr id="114" name="文本框 13"/>
          <p:cNvSpPr/>
          <p:nvPr/>
        </p:nvSpPr>
        <p:spPr>
          <a:xfrm>
            <a:off x="4716000" y="692640"/>
            <a:ext cx="3456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半闭框 3"/>
          <p:cNvSpPr/>
          <p:nvPr/>
        </p:nvSpPr>
        <p:spPr>
          <a:xfrm>
            <a:off x="644400" y="44064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99e39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半闭框 8"/>
          <p:cNvSpPr/>
          <p:nvPr/>
        </p:nvSpPr>
        <p:spPr>
          <a:xfrm>
            <a:off x="2419920" y="2667960"/>
            <a:ext cx="431640" cy="503640"/>
          </a:xfrm>
          <a:prstGeom prst="halfFrame">
            <a:avLst>
              <a:gd name="adj1" fmla="val 33333"/>
              <a:gd name="adj2" fmla="val 33333"/>
            </a:avLst>
          </a:prstGeom>
          <a:solidFill>
            <a:srgbClr val="e99e39"/>
          </a:solidFill>
          <a:ln w="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10800000" lon="1080000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表格 9"/>
          <p:cNvGraphicFramePr/>
          <p:nvPr/>
        </p:nvGraphicFramePr>
        <p:xfrm>
          <a:off x="4083840" y="1612440"/>
          <a:ext cx="5424840" cy="1724760"/>
        </p:xfrm>
        <a:graphic>
          <a:graphicData uri="http://schemas.openxmlformats.org/drawingml/2006/table">
            <a:tbl>
              <a:tblPr/>
              <a:tblGrid>
                <a:gridCol w="542484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梦想断线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另辟蹊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琐事不断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总有出头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加薪无门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华康少女文字W5(P)"/>
                          <a:ea typeface="华康少女文字W5(P)"/>
                        </a:rPr>
                        <a:t>—做得更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文本框 10"/>
          <p:cNvSpPr/>
          <p:nvPr/>
        </p:nvSpPr>
        <p:spPr>
          <a:xfrm>
            <a:off x="4579560" y="440640"/>
            <a:ext cx="2589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这么办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华康少女文字W5(P)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表格 14"/>
          <p:cNvGraphicFramePr/>
          <p:nvPr/>
        </p:nvGraphicFramePr>
        <p:xfrm>
          <a:off x="1076400" y="5273640"/>
          <a:ext cx="7668360" cy="1190160"/>
        </p:xfrm>
        <a:graphic>
          <a:graphicData uri="http://schemas.openxmlformats.org/drawingml/2006/table">
            <a:tbl>
              <a:tblPr/>
              <a:tblGrid>
                <a:gridCol w="766872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梦想写作，但工作非编辑而是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创意被否定，而且被批无天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图片 1"/>
          <p:cNvSpPr/>
          <p:nvPr/>
        </p:nvSpPr>
        <p:spPr>
          <a:xfrm>
            <a:off x="1001880" y="855720"/>
            <a:ext cx="1492560" cy="1914120"/>
          </a:xfrm>
          <a:prstGeom prst="roundRect">
            <a:avLst>
              <a:gd name="adj" fmla="val 8594"/>
            </a:avLst>
          </a:prstGeom>
          <a:blipFill rotWithShape="0"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12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5"/>
          <p:cNvGrpSpPr/>
          <p:nvPr/>
        </p:nvGrpSpPr>
        <p:grpSpPr>
          <a:xfrm>
            <a:off x="0" y="4581000"/>
            <a:ext cx="9151200" cy="2276640"/>
            <a:chOff x="0" y="4581000"/>
            <a:chExt cx="9151200" cy="2276640"/>
          </a:xfrm>
        </p:grpSpPr>
        <p:sp>
          <p:nvSpPr>
            <p:cNvPr id="122" name="矩形 4"/>
            <p:cNvSpPr/>
            <p:nvPr/>
          </p:nvSpPr>
          <p:spPr>
            <a:xfrm>
              <a:off x="0" y="5027760"/>
              <a:ext cx="9151200" cy="182988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innerShdw blurRad="63500" dir="18900000" dist="50800">
                <a:schemeClr val="bg1">
                  <a:lumMod val="85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矩形 17"/>
            <p:cNvSpPr/>
            <p:nvPr/>
          </p:nvSpPr>
          <p:spPr>
            <a:xfrm>
              <a:off x="3204000" y="4581000"/>
              <a:ext cx="863640" cy="372240"/>
            </a:xfrm>
            <a:prstGeom prst="rect">
              <a:avLst/>
            </a:prstGeom>
            <a:solidFill>
              <a:srgbClr val="e99e39"/>
            </a:solidFill>
            <a:ln>
              <a:noFill/>
            </a:ln>
            <a:effectLst>
              <a:outerShdw algn="ctr" blurRad="50760" dir="5400000" dist="50760" rotWithShape="0">
                <a:schemeClr val="accent6">
                  <a:lumMod val="5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aphicFrame>
        <p:nvGraphicFramePr>
          <p:cNvPr id="124" name="表格 12"/>
          <p:cNvGraphicFramePr/>
          <p:nvPr/>
        </p:nvGraphicFramePr>
        <p:xfrm>
          <a:off x="467640" y="5273640"/>
          <a:ext cx="8676000" cy="1341720"/>
        </p:xfrm>
        <a:graphic>
          <a:graphicData uri="http://schemas.openxmlformats.org/drawingml/2006/table">
            <a:tbl>
              <a:tblPr/>
              <a:tblGrid>
                <a:gridCol w="614520"/>
                <a:gridCol w="8061480"/>
              </a:tblGrid>
              <a:tr h="45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做内部杂志：富士康《鸿准》；电信《信元》；移动《卓望》；新浪微博《微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简单的事做多就不简单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获得领导同事的认可；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海量积累基层经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华康少女文字W5(P)"/>
                        <a:ea typeface="华康少女文字W5(P)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用心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pp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华康少女文字W5(P)"/>
                          <a:ea typeface="华康少女文字W5(P)"/>
                        </a:rPr>
                        <a:t>因事因人而设计；需要数据统计的知识则再自己掏钱自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图片 15"/>
          <p:cNvSpPr/>
          <p:nvPr/>
        </p:nvSpPr>
        <p:spPr>
          <a:xfrm>
            <a:off x="644400" y="5283720"/>
            <a:ext cx="357120" cy="374040"/>
          </a:xfrm>
          <a:prstGeom prst="ellipse">
            <a:avLst/>
          </a:prstGeom>
          <a:blipFill rotWithShape="0">
            <a:blip r:embed="rId4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图片 16"/>
          <p:cNvSpPr/>
          <p:nvPr/>
        </p:nvSpPr>
        <p:spPr>
          <a:xfrm>
            <a:off x="638640" y="5755680"/>
            <a:ext cx="357120" cy="374040"/>
          </a:xfrm>
          <a:prstGeom prst="ellipse">
            <a:avLst/>
          </a:prstGeom>
          <a:blipFill rotWithShape="0">
            <a:blip r:embed="rId5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图片 18"/>
          <p:cNvSpPr/>
          <p:nvPr/>
        </p:nvSpPr>
        <p:spPr>
          <a:xfrm>
            <a:off x="638640" y="6213240"/>
            <a:ext cx="357120" cy="374040"/>
          </a:xfrm>
          <a:prstGeom prst="ellipse">
            <a:avLst/>
          </a:prstGeom>
          <a:blipFill rotWithShape="0">
            <a:blip r:embed="rId6"/>
            <a:srcRect/>
            <a:stretch/>
          </a:blipFill>
          <a:ln cap="rnd" w="12700">
            <a:solidFill>
              <a:srgbClr val="000000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"/>
          <p:cNvSpPr/>
          <p:nvPr/>
        </p:nvSpPr>
        <p:spPr>
          <a:xfrm>
            <a:off x="652680" y="3202200"/>
            <a:ext cx="2351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e99e39"/>
                </a:solidFill>
                <a:latin typeface="华康少女文字W5(P)"/>
                <a:ea typeface="华康少女文字W5(P)"/>
              </a:rPr>
              <a:t>申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e99e39"/>
                </a:solidFill>
                <a:latin typeface="华康少女文字W5(P)"/>
                <a:ea typeface="华康少女文字W5(P)"/>
              </a:rPr>
              <a:t>新浪集团市场总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  <Words>3254</Words>
  <Paragraphs>4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3:58:11Z</dcterms:created>
  <dc:creator>Administrator</dc:creator>
  <dc:description/>
  <dc:language>en-US</dc:language>
  <cp:lastModifiedBy>王玉清</cp:lastModifiedBy>
  <dcterms:modified xsi:type="dcterms:W3CDTF">2016-02-23T02:50:19Z</dcterms:modified>
  <cp:revision>2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全屏显示(4:3)</vt:lpwstr>
  </property>
  <property fmtid="{D5CDD505-2E9C-101B-9397-08002B2CF9AE}" pid="4" name="Slides">
    <vt:r8>45</vt:r8>
  </property>
</Properties>
</file>