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F87-A31E-4C7A-BDE9-F1E28C01D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23DB-3E2D-432A-9CCB-115148641B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E3A2-0B02-4A52-9173-40FE7EE1EB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956-A4B0-4B52-9715-BE1CAB364C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33D-3942-414E-9CEE-6731A5C137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03C-73A6-4634-8C2B-773C2E490F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CCE1-09AF-4070-B47B-94E4D54C6A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CBF2-66A6-4CA8-B38F-CC84D4BC38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28B6-F8AC-44EC-B2E9-1474CC9328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F8B-EB8C-4B51-A6A7-CC8AED39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373-248B-43D9-92CC-0B70592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CF9-97B4-49FA-B61F-C0377644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613-F695-4465-9F29-5506DBD2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1E28-2BA7-46EC-B61C-65F5224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293F-8041-4BF0-A00A-B6138E5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F56E-3949-48E2-B273-CD14273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013-9421-4D4C-8C98-4B0BFD6A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BFB-5A14-43A4-8234-C1EB0B8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E2B-FA6C-4A7D-A044-2775741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D34E-05F9-44D6-BC27-CAB1956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704-EA87-4025-9FA5-1A83326C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DE0E-FB54-42B3-84FF-B22FB9A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FC29-E389-44A8-8D31-AF87A91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6BB-050C-43E2-AEAA-4615E9EC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F8A2-547F-4104-9A23-40D5E93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4A41-3250-4237-AA17-3EF4AF1C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4C3A-ACBF-486D-8DA6-444E7318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A67E-0B44-40C6-A5C4-6198D8C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CE66-3B5D-46E0-B01F-C93DFC72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FCB4-50F5-4CF1-9B7F-B323AE1C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A87B-A9E6-40EF-8FAE-75D415D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5AB-C9F3-4807-8623-7162F90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2673-AFEF-4174-91B4-742E748A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A099-A820-4700-8031-6F96CE2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0C60-EB03-4DAB-9156-A1C7C2A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8712-D9CB-4567-97F6-0AA6A5B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C5DB-9BB4-4ECE-BA0B-723726A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7950-D3C7-4248-AE9C-96E88709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7BB3-E68E-4867-A89A-6B1F184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261DF-6CD6-463B-ACFB-4F06AB05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390F-0853-4B3B-B9EE-5F2074C8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8690-E45F-46C3-9C04-5FCC13F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335-CBD6-4966-BF90-4726E25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8229-5BBC-4BC9-BD60-F4815F2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CFC6-154A-42AF-A913-BFC175BF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BEE6-69EA-49AB-BB65-25F82ACB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817E-95B5-4F0B-935F-A5C089D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1C8B-3A68-435F-A86C-680F3FC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E87D-052B-4799-A974-8A4D6A6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B460-881E-473F-885D-39592EE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27F0-069C-4CD3-9D5D-CFE8D04D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5382-B9C5-40FA-A752-1F1CA413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B45E-239E-4795-BC9A-0DEC2FCE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334-27F9-4E61-8329-3632FD3C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5EB0-3B78-4E4C-B3F7-79E008A6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6A3A-8E03-4666-B4DE-0FC204F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BA53-E6AA-416A-BADF-FD2E2AE8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A043-DD0B-477E-8BBA-2BA6EA8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E78F1-FEF9-4222-9814-AAB36A8C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F26A9-8A20-4E3E-9B8D-5CB5B52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2178-E078-4509-ABA1-B53907F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C56F-E056-453A-96F4-5A9DA4A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9F78-E1A7-4810-8C84-3BD0A85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F5223-9ECF-43AC-9220-C8176C3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9248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3C8-765E-4438-AE25-02E36A3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9CD2-7FA6-4FE5-9D6F-DED0691B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E50-25B0-4E26-AB77-F1BCFAA4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C85-DD97-4228-8DC6-FF524BA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7DC-C71C-4ECA-81DB-B8EBD98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5AB-2C41-4B53-980F-B75654EB18C8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30D-7241-4C0D-B1A7-8695B5485C3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ounded Rectangle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4CBE-01D9-42E2-A872-C92C80AF3C45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0AB-71BF-4F42-B647-6D3621ACD13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12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A63A-2C27-401C-B1B7-CB31719EE146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0BA-5746-477D-AA2E-44CC181EB5A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D0D-F8A7-490D-B140-A376206CD0A9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FA04-61BF-4A5F-AE83-64D749B7EC0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6400800" y="433440"/>
            <a:ext cx="2324160" cy="4341600"/>
          </a:xfrm>
          <a:custGeom>
            <a:avLst/>
            <a:gdLst>
              <a:gd name="textAreaLeft" fmla="*/ 14400 w 2324160"/>
              <a:gd name="textAreaRight" fmla="*/ 2309760 w 2324160"/>
              <a:gd name="textAreaTop" fmla="*/ 14400 h 4341600"/>
              <a:gd name="textAreaBottom" fmla="*/ 4327200 h 4341600"/>
            </a:gdLst>
            <a:ahLst/>
            <a:rect l="textAreaLeft" t="textAreaTop" r="textAreaRight" b="textAreaBottom"/>
            <a:pathLst>
              <a:path w="21600" h="40347">
                <a:moveTo>
                  <a:pt x="459" y="0"/>
                </a:moveTo>
                <a:arcTo wR="459" hR="459" stAng="16200000" swAng="-5400000"/>
                <a:lnTo>
                  <a:pt x="0" y="39888"/>
                </a:lnTo>
                <a:arcTo wR="459" hR="459" stAng="10800000" swAng="-5400000"/>
                <a:lnTo>
                  <a:pt x="21141" y="40347"/>
                </a:lnTo>
                <a:arcTo wR="459" hR="459" stAng="5400000" swAng="-5400000"/>
                <a:lnTo>
                  <a:pt x="21600" y="459"/>
                </a:lnTo>
                <a:arcTo wR="459" hR="459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411960" y="387360"/>
            <a:ext cx="36360" cy="44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18D-82FC-4D67-B250-AA2E4405522E}" type="datetime">
              <a:rPr b="0" lang="zh-CN" sz="1000" spc="-1" strike="noStrike">
                <a:solidFill>
                  <a:srgbClr val="a7a399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0A41-08E3-4740-8CE3-58463A9734E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d3e"/>
                </a:solidFill>
                <a:latin typeface="Verdana"/>
                <a:ea typeface="黑体"/>
              </a:rPr>
              <a:t>员工培训简约</a:t>
            </a:r>
            <a:r>
              <a:rPr b="1" lang="en-US" sz="4000" spc="-1" strike="noStrike">
                <a:solidFill>
                  <a:srgbClr val="ff8d3e"/>
                </a:solidFill>
                <a:latin typeface="Verdana"/>
                <a:ea typeface="黑体"/>
              </a:rPr>
              <a:t>PPT</a:t>
            </a:r>
            <a:r>
              <a:rPr b="1" lang="zh-CN" sz="4000" spc="-1" strike="noStrike">
                <a:solidFill>
                  <a:srgbClr val="ff8d3e"/>
                </a:solidFill>
                <a:latin typeface="Verdana"/>
                <a:ea typeface="黑体"/>
              </a:rPr>
              <a:t>模板在线下载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欢迎和简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欢迎员工参加培训单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陈述单元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描述单元的总体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概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述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此次培训对员工的重要意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要涵盖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各个主题如何联系在一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词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术语及其定义列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主题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释本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示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练习以巩固所学知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主题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释本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示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提供练习以巩固所学知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11200" y="61516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9bd64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总结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所涵盖的主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介绍将此次培训应用于工作中的任何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请求有关培训单元的反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92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  <a:ea typeface="黑体"/>
              </a:rPr>
              <a:t>更多信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其他培训单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书籍、文章和在线资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列出咨询服务和其他资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42:12Z</dcterms:created>
  <dc:creator/>
  <dc:description/>
  <dc:language>en-US</dc:language>
  <cp:lastModifiedBy/>
  <dcterms:modified xsi:type="dcterms:W3CDTF">2015-07-24T08:51:44Z</dcterms:modified>
  <cp:revision>1</cp:revision>
  <dc:subject/>
  <dc:title>Ppt宝藏_www.pptbz.com_员工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82052</vt:lpwstr>
  </property>
</Properties>
</file>