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png" ContentType="image/png"/>
  <Override PartName="/ppt/media/hdphoto2.wdp" ContentType="image/vnd.ms-photo"/>
  <Override PartName="/ppt/media/image9.png" ContentType="image/png"/>
  <Override PartName="/ppt/media/hdphoto3.wdp" ContentType="image/vnd.ms-photo"/>
  <Override PartName="/ppt/media/image13.png" ContentType="image/png"/>
  <Override PartName="/ppt/media/hdphoto1.wdp" ContentType="image/vnd.ms-photo"/>
  <Override PartName="/ppt/media/image8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BB3-9E5A-4A55-B7AC-F7DA4D00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F4D-57FA-434C-B440-8CC7367A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FE3-00F5-4215-B289-AE9DC7B4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617-3C15-4DC6-9F9D-9C005740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2A68-793C-41B4-A2CD-D3F109D9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9512-D0AE-48B0-8C1F-CDB89604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BDF9-9EE8-48DC-BEE4-4DEE572C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742C-4679-4958-BFFE-6B6AEDD4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8871-FE71-43D9-81C7-46B424C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5C42-DB86-4D7B-9EA8-12B6BDED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E724-D158-4D31-8DED-B2E6E60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CCB-6DD9-4C14-8174-473AED59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37A7-67D5-4A58-92A2-6AB52D5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8CC8-4164-41EF-9A85-5DD8CF4A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D583-1E99-4B1D-BE66-5B7A1333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1A23-A7C4-432C-A099-E64248E8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A4C5-5C31-49A5-96AA-A2C192C0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4C0-4987-4F32-97C9-2A5A6242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81D-E39F-45C0-9AFF-586E5574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4A5-8FC2-4622-8086-619D3D60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C7B-5E55-405D-801E-EBD1566B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764-4CC2-41D9-9FDD-461293F1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6A4-4B90-4F34-BD36-C3283909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5C3-59A6-496F-B175-1C85ED20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04E8CB-6E0D-46CD-88F1-64ABC57EA2A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501A6A-1B3E-4830-ADD5-5952629B38F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microsoft.com/office/2007/relationships/hdphoto" Target="../media/hdphoto1.wdp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microsoft.com/office/2007/relationships/hdphoto" Target="../media/hdphoto2.wdp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microsoft.com/office/2007/relationships/hdphoto" Target="../media/hdphoto3.wdp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" descr=""/>
          <p:cNvPicPr/>
          <p:nvPr/>
        </p:nvPicPr>
        <p:blipFill>
          <a:blip r:embed="rId1"/>
          <a:stretch/>
        </p:blipFill>
        <p:spPr>
          <a:xfrm>
            <a:off x="0" y="1268640"/>
            <a:ext cx="9143640" cy="273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83" name="矩形 5"/>
          <p:cNvSpPr/>
          <p:nvPr/>
        </p:nvSpPr>
        <p:spPr>
          <a:xfrm>
            <a:off x="0" y="0"/>
            <a:ext cx="9149760" cy="1268280"/>
          </a:xfrm>
          <a:prstGeom prst="rect">
            <a:avLst/>
          </a:prstGeom>
          <a:solidFill>
            <a:srgbClr val="349715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0" y="0"/>
            <a:ext cx="9155880" cy="126828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6120" y="4002480"/>
            <a:ext cx="9149760" cy="2855160"/>
          </a:xfrm>
          <a:prstGeom prst="rect">
            <a:avLst/>
          </a:prstGeom>
          <a:solidFill>
            <a:srgbClr val="349715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0" y="4002480"/>
            <a:ext cx="9143640" cy="285516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7" name="图片 1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346080" y="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88" name="TextBox 14"/>
          <p:cNvSpPr/>
          <p:nvPr/>
        </p:nvSpPr>
        <p:spPr>
          <a:xfrm>
            <a:off x="4572000" y="5157360"/>
            <a:ext cx="45716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2406960" y="4558680"/>
            <a:ext cx="6794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叶根友特楷简体"/>
                <a:ea typeface="叶根友特楷简体"/>
              </a:rPr>
              <a:t>鱼水深情清雅中国风</a:t>
            </a:r>
            <a:r>
              <a:rPr b="1" lang="en-US" sz="4000" spc="-1" strike="noStrike">
                <a:solidFill>
                  <a:srgbClr val="ffffff"/>
                </a:solidFill>
                <a:latin typeface="叶根友特楷简体"/>
                <a:ea typeface="叶根友特楷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叶根友特楷简体"/>
                <a:ea typeface="叶根友特楷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7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252000" y="337500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93" name="矩形 4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4" name="图片 5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9440" y="3573000"/>
            <a:ext cx="2968920" cy="215712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55500" rotWithShape="0" stA="50000" sy="-100000"/>
          </a:effectLst>
        </p:spPr>
      </p:pic>
      <p:pic>
        <p:nvPicPr>
          <p:cNvPr id="95" name="图片 8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092360" y="0"/>
            <a:ext cx="2051280" cy="273528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78000" rotWithShape="0" stA="50000" sy="-100000"/>
          </a:effectLst>
        </p:spPr>
      </p:pic>
      <p:sp>
        <p:nvSpPr>
          <p:cNvPr id="96" name="TextBox 9"/>
          <p:cNvSpPr/>
          <p:nvPr/>
        </p:nvSpPr>
        <p:spPr>
          <a:xfrm>
            <a:off x="6336360" y="-100800"/>
            <a:ext cx="212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3"/>
          <p:cNvGrpSpPr/>
          <p:nvPr/>
        </p:nvGrpSpPr>
        <p:grpSpPr>
          <a:xfrm>
            <a:off x="2411640" y="2310480"/>
            <a:ext cx="4320360" cy="406440"/>
            <a:chOff x="2411640" y="2310480"/>
            <a:chExt cx="4320360" cy="406440"/>
          </a:xfrm>
        </p:grpSpPr>
        <p:sp>
          <p:nvSpPr>
            <p:cNvPr id="98" name="矩形 11"/>
            <p:cNvSpPr/>
            <p:nvPr/>
          </p:nvSpPr>
          <p:spPr>
            <a:xfrm>
              <a:off x="2411640" y="231912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矩形 12"/>
            <p:cNvSpPr/>
            <p:nvPr/>
          </p:nvSpPr>
          <p:spPr>
            <a:xfrm>
              <a:off x="3132000" y="231048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0" name="组合 14"/>
          <p:cNvGrpSpPr/>
          <p:nvPr/>
        </p:nvGrpSpPr>
        <p:grpSpPr>
          <a:xfrm>
            <a:off x="2404800" y="3150720"/>
            <a:ext cx="4320360" cy="406440"/>
            <a:chOff x="2404800" y="3150720"/>
            <a:chExt cx="4320360" cy="406440"/>
          </a:xfrm>
        </p:grpSpPr>
        <p:sp>
          <p:nvSpPr>
            <p:cNvPr id="101" name="矩形 15"/>
            <p:cNvSpPr/>
            <p:nvPr/>
          </p:nvSpPr>
          <p:spPr>
            <a:xfrm>
              <a:off x="2404800" y="315936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矩形 16"/>
            <p:cNvSpPr/>
            <p:nvPr/>
          </p:nvSpPr>
          <p:spPr>
            <a:xfrm>
              <a:off x="3125160" y="315072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3" name="组合 17"/>
          <p:cNvGrpSpPr/>
          <p:nvPr/>
        </p:nvGrpSpPr>
        <p:grpSpPr>
          <a:xfrm>
            <a:off x="2411640" y="4005000"/>
            <a:ext cx="4320360" cy="406440"/>
            <a:chOff x="2411640" y="4005000"/>
            <a:chExt cx="4320360" cy="406440"/>
          </a:xfrm>
        </p:grpSpPr>
        <p:sp>
          <p:nvSpPr>
            <p:cNvPr id="104" name="矩形 18"/>
            <p:cNvSpPr/>
            <p:nvPr/>
          </p:nvSpPr>
          <p:spPr>
            <a:xfrm>
              <a:off x="2411640" y="401364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矩形 19"/>
            <p:cNvSpPr/>
            <p:nvPr/>
          </p:nvSpPr>
          <p:spPr>
            <a:xfrm>
              <a:off x="3132000" y="400500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6" name="组合 20"/>
          <p:cNvGrpSpPr/>
          <p:nvPr/>
        </p:nvGrpSpPr>
        <p:grpSpPr>
          <a:xfrm>
            <a:off x="2404800" y="4869000"/>
            <a:ext cx="4320360" cy="406440"/>
            <a:chOff x="2404800" y="4869000"/>
            <a:chExt cx="4320360" cy="406440"/>
          </a:xfrm>
        </p:grpSpPr>
        <p:sp>
          <p:nvSpPr>
            <p:cNvPr id="107" name="矩形 21"/>
            <p:cNvSpPr/>
            <p:nvPr/>
          </p:nvSpPr>
          <p:spPr>
            <a:xfrm>
              <a:off x="2404800" y="4877640"/>
              <a:ext cx="647640" cy="397800"/>
            </a:xfrm>
            <a:prstGeom prst="rect">
              <a:avLst/>
            </a:prstGeom>
            <a:solidFill>
              <a:srgbClr val="349715"/>
            </a:solidFill>
            <a:ln>
              <a:solidFill>
                <a:srgbClr val="000000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矩形 22"/>
            <p:cNvSpPr/>
            <p:nvPr/>
          </p:nvSpPr>
          <p:spPr>
            <a:xfrm>
              <a:off x="3125160" y="4869000"/>
              <a:ext cx="3600000" cy="397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349715"/>
              </a:solidFill>
              <a:prstDash val="sys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9" name="TextBox 23"/>
          <p:cNvSpPr/>
          <p:nvPr/>
        </p:nvSpPr>
        <p:spPr>
          <a:xfrm>
            <a:off x="2404800" y="2319120"/>
            <a:ext cx="654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4"/>
          <p:cNvSpPr/>
          <p:nvPr/>
        </p:nvSpPr>
        <p:spPr>
          <a:xfrm>
            <a:off x="2411640" y="3159360"/>
            <a:ext cx="64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5"/>
          <p:cNvSpPr/>
          <p:nvPr/>
        </p:nvSpPr>
        <p:spPr>
          <a:xfrm>
            <a:off x="2404800" y="4013640"/>
            <a:ext cx="64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6"/>
          <p:cNvSpPr/>
          <p:nvPr/>
        </p:nvSpPr>
        <p:spPr>
          <a:xfrm>
            <a:off x="2404800" y="4877640"/>
            <a:ext cx="64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3132000" y="2319120"/>
            <a:ext cx="3593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一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3125160" y="315936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二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3132000" y="401364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三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0"/>
          <p:cNvSpPr/>
          <p:nvPr/>
        </p:nvSpPr>
        <p:spPr>
          <a:xfrm>
            <a:off x="3125160" y="487764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第四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18" name="矩形 2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9" name="图片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164360" y="0"/>
            <a:ext cx="1979280" cy="2639160"/>
          </a:xfrm>
          <a:prstGeom prst="rect">
            <a:avLst/>
          </a:prstGeom>
          <a:ln w="0">
            <a:noFill/>
          </a:ln>
          <a:effectLst>
            <a:reflection algn="bl" dir="5400000" rotWithShape="0" stA="45000" sy="-100000"/>
          </a:effectLst>
        </p:spPr>
      </p:pic>
      <p:pic>
        <p:nvPicPr>
          <p:cNvPr id="120" name="图片 4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680" y="3442680"/>
            <a:ext cx="3133080" cy="2276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55000" rotWithShape="0" stA="50000" sy="-100000"/>
          </a:effectLst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单击此处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流程图: 联系 11"/>
          <p:cNvSpPr/>
          <p:nvPr/>
        </p:nvSpPr>
        <p:spPr>
          <a:xfrm>
            <a:off x="2879640" y="1370880"/>
            <a:ext cx="3384000" cy="3258000"/>
          </a:xfrm>
          <a:prstGeom prst="flowChartConnector">
            <a:avLst/>
          </a:prstGeom>
          <a:noFill/>
          <a:ln>
            <a:solidFill>
              <a:srgbClr val="349715">
                <a:alpha val="99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流程图: 联系 12"/>
          <p:cNvSpPr/>
          <p:nvPr/>
        </p:nvSpPr>
        <p:spPr>
          <a:xfrm>
            <a:off x="611640" y="3168360"/>
            <a:ext cx="3240000" cy="3299040"/>
          </a:xfrm>
          <a:prstGeom prst="flowChartConnector">
            <a:avLst/>
          </a:prstGeom>
          <a:solidFill>
            <a:schemeClr val="bg1"/>
          </a:solidFill>
          <a:ln>
            <a:solidFill>
              <a:srgbClr val="349715">
                <a:alpha val="38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流程图: 联系 13"/>
          <p:cNvSpPr/>
          <p:nvPr/>
        </p:nvSpPr>
        <p:spPr>
          <a:xfrm>
            <a:off x="5697720" y="3245400"/>
            <a:ext cx="3096000" cy="3144960"/>
          </a:xfrm>
          <a:prstGeom prst="flowChartConnector">
            <a:avLst/>
          </a:prstGeom>
          <a:solidFill>
            <a:srgbClr val="349715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流程图: 联系 14"/>
          <p:cNvSpPr/>
          <p:nvPr/>
        </p:nvSpPr>
        <p:spPr>
          <a:xfrm>
            <a:off x="4737240" y="3318120"/>
            <a:ext cx="1125360" cy="1047240"/>
          </a:xfrm>
          <a:prstGeom prst="flowChartConnector">
            <a:avLst/>
          </a:prstGeom>
          <a:solidFill>
            <a:srgbClr val="349715">
              <a:alpha val="1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流程图: 联系 15"/>
          <p:cNvSpPr/>
          <p:nvPr/>
        </p:nvSpPr>
        <p:spPr>
          <a:xfrm>
            <a:off x="2209680" y="5196960"/>
            <a:ext cx="1125360" cy="1047240"/>
          </a:xfrm>
          <a:prstGeom prst="flowChartConnector">
            <a:avLst/>
          </a:prstGeom>
          <a:solidFill>
            <a:srgbClr val="349715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0" name="图片 16" descr=""/>
          <p:cNvPicPr/>
          <p:nvPr/>
        </p:nvPicPr>
        <p:blipFill>
          <a:blip r:embed="rId2"/>
          <a:stretch/>
        </p:blipFill>
        <p:spPr>
          <a:xfrm>
            <a:off x="4896720" y="3380040"/>
            <a:ext cx="806400" cy="10753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7" descr=""/>
          <p:cNvPicPr/>
          <p:nvPr/>
        </p:nvPicPr>
        <p:blipFill>
          <a:blip r:embed="rId3"/>
          <a:stretch/>
        </p:blipFill>
        <p:spPr>
          <a:xfrm>
            <a:off x="2280600" y="5297040"/>
            <a:ext cx="1166760" cy="847800"/>
          </a:xfrm>
          <a:prstGeom prst="rect">
            <a:avLst/>
          </a:prstGeom>
          <a:ln w="0">
            <a:noFill/>
          </a:ln>
        </p:spPr>
      </p:pic>
      <p:sp>
        <p:nvSpPr>
          <p:cNvPr id="132" name="流程图: 联系 18"/>
          <p:cNvSpPr/>
          <p:nvPr/>
        </p:nvSpPr>
        <p:spPr>
          <a:xfrm>
            <a:off x="7452360" y="5085360"/>
            <a:ext cx="1007640" cy="94752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3" name="图片 19" descr=""/>
          <p:cNvPicPr/>
          <p:nvPr/>
        </p:nvPicPr>
        <p:blipFill>
          <a:blip r:embed="rId4"/>
          <a:stretch/>
        </p:blipFill>
        <p:spPr>
          <a:xfrm>
            <a:off x="7372800" y="5178960"/>
            <a:ext cx="1166760" cy="84780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20"/>
          <p:cNvSpPr/>
          <p:nvPr/>
        </p:nvSpPr>
        <p:spPr>
          <a:xfrm>
            <a:off x="6345720" y="3271680"/>
            <a:ext cx="1800000" cy="4417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圆角矩形 21"/>
          <p:cNvSpPr/>
          <p:nvPr/>
        </p:nvSpPr>
        <p:spPr>
          <a:xfrm>
            <a:off x="3611160" y="1355400"/>
            <a:ext cx="1920960" cy="4939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圆角矩形 22"/>
          <p:cNvSpPr/>
          <p:nvPr/>
        </p:nvSpPr>
        <p:spPr>
          <a:xfrm>
            <a:off x="1259640" y="3059280"/>
            <a:ext cx="1920960" cy="4939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TextBox 23"/>
          <p:cNvSpPr/>
          <p:nvPr/>
        </p:nvSpPr>
        <p:spPr>
          <a:xfrm>
            <a:off x="3634920" y="1355400"/>
            <a:ext cx="1873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1259640" y="3059280"/>
            <a:ext cx="165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6345720" y="3271680"/>
            <a:ext cx="18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标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5801400" y="375120"/>
            <a:ext cx="3301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图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1115640" y="3733200"/>
            <a:ext cx="2495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3447720" y="1989000"/>
            <a:ext cx="239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6084000" y="3917880"/>
            <a:ext cx="225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32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221400" y="3245400"/>
            <a:ext cx="3133080" cy="2276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55000" rotWithShape="0" stA="50000" sy="-100000"/>
          </a:effectLst>
        </p:spPr>
      </p:pic>
      <p:pic>
        <p:nvPicPr>
          <p:cNvPr id="145" name="图片 34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519960" y="1047960"/>
            <a:ext cx="22856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47" name="矩形 2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3725280" y="2169000"/>
            <a:ext cx="4824000" cy="467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3724560" y="4437000"/>
            <a:ext cx="4824000" cy="503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3724560" y="2871000"/>
            <a:ext cx="4824000" cy="467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3724560" y="3645000"/>
            <a:ext cx="4824000" cy="50364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>
                  <a:alpha val="57254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流程图: 联系 10"/>
          <p:cNvSpPr/>
          <p:nvPr/>
        </p:nvSpPr>
        <p:spPr>
          <a:xfrm>
            <a:off x="861840" y="1661760"/>
            <a:ext cx="3732480" cy="3852000"/>
          </a:xfrm>
          <a:prstGeom prst="flowChartConnector">
            <a:avLst/>
          </a:prstGeom>
          <a:solidFill>
            <a:srgbClr val="349715">
              <a:alpha val="8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流程图: 联系 11"/>
          <p:cNvSpPr/>
          <p:nvPr/>
        </p:nvSpPr>
        <p:spPr>
          <a:xfrm>
            <a:off x="1180080" y="1931760"/>
            <a:ext cx="3096000" cy="3312000"/>
          </a:xfrm>
          <a:prstGeom prst="flowChartConnector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>
            <a:noFill/>
          </a:ln>
          <a:effectLst>
            <a:reflection algn="bl" blurRad="6350" dir="5400000" dist="50800" endA="300" endPos="90000" rotWithShape="0" stA="50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4" name="图片 1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132560" y="3089520"/>
            <a:ext cx="2935080" cy="213264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55500" rotWithShape="0" stA="50000" sy="-100000"/>
          </a:effectLst>
        </p:spPr>
      </p:pic>
      <p:pic>
        <p:nvPicPr>
          <p:cNvPr id="155" name="图片 13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77840" y="-194040"/>
            <a:ext cx="1781640" cy="2375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99000" rotWithShape="0" stA="50000" sy="-100000"/>
          </a:effectLst>
        </p:spPr>
      </p:pic>
      <p:sp>
        <p:nvSpPr>
          <p:cNvPr id="156" name="TextBox 14"/>
          <p:cNvSpPr/>
          <p:nvPr/>
        </p:nvSpPr>
        <p:spPr>
          <a:xfrm>
            <a:off x="1973160" y="3013560"/>
            <a:ext cx="2033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3669840" y="297720"/>
            <a:ext cx="2016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图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4428000" y="2181960"/>
            <a:ext cx="4120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4572000" y="2877480"/>
            <a:ext cx="302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4595040" y="3645000"/>
            <a:ext cx="300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527000" y="4437000"/>
            <a:ext cx="3528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422000"/>
          </a:xfrm>
          <a:prstGeom prst="rect">
            <a:avLst/>
          </a:prstGeom>
          <a:ln w="0">
            <a:noFill/>
          </a:ln>
        </p:spPr>
      </p:pic>
      <p:sp>
        <p:nvSpPr>
          <p:cNvPr id="164" name="矩形 3"/>
          <p:cNvSpPr/>
          <p:nvPr/>
        </p:nvSpPr>
        <p:spPr>
          <a:xfrm>
            <a:off x="0" y="188640"/>
            <a:ext cx="9143640" cy="1233360"/>
          </a:xfrm>
          <a:prstGeom prst="rect">
            <a:avLst/>
          </a:prstGeom>
          <a:gradFill rotWithShape="0">
            <a:gsLst>
              <a:gs pos="0">
                <a:srgbClr val="deebd0"/>
              </a:gs>
              <a:gs pos="100000">
                <a:srgbClr val="9cb86e">
                  <a:alpha val="35294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971640" y="1989000"/>
            <a:ext cx="7488360" cy="1559160"/>
          </a:xfrm>
          <a:prstGeom prst="rect">
            <a:avLst/>
          </a:prstGeom>
          <a:solidFill>
            <a:srgbClr val="349715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971640" y="4077000"/>
            <a:ext cx="7488360" cy="1583640"/>
          </a:xfrm>
          <a:prstGeom prst="rect">
            <a:avLst/>
          </a:prstGeom>
          <a:solidFill>
            <a:srgbClr val="349715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叶根友特楷简体"/>
              <a:ea typeface="叶根友特楷简体"/>
            </a:endParaRPr>
          </a:p>
        </p:txBody>
      </p:sp>
      <p:pic>
        <p:nvPicPr>
          <p:cNvPr id="167" name="图片 8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3680" y="1989000"/>
            <a:ext cx="2145960" cy="15591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3680" y="3933000"/>
            <a:ext cx="2145960" cy="1559160"/>
          </a:xfrm>
          <a:prstGeom prst="rect">
            <a:avLst/>
          </a:prstGeom>
          <a:ln w="0">
            <a:noFill/>
          </a:ln>
        </p:spPr>
      </p:pic>
      <p:sp>
        <p:nvSpPr>
          <p:cNvPr id="169" name="矩形 10"/>
          <p:cNvSpPr/>
          <p:nvPr/>
        </p:nvSpPr>
        <p:spPr>
          <a:xfrm>
            <a:off x="2483280" y="2133000"/>
            <a:ext cx="5688360" cy="1295640"/>
          </a:xfrm>
          <a:prstGeom prst="rect">
            <a:avLst/>
          </a:prstGeom>
          <a:solidFill>
            <a:schemeClr val="bg1"/>
          </a:solidFill>
          <a:ln>
            <a:solidFill>
              <a:srgbClr val="34971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矩形 11"/>
          <p:cNvSpPr/>
          <p:nvPr/>
        </p:nvSpPr>
        <p:spPr>
          <a:xfrm>
            <a:off x="2483280" y="4234320"/>
            <a:ext cx="5688360" cy="1295640"/>
          </a:xfrm>
          <a:prstGeom prst="rect">
            <a:avLst/>
          </a:prstGeom>
          <a:solidFill>
            <a:schemeClr val="bg1"/>
          </a:solidFill>
          <a:ln>
            <a:solidFill>
              <a:srgbClr val="34971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1" name="图片 12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858000" y="-101520"/>
            <a:ext cx="2285640" cy="304776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90000" rotWithShape="0" stA="50000" sy="-100000"/>
          </a:effectLst>
        </p:spPr>
      </p:pic>
      <p:sp>
        <p:nvSpPr>
          <p:cNvPr id="172" name="TextBox 13"/>
          <p:cNvSpPr/>
          <p:nvPr/>
        </p:nvSpPr>
        <p:spPr>
          <a:xfrm>
            <a:off x="1748880" y="370080"/>
            <a:ext cx="633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叶根友特楷简体"/>
                <a:ea typeface="叶根友特楷简体"/>
              </a:rPr>
              <a:t>点击此处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2490120" y="2133000"/>
            <a:ext cx="568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2483280" y="4234320"/>
            <a:ext cx="5601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0" y="1268640"/>
            <a:ext cx="9143640" cy="273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76" name="矩形 2"/>
          <p:cNvSpPr/>
          <p:nvPr/>
        </p:nvSpPr>
        <p:spPr>
          <a:xfrm>
            <a:off x="0" y="0"/>
            <a:ext cx="9155880" cy="126828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0" y="4002480"/>
            <a:ext cx="9143640" cy="2855160"/>
          </a:xfrm>
          <a:prstGeom prst="rect">
            <a:avLst/>
          </a:prstGeom>
          <a:solidFill>
            <a:srgbClr val="153c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8" name="图片 4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463440" y="0"/>
            <a:ext cx="2855520" cy="37591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4177440" y="42670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叶根友特楷简体"/>
                <a:ea typeface="叶根友特楷简体"/>
              </a:rPr>
              <a:t>感谢您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4406040" y="5190480"/>
            <a:ext cx="411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Forte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611640" y="6165360"/>
            <a:ext cx="8208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图片 11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2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96000" y="3429000"/>
            <a:ext cx="28555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  <Words>110</Words>
  <Paragraphs>33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2:54:06Z</dcterms:created>
  <dc:creator>www.pptbz.com</dc:creator>
  <dc:description/>
  <dc:language>en-US</dc:language>
  <cp:lastModifiedBy>a</cp:lastModifiedBy>
  <dcterms:modified xsi:type="dcterms:W3CDTF">2015-07-26T02:43:18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