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png" ContentType="image/png"/>
  <Override PartName="/ppt/media/hdphoto2.wdp" ContentType="image/vnd.ms-photo"/>
  <Override PartName="/ppt/media/image9.png" ContentType="image/png"/>
  <Override PartName="/ppt/media/hdphoto3.wdp" ContentType="image/vnd.ms-photo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856-BAE3-46BF-A70C-0C93177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1AF-BAE3-438D-93CE-5A4BBFB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6EE-FD64-47BB-8C71-51AD40B6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923-70DB-47EA-A438-66141857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727-056B-4BE4-8985-75B0255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C8B3-746E-4298-B14F-1DEBFB1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528-20BE-4922-9172-3AB4A0AF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3DC-3595-4995-9056-0D4236A4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DAF7-93A6-48CA-A3E7-7B92651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AD1-EE92-42E2-81FB-48319B6E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752-BD4E-4B68-BCCC-9460F7B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748-76B3-4D01-A33B-7017BC9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815C-44C1-4D3F-A1BE-9E33EFE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EF5D-E57A-46EC-8EDA-05B8AD7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6AB-D88A-473F-856C-B245A766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E83-81FF-4B45-A86F-C41B809A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3C1E-98C5-44BF-BDD4-F54DF487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618-629C-4620-A822-AA6D43A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035-A78B-4839-9D37-4443868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865-3D35-4BC0-85C8-39DFD924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3DE-7E49-4EB9-9E41-CB1F58C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93A-A4FC-4F29-B25D-3322BAD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788-29B0-45F5-8733-5422F59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347-DE45-42D6-9123-46B6855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22ED6-FCE5-4395-951D-F966A54F64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AD1C8B-10A5-4B4E-8027-33FA7E83B8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microsoft.com/office/2007/relationships/hdphoto" Target="../media/hdphoto1.wdp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microsoft.com/office/2007/relationships/hdphoto" Target="../media/hdphoto3.wdp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6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4" name="矩形 5"/>
          <p:cNvSpPr/>
          <p:nvPr/>
        </p:nvSpPr>
        <p:spPr>
          <a:xfrm>
            <a:off x="0" y="0"/>
            <a:ext cx="9149760" cy="126828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120" y="4002480"/>
            <a:ext cx="9149760" cy="285516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8" name="图片 13" descr=""/>
          <p:cNvPicPr/>
          <p:nvPr/>
        </p:nvPicPr>
        <p:blipFill>
          <a:blip r:embed="rId17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34608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4572000" y="515736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2843640" y="42800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鱼水深情中国风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7" descr=""/>
          <p:cNvPicPr/>
          <p:nvPr/>
        </p:nvPicPr>
        <p:blipFill>
          <a:blip r:embed="rId19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252000" y="337500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9440" y="3573000"/>
            <a:ext cx="2968920" cy="215712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96" name="图片 8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092360" y="0"/>
            <a:ext cx="2051280" cy="27352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78000" rotWithShape="0" stA="50000" sy="-100000"/>
          </a:effectLst>
        </p:spPr>
      </p:pic>
      <p:sp>
        <p:nvSpPr>
          <p:cNvPr id="97" name="TextBox 9"/>
          <p:cNvSpPr/>
          <p:nvPr/>
        </p:nvSpPr>
        <p:spPr>
          <a:xfrm>
            <a:off x="5796000" y="499320"/>
            <a:ext cx="212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3"/>
          <p:cNvGrpSpPr/>
          <p:nvPr/>
        </p:nvGrpSpPr>
        <p:grpSpPr>
          <a:xfrm>
            <a:off x="2411640" y="2310480"/>
            <a:ext cx="4320360" cy="406440"/>
            <a:chOff x="2411640" y="2310480"/>
            <a:chExt cx="4320360" cy="406440"/>
          </a:xfrm>
        </p:grpSpPr>
        <p:sp>
          <p:nvSpPr>
            <p:cNvPr id="99" name="矩形 11"/>
            <p:cNvSpPr/>
            <p:nvPr/>
          </p:nvSpPr>
          <p:spPr>
            <a:xfrm>
              <a:off x="2411640" y="231912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12"/>
            <p:cNvSpPr/>
            <p:nvPr/>
          </p:nvSpPr>
          <p:spPr>
            <a:xfrm>
              <a:off x="3132000" y="231048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1" name="组合 14"/>
          <p:cNvGrpSpPr/>
          <p:nvPr/>
        </p:nvGrpSpPr>
        <p:grpSpPr>
          <a:xfrm>
            <a:off x="2404800" y="3150720"/>
            <a:ext cx="4320360" cy="406440"/>
            <a:chOff x="2404800" y="3150720"/>
            <a:chExt cx="4320360" cy="406440"/>
          </a:xfrm>
        </p:grpSpPr>
        <p:sp>
          <p:nvSpPr>
            <p:cNvPr id="102" name="矩形 15"/>
            <p:cNvSpPr/>
            <p:nvPr/>
          </p:nvSpPr>
          <p:spPr>
            <a:xfrm>
              <a:off x="2404800" y="315936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3125160" y="315072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4" name="组合 17"/>
          <p:cNvGrpSpPr/>
          <p:nvPr/>
        </p:nvGrpSpPr>
        <p:grpSpPr>
          <a:xfrm>
            <a:off x="2411640" y="4005000"/>
            <a:ext cx="4320360" cy="406440"/>
            <a:chOff x="2411640" y="4005000"/>
            <a:chExt cx="4320360" cy="406440"/>
          </a:xfrm>
        </p:grpSpPr>
        <p:sp>
          <p:nvSpPr>
            <p:cNvPr id="105" name="矩形 18"/>
            <p:cNvSpPr/>
            <p:nvPr/>
          </p:nvSpPr>
          <p:spPr>
            <a:xfrm>
              <a:off x="2411640" y="4013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3132000" y="4005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2404800" y="4869000"/>
            <a:ext cx="4320360" cy="406440"/>
            <a:chOff x="2404800" y="4869000"/>
            <a:chExt cx="4320360" cy="406440"/>
          </a:xfrm>
        </p:grpSpPr>
        <p:sp>
          <p:nvSpPr>
            <p:cNvPr id="108" name="矩形 21"/>
            <p:cNvSpPr/>
            <p:nvPr/>
          </p:nvSpPr>
          <p:spPr>
            <a:xfrm>
              <a:off x="2404800" y="4877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矩形 22"/>
            <p:cNvSpPr/>
            <p:nvPr/>
          </p:nvSpPr>
          <p:spPr>
            <a:xfrm>
              <a:off x="3125160" y="4869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0" name="TextBox 23"/>
          <p:cNvSpPr/>
          <p:nvPr/>
        </p:nvSpPr>
        <p:spPr>
          <a:xfrm>
            <a:off x="2404800" y="2319120"/>
            <a:ext cx="65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2411640" y="3159360"/>
            <a:ext cx="64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2404800" y="4013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2404800" y="4877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3132000" y="2319120"/>
            <a:ext cx="359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125160" y="315936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132000" y="4013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3125160" y="4877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0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164360" y="0"/>
            <a:ext cx="1979280" cy="2639160"/>
          </a:xfrm>
          <a:prstGeom prst="rect">
            <a:avLst/>
          </a:prstGeom>
          <a:ln w="0">
            <a:noFill/>
          </a:ln>
          <a:effectLst>
            <a:reflection algn="bl" dir="5400000" rotWithShape="0" stA="45000" sy="-100000"/>
          </a:effectLst>
        </p:spPr>
      </p:pic>
      <p:pic>
        <p:nvPicPr>
          <p:cNvPr id="121" name="图片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80" y="344268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流程图: 联系 11"/>
          <p:cNvSpPr/>
          <p:nvPr/>
        </p:nvSpPr>
        <p:spPr>
          <a:xfrm>
            <a:off x="2879640" y="1370880"/>
            <a:ext cx="3384000" cy="3258000"/>
          </a:xfrm>
          <a:prstGeom prst="flowChartConnector">
            <a:avLst/>
          </a:prstGeom>
          <a:noFill/>
          <a:ln>
            <a:solidFill>
              <a:srgbClr val="349715">
                <a:alpha val="9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流程图: 联系 12"/>
          <p:cNvSpPr/>
          <p:nvPr/>
        </p:nvSpPr>
        <p:spPr>
          <a:xfrm>
            <a:off x="611640" y="3168360"/>
            <a:ext cx="3240000" cy="3299040"/>
          </a:xfrm>
          <a:prstGeom prst="flowChartConnector">
            <a:avLst/>
          </a:prstGeom>
          <a:solidFill>
            <a:schemeClr val="bg1"/>
          </a:solidFill>
          <a:ln>
            <a:solidFill>
              <a:srgbClr val="349715">
                <a:alpha val="38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流程图: 联系 13"/>
          <p:cNvSpPr/>
          <p:nvPr/>
        </p:nvSpPr>
        <p:spPr>
          <a:xfrm>
            <a:off x="5697720" y="3245400"/>
            <a:ext cx="3096000" cy="314496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流程图: 联系 14"/>
          <p:cNvSpPr/>
          <p:nvPr/>
        </p:nvSpPr>
        <p:spPr>
          <a:xfrm>
            <a:off x="4737240" y="3318120"/>
            <a:ext cx="1125360" cy="1047240"/>
          </a:xfrm>
          <a:prstGeom prst="flowChartConnector">
            <a:avLst/>
          </a:prstGeom>
          <a:solidFill>
            <a:srgbClr val="349715">
              <a:alpha val="1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流程图: 联系 15"/>
          <p:cNvSpPr/>
          <p:nvPr/>
        </p:nvSpPr>
        <p:spPr>
          <a:xfrm>
            <a:off x="2209680" y="5196960"/>
            <a:ext cx="1125360" cy="104724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1" name="图片 16" descr=""/>
          <p:cNvPicPr/>
          <p:nvPr/>
        </p:nvPicPr>
        <p:blipFill>
          <a:blip r:embed="rId2"/>
          <a:stretch/>
        </p:blipFill>
        <p:spPr>
          <a:xfrm>
            <a:off x="4896720" y="3380040"/>
            <a:ext cx="806400" cy="10753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7" descr=""/>
          <p:cNvPicPr/>
          <p:nvPr/>
        </p:nvPicPr>
        <p:blipFill>
          <a:blip r:embed="rId3"/>
          <a:stretch/>
        </p:blipFill>
        <p:spPr>
          <a:xfrm>
            <a:off x="2280600" y="529704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3" name="流程图: 联系 18"/>
          <p:cNvSpPr/>
          <p:nvPr/>
        </p:nvSpPr>
        <p:spPr>
          <a:xfrm>
            <a:off x="7452360" y="5085360"/>
            <a:ext cx="1007640" cy="94752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4" name="图片 19" descr=""/>
          <p:cNvPicPr/>
          <p:nvPr/>
        </p:nvPicPr>
        <p:blipFill>
          <a:blip r:embed="rId4"/>
          <a:stretch/>
        </p:blipFill>
        <p:spPr>
          <a:xfrm>
            <a:off x="7372800" y="517896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 20"/>
          <p:cNvSpPr/>
          <p:nvPr/>
        </p:nvSpPr>
        <p:spPr>
          <a:xfrm>
            <a:off x="6345720" y="3271680"/>
            <a:ext cx="1800000" cy="4417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圆角矩形 21"/>
          <p:cNvSpPr/>
          <p:nvPr/>
        </p:nvSpPr>
        <p:spPr>
          <a:xfrm>
            <a:off x="3611160" y="135540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圆角矩形 22"/>
          <p:cNvSpPr/>
          <p:nvPr/>
        </p:nvSpPr>
        <p:spPr>
          <a:xfrm>
            <a:off x="1259640" y="305928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3634920" y="1355400"/>
            <a:ext cx="18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259640" y="3059280"/>
            <a:ext cx="165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6345720" y="327168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5801400" y="375120"/>
            <a:ext cx="3301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1115640" y="3733200"/>
            <a:ext cx="249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3447720" y="1989000"/>
            <a:ext cx="239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6084000" y="3917880"/>
            <a:ext cx="225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3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21400" y="324540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pic>
        <p:nvPicPr>
          <p:cNvPr id="146" name="图片 3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519960" y="1047960"/>
            <a:ext cx="2285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3725280" y="2169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3724560" y="4437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3724560" y="2871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3724560" y="3645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流程图: 联系 10"/>
          <p:cNvSpPr/>
          <p:nvPr/>
        </p:nvSpPr>
        <p:spPr>
          <a:xfrm>
            <a:off x="861840" y="1661760"/>
            <a:ext cx="3732480" cy="3852000"/>
          </a:xfrm>
          <a:prstGeom prst="flowChartConnector">
            <a:avLst/>
          </a:prstGeom>
          <a:solidFill>
            <a:srgbClr val="349715">
              <a:alpha val="8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流程图: 联系 11"/>
          <p:cNvSpPr/>
          <p:nvPr/>
        </p:nvSpPr>
        <p:spPr>
          <a:xfrm>
            <a:off x="1180080" y="1931760"/>
            <a:ext cx="3096000" cy="3312000"/>
          </a:xfrm>
          <a:prstGeom prst="flowChartConnector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reflection algn="bl" blurRad="6350" dir="5400000" dist="50800" endA="300" endPos="9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5" name="图片 1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132560" y="3089520"/>
            <a:ext cx="2935080" cy="213264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156" name="图片 1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77840" y="-194040"/>
            <a:ext cx="1781640" cy="2375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99000" rotWithShape="0" stA="50000" sy="-100000"/>
          </a:effectLst>
        </p:spPr>
      </p:pic>
      <p:sp>
        <p:nvSpPr>
          <p:cNvPr id="157" name="TextBox 14"/>
          <p:cNvSpPr/>
          <p:nvPr/>
        </p:nvSpPr>
        <p:spPr>
          <a:xfrm>
            <a:off x="1973160" y="3013560"/>
            <a:ext cx="2033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669840" y="297720"/>
            <a:ext cx="2016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4428000" y="2181960"/>
            <a:ext cx="412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4572000" y="2877480"/>
            <a:ext cx="302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4595040" y="3645000"/>
            <a:ext cx="300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4527000" y="4437000"/>
            <a:ext cx="35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3680" y="6512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65" name="矩形 3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971640" y="1989000"/>
            <a:ext cx="7488360" cy="155916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971640" y="4077000"/>
            <a:ext cx="7488360" cy="158364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pic>
        <p:nvPicPr>
          <p:cNvPr id="168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1989000"/>
            <a:ext cx="2145960" cy="15591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3933000"/>
            <a:ext cx="2145960" cy="1559160"/>
          </a:xfrm>
          <a:prstGeom prst="rect">
            <a:avLst/>
          </a:prstGeom>
          <a:ln w="0">
            <a:noFill/>
          </a:ln>
        </p:spPr>
      </p:pic>
      <p:sp>
        <p:nvSpPr>
          <p:cNvPr id="170" name="矩形 10"/>
          <p:cNvSpPr/>
          <p:nvPr/>
        </p:nvSpPr>
        <p:spPr>
          <a:xfrm>
            <a:off x="2483280" y="213300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483280" y="423432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图片 1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58000" y="-101520"/>
            <a:ext cx="2285640" cy="304776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90000" rotWithShape="0" stA="50000" sy="-100000"/>
          </a:effectLst>
        </p:spPr>
      </p:pic>
      <p:sp>
        <p:nvSpPr>
          <p:cNvPr id="173" name="TextBox 13"/>
          <p:cNvSpPr/>
          <p:nvPr/>
        </p:nvSpPr>
        <p:spPr>
          <a:xfrm>
            <a:off x="1748880" y="370080"/>
            <a:ext cx="633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2490120" y="213300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483280" y="4234320"/>
            <a:ext cx="560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7" name="矩形 2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9" name="图片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46344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4177440" y="42670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4406040" y="5190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11640" y="6165360"/>
            <a:ext cx="8208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图片 11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18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6000" y="3429000"/>
            <a:ext cx="2855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  <Words>202</Words>
  <Paragraphs>4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54:06Z</dcterms:created>
  <dc:creator>Windows 用户</dc:creator>
  <dc:description/>
  <dc:language>en-US</dc:language>
  <cp:lastModifiedBy>a</cp:lastModifiedBy>
  <dcterms:modified xsi:type="dcterms:W3CDTF">2015-07-26T02:16:19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