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6DE-B4AD-412B-ACA8-63131164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BE8-F3D2-48E4-A7CE-AB28281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8EC-D5EA-456D-BA60-D12392B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2F7-76FE-4D57-AA80-DE4F9DB4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F056-4037-456F-913F-B14148CE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D000-F0F7-40A4-A0CB-28BC1D5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271-0721-42E2-8A27-4A29FAE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5B1B-D182-429D-A64A-57779265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70E-B443-4BC8-BDA4-DDA76835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F78-810D-4257-AA4E-FB9B7AFB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824-D97A-4762-9CAA-25A3338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605-6C0A-44C6-980A-A1DEBDC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95BA-BF40-4576-9B61-8FD1226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F314-D6E2-424D-B262-57637A1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E8C5-E55C-4734-B36D-7AA2752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E3C-0B5E-4593-8D9B-079AC8AB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AEC-49BA-4A9A-8C37-D3FF41BE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8426-CDC8-4289-85F2-41A45A2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068B-E099-49A0-8D35-E06EFDB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03BE-5E8B-4C24-94C0-8728C98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456E-3E34-416C-8E7A-D71412B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10BB-E6AF-4F66-993E-52C4435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8E2-13DE-47EF-B6F1-5C46392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978D-EB5D-4C00-A277-D671764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8A82-766A-4CB5-AC38-DBFA853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CB1F-3A1D-49E4-9D6D-39D2B1B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A08D-47E7-45F3-BE0D-7113C8F8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FB04-69B8-49F7-99AD-A5DBADB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16A2-FE48-4D13-B54C-B2EF99ED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41A5-308A-4D52-8F68-C945CD50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04A-E06C-427E-9728-E482CBA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167-9EE3-4300-BE2D-278CB42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33C-40C7-4B18-8844-031ACD7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52D-CE5C-41C3-95D0-82F460B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715-FDCB-4268-982F-6703E54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A24-566C-4FA4-9581-203E2A8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118-A252-468A-84E5-68A96268EB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D7E-43D4-42BA-AE4F-AB2CBD53AB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86D-2CD5-4F28-8905-1290C4156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PPT 任务\水晶图片\抠图PNG\墨痕.png"/>
          <p:cNvPicPr/>
          <p:nvPr/>
        </p:nvPicPr>
        <p:blipFill>
          <a:blip r:embed="rId2"/>
          <a:stretch/>
        </p:blipFill>
        <p:spPr>
          <a:xfrm>
            <a:off x="539640" y="3068640"/>
            <a:ext cx="785988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Soloman\Desktop\荷叶.png"/>
          <p:cNvPicPr/>
          <p:nvPr/>
        </p:nvPicPr>
        <p:blipFill>
          <a:blip r:embed="rId3"/>
          <a:srcRect l="83336" t="36378" r="2292" b="40012"/>
          <a:stretch/>
        </p:blipFill>
        <p:spPr>
          <a:xfrm>
            <a:off x="7273800" y="4630680"/>
            <a:ext cx="1906560" cy="2349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1763640" y="2205000"/>
            <a:ext cx="712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一山一花水墨中国风</a:t>
            </a:r>
            <a:r>
              <a:rPr b="0" lang="en-US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小隶书简"/>
                <a:ea typeface="汉仪小隶书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Soloman\Desktop\未标题-3.png"/>
          <p:cNvPicPr/>
          <p:nvPr/>
        </p:nvPicPr>
        <p:blipFill>
          <a:blip r:embed="rId2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129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132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10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135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11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38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41" name="Picture 4" descr="C:\Users\Soloman\Desktop\墨斑2.png"/>
            <p:cNvPicPr/>
            <p:nvPr/>
          </p:nvPicPr>
          <p:blipFill>
            <a:blip r:embed="rId7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2" descr="C:\Users\Soloman\Desktop\荷叶.png"/>
          <p:cNvPicPr/>
          <p:nvPr/>
        </p:nvPicPr>
        <p:blipFill>
          <a:blip r:embed="rId8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Soloman\Desktop\荷叶.png"/>
          <p:cNvPicPr/>
          <p:nvPr/>
        </p:nvPicPr>
        <p:blipFill>
          <a:blip r:embed="rId2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6:35:28Z</dcterms:created>
  <dc:creator>Peng Jinfeng</dc:creator>
  <dc:description/>
  <dc:language>en-US</dc:language>
  <cp:lastModifiedBy>a</cp:lastModifiedBy>
  <dcterms:modified xsi:type="dcterms:W3CDTF">2015-07-25T11:46:18Z</dcterms:modified>
  <cp:revision>29</cp:revision>
  <dc:subject/>
  <dc:title>PowerPoint 演示文稿</dc:title>
</cp:coreProperties>
</file>