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C08F-EA20-47EB-82C8-9AE3F2DD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2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B3E8-D35C-40FC-AD3A-E4FA19DF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E889-E7C4-4CE3-BD47-58C2380A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55ED-721C-4ED9-86A6-9C2D9317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6F64-BED6-4319-8D5F-45E79D3A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AC9F-6F1E-4128-8DBE-B2D07C91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7B96-83A7-403A-9084-6630BD01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8EF1-87B9-4187-BB36-2A74E4A6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D0BE-C192-4D2A-B0FB-4D114226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778F-DA95-4450-AA76-1D411552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FC26-5092-4383-AC72-6257F59B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D6AE-C4D9-4659-A662-624F28AA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171F-E51A-4685-AAF7-D0B41088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C7D8-63F1-4647-B008-38BB8458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2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ACBC-5446-4A46-815F-56666191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0D36-A708-45FA-9EBE-F01455754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23B2-C3FD-445C-834C-39FFD936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15D0-3794-412D-B8CE-91F3F840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348E-AE2B-4242-877A-5A3673A7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3D25-A470-443F-8397-33741E81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3A49-5877-48A2-AD17-ED361236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E306-CE2D-4C85-98D8-EA6A6DF4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ABF6-34EE-49A7-9745-9DE736F9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1876-1739-4EA5-9967-60784636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E4F743-38AA-4F21-B815-2024252C2D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EAF9EF-8C01-454C-AB19-F54AA0210B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683640" y="1917000"/>
            <a:ext cx="7272720" cy="99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i="1" lang="zh-CN" sz="4000" spc="-1" strike="noStrike">
                <a:solidFill>
                  <a:srgbClr val="0066cc"/>
                </a:solidFill>
                <a:latin typeface="Times New Roman"/>
                <a:ea typeface="宋体"/>
              </a:rPr>
              <a:t>圆形线条简洁</a:t>
            </a:r>
            <a:r>
              <a:rPr b="0" i="1" lang="en-US" sz="4000" spc="-1" strike="noStrike">
                <a:solidFill>
                  <a:srgbClr val="0066cc"/>
                </a:solidFill>
                <a:latin typeface="Times New Roman"/>
                <a:ea typeface="宋体"/>
              </a:rPr>
              <a:t>PPT</a:t>
            </a:r>
            <a:r>
              <a:rPr b="0" i="1" lang="zh-CN" sz="4000" spc="-1" strike="noStrike">
                <a:solidFill>
                  <a:srgbClr val="0066cc"/>
                </a:solidFill>
                <a:latin typeface="Times New Roman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7332120" y="6172200"/>
            <a:ext cx="14961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5790960" cy="685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lick to add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040" cy="411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lick to add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lick to add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lick to add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lick to add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lick to add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mplate6">
  <a:themeElements>
    <a:clrScheme name="template6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mplate6">
  <a:themeElements>
    <a:clrScheme name="template6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emplate6</Template>
  <TotalTime>2</TotalTime>
  <Application>LibreOffice/7.4.7.2$Linux_X86_64 LibreOffice_project/40$Build-2</Application>
  <AppVersion>15.0000</AppVersion>
  <Words>39</Words>
  <Paragraphs>9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7T03:25:10Z</dcterms:created>
  <dc:creator>微软用户</dc:creator>
  <dc:description/>
  <dc:language>en-US</dc:language>
  <cp:lastModifiedBy>a</cp:lastModifiedBy>
  <dcterms:modified xsi:type="dcterms:W3CDTF">2015-07-24T08:57:01Z</dcterms:modified>
  <cp:revision>2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