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A2BE01-C49C-4A75-811B-E7678D380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DF3C62-26F5-4765-AD95-2294AF229C8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794B9E-1BB3-49DE-8C45-B9A2D08A88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4CBCFC-56E1-4975-A2B3-E442BC3649A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71FC17-8FE4-41C9-AB1A-D28C960C81F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EDC-02B1-4DBD-9F94-75C44C62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A3A-1E6C-496B-B120-693B7994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6B0-E50D-48DC-BA3C-A0DF68FE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98A-506C-4DEA-947C-B03C738D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AAB0-C883-45C0-B351-9F54566B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8F1-1466-460F-B360-FD99B46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74F4-7331-4286-98D5-6D82B06D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A05E-7006-415A-9C8F-41AEF923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8FC3-3552-4A7F-A50F-D623FF96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DC4-7A03-4082-9AE0-F53CF28E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77FC-6F40-4877-8AA1-7D2808A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0F8-F441-4AC6-893D-DED1B9BC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D23E-27C9-47A8-A057-B7F0ADFC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E898-665D-4855-B0C8-21BFA609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69EA-6978-47EC-A37D-9F8C5633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B135-60FF-4F1F-B777-68718F67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CD77-A703-43F1-BF5D-12D9CC62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128-6AF7-4C05-AC26-EF0D20E9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1F2-2496-4BF3-8E0F-A64E2B19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407-E630-41D8-ADEF-E3F423CD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35E-4F0E-410C-936E-0751238B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F38-9479-41F3-B52B-8E34E62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D3C-0B21-4157-9267-7CFE4E58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130-8D17-4465-8B3C-BFE0B25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02833F-F4B2-4788-92FD-ED765ACCE1E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056DB6-A668-4143-8CCB-0DFC8B4A9F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74000">
              <a:srgbClr val="f2f2f2"/>
            </a:gs>
            <a:gs pos="100000">
              <a:srgbClr val="808080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任意多边形 3"/>
          <p:cNvSpPr/>
          <p:nvPr/>
        </p:nvSpPr>
        <p:spPr>
          <a:xfrm>
            <a:off x="6424920" y="4470480"/>
            <a:ext cx="307080" cy="1262520"/>
          </a:xfrm>
          <a:custGeom>
            <a:avLst/>
            <a:gdLst>
              <a:gd name="textAreaLeft" fmla="*/ 0 w 307080"/>
              <a:gd name="textAreaRight" fmla="*/ 307440 w 307080"/>
              <a:gd name="textAreaTop" fmla="*/ 0 h 1262520"/>
              <a:gd name="textAreaBottom" fmla="*/ 1262880 h 1262520"/>
            </a:gdLst>
            <a:ahLst/>
            <a:rect l="textAreaLeft" t="textAreaTop" r="textAreaRight" b="textAreaBottom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任意多边形 102"/>
          <p:cNvSpPr/>
          <p:nvPr/>
        </p:nvSpPr>
        <p:spPr>
          <a:xfrm flipH="1">
            <a:off x="6660360" y="3789000"/>
            <a:ext cx="69840" cy="2176560"/>
          </a:xfrm>
          <a:custGeom>
            <a:avLst/>
            <a:gdLst>
              <a:gd name="textAreaLeft" fmla="*/ 360 w 69840"/>
              <a:gd name="textAreaRight" fmla="*/ 70560 w 69840"/>
              <a:gd name="textAreaTop" fmla="*/ 0 h 2176560"/>
              <a:gd name="textAreaBottom" fmla="*/ 2176920 h 2176560"/>
            </a:gdLst>
            <a:ahLst/>
            <a:rect l="textAreaLeft" t="textAreaTop" r="textAreaRight" b="textAreaBottom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chemeClr val="bg1">
              <a:lumMod val="7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任意多边形 74"/>
          <p:cNvSpPr/>
          <p:nvPr/>
        </p:nvSpPr>
        <p:spPr>
          <a:xfrm rot="19631400">
            <a:off x="5291640" y="5515200"/>
            <a:ext cx="595080" cy="296280"/>
          </a:xfrm>
          <a:custGeom>
            <a:avLst/>
            <a:gdLst>
              <a:gd name="textAreaLeft" fmla="*/ 0 w 595080"/>
              <a:gd name="textAreaRight" fmla="*/ 595440 w 595080"/>
              <a:gd name="textAreaTop" fmla="*/ 0 h 296280"/>
              <a:gd name="textAreaBottom" fmla="*/ 296640 h 296280"/>
            </a:gdLst>
            <a:ahLst/>
            <a:rect l="textAreaLeft" t="textAreaTop" r="textAreaRight" b="textAreaBottom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任意多边形 57"/>
          <p:cNvSpPr/>
          <p:nvPr/>
        </p:nvSpPr>
        <p:spPr>
          <a:xfrm>
            <a:off x="5331600" y="4979160"/>
            <a:ext cx="176040" cy="977040"/>
          </a:xfrm>
          <a:custGeom>
            <a:avLst/>
            <a:gdLst>
              <a:gd name="textAreaLeft" fmla="*/ 0 w 176040"/>
              <a:gd name="textAreaRight" fmla="*/ 176400 w 176040"/>
              <a:gd name="textAreaTop" fmla="*/ 0 h 977040"/>
              <a:gd name="textAreaBottom" fmla="*/ 977400 h 977040"/>
            </a:gdLst>
            <a:ahLst/>
            <a:rect l="textAreaLeft" t="textAreaTop" r="textAreaRight" b="textAreaBottom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任意多边形 116"/>
          <p:cNvSpPr/>
          <p:nvPr/>
        </p:nvSpPr>
        <p:spPr>
          <a:xfrm>
            <a:off x="7448400" y="4365000"/>
            <a:ext cx="1550160" cy="2525040"/>
          </a:xfrm>
          <a:custGeom>
            <a:avLst/>
            <a:gdLst>
              <a:gd name="textAreaLeft" fmla="*/ 0 w 1550160"/>
              <a:gd name="textAreaRight" fmla="*/ 1550520 w 1550160"/>
              <a:gd name="textAreaTop" fmla="*/ 0 h 2525040"/>
              <a:gd name="textAreaBottom" fmla="*/ 2525400 h 2525040"/>
            </a:gdLst>
            <a:ahLst/>
            <a:rect l="textAreaLeft" t="textAreaTop" r="textAreaRight" b="textAreaBottom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任意多边形 115"/>
          <p:cNvSpPr/>
          <p:nvPr/>
        </p:nvSpPr>
        <p:spPr>
          <a:xfrm>
            <a:off x="7524360" y="4581000"/>
            <a:ext cx="1604160" cy="2376000"/>
          </a:xfrm>
          <a:custGeom>
            <a:avLst/>
            <a:gdLst>
              <a:gd name="textAreaLeft" fmla="*/ 0 w 1604160"/>
              <a:gd name="textAreaRight" fmla="*/ 1604520 w 1604160"/>
              <a:gd name="textAreaTop" fmla="*/ 0 h 2376000"/>
              <a:gd name="textAreaBottom" fmla="*/ 2376360 h 2376000"/>
            </a:gdLst>
            <a:ahLst/>
            <a:rect l="textAreaLeft" t="textAreaTop" r="textAreaRight" b="textAreaBottom"/>
            <a:pathLst>
              <a:path w="1321806" h="2148114">
                <a:moveTo>
                  <a:pt x="15515" y="2119086"/>
                </a:moveTo>
                <a:cubicBezTo>
                  <a:pt x="-23190" y="2070705"/>
                  <a:pt x="21695" y="1934987"/>
                  <a:pt x="30029" y="1843314"/>
                </a:cubicBezTo>
                <a:cubicBezTo>
                  <a:pt x="31414" y="1828078"/>
                  <a:pt x="41224" y="1814707"/>
                  <a:pt x="44543" y="1799772"/>
                </a:cubicBezTo>
                <a:cubicBezTo>
                  <a:pt x="50927" y="1771044"/>
                  <a:pt x="39678" y="1734834"/>
                  <a:pt x="59057" y="1712686"/>
                </a:cubicBezTo>
                <a:cubicBezTo>
                  <a:pt x="79206" y="1689658"/>
                  <a:pt x="146143" y="1683657"/>
                  <a:pt x="146143" y="1683657"/>
                </a:cubicBezTo>
                <a:cubicBezTo>
                  <a:pt x="205484" y="1505630"/>
                  <a:pt x="171568" y="1624201"/>
                  <a:pt x="146143" y="1204686"/>
                </a:cubicBezTo>
                <a:cubicBezTo>
                  <a:pt x="145217" y="1189415"/>
                  <a:pt x="135340" y="1175986"/>
                  <a:pt x="131629" y="1161143"/>
                </a:cubicBezTo>
                <a:cubicBezTo>
                  <a:pt x="125646" y="1137210"/>
                  <a:pt x="123098" y="1112505"/>
                  <a:pt x="117115" y="1088572"/>
                </a:cubicBezTo>
                <a:cubicBezTo>
                  <a:pt x="113404" y="1073729"/>
                  <a:pt x="106803" y="1059740"/>
                  <a:pt x="102600" y="1045029"/>
                </a:cubicBezTo>
                <a:cubicBezTo>
                  <a:pt x="66142" y="917428"/>
                  <a:pt x="108378" y="1047851"/>
                  <a:pt x="73572" y="943429"/>
                </a:cubicBezTo>
                <a:cubicBezTo>
                  <a:pt x="78410" y="856343"/>
                  <a:pt x="80530" y="769064"/>
                  <a:pt x="88086" y="682172"/>
                </a:cubicBezTo>
                <a:cubicBezTo>
                  <a:pt x="90795" y="651013"/>
                  <a:pt x="128360" y="503293"/>
                  <a:pt x="131629" y="493486"/>
                </a:cubicBezTo>
                <a:cubicBezTo>
                  <a:pt x="136467" y="478972"/>
                  <a:pt x="142824" y="464878"/>
                  <a:pt x="146143" y="449943"/>
                </a:cubicBezTo>
                <a:cubicBezTo>
                  <a:pt x="180199" y="296688"/>
                  <a:pt x="142498" y="417330"/>
                  <a:pt x="175172" y="319314"/>
                </a:cubicBezTo>
                <a:cubicBezTo>
                  <a:pt x="193481" y="172836"/>
                  <a:pt x="177351" y="240205"/>
                  <a:pt x="218715" y="116114"/>
                </a:cubicBezTo>
                <a:cubicBezTo>
                  <a:pt x="223553" y="101600"/>
                  <a:pt x="220499" y="81058"/>
                  <a:pt x="233229" y="72572"/>
                </a:cubicBezTo>
                <a:cubicBezTo>
                  <a:pt x="293851" y="32157"/>
                  <a:pt x="264437" y="55878"/>
                  <a:pt x="320315" y="0"/>
                </a:cubicBezTo>
                <a:cubicBezTo>
                  <a:pt x="452210" y="18842"/>
                  <a:pt x="389457" y="3695"/>
                  <a:pt x="509000" y="43543"/>
                </a:cubicBezTo>
                <a:lnTo>
                  <a:pt x="552543" y="58057"/>
                </a:lnTo>
                <a:cubicBezTo>
                  <a:pt x="567057" y="67733"/>
                  <a:pt x="583751" y="74751"/>
                  <a:pt x="596086" y="87086"/>
                </a:cubicBezTo>
                <a:cubicBezTo>
                  <a:pt x="710250" y="201250"/>
                  <a:pt x="526002" y="55292"/>
                  <a:pt x="668657" y="174172"/>
                </a:cubicBezTo>
                <a:cubicBezTo>
                  <a:pt x="789908" y="275215"/>
                  <a:pt x="628523" y="119523"/>
                  <a:pt x="755743" y="246743"/>
                </a:cubicBezTo>
                <a:cubicBezTo>
                  <a:pt x="760581" y="261257"/>
                  <a:pt x="762827" y="276912"/>
                  <a:pt x="770257" y="290286"/>
                </a:cubicBezTo>
                <a:cubicBezTo>
                  <a:pt x="787200" y="320784"/>
                  <a:pt x="828315" y="377372"/>
                  <a:pt x="828315" y="377372"/>
                </a:cubicBezTo>
                <a:lnTo>
                  <a:pt x="857343" y="464457"/>
                </a:lnTo>
                <a:cubicBezTo>
                  <a:pt x="862181" y="478971"/>
                  <a:pt x="857343" y="503162"/>
                  <a:pt x="871857" y="508000"/>
                </a:cubicBezTo>
                <a:lnTo>
                  <a:pt x="915400" y="522514"/>
                </a:lnTo>
                <a:cubicBezTo>
                  <a:pt x="929914" y="532190"/>
                  <a:pt x="943341" y="543742"/>
                  <a:pt x="958943" y="551543"/>
                </a:cubicBezTo>
                <a:cubicBezTo>
                  <a:pt x="1018010" y="581076"/>
                  <a:pt x="1042069" y="561109"/>
                  <a:pt x="1118600" y="551543"/>
                </a:cubicBezTo>
                <a:cubicBezTo>
                  <a:pt x="1152960" y="540090"/>
                  <a:pt x="1199686" y="516514"/>
                  <a:pt x="1234715" y="551543"/>
                </a:cubicBezTo>
                <a:cubicBezTo>
                  <a:pt x="1256352" y="573180"/>
                  <a:pt x="1263743" y="638629"/>
                  <a:pt x="1263743" y="638629"/>
                </a:cubicBezTo>
                <a:cubicBezTo>
                  <a:pt x="1268581" y="749905"/>
                  <a:pt x="1270029" y="861380"/>
                  <a:pt x="1278257" y="972457"/>
                </a:cubicBezTo>
                <a:cubicBezTo>
                  <a:pt x="1279731" y="992350"/>
                  <a:pt x="1289951" y="1010767"/>
                  <a:pt x="1292772" y="1030514"/>
                </a:cubicBezTo>
                <a:cubicBezTo>
                  <a:pt x="1299648" y="1078648"/>
                  <a:pt x="1302448" y="1127276"/>
                  <a:pt x="1307286" y="1175657"/>
                </a:cubicBezTo>
                <a:cubicBezTo>
                  <a:pt x="1315687" y="1394096"/>
                  <a:pt x="1335265" y="1585267"/>
                  <a:pt x="1307286" y="1799772"/>
                </a:cubicBezTo>
                <a:cubicBezTo>
                  <a:pt x="1303328" y="1830114"/>
                  <a:pt x="1287933" y="1857829"/>
                  <a:pt x="1278257" y="1886857"/>
                </a:cubicBezTo>
                <a:lnTo>
                  <a:pt x="1263743" y="1930400"/>
                </a:lnTo>
                <a:lnTo>
                  <a:pt x="1249229" y="1973943"/>
                </a:lnTo>
                <a:cubicBezTo>
                  <a:pt x="1244391" y="2022324"/>
                  <a:pt x="1276204" y="2093732"/>
                  <a:pt x="1234715" y="2119086"/>
                </a:cubicBezTo>
                <a:cubicBezTo>
                  <a:pt x="1164413" y="2162048"/>
                  <a:pt x="1069953" y="2125402"/>
                  <a:pt x="987972" y="2133600"/>
                </a:cubicBezTo>
                <a:cubicBezTo>
                  <a:pt x="972749" y="2135122"/>
                  <a:pt x="958943" y="2143276"/>
                  <a:pt x="944429" y="2148114"/>
                </a:cubicBezTo>
                <a:cubicBezTo>
                  <a:pt x="881534" y="2143276"/>
                  <a:pt x="818052" y="2143438"/>
                  <a:pt x="755743" y="2133600"/>
                </a:cubicBezTo>
                <a:cubicBezTo>
                  <a:pt x="725519" y="2128828"/>
                  <a:pt x="698342" y="2111994"/>
                  <a:pt x="668657" y="2104572"/>
                </a:cubicBezTo>
                <a:lnTo>
                  <a:pt x="610600" y="2090057"/>
                </a:lnTo>
                <a:cubicBezTo>
                  <a:pt x="528352" y="2094895"/>
                  <a:pt x="445838" y="2096374"/>
                  <a:pt x="363857" y="2104572"/>
                </a:cubicBezTo>
                <a:cubicBezTo>
                  <a:pt x="239144" y="2117044"/>
                  <a:pt x="416319" y="2126264"/>
                  <a:pt x="262257" y="2133600"/>
                </a:cubicBezTo>
                <a:cubicBezTo>
                  <a:pt x="180103" y="2137512"/>
                  <a:pt x="54220" y="2167467"/>
                  <a:pt x="15515" y="2119086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任意多边形 112"/>
          <p:cNvSpPr/>
          <p:nvPr/>
        </p:nvSpPr>
        <p:spPr>
          <a:xfrm>
            <a:off x="7741080" y="1888560"/>
            <a:ext cx="1438560" cy="3628080"/>
          </a:xfrm>
          <a:custGeom>
            <a:avLst/>
            <a:gdLst>
              <a:gd name="textAreaLeft" fmla="*/ 0 w 1438560"/>
              <a:gd name="textAreaRight" fmla="*/ 1438920 w 1438560"/>
              <a:gd name="textAreaTop" fmla="*/ 0 h 3628080"/>
              <a:gd name="textAreaBottom" fmla="*/ 3628440 h 3628080"/>
            </a:gdLst>
            <a:ahLst/>
            <a:rect l="textAreaLeft" t="textAreaTop" r="textAreaRight" b="textAreaBottom"/>
            <a:pathLst>
              <a:path w="1438978" h="3628571">
                <a:moveTo>
                  <a:pt x="16578" y="101600"/>
                </a:moveTo>
                <a:cubicBezTo>
                  <a:pt x="-24546" y="154819"/>
                  <a:pt x="22759" y="285698"/>
                  <a:pt x="31093" y="377371"/>
                </a:cubicBezTo>
                <a:cubicBezTo>
                  <a:pt x="32478" y="392608"/>
                  <a:pt x="38765" y="407230"/>
                  <a:pt x="45607" y="420914"/>
                </a:cubicBezTo>
                <a:cubicBezTo>
                  <a:pt x="53408" y="436516"/>
                  <a:pt x="62300" y="452122"/>
                  <a:pt x="74635" y="464457"/>
                </a:cubicBezTo>
                <a:cubicBezTo>
                  <a:pt x="86970" y="476792"/>
                  <a:pt x="103664" y="483809"/>
                  <a:pt x="118178" y="493485"/>
                </a:cubicBezTo>
                <a:cubicBezTo>
                  <a:pt x="127854" y="507999"/>
                  <a:pt x="135618" y="523990"/>
                  <a:pt x="147207" y="537028"/>
                </a:cubicBezTo>
                <a:cubicBezTo>
                  <a:pt x="219512" y="618371"/>
                  <a:pt x="211657" y="609023"/>
                  <a:pt x="277835" y="653143"/>
                </a:cubicBezTo>
                <a:cubicBezTo>
                  <a:pt x="297188" y="682171"/>
                  <a:pt x="311224" y="715558"/>
                  <a:pt x="335893" y="740228"/>
                </a:cubicBezTo>
                <a:cubicBezTo>
                  <a:pt x="350407" y="754742"/>
                  <a:pt x="366833" y="767569"/>
                  <a:pt x="379435" y="783771"/>
                </a:cubicBezTo>
                <a:cubicBezTo>
                  <a:pt x="400854" y="811310"/>
                  <a:pt x="437493" y="870857"/>
                  <a:pt x="437493" y="870857"/>
                </a:cubicBezTo>
                <a:cubicBezTo>
                  <a:pt x="477475" y="990807"/>
                  <a:pt x="418409" y="802947"/>
                  <a:pt x="466521" y="1059543"/>
                </a:cubicBezTo>
                <a:cubicBezTo>
                  <a:pt x="482197" y="1143147"/>
                  <a:pt x="506382" y="1162875"/>
                  <a:pt x="553607" y="1233714"/>
                </a:cubicBezTo>
                <a:cubicBezTo>
                  <a:pt x="563283" y="1248228"/>
                  <a:pt x="577119" y="1260708"/>
                  <a:pt x="582635" y="1277257"/>
                </a:cubicBezTo>
                <a:cubicBezTo>
                  <a:pt x="608183" y="1353898"/>
                  <a:pt x="588663" y="1308068"/>
                  <a:pt x="655207" y="1407885"/>
                </a:cubicBezTo>
                <a:cubicBezTo>
                  <a:pt x="664883" y="1422399"/>
                  <a:pt x="671900" y="1439093"/>
                  <a:pt x="684235" y="1451428"/>
                </a:cubicBezTo>
                <a:cubicBezTo>
                  <a:pt x="811446" y="1578639"/>
                  <a:pt x="655770" y="1417270"/>
                  <a:pt x="756807" y="1538514"/>
                </a:cubicBezTo>
                <a:cubicBezTo>
                  <a:pt x="870492" y="1674935"/>
                  <a:pt x="711676" y="1449045"/>
                  <a:pt x="858407" y="1669143"/>
                </a:cubicBezTo>
                <a:lnTo>
                  <a:pt x="887435" y="1712685"/>
                </a:lnTo>
                <a:lnTo>
                  <a:pt x="916464" y="1756228"/>
                </a:lnTo>
                <a:cubicBezTo>
                  <a:pt x="921302" y="1775580"/>
                  <a:pt x="925498" y="1795105"/>
                  <a:pt x="930978" y="1814285"/>
                </a:cubicBezTo>
                <a:cubicBezTo>
                  <a:pt x="935181" y="1828996"/>
                  <a:pt x="947183" y="1842622"/>
                  <a:pt x="945493" y="1857828"/>
                </a:cubicBezTo>
                <a:cubicBezTo>
                  <a:pt x="942114" y="1888240"/>
                  <a:pt x="916464" y="1944914"/>
                  <a:pt x="916464" y="1944914"/>
                </a:cubicBezTo>
                <a:cubicBezTo>
                  <a:pt x="921302" y="2051352"/>
                  <a:pt x="918283" y="2158439"/>
                  <a:pt x="930978" y="2264228"/>
                </a:cubicBezTo>
                <a:cubicBezTo>
                  <a:pt x="933056" y="2281548"/>
                  <a:pt x="952922" y="2291830"/>
                  <a:pt x="960007" y="2307771"/>
                </a:cubicBezTo>
                <a:cubicBezTo>
                  <a:pt x="999109" y="2395751"/>
                  <a:pt x="983266" y="2390667"/>
                  <a:pt x="1003550" y="2481943"/>
                </a:cubicBezTo>
                <a:cubicBezTo>
                  <a:pt x="1006869" y="2496878"/>
                  <a:pt x="1013226" y="2510971"/>
                  <a:pt x="1018064" y="2525485"/>
                </a:cubicBezTo>
                <a:cubicBezTo>
                  <a:pt x="1022902" y="2573866"/>
                  <a:pt x="1032578" y="2622006"/>
                  <a:pt x="1032578" y="2670628"/>
                </a:cubicBezTo>
                <a:cubicBezTo>
                  <a:pt x="1032578" y="2784869"/>
                  <a:pt x="1024932" y="2802811"/>
                  <a:pt x="1003550" y="2888343"/>
                </a:cubicBezTo>
                <a:cubicBezTo>
                  <a:pt x="1009322" y="2969150"/>
                  <a:pt x="982961" y="3070953"/>
                  <a:pt x="1047093" y="3135085"/>
                </a:cubicBezTo>
                <a:cubicBezTo>
                  <a:pt x="1059428" y="3147420"/>
                  <a:pt x="1076121" y="3154438"/>
                  <a:pt x="1090635" y="3164114"/>
                </a:cubicBezTo>
                <a:cubicBezTo>
                  <a:pt x="1079368" y="3366928"/>
                  <a:pt x="1064129" y="3398227"/>
                  <a:pt x="1090635" y="3570514"/>
                </a:cubicBezTo>
                <a:cubicBezTo>
                  <a:pt x="1092961" y="3585636"/>
                  <a:pt x="1094332" y="3603239"/>
                  <a:pt x="1105150" y="3614057"/>
                </a:cubicBezTo>
                <a:cubicBezTo>
                  <a:pt x="1115968" y="3624875"/>
                  <a:pt x="1134179" y="3623733"/>
                  <a:pt x="1148693" y="3628571"/>
                </a:cubicBezTo>
                <a:cubicBezTo>
                  <a:pt x="1221320" y="3620501"/>
                  <a:pt x="1284159" y="3628571"/>
                  <a:pt x="1322864" y="3585028"/>
                </a:cubicBezTo>
                <a:cubicBezTo>
                  <a:pt x="1361569" y="3541485"/>
                  <a:pt x="1363988" y="3512457"/>
                  <a:pt x="1380921" y="3367314"/>
                </a:cubicBezTo>
                <a:cubicBezTo>
                  <a:pt x="1397854" y="3222171"/>
                  <a:pt x="1414788" y="2917371"/>
                  <a:pt x="1424464" y="2714171"/>
                </a:cubicBezTo>
                <a:cubicBezTo>
                  <a:pt x="1429302" y="2525485"/>
                  <a:pt x="1438978" y="2336862"/>
                  <a:pt x="1438978" y="2148114"/>
                </a:cubicBezTo>
                <a:cubicBezTo>
                  <a:pt x="1438978" y="1868947"/>
                  <a:pt x="1430262" y="1805499"/>
                  <a:pt x="1409950" y="1582057"/>
                </a:cubicBezTo>
                <a:cubicBezTo>
                  <a:pt x="1405112" y="1446590"/>
                  <a:pt x="1403395" y="1310976"/>
                  <a:pt x="1395435" y="1175657"/>
                </a:cubicBezTo>
                <a:cubicBezTo>
                  <a:pt x="1393707" y="1146279"/>
                  <a:pt x="1383018" y="1117925"/>
                  <a:pt x="1380921" y="1088571"/>
                </a:cubicBezTo>
                <a:cubicBezTo>
                  <a:pt x="1373330" y="982294"/>
                  <a:pt x="1371245" y="875695"/>
                  <a:pt x="1366407" y="769257"/>
                </a:cubicBezTo>
                <a:cubicBezTo>
                  <a:pt x="1371245" y="633790"/>
                  <a:pt x="1372194" y="498129"/>
                  <a:pt x="1380921" y="362857"/>
                </a:cubicBezTo>
                <a:cubicBezTo>
                  <a:pt x="1381906" y="347589"/>
                  <a:pt x="1395435" y="334613"/>
                  <a:pt x="1395435" y="319314"/>
                </a:cubicBezTo>
                <a:cubicBezTo>
                  <a:pt x="1395435" y="241753"/>
                  <a:pt x="1397746" y="162799"/>
                  <a:pt x="1380921" y="87085"/>
                </a:cubicBezTo>
                <a:cubicBezTo>
                  <a:pt x="1377137" y="70056"/>
                  <a:pt x="1351892" y="67733"/>
                  <a:pt x="1337378" y="58057"/>
                </a:cubicBezTo>
                <a:cubicBezTo>
                  <a:pt x="1284159" y="62895"/>
                  <a:pt x="1230691" y="65509"/>
                  <a:pt x="1177721" y="72571"/>
                </a:cubicBezTo>
                <a:cubicBezTo>
                  <a:pt x="1157948" y="75207"/>
                  <a:pt x="1139225" y="83173"/>
                  <a:pt x="1119664" y="87085"/>
                </a:cubicBezTo>
                <a:cubicBezTo>
                  <a:pt x="1090806" y="92857"/>
                  <a:pt x="1061607" y="96762"/>
                  <a:pt x="1032578" y="101600"/>
                </a:cubicBezTo>
                <a:cubicBezTo>
                  <a:pt x="988971" y="95370"/>
                  <a:pt x="905095" y="85304"/>
                  <a:pt x="858407" y="72571"/>
                </a:cubicBezTo>
                <a:cubicBezTo>
                  <a:pt x="828886" y="64520"/>
                  <a:pt x="800350" y="53219"/>
                  <a:pt x="771321" y="43543"/>
                </a:cubicBezTo>
                <a:lnTo>
                  <a:pt x="684235" y="14514"/>
                </a:lnTo>
                <a:lnTo>
                  <a:pt x="640693" y="0"/>
                </a:lnTo>
                <a:cubicBezTo>
                  <a:pt x="577798" y="4838"/>
                  <a:pt x="514316" y="4676"/>
                  <a:pt x="452007" y="14514"/>
                </a:cubicBezTo>
                <a:cubicBezTo>
                  <a:pt x="421783" y="19286"/>
                  <a:pt x="395104" y="38513"/>
                  <a:pt x="364921" y="43543"/>
                </a:cubicBezTo>
                <a:cubicBezTo>
                  <a:pt x="335892" y="48381"/>
                  <a:pt x="307102" y="54976"/>
                  <a:pt x="277835" y="58057"/>
                </a:cubicBezTo>
                <a:cubicBezTo>
                  <a:pt x="125849" y="74055"/>
                  <a:pt x="57702" y="48381"/>
                  <a:pt x="16578" y="101600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  <a:effectLst>
            <a:softEdge rad="316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任意多边形 111"/>
          <p:cNvSpPr/>
          <p:nvPr/>
        </p:nvSpPr>
        <p:spPr>
          <a:xfrm>
            <a:off x="6357240" y="-29160"/>
            <a:ext cx="2829960" cy="2162880"/>
          </a:xfrm>
          <a:custGeom>
            <a:avLst/>
            <a:gdLst>
              <a:gd name="textAreaLeft" fmla="*/ 0 w 2829960"/>
              <a:gd name="textAreaRight" fmla="*/ 2830320 w 2829960"/>
              <a:gd name="textAreaTop" fmla="*/ 0 h 2162880"/>
              <a:gd name="textAreaBottom" fmla="*/ 2163240 h 2162880"/>
            </a:gdLst>
            <a:ahLst/>
            <a:rect l="textAreaLeft" t="textAreaTop" r="textAreaRight" b="textAreaBottom"/>
            <a:pathLst>
              <a:path w="2830290" h="2163216">
                <a:moveTo>
                  <a:pt x="0" y="14515"/>
                </a:moveTo>
                <a:cubicBezTo>
                  <a:pt x="98810" y="73801"/>
                  <a:pt x="63651" y="31295"/>
                  <a:pt x="101600" y="145143"/>
                </a:cubicBezTo>
                <a:lnTo>
                  <a:pt x="116114" y="188686"/>
                </a:lnTo>
                <a:lnTo>
                  <a:pt x="130629" y="232229"/>
                </a:lnTo>
                <a:cubicBezTo>
                  <a:pt x="135467" y="488648"/>
                  <a:pt x="136150" y="745179"/>
                  <a:pt x="145143" y="1001486"/>
                </a:cubicBezTo>
                <a:cubicBezTo>
                  <a:pt x="145842" y="1021422"/>
                  <a:pt x="156089" y="1039917"/>
                  <a:pt x="159657" y="1059543"/>
                </a:cubicBezTo>
                <a:cubicBezTo>
                  <a:pt x="184875" y="1198239"/>
                  <a:pt x="165330" y="1142790"/>
                  <a:pt x="188686" y="1306286"/>
                </a:cubicBezTo>
                <a:cubicBezTo>
                  <a:pt x="191507" y="1326033"/>
                  <a:pt x="193303" y="1347023"/>
                  <a:pt x="203200" y="1364343"/>
                </a:cubicBezTo>
                <a:cubicBezTo>
                  <a:pt x="213384" y="1382165"/>
                  <a:pt x="232229" y="1393372"/>
                  <a:pt x="246743" y="1407886"/>
                </a:cubicBezTo>
                <a:cubicBezTo>
                  <a:pt x="256419" y="1436915"/>
                  <a:pt x="250312" y="1477999"/>
                  <a:pt x="275772" y="1494972"/>
                </a:cubicBezTo>
                <a:cubicBezTo>
                  <a:pt x="383876" y="1567042"/>
                  <a:pt x="251105" y="1474415"/>
                  <a:pt x="362857" y="1567543"/>
                </a:cubicBezTo>
                <a:cubicBezTo>
                  <a:pt x="376258" y="1578710"/>
                  <a:pt x="392999" y="1585405"/>
                  <a:pt x="406400" y="1596572"/>
                </a:cubicBezTo>
                <a:cubicBezTo>
                  <a:pt x="422169" y="1609713"/>
                  <a:pt x="433740" y="1627513"/>
                  <a:pt x="449943" y="1640115"/>
                </a:cubicBezTo>
                <a:cubicBezTo>
                  <a:pt x="477482" y="1661534"/>
                  <a:pt x="508000" y="1678820"/>
                  <a:pt x="537029" y="1698172"/>
                </a:cubicBezTo>
                <a:lnTo>
                  <a:pt x="580572" y="1727200"/>
                </a:lnTo>
                <a:cubicBezTo>
                  <a:pt x="590248" y="1741714"/>
                  <a:pt x="595979" y="1759846"/>
                  <a:pt x="609600" y="1770743"/>
                </a:cubicBezTo>
                <a:cubicBezTo>
                  <a:pt x="621547" y="1780301"/>
                  <a:pt x="639459" y="1778416"/>
                  <a:pt x="653143" y="1785258"/>
                </a:cubicBezTo>
                <a:cubicBezTo>
                  <a:pt x="765681" y="1841527"/>
                  <a:pt x="630789" y="1792321"/>
                  <a:pt x="740229" y="1828800"/>
                </a:cubicBezTo>
                <a:lnTo>
                  <a:pt x="827314" y="1886858"/>
                </a:lnTo>
                <a:cubicBezTo>
                  <a:pt x="841828" y="1896534"/>
                  <a:pt x="858522" y="1903551"/>
                  <a:pt x="870857" y="1915886"/>
                </a:cubicBezTo>
                <a:cubicBezTo>
                  <a:pt x="925218" y="1970247"/>
                  <a:pt x="894927" y="1952938"/>
                  <a:pt x="957943" y="1973943"/>
                </a:cubicBezTo>
                <a:cubicBezTo>
                  <a:pt x="972457" y="1983619"/>
                  <a:pt x="985545" y="1995887"/>
                  <a:pt x="1001486" y="2002972"/>
                </a:cubicBezTo>
                <a:cubicBezTo>
                  <a:pt x="1029448" y="2015399"/>
                  <a:pt x="1059543" y="2022324"/>
                  <a:pt x="1088572" y="2032000"/>
                </a:cubicBezTo>
                <a:cubicBezTo>
                  <a:pt x="1088585" y="2032004"/>
                  <a:pt x="1175644" y="2061026"/>
                  <a:pt x="1175657" y="2061029"/>
                </a:cubicBezTo>
                <a:cubicBezTo>
                  <a:pt x="1209359" y="2067769"/>
                  <a:pt x="1325898" y="2088685"/>
                  <a:pt x="1378857" y="2104572"/>
                </a:cubicBezTo>
                <a:cubicBezTo>
                  <a:pt x="1378942" y="2104597"/>
                  <a:pt x="1487673" y="2140844"/>
                  <a:pt x="1509486" y="2148115"/>
                </a:cubicBezTo>
                <a:lnTo>
                  <a:pt x="1553029" y="2162629"/>
                </a:lnTo>
                <a:cubicBezTo>
                  <a:pt x="1780917" y="2124648"/>
                  <a:pt x="1497176" y="2176591"/>
                  <a:pt x="1727200" y="2119086"/>
                </a:cubicBezTo>
                <a:lnTo>
                  <a:pt x="1843314" y="2090058"/>
                </a:lnTo>
                <a:cubicBezTo>
                  <a:pt x="1876344" y="2073543"/>
                  <a:pt x="1919904" y="2046515"/>
                  <a:pt x="1959429" y="2046515"/>
                </a:cubicBezTo>
                <a:cubicBezTo>
                  <a:pt x="2003240" y="2046515"/>
                  <a:pt x="2046514" y="2056191"/>
                  <a:pt x="2090057" y="2061029"/>
                </a:cubicBezTo>
                <a:cubicBezTo>
                  <a:pt x="2243638" y="2099423"/>
                  <a:pt x="2062782" y="2047294"/>
                  <a:pt x="2191657" y="2104572"/>
                </a:cubicBezTo>
                <a:cubicBezTo>
                  <a:pt x="2219619" y="2116999"/>
                  <a:pt x="2278743" y="2133600"/>
                  <a:pt x="2278743" y="2133600"/>
                </a:cubicBezTo>
                <a:cubicBezTo>
                  <a:pt x="2293257" y="2143276"/>
                  <a:pt x="2304893" y="2161291"/>
                  <a:pt x="2322286" y="2162629"/>
                </a:cubicBezTo>
                <a:cubicBezTo>
                  <a:pt x="2370765" y="2166358"/>
                  <a:pt x="2418908" y="2151245"/>
                  <a:pt x="2467429" y="2148115"/>
                </a:cubicBezTo>
                <a:cubicBezTo>
                  <a:pt x="2568933" y="2141566"/>
                  <a:pt x="2670629" y="2138438"/>
                  <a:pt x="2772229" y="2133600"/>
                </a:cubicBezTo>
                <a:cubicBezTo>
                  <a:pt x="2767391" y="2109410"/>
                  <a:pt x="2757714" y="2085698"/>
                  <a:pt x="2757714" y="2061029"/>
                </a:cubicBezTo>
                <a:cubicBezTo>
                  <a:pt x="2757714" y="1801301"/>
                  <a:pt x="2744005" y="1855416"/>
                  <a:pt x="2786743" y="1727200"/>
                </a:cubicBezTo>
                <a:cubicBezTo>
                  <a:pt x="2781905" y="1586895"/>
                  <a:pt x="2772229" y="1446674"/>
                  <a:pt x="2772229" y="1306286"/>
                </a:cubicBezTo>
                <a:cubicBezTo>
                  <a:pt x="2772229" y="1142787"/>
                  <a:pt x="2780196" y="1113340"/>
                  <a:pt x="2801257" y="986972"/>
                </a:cubicBezTo>
                <a:cubicBezTo>
                  <a:pt x="2806095" y="788610"/>
                  <a:pt x="2808561" y="590176"/>
                  <a:pt x="2815772" y="391886"/>
                </a:cubicBezTo>
                <a:cubicBezTo>
                  <a:pt x="2817388" y="347453"/>
                  <a:pt x="2847615" y="158733"/>
                  <a:pt x="2815772" y="87086"/>
                </a:cubicBezTo>
                <a:cubicBezTo>
                  <a:pt x="2808687" y="71146"/>
                  <a:pt x="2789058" y="62648"/>
                  <a:pt x="2772229" y="58058"/>
                </a:cubicBezTo>
                <a:cubicBezTo>
                  <a:pt x="2734597" y="47795"/>
                  <a:pt x="2694819" y="48381"/>
                  <a:pt x="2656114" y="43543"/>
                </a:cubicBezTo>
                <a:cubicBezTo>
                  <a:pt x="2551696" y="8737"/>
                  <a:pt x="2682114" y="50973"/>
                  <a:pt x="2554514" y="14515"/>
                </a:cubicBezTo>
                <a:cubicBezTo>
                  <a:pt x="2539803" y="10312"/>
                  <a:pt x="2510972" y="0"/>
                  <a:pt x="2510972" y="0"/>
                </a:cubicBezTo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  <a:effectLst>
            <a:softEdge rad="316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任意多边形 110"/>
          <p:cNvSpPr/>
          <p:nvPr/>
        </p:nvSpPr>
        <p:spPr>
          <a:xfrm>
            <a:off x="6534000" y="-71640"/>
            <a:ext cx="2609640" cy="220428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2204280"/>
              <a:gd name="textAreaBottom" fmla="*/ 2204640 h 2204280"/>
            </a:gdLst>
            <a:ahLst/>
            <a:rect l="textAreaLeft" t="textAreaTop" r="textAreaRight" b="textAreaBottom"/>
            <a:pathLst>
              <a:path w="2279300" h="2002971">
                <a:moveTo>
                  <a:pt x="557" y="14514"/>
                </a:moveTo>
                <a:cubicBezTo>
                  <a:pt x="12700" y="184510"/>
                  <a:pt x="-31786" y="185923"/>
                  <a:pt x="58615" y="261257"/>
                </a:cubicBezTo>
                <a:cubicBezTo>
                  <a:pt x="72016" y="272424"/>
                  <a:pt x="87643" y="280609"/>
                  <a:pt x="102157" y="290285"/>
                </a:cubicBezTo>
                <a:cubicBezTo>
                  <a:pt x="124092" y="378021"/>
                  <a:pt x="110366" y="329427"/>
                  <a:pt x="145700" y="435428"/>
                </a:cubicBezTo>
                <a:cubicBezTo>
                  <a:pt x="150538" y="449942"/>
                  <a:pt x="151728" y="466241"/>
                  <a:pt x="160215" y="478971"/>
                </a:cubicBezTo>
                <a:lnTo>
                  <a:pt x="189243" y="522514"/>
                </a:lnTo>
                <a:cubicBezTo>
                  <a:pt x="199487" y="706915"/>
                  <a:pt x="183832" y="721288"/>
                  <a:pt x="218272" y="841828"/>
                </a:cubicBezTo>
                <a:cubicBezTo>
                  <a:pt x="227716" y="874883"/>
                  <a:pt x="236369" y="903468"/>
                  <a:pt x="261815" y="928914"/>
                </a:cubicBezTo>
                <a:cubicBezTo>
                  <a:pt x="274150" y="941249"/>
                  <a:pt x="290843" y="948266"/>
                  <a:pt x="305357" y="957942"/>
                </a:cubicBezTo>
                <a:lnTo>
                  <a:pt x="363415" y="1045028"/>
                </a:lnTo>
                <a:cubicBezTo>
                  <a:pt x="373091" y="1059542"/>
                  <a:pt x="375894" y="1083055"/>
                  <a:pt x="392443" y="1088571"/>
                </a:cubicBezTo>
                <a:lnTo>
                  <a:pt x="435986" y="1103085"/>
                </a:lnTo>
                <a:cubicBezTo>
                  <a:pt x="445662" y="1117599"/>
                  <a:pt x="451393" y="1135731"/>
                  <a:pt x="465015" y="1146628"/>
                </a:cubicBezTo>
                <a:cubicBezTo>
                  <a:pt x="476962" y="1156185"/>
                  <a:pt x="494873" y="1154300"/>
                  <a:pt x="508557" y="1161142"/>
                </a:cubicBezTo>
                <a:cubicBezTo>
                  <a:pt x="621099" y="1217414"/>
                  <a:pt x="486200" y="1168205"/>
                  <a:pt x="595643" y="1204685"/>
                </a:cubicBezTo>
                <a:cubicBezTo>
                  <a:pt x="605319" y="1219199"/>
                  <a:pt x="616871" y="1232626"/>
                  <a:pt x="624672" y="1248228"/>
                </a:cubicBezTo>
                <a:cubicBezTo>
                  <a:pt x="631514" y="1261912"/>
                  <a:pt x="629629" y="1279824"/>
                  <a:pt x="639186" y="1291771"/>
                </a:cubicBezTo>
                <a:cubicBezTo>
                  <a:pt x="650083" y="1305393"/>
                  <a:pt x="669328" y="1309633"/>
                  <a:pt x="682729" y="1320800"/>
                </a:cubicBezTo>
                <a:cubicBezTo>
                  <a:pt x="794485" y="1413929"/>
                  <a:pt x="661705" y="1321297"/>
                  <a:pt x="769815" y="1393371"/>
                </a:cubicBezTo>
                <a:cubicBezTo>
                  <a:pt x="847220" y="1509482"/>
                  <a:pt x="745627" y="1369185"/>
                  <a:pt x="842386" y="1465942"/>
                </a:cubicBezTo>
                <a:cubicBezTo>
                  <a:pt x="854721" y="1478277"/>
                  <a:pt x="860248" y="1496084"/>
                  <a:pt x="871415" y="1509485"/>
                </a:cubicBezTo>
                <a:cubicBezTo>
                  <a:pt x="884555" y="1525254"/>
                  <a:pt x="900443" y="1538514"/>
                  <a:pt x="914957" y="1553028"/>
                </a:cubicBezTo>
                <a:cubicBezTo>
                  <a:pt x="926762" y="1588440"/>
                  <a:pt x="930365" y="1611979"/>
                  <a:pt x="958500" y="1640114"/>
                </a:cubicBezTo>
                <a:cubicBezTo>
                  <a:pt x="970835" y="1652449"/>
                  <a:pt x="987529" y="1659466"/>
                  <a:pt x="1002043" y="1669142"/>
                </a:cubicBezTo>
                <a:cubicBezTo>
                  <a:pt x="1042105" y="1789327"/>
                  <a:pt x="1014098" y="1730767"/>
                  <a:pt x="1089129" y="1843314"/>
                </a:cubicBezTo>
                <a:cubicBezTo>
                  <a:pt x="1109199" y="1873419"/>
                  <a:pt x="1122277" y="1905133"/>
                  <a:pt x="1161700" y="1915885"/>
                </a:cubicBezTo>
                <a:cubicBezTo>
                  <a:pt x="1199332" y="1926148"/>
                  <a:pt x="1239262" y="1924469"/>
                  <a:pt x="1277815" y="1930400"/>
                </a:cubicBezTo>
                <a:cubicBezTo>
                  <a:pt x="1302198" y="1934151"/>
                  <a:pt x="1326196" y="1940076"/>
                  <a:pt x="1350386" y="1944914"/>
                </a:cubicBezTo>
                <a:cubicBezTo>
                  <a:pt x="1364900" y="1954590"/>
                  <a:pt x="1377989" y="1966857"/>
                  <a:pt x="1393929" y="1973942"/>
                </a:cubicBezTo>
                <a:cubicBezTo>
                  <a:pt x="1421891" y="1986369"/>
                  <a:pt x="1481015" y="2002971"/>
                  <a:pt x="1481015" y="2002971"/>
                </a:cubicBezTo>
                <a:lnTo>
                  <a:pt x="1916443" y="1988457"/>
                </a:lnTo>
                <a:cubicBezTo>
                  <a:pt x="1989104" y="1985228"/>
                  <a:pt x="2063358" y="1990601"/>
                  <a:pt x="2134157" y="1973942"/>
                </a:cubicBezTo>
                <a:cubicBezTo>
                  <a:pt x="2151137" y="1969947"/>
                  <a:pt x="2153510" y="1944914"/>
                  <a:pt x="2163186" y="1930400"/>
                </a:cubicBezTo>
                <a:cubicBezTo>
                  <a:pt x="2168024" y="1911047"/>
                  <a:pt x="2172220" y="1891523"/>
                  <a:pt x="2177700" y="1872342"/>
                </a:cubicBezTo>
                <a:cubicBezTo>
                  <a:pt x="2181903" y="1857631"/>
                  <a:pt x="2192215" y="1844099"/>
                  <a:pt x="2192215" y="1828800"/>
                </a:cubicBezTo>
                <a:cubicBezTo>
                  <a:pt x="2192215" y="1762092"/>
                  <a:pt x="2181059" y="1737278"/>
                  <a:pt x="2163186" y="1683657"/>
                </a:cubicBezTo>
                <a:cubicBezTo>
                  <a:pt x="2195871" y="1487545"/>
                  <a:pt x="2152305" y="1675483"/>
                  <a:pt x="2206729" y="1553028"/>
                </a:cubicBezTo>
                <a:cubicBezTo>
                  <a:pt x="2219156" y="1525066"/>
                  <a:pt x="2235757" y="1465942"/>
                  <a:pt x="2235757" y="1465942"/>
                </a:cubicBezTo>
                <a:cubicBezTo>
                  <a:pt x="2230919" y="1432075"/>
                  <a:pt x="2223770" y="1398459"/>
                  <a:pt x="2221243" y="1364342"/>
                </a:cubicBezTo>
                <a:cubicBezTo>
                  <a:pt x="2195270" y="1013696"/>
                  <a:pt x="2240503" y="1175380"/>
                  <a:pt x="2177700" y="986971"/>
                </a:cubicBezTo>
                <a:cubicBezTo>
                  <a:pt x="2172862" y="972457"/>
                  <a:pt x="2174004" y="954246"/>
                  <a:pt x="2163186" y="943428"/>
                </a:cubicBezTo>
                <a:lnTo>
                  <a:pt x="2119643" y="899885"/>
                </a:lnTo>
                <a:cubicBezTo>
                  <a:pt x="2126335" y="853042"/>
                  <a:pt x="2134205" y="754671"/>
                  <a:pt x="2163186" y="711200"/>
                </a:cubicBezTo>
                <a:lnTo>
                  <a:pt x="2192215" y="667657"/>
                </a:lnTo>
                <a:cubicBezTo>
                  <a:pt x="2237588" y="486162"/>
                  <a:pt x="2179599" y="711814"/>
                  <a:pt x="2221243" y="566057"/>
                </a:cubicBezTo>
                <a:cubicBezTo>
                  <a:pt x="2226723" y="546877"/>
                  <a:pt x="2230025" y="527107"/>
                  <a:pt x="2235757" y="508000"/>
                </a:cubicBezTo>
                <a:cubicBezTo>
                  <a:pt x="2244550" y="478692"/>
                  <a:pt x="2255110" y="449943"/>
                  <a:pt x="2264786" y="420914"/>
                </a:cubicBezTo>
                <a:lnTo>
                  <a:pt x="2279300" y="377371"/>
                </a:lnTo>
                <a:cubicBezTo>
                  <a:pt x="2274462" y="319314"/>
                  <a:pt x="2280378" y="259333"/>
                  <a:pt x="2264786" y="203200"/>
                </a:cubicBezTo>
                <a:cubicBezTo>
                  <a:pt x="2245544" y="133927"/>
                  <a:pt x="2211512" y="119303"/>
                  <a:pt x="2163186" y="87085"/>
                </a:cubicBezTo>
                <a:cubicBezTo>
                  <a:pt x="2158348" y="72571"/>
                  <a:pt x="2155514" y="57226"/>
                  <a:pt x="2148672" y="43542"/>
                </a:cubicBezTo>
                <a:cubicBezTo>
                  <a:pt x="2140871" y="27940"/>
                  <a:pt x="2119643" y="0"/>
                  <a:pt x="2119643" y="0"/>
                </a:cubicBezTo>
              </a:path>
            </a:pathLst>
          </a:custGeom>
          <a:solidFill>
            <a:schemeClr val="bg1">
              <a:lumMod val="65000"/>
            </a:schemeClr>
          </a:solidFill>
          <a:ln>
            <a:noFill/>
          </a:ln>
          <a:effectLst>
            <a:softEdge rad="316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任意多边形 109"/>
          <p:cNvSpPr/>
          <p:nvPr/>
        </p:nvSpPr>
        <p:spPr>
          <a:xfrm>
            <a:off x="6722640" y="14400"/>
            <a:ext cx="2261520" cy="3338280"/>
          </a:xfrm>
          <a:custGeom>
            <a:avLst/>
            <a:gdLst>
              <a:gd name="textAreaLeft" fmla="*/ 0 w 2261520"/>
              <a:gd name="textAreaRight" fmla="*/ 2261880 w 2261520"/>
              <a:gd name="textAreaTop" fmla="*/ 0 h 3338280"/>
              <a:gd name="textAreaBottom" fmla="*/ 3338640 h 3338280"/>
            </a:gdLst>
            <a:ahLst/>
            <a:rect l="textAreaLeft" t="textAreaTop" r="textAreaRight" b="textAreaBottom"/>
            <a:pathLst>
              <a:path w="2191657" h="3338618">
                <a:moveTo>
                  <a:pt x="29028" y="43543"/>
                </a:moveTo>
                <a:cubicBezTo>
                  <a:pt x="43542" y="67734"/>
                  <a:pt x="67038" y="88452"/>
                  <a:pt x="72571" y="116115"/>
                </a:cubicBezTo>
                <a:cubicBezTo>
                  <a:pt x="77409" y="140305"/>
                  <a:pt x="81460" y="196487"/>
                  <a:pt x="58057" y="188686"/>
                </a:cubicBezTo>
                <a:cubicBezTo>
                  <a:pt x="29028" y="179009"/>
                  <a:pt x="38704" y="130629"/>
                  <a:pt x="29028" y="101600"/>
                </a:cubicBezTo>
                <a:lnTo>
                  <a:pt x="14514" y="58057"/>
                </a:lnTo>
                <a:cubicBezTo>
                  <a:pt x="9676" y="72571"/>
                  <a:pt x="0" y="86301"/>
                  <a:pt x="0" y="101600"/>
                </a:cubicBezTo>
                <a:cubicBezTo>
                  <a:pt x="0" y="126270"/>
                  <a:pt x="8531" y="150239"/>
                  <a:pt x="14514" y="174172"/>
                </a:cubicBezTo>
                <a:cubicBezTo>
                  <a:pt x="22384" y="205653"/>
                  <a:pt x="34406" y="237606"/>
                  <a:pt x="58057" y="261257"/>
                </a:cubicBezTo>
                <a:cubicBezTo>
                  <a:pt x="70392" y="273592"/>
                  <a:pt x="87086" y="280610"/>
                  <a:pt x="101600" y="290286"/>
                </a:cubicBezTo>
                <a:cubicBezTo>
                  <a:pt x="111276" y="304800"/>
                  <a:pt x="126397" y="316906"/>
                  <a:pt x="130628" y="333829"/>
                </a:cubicBezTo>
                <a:cubicBezTo>
                  <a:pt x="141373" y="376807"/>
                  <a:pt x="150928" y="571772"/>
                  <a:pt x="159657" y="609600"/>
                </a:cubicBezTo>
                <a:cubicBezTo>
                  <a:pt x="163579" y="626597"/>
                  <a:pt x="181600" y="637203"/>
                  <a:pt x="188685" y="653143"/>
                </a:cubicBezTo>
                <a:cubicBezTo>
                  <a:pt x="201112" y="681105"/>
                  <a:pt x="208038" y="711200"/>
                  <a:pt x="217714" y="740229"/>
                </a:cubicBezTo>
                <a:cubicBezTo>
                  <a:pt x="222552" y="754743"/>
                  <a:pt x="217714" y="778934"/>
                  <a:pt x="232228" y="783772"/>
                </a:cubicBezTo>
                <a:lnTo>
                  <a:pt x="275771" y="798286"/>
                </a:lnTo>
                <a:cubicBezTo>
                  <a:pt x="290285" y="807962"/>
                  <a:pt x="306979" y="814980"/>
                  <a:pt x="319314" y="827315"/>
                </a:cubicBezTo>
                <a:cubicBezTo>
                  <a:pt x="416079" y="924079"/>
                  <a:pt x="275769" y="822473"/>
                  <a:pt x="391885" y="899886"/>
                </a:cubicBezTo>
                <a:cubicBezTo>
                  <a:pt x="396723" y="914400"/>
                  <a:pt x="396842" y="931482"/>
                  <a:pt x="406400" y="943429"/>
                </a:cubicBezTo>
                <a:cubicBezTo>
                  <a:pt x="417297" y="957050"/>
                  <a:pt x="436542" y="961290"/>
                  <a:pt x="449943" y="972457"/>
                </a:cubicBezTo>
                <a:cubicBezTo>
                  <a:pt x="465712" y="985598"/>
                  <a:pt x="477283" y="1003398"/>
                  <a:pt x="493485" y="1016000"/>
                </a:cubicBezTo>
                <a:cubicBezTo>
                  <a:pt x="521024" y="1037419"/>
                  <a:pt x="580571" y="1074057"/>
                  <a:pt x="580571" y="1074057"/>
                </a:cubicBezTo>
                <a:cubicBezTo>
                  <a:pt x="647115" y="1173873"/>
                  <a:pt x="605530" y="1150111"/>
                  <a:pt x="682171" y="1175657"/>
                </a:cubicBezTo>
                <a:cubicBezTo>
                  <a:pt x="696685" y="1185333"/>
                  <a:pt x="713379" y="1192351"/>
                  <a:pt x="725714" y="1204686"/>
                </a:cubicBezTo>
                <a:cubicBezTo>
                  <a:pt x="822475" y="1301447"/>
                  <a:pt x="682175" y="1199850"/>
                  <a:pt x="798285" y="1277257"/>
                </a:cubicBezTo>
                <a:cubicBezTo>
                  <a:pt x="807961" y="1291771"/>
                  <a:pt x="813692" y="1309903"/>
                  <a:pt x="827314" y="1320800"/>
                </a:cubicBezTo>
                <a:cubicBezTo>
                  <a:pt x="839261" y="1330358"/>
                  <a:pt x="860039" y="1324497"/>
                  <a:pt x="870857" y="1335315"/>
                </a:cubicBezTo>
                <a:cubicBezTo>
                  <a:pt x="895526" y="1359984"/>
                  <a:pt x="928914" y="1422400"/>
                  <a:pt x="928914" y="1422400"/>
                </a:cubicBezTo>
                <a:cubicBezTo>
                  <a:pt x="961587" y="1520422"/>
                  <a:pt x="928914" y="1399763"/>
                  <a:pt x="928914" y="1553029"/>
                </a:cubicBezTo>
                <a:cubicBezTo>
                  <a:pt x="928914" y="1611287"/>
                  <a:pt x="927423" y="1671183"/>
                  <a:pt x="943428" y="1727200"/>
                </a:cubicBezTo>
                <a:cubicBezTo>
                  <a:pt x="948220" y="1743973"/>
                  <a:pt x="972457" y="1746553"/>
                  <a:pt x="986971" y="1756229"/>
                </a:cubicBezTo>
                <a:cubicBezTo>
                  <a:pt x="991809" y="1770743"/>
                  <a:pt x="994643" y="1786088"/>
                  <a:pt x="1001485" y="1799772"/>
                </a:cubicBezTo>
                <a:cubicBezTo>
                  <a:pt x="1009286" y="1815374"/>
                  <a:pt x="1024998" y="1826766"/>
                  <a:pt x="1030514" y="1843315"/>
                </a:cubicBezTo>
                <a:cubicBezTo>
                  <a:pt x="1042507" y="1879294"/>
                  <a:pt x="1043573" y="1987002"/>
                  <a:pt x="1074057" y="2017486"/>
                </a:cubicBezTo>
                <a:lnTo>
                  <a:pt x="1117600" y="2061029"/>
                </a:lnTo>
                <a:cubicBezTo>
                  <a:pt x="1122438" y="2075543"/>
                  <a:pt x="1125272" y="2090888"/>
                  <a:pt x="1132114" y="2104572"/>
                </a:cubicBezTo>
                <a:cubicBezTo>
                  <a:pt x="1139915" y="2120174"/>
                  <a:pt x="1157220" y="2131118"/>
                  <a:pt x="1161143" y="2148115"/>
                </a:cubicBezTo>
                <a:cubicBezTo>
                  <a:pt x="1172076" y="2195492"/>
                  <a:pt x="1159041" y="2247562"/>
                  <a:pt x="1175657" y="2293257"/>
                </a:cubicBezTo>
                <a:cubicBezTo>
                  <a:pt x="1180885" y="2307635"/>
                  <a:pt x="1205826" y="2300342"/>
                  <a:pt x="1219200" y="2307772"/>
                </a:cubicBezTo>
                <a:cubicBezTo>
                  <a:pt x="1249697" y="2324715"/>
                  <a:pt x="1306285" y="2365829"/>
                  <a:pt x="1306285" y="2365829"/>
                </a:cubicBezTo>
                <a:cubicBezTo>
                  <a:pt x="1352287" y="2434831"/>
                  <a:pt x="1329799" y="2392825"/>
                  <a:pt x="1364343" y="2496457"/>
                </a:cubicBezTo>
                <a:cubicBezTo>
                  <a:pt x="1369181" y="2510971"/>
                  <a:pt x="1375857" y="2524998"/>
                  <a:pt x="1378857" y="2540000"/>
                </a:cubicBezTo>
                <a:cubicBezTo>
                  <a:pt x="1380950" y="2550467"/>
                  <a:pt x="1395134" y="2636988"/>
                  <a:pt x="1407885" y="2656115"/>
                </a:cubicBezTo>
                <a:cubicBezTo>
                  <a:pt x="1419271" y="2673194"/>
                  <a:pt x="1436914" y="2685143"/>
                  <a:pt x="1451428" y="2699657"/>
                </a:cubicBezTo>
                <a:cubicBezTo>
                  <a:pt x="1485456" y="2801736"/>
                  <a:pt x="1448051" y="2679389"/>
                  <a:pt x="1480457" y="2873829"/>
                </a:cubicBezTo>
                <a:cubicBezTo>
                  <a:pt x="1487134" y="2913891"/>
                  <a:pt x="1501710" y="2927480"/>
                  <a:pt x="1524000" y="2960915"/>
                </a:cubicBezTo>
                <a:cubicBezTo>
                  <a:pt x="1534353" y="2991975"/>
                  <a:pt x="1541061" y="3024828"/>
                  <a:pt x="1567543" y="3048000"/>
                </a:cubicBezTo>
                <a:cubicBezTo>
                  <a:pt x="1593799" y="3070974"/>
                  <a:pt x="1654628" y="3106057"/>
                  <a:pt x="1654628" y="3106057"/>
                </a:cubicBezTo>
                <a:cubicBezTo>
                  <a:pt x="1664304" y="3120571"/>
                  <a:pt x="1675856" y="3133998"/>
                  <a:pt x="1683657" y="3149600"/>
                </a:cubicBezTo>
                <a:cubicBezTo>
                  <a:pt x="1715778" y="3213842"/>
                  <a:pt x="1670449" y="3212930"/>
                  <a:pt x="1785257" y="3251200"/>
                </a:cubicBezTo>
                <a:lnTo>
                  <a:pt x="1872343" y="3280229"/>
                </a:lnTo>
                <a:cubicBezTo>
                  <a:pt x="1983914" y="3354610"/>
                  <a:pt x="1925015" y="3344021"/>
                  <a:pt x="2046514" y="3323772"/>
                </a:cubicBezTo>
                <a:cubicBezTo>
                  <a:pt x="2061028" y="3314096"/>
                  <a:pt x="2081402" y="3309889"/>
                  <a:pt x="2090057" y="3294743"/>
                </a:cubicBezTo>
                <a:cubicBezTo>
                  <a:pt x="2161798" y="3169195"/>
                  <a:pt x="2045998" y="3261221"/>
                  <a:pt x="2148114" y="3193143"/>
                </a:cubicBezTo>
                <a:cubicBezTo>
                  <a:pt x="2152952" y="3168953"/>
                  <a:pt x="2156137" y="3144372"/>
                  <a:pt x="2162628" y="3120572"/>
                </a:cubicBezTo>
                <a:cubicBezTo>
                  <a:pt x="2170679" y="3091051"/>
                  <a:pt x="2191657" y="3033486"/>
                  <a:pt x="2191657" y="3033486"/>
                </a:cubicBezTo>
                <a:cubicBezTo>
                  <a:pt x="2186819" y="2994781"/>
                  <a:pt x="2184121" y="2955749"/>
                  <a:pt x="2177143" y="2917372"/>
                </a:cubicBezTo>
                <a:cubicBezTo>
                  <a:pt x="2174406" y="2902319"/>
                  <a:pt x="2164150" y="2889053"/>
                  <a:pt x="2162628" y="2873829"/>
                </a:cubicBezTo>
                <a:cubicBezTo>
                  <a:pt x="2154430" y="2791848"/>
                  <a:pt x="2164272" y="2707876"/>
                  <a:pt x="2148114" y="2627086"/>
                </a:cubicBezTo>
                <a:cubicBezTo>
                  <a:pt x="2144088" y="2606958"/>
                  <a:pt x="2117712" y="2599312"/>
                  <a:pt x="2104571" y="2583543"/>
                </a:cubicBezTo>
                <a:cubicBezTo>
                  <a:pt x="2093404" y="2570142"/>
                  <a:pt x="2085219" y="2554514"/>
                  <a:pt x="2075543" y="2540000"/>
                </a:cubicBezTo>
                <a:cubicBezTo>
                  <a:pt x="2046031" y="2392447"/>
                  <a:pt x="2076269" y="2528031"/>
                  <a:pt x="2046514" y="2423886"/>
                </a:cubicBezTo>
                <a:cubicBezTo>
                  <a:pt x="2041034" y="2404706"/>
                  <a:pt x="2037732" y="2384936"/>
                  <a:pt x="2032000" y="2365829"/>
                </a:cubicBezTo>
                <a:cubicBezTo>
                  <a:pt x="2023207" y="2336521"/>
                  <a:pt x="2028431" y="2295716"/>
                  <a:pt x="2002971" y="2278743"/>
                </a:cubicBezTo>
                <a:lnTo>
                  <a:pt x="1959428" y="2249715"/>
                </a:lnTo>
                <a:cubicBezTo>
                  <a:pt x="1937657" y="2184401"/>
                  <a:pt x="1914676" y="2173514"/>
                  <a:pt x="1944914" y="2119086"/>
                </a:cubicBezTo>
                <a:cubicBezTo>
                  <a:pt x="1961857" y="2088588"/>
                  <a:pt x="2002971" y="2032000"/>
                  <a:pt x="2002971" y="2032000"/>
                </a:cubicBezTo>
                <a:cubicBezTo>
                  <a:pt x="1998133" y="1940076"/>
                  <a:pt x="1999424" y="1847624"/>
                  <a:pt x="1988457" y="1756229"/>
                </a:cubicBezTo>
                <a:cubicBezTo>
                  <a:pt x="1984811" y="1725848"/>
                  <a:pt x="1969104" y="1698172"/>
                  <a:pt x="1959428" y="1669143"/>
                </a:cubicBezTo>
                <a:lnTo>
                  <a:pt x="1944914" y="1625600"/>
                </a:lnTo>
                <a:lnTo>
                  <a:pt x="1930400" y="1582057"/>
                </a:lnTo>
                <a:cubicBezTo>
                  <a:pt x="1925562" y="1480457"/>
                  <a:pt x="1915885" y="1378972"/>
                  <a:pt x="1915885" y="1277257"/>
                </a:cubicBezTo>
                <a:cubicBezTo>
                  <a:pt x="1915885" y="1098201"/>
                  <a:pt x="1962673" y="1098737"/>
                  <a:pt x="1915885" y="899886"/>
                </a:cubicBezTo>
                <a:cubicBezTo>
                  <a:pt x="1911890" y="882906"/>
                  <a:pt x="1886857" y="880533"/>
                  <a:pt x="1872343" y="870857"/>
                </a:cubicBezTo>
                <a:cubicBezTo>
                  <a:pt x="1862667" y="856343"/>
                  <a:pt x="1845050" y="844672"/>
                  <a:pt x="1843314" y="827315"/>
                </a:cubicBezTo>
                <a:cubicBezTo>
                  <a:pt x="1835192" y="746100"/>
                  <a:pt x="1851651" y="734980"/>
                  <a:pt x="1886857" y="682172"/>
                </a:cubicBezTo>
                <a:cubicBezTo>
                  <a:pt x="1891695" y="667658"/>
                  <a:pt x="1893941" y="652003"/>
                  <a:pt x="1901371" y="638629"/>
                </a:cubicBezTo>
                <a:cubicBezTo>
                  <a:pt x="1984553" y="488900"/>
                  <a:pt x="1941098" y="606529"/>
                  <a:pt x="1973943" y="508000"/>
                </a:cubicBezTo>
                <a:cubicBezTo>
                  <a:pt x="1978781" y="387048"/>
                  <a:pt x="1988457" y="266192"/>
                  <a:pt x="1988457" y="145143"/>
                </a:cubicBezTo>
                <a:cubicBezTo>
                  <a:pt x="1988457" y="120474"/>
                  <a:pt x="1982605" y="95671"/>
                  <a:pt x="1973943" y="72572"/>
                </a:cubicBezTo>
                <a:cubicBezTo>
                  <a:pt x="1962957" y="43277"/>
                  <a:pt x="1937140" y="21255"/>
                  <a:pt x="1915885" y="0"/>
                </a:cubicBezTo>
              </a:path>
            </a:pathLst>
          </a:custGeom>
          <a:solidFill>
            <a:schemeClr val="tx1">
              <a:lumMod val="50000"/>
              <a:lumOff val="50000"/>
              <a:alpha val="73000"/>
            </a:schemeClr>
          </a:solidFill>
          <a:ln>
            <a:noFill/>
          </a:ln>
          <a:effectLst>
            <a:softEdge rad="316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任意多边形 1"/>
          <p:cNvSpPr/>
          <p:nvPr/>
        </p:nvSpPr>
        <p:spPr>
          <a:xfrm>
            <a:off x="5040" y="182880"/>
            <a:ext cx="605880" cy="581400"/>
          </a:xfrm>
          <a:custGeom>
            <a:avLst/>
            <a:gdLst>
              <a:gd name="textAreaLeft" fmla="*/ 0 w 605880"/>
              <a:gd name="textAreaRight" fmla="*/ 606240 w 605880"/>
              <a:gd name="textAreaTop" fmla="*/ 0 h 581400"/>
              <a:gd name="textAreaBottom" fmla="*/ 581760 h 581400"/>
            </a:gdLst>
            <a:ahLst/>
            <a:rect l="textAreaLeft" t="textAreaTop" r="textAreaRight" b="textAreaBottom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任意多边形 2"/>
          <p:cNvSpPr/>
          <p:nvPr/>
        </p:nvSpPr>
        <p:spPr>
          <a:xfrm>
            <a:off x="539640" y="548640"/>
            <a:ext cx="1777680" cy="1306800"/>
          </a:xfrm>
          <a:custGeom>
            <a:avLst/>
            <a:gdLst>
              <a:gd name="textAreaLeft" fmla="*/ 0 w 1777680"/>
              <a:gd name="textAreaRight" fmla="*/ 1778040 w 1777680"/>
              <a:gd name="textAreaTop" fmla="*/ 0 h 1306800"/>
              <a:gd name="textAreaBottom" fmla="*/ 1307160 h 1306800"/>
            </a:gdLst>
            <a:ahLst/>
            <a:rect l="textAreaLeft" t="textAreaTop" r="textAreaRight" b="textAreaBottom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任意多边形 4"/>
          <p:cNvSpPr/>
          <p:nvPr/>
        </p:nvSpPr>
        <p:spPr>
          <a:xfrm>
            <a:off x="755640" y="717840"/>
            <a:ext cx="144720" cy="451080"/>
          </a:xfrm>
          <a:custGeom>
            <a:avLst/>
            <a:gdLst>
              <a:gd name="textAreaLeft" fmla="*/ 0 w 144720"/>
              <a:gd name="textAreaRight" fmla="*/ 145080 w 14472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857160" y="1124640"/>
            <a:ext cx="348120" cy="638280"/>
          </a:xfrm>
          <a:custGeom>
            <a:avLst/>
            <a:gdLst>
              <a:gd name="textAreaLeft" fmla="*/ 0 w 348120"/>
              <a:gd name="textAreaRight" fmla="*/ 348480 w 3481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1187640" y="1763280"/>
            <a:ext cx="819720" cy="559080"/>
          </a:xfrm>
          <a:custGeom>
            <a:avLst/>
            <a:gdLst>
              <a:gd name="textAreaLeft" fmla="*/ 0 w 819720"/>
              <a:gd name="textAreaRight" fmla="*/ 820080 w 81972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任意多边形 8"/>
          <p:cNvSpPr/>
          <p:nvPr/>
        </p:nvSpPr>
        <p:spPr>
          <a:xfrm>
            <a:off x="2291400" y="1753920"/>
            <a:ext cx="255240" cy="203400"/>
          </a:xfrm>
          <a:custGeom>
            <a:avLst/>
            <a:gdLst>
              <a:gd name="textAreaLeft" fmla="*/ 0 w 255240"/>
              <a:gd name="textAreaRight" fmla="*/ 255600 w 2552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任意多边形 10"/>
          <p:cNvSpPr/>
          <p:nvPr/>
        </p:nvSpPr>
        <p:spPr>
          <a:xfrm>
            <a:off x="2483640" y="1772640"/>
            <a:ext cx="584280" cy="359640"/>
          </a:xfrm>
          <a:custGeom>
            <a:avLst/>
            <a:gdLst>
              <a:gd name="textAreaLeft" fmla="*/ 0 w 584280"/>
              <a:gd name="textAreaRight" fmla="*/ 584640 w 58428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任意多边形 11"/>
          <p:cNvSpPr/>
          <p:nvPr/>
        </p:nvSpPr>
        <p:spPr>
          <a:xfrm>
            <a:off x="2915640" y="2043000"/>
            <a:ext cx="642600" cy="315720"/>
          </a:xfrm>
          <a:custGeom>
            <a:avLst/>
            <a:gdLst>
              <a:gd name="textAreaLeft" fmla="*/ 0 w 642600"/>
              <a:gd name="textAreaRight" fmla="*/ 642960 w 642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任意多边形 12"/>
          <p:cNvSpPr/>
          <p:nvPr/>
        </p:nvSpPr>
        <p:spPr>
          <a:xfrm>
            <a:off x="3261240" y="2240280"/>
            <a:ext cx="594720" cy="236880"/>
          </a:xfrm>
          <a:custGeom>
            <a:avLst/>
            <a:gdLst>
              <a:gd name="textAreaLeft" fmla="*/ 0 w 594720"/>
              <a:gd name="textAreaRight" fmla="*/ 595080 w 594720"/>
              <a:gd name="textAreaTop" fmla="*/ 0 h 236880"/>
              <a:gd name="textAreaBottom" fmla="*/ 237240 h 236880"/>
            </a:gdLst>
            <a:ahLst/>
            <a:rect l="textAreaLeft" t="textAreaTop" r="textAreaRight" b="textAreaBottom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任意多边形 13"/>
          <p:cNvSpPr/>
          <p:nvPr/>
        </p:nvSpPr>
        <p:spPr>
          <a:xfrm>
            <a:off x="2969640" y="1699560"/>
            <a:ext cx="479160" cy="257400"/>
          </a:xfrm>
          <a:custGeom>
            <a:avLst/>
            <a:gdLst>
              <a:gd name="textAreaLeft" fmla="*/ 0 w 479160"/>
              <a:gd name="textAreaRight" fmla="*/ 479520 w 4791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任意多边形 14"/>
          <p:cNvSpPr/>
          <p:nvPr/>
        </p:nvSpPr>
        <p:spPr>
          <a:xfrm>
            <a:off x="1734840" y="924480"/>
            <a:ext cx="272880" cy="400320"/>
          </a:xfrm>
          <a:custGeom>
            <a:avLst/>
            <a:gdLst>
              <a:gd name="textAreaLeft" fmla="*/ 0 w 272880"/>
              <a:gd name="textAreaRight" fmla="*/ 273240 w 27288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任意多边形 15"/>
          <p:cNvSpPr/>
          <p:nvPr/>
        </p:nvSpPr>
        <p:spPr>
          <a:xfrm>
            <a:off x="2022480" y="912240"/>
            <a:ext cx="525960" cy="196560"/>
          </a:xfrm>
          <a:custGeom>
            <a:avLst/>
            <a:gdLst>
              <a:gd name="textAreaLeft" fmla="*/ 0 w 525960"/>
              <a:gd name="textAreaRight" fmla="*/ 526320 w 5259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任意多边形 16"/>
          <p:cNvSpPr/>
          <p:nvPr/>
        </p:nvSpPr>
        <p:spPr>
          <a:xfrm>
            <a:off x="2411640" y="509760"/>
            <a:ext cx="798480" cy="524160"/>
          </a:xfrm>
          <a:custGeom>
            <a:avLst/>
            <a:gdLst>
              <a:gd name="textAreaLeft" fmla="*/ 0 w 798480"/>
              <a:gd name="textAreaRight" fmla="*/ 798840 w 79848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任意多边形 17"/>
          <p:cNvSpPr/>
          <p:nvPr/>
        </p:nvSpPr>
        <p:spPr>
          <a:xfrm>
            <a:off x="3162960" y="180000"/>
            <a:ext cx="320040" cy="329400"/>
          </a:xfrm>
          <a:custGeom>
            <a:avLst/>
            <a:gdLst>
              <a:gd name="textAreaLeft" fmla="*/ 0 w 320040"/>
              <a:gd name="textAreaRight" fmla="*/ 320400 w 320040"/>
              <a:gd name="textAreaTop" fmla="*/ 0 h 329400"/>
              <a:gd name="textAreaBottom" fmla="*/ 329760 h 329400"/>
            </a:gdLst>
            <a:ahLst/>
            <a:rect l="textAreaLeft" t="textAreaTop" r="textAreaRight" b="textAreaBottom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任意多边形 18"/>
          <p:cNvSpPr/>
          <p:nvPr/>
        </p:nvSpPr>
        <p:spPr>
          <a:xfrm>
            <a:off x="3564000" y="1700640"/>
            <a:ext cx="437760" cy="195120"/>
          </a:xfrm>
          <a:custGeom>
            <a:avLst/>
            <a:gdLst>
              <a:gd name="textAreaLeft" fmla="*/ 0 w 437760"/>
              <a:gd name="textAreaRight" fmla="*/ 438120 w 437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任意多边形 19"/>
          <p:cNvSpPr/>
          <p:nvPr/>
        </p:nvSpPr>
        <p:spPr>
          <a:xfrm>
            <a:off x="3822120" y="958680"/>
            <a:ext cx="359280" cy="740880"/>
          </a:xfrm>
          <a:custGeom>
            <a:avLst/>
            <a:gdLst>
              <a:gd name="textAreaLeft" fmla="*/ 0 w 359280"/>
              <a:gd name="textAreaRight" fmla="*/ 359640 w 359280"/>
              <a:gd name="textAreaTop" fmla="*/ 0 h 740880"/>
              <a:gd name="textAreaBottom" fmla="*/ 741240 h 740880"/>
            </a:gdLst>
            <a:ahLst/>
            <a:rect l="textAreaLeft" t="textAreaTop" r="textAreaRight" b="textAreaBottom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>
              <a:gd name="textAreaLeft" fmla="*/ 0 w 301320"/>
              <a:gd name="textAreaRight" fmla="*/ 301680 w 3013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5" name="组合 24"/>
          <p:cNvGrpSpPr/>
          <p:nvPr/>
        </p:nvGrpSpPr>
        <p:grpSpPr>
          <a:xfrm>
            <a:off x="2007720" y="356040"/>
            <a:ext cx="135000" cy="235440"/>
            <a:chOff x="2007720" y="356040"/>
            <a:chExt cx="135000" cy="235440"/>
          </a:xfrm>
        </p:grpSpPr>
        <p:sp>
          <p:nvSpPr>
            <p:cNvPr id="116" name="任意多边形 22"/>
            <p:cNvSpPr/>
            <p:nvPr/>
          </p:nvSpPr>
          <p:spPr>
            <a:xfrm>
              <a:off x="2007720" y="356040"/>
              <a:ext cx="135000" cy="2354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>
              <a:solidFill>
                <a:srgbClr val="1f1a1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任意多边形 23"/>
            <p:cNvSpPr/>
            <p:nvPr/>
          </p:nvSpPr>
          <p:spPr>
            <a:xfrm>
              <a:off x="2007720" y="447840"/>
              <a:ext cx="75960" cy="932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8" name="任意多边形 25"/>
          <p:cNvSpPr/>
          <p:nvPr/>
        </p:nvSpPr>
        <p:spPr>
          <a:xfrm>
            <a:off x="1979640" y="398880"/>
            <a:ext cx="419400" cy="509400"/>
          </a:xfrm>
          <a:custGeom>
            <a:avLst/>
            <a:gdLst>
              <a:gd name="textAreaLeft" fmla="*/ 0 w 419400"/>
              <a:gd name="textAreaRight" fmla="*/ 419760 w 41940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任意多边形 26"/>
          <p:cNvSpPr/>
          <p:nvPr/>
        </p:nvSpPr>
        <p:spPr>
          <a:xfrm>
            <a:off x="2188440" y="344520"/>
            <a:ext cx="210600" cy="128880"/>
          </a:xfrm>
          <a:custGeom>
            <a:avLst/>
            <a:gdLst>
              <a:gd name="textAreaLeft" fmla="*/ 0 w 210600"/>
              <a:gd name="textAreaRight" fmla="*/ 210960 w 2106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任意多边形 27"/>
          <p:cNvSpPr/>
          <p:nvPr/>
        </p:nvSpPr>
        <p:spPr>
          <a:xfrm>
            <a:off x="1909440" y="442080"/>
            <a:ext cx="142200" cy="189720"/>
          </a:xfrm>
          <a:custGeom>
            <a:avLst/>
            <a:gdLst>
              <a:gd name="textAreaLeft" fmla="*/ 0 w 142200"/>
              <a:gd name="textAreaRight" fmla="*/ 142560 w 142200"/>
              <a:gd name="textAreaTop" fmla="*/ 0 h 189720"/>
              <a:gd name="textAreaBottom" fmla="*/ 190080 h 189720"/>
            </a:gdLst>
            <a:ahLst/>
            <a:rect l="textAreaLeft" t="textAreaTop" r="textAreaRight" b="textAreaBottom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59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任意多边形 30"/>
          <p:cNvSpPr/>
          <p:nvPr/>
        </p:nvSpPr>
        <p:spPr>
          <a:xfrm>
            <a:off x="1989000" y="493200"/>
            <a:ext cx="113760" cy="60120"/>
          </a:xfrm>
          <a:custGeom>
            <a:avLst/>
            <a:gdLst>
              <a:gd name="textAreaLeft" fmla="*/ 0 w 113760"/>
              <a:gd name="textAreaRight" fmla="*/ 114120 w 1137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任意多边形 31"/>
          <p:cNvSpPr/>
          <p:nvPr/>
        </p:nvSpPr>
        <p:spPr>
          <a:xfrm>
            <a:off x="1813680" y="374760"/>
            <a:ext cx="104400" cy="29880"/>
          </a:xfrm>
          <a:custGeom>
            <a:avLst/>
            <a:gdLst>
              <a:gd name="textAreaLeft" fmla="*/ 0 w 104400"/>
              <a:gd name="textAreaRight" fmla="*/ 104760 w 1044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任意多边形 33"/>
          <p:cNvSpPr/>
          <p:nvPr/>
        </p:nvSpPr>
        <p:spPr>
          <a:xfrm>
            <a:off x="1948680" y="404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任意多边形 34"/>
          <p:cNvSpPr/>
          <p:nvPr/>
        </p:nvSpPr>
        <p:spPr>
          <a:xfrm>
            <a:off x="1813680" y="298080"/>
            <a:ext cx="119520" cy="91080"/>
          </a:xfrm>
          <a:custGeom>
            <a:avLst/>
            <a:gdLst>
              <a:gd name="textAreaLeft" fmla="*/ 0 w 119520"/>
              <a:gd name="textAreaRight" fmla="*/ 119880 w 119520"/>
              <a:gd name="textAreaTop" fmla="*/ 0 h 91080"/>
              <a:gd name="textAreaBottom" fmla="*/ 91440 h 91080"/>
            </a:gdLst>
            <a:ahLst/>
            <a:rect l="textAreaLeft" t="textAreaTop" r="textAreaRight" b="textAreaBottom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任意多边形 35"/>
          <p:cNvSpPr/>
          <p:nvPr/>
        </p:nvSpPr>
        <p:spPr>
          <a:xfrm>
            <a:off x="1888920" y="270000"/>
            <a:ext cx="59760" cy="119520"/>
          </a:xfrm>
          <a:custGeom>
            <a:avLst/>
            <a:gdLst>
              <a:gd name="textAreaLeft" fmla="*/ 0 w 59760"/>
              <a:gd name="textAreaRight" fmla="*/ 60120 w 59760"/>
              <a:gd name="textAreaTop" fmla="*/ 0 h 119520"/>
              <a:gd name="textAreaBottom" fmla="*/ 119880 h 119520"/>
            </a:gdLst>
            <a:ahLst/>
            <a:rect l="textAreaLeft" t="textAreaTop" r="textAreaRight" b="textAreaBottom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任意多边形 36"/>
          <p:cNvSpPr/>
          <p:nvPr/>
        </p:nvSpPr>
        <p:spPr>
          <a:xfrm>
            <a:off x="1979640" y="254880"/>
            <a:ext cx="14760" cy="149400"/>
          </a:xfrm>
          <a:custGeom>
            <a:avLst/>
            <a:gdLst>
              <a:gd name="textAreaLeft" fmla="*/ 0 w 14760"/>
              <a:gd name="textAreaRight" fmla="*/ 15120 w 147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任意多边形 37"/>
          <p:cNvSpPr/>
          <p:nvPr/>
        </p:nvSpPr>
        <p:spPr>
          <a:xfrm>
            <a:off x="1976760" y="269640"/>
            <a:ext cx="74520" cy="134640"/>
          </a:xfrm>
          <a:custGeom>
            <a:avLst/>
            <a:gdLst>
              <a:gd name="textAreaLeft" fmla="*/ 0 w 74520"/>
              <a:gd name="textAreaRight" fmla="*/ 74880 w 7452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任意多边形 38"/>
          <p:cNvSpPr/>
          <p:nvPr/>
        </p:nvSpPr>
        <p:spPr>
          <a:xfrm>
            <a:off x="2051640" y="297360"/>
            <a:ext cx="134640" cy="106920"/>
          </a:xfrm>
          <a:custGeom>
            <a:avLst/>
            <a:gdLst>
              <a:gd name="textAreaLeft" fmla="*/ 0 w 134640"/>
              <a:gd name="textAreaRight" fmla="*/ 135000 w 134640"/>
              <a:gd name="textAreaTop" fmla="*/ 0 h 106920"/>
              <a:gd name="textAreaBottom" fmla="*/ 107280 h 106920"/>
            </a:gdLst>
            <a:ahLst/>
            <a:rect l="textAreaLeft" t="textAreaTop" r="textAreaRight" b="textAreaBottom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任意多边形 40"/>
          <p:cNvSpPr/>
          <p:nvPr/>
        </p:nvSpPr>
        <p:spPr>
          <a:xfrm>
            <a:off x="1873800" y="809640"/>
            <a:ext cx="211320" cy="194400"/>
          </a:xfrm>
          <a:custGeom>
            <a:avLst/>
            <a:gdLst>
              <a:gd name="textAreaLeft" fmla="*/ 0 w 211320"/>
              <a:gd name="textAreaRight" fmla="*/ 211680 w 21132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59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任意多边形 41"/>
          <p:cNvSpPr/>
          <p:nvPr/>
        </p:nvSpPr>
        <p:spPr>
          <a:xfrm>
            <a:off x="2123640" y="509760"/>
            <a:ext cx="135720" cy="157680"/>
          </a:xfrm>
          <a:custGeom>
            <a:avLst/>
            <a:gdLst>
              <a:gd name="textAreaLeft" fmla="*/ 0 w 135720"/>
              <a:gd name="textAreaRight" fmla="*/ 136080 w 135720"/>
              <a:gd name="textAreaTop" fmla="*/ 0 h 157680"/>
              <a:gd name="textAreaBottom" fmla="*/ 158040 h 157680"/>
            </a:gdLst>
            <a:ahLst/>
            <a:rect l="textAreaLeft" t="textAreaTop" r="textAreaRight" b="textAreaBottom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59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任意多边形 42"/>
          <p:cNvSpPr/>
          <p:nvPr/>
        </p:nvSpPr>
        <p:spPr>
          <a:xfrm>
            <a:off x="2141280" y="548640"/>
            <a:ext cx="113760" cy="60120"/>
          </a:xfrm>
          <a:custGeom>
            <a:avLst/>
            <a:gdLst>
              <a:gd name="textAreaLeft" fmla="*/ 0 w 113760"/>
              <a:gd name="textAreaRight" fmla="*/ 114120 w 1137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任意多边形 43"/>
          <p:cNvSpPr/>
          <p:nvPr/>
        </p:nvSpPr>
        <p:spPr>
          <a:xfrm>
            <a:off x="1828800" y="1244160"/>
            <a:ext cx="198360" cy="524160"/>
          </a:xfrm>
          <a:custGeom>
            <a:avLst/>
            <a:gdLst>
              <a:gd name="textAreaLeft" fmla="*/ 0 w 198360"/>
              <a:gd name="textAreaRight" fmla="*/ 198720 w 19836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任意多边形 44"/>
          <p:cNvSpPr/>
          <p:nvPr/>
        </p:nvSpPr>
        <p:spPr>
          <a:xfrm>
            <a:off x="1064160" y="1528920"/>
            <a:ext cx="359280" cy="59760"/>
          </a:xfrm>
          <a:custGeom>
            <a:avLst/>
            <a:gdLst>
              <a:gd name="textAreaLeft" fmla="*/ 0 w 359280"/>
              <a:gd name="textAreaRight" fmla="*/ 359640 w 359280"/>
              <a:gd name="textAreaTop" fmla="*/ 0 h 59760"/>
              <a:gd name="textAreaBottom" fmla="*/ 60120 h 59760"/>
            </a:gdLst>
            <a:ahLst/>
            <a:rect l="textAreaLeft" t="textAreaTop" r="textAreaRight" b="textAreaBottom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任意多边形 45"/>
          <p:cNvSpPr/>
          <p:nvPr/>
        </p:nvSpPr>
        <p:spPr>
          <a:xfrm>
            <a:off x="1243440" y="1506600"/>
            <a:ext cx="45360" cy="82080"/>
          </a:xfrm>
          <a:custGeom>
            <a:avLst/>
            <a:gdLst>
              <a:gd name="textAreaLeft" fmla="*/ 0 w 45360"/>
              <a:gd name="textAreaRight" fmla="*/ 45720 w 45360"/>
              <a:gd name="textAreaTop" fmla="*/ 0 h 82080"/>
              <a:gd name="textAreaBottom" fmla="*/ 82440 h 82080"/>
            </a:gdLst>
            <a:ahLst/>
            <a:rect l="textAreaLeft" t="textAreaTop" r="textAreaRight" b="textAreaBottom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任意多边形 46"/>
          <p:cNvSpPr/>
          <p:nvPr/>
        </p:nvSpPr>
        <p:spPr>
          <a:xfrm>
            <a:off x="1319040" y="1423080"/>
            <a:ext cx="149760" cy="90720"/>
          </a:xfrm>
          <a:custGeom>
            <a:avLst/>
            <a:gdLst>
              <a:gd name="textAreaLeft" fmla="*/ 0 w 149760"/>
              <a:gd name="textAreaRight" fmla="*/ 150120 w 14976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任意多边形 47"/>
          <p:cNvSpPr/>
          <p:nvPr/>
        </p:nvSpPr>
        <p:spPr>
          <a:xfrm>
            <a:off x="1349280" y="157392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任意多边形 48"/>
          <p:cNvSpPr/>
          <p:nvPr/>
        </p:nvSpPr>
        <p:spPr>
          <a:xfrm>
            <a:off x="1313640" y="1528920"/>
            <a:ext cx="80280" cy="52920"/>
          </a:xfrm>
          <a:custGeom>
            <a:avLst/>
            <a:gdLst>
              <a:gd name="textAreaLeft" fmla="*/ 0 w 80280"/>
              <a:gd name="textAreaRight" fmla="*/ 80640 w 80280"/>
              <a:gd name="textAreaTop" fmla="*/ 0 h 52920"/>
              <a:gd name="textAreaBottom" fmla="*/ 53280 h 52920"/>
            </a:gdLst>
            <a:ahLst/>
            <a:rect l="textAreaLeft" t="textAreaTop" r="textAreaRight" b="textAreaBottom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8280" bIns="8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任意多边形 49"/>
          <p:cNvSpPr/>
          <p:nvPr/>
        </p:nvSpPr>
        <p:spPr>
          <a:xfrm>
            <a:off x="1289160" y="166392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任意多边形 50"/>
          <p:cNvSpPr/>
          <p:nvPr/>
        </p:nvSpPr>
        <p:spPr>
          <a:xfrm>
            <a:off x="1289160" y="1634040"/>
            <a:ext cx="119520" cy="59760"/>
          </a:xfrm>
          <a:custGeom>
            <a:avLst/>
            <a:gdLst>
              <a:gd name="textAreaLeft" fmla="*/ 0 w 119520"/>
              <a:gd name="textAreaRight" fmla="*/ 119880 w 119520"/>
              <a:gd name="textAreaTop" fmla="*/ 0 h 59760"/>
              <a:gd name="textAreaBottom" fmla="*/ 60120 h 59760"/>
            </a:gdLst>
            <a:ahLst/>
            <a:rect l="textAreaLeft" t="textAreaTop" r="textAreaRight" b="textAreaBottom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任意多边形 51"/>
          <p:cNvSpPr/>
          <p:nvPr/>
        </p:nvSpPr>
        <p:spPr>
          <a:xfrm>
            <a:off x="1397880" y="1628640"/>
            <a:ext cx="149400" cy="45360"/>
          </a:xfrm>
          <a:custGeom>
            <a:avLst/>
            <a:gdLst>
              <a:gd name="textAreaLeft" fmla="*/ 0 w 149400"/>
              <a:gd name="textAreaRight" fmla="*/ 149760 w 14940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任意多边形 52"/>
          <p:cNvSpPr/>
          <p:nvPr/>
        </p:nvSpPr>
        <p:spPr>
          <a:xfrm>
            <a:off x="1424160" y="1935360"/>
            <a:ext cx="241560" cy="197280"/>
          </a:xfrm>
          <a:custGeom>
            <a:avLst/>
            <a:gdLst>
              <a:gd name="textAreaLeft" fmla="*/ 0 w 241560"/>
              <a:gd name="textAreaRight" fmla="*/ 241920 w 241560"/>
              <a:gd name="textAreaTop" fmla="*/ 0 h 197280"/>
              <a:gd name="textAreaBottom" fmla="*/ 197640 h 197280"/>
            </a:gdLst>
            <a:ahLst/>
            <a:rect l="textAreaLeft" t="textAreaTop" r="textAreaRight" b="textAreaBottom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任意多边形 55"/>
          <p:cNvSpPr/>
          <p:nvPr/>
        </p:nvSpPr>
        <p:spPr>
          <a:xfrm>
            <a:off x="1907640" y="2128680"/>
            <a:ext cx="306360" cy="209520"/>
          </a:xfrm>
          <a:custGeom>
            <a:avLst/>
            <a:gdLst>
              <a:gd name="textAreaLeft" fmla="*/ 0 w 306360"/>
              <a:gd name="textAreaRight" fmla="*/ 306720 w 3063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78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任意多边形 56"/>
          <p:cNvSpPr/>
          <p:nvPr/>
        </p:nvSpPr>
        <p:spPr>
          <a:xfrm>
            <a:off x="2054880" y="2169000"/>
            <a:ext cx="68400" cy="179640"/>
          </a:xfrm>
          <a:custGeom>
            <a:avLst/>
            <a:gdLst>
              <a:gd name="textAreaLeft" fmla="*/ 0 w 68400"/>
              <a:gd name="textAreaRight" fmla="*/ 68760 w 6840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525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任意多边形 59"/>
          <p:cNvSpPr/>
          <p:nvPr/>
        </p:nvSpPr>
        <p:spPr>
          <a:xfrm>
            <a:off x="1907640" y="250452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任意多边形 60"/>
          <p:cNvSpPr/>
          <p:nvPr/>
        </p:nvSpPr>
        <p:spPr>
          <a:xfrm>
            <a:off x="1597680" y="2421000"/>
            <a:ext cx="149400" cy="135000"/>
          </a:xfrm>
          <a:custGeom>
            <a:avLst/>
            <a:gdLst>
              <a:gd name="textAreaLeft" fmla="*/ 0 w 149400"/>
              <a:gd name="textAreaRight" fmla="*/ 149760 w 14940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任意多边形 61"/>
          <p:cNvSpPr/>
          <p:nvPr/>
        </p:nvSpPr>
        <p:spPr>
          <a:xfrm>
            <a:off x="1547640" y="2431440"/>
            <a:ext cx="46080" cy="60120"/>
          </a:xfrm>
          <a:custGeom>
            <a:avLst/>
            <a:gdLst>
              <a:gd name="textAreaLeft" fmla="*/ 0 w 46080"/>
              <a:gd name="textAreaRight" fmla="*/ 46440 w 460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任意多边形 62"/>
          <p:cNvSpPr/>
          <p:nvPr/>
        </p:nvSpPr>
        <p:spPr>
          <a:xfrm rot="1348800">
            <a:off x="3485520" y="1179720"/>
            <a:ext cx="159840" cy="1108080"/>
          </a:xfrm>
          <a:custGeom>
            <a:avLst/>
            <a:gdLst>
              <a:gd name="textAreaLeft" fmla="*/ 0 w 159840"/>
              <a:gd name="textAreaRight" fmla="*/ 160200 w 15984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任意多边形 63"/>
          <p:cNvSpPr/>
          <p:nvPr/>
        </p:nvSpPr>
        <p:spPr>
          <a:xfrm>
            <a:off x="2713320" y="227880"/>
            <a:ext cx="134640" cy="464400"/>
          </a:xfrm>
          <a:custGeom>
            <a:avLst/>
            <a:gdLst>
              <a:gd name="textAreaLeft" fmla="*/ 0 w 134640"/>
              <a:gd name="textAreaRight" fmla="*/ 135000 w 134640"/>
              <a:gd name="textAreaTop" fmla="*/ 0 h 464400"/>
              <a:gd name="textAreaBottom" fmla="*/ 464760 h 464400"/>
            </a:gdLst>
            <a:ahLst/>
            <a:rect l="textAreaLeft" t="textAreaTop" r="textAreaRight" b="textAreaBottom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任意多边形 65"/>
          <p:cNvSpPr/>
          <p:nvPr/>
        </p:nvSpPr>
        <p:spPr>
          <a:xfrm>
            <a:off x="2548800" y="344880"/>
            <a:ext cx="223920" cy="149400"/>
          </a:xfrm>
          <a:custGeom>
            <a:avLst/>
            <a:gdLst>
              <a:gd name="textAreaLeft" fmla="*/ 0 w 223920"/>
              <a:gd name="textAreaRight" fmla="*/ 224280 w 2239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任意多边形 66"/>
          <p:cNvSpPr/>
          <p:nvPr/>
        </p:nvSpPr>
        <p:spPr>
          <a:xfrm>
            <a:off x="2657880" y="404640"/>
            <a:ext cx="190080" cy="89640"/>
          </a:xfrm>
          <a:custGeom>
            <a:avLst/>
            <a:gdLst>
              <a:gd name="textAreaLeft" fmla="*/ 0 w 190080"/>
              <a:gd name="textAreaRight" fmla="*/ 190440 w 190080"/>
              <a:gd name="textAreaTop" fmla="*/ 0 h 89640"/>
              <a:gd name="textAreaBottom" fmla="*/ 90000 h 89640"/>
            </a:gdLst>
            <a:ahLst/>
            <a:rect l="textAreaLeft" t="textAreaTop" r="textAreaRight" b="textAreaBottom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任意多边形 67"/>
          <p:cNvSpPr/>
          <p:nvPr/>
        </p:nvSpPr>
        <p:spPr>
          <a:xfrm>
            <a:off x="3204000" y="449640"/>
            <a:ext cx="191880" cy="200160"/>
          </a:xfrm>
          <a:custGeom>
            <a:avLst/>
            <a:gdLst>
              <a:gd name="textAreaLeft" fmla="*/ 0 w 191880"/>
              <a:gd name="textAreaRight" fmla="*/ 192240 w 1918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286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任意多边形 5"/>
          <p:cNvSpPr/>
          <p:nvPr/>
        </p:nvSpPr>
        <p:spPr>
          <a:xfrm>
            <a:off x="3133080" y="188640"/>
            <a:ext cx="165600" cy="194400"/>
          </a:xfrm>
          <a:custGeom>
            <a:avLst/>
            <a:gdLst>
              <a:gd name="textAreaLeft" fmla="*/ 0 w 165600"/>
              <a:gd name="textAreaRight" fmla="*/ 165960 w 16560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任意多边形 9"/>
          <p:cNvSpPr/>
          <p:nvPr/>
        </p:nvSpPr>
        <p:spPr>
          <a:xfrm>
            <a:off x="3204000" y="3362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任意多边形 21"/>
          <p:cNvSpPr/>
          <p:nvPr/>
        </p:nvSpPr>
        <p:spPr>
          <a:xfrm>
            <a:off x="3323520" y="1589040"/>
            <a:ext cx="159480" cy="164520"/>
          </a:xfrm>
          <a:custGeom>
            <a:avLst/>
            <a:gdLst>
              <a:gd name="textAreaLeft" fmla="*/ 0 w 159480"/>
              <a:gd name="textAreaRight" fmla="*/ 159840 w 159480"/>
              <a:gd name="textAreaTop" fmla="*/ 0 h 164520"/>
              <a:gd name="textAreaBottom" fmla="*/ 164880 h 164520"/>
            </a:gdLst>
            <a:ahLst/>
            <a:rect l="textAreaLeft" t="textAreaTop" r="textAreaRight" b="textAreaBottom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任意多边形 28"/>
          <p:cNvSpPr/>
          <p:nvPr/>
        </p:nvSpPr>
        <p:spPr>
          <a:xfrm>
            <a:off x="3582720" y="1544040"/>
            <a:ext cx="183600" cy="209520"/>
          </a:xfrm>
          <a:custGeom>
            <a:avLst/>
            <a:gdLst>
              <a:gd name="textAreaLeft" fmla="*/ 0 w 183600"/>
              <a:gd name="textAreaRight" fmla="*/ 183960 w 1836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3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任意多边形 29"/>
          <p:cNvSpPr/>
          <p:nvPr/>
        </p:nvSpPr>
        <p:spPr>
          <a:xfrm>
            <a:off x="3402360" y="1454040"/>
            <a:ext cx="194760" cy="164520"/>
          </a:xfrm>
          <a:custGeom>
            <a:avLst/>
            <a:gdLst>
              <a:gd name="textAreaLeft" fmla="*/ 0 w 194760"/>
              <a:gd name="textAreaRight" fmla="*/ 195120 w 194760"/>
              <a:gd name="textAreaTop" fmla="*/ 0 h 164520"/>
              <a:gd name="textAreaBottom" fmla="*/ 164880 h 164520"/>
            </a:gdLst>
            <a:ahLst/>
            <a:rect l="textAreaLeft" t="textAreaTop" r="textAreaRight" b="textAreaBottom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5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任意多边形 64"/>
          <p:cNvSpPr/>
          <p:nvPr/>
        </p:nvSpPr>
        <p:spPr>
          <a:xfrm>
            <a:off x="3492000" y="16286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任意多边形 68"/>
          <p:cNvSpPr/>
          <p:nvPr/>
        </p:nvSpPr>
        <p:spPr>
          <a:xfrm>
            <a:off x="3492000" y="15602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任意多边形 69"/>
          <p:cNvSpPr/>
          <p:nvPr/>
        </p:nvSpPr>
        <p:spPr>
          <a:xfrm>
            <a:off x="3662280" y="16322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任意多边形 70"/>
          <p:cNvSpPr/>
          <p:nvPr/>
        </p:nvSpPr>
        <p:spPr>
          <a:xfrm>
            <a:off x="3420000" y="16322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任意多边形 39"/>
          <p:cNvSpPr/>
          <p:nvPr/>
        </p:nvSpPr>
        <p:spPr>
          <a:xfrm>
            <a:off x="3207960" y="1679040"/>
            <a:ext cx="104400" cy="29520"/>
          </a:xfrm>
          <a:custGeom>
            <a:avLst/>
            <a:gdLst>
              <a:gd name="textAreaLeft" fmla="*/ 0 w 104400"/>
              <a:gd name="textAreaRight" fmla="*/ 104760 w 104400"/>
              <a:gd name="textAreaTop" fmla="*/ 0 h 29520"/>
              <a:gd name="textAreaBottom" fmla="*/ 29880 h 29520"/>
            </a:gdLst>
            <a:ahLst/>
            <a:rect l="textAreaLeft" t="textAreaTop" r="textAreaRight" b="textAreaBottom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任意多边形 53"/>
          <p:cNvSpPr/>
          <p:nvPr/>
        </p:nvSpPr>
        <p:spPr>
          <a:xfrm>
            <a:off x="3222720" y="1648800"/>
            <a:ext cx="119520" cy="360"/>
          </a:xfrm>
          <a:custGeom>
            <a:avLst/>
            <a:gdLst>
              <a:gd name="textAreaLeft" fmla="*/ 0 w 119520"/>
              <a:gd name="textAreaRight" fmla="*/ 119880 w 119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9922" h="0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任意多边形 54"/>
          <p:cNvSpPr/>
          <p:nvPr/>
        </p:nvSpPr>
        <p:spPr>
          <a:xfrm>
            <a:off x="3237840" y="1528920"/>
            <a:ext cx="134640" cy="104400"/>
          </a:xfrm>
          <a:custGeom>
            <a:avLst/>
            <a:gdLst>
              <a:gd name="textAreaLeft" fmla="*/ 0 w 134640"/>
              <a:gd name="textAreaRight" fmla="*/ 135000 w 134640"/>
              <a:gd name="textAreaTop" fmla="*/ 0 h 104400"/>
              <a:gd name="textAreaBottom" fmla="*/ 104760 h 104400"/>
            </a:gdLst>
            <a:ahLst/>
            <a:rect l="textAreaLeft" t="textAreaTop" r="textAreaRight" b="textAreaBottom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任意多边形 71"/>
          <p:cNvSpPr/>
          <p:nvPr/>
        </p:nvSpPr>
        <p:spPr>
          <a:xfrm>
            <a:off x="3636000" y="18482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任意多边形 72"/>
          <p:cNvSpPr/>
          <p:nvPr/>
        </p:nvSpPr>
        <p:spPr>
          <a:xfrm>
            <a:off x="3878280" y="17762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任意多边形 73"/>
          <p:cNvSpPr/>
          <p:nvPr/>
        </p:nvSpPr>
        <p:spPr>
          <a:xfrm>
            <a:off x="3950280" y="15566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任意多边形 75"/>
          <p:cNvSpPr/>
          <p:nvPr/>
        </p:nvSpPr>
        <p:spPr>
          <a:xfrm>
            <a:off x="4077000" y="626760"/>
            <a:ext cx="74880" cy="497520"/>
          </a:xfrm>
          <a:custGeom>
            <a:avLst/>
            <a:gdLst>
              <a:gd name="textAreaLeft" fmla="*/ 0 w 74880"/>
              <a:gd name="textAreaRight" fmla="*/ 75240 w 74880"/>
              <a:gd name="textAreaTop" fmla="*/ 0 h 497520"/>
              <a:gd name="textAreaBottom" fmla="*/ 497880 h 497520"/>
            </a:gdLst>
            <a:ahLst/>
            <a:rect l="textAreaLeft" t="textAreaTop" r="textAreaRight" b="textAreaBottom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任意多边形 76"/>
          <p:cNvSpPr/>
          <p:nvPr/>
        </p:nvSpPr>
        <p:spPr>
          <a:xfrm>
            <a:off x="3942000" y="824400"/>
            <a:ext cx="180000" cy="224640"/>
          </a:xfrm>
          <a:custGeom>
            <a:avLst/>
            <a:gdLst>
              <a:gd name="textAreaLeft" fmla="*/ 0 w 180000"/>
              <a:gd name="textAreaRight" fmla="*/ 180360 w 18000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任意多边形 77"/>
          <p:cNvSpPr/>
          <p:nvPr/>
        </p:nvSpPr>
        <p:spPr>
          <a:xfrm>
            <a:off x="4030560" y="9122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任意多边形 79"/>
          <p:cNvSpPr/>
          <p:nvPr/>
        </p:nvSpPr>
        <p:spPr>
          <a:xfrm>
            <a:off x="4122360" y="929160"/>
            <a:ext cx="164520" cy="180000"/>
          </a:xfrm>
          <a:custGeom>
            <a:avLst/>
            <a:gdLst>
              <a:gd name="textAreaLeft" fmla="*/ 0 w 164520"/>
              <a:gd name="textAreaRight" fmla="*/ 164880 w 164520"/>
              <a:gd name="textAreaTop" fmla="*/ 0 h 180000"/>
              <a:gd name="textAreaBottom" fmla="*/ 180360 h 180000"/>
            </a:gdLst>
            <a:ahLst/>
            <a:rect l="textAreaLeft" t="textAreaTop" r="textAreaRight" b="textAreaBottom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70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任意多边形 81"/>
          <p:cNvSpPr/>
          <p:nvPr/>
        </p:nvSpPr>
        <p:spPr>
          <a:xfrm>
            <a:off x="3987360" y="2413440"/>
            <a:ext cx="194400" cy="149400"/>
          </a:xfrm>
          <a:custGeom>
            <a:avLst/>
            <a:gdLst>
              <a:gd name="textAreaLeft" fmla="*/ 0 w 194400"/>
              <a:gd name="textAreaRight" fmla="*/ 194760 w 1944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任意多边形 82"/>
          <p:cNvSpPr/>
          <p:nvPr/>
        </p:nvSpPr>
        <p:spPr>
          <a:xfrm>
            <a:off x="3102840" y="2458440"/>
            <a:ext cx="254520" cy="59760"/>
          </a:xfrm>
          <a:custGeom>
            <a:avLst/>
            <a:gdLst>
              <a:gd name="textAreaLeft" fmla="*/ 0 w 254520"/>
              <a:gd name="textAreaRight" fmla="*/ 254880 w 254520"/>
              <a:gd name="textAreaTop" fmla="*/ 0 h 59760"/>
              <a:gd name="textAreaBottom" fmla="*/ 60120 h 59760"/>
            </a:gdLst>
            <a:ahLst/>
            <a:rect l="textAreaLeft" t="textAreaTop" r="textAreaRight" b="textAreaBottom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任意多边形 84"/>
          <p:cNvSpPr/>
          <p:nvPr/>
        </p:nvSpPr>
        <p:spPr>
          <a:xfrm>
            <a:off x="637920" y="9086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任意多边形 85"/>
          <p:cNvSpPr/>
          <p:nvPr/>
        </p:nvSpPr>
        <p:spPr>
          <a:xfrm>
            <a:off x="755640" y="11966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任意多边形 86"/>
          <p:cNvSpPr/>
          <p:nvPr/>
        </p:nvSpPr>
        <p:spPr>
          <a:xfrm>
            <a:off x="3492000" y="24242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任意多边形 87"/>
          <p:cNvSpPr/>
          <p:nvPr/>
        </p:nvSpPr>
        <p:spPr>
          <a:xfrm>
            <a:off x="2699640" y="19922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任意多边形 88"/>
          <p:cNvSpPr/>
          <p:nvPr/>
        </p:nvSpPr>
        <p:spPr>
          <a:xfrm>
            <a:off x="2051640" y="1628640"/>
            <a:ext cx="45360" cy="68040"/>
          </a:xfrm>
          <a:custGeom>
            <a:avLst/>
            <a:gdLst>
              <a:gd name="textAreaLeft" fmla="*/ 0 w 45360"/>
              <a:gd name="textAreaRight" fmla="*/ 45720 w 45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任意多边形 89"/>
          <p:cNvSpPr/>
          <p:nvPr/>
        </p:nvSpPr>
        <p:spPr>
          <a:xfrm>
            <a:off x="2038680" y="1798920"/>
            <a:ext cx="134640" cy="164520"/>
          </a:xfrm>
          <a:custGeom>
            <a:avLst/>
            <a:gdLst>
              <a:gd name="textAreaLeft" fmla="*/ 0 w 134640"/>
              <a:gd name="textAreaRight" fmla="*/ 135000 w 134640"/>
              <a:gd name="textAreaTop" fmla="*/ 0 h 164520"/>
              <a:gd name="textAreaBottom" fmla="*/ 164880 h 164520"/>
            </a:gdLst>
            <a:ahLst/>
            <a:rect l="textAreaLeft" t="textAreaTop" r="textAreaRight" b="textAreaBottom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590">
            <a:solidFill>
              <a:srgbClr val="1f1a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9" name="组合 90"/>
          <p:cNvGrpSpPr/>
          <p:nvPr/>
        </p:nvGrpSpPr>
        <p:grpSpPr>
          <a:xfrm>
            <a:off x="5315760" y="5828760"/>
            <a:ext cx="348840" cy="264240"/>
            <a:chOff x="5315760" y="5828760"/>
            <a:chExt cx="348840" cy="264240"/>
          </a:xfrm>
        </p:grpSpPr>
        <p:sp>
          <p:nvSpPr>
            <p:cNvPr id="180" name="任意多边形 91"/>
            <p:cNvSpPr/>
            <p:nvPr/>
          </p:nvSpPr>
          <p:spPr>
            <a:xfrm>
              <a:off x="5315760" y="5828760"/>
              <a:ext cx="348840" cy="26424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椭圆 92"/>
            <p:cNvSpPr/>
            <p:nvPr/>
          </p:nvSpPr>
          <p:spPr>
            <a:xfrm>
              <a:off x="5387040" y="5850000"/>
              <a:ext cx="216360" cy="20052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2" name="椭圆 93"/>
            <p:cNvSpPr/>
            <p:nvPr/>
          </p:nvSpPr>
          <p:spPr>
            <a:xfrm>
              <a:off x="5414040" y="5888520"/>
              <a:ext cx="164520" cy="135360"/>
            </a:xfrm>
            <a:prstGeom prst="ellipse">
              <a:avLst/>
            </a:prstGeom>
            <a:solidFill>
              <a:srgbClr val="3a44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83" name="组合 96"/>
          <p:cNvGrpSpPr/>
          <p:nvPr/>
        </p:nvGrpSpPr>
        <p:grpSpPr>
          <a:xfrm>
            <a:off x="6372360" y="5615280"/>
            <a:ext cx="791640" cy="670680"/>
            <a:chOff x="6372360" y="5615280"/>
            <a:chExt cx="791640" cy="670680"/>
          </a:xfrm>
        </p:grpSpPr>
        <p:sp>
          <p:nvSpPr>
            <p:cNvPr id="184" name="任意多边形 97"/>
            <p:cNvSpPr/>
            <p:nvPr/>
          </p:nvSpPr>
          <p:spPr>
            <a:xfrm>
              <a:off x="6372360" y="5615280"/>
              <a:ext cx="791640" cy="67068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670680"/>
                <a:gd name="textAreaBottom" fmla="*/ 671040 h 670680"/>
              </a:gdLst>
              <a:ahLst/>
              <a:rect l="textAreaLeft" t="textAreaTop" r="textAreaRight" b="textAreaBottom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5" name="椭圆 98"/>
            <p:cNvSpPr/>
            <p:nvPr/>
          </p:nvSpPr>
          <p:spPr>
            <a:xfrm>
              <a:off x="6534000" y="5669280"/>
              <a:ext cx="491400" cy="50904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6" name="椭圆 99"/>
            <p:cNvSpPr/>
            <p:nvPr/>
          </p:nvSpPr>
          <p:spPr>
            <a:xfrm>
              <a:off x="6595560" y="5767200"/>
              <a:ext cx="373320" cy="343440"/>
            </a:xfrm>
            <a:prstGeom prst="ellipse">
              <a:avLst/>
            </a:prstGeom>
            <a:solidFill>
              <a:srgbClr val="3a44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7" name="任意多边形 108"/>
          <p:cNvSpPr/>
          <p:nvPr/>
        </p:nvSpPr>
        <p:spPr>
          <a:xfrm>
            <a:off x="6797520" y="-63360"/>
            <a:ext cx="2024280" cy="3564000"/>
          </a:xfrm>
          <a:custGeom>
            <a:avLst/>
            <a:gdLst>
              <a:gd name="textAreaLeft" fmla="*/ 0 w 2024280"/>
              <a:gd name="textAreaRight" fmla="*/ 2024640 w 2024280"/>
              <a:gd name="textAreaTop" fmla="*/ 0 h 3564000"/>
              <a:gd name="textAreaBottom" fmla="*/ 3564360 h 3564000"/>
            </a:gdLst>
            <a:ahLst/>
            <a:rect l="textAreaLeft" t="textAreaTop" r="textAreaRight" b="textAreaBottom"/>
            <a:pathLst>
              <a:path w="2024465" h="3564190">
                <a:moveTo>
                  <a:pt x="6979" y="8190"/>
                </a:moveTo>
                <a:cubicBezTo>
                  <a:pt x="-24469" y="22704"/>
                  <a:pt x="59389" y="42726"/>
                  <a:pt x="79550" y="66247"/>
                </a:cubicBezTo>
                <a:cubicBezTo>
                  <a:pt x="173025" y="175301"/>
                  <a:pt x="-2401" y="45479"/>
                  <a:pt x="137607" y="138818"/>
                </a:cubicBezTo>
                <a:cubicBezTo>
                  <a:pt x="106801" y="231238"/>
                  <a:pt x="150953" y="139597"/>
                  <a:pt x="65036" y="196875"/>
                </a:cubicBezTo>
                <a:cubicBezTo>
                  <a:pt x="50522" y="206551"/>
                  <a:pt x="45683" y="225904"/>
                  <a:pt x="36007" y="240418"/>
                </a:cubicBezTo>
                <a:cubicBezTo>
                  <a:pt x="31169" y="254932"/>
                  <a:pt x="18978" y="268870"/>
                  <a:pt x="21493" y="283961"/>
                </a:cubicBezTo>
                <a:cubicBezTo>
                  <a:pt x="29217" y="330304"/>
                  <a:pt x="60102" y="330697"/>
                  <a:pt x="94065" y="342018"/>
                </a:cubicBezTo>
                <a:cubicBezTo>
                  <a:pt x="108579" y="351694"/>
                  <a:pt x="126710" y="357426"/>
                  <a:pt x="137607" y="371047"/>
                </a:cubicBezTo>
                <a:cubicBezTo>
                  <a:pt x="147164" y="382994"/>
                  <a:pt x="144692" y="401216"/>
                  <a:pt x="152122" y="414590"/>
                </a:cubicBezTo>
                <a:cubicBezTo>
                  <a:pt x="169065" y="445087"/>
                  <a:pt x="190827" y="472647"/>
                  <a:pt x="210179" y="501675"/>
                </a:cubicBezTo>
                <a:cubicBezTo>
                  <a:pt x="219855" y="516189"/>
                  <a:pt x="222658" y="539702"/>
                  <a:pt x="239207" y="545218"/>
                </a:cubicBezTo>
                <a:lnTo>
                  <a:pt x="282750" y="559732"/>
                </a:lnTo>
                <a:cubicBezTo>
                  <a:pt x="292426" y="574246"/>
                  <a:pt x="308911" y="586068"/>
                  <a:pt x="311779" y="603275"/>
                </a:cubicBezTo>
                <a:cubicBezTo>
                  <a:pt x="318790" y="645339"/>
                  <a:pt x="279163" y="658886"/>
                  <a:pt x="253722" y="675847"/>
                </a:cubicBezTo>
                <a:cubicBezTo>
                  <a:pt x="248884" y="690361"/>
                  <a:pt x="239207" y="704090"/>
                  <a:pt x="239207" y="719390"/>
                </a:cubicBezTo>
                <a:cubicBezTo>
                  <a:pt x="239207" y="734689"/>
                  <a:pt x="242904" y="752114"/>
                  <a:pt x="253722" y="762932"/>
                </a:cubicBezTo>
                <a:cubicBezTo>
                  <a:pt x="303632" y="812842"/>
                  <a:pt x="329594" y="817252"/>
                  <a:pt x="384350" y="835504"/>
                </a:cubicBezTo>
                <a:cubicBezTo>
                  <a:pt x="394026" y="850018"/>
                  <a:pt x="399757" y="868150"/>
                  <a:pt x="413379" y="879047"/>
                </a:cubicBezTo>
                <a:cubicBezTo>
                  <a:pt x="425326" y="888604"/>
                  <a:pt x="443238" y="886719"/>
                  <a:pt x="456922" y="893561"/>
                </a:cubicBezTo>
                <a:cubicBezTo>
                  <a:pt x="472524" y="901362"/>
                  <a:pt x="485951" y="912914"/>
                  <a:pt x="500465" y="922590"/>
                </a:cubicBezTo>
                <a:cubicBezTo>
                  <a:pt x="521885" y="954720"/>
                  <a:pt x="539509" y="987324"/>
                  <a:pt x="573036" y="1009675"/>
                </a:cubicBezTo>
                <a:cubicBezTo>
                  <a:pt x="673905" y="1076922"/>
                  <a:pt x="557356" y="961870"/>
                  <a:pt x="660122" y="1053218"/>
                </a:cubicBezTo>
                <a:cubicBezTo>
                  <a:pt x="690805" y="1080492"/>
                  <a:pt x="747207" y="1140304"/>
                  <a:pt x="747207" y="1140304"/>
                </a:cubicBezTo>
                <a:cubicBezTo>
                  <a:pt x="783690" y="1249748"/>
                  <a:pt x="734478" y="1114848"/>
                  <a:pt x="790750" y="1227390"/>
                </a:cubicBezTo>
                <a:cubicBezTo>
                  <a:pt x="797592" y="1241074"/>
                  <a:pt x="795708" y="1258985"/>
                  <a:pt x="805265" y="1270932"/>
                </a:cubicBezTo>
                <a:cubicBezTo>
                  <a:pt x="835185" y="1308331"/>
                  <a:pt x="872998" y="1338665"/>
                  <a:pt x="906865" y="1372532"/>
                </a:cubicBezTo>
                <a:cubicBezTo>
                  <a:pt x="921379" y="1387046"/>
                  <a:pt x="939021" y="1398996"/>
                  <a:pt x="950407" y="1416075"/>
                </a:cubicBezTo>
                <a:lnTo>
                  <a:pt x="1008465" y="1503161"/>
                </a:lnTo>
                <a:cubicBezTo>
                  <a:pt x="1003627" y="1537028"/>
                  <a:pt x="1001643" y="1571427"/>
                  <a:pt x="993950" y="1604761"/>
                </a:cubicBezTo>
                <a:cubicBezTo>
                  <a:pt x="987070" y="1634576"/>
                  <a:pt x="964922" y="1691847"/>
                  <a:pt x="964922" y="1691847"/>
                </a:cubicBezTo>
                <a:cubicBezTo>
                  <a:pt x="969760" y="1730552"/>
                  <a:pt x="959782" y="1774269"/>
                  <a:pt x="979436" y="1807961"/>
                </a:cubicBezTo>
                <a:cubicBezTo>
                  <a:pt x="997015" y="1838097"/>
                  <a:pt x="1066522" y="1866018"/>
                  <a:pt x="1066522" y="1866018"/>
                </a:cubicBezTo>
                <a:cubicBezTo>
                  <a:pt x="1089761" y="1900878"/>
                  <a:pt x="1102554" y="1911793"/>
                  <a:pt x="1110065" y="1953104"/>
                </a:cubicBezTo>
                <a:cubicBezTo>
                  <a:pt x="1142891" y="2133643"/>
                  <a:pt x="1105806" y="2012899"/>
                  <a:pt x="1139093" y="2112761"/>
                </a:cubicBezTo>
                <a:cubicBezTo>
                  <a:pt x="1143931" y="2170818"/>
                  <a:pt x="1136474" y="2231250"/>
                  <a:pt x="1153607" y="2286932"/>
                </a:cubicBezTo>
                <a:cubicBezTo>
                  <a:pt x="1158106" y="2301555"/>
                  <a:pt x="1183776" y="2294017"/>
                  <a:pt x="1197150" y="2301447"/>
                </a:cubicBezTo>
                <a:cubicBezTo>
                  <a:pt x="1347538" y="2384996"/>
                  <a:pt x="1215129" y="2350866"/>
                  <a:pt x="1400350" y="2374018"/>
                </a:cubicBezTo>
                <a:cubicBezTo>
                  <a:pt x="1555185" y="2528853"/>
                  <a:pt x="1429933" y="2383725"/>
                  <a:pt x="1458407" y="2882018"/>
                </a:cubicBezTo>
                <a:cubicBezTo>
                  <a:pt x="1461505" y="2936224"/>
                  <a:pt x="1479500" y="2923786"/>
                  <a:pt x="1516465" y="2954590"/>
                </a:cubicBezTo>
                <a:cubicBezTo>
                  <a:pt x="1532233" y="2967730"/>
                  <a:pt x="1545493" y="2983618"/>
                  <a:pt x="1560007" y="2998132"/>
                </a:cubicBezTo>
                <a:cubicBezTo>
                  <a:pt x="1564845" y="3012646"/>
                  <a:pt x="1560317" y="3035993"/>
                  <a:pt x="1574522" y="3041675"/>
                </a:cubicBezTo>
                <a:cubicBezTo>
                  <a:pt x="1631065" y="3064293"/>
                  <a:pt x="1637636" y="3007589"/>
                  <a:pt x="1661607" y="2983618"/>
                </a:cubicBezTo>
                <a:cubicBezTo>
                  <a:pt x="1673942" y="2971283"/>
                  <a:pt x="1690636" y="2964266"/>
                  <a:pt x="1705150" y="2954590"/>
                </a:cubicBezTo>
                <a:cubicBezTo>
                  <a:pt x="1719664" y="2959428"/>
                  <a:pt x="1739800" y="2956654"/>
                  <a:pt x="1748693" y="2969104"/>
                </a:cubicBezTo>
                <a:cubicBezTo>
                  <a:pt x="1765119" y="2992100"/>
                  <a:pt x="1782629" y="3080623"/>
                  <a:pt x="1792236" y="3114247"/>
                </a:cubicBezTo>
                <a:cubicBezTo>
                  <a:pt x="1796439" y="3128958"/>
                  <a:pt x="1803310" y="3142882"/>
                  <a:pt x="1806750" y="3157790"/>
                </a:cubicBezTo>
                <a:cubicBezTo>
                  <a:pt x="1817844" y="3205865"/>
                  <a:pt x="1820177" y="3256125"/>
                  <a:pt x="1835779" y="3302932"/>
                </a:cubicBezTo>
                <a:lnTo>
                  <a:pt x="1864807" y="3390018"/>
                </a:lnTo>
                <a:lnTo>
                  <a:pt x="1908350" y="3520647"/>
                </a:lnTo>
                <a:lnTo>
                  <a:pt x="1922865" y="3564190"/>
                </a:lnTo>
                <a:cubicBezTo>
                  <a:pt x="1937542" y="3542174"/>
                  <a:pt x="1966407" y="3507150"/>
                  <a:pt x="1966407" y="3477104"/>
                </a:cubicBezTo>
                <a:cubicBezTo>
                  <a:pt x="1966407" y="3164950"/>
                  <a:pt x="2121714" y="2885651"/>
                  <a:pt x="1908350" y="2707847"/>
                </a:cubicBezTo>
                <a:cubicBezTo>
                  <a:pt x="1894949" y="2696680"/>
                  <a:pt x="1879321" y="2688494"/>
                  <a:pt x="1864807" y="2678818"/>
                </a:cubicBezTo>
                <a:cubicBezTo>
                  <a:pt x="1855131" y="2664304"/>
                  <a:pt x="1837358" y="2652647"/>
                  <a:pt x="1835779" y="2635275"/>
                </a:cubicBezTo>
                <a:cubicBezTo>
                  <a:pt x="1833470" y="2609876"/>
                  <a:pt x="1845301" y="2514629"/>
                  <a:pt x="1864807" y="2475618"/>
                </a:cubicBezTo>
                <a:cubicBezTo>
                  <a:pt x="1872608" y="2460016"/>
                  <a:pt x="1884160" y="2446589"/>
                  <a:pt x="1893836" y="2432075"/>
                </a:cubicBezTo>
                <a:cubicBezTo>
                  <a:pt x="1900679" y="2411544"/>
                  <a:pt x="1922865" y="2348696"/>
                  <a:pt x="1922865" y="2330475"/>
                </a:cubicBezTo>
                <a:cubicBezTo>
                  <a:pt x="1922865" y="2286664"/>
                  <a:pt x="1924621" y="2240524"/>
                  <a:pt x="1908350" y="2199847"/>
                </a:cubicBezTo>
                <a:cubicBezTo>
                  <a:pt x="1902668" y="2185642"/>
                  <a:pt x="1879321" y="2190170"/>
                  <a:pt x="1864807" y="2185332"/>
                </a:cubicBezTo>
                <a:cubicBezTo>
                  <a:pt x="1850130" y="2163316"/>
                  <a:pt x="1821265" y="2128293"/>
                  <a:pt x="1821265" y="2098247"/>
                </a:cubicBezTo>
                <a:cubicBezTo>
                  <a:pt x="1821265" y="2058328"/>
                  <a:pt x="1837807" y="1935547"/>
                  <a:pt x="1864807" y="1895047"/>
                </a:cubicBezTo>
                <a:lnTo>
                  <a:pt x="1893836" y="1851504"/>
                </a:lnTo>
                <a:cubicBezTo>
                  <a:pt x="1907782" y="1809667"/>
                  <a:pt x="1942502" y="1763565"/>
                  <a:pt x="1908350" y="1720875"/>
                </a:cubicBezTo>
                <a:cubicBezTo>
                  <a:pt x="1897453" y="1707254"/>
                  <a:pt x="1879321" y="1701523"/>
                  <a:pt x="1864807" y="1691847"/>
                </a:cubicBezTo>
                <a:cubicBezTo>
                  <a:pt x="1855131" y="1677333"/>
                  <a:pt x="1843580" y="1663906"/>
                  <a:pt x="1835779" y="1648304"/>
                </a:cubicBezTo>
                <a:cubicBezTo>
                  <a:pt x="1800226" y="1577196"/>
                  <a:pt x="1824592" y="1486925"/>
                  <a:pt x="1835779" y="1416075"/>
                </a:cubicBezTo>
                <a:cubicBezTo>
                  <a:pt x="1840551" y="1385851"/>
                  <a:pt x="1855131" y="1358018"/>
                  <a:pt x="1864807" y="1328990"/>
                </a:cubicBezTo>
                <a:lnTo>
                  <a:pt x="1879322" y="1285447"/>
                </a:lnTo>
                <a:cubicBezTo>
                  <a:pt x="1874484" y="1217714"/>
                  <a:pt x="1881277" y="1148125"/>
                  <a:pt x="1864807" y="1082247"/>
                </a:cubicBezTo>
                <a:cubicBezTo>
                  <a:pt x="1853233" y="1035951"/>
                  <a:pt x="1797372" y="985783"/>
                  <a:pt x="1763207" y="951618"/>
                </a:cubicBezTo>
                <a:cubicBezTo>
                  <a:pt x="1758369" y="937104"/>
                  <a:pt x="1748693" y="923374"/>
                  <a:pt x="1748693" y="908075"/>
                </a:cubicBezTo>
                <a:cubicBezTo>
                  <a:pt x="1748693" y="873865"/>
                  <a:pt x="1753377" y="839243"/>
                  <a:pt x="1763207" y="806475"/>
                </a:cubicBezTo>
                <a:cubicBezTo>
                  <a:pt x="1768220" y="789767"/>
                  <a:pt x="1781068" y="776333"/>
                  <a:pt x="1792236" y="762932"/>
                </a:cubicBezTo>
                <a:cubicBezTo>
                  <a:pt x="1827158" y="721026"/>
                  <a:pt x="1836509" y="718903"/>
                  <a:pt x="1879322" y="690361"/>
                </a:cubicBezTo>
                <a:cubicBezTo>
                  <a:pt x="1913866" y="586726"/>
                  <a:pt x="1891377" y="628735"/>
                  <a:pt x="1937379" y="559732"/>
                </a:cubicBezTo>
                <a:cubicBezTo>
                  <a:pt x="1973861" y="450286"/>
                  <a:pt x="1924648" y="585195"/>
                  <a:pt x="1980922" y="472647"/>
                </a:cubicBezTo>
                <a:cubicBezTo>
                  <a:pt x="1992522" y="449448"/>
                  <a:pt x="2003750" y="392748"/>
                  <a:pt x="2009950" y="371047"/>
                </a:cubicBezTo>
                <a:cubicBezTo>
                  <a:pt x="2014153" y="356336"/>
                  <a:pt x="2019627" y="342018"/>
                  <a:pt x="2024465" y="327504"/>
                </a:cubicBezTo>
                <a:cubicBezTo>
                  <a:pt x="2019627" y="298475"/>
                  <a:pt x="2023111" y="266740"/>
                  <a:pt x="2009950" y="240418"/>
                </a:cubicBezTo>
                <a:cubicBezTo>
                  <a:pt x="2002149" y="224816"/>
                  <a:pt x="1978742" y="223725"/>
                  <a:pt x="1966407" y="211390"/>
                </a:cubicBezTo>
                <a:cubicBezTo>
                  <a:pt x="1954072" y="199055"/>
                  <a:pt x="1948546" y="181248"/>
                  <a:pt x="1937379" y="167847"/>
                </a:cubicBezTo>
                <a:cubicBezTo>
                  <a:pt x="1924238" y="152078"/>
                  <a:pt x="1908350" y="138818"/>
                  <a:pt x="1893836" y="124304"/>
                </a:cubicBezTo>
                <a:cubicBezTo>
                  <a:pt x="1888998" y="109790"/>
                  <a:pt x="1883033" y="95604"/>
                  <a:pt x="1879322" y="80761"/>
                </a:cubicBezTo>
                <a:cubicBezTo>
                  <a:pt x="1873339" y="56828"/>
                  <a:pt x="2176864" y="20285"/>
                  <a:pt x="1864807" y="8190"/>
                </a:cubicBezTo>
                <a:cubicBezTo>
                  <a:pt x="1552750" y="-3905"/>
                  <a:pt x="304522" y="-1486"/>
                  <a:pt x="6979" y="8190"/>
                </a:cubicBez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任意多边形 114"/>
          <p:cNvSpPr/>
          <p:nvPr/>
        </p:nvSpPr>
        <p:spPr>
          <a:xfrm>
            <a:off x="7812360" y="3132000"/>
            <a:ext cx="1420200" cy="3840480"/>
          </a:xfrm>
          <a:custGeom>
            <a:avLst/>
            <a:gdLst>
              <a:gd name="textAreaLeft" fmla="*/ 0 w 1420200"/>
              <a:gd name="textAreaRight" fmla="*/ 1420560 w 1420200"/>
              <a:gd name="textAreaTop" fmla="*/ 0 h 3840480"/>
              <a:gd name="textAreaBottom" fmla="*/ 3840840 h 3840480"/>
            </a:gdLst>
            <a:ahLst/>
            <a:rect l="textAreaLeft" t="textAreaTop" r="textAreaRight" b="textAreaBottom"/>
            <a:pathLst>
              <a:path w="1420654" h="3073414">
                <a:moveTo>
                  <a:pt x="1233714" y="1019877"/>
                </a:moveTo>
                <a:cubicBezTo>
                  <a:pt x="1228876" y="995687"/>
                  <a:pt x="1221655" y="971853"/>
                  <a:pt x="1219200" y="947306"/>
                </a:cubicBezTo>
                <a:cubicBezTo>
                  <a:pt x="1136925" y="124558"/>
                  <a:pt x="1233778" y="1006172"/>
                  <a:pt x="1175657" y="279649"/>
                </a:cubicBezTo>
                <a:cubicBezTo>
                  <a:pt x="1174066" y="259765"/>
                  <a:pt x="1164711" y="241218"/>
                  <a:pt x="1161143" y="221592"/>
                </a:cubicBezTo>
                <a:cubicBezTo>
                  <a:pt x="1155023" y="187933"/>
                  <a:pt x="1151466" y="153859"/>
                  <a:pt x="1146628" y="119992"/>
                </a:cubicBezTo>
                <a:cubicBezTo>
                  <a:pt x="1151466" y="81287"/>
                  <a:pt x="1139506" y="36332"/>
                  <a:pt x="1161143" y="3877"/>
                </a:cubicBezTo>
                <a:cubicBezTo>
                  <a:pt x="1170819" y="-10637"/>
                  <a:pt x="1193789" y="19284"/>
                  <a:pt x="1204686" y="32906"/>
                </a:cubicBezTo>
                <a:cubicBezTo>
                  <a:pt x="1214243" y="44853"/>
                  <a:pt x="1212358" y="62765"/>
                  <a:pt x="1219200" y="76449"/>
                </a:cubicBezTo>
                <a:cubicBezTo>
                  <a:pt x="1227001" y="92051"/>
                  <a:pt x="1238552" y="105478"/>
                  <a:pt x="1248228" y="119992"/>
                </a:cubicBezTo>
                <a:cubicBezTo>
                  <a:pt x="1253066" y="144182"/>
                  <a:pt x="1257391" y="168481"/>
                  <a:pt x="1262743" y="192563"/>
                </a:cubicBezTo>
                <a:cubicBezTo>
                  <a:pt x="1267070" y="212036"/>
                  <a:pt x="1273345" y="231059"/>
                  <a:pt x="1277257" y="250620"/>
                </a:cubicBezTo>
                <a:cubicBezTo>
                  <a:pt x="1278261" y="255639"/>
                  <a:pt x="1300724" y="398041"/>
                  <a:pt x="1306286" y="410277"/>
                </a:cubicBezTo>
                <a:cubicBezTo>
                  <a:pt x="1320723" y="442038"/>
                  <a:pt x="1364343" y="497363"/>
                  <a:pt x="1364343" y="497363"/>
                </a:cubicBezTo>
                <a:cubicBezTo>
                  <a:pt x="1379746" y="543573"/>
                  <a:pt x="1387002" y="559340"/>
                  <a:pt x="1393371" y="613477"/>
                </a:cubicBezTo>
                <a:cubicBezTo>
                  <a:pt x="1400178" y="671337"/>
                  <a:pt x="1403671" y="496541"/>
                  <a:pt x="1407886" y="787649"/>
                </a:cubicBezTo>
                <a:cubicBezTo>
                  <a:pt x="1412101" y="1078757"/>
                  <a:pt x="1419284" y="1981903"/>
                  <a:pt x="1418661" y="2360126"/>
                </a:cubicBezTo>
                <a:cubicBezTo>
                  <a:pt x="1408362" y="2728673"/>
                  <a:pt x="1437390" y="2941695"/>
                  <a:pt x="1404146" y="3056987"/>
                </a:cubicBezTo>
                <a:cubicBezTo>
                  <a:pt x="1368484" y="3054200"/>
                  <a:pt x="1400005" y="3050310"/>
                  <a:pt x="1219200" y="3051877"/>
                </a:cubicBezTo>
                <a:lnTo>
                  <a:pt x="319314" y="3066392"/>
                </a:lnTo>
                <a:cubicBezTo>
                  <a:pt x="123371" y="3068811"/>
                  <a:pt x="96762" y="3080906"/>
                  <a:pt x="43543" y="3066392"/>
                </a:cubicBezTo>
                <a:cubicBezTo>
                  <a:pt x="-9676" y="3051878"/>
                  <a:pt x="8720" y="3005467"/>
                  <a:pt x="0" y="2979306"/>
                </a:cubicBezTo>
                <a:cubicBezTo>
                  <a:pt x="9807" y="2920461"/>
                  <a:pt x="12790" y="2888290"/>
                  <a:pt x="29028" y="2834163"/>
                </a:cubicBezTo>
                <a:cubicBezTo>
                  <a:pt x="37821" y="2804855"/>
                  <a:pt x="48381" y="2776106"/>
                  <a:pt x="58057" y="2747077"/>
                </a:cubicBezTo>
                <a:cubicBezTo>
                  <a:pt x="62895" y="2732563"/>
                  <a:pt x="68860" y="2718377"/>
                  <a:pt x="72571" y="2703534"/>
                </a:cubicBezTo>
                <a:cubicBezTo>
                  <a:pt x="105831" y="2570497"/>
                  <a:pt x="79470" y="2620616"/>
                  <a:pt x="130628" y="2543877"/>
                </a:cubicBezTo>
                <a:cubicBezTo>
                  <a:pt x="152429" y="2391276"/>
                  <a:pt x="157667" y="2402829"/>
                  <a:pt x="130628" y="2195534"/>
                </a:cubicBezTo>
                <a:cubicBezTo>
                  <a:pt x="126670" y="2165193"/>
                  <a:pt x="101600" y="2108449"/>
                  <a:pt x="101600" y="2108449"/>
                </a:cubicBezTo>
                <a:cubicBezTo>
                  <a:pt x="104856" y="2053092"/>
                  <a:pt x="109971" y="1849619"/>
                  <a:pt x="130628" y="1760106"/>
                </a:cubicBezTo>
                <a:cubicBezTo>
                  <a:pt x="137508" y="1730291"/>
                  <a:pt x="149981" y="1702049"/>
                  <a:pt x="159657" y="1673020"/>
                </a:cubicBezTo>
                <a:cubicBezTo>
                  <a:pt x="175818" y="1624538"/>
                  <a:pt x="193147" y="1578145"/>
                  <a:pt x="203200" y="1527877"/>
                </a:cubicBezTo>
                <a:cubicBezTo>
                  <a:pt x="207403" y="1506864"/>
                  <a:pt x="224360" y="1368628"/>
                  <a:pt x="246743" y="1353706"/>
                </a:cubicBezTo>
                <a:lnTo>
                  <a:pt x="333828" y="1295649"/>
                </a:lnTo>
                <a:cubicBezTo>
                  <a:pt x="359068" y="1299255"/>
                  <a:pt x="443896" y="1305191"/>
                  <a:pt x="478971" y="1324677"/>
                </a:cubicBezTo>
                <a:cubicBezTo>
                  <a:pt x="509469" y="1341620"/>
                  <a:pt x="532959" y="1371701"/>
                  <a:pt x="566057" y="1382734"/>
                </a:cubicBezTo>
                <a:lnTo>
                  <a:pt x="653143" y="1411763"/>
                </a:lnTo>
                <a:cubicBezTo>
                  <a:pt x="682171" y="1431115"/>
                  <a:pt x="729195" y="1436723"/>
                  <a:pt x="740228" y="1469820"/>
                </a:cubicBezTo>
                <a:cubicBezTo>
                  <a:pt x="760260" y="1529912"/>
                  <a:pt x="742013" y="1504876"/>
                  <a:pt x="798286" y="1542392"/>
                </a:cubicBezTo>
                <a:cubicBezTo>
                  <a:pt x="866019" y="1643991"/>
                  <a:pt x="827315" y="1610125"/>
                  <a:pt x="899886" y="1658506"/>
                </a:cubicBezTo>
                <a:cubicBezTo>
                  <a:pt x="925432" y="1735146"/>
                  <a:pt x="905914" y="1689320"/>
                  <a:pt x="972457" y="1789134"/>
                </a:cubicBezTo>
                <a:lnTo>
                  <a:pt x="1001486" y="1832677"/>
                </a:lnTo>
                <a:cubicBezTo>
                  <a:pt x="1029742" y="1917446"/>
                  <a:pt x="993891" y="1839597"/>
                  <a:pt x="1059543" y="1905249"/>
                </a:cubicBezTo>
                <a:cubicBezTo>
                  <a:pt x="1071878" y="1917584"/>
                  <a:pt x="1075443" y="1937305"/>
                  <a:pt x="1088571" y="1948792"/>
                </a:cubicBezTo>
                <a:cubicBezTo>
                  <a:pt x="1114827" y="1971766"/>
                  <a:pt x="1175657" y="2006849"/>
                  <a:pt x="1175657" y="2006849"/>
                </a:cubicBezTo>
                <a:cubicBezTo>
                  <a:pt x="1180495" y="1992335"/>
                  <a:pt x="1191860" y="1978512"/>
                  <a:pt x="1190171" y="1963306"/>
                </a:cubicBezTo>
                <a:cubicBezTo>
                  <a:pt x="1186792" y="1932894"/>
                  <a:pt x="1161143" y="1876220"/>
                  <a:pt x="1161143" y="1876220"/>
                </a:cubicBezTo>
                <a:cubicBezTo>
                  <a:pt x="1156305" y="1774620"/>
                  <a:pt x="1154429" y="1672836"/>
                  <a:pt x="1146628" y="1571420"/>
                </a:cubicBezTo>
                <a:cubicBezTo>
                  <a:pt x="1144736" y="1546823"/>
                  <a:pt x="1132114" y="1523518"/>
                  <a:pt x="1132114" y="1498849"/>
                </a:cubicBezTo>
                <a:cubicBezTo>
                  <a:pt x="1132114" y="1382901"/>
                  <a:pt x="1142215" y="1346739"/>
                  <a:pt x="1161143" y="1252106"/>
                </a:cubicBezTo>
                <a:cubicBezTo>
                  <a:pt x="1165981" y="1198887"/>
                  <a:pt x="1166370" y="1145074"/>
                  <a:pt x="1175657" y="1092449"/>
                </a:cubicBezTo>
                <a:cubicBezTo>
                  <a:pt x="1209276" y="901943"/>
                  <a:pt x="1204686" y="1078487"/>
                  <a:pt x="1204686" y="961820"/>
                </a:cubicBezTo>
              </a:path>
            </a:pathLst>
          </a:custGeom>
          <a:solidFill>
            <a:schemeClr val="tx1">
              <a:lumMod val="50000"/>
              <a:lumOff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TextBox 117"/>
          <p:cNvSpPr/>
          <p:nvPr/>
        </p:nvSpPr>
        <p:spPr>
          <a:xfrm>
            <a:off x="1115640" y="2969640"/>
            <a:ext cx="33271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8"/>
          <p:cNvSpPr/>
          <p:nvPr/>
        </p:nvSpPr>
        <p:spPr>
          <a:xfrm>
            <a:off x="8174520" y="171720"/>
            <a:ext cx="809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808080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9"/>
          <p:cNvSpPr/>
          <p:nvPr/>
        </p:nvSpPr>
        <p:spPr>
          <a:xfrm>
            <a:off x="7262640" y="36720"/>
            <a:ext cx="4914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0"/>
          <p:cNvSpPr/>
          <p:nvPr/>
        </p:nvSpPr>
        <p:spPr>
          <a:xfrm>
            <a:off x="7625880" y="419760"/>
            <a:ext cx="589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1"/>
          <p:cNvSpPr/>
          <p:nvPr/>
        </p:nvSpPr>
        <p:spPr>
          <a:xfrm>
            <a:off x="7720200" y="1040400"/>
            <a:ext cx="49212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2"/>
          <p:cNvSpPr/>
          <p:nvPr/>
        </p:nvSpPr>
        <p:spPr>
          <a:xfrm>
            <a:off x="7353720" y="1597320"/>
            <a:ext cx="739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3"/>
          <p:cNvSpPr/>
          <p:nvPr/>
        </p:nvSpPr>
        <p:spPr>
          <a:xfrm>
            <a:off x="7708680" y="1397880"/>
            <a:ext cx="1090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808080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4"/>
          <p:cNvSpPr/>
          <p:nvPr/>
        </p:nvSpPr>
        <p:spPr>
          <a:xfrm>
            <a:off x="8550000" y="3641400"/>
            <a:ext cx="637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5"/>
          <p:cNvSpPr/>
          <p:nvPr/>
        </p:nvSpPr>
        <p:spPr>
          <a:xfrm>
            <a:off x="8379000" y="3307680"/>
            <a:ext cx="76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26"/>
          <p:cNvSpPr/>
          <p:nvPr/>
        </p:nvSpPr>
        <p:spPr>
          <a:xfrm>
            <a:off x="8444160" y="1621080"/>
            <a:ext cx="664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32"/>
          <p:cNvSpPr/>
          <p:nvPr/>
        </p:nvSpPr>
        <p:spPr>
          <a:xfrm>
            <a:off x="4788000" y="3036960"/>
            <a:ext cx="1439640" cy="14000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00040"/>
              <a:gd name="textAreaBottom" fmla="*/ 1400400 h 1400040"/>
            </a:gdLst>
            <a:ahLst/>
            <a:rect l="textAreaLeft" t="textAreaTop" r="textAreaRight" b="textAreaBottom"/>
            <a:pathLst>
              <a:path w="1538094" h="1111942">
                <a:moveTo>
                  <a:pt x="538237" y="227"/>
                </a:moveTo>
                <a:cubicBezTo>
                  <a:pt x="504370" y="2646"/>
                  <a:pt x="489598" y="8758"/>
                  <a:pt x="465665" y="14741"/>
                </a:cubicBezTo>
                <a:cubicBezTo>
                  <a:pt x="450823" y="18452"/>
                  <a:pt x="437125" y="26255"/>
                  <a:pt x="422123" y="29255"/>
                </a:cubicBezTo>
                <a:cubicBezTo>
                  <a:pt x="388577" y="35964"/>
                  <a:pt x="354390" y="38931"/>
                  <a:pt x="320523" y="43769"/>
                </a:cubicBezTo>
                <a:cubicBezTo>
                  <a:pt x="306009" y="48607"/>
                  <a:pt x="289710" y="49797"/>
                  <a:pt x="276980" y="58284"/>
                </a:cubicBezTo>
                <a:cubicBezTo>
                  <a:pt x="259901" y="69670"/>
                  <a:pt x="246039" y="85624"/>
                  <a:pt x="233437" y="101827"/>
                </a:cubicBezTo>
                <a:cubicBezTo>
                  <a:pt x="212018" y="129366"/>
                  <a:pt x="204408" y="169560"/>
                  <a:pt x="175380" y="188912"/>
                </a:cubicBezTo>
                <a:lnTo>
                  <a:pt x="131837" y="217941"/>
                </a:lnTo>
                <a:cubicBezTo>
                  <a:pt x="122161" y="232455"/>
                  <a:pt x="113975" y="248083"/>
                  <a:pt x="102808" y="261484"/>
                </a:cubicBezTo>
                <a:cubicBezTo>
                  <a:pt x="9680" y="373236"/>
                  <a:pt x="102307" y="240465"/>
                  <a:pt x="30237" y="348569"/>
                </a:cubicBezTo>
                <a:cubicBezTo>
                  <a:pt x="-7935" y="463085"/>
                  <a:pt x="-6656" y="417497"/>
                  <a:pt x="15723" y="551769"/>
                </a:cubicBezTo>
                <a:cubicBezTo>
                  <a:pt x="19003" y="571446"/>
                  <a:pt x="21316" y="591985"/>
                  <a:pt x="30237" y="609827"/>
                </a:cubicBezTo>
                <a:cubicBezTo>
                  <a:pt x="45839" y="641032"/>
                  <a:pt x="88294" y="696912"/>
                  <a:pt x="88294" y="696912"/>
                </a:cubicBezTo>
                <a:cubicBezTo>
                  <a:pt x="93132" y="711426"/>
                  <a:pt x="95378" y="727081"/>
                  <a:pt x="102808" y="740455"/>
                </a:cubicBezTo>
                <a:cubicBezTo>
                  <a:pt x="119751" y="770953"/>
                  <a:pt x="149832" y="794443"/>
                  <a:pt x="160865" y="827541"/>
                </a:cubicBezTo>
                <a:cubicBezTo>
                  <a:pt x="172670" y="862953"/>
                  <a:pt x="176273" y="886492"/>
                  <a:pt x="204408" y="914627"/>
                </a:cubicBezTo>
                <a:cubicBezTo>
                  <a:pt x="216743" y="926962"/>
                  <a:pt x="232349" y="935854"/>
                  <a:pt x="247951" y="943655"/>
                </a:cubicBezTo>
                <a:cubicBezTo>
                  <a:pt x="261635" y="950497"/>
                  <a:pt x="276980" y="953331"/>
                  <a:pt x="291494" y="958169"/>
                </a:cubicBezTo>
                <a:cubicBezTo>
                  <a:pt x="318838" y="985513"/>
                  <a:pt x="342208" y="1014575"/>
                  <a:pt x="378580" y="1030741"/>
                </a:cubicBezTo>
                <a:cubicBezTo>
                  <a:pt x="406541" y="1043168"/>
                  <a:pt x="465665" y="1059769"/>
                  <a:pt x="465665" y="1059769"/>
                </a:cubicBezTo>
                <a:cubicBezTo>
                  <a:pt x="480179" y="1069445"/>
                  <a:pt x="493606" y="1080997"/>
                  <a:pt x="509208" y="1088798"/>
                </a:cubicBezTo>
                <a:cubicBezTo>
                  <a:pt x="612657" y="1140523"/>
                  <a:pt x="870601" y="1089493"/>
                  <a:pt x="886580" y="1088798"/>
                </a:cubicBezTo>
                <a:cubicBezTo>
                  <a:pt x="921087" y="1077296"/>
                  <a:pt x="951737" y="1065843"/>
                  <a:pt x="988180" y="1059769"/>
                </a:cubicBezTo>
                <a:cubicBezTo>
                  <a:pt x="1192056" y="1025789"/>
                  <a:pt x="1031693" y="1063405"/>
                  <a:pt x="1162351" y="1030741"/>
                </a:cubicBezTo>
                <a:cubicBezTo>
                  <a:pt x="1176865" y="1021065"/>
                  <a:pt x="1190292" y="1009513"/>
                  <a:pt x="1205894" y="1001712"/>
                </a:cubicBezTo>
                <a:cubicBezTo>
                  <a:pt x="1219578" y="994870"/>
                  <a:pt x="1236707" y="995685"/>
                  <a:pt x="1249437" y="987198"/>
                </a:cubicBezTo>
                <a:cubicBezTo>
                  <a:pt x="1266516" y="975812"/>
                  <a:pt x="1277211" y="956796"/>
                  <a:pt x="1292980" y="943655"/>
                </a:cubicBezTo>
                <a:cubicBezTo>
                  <a:pt x="1306381" y="932488"/>
                  <a:pt x="1322009" y="924303"/>
                  <a:pt x="1336523" y="914627"/>
                </a:cubicBezTo>
                <a:cubicBezTo>
                  <a:pt x="1346199" y="900113"/>
                  <a:pt x="1353216" y="883419"/>
                  <a:pt x="1365551" y="871084"/>
                </a:cubicBezTo>
                <a:cubicBezTo>
                  <a:pt x="1377886" y="858749"/>
                  <a:pt x="1397607" y="855183"/>
                  <a:pt x="1409094" y="842055"/>
                </a:cubicBezTo>
                <a:cubicBezTo>
                  <a:pt x="1527625" y="706590"/>
                  <a:pt x="1412723" y="791253"/>
                  <a:pt x="1510694" y="725941"/>
                </a:cubicBezTo>
                <a:cubicBezTo>
                  <a:pt x="1557562" y="585333"/>
                  <a:pt x="1535224" y="669717"/>
                  <a:pt x="1510694" y="363084"/>
                </a:cubicBezTo>
                <a:cubicBezTo>
                  <a:pt x="1509474" y="347833"/>
                  <a:pt x="1499499" y="334476"/>
                  <a:pt x="1496180" y="319541"/>
                </a:cubicBezTo>
                <a:cubicBezTo>
                  <a:pt x="1495964" y="318568"/>
                  <a:pt x="1482230" y="207761"/>
                  <a:pt x="1467151" y="188912"/>
                </a:cubicBezTo>
                <a:cubicBezTo>
                  <a:pt x="1443325" y="159129"/>
                  <a:pt x="1360912" y="136952"/>
                  <a:pt x="1336523" y="130855"/>
                </a:cubicBezTo>
                <a:cubicBezTo>
                  <a:pt x="1317170" y="126017"/>
                  <a:pt x="1297646" y="121821"/>
                  <a:pt x="1278465" y="116341"/>
                </a:cubicBezTo>
                <a:cubicBezTo>
                  <a:pt x="1263755" y="112138"/>
                  <a:pt x="1250165" y="103152"/>
                  <a:pt x="1234923" y="101827"/>
                </a:cubicBezTo>
                <a:cubicBezTo>
                  <a:pt x="1138404" y="93434"/>
                  <a:pt x="1041399" y="92150"/>
                  <a:pt x="944637" y="87312"/>
                </a:cubicBezTo>
                <a:lnTo>
                  <a:pt x="814008" y="43769"/>
                </a:lnTo>
                <a:cubicBezTo>
                  <a:pt x="799494" y="38931"/>
                  <a:pt x="785308" y="32966"/>
                  <a:pt x="770465" y="29255"/>
                </a:cubicBezTo>
                <a:cubicBezTo>
                  <a:pt x="697565" y="11030"/>
                  <a:pt x="731332" y="21049"/>
                  <a:pt x="668865" y="227"/>
                </a:cubicBezTo>
                <a:cubicBezTo>
                  <a:pt x="528620" y="15810"/>
                  <a:pt x="572104" y="-2192"/>
                  <a:pt x="538237" y="227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TextBox 80"/>
          <p:cNvSpPr/>
          <p:nvPr/>
        </p:nvSpPr>
        <p:spPr>
          <a:xfrm>
            <a:off x="5023440" y="3213000"/>
            <a:ext cx="1060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4"/>
          <p:cNvSpPr/>
          <p:nvPr/>
        </p:nvSpPr>
        <p:spPr>
          <a:xfrm>
            <a:off x="4284000" y="3357000"/>
            <a:ext cx="488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任意多边形 58"/>
          <p:cNvSpPr/>
          <p:nvPr/>
        </p:nvSpPr>
        <p:spPr>
          <a:xfrm>
            <a:off x="2267640" y="5252760"/>
            <a:ext cx="7051680" cy="1776240"/>
          </a:xfrm>
          <a:custGeom>
            <a:avLst/>
            <a:gdLst>
              <a:gd name="textAreaLeft" fmla="*/ 0 w 7051680"/>
              <a:gd name="textAreaRight" fmla="*/ 7052040 w 7051680"/>
              <a:gd name="textAreaTop" fmla="*/ 0 h 1776240"/>
              <a:gd name="textAreaBottom" fmla="*/ 1776600 h 1776240"/>
            </a:gdLst>
            <a:ahLst/>
            <a:rect l="textAreaLeft" t="textAreaTop" r="textAreaRight" b="textAreaBottom"/>
            <a:pathLst>
              <a:path w="6360574" h="1486055">
                <a:moveTo>
                  <a:pt x="252791" y="232229"/>
                </a:moveTo>
                <a:cubicBezTo>
                  <a:pt x="267305" y="208038"/>
                  <a:pt x="283718" y="184890"/>
                  <a:pt x="296334" y="159657"/>
                </a:cubicBezTo>
                <a:cubicBezTo>
                  <a:pt x="319944" y="112436"/>
                  <a:pt x="298279" y="114169"/>
                  <a:pt x="339877" y="72572"/>
                </a:cubicBezTo>
                <a:cubicBezTo>
                  <a:pt x="368015" y="44435"/>
                  <a:pt x="391546" y="40834"/>
                  <a:pt x="426962" y="29029"/>
                </a:cubicBezTo>
                <a:cubicBezTo>
                  <a:pt x="514048" y="33867"/>
                  <a:pt x="602833" y="25754"/>
                  <a:pt x="688220" y="43543"/>
                </a:cubicBezTo>
                <a:cubicBezTo>
                  <a:pt x="722374" y="50658"/>
                  <a:pt x="746277" y="82248"/>
                  <a:pt x="775305" y="101600"/>
                </a:cubicBezTo>
                <a:lnTo>
                  <a:pt x="818848" y="130629"/>
                </a:lnTo>
                <a:cubicBezTo>
                  <a:pt x="833362" y="140305"/>
                  <a:pt x="850056" y="147322"/>
                  <a:pt x="862391" y="159657"/>
                </a:cubicBezTo>
                <a:cubicBezTo>
                  <a:pt x="876905" y="174171"/>
                  <a:pt x="889731" y="190598"/>
                  <a:pt x="905934" y="203200"/>
                </a:cubicBezTo>
                <a:cubicBezTo>
                  <a:pt x="933473" y="224619"/>
                  <a:pt x="968351" y="236587"/>
                  <a:pt x="993020" y="261257"/>
                </a:cubicBezTo>
                <a:cubicBezTo>
                  <a:pt x="1051861" y="320100"/>
                  <a:pt x="1018203" y="295620"/>
                  <a:pt x="1094620" y="333829"/>
                </a:cubicBezTo>
                <a:cubicBezTo>
                  <a:pt x="1120777" y="359986"/>
                  <a:pt x="1146340" y="391244"/>
                  <a:pt x="1181705" y="406400"/>
                </a:cubicBezTo>
                <a:cubicBezTo>
                  <a:pt x="1200040" y="414258"/>
                  <a:pt x="1220410" y="416076"/>
                  <a:pt x="1239762" y="420914"/>
                </a:cubicBezTo>
                <a:cubicBezTo>
                  <a:pt x="1259115" y="430590"/>
                  <a:pt x="1277933" y="441420"/>
                  <a:pt x="1297820" y="449943"/>
                </a:cubicBezTo>
                <a:cubicBezTo>
                  <a:pt x="1336870" y="466679"/>
                  <a:pt x="1371341" y="470453"/>
                  <a:pt x="1413934" y="478972"/>
                </a:cubicBezTo>
                <a:cubicBezTo>
                  <a:pt x="1530048" y="474134"/>
                  <a:pt x="1646379" y="473042"/>
                  <a:pt x="1762277" y="464457"/>
                </a:cubicBezTo>
                <a:cubicBezTo>
                  <a:pt x="1843351" y="458451"/>
                  <a:pt x="1782980" y="413870"/>
                  <a:pt x="1892905" y="391886"/>
                </a:cubicBezTo>
                <a:lnTo>
                  <a:pt x="1965477" y="377372"/>
                </a:lnTo>
                <a:cubicBezTo>
                  <a:pt x="2198500" y="284161"/>
                  <a:pt x="1861974" y="412777"/>
                  <a:pt x="2125134" y="333829"/>
                </a:cubicBezTo>
                <a:cubicBezTo>
                  <a:pt x="2145858" y="327612"/>
                  <a:pt x="2162665" y="311642"/>
                  <a:pt x="2183191" y="304800"/>
                </a:cubicBezTo>
                <a:cubicBezTo>
                  <a:pt x="2206594" y="296999"/>
                  <a:pt x="2231572" y="295124"/>
                  <a:pt x="2255762" y="290286"/>
                </a:cubicBezTo>
                <a:cubicBezTo>
                  <a:pt x="2275115" y="280610"/>
                  <a:pt x="2293293" y="268099"/>
                  <a:pt x="2313820" y="261257"/>
                </a:cubicBezTo>
                <a:cubicBezTo>
                  <a:pt x="2337223" y="253456"/>
                  <a:pt x="2363848" y="256762"/>
                  <a:pt x="2386391" y="246743"/>
                </a:cubicBezTo>
                <a:cubicBezTo>
                  <a:pt x="2408497" y="236918"/>
                  <a:pt x="2422426" y="213210"/>
                  <a:pt x="2444448" y="203200"/>
                </a:cubicBezTo>
                <a:cubicBezTo>
                  <a:pt x="2476513" y="188625"/>
                  <a:pt x="2512947" y="186209"/>
                  <a:pt x="2546048" y="174172"/>
                </a:cubicBezTo>
                <a:cubicBezTo>
                  <a:pt x="2566382" y="166778"/>
                  <a:pt x="2585552" y="156275"/>
                  <a:pt x="2604105" y="145143"/>
                </a:cubicBezTo>
                <a:cubicBezTo>
                  <a:pt x="2634021" y="127193"/>
                  <a:pt x="2658093" y="98118"/>
                  <a:pt x="2691191" y="87086"/>
                </a:cubicBezTo>
                <a:lnTo>
                  <a:pt x="2734734" y="72572"/>
                </a:lnTo>
                <a:cubicBezTo>
                  <a:pt x="2842346" y="830"/>
                  <a:pt x="2787609" y="21356"/>
                  <a:pt x="2894391" y="0"/>
                </a:cubicBezTo>
                <a:lnTo>
                  <a:pt x="3533020" y="14514"/>
                </a:lnTo>
                <a:cubicBezTo>
                  <a:pt x="3548305" y="15164"/>
                  <a:pt x="3561851" y="24826"/>
                  <a:pt x="3576562" y="29029"/>
                </a:cubicBezTo>
                <a:cubicBezTo>
                  <a:pt x="3637180" y="46349"/>
                  <a:pt x="3653286" y="46654"/>
                  <a:pt x="3721705" y="58057"/>
                </a:cubicBezTo>
                <a:cubicBezTo>
                  <a:pt x="3741057" y="67733"/>
                  <a:pt x="3760976" y="76351"/>
                  <a:pt x="3779762" y="87086"/>
                </a:cubicBezTo>
                <a:cubicBezTo>
                  <a:pt x="3794908" y="95741"/>
                  <a:pt x="3807703" y="108313"/>
                  <a:pt x="3823305" y="116114"/>
                </a:cubicBezTo>
                <a:cubicBezTo>
                  <a:pt x="3836989" y="122956"/>
                  <a:pt x="3852334" y="125791"/>
                  <a:pt x="3866848" y="130629"/>
                </a:cubicBezTo>
                <a:cubicBezTo>
                  <a:pt x="3904418" y="168199"/>
                  <a:pt x="3945395" y="214869"/>
                  <a:pt x="3997477" y="232229"/>
                </a:cubicBezTo>
                <a:lnTo>
                  <a:pt x="4041020" y="246743"/>
                </a:lnTo>
                <a:cubicBezTo>
                  <a:pt x="4149132" y="318820"/>
                  <a:pt x="4016344" y="226181"/>
                  <a:pt x="4128105" y="319314"/>
                </a:cubicBezTo>
                <a:cubicBezTo>
                  <a:pt x="4151075" y="338455"/>
                  <a:pt x="4203893" y="367692"/>
                  <a:pt x="4229705" y="377372"/>
                </a:cubicBezTo>
                <a:cubicBezTo>
                  <a:pt x="4248383" y="384376"/>
                  <a:pt x="4268410" y="387048"/>
                  <a:pt x="4287762" y="391886"/>
                </a:cubicBezTo>
                <a:cubicBezTo>
                  <a:pt x="4425816" y="387284"/>
                  <a:pt x="4707643" y="386218"/>
                  <a:pt x="4882848" y="362857"/>
                </a:cubicBezTo>
                <a:cubicBezTo>
                  <a:pt x="4944731" y="354606"/>
                  <a:pt x="4946211" y="337110"/>
                  <a:pt x="5013477" y="333829"/>
                </a:cubicBezTo>
                <a:cubicBezTo>
                  <a:pt x="5187509" y="325340"/>
                  <a:pt x="5361820" y="324152"/>
                  <a:pt x="5535991" y="319314"/>
                </a:cubicBezTo>
                <a:cubicBezTo>
                  <a:pt x="5563591" y="313794"/>
                  <a:pt x="5622352" y="305162"/>
                  <a:pt x="5652105" y="290286"/>
                </a:cubicBezTo>
                <a:cubicBezTo>
                  <a:pt x="5752340" y="240168"/>
                  <a:pt x="5632875" y="276950"/>
                  <a:pt x="5753705" y="246743"/>
                </a:cubicBezTo>
                <a:cubicBezTo>
                  <a:pt x="5864718" y="163482"/>
                  <a:pt x="5758241" y="237931"/>
                  <a:pt x="5869820" y="174172"/>
                </a:cubicBezTo>
                <a:cubicBezTo>
                  <a:pt x="5884966" y="165517"/>
                  <a:pt x="5897329" y="152014"/>
                  <a:pt x="5913362" y="145143"/>
                </a:cubicBezTo>
                <a:cubicBezTo>
                  <a:pt x="5931697" y="137285"/>
                  <a:pt x="5952067" y="135467"/>
                  <a:pt x="5971420" y="130629"/>
                </a:cubicBezTo>
                <a:cubicBezTo>
                  <a:pt x="5985934" y="120953"/>
                  <a:pt x="5997653" y="103764"/>
                  <a:pt x="6014962" y="101600"/>
                </a:cubicBezTo>
                <a:cubicBezTo>
                  <a:pt x="6039441" y="98540"/>
                  <a:pt x="6063601" y="110131"/>
                  <a:pt x="6087534" y="116114"/>
                </a:cubicBezTo>
                <a:cubicBezTo>
                  <a:pt x="6135605" y="128132"/>
                  <a:pt x="6132053" y="131279"/>
                  <a:pt x="6174620" y="159657"/>
                </a:cubicBezTo>
                <a:cubicBezTo>
                  <a:pt x="6184296" y="174171"/>
                  <a:pt x="6179458" y="169333"/>
                  <a:pt x="6203648" y="203200"/>
                </a:cubicBezTo>
                <a:cubicBezTo>
                  <a:pt x="6227838" y="237067"/>
                  <a:pt x="6309380" y="161726"/>
                  <a:pt x="6319762" y="362857"/>
                </a:cubicBezTo>
                <a:cubicBezTo>
                  <a:pt x="6330144" y="563988"/>
                  <a:pt x="6433029" y="1235860"/>
                  <a:pt x="6265938" y="1409986"/>
                </a:cubicBezTo>
                <a:cubicBezTo>
                  <a:pt x="6098847" y="1584112"/>
                  <a:pt x="5518704" y="1404356"/>
                  <a:pt x="5317218" y="1407612"/>
                </a:cubicBezTo>
                <a:cubicBezTo>
                  <a:pt x="5115732" y="1410868"/>
                  <a:pt x="5139267" y="1434359"/>
                  <a:pt x="5057020" y="1429521"/>
                </a:cubicBezTo>
                <a:lnTo>
                  <a:pt x="4563534" y="1431894"/>
                </a:lnTo>
                <a:cubicBezTo>
                  <a:pt x="4436509" y="1432244"/>
                  <a:pt x="4401484" y="1434132"/>
                  <a:pt x="4294870" y="1431622"/>
                </a:cubicBezTo>
                <a:cubicBezTo>
                  <a:pt x="4188256" y="1429112"/>
                  <a:pt x="4032705" y="1440721"/>
                  <a:pt x="3923848" y="1416835"/>
                </a:cubicBezTo>
                <a:cubicBezTo>
                  <a:pt x="3814991" y="1392949"/>
                  <a:pt x="3859416" y="1411203"/>
                  <a:pt x="3547535" y="1409712"/>
                </a:cubicBezTo>
                <a:lnTo>
                  <a:pt x="2052562" y="1407886"/>
                </a:lnTo>
                <a:lnTo>
                  <a:pt x="0" y="1364890"/>
                </a:lnTo>
                <a:cubicBezTo>
                  <a:pt x="4838" y="1297157"/>
                  <a:pt x="96964" y="1088663"/>
                  <a:pt x="122162" y="1016000"/>
                </a:cubicBezTo>
                <a:cubicBezTo>
                  <a:pt x="147360" y="943337"/>
                  <a:pt x="143770" y="958599"/>
                  <a:pt x="151191" y="928914"/>
                </a:cubicBezTo>
                <a:cubicBezTo>
                  <a:pt x="172842" y="842307"/>
                  <a:pt x="162425" y="890533"/>
                  <a:pt x="180220" y="783772"/>
                </a:cubicBezTo>
                <a:cubicBezTo>
                  <a:pt x="185058" y="614439"/>
                  <a:pt x="181402" y="444649"/>
                  <a:pt x="194734" y="275772"/>
                </a:cubicBezTo>
                <a:cubicBezTo>
                  <a:pt x="196107" y="258382"/>
                  <a:pt x="211427" y="244564"/>
                  <a:pt x="223762" y="232229"/>
                </a:cubicBezTo>
                <a:cubicBezTo>
                  <a:pt x="236097" y="219894"/>
                  <a:pt x="253350" y="213666"/>
                  <a:pt x="267305" y="203200"/>
                </a:cubicBezTo>
                <a:cubicBezTo>
                  <a:pt x="272779" y="199095"/>
                  <a:pt x="276982" y="193524"/>
                  <a:pt x="281820" y="188686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a6a6a6"/>
              </a:gs>
            </a:gsLst>
            <a:lin ang="5400000"/>
          </a:gra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任意多边形 128"/>
          <p:cNvSpPr/>
          <p:nvPr/>
        </p:nvSpPr>
        <p:spPr>
          <a:xfrm>
            <a:off x="-324720" y="4205880"/>
            <a:ext cx="3571920" cy="275472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2754720"/>
              <a:gd name="textAreaBottom" fmla="*/ 2755080 h 2754720"/>
            </a:gdLst>
            <a:ahLst/>
            <a:rect l="textAreaLeft" t="textAreaTop" r="textAreaRight" b="textAreaBottom"/>
            <a:pathLst>
              <a:path w="8164877" h="2206171">
                <a:moveTo>
                  <a:pt x="0" y="2133600"/>
                </a:moveTo>
                <a:cubicBezTo>
                  <a:pt x="4838" y="2051352"/>
                  <a:pt x="6703" y="1968876"/>
                  <a:pt x="14514" y="1886857"/>
                </a:cubicBezTo>
                <a:cubicBezTo>
                  <a:pt x="16405" y="1866999"/>
                  <a:pt x="25460" y="1848426"/>
                  <a:pt x="29028" y="1828800"/>
                </a:cubicBezTo>
                <a:cubicBezTo>
                  <a:pt x="35148" y="1795141"/>
                  <a:pt x="34542" y="1760205"/>
                  <a:pt x="43543" y="1727200"/>
                </a:cubicBezTo>
                <a:cubicBezTo>
                  <a:pt x="52133" y="1695703"/>
                  <a:pt x="118682" y="1594003"/>
                  <a:pt x="130628" y="1582057"/>
                </a:cubicBezTo>
                <a:cubicBezTo>
                  <a:pt x="145142" y="1567543"/>
                  <a:pt x="162240" y="1555217"/>
                  <a:pt x="174171" y="1538514"/>
                </a:cubicBezTo>
                <a:cubicBezTo>
                  <a:pt x="186747" y="1520908"/>
                  <a:pt x="192465" y="1499243"/>
                  <a:pt x="203200" y="1480457"/>
                </a:cubicBezTo>
                <a:cubicBezTo>
                  <a:pt x="211855" y="1465311"/>
                  <a:pt x="223573" y="1452060"/>
                  <a:pt x="232228" y="1436914"/>
                </a:cubicBezTo>
                <a:cubicBezTo>
                  <a:pt x="242963" y="1418128"/>
                  <a:pt x="250522" y="1397643"/>
                  <a:pt x="261257" y="1378857"/>
                </a:cubicBezTo>
                <a:cubicBezTo>
                  <a:pt x="269912" y="1363711"/>
                  <a:pt x="282484" y="1350916"/>
                  <a:pt x="290285" y="1335314"/>
                </a:cubicBezTo>
                <a:cubicBezTo>
                  <a:pt x="297127" y="1321630"/>
                  <a:pt x="296313" y="1304501"/>
                  <a:pt x="304800" y="1291771"/>
                </a:cubicBezTo>
                <a:cubicBezTo>
                  <a:pt x="368998" y="1195477"/>
                  <a:pt x="329887" y="1299656"/>
                  <a:pt x="377371" y="1204686"/>
                </a:cubicBezTo>
                <a:cubicBezTo>
                  <a:pt x="419380" y="1120666"/>
                  <a:pt x="352886" y="1200142"/>
                  <a:pt x="435428" y="1117600"/>
                </a:cubicBezTo>
                <a:cubicBezTo>
                  <a:pt x="468115" y="1019542"/>
                  <a:pt x="422783" y="1125831"/>
                  <a:pt x="493485" y="1045029"/>
                </a:cubicBezTo>
                <a:cubicBezTo>
                  <a:pt x="516459" y="1018773"/>
                  <a:pt x="532190" y="986972"/>
                  <a:pt x="551543" y="957943"/>
                </a:cubicBezTo>
                <a:lnTo>
                  <a:pt x="609600" y="870857"/>
                </a:lnTo>
                <a:cubicBezTo>
                  <a:pt x="619276" y="856343"/>
                  <a:pt x="626293" y="839649"/>
                  <a:pt x="638628" y="827314"/>
                </a:cubicBezTo>
                <a:cubicBezTo>
                  <a:pt x="653142" y="812800"/>
                  <a:pt x="669030" y="799540"/>
                  <a:pt x="682171" y="783771"/>
                </a:cubicBezTo>
                <a:cubicBezTo>
                  <a:pt x="732672" y="723171"/>
                  <a:pt x="683262" y="749542"/>
                  <a:pt x="754743" y="725714"/>
                </a:cubicBezTo>
                <a:cubicBezTo>
                  <a:pt x="764419" y="711200"/>
                  <a:pt x="771436" y="694506"/>
                  <a:pt x="783771" y="682171"/>
                </a:cubicBezTo>
                <a:cubicBezTo>
                  <a:pt x="796106" y="669836"/>
                  <a:pt x="811712" y="660944"/>
                  <a:pt x="827314" y="653143"/>
                </a:cubicBezTo>
                <a:cubicBezTo>
                  <a:pt x="890968" y="621316"/>
                  <a:pt x="904469" y="623197"/>
                  <a:pt x="972457" y="609600"/>
                </a:cubicBezTo>
                <a:cubicBezTo>
                  <a:pt x="996647" y="599924"/>
                  <a:pt x="1020633" y="589719"/>
                  <a:pt x="1045028" y="580571"/>
                </a:cubicBezTo>
                <a:cubicBezTo>
                  <a:pt x="1059353" y="575199"/>
                  <a:pt x="1074887" y="572899"/>
                  <a:pt x="1088571" y="566057"/>
                </a:cubicBezTo>
                <a:cubicBezTo>
                  <a:pt x="1104173" y="558256"/>
                  <a:pt x="1117600" y="546705"/>
                  <a:pt x="1132114" y="537029"/>
                </a:cubicBezTo>
                <a:cubicBezTo>
                  <a:pt x="1297725" y="543399"/>
                  <a:pt x="1432376" y="528638"/>
                  <a:pt x="1582057" y="566057"/>
                </a:cubicBezTo>
                <a:cubicBezTo>
                  <a:pt x="1596900" y="569768"/>
                  <a:pt x="1611086" y="575733"/>
                  <a:pt x="1625600" y="580571"/>
                </a:cubicBezTo>
                <a:cubicBezTo>
                  <a:pt x="1677954" y="615474"/>
                  <a:pt x="1716458" y="637032"/>
                  <a:pt x="1756228" y="696686"/>
                </a:cubicBezTo>
                <a:cubicBezTo>
                  <a:pt x="1765904" y="711200"/>
                  <a:pt x="1772922" y="727894"/>
                  <a:pt x="1785257" y="740229"/>
                </a:cubicBezTo>
                <a:cubicBezTo>
                  <a:pt x="1804421" y="759392"/>
                  <a:pt x="1844799" y="779836"/>
                  <a:pt x="1872343" y="783771"/>
                </a:cubicBezTo>
                <a:cubicBezTo>
                  <a:pt x="1925244" y="791328"/>
                  <a:pt x="1978781" y="793448"/>
                  <a:pt x="2032000" y="798286"/>
                </a:cubicBezTo>
                <a:cubicBezTo>
                  <a:pt x="2123924" y="793448"/>
                  <a:pt x="2216148" y="792638"/>
                  <a:pt x="2307771" y="783771"/>
                </a:cubicBezTo>
                <a:cubicBezTo>
                  <a:pt x="2366355" y="778102"/>
                  <a:pt x="2481943" y="754743"/>
                  <a:pt x="2481943" y="754743"/>
                </a:cubicBezTo>
                <a:cubicBezTo>
                  <a:pt x="2602360" y="714604"/>
                  <a:pt x="2412925" y="781992"/>
                  <a:pt x="2612571" y="682171"/>
                </a:cubicBezTo>
                <a:cubicBezTo>
                  <a:pt x="2631923" y="672495"/>
                  <a:pt x="2651842" y="663878"/>
                  <a:pt x="2670628" y="653143"/>
                </a:cubicBezTo>
                <a:cubicBezTo>
                  <a:pt x="2685774" y="644488"/>
                  <a:pt x="2698230" y="631199"/>
                  <a:pt x="2714171" y="624114"/>
                </a:cubicBezTo>
                <a:cubicBezTo>
                  <a:pt x="2742133" y="611687"/>
                  <a:pt x="2801257" y="595086"/>
                  <a:pt x="2801257" y="595086"/>
                </a:cubicBezTo>
                <a:cubicBezTo>
                  <a:pt x="2849638" y="599924"/>
                  <a:pt x="2899991" y="595097"/>
                  <a:pt x="2946400" y="609600"/>
                </a:cubicBezTo>
                <a:cubicBezTo>
                  <a:pt x="3016831" y="631610"/>
                  <a:pt x="3028663" y="670895"/>
                  <a:pt x="3077028" y="711200"/>
                </a:cubicBezTo>
                <a:cubicBezTo>
                  <a:pt x="3090429" y="722367"/>
                  <a:pt x="3106057" y="730553"/>
                  <a:pt x="3120571" y="740229"/>
                </a:cubicBezTo>
                <a:cubicBezTo>
                  <a:pt x="3130247" y="754743"/>
                  <a:pt x="3137265" y="771436"/>
                  <a:pt x="3149600" y="783771"/>
                </a:cubicBezTo>
                <a:cubicBezTo>
                  <a:pt x="3215907" y="850077"/>
                  <a:pt x="3283229" y="805870"/>
                  <a:pt x="3381828" y="798286"/>
                </a:cubicBezTo>
                <a:cubicBezTo>
                  <a:pt x="3483954" y="764243"/>
                  <a:pt x="3357867" y="808554"/>
                  <a:pt x="3483428" y="754743"/>
                </a:cubicBezTo>
                <a:cubicBezTo>
                  <a:pt x="3497490" y="748716"/>
                  <a:pt x="3512909" y="746256"/>
                  <a:pt x="3526971" y="740229"/>
                </a:cubicBezTo>
                <a:cubicBezTo>
                  <a:pt x="3546858" y="731706"/>
                  <a:pt x="3564502" y="718042"/>
                  <a:pt x="3585028" y="711200"/>
                </a:cubicBezTo>
                <a:cubicBezTo>
                  <a:pt x="3608432" y="703399"/>
                  <a:pt x="3633518" y="702038"/>
                  <a:pt x="3657600" y="696686"/>
                </a:cubicBezTo>
                <a:cubicBezTo>
                  <a:pt x="3677073" y="692359"/>
                  <a:pt x="3696184" y="686498"/>
                  <a:pt x="3715657" y="682171"/>
                </a:cubicBezTo>
                <a:cubicBezTo>
                  <a:pt x="3739739" y="676819"/>
                  <a:pt x="3764190" y="673204"/>
                  <a:pt x="3788228" y="667657"/>
                </a:cubicBezTo>
                <a:cubicBezTo>
                  <a:pt x="3827102" y="658686"/>
                  <a:pt x="3864990" y="645188"/>
                  <a:pt x="3904343" y="638629"/>
                </a:cubicBezTo>
                <a:cubicBezTo>
                  <a:pt x="4006519" y="621599"/>
                  <a:pt x="3963509" y="633420"/>
                  <a:pt x="4034971" y="609600"/>
                </a:cubicBezTo>
                <a:cubicBezTo>
                  <a:pt x="4135853" y="542345"/>
                  <a:pt x="4009057" y="622557"/>
                  <a:pt x="4151085" y="551543"/>
                </a:cubicBezTo>
                <a:cubicBezTo>
                  <a:pt x="4250749" y="501711"/>
                  <a:pt x="4127184" y="536003"/>
                  <a:pt x="4267200" y="508000"/>
                </a:cubicBezTo>
                <a:cubicBezTo>
                  <a:pt x="4286552" y="498324"/>
                  <a:pt x="4306471" y="489706"/>
                  <a:pt x="4325257" y="478971"/>
                </a:cubicBezTo>
                <a:cubicBezTo>
                  <a:pt x="4340403" y="470316"/>
                  <a:pt x="4353486" y="458296"/>
                  <a:pt x="4368800" y="449943"/>
                </a:cubicBezTo>
                <a:cubicBezTo>
                  <a:pt x="4406789" y="429222"/>
                  <a:pt x="4484914" y="391886"/>
                  <a:pt x="4484914" y="391886"/>
                </a:cubicBezTo>
                <a:cubicBezTo>
                  <a:pt x="4494590" y="377372"/>
                  <a:pt x="4501608" y="360678"/>
                  <a:pt x="4513943" y="348343"/>
                </a:cubicBezTo>
                <a:cubicBezTo>
                  <a:pt x="4526278" y="336008"/>
                  <a:pt x="4542339" y="327969"/>
                  <a:pt x="4557485" y="319314"/>
                </a:cubicBezTo>
                <a:cubicBezTo>
                  <a:pt x="4622196" y="282336"/>
                  <a:pt x="4611899" y="291015"/>
                  <a:pt x="4688114" y="275771"/>
                </a:cubicBezTo>
                <a:cubicBezTo>
                  <a:pt x="4751009" y="280609"/>
                  <a:pt x="4814206" y="282462"/>
                  <a:pt x="4876800" y="290286"/>
                </a:cubicBezTo>
                <a:cubicBezTo>
                  <a:pt x="4891981" y="292184"/>
                  <a:pt x="4905044" y="304800"/>
                  <a:pt x="4920343" y="304800"/>
                </a:cubicBezTo>
                <a:cubicBezTo>
                  <a:pt x="5113927" y="304800"/>
                  <a:pt x="5307390" y="295124"/>
                  <a:pt x="5500914" y="290286"/>
                </a:cubicBezTo>
                <a:cubicBezTo>
                  <a:pt x="5538212" y="280961"/>
                  <a:pt x="5594681" y="265865"/>
                  <a:pt x="5631543" y="261257"/>
                </a:cubicBezTo>
                <a:cubicBezTo>
                  <a:pt x="5684569" y="254629"/>
                  <a:pt x="5737981" y="251581"/>
                  <a:pt x="5791200" y="246743"/>
                </a:cubicBezTo>
                <a:cubicBezTo>
                  <a:pt x="5805714" y="241905"/>
                  <a:pt x="5820681" y="238256"/>
                  <a:pt x="5834743" y="232229"/>
                </a:cubicBezTo>
                <a:cubicBezTo>
                  <a:pt x="5854630" y="223706"/>
                  <a:pt x="5872274" y="210042"/>
                  <a:pt x="5892800" y="203200"/>
                </a:cubicBezTo>
                <a:cubicBezTo>
                  <a:pt x="5916203" y="195399"/>
                  <a:pt x="5941181" y="193524"/>
                  <a:pt x="5965371" y="188686"/>
                </a:cubicBezTo>
                <a:cubicBezTo>
                  <a:pt x="6056853" y="127698"/>
                  <a:pt x="5972332" y="176063"/>
                  <a:pt x="6154057" y="130629"/>
                </a:cubicBezTo>
                <a:cubicBezTo>
                  <a:pt x="6241793" y="108694"/>
                  <a:pt x="6193199" y="122420"/>
                  <a:pt x="6299200" y="87086"/>
                </a:cubicBezTo>
                <a:cubicBezTo>
                  <a:pt x="6313714" y="82248"/>
                  <a:pt x="6327741" y="75571"/>
                  <a:pt x="6342743" y="72571"/>
                </a:cubicBezTo>
                <a:cubicBezTo>
                  <a:pt x="6430316" y="55057"/>
                  <a:pt x="6391911" y="65858"/>
                  <a:pt x="6458857" y="43543"/>
                </a:cubicBezTo>
                <a:cubicBezTo>
                  <a:pt x="6480873" y="28865"/>
                  <a:pt x="6515896" y="0"/>
                  <a:pt x="6545943" y="0"/>
                </a:cubicBezTo>
                <a:cubicBezTo>
                  <a:pt x="6565891" y="0"/>
                  <a:pt x="6584648" y="9676"/>
                  <a:pt x="6604000" y="14514"/>
                </a:cubicBezTo>
                <a:lnTo>
                  <a:pt x="6821714" y="159657"/>
                </a:lnTo>
                <a:lnTo>
                  <a:pt x="6865257" y="188686"/>
                </a:lnTo>
                <a:cubicBezTo>
                  <a:pt x="6879771" y="198362"/>
                  <a:pt x="6896465" y="205379"/>
                  <a:pt x="6908800" y="217714"/>
                </a:cubicBezTo>
                <a:lnTo>
                  <a:pt x="6995885" y="304800"/>
                </a:lnTo>
                <a:cubicBezTo>
                  <a:pt x="7010399" y="319314"/>
                  <a:pt x="7019955" y="341852"/>
                  <a:pt x="7039428" y="348343"/>
                </a:cubicBezTo>
                <a:lnTo>
                  <a:pt x="7082971" y="362857"/>
                </a:lnTo>
                <a:cubicBezTo>
                  <a:pt x="7102323" y="391886"/>
                  <a:pt x="7116358" y="425273"/>
                  <a:pt x="7141028" y="449943"/>
                </a:cubicBezTo>
                <a:cubicBezTo>
                  <a:pt x="7170057" y="478972"/>
                  <a:pt x="7203482" y="504187"/>
                  <a:pt x="7228114" y="537029"/>
                </a:cubicBezTo>
                <a:cubicBezTo>
                  <a:pt x="7242628" y="556381"/>
                  <a:pt x="7254552" y="577981"/>
                  <a:pt x="7271657" y="595086"/>
                </a:cubicBezTo>
                <a:cubicBezTo>
                  <a:pt x="7283992" y="607421"/>
                  <a:pt x="7301799" y="612947"/>
                  <a:pt x="7315200" y="624114"/>
                </a:cubicBezTo>
                <a:cubicBezTo>
                  <a:pt x="7365295" y="665859"/>
                  <a:pt x="7372458" y="701256"/>
                  <a:pt x="7445828" y="725714"/>
                </a:cubicBezTo>
                <a:cubicBezTo>
                  <a:pt x="7527218" y="752845"/>
                  <a:pt x="7474531" y="736519"/>
                  <a:pt x="7605485" y="769257"/>
                </a:cubicBezTo>
                <a:cubicBezTo>
                  <a:pt x="7624095" y="773910"/>
                  <a:pt x="7686256" y="787871"/>
                  <a:pt x="7707085" y="798286"/>
                </a:cubicBezTo>
                <a:cubicBezTo>
                  <a:pt x="7819627" y="854558"/>
                  <a:pt x="7684727" y="805346"/>
                  <a:pt x="7794171" y="841829"/>
                </a:cubicBezTo>
                <a:lnTo>
                  <a:pt x="7852228" y="928914"/>
                </a:lnTo>
                <a:lnTo>
                  <a:pt x="7881257" y="972457"/>
                </a:lnTo>
                <a:cubicBezTo>
                  <a:pt x="7886095" y="1059543"/>
                  <a:pt x="7884953" y="1147168"/>
                  <a:pt x="7895771" y="1233714"/>
                </a:cubicBezTo>
                <a:cubicBezTo>
                  <a:pt x="7910801" y="1353957"/>
                  <a:pt x="7918952" y="1285872"/>
                  <a:pt x="7953828" y="1364343"/>
                </a:cubicBezTo>
                <a:cubicBezTo>
                  <a:pt x="7966255" y="1392305"/>
                  <a:pt x="7973181" y="1422400"/>
                  <a:pt x="7982857" y="1451429"/>
                </a:cubicBezTo>
                <a:lnTo>
                  <a:pt x="8011885" y="1538514"/>
                </a:lnTo>
                <a:cubicBezTo>
                  <a:pt x="8016723" y="1553028"/>
                  <a:pt x="8022689" y="1567214"/>
                  <a:pt x="8026400" y="1582057"/>
                </a:cubicBezTo>
                <a:cubicBezTo>
                  <a:pt x="8031238" y="1601409"/>
                  <a:pt x="8033056" y="1621779"/>
                  <a:pt x="8040914" y="1640114"/>
                </a:cubicBezTo>
                <a:cubicBezTo>
                  <a:pt x="8047786" y="1656148"/>
                  <a:pt x="8060267" y="1669143"/>
                  <a:pt x="8069943" y="1683657"/>
                </a:cubicBezTo>
                <a:cubicBezTo>
                  <a:pt x="8074593" y="1702257"/>
                  <a:pt x="8088560" y="1764436"/>
                  <a:pt x="8098971" y="1785257"/>
                </a:cubicBezTo>
                <a:cubicBezTo>
                  <a:pt x="8106772" y="1800859"/>
                  <a:pt x="8118324" y="1814286"/>
                  <a:pt x="8128000" y="1828800"/>
                </a:cubicBezTo>
                <a:cubicBezTo>
                  <a:pt x="8187626" y="2007682"/>
                  <a:pt x="8157028" y="1885287"/>
                  <a:pt x="8157028" y="2206171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a6a6a6"/>
              </a:gs>
            </a:gsLst>
            <a:lin ang="5400000"/>
          </a:gra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椭圆 130"/>
          <p:cNvSpPr/>
          <p:nvPr/>
        </p:nvSpPr>
        <p:spPr>
          <a:xfrm>
            <a:off x="5078880" y="3430800"/>
            <a:ext cx="575640" cy="567720"/>
          </a:xfrm>
          <a:prstGeom prst="ellipse">
            <a:avLst/>
          </a:pr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任意多边形 134"/>
          <p:cNvSpPr/>
          <p:nvPr/>
        </p:nvSpPr>
        <p:spPr>
          <a:xfrm>
            <a:off x="4932000" y="3141000"/>
            <a:ext cx="575640" cy="635040"/>
          </a:xfrm>
          <a:custGeom>
            <a:avLst/>
            <a:gdLst>
              <a:gd name="textAreaLeft" fmla="*/ 0 w 575640"/>
              <a:gd name="textAreaRight" fmla="*/ 576000 w 57564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311178" h="259978">
                <a:moveTo>
                  <a:pt x="172195" y="5145"/>
                </a:moveTo>
                <a:cubicBezTo>
                  <a:pt x="127225" y="10142"/>
                  <a:pt x="62383" y="-17513"/>
                  <a:pt x="37284" y="20135"/>
                </a:cubicBezTo>
                <a:cubicBezTo>
                  <a:pt x="-52571" y="154918"/>
                  <a:pt x="41110" y="170099"/>
                  <a:pt x="97245" y="215007"/>
                </a:cubicBezTo>
                <a:cubicBezTo>
                  <a:pt x="108281" y="223836"/>
                  <a:pt x="114235" y="239421"/>
                  <a:pt x="127225" y="244988"/>
                </a:cubicBezTo>
                <a:cubicBezTo>
                  <a:pt x="150643" y="255025"/>
                  <a:pt x="177192" y="254981"/>
                  <a:pt x="202176" y="259978"/>
                </a:cubicBezTo>
                <a:cubicBezTo>
                  <a:pt x="227160" y="254981"/>
                  <a:pt x="255006" y="257629"/>
                  <a:pt x="277127" y="244988"/>
                </a:cubicBezTo>
                <a:cubicBezTo>
                  <a:pt x="328437" y="215668"/>
                  <a:pt x="311613" y="107947"/>
                  <a:pt x="292117" y="80096"/>
                </a:cubicBezTo>
                <a:cubicBezTo>
                  <a:pt x="273994" y="54207"/>
                  <a:pt x="232156" y="60109"/>
                  <a:pt x="202176" y="50115"/>
                </a:cubicBezTo>
                <a:cubicBezTo>
                  <a:pt x="166537" y="38235"/>
                  <a:pt x="134885" y="26408"/>
                  <a:pt x="97245" y="20135"/>
                </a:cubicBezTo>
                <a:cubicBezTo>
                  <a:pt x="87387" y="18492"/>
                  <a:pt x="77258" y="20135"/>
                  <a:pt x="67264" y="20135"/>
                </a:cubicBez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7" name="图片 194" descr=""/>
          <p:cNvPicPr/>
          <p:nvPr/>
        </p:nvPicPr>
        <p:blipFill>
          <a:blip r:embed="rId1"/>
          <a:srcRect l="0" t="0" r="0" b="8343"/>
          <a:stretch/>
        </p:blipFill>
        <p:spPr>
          <a:xfrm>
            <a:off x="35640" y="4016520"/>
            <a:ext cx="3211920" cy="284256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grpSp>
        <p:nvGrpSpPr>
          <p:cNvPr id="208" name="组合 137"/>
          <p:cNvGrpSpPr/>
          <p:nvPr/>
        </p:nvGrpSpPr>
        <p:grpSpPr>
          <a:xfrm>
            <a:off x="0" y="6588000"/>
            <a:ext cx="9143640" cy="297000"/>
            <a:chOff x="0" y="6588000"/>
            <a:chExt cx="9143640" cy="297000"/>
          </a:xfrm>
        </p:grpSpPr>
        <p:sp>
          <p:nvSpPr>
            <p:cNvPr id="209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矩形 143"/>
            <p:cNvSpPr/>
            <p:nvPr/>
          </p:nvSpPr>
          <p:spPr>
            <a:xfrm>
              <a:off x="2204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8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矩形 155"/>
            <p:cNvSpPr/>
            <p:nvPr/>
          </p:nvSpPr>
          <p:spPr>
            <a:xfrm>
              <a:off x="8396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矩形 156"/>
            <p:cNvSpPr/>
            <p:nvPr/>
          </p:nvSpPr>
          <p:spPr>
            <a:xfrm>
              <a:off x="8757000" y="6781680"/>
              <a:ext cx="38664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矩形 157"/>
            <p:cNvSpPr/>
            <p:nvPr/>
          </p:nvSpPr>
          <p:spPr>
            <a:xfrm>
              <a:off x="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矩形 159"/>
            <p:cNvSpPr/>
            <p:nvPr/>
          </p:nvSpPr>
          <p:spPr>
            <a:xfrm>
              <a:off x="53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矩形 170"/>
            <p:cNvSpPr/>
            <p:nvPr/>
          </p:nvSpPr>
          <p:spPr>
            <a:xfrm>
              <a:off x="6156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矩形 172"/>
            <p:cNvSpPr/>
            <p:nvPr/>
          </p:nvSpPr>
          <p:spPr>
            <a:xfrm>
              <a:off x="719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矩形 174"/>
            <p:cNvSpPr/>
            <p:nvPr/>
          </p:nvSpPr>
          <p:spPr>
            <a:xfrm>
              <a:off x="824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矩形 175"/>
            <p:cNvSpPr/>
            <p:nvPr/>
          </p:nvSpPr>
          <p:spPr>
            <a:xfrm>
              <a:off x="860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矩形 176"/>
            <p:cNvSpPr/>
            <p:nvPr/>
          </p:nvSpPr>
          <p:spPr>
            <a:xfrm>
              <a:off x="342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矩形 177"/>
            <p:cNvSpPr/>
            <p:nvPr/>
          </p:nvSpPr>
          <p:spPr>
            <a:xfrm>
              <a:off x="89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矩形 178"/>
            <p:cNvSpPr/>
            <p:nvPr/>
          </p:nvSpPr>
          <p:spPr>
            <a:xfrm>
              <a:off x="140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矩形 179"/>
            <p:cNvSpPr/>
            <p:nvPr/>
          </p:nvSpPr>
          <p:spPr>
            <a:xfrm>
              <a:off x="1943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矩形 180"/>
            <p:cNvSpPr/>
            <p:nvPr/>
          </p:nvSpPr>
          <p:spPr>
            <a:xfrm>
              <a:off x="2447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矩形 181"/>
            <p:cNvSpPr/>
            <p:nvPr/>
          </p:nvSpPr>
          <p:spPr>
            <a:xfrm>
              <a:off x="2951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矩形 182"/>
            <p:cNvSpPr/>
            <p:nvPr/>
          </p:nvSpPr>
          <p:spPr>
            <a:xfrm>
              <a:off x="342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矩形 183"/>
            <p:cNvSpPr/>
            <p:nvPr/>
          </p:nvSpPr>
          <p:spPr>
            <a:xfrm>
              <a:off x="3959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矩形 184"/>
            <p:cNvSpPr/>
            <p:nvPr/>
          </p:nvSpPr>
          <p:spPr>
            <a:xfrm>
              <a:off x="446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6" name="矩形 185"/>
            <p:cNvSpPr/>
            <p:nvPr/>
          </p:nvSpPr>
          <p:spPr>
            <a:xfrm>
              <a:off x="496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矩形 186"/>
            <p:cNvSpPr/>
            <p:nvPr/>
          </p:nvSpPr>
          <p:spPr>
            <a:xfrm>
              <a:off x="5436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矩形 187"/>
            <p:cNvSpPr/>
            <p:nvPr/>
          </p:nvSpPr>
          <p:spPr>
            <a:xfrm>
              <a:off x="594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矩形 188"/>
            <p:cNvSpPr/>
            <p:nvPr/>
          </p:nvSpPr>
          <p:spPr>
            <a:xfrm>
              <a:off x="647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矩形 189"/>
            <p:cNvSpPr/>
            <p:nvPr/>
          </p:nvSpPr>
          <p:spPr>
            <a:xfrm>
              <a:off x="698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矩形 190"/>
            <p:cNvSpPr/>
            <p:nvPr/>
          </p:nvSpPr>
          <p:spPr>
            <a:xfrm>
              <a:off x="748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矩形 191"/>
            <p:cNvSpPr/>
            <p:nvPr/>
          </p:nvSpPr>
          <p:spPr>
            <a:xfrm>
              <a:off x="7956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矩形 192"/>
            <p:cNvSpPr/>
            <p:nvPr/>
          </p:nvSpPr>
          <p:spPr>
            <a:xfrm>
              <a:off x="824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矩形 193"/>
            <p:cNvSpPr/>
            <p:nvPr/>
          </p:nvSpPr>
          <p:spPr>
            <a:xfrm>
              <a:off x="860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5" name="组合 78"/>
          <p:cNvGrpSpPr/>
          <p:nvPr/>
        </p:nvGrpSpPr>
        <p:grpSpPr>
          <a:xfrm>
            <a:off x="107640" y="116640"/>
            <a:ext cx="1699560" cy="2507760"/>
            <a:chOff x="107640" y="116640"/>
            <a:chExt cx="1699560" cy="2507760"/>
          </a:xfrm>
        </p:grpSpPr>
        <p:sp>
          <p:nvSpPr>
            <p:cNvPr id="266" name="任意多边形 129"/>
            <p:cNvSpPr/>
            <p:nvPr/>
          </p:nvSpPr>
          <p:spPr>
            <a:xfrm>
              <a:off x="144720" y="269280"/>
              <a:ext cx="1283040" cy="2043360"/>
            </a:xfrm>
            <a:custGeom>
              <a:avLst/>
              <a:gdLst>
                <a:gd name="textAreaLeft" fmla="*/ 0 w 1283040"/>
                <a:gd name="textAreaRight" fmla="*/ 1283400 w 1283040"/>
                <a:gd name="textAreaTop" fmla="*/ 0 h 2043360"/>
                <a:gd name="textAreaBottom" fmla="*/ 2043720 h 2043360"/>
              </a:gdLst>
              <a:ahLst/>
              <a:rect l="textAreaLeft" t="textAreaTop" r="textAreaRight" b="textAreaBottom"/>
              <a:pathLst>
                <a:path w="2024293" h="2473377">
                  <a:moveTo>
                    <a:pt x="1319755" y="74951"/>
                  </a:moveTo>
                  <a:cubicBezTo>
                    <a:pt x="1402002" y="42053"/>
                    <a:pt x="1426338" y="18650"/>
                    <a:pt x="1529618" y="59961"/>
                  </a:cubicBezTo>
                  <a:cubicBezTo>
                    <a:pt x="1544289" y="65829"/>
                    <a:pt x="1536479" y="91382"/>
                    <a:pt x="1544608" y="104931"/>
                  </a:cubicBezTo>
                  <a:cubicBezTo>
                    <a:pt x="1551879" y="117050"/>
                    <a:pt x="1564595" y="124918"/>
                    <a:pt x="1574588" y="134912"/>
                  </a:cubicBezTo>
                  <a:cubicBezTo>
                    <a:pt x="1579585" y="149902"/>
                    <a:pt x="1581448" y="166333"/>
                    <a:pt x="1589578" y="179882"/>
                  </a:cubicBezTo>
                  <a:cubicBezTo>
                    <a:pt x="1622761" y="235187"/>
                    <a:pt x="1677604" y="217118"/>
                    <a:pt x="1739480" y="224853"/>
                  </a:cubicBezTo>
                  <a:cubicBezTo>
                    <a:pt x="1754470" y="229850"/>
                    <a:pt x="1770901" y="231714"/>
                    <a:pt x="1784450" y="239843"/>
                  </a:cubicBezTo>
                  <a:cubicBezTo>
                    <a:pt x="1887333" y="301572"/>
                    <a:pt x="1732009" y="242349"/>
                    <a:pt x="1859401" y="284813"/>
                  </a:cubicBezTo>
                  <a:cubicBezTo>
                    <a:pt x="1869395" y="294807"/>
                    <a:pt x="1878346" y="305965"/>
                    <a:pt x="1889382" y="314794"/>
                  </a:cubicBezTo>
                  <a:cubicBezTo>
                    <a:pt x="1903450" y="326048"/>
                    <a:pt x="1923098" y="330706"/>
                    <a:pt x="1934352" y="344774"/>
                  </a:cubicBezTo>
                  <a:cubicBezTo>
                    <a:pt x="1943328" y="355994"/>
                    <a:pt x="1961846" y="443904"/>
                    <a:pt x="1964332" y="449705"/>
                  </a:cubicBezTo>
                  <a:cubicBezTo>
                    <a:pt x="1971429" y="466264"/>
                    <a:pt x="1984319" y="479685"/>
                    <a:pt x="1994313" y="494675"/>
                  </a:cubicBezTo>
                  <a:cubicBezTo>
                    <a:pt x="2020689" y="573805"/>
                    <a:pt x="2019416" y="549045"/>
                    <a:pt x="1994313" y="674557"/>
                  </a:cubicBezTo>
                  <a:cubicBezTo>
                    <a:pt x="1988115" y="705545"/>
                    <a:pt x="1964332" y="764498"/>
                    <a:pt x="1964332" y="764498"/>
                  </a:cubicBezTo>
                  <a:cubicBezTo>
                    <a:pt x="1983243" y="915777"/>
                    <a:pt x="1966584" y="846203"/>
                    <a:pt x="2009303" y="974361"/>
                  </a:cubicBezTo>
                  <a:lnTo>
                    <a:pt x="2024293" y="1019331"/>
                  </a:lnTo>
                  <a:cubicBezTo>
                    <a:pt x="2019296" y="1114269"/>
                    <a:pt x="2015233" y="1209260"/>
                    <a:pt x="2009303" y="1304144"/>
                  </a:cubicBezTo>
                  <a:cubicBezTo>
                    <a:pt x="2005239" y="1369166"/>
                    <a:pt x="2016225" y="1437662"/>
                    <a:pt x="1994313" y="1499016"/>
                  </a:cubicBezTo>
                  <a:cubicBezTo>
                    <a:pt x="1987384" y="1518418"/>
                    <a:pt x="1954339" y="1509010"/>
                    <a:pt x="1934352" y="1514007"/>
                  </a:cubicBezTo>
                  <a:cubicBezTo>
                    <a:pt x="1929355" y="1528997"/>
                    <a:pt x="1923194" y="1543648"/>
                    <a:pt x="1919362" y="1558977"/>
                  </a:cubicBezTo>
                  <a:cubicBezTo>
                    <a:pt x="1913183" y="1583695"/>
                    <a:pt x="1914409" y="1610510"/>
                    <a:pt x="1904372" y="1633928"/>
                  </a:cubicBezTo>
                  <a:cubicBezTo>
                    <a:pt x="1898805" y="1646918"/>
                    <a:pt x="1884385" y="1653915"/>
                    <a:pt x="1874391" y="1663908"/>
                  </a:cubicBezTo>
                  <a:cubicBezTo>
                    <a:pt x="1858558" y="1711408"/>
                    <a:pt x="1862631" y="1712335"/>
                    <a:pt x="1829421" y="1753849"/>
                  </a:cubicBezTo>
                  <a:cubicBezTo>
                    <a:pt x="1820592" y="1764885"/>
                    <a:pt x="1808270" y="1772794"/>
                    <a:pt x="1799441" y="1783830"/>
                  </a:cubicBezTo>
                  <a:cubicBezTo>
                    <a:pt x="1715963" y="1888177"/>
                    <a:pt x="1831311" y="1766947"/>
                    <a:pt x="1724490" y="1873771"/>
                  </a:cubicBezTo>
                  <a:cubicBezTo>
                    <a:pt x="1709647" y="1918299"/>
                    <a:pt x="1700161" y="1973050"/>
                    <a:pt x="1664529" y="2008682"/>
                  </a:cubicBezTo>
                  <a:cubicBezTo>
                    <a:pt x="1605527" y="2067684"/>
                    <a:pt x="1634081" y="2009306"/>
                    <a:pt x="1589578" y="2068643"/>
                  </a:cubicBezTo>
                  <a:cubicBezTo>
                    <a:pt x="1583486" y="2076765"/>
                    <a:pt x="1530893" y="2169811"/>
                    <a:pt x="1499637" y="2188564"/>
                  </a:cubicBezTo>
                  <a:cubicBezTo>
                    <a:pt x="1486088" y="2196693"/>
                    <a:pt x="1469657" y="2198557"/>
                    <a:pt x="1454667" y="2203554"/>
                  </a:cubicBezTo>
                  <a:cubicBezTo>
                    <a:pt x="1361305" y="2296919"/>
                    <a:pt x="1496466" y="2170692"/>
                    <a:pt x="1379716" y="2248525"/>
                  </a:cubicBezTo>
                  <a:cubicBezTo>
                    <a:pt x="1267429" y="2323382"/>
                    <a:pt x="1396706" y="2272842"/>
                    <a:pt x="1289775" y="2308485"/>
                  </a:cubicBezTo>
                  <a:cubicBezTo>
                    <a:pt x="1274785" y="2318479"/>
                    <a:pt x="1261268" y="2331149"/>
                    <a:pt x="1244805" y="2338466"/>
                  </a:cubicBezTo>
                  <a:cubicBezTo>
                    <a:pt x="1180687" y="2366963"/>
                    <a:pt x="1155946" y="2365996"/>
                    <a:pt x="1094903" y="2383436"/>
                  </a:cubicBezTo>
                  <a:cubicBezTo>
                    <a:pt x="1079710" y="2387777"/>
                    <a:pt x="1064922" y="2393429"/>
                    <a:pt x="1049932" y="2398426"/>
                  </a:cubicBezTo>
                  <a:cubicBezTo>
                    <a:pt x="1039939" y="2408420"/>
                    <a:pt x="1032071" y="2421136"/>
                    <a:pt x="1019952" y="2428407"/>
                  </a:cubicBezTo>
                  <a:cubicBezTo>
                    <a:pt x="922649" y="2486790"/>
                    <a:pt x="1020971" y="2397409"/>
                    <a:pt x="945001" y="2473377"/>
                  </a:cubicBezTo>
                  <a:cubicBezTo>
                    <a:pt x="830889" y="2435340"/>
                    <a:pt x="886048" y="2449595"/>
                    <a:pt x="780109" y="2428407"/>
                  </a:cubicBezTo>
                  <a:cubicBezTo>
                    <a:pt x="707717" y="2356012"/>
                    <a:pt x="795794" y="2448012"/>
                    <a:pt x="720149" y="2353456"/>
                  </a:cubicBezTo>
                  <a:cubicBezTo>
                    <a:pt x="711320" y="2342420"/>
                    <a:pt x="698648" y="2334782"/>
                    <a:pt x="690168" y="2323475"/>
                  </a:cubicBezTo>
                  <a:cubicBezTo>
                    <a:pt x="668549" y="2294650"/>
                    <a:pt x="630208" y="2233535"/>
                    <a:pt x="630208" y="2233535"/>
                  </a:cubicBezTo>
                  <a:cubicBezTo>
                    <a:pt x="603824" y="2154381"/>
                    <a:pt x="623983" y="2201712"/>
                    <a:pt x="555257" y="2098623"/>
                  </a:cubicBezTo>
                  <a:cubicBezTo>
                    <a:pt x="545264" y="2083633"/>
                    <a:pt x="538016" y="2066392"/>
                    <a:pt x="525277" y="2053653"/>
                  </a:cubicBezTo>
                  <a:cubicBezTo>
                    <a:pt x="515283" y="2043659"/>
                    <a:pt x="504125" y="2034708"/>
                    <a:pt x="495296" y="2023672"/>
                  </a:cubicBezTo>
                  <a:cubicBezTo>
                    <a:pt x="456547" y="1975235"/>
                    <a:pt x="467214" y="1959980"/>
                    <a:pt x="405355" y="1918741"/>
                  </a:cubicBezTo>
                  <a:cubicBezTo>
                    <a:pt x="390365" y="1908748"/>
                    <a:pt x="374064" y="1900485"/>
                    <a:pt x="360385" y="1888761"/>
                  </a:cubicBezTo>
                  <a:cubicBezTo>
                    <a:pt x="338924" y="1870366"/>
                    <a:pt x="323943" y="1844479"/>
                    <a:pt x="300424" y="1828800"/>
                  </a:cubicBezTo>
                  <a:cubicBezTo>
                    <a:pt x="285434" y="1818807"/>
                    <a:pt x="269522" y="1810074"/>
                    <a:pt x="255454" y="1798820"/>
                  </a:cubicBezTo>
                  <a:cubicBezTo>
                    <a:pt x="244418" y="1789991"/>
                    <a:pt x="237592" y="1776111"/>
                    <a:pt x="225473" y="1768839"/>
                  </a:cubicBezTo>
                  <a:cubicBezTo>
                    <a:pt x="211924" y="1760709"/>
                    <a:pt x="195493" y="1758846"/>
                    <a:pt x="180503" y="1753849"/>
                  </a:cubicBezTo>
                  <a:cubicBezTo>
                    <a:pt x="160516" y="1723869"/>
                    <a:pt x="150522" y="1683895"/>
                    <a:pt x="120542" y="1663908"/>
                  </a:cubicBezTo>
                  <a:cubicBezTo>
                    <a:pt x="63813" y="1626088"/>
                    <a:pt x="88311" y="1646667"/>
                    <a:pt x="45591" y="1603948"/>
                  </a:cubicBezTo>
                  <a:cubicBezTo>
                    <a:pt x="40594" y="1588958"/>
                    <a:pt x="37667" y="1573110"/>
                    <a:pt x="30601" y="1558977"/>
                  </a:cubicBezTo>
                  <a:cubicBezTo>
                    <a:pt x="22544" y="1542863"/>
                    <a:pt x="2610" y="1531913"/>
                    <a:pt x="621" y="1514007"/>
                  </a:cubicBezTo>
                  <a:cubicBezTo>
                    <a:pt x="-2735" y="1483799"/>
                    <a:pt x="8239" y="1453552"/>
                    <a:pt x="15611" y="1424066"/>
                  </a:cubicBezTo>
                  <a:cubicBezTo>
                    <a:pt x="23276" y="1393408"/>
                    <a:pt x="45591" y="1334125"/>
                    <a:pt x="45591" y="1334125"/>
                  </a:cubicBezTo>
                  <a:cubicBezTo>
                    <a:pt x="47231" y="1316090"/>
                    <a:pt x="56987" y="1143843"/>
                    <a:pt x="75572" y="1094282"/>
                  </a:cubicBezTo>
                  <a:cubicBezTo>
                    <a:pt x="81898" y="1077413"/>
                    <a:pt x="95559" y="1064302"/>
                    <a:pt x="105552" y="1049312"/>
                  </a:cubicBezTo>
                  <a:lnTo>
                    <a:pt x="135532" y="959371"/>
                  </a:lnTo>
                  <a:lnTo>
                    <a:pt x="150523" y="914400"/>
                  </a:lnTo>
                  <a:cubicBezTo>
                    <a:pt x="155520" y="799475"/>
                    <a:pt x="156690" y="684320"/>
                    <a:pt x="165513" y="569626"/>
                  </a:cubicBezTo>
                  <a:cubicBezTo>
                    <a:pt x="166725" y="553872"/>
                    <a:pt x="172374" y="538205"/>
                    <a:pt x="180503" y="524656"/>
                  </a:cubicBezTo>
                  <a:cubicBezTo>
                    <a:pt x="187774" y="512537"/>
                    <a:pt x="200490" y="504669"/>
                    <a:pt x="210483" y="494675"/>
                  </a:cubicBezTo>
                  <a:lnTo>
                    <a:pt x="255454" y="359764"/>
                  </a:lnTo>
                  <a:cubicBezTo>
                    <a:pt x="260451" y="344774"/>
                    <a:pt x="259271" y="325967"/>
                    <a:pt x="270444" y="314794"/>
                  </a:cubicBezTo>
                  <a:lnTo>
                    <a:pt x="330405" y="254833"/>
                  </a:lnTo>
                  <a:cubicBezTo>
                    <a:pt x="363556" y="221682"/>
                    <a:pt x="384486" y="206630"/>
                    <a:pt x="405355" y="164892"/>
                  </a:cubicBezTo>
                  <a:cubicBezTo>
                    <a:pt x="412422" y="150759"/>
                    <a:pt x="410475" y="132260"/>
                    <a:pt x="420346" y="119921"/>
                  </a:cubicBezTo>
                  <a:cubicBezTo>
                    <a:pt x="431600" y="105853"/>
                    <a:pt x="451476" y="101474"/>
                    <a:pt x="465316" y="89941"/>
                  </a:cubicBezTo>
                  <a:cubicBezTo>
                    <a:pt x="502917" y="58607"/>
                    <a:pt x="503997" y="33184"/>
                    <a:pt x="555257" y="29980"/>
                  </a:cubicBezTo>
                  <a:cubicBezTo>
                    <a:pt x="699966" y="20935"/>
                    <a:pt x="845067" y="19987"/>
                    <a:pt x="989972" y="14990"/>
                  </a:cubicBezTo>
                  <a:cubicBezTo>
                    <a:pt x="1004962" y="9993"/>
                    <a:pt x="1019141" y="0"/>
                    <a:pt x="1034942" y="0"/>
                  </a:cubicBezTo>
                  <a:cubicBezTo>
                    <a:pt x="1072128" y="0"/>
                    <a:pt x="1172267" y="21469"/>
                    <a:pt x="1214824" y="29980"/>
                  </a:cubicBezTo>
                  <a:cubicBezTo>
                    <a:pt x="1253257" y="55603"/>
                    <a:pt x="1281354" y="82578"/>
                    <a:pt x="1334746" y="74951"/>
                  </a:cubicBezTo>
                  <a:cubicBezTo>
                    <a:pt x="1348737" y="72952"/>
                    <a:pt x="1354733" y="54964"/>
                    <a:pt x="1364726" y="44971"/>
                  </a:cubicBezTo>
                </a:path>
              </a:pathLst>
            </a:custGeom>
            <a:solidFill>
              <a:schemeClr val="bg1">
                <a:lumMod val="65000"/>
                <a:alpha val="50000"/>
              </a:schemeClr>
            </a:solidFill>
            <a:ln>
              <a:noFill/>
            </a:ln>
            <a:effectLst>
              <a:softEdge rad="633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67" name="直接连接符 136"/>
            <p:cNvCxnSpPr/>
            <p:nvPr/>
          </p:nvCxnSpPr>
          <p:spPr>
            <a:xfrm>
              <a:off x="414360" y="2624400"/>
              <a:ext cx="36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268" name="TextBox 196"/>
            <p:cNvSpPr/>
            <p:nvPr/>
          </p:nvSpPr>
          <p:spPr>
            <a:xfrm>
              <a:off x="107640" y="116640"/>
              <a:ext cx="169956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97"/>
            <p:cNvSpPr/>
            <p:nvPr/>
          </p:nvSpPr>
          <p:spPr>
            <a:xfrm>
              <a:off x="726120" y="692640"/>
              <a:ext cx="7736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98"/>
            <p:cNvSpPr/>
            <p:nvPr/>
          </p:nvSpPr>
          <p:spPr>
            <a:xfrm>
              <a:off x="475200" y="1268640"/>
              <a:ext cx="720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135"/>
          <p:cNvSpPr/>
          <p:nvPr/>
        </p:nvSpPr>
        <p:spPr>
          <a:xfrm>
            <a:off x="3168000" y="1418400"/>
            <a:ext cx="190800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00"/>
          <p:cNvSpPr/>
          <p:nvPr/>
        </p:nvSpPr>
        <p:spPr>
          <a:xfrm>
            <a:off x="1171800" y="1622880"/>
            <a:ext cx="915120" cy="1373760"/>
          </a:xfrm>
          <a:custGeom>
            <a:avLst/>
            <a:gdLst>
              <a:gd name="textAreaLeft" fmla="*/ 0 w 915120"/>
              <a:gd name="textAreaRight" fmla="*/ 915480 w 915120"/>
              <a:gd name="textAreaTop" fmla="*/ 0 h 1373760"/>
              <a:gd name="textAreaBottom" fmla="*/ 1374120 h 1373760"/>
            </a:gdLst>
            <a:ahLst/>
            <a:rect l="textAreaLeft" t="textAreaTop" r="textAreaRight" b="textAreaBottom"/>
            <a:pathLst>
              <a:path w="1538094" h="1111942">
                <a:moveTo>
                  <a:pt x="538237" y="227"/>
                </a:moveTo>
                <a:cubicBezTo>
                  <a:pt x="504370" y="2646"/>
                  <a:pt x="489598" y="8758"/>
                  <a:pt x="465665" y="14741"/>
                </a:cubicBezTo>
                <a:cubicBezTo>
                  <a:pt x="450823" y="18452"/>
                  <a:pt x="437125" y="26255"/>
                  <a:pt x="422123" y="29255"/>
                </a:cubicBezTo>
                <a:cubicBezTo>
                  <a:pt x="388577" y="35964"/>
                  <a:pt x="354390" y="38931"/>
                  <a:pt x="320523" y="43769"/>
                </a:cubicBezTo>
                <a:cubicBezTo>
                  <a:pt x="306009" y="48607"/>
                  <a:pt x="289710" y="49797"/>
                  <a:pt x="276980" y="58284"/>
                </a:cubicBezTo>
                <a:cubicBezTo>
                  <a:pt x="259901" y="69670"/>
                  <a:pt x="246039" y="85624"/>
                  <a:pt x="233437" y="101827"/>
                </a:cubicBezTo>
                <a:cubicBezTo>
                  <a:pt x="212018" y="129366"/>
                  <a:pt x="204408" y="169560"/>
                  <a:pt x="175380" y="188912"/>
                </a:cubicBezTo>
                <a:lnTo>
                  <a:pt x="131837" y="217941"/>
                </a:lnTo>
                <a:cubicBezTo>
                  <a:pt x="122161" y="232455"/>
                  <a:pt x="113975" y="248083"/>
                  <a:pt x="102808" y="261484"/>
                </a:cubicBezTo>
                <a:cubicBezTo>
                  <a:pt x="9680" y="373236"/>
                  <a:pt x="102307" y="240465"/>
                  <a:pt x="30237" y="348569"/>
                </a:cubicBezTo>
                <a:cubicBezTo>
                  <a:pt x="-7935" y="463085"/>
                  <a:pt x="-6656" y="417497"/>
                  <a:pt x="15723" y="551769"/>
                </a:cubicBezTo>
                <a:cubicBezTo>
                  <a:pt x="19003" y="571446"/>
                  <a:pt x="21316" y="591985"/>
                  <a:pt x="30237" y="609827"/>
                </a:cubicBezTo>
                <a:cubicBezTo>
                  <a:pt x="45839" y="641032"/>
                  <a:pt x="88294" y="696912"/>
                  <a:pt x="88294" y="696912"/>
                </a:cubicBezTo>
                <a:cubicBezTo>
                  <a:pt x="93132" y="711426"/>
                  <a:pt x="95378" y="727081"/>
                  <a:pt x="102808" y="740455"/>
                </a:cubicBezTo>
                <a:cubicBezTo>
                  <a:pt x="119751" y="770953"/>
                  <a:pt x="149832" y="794443"/>
                  <a:pt x="160865" y="827541"/>
                </a:cubicBezTo>
                <a:cubicBezTo>
                  <a:pt x="172670" y="862953"/>
                  <a:pt x="176273" y="886492"/>
                  <a:pt x="204408" y="914627"/>
                </a:cubicBezTo>
                <a:cubicBezTo>
                  <a:pt x="216743" y="926962"/>
                  <a:pt x="232349" y="935854"/>
                  <a:pt x="247951" y="943655"/>
                </a:cubicBezTo>
                <a:cubicBezTo>
                  <a:pt x="261635" y="950497"/>
                  <a:pt x="276980" y="953331"/>
                  <a:pt x="291494" y="958169"/>
                </a:cubicBezTo>
                <a:cubicBezTo>
                  <a:pt x="318838" y="985513"/>
                  <a:pt x="342208" y="1014575"/>
                  <a:pt x="378580" y="1030741"/>
                </a:cubicBezTo>
                <a:cubicBezTo>
                  <a:pt x="406541" y="1043168"/>
                  <a:pt x="465665" y="1059769"/>
                  <a:pt x="465665" y="1059769"/>
                </a:cubicBezTo>
                <a:cubicBezTo>
                  <a:pt x="480179" y="1069445"/>
                  <a:pt x="493606" y="1080997"/>
                  <a:pt x="509208" y="1088798"/>
                </a:cubicBezTo>
                <a:cubicBezTo>
                  <a:pt x="612657" y="1140523"/>
                  <a:pt x="870601" y="1089493"/>
                  <a:pt x="886580" y="1088798"/>
                </a:cubicBezTo>
                <a:cubicBezTo>
                  <a:pt x="921087" y="1077296"/>
                  <a:pt x="951737" y="1065843"/>
                  <a:pt x="988180" y="1059769"/>
                </a:cubicBezTo>
                <a:cubicBezTo>
                  <a:pt x="1192056" y="1025789"/>
                  <a:pt x="1031693" y="1063405"/>
                  <a:pt x="1162351" y="1030741"/>
                </a:cubicBezTo>
                <a:cubicBezTo>
                  <a:pt x="1176865" y="1021065"/>
                  <a:pt x="1190292" y="1009513"/>
                  <a:pt x="1205894" y="1001712"/>
                </a:cubicBezTo>
                <a:cubicBezTo>
                  <a:pt x="1219578" y="994870"/>
                  <a:pt x="1236707" y="995685"/>
                  <a:pt x="1249437" y="987198"/>
                </a:cubicBezTo>
                <a:cubicBezTo>
                  <a:pt x="1266516" y="975812"/>
                  <a:pt x="1277211" y="956796"/>
                  <a:pt x="1292980" y="943655"/>
                </a:cubicBezTo>
                <a:cubicBezTo>
                  <a:pt x="1306381" y="932488"/>
                  <a:pt x="1322009" y="924303"/>
                  <a:pt x="1336523" y="914627"/>
                </a:cubicBezTo>
                <a:cubicBezTo>
                  <a:pt x="1346199" y="900113"/>
                  <a:pt x="1353216" y="883419"/>
                  <a:pt x="1365551" y="871084"/>
                </a:cubicBezTo>
                <a:cubicBezTo>
                  <a:pt x="1377886" y="858749"/>
                  <a:pt x="1397607" y="855183"/>
                  <a:pt x="1409094" y="842055"/>
                </a:cubicBezTo>
                <a:cubicBezTo>
                  <a:pt x="1527625" y="706590"/>
                  <a:pt x="1412723" y="791253"/>
                  <a:pt x="1510694" y="725941"/>
                </a:cubicBezTo>
                <a:cubicBezTo>
                  <a:pt x="1557562" y="585333"/>
                  <a:pt x="1535224" y="669717"/>
                  <a:pt x="1510694" y="363084"/>
                </a:cubicBezTo>
                <a:cubicBezTo>
                  <a:pt x="1509474" y="347833"/>
                  <a:pt x="1499499" y="334476"/>
                  <a:pt x="1496180" y="319541"/>
                </a:cubicBezTo>
                <a:cubicBezTo>
                  <a:pt x="1495964" y="318568"/>
                  <a:pt x="1482230" y="207761"/>
                  <a:pt x="1467151" y="188912"/>
                </a:cubicBezTo>
                <a:cubicBezTo>
                  <a:pt x="1443325" y="159129"/>
                  <a:pt x="1360912" y="136952"/>
                  <a:pt x="1336523" y="130855"/>
                </a:cubicBezTo>
                <a:cubicBezTo>
                  <a:pt x="1317170" y="126017"/>
                  <a:pt x="1297646" y="121821"/>
                  <a:pt x="1278465" y="116341"/>
                </a:cubicBezTo>
                <a:cubicBezTo>
                  <a:pt x="1263755" y="112138"/>
                  <a:pt x="1250165" y="103152"/>
                  <a:pt x="1234923" y="101827"/>
                </a:cubicBezTo>
                <a:cubicBezTo>
                  <a:pt x="1138404" y="93434"/>
                  <a:pt x="1041399" y="92150"/>
                  <a:pt x="944637" y="87312"/>
                </a:cubicBezTo>
                <a:lnTo>
                  <a:pt x="814008" y="43769"/>
                </a:lnTo>
                <a:cubicBezTo>
                  <a:pt x="799494" y="38931"/>
                  <a:pt x="785308" y="32966"/>
                  <a:pt x="770465" y="29255"/>
                </a:cubicBezTo>
                <a:cubicBezTo>
                  <a:pt x="697565" y="11030"/>
                  <a:pt x="731332" y="21049"/>
                  <a:pt x="668865" y="227"/>
                </a:cubicBezTo>
                <a:cubicBezTo>
                  <a:pt x="528620" y="15810"/>
                  <a:pt x="572104" y="-2192"/>
                  <a:pt x="538237" y="227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TextBox 201"/>
          <p:cNvSpPr/>
          <p:nvPr/>
        </p:nvSpPr>
        <p:spPr>
          <a:xfrm>
            <a:off x="1259640" y="1917000"/>
            <a:ext cx="92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76"/>
          <p:cNvSpPr/>
          <p:nvPr/>
        </p:nvSpPr>
        <p:spPr>
          <a:xfrm>
            <a:off x="5470920" y="1622880"/>
            <a:ext cx="2773080" cy="3174120"/>
          </a:xfrm>
          <a:custGeom>
            <a:avLst/>
            <a:gdLst>
              <a:gd name="textAreaLeft" fmla="*/ 0 w 2773080"/>
              <a:gd name="textAreaRight" fmla="*/ 2773440 w 2773080"/>
              <a:gd name="textAreaTop" fmla="*/ 0 h 3174120"/>
              <a:gd name="textAreaBottom" fmla="*/ 3174480 h 3174120"/>
            </a:gdLst>
            <a:ahLst/>
            <a:rect l="textAreaLeft" t="textAreaTop" r="textAreaRight" b="textAreaBottom"/>
            <a:pathLst>
              <a:path w="3028013" h="2908092">
                <a:moveTo>
                  <a:pt x="239843" y="914400"/>
                </a:moveTo>
                <a:cubicBezTo>
                  <a:pt x="237680" y="925216"/>
                  <a:pt x="223033" y="1014565"/>
                  <a:pt x="209862" y="1034322"/>
                </a:cubicBezTo>
                <a:cubicBezTo>
                  <a:pt x="198103" y="1051961"/>
                  <a:pt x="179882" y="1064302"/>
                  <a:pt x="164892" y="1079292"/>
                </a:cubicBezTo>
                <a:cubicBezTo>
                  <a:pt x="159895" y="1094282"/>
                  <a:pt x="149902" y="1108462"/>
                  <a:pt x="149902" y="1124263"/>
                </a:cubicBezTo>
                <a:cubicBezTo>
                  <a:pt x="149902" y="1154657"/>
                  <a:pt x="158931" y="1184400"/>
                  <a:pt x="164892" y="1214204"/>
                </a:cubicBezTo>
                <a:cubicBezTo>
                  <a:pt x="169987" y="1239679"/>
                  <a:pt x="200303" y="1354546"/>
                  <a:pt x="209862" y="1364105"/>
                </a:cubicBezTo>
                <a:lnTo>
                  <a:pt x="239843" y="1394086"/>
                </a:lnTo>
                <a:cubicBezTo>
                  <a:pt x="249836" y="1424066"/>
                  <a:pt x="247477" y="1461681"/>
                  <a:pt x="269823" y="1484027"/>
                </a:cubicBezTo>
                <a:cubicBezTo>
                  <a:pt x="284813" y="1499017"/>
                  <a:pt x="298508" y="1515426"/>
                  <a:pt x="314794" y="1528997"/>
                </a:cubicBezTo>
                <a:cubicBezTo>
                  <a:pt x="428235" y="1623530"/>
                  <a:pt x="302536" y="1501747"/>
                  <a:pt x="389744" y="1588958"/>
                </a:cubicBezTo>
                <a:cubicBezTo>
                  <a:pt x="384747" y="1613942"/>
                  <a:pt x="381458" y="1639328"/>
                  <a:pt x="374754" y="1663909"/>
                </a:cubicBezTo>
                <a:cubicBezTo>
                  <a:pt x="366439" y="1694398"/>
                  <a:pt x="344774" y="1753850"/>
                  <a:pt x="344774" y="1753850"/>
                </a:cubicBezTo>
                <a:cubicBezTo>
                  <a:pt x="344025" y="1768832"/>
                  <a:pt x="356430" y="2058654"/>
                  <a:pt x="299803" y="2143594"/>
                </a:cubicBezTo>
                <a:lnTo>
                  <a:pt x="269823" y="2188564"/>
                </a:lnTo>
                <a:cubicBezTo>
                  <a:pt x="264826" y="2203554"/>
                  <a:pt x="261899" y="2219402"/>
                  <a:pt x="254833" y="2233535"/>
                </a:cubicBezTo>
                <a:cubicBezTo>
                  <a:pt x="221082" y="2301039"/>
                  <a:pt x="191264" y="2274134"/>
                  <a:pt x="239843" y="2383437"/>
                </a:cubicBezTo>
                <a:cubicBezTo>
                  <a:pt x="247160" y="2399900"/>
                  <a:pt x="268350" y="2406100"/>
                  <a:pt x="284813" y="2413417"/>
                </a:cubicBezTo>
                <a:cubicBezTo>
                  <a:pt x="313691" y="2426252"/>
                  <a:pt x="374754" y="2443397"/>
                  <a:pt x="374754" y="2443397"/>
                </a:cubicBezTo>
                <a:cubicBezTo>
                  <a:pt x="433313" y="2501954"/>
                  <a:pt x="371869" y="2449449"/>
                  <a:pt x="449705" y="2488368"/>
                </a:cubicBezTo>
                <a:cubicBezTo>
                  <a:pt x="565932" y="2546482"/>
                  <a:pt x="426620" y="2495663"/>
                  <a:pt x="539646" y="2533338"/>
                </a:cubicBezTo>
                <a:cubicBezTo>
                  <a:pt x="551838" y="2569916"/>
                  <a:pt x="555556" y="2594219"/>
                  <a:pt x="584617" y="2623279"/>
                </a:cubicBezTo>
                <a:cubicBezTo>
                  <a:pt x="597356" y="2636018"/>
                  <a:pt x="615908" y="2641535"/>
                  <a:pt x="629587" y="2653259"/>
                </a:cubicBezTo>
                <a:cubicBezTo>
                  <a:pt x="651048" y="2671654"/>
                  <a:pt x="666029" y="2697541"/>
                  <a:pt x="689548" y="2713220"/>
                </a:cubicBezTo>
                <a:lnTo>
                  <a:pt x="824459" y="2803161"/>
                </a:lnTo>
                <a:lnTo>
                  <a:pt x="914400" y="2863122"/>
                </a:lnTo>
                <a:cubicBezTo>
                  <a:pt x="929390" y="2873116"/>
                  <a:pt x="941893" y="2888732"/>
                  <a:pt x="959371" y="2893102"/>
                </a:cubicBezTo>
                <a:lnTo>
                  <a:pt x="1019331" y="2908092"/>
                </a:lnTo>
                <a:cubicBezTo>
                  <a:pt x="1079292" y="2903095"/>
                  <a:pt x="1139572" y="2901054"/>
                  <a:pt x="1199213" y="2893102"/>
                </a:cubicBezTo>
                <a:cubicBezTo>
                  <a:pt x="1214876" y="2891014"/>
                  <a:pt x="1228690" y="2881211"/>
                  <a:pt x="1244184" y="2878112"/>
                </a:cubicBezTo>
                <a:cubicBezTo>
                  <a:pt x="1278830" y="2871183"/>
                  <a:pt x="1314194" y="2868494"/>
                  <a:pt x="1349115" y="2863122"/>
                </a:cubicBezTo>
                <a:cubicBezTo>
                  <a:pt x="1379155" y="2858500"/>
                  <a:pt x="1408721" y="2850028"/>
                  <a:pt x="1439056" y="2848132"/>
                </a:cubicBezTo>
                <a:cubicBezTo>
                  <a:pt x="1568814" y="2840022"/>
                  <a:pt x="1698960" y="2839800"/>
                  <a:pt x="1828800" y="2833141"/>
                </a:cubicBezTo>
                <a:cubicBezTo>
                  <a:pt x="1893864" y="2829804"/>
                  <a:pt x="1958715" y="2823148"/>
                  <a:pt x="2023672" y="2818151"/>
                </a:cubicBezTo>
                <a:cubicBezTo>
                  <a:pt x="2189068" y="2785072"/>
                  <a:pt x="2125232" y="2804285"/>
                  <a:pt x="2218544" y="2773181"/>
                </a:cubicBezTo>
                <a:cubicBezTo>
                  <a:pt x="2228538" y="2763187"/>
                  <a:pt x="2237489" y="2752029"/>
                  <a:pt x="2248525" y="2743200"/>
                </a:cubicBezTo>
                <a:cubicBezTo>
                  <a:pt x="2296962" y="2704450"/>
                  <a:pt x="2312216" y="2715119"/>
                  <a:pt x="2353456" y="2653259"/>
                </a:cubicBezTo>
                <a:lnTo>
                  <a:pt x="2413417" y="2563318"/>
                </a:lnTo>
                <a:cubicBezTo>
                  <a:pt x="2418414" y="2548328"/>
                  <a:pt x="2420733" y="2532160"/>
                  <a:pt x="2428407" y="2518348"/>
                </a:cubicBezTo>
                <a:cubicBezTo>
                  <a:pt x="2445905" y="2486851"/>
                  <a:pt x="2476972" y="2462589"/>
                  <a:pt x="2488367" y="2428407"/>
                </a:cubicBezTo>
                <a:cubicBezTo>
                  <a:pt x="2507827" y="2370029"/>
                  <a:pt x="2492185" y="2394610"/>
                  <a:pt x="2533338" y="2353456"/>
                </a:cubicBezTo>
                <a:cubicBezTo>
                  <a:pt x="2557152" y="2282014"/>
                  <a:pt x="2545728" y="2271591"/>
                  <a:pt x="2593299" y="2233535"/>
                </a:cubicBezTo>
                <a:cubicBezTo>
                  <a:pt x="2607367" y="2222281"/>
                  <a:pt x="2623279" y="2213548"/>
                  <a:pt x="2638269" y="2203555"/>
                </a:cubicBezTo>
                <a:cubicBezTo>
                  <a:pt x="2648262" y="2188565"/>
                  <a:pt x="2656994" y="2172652"/>
                  <a:pt x="2668249" y="2158584"/>
                </a:cubicBezTo>
                <a:cubicBezTo>
                  <a:pt x="2705433" y="2112104"/>
                  <a:pt x="2697448" y="2145158"/>
                  <a:pt x="2728210" y="2083633"/>
                </a:cubicBezTo>
                <a:cubicBezTo>
                  <a:pt x="2735276" y="2069500"/>
                  <a:pt x="2734016" y="2051521"/>
                  <a:pt x="2743200" y="2038663"/>
                </a:cubicBezTo>
                <a:cubicBezTo>
                  <a:pt x="2759629" y="2015662"/>
                  <a:pt x="2787482" y="2002221"/>
                  <a:pt x="2803161" y="1978702"/>
                </a:cubicBezTo>
                <a:cubicBezTo>
                  <a:pt x="2813154" y="1963712"/>
                  <a:pt x="2821417" y="1947411"/>
                  <a:pt x="2833141" y="1933732"/>
                </a:cubicBezTo>
                <a:cubicBezTo>
                  <a:pt x="2851536" y="1912271"/>
                  <a:pt x="2877423" y="1897290"/>
                  <a:pt x="2893102" y="1873771"/>
                </a:cubicBezTo>
                <a:cubicBezTo>
                  <a:pt x="2960901" y="1772071"/>
                  <a:pt x="2927583" y="1809308"/>
                  <a:pt x="2983043" y="1753850"/>
                </a:cubicBezTo>
                <a:cubicBezTo>
                  <a:pt x="3022634" y="1635075"/>
                  <a:pt x="3007828" y="1695081"/>
                  <a:pt x="3028013" y="1573968"/>
                </a:cubicBezTo>
                <a:cubicBezTo>
                  <a:pt x="3023016" y="1474033"/>
                  <a:pt x="3031745" y="1372456"/>
                  <a:pt x="3013023" y="1274164"/>
                </a:cubicBezTo>
                <a:cubicBezTo>
                  <a:pt x="3010067" y="1258642"/>
                  <a:pt x="2981602" y="1267303"/>
                  <a:pt x="2968053" y="1259174"/>
                </a:cubicBezTo>
                <a:cubicBezTo>
                  <a:pt x="2864996" y="1197341"/>
                  <a:pt x="3072292" y="1248368"/>
                  <a:pt x="2833141" y="1214204"/>
                </a:cubicBezTo>
                <a:cubicBezTo>
                  <a:pt x="2823148" y="1199214"/>
                  <a:pt x="2814416" y="1183301"/>
                  <a:pt x="2803161" y="1169233"/>
                </a:cubicBezTo>
                <a:cubicBezTo>
                  <a:pt x="2772010" y="1130294"/>
                  <a:pt x="2766272" y="1146194"/>
                  <a:pt x="2743200" y="1094282"/>
                </a:cubicBezTo>
                <a:cubicBezTo>
                  <a:pt x="2730365" y="1065404"/>
                  <a:pt x="2723213" y="1034321"/>
                  <a:pt x="2713220" y="1004341"/>
                </a:cubicBezTo>
                <a:lnTo>
                  <a:pt x="2638269" y="779489"/>
                </a:lnTo>
                <a:lnTo>
                  <a:pt x="2578308" y="599607"/>
                </a:lnTo>
                <a:cubicBezTo>
                  <a:pt x="2573311" y="584617"/>
                  <a:pt x="2574491" y="565810"/>
                  <a:pt x="2563318" y="554637"/>
                </a:cubicBezTo>
                <a:cubicBezTo>
                  <a:pt x="2446409" y="437724"/>
                  <a:pt x="2635750" y="630991"/>
                  <a:pt x="2503358" y="479686"/>
                </a:cubicBezTo>
                <a:cubicBezTo>
                  <a:pt x="2480092" y="453096"/>
                  <a:pt x="2453391" y="429719"/>
                  <a:pt x="2428407" y="404735"/>
                </a:cubicBezTo>
                <a:cubicBezTo>
                  <a:pt x="2418413" y="394742"/>
                  <a:pt x="2406265" y="386514"/>
                  <a:pt x="2398426" y="374755"/>
                </a:cubicBezTo>
                <a:cubicBezTo>
                  <a:pt x="2388433" y="359765"/>
                  <a:pt x="2381185" y="342523"/>
                  <a:pt x="2368446" y="329784"/>
                </a:cubicBezTo>
                <a:cubicBezTo>
                  <a:pt x="2355707" y="317045"/>
                  <a:pt x="2337034" y="311667"/>
                  <a:pt x="2323476" y="299804"/>
                </a:cubicBezTo>
                <a:cubicBezTo>
                  <a:pt x="2296886" y="276538"/>
                  <a:pt x="2273509" y="249837"/>
                  <a:pt x="2248525" y="224853"/>
                </a:cubicBezTo>
                <a:lnTo>
                  <a:pt x="2218544" y="194873"/>
                </a:lnTo>
                <a:cubicBezTo>
                  <a:pt x="2208550" y="184879"/>
                  <a:pt x="2201972" y="169361"/>
                  <a:pt x="2188564" y="164892"/>
                </a:cubicBezTo>
                <a:cubicBezTo>
                  <a:pt x="2173574" y="159895"/>
                  <a:pt x="2157727" y="156968"/>
                  <a:pt x="2143594" y="149902"/>
                </a:cubicBezTo>
                <a:cubicBezTo>
                  <a:pt x="2027359" y="91785"/>
                  <a:pt x="2166686" y="142610"/>
                  <a:pt x="2053653" y="104932"/>
                </a:cubicBezTo>
                <a:cubicBezTo>
                  <a:pt x="2043659" y="94938"/>
                  <a:pt x="2035791" y="82223"/>
                  <a:pt x="2023672" y="74951"/>
                </a:cubicBezTo>
                <a:cubicBezTo>
                  <a:pt x="2008943" y="66113"/>
                  <a:pt x="1929118" y="47277"/>
                  <a:pt x="1918741" y="44971"/>
                </a:cubicBezTo>
                <a:cubicBezTo>
                  <a:pt x="1800080" y="18602"/>
                  <a:pt x="1833072" y="31102"/>
                  <a:pt x="1663908" y="14991"/>
                </a:cubicBezTo>
                <a:cubicBezTo>
                  <a:pt x="1618865" y="10701"/>
                  <a:pt x="1573967" y="4997"/>
                  <a:pt x="1528997" y="0"/>
                </a:cubicBezTo>
                <a:cubicBezTo>
                  <a:pt x="1384092" y="4997"/>
                  <a:pt x="1238743" y="2608"/>
                  <a:pt x="1094282" y="14991"/>
                </a:cubicBezTo>
                <a:cubicBezTo>
                  <a:pt x="1062795" y="17690"/>
                  <a:pt x="1035513" y="39776"/>
                  <a:pt x="1004341" y="44971"/>
                </a:cubicBezTo>
                <a:lnTo>
                  <a:pt x="914400" y="59961"/>
                </a:lnTo>
                <a:cubicBezTo>
                  <a:pt x="806558" y="95908"/>
                  <a:pt x="941252" y="52288"/>
                  <a:pt x="809469" y="89941"/>
                </a:cubicBezTo>
                <a:cubicBezTo>
                  <a:pt x="794276" y="94282"/>
                  <a:pt x="779489" y="99935"/>
                  <a:pt x="764499" y="104932"/>
                </a:cubicBezTo>
                <a:cubicBezTo>
                  <a:pt x="688533" y="180895"/>
                  <a:pt x="786845" y="91524"/>
                  <a:pt x="689548" y="149902"/>
                </a:cubicBezTo>
                <a:cubicBezTo>
                  <a:pt x="677429" y="157173"/>
                  <a:pt x="669561" y="169889"/>
                  <a:pt x="659567" y="179882"/>
                </a:cubicBezTo>
                <a:cubicBezTo>
                  <a:pt x="444245" y="170910"/>
                  <a:pt x="365711" y="145713"/>
                  <a:pt x="194872" y="179882"/>
                </a:cubicBezTo>
                <a:cubicBezTo>
                  <a:pt x="179378" y="182981"/>
                  <a:pt x="164892" y="189876"/>
                  <a:pt x="149902" y="194873"/>
                </a:cubicBezTo>
                <a:cubicBezTo>
                  <a:pt x="63987" y="323741"/>
                  <a:pt x="166988" y="160699"/>
                  <a:pt x="104931" y="284814"/>
                </a:cubicBezTo>
                <a:cubicBezTo>
                  <a:pt x="84062" y="326553"/>
                  <a:pt x="63132" y="341603"/>
                  <a:pt x="29980" y="374755"/>
                </a:cubicBezTo>
                <a:cubicBezTo>
                  <a:pt x="24983" y="394742"/>
                  <a:pt x="20650" y="414906"/>
                  <a:pt x="14990" y="434715"/>
                </a:cubicBezTo>
                <a:cubicBezTo>
                  <a:pt x="10649" y="449908"/>
                  <a:pt x="0" y="463885"/>
                  <a:pt x="0" y="479686"/>
                </a:cubicBezTo>
                <a:cubicBezTo>
                  <a:pt x="0" y="492527"/>
                  <a:pt x="7759" y="697304"/>
                  <a:pt x="44971" y="734518"/>
                </a:cubicBezTo>
                <a:lnTo>
                  <a:pt x="74951" y="764499"/>
                </a:lnTo>
                <a:lnTo>
                  <a:pt x="104931" y="854440"/>
                </a:lnTo>
                <a:cubicBezTo>
                  <a:pt x="109928" y="869430"/>
                  <a:pt x="116089" y="884081"/>
                  <a:pt x="119921" y="899410"/>
                </a:cubicBezTo>
                <a:cubicBezTo>
                  <a:pt x="122721" y="910608"/>
                  <a:pt x="140687" y="988982"/>
                  <a:pt x="149902" y="1004341"/>
                </a:cubicBezTo>
                <a:cubicBezTo>
                  <a:pt x="157173" y="1016460"/>
                  <a:pt x="168846" y="1025493"/>
                  <a:pt x="179882" y="1034322"/>
                </a:cubicBezTo>
                <a:cubicBezTo>
                  <a:pt x="193950" y="1045577"/>
                  <a:pt x="224853" y="1064302"/>
                  <a:pt x="224853" y="1064302"/>
                </a:cubicBezTo>
              </a:path>
            </a:pathLst>
          </a:cu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任意多边形 77"/>
          <p:cNvSpPr/>
          <p:nvPr/>
        </p:nvSpPr>
        <p:spPr>
          <a:xfrm>
            <a:off x="5759640" y="1772640"/>
            <a:ext cx="2196360" cy="2751120"/>
          </a:xfrm>
          <a:custGeom>
            <a:avLst/>
            <a:gdLst>
              <a:gd name="textAreaLeft" fmla="*/ 0 w 2196360"/>
              <a:gd name="textAreaRight" fmla="*/ 2196720 w 2196360"/>
              <a:gd name="textAreaTop" fmla="*/ 0 h 2751120"/>
              <a:gd name="textAreaBottom" fmla="*/ 2751480 h 2751120"/>
            </a:gdLst>
            <a:ahLst/>
            <a:rect l="textAreaLeft" t="textAreaTop" r="textAreaRight" b="textAreaBottom"/>
            <a:pathLst>
              <a:path w="1439056" h="1753849">
                <a:moveTo>
                  <a:pt x="89941" y="119921"/>
                </a:moveTo>
                <a:cubicBezTo>
                  <a:pt x="99934" y="94937"/>
                  <a:pt x="102695" y="65641"/>
                  <a:pt x="119921" y="44970"/>
                </a:cubicBezTo>
                <a:cubicBezTo>
                  <a:pt x="130037" y="32831"/>
                  <a:pt x="150759" y="37046"/>
                  <a:pt x="164892" y="29980"/>
                </a:cubicBezTo>
                <a:cubicBezTo>
                  <a:pt x="181006" y="21923"/>
                  <a:pt x="194872" y="9993"/>
                  <a:pt x="209862" y="0"/>
                </a:cubicBezTo>
                <a:cubicBezTo>
                  <a:pt x="369757" y="4997"/>
                  <a:pt x="530022" y="3026"/>
                  <a:pt x="689547" y="14990"/>
                </a:cubicBezTo>
                <a:cubicBezTo>
                  <a:pt x="730636" y="18072"/>
                  <a:pt x="770380" y="31939"/>
                  <a:pt x="809469" y="44970"/>
                </a:cubicBezTo>
                <a:cubicBezTo>
                  <a:pt x="824459" y="49967"/>
                  <a:pt x="840306" y="52895"/>
                  <a:pt x="854439" y="59961"/>
                </a:cubicBezTo>
                <a:cubicBezTo>
                  <a:pt x="870553" y="68018"/>
                  <a:pt x="882947" y="82624"/>
                  <a:pt x="899410" y="89941"/>
                </a:cubicBezTo>
                <a:cubicBezTo>
                  <a:pt x="928288" y="102776"/>
                  <a:pt x="989351" y="119921"/>
                  <a:pt x="989351" y="119921"/>
                </a:cubicBezTo>
                <a:lnTo>
                  <a:pt x="1079292" y="179882"/>
                </a:lnTo>
                <a:cubicBezTo>
                  <a:pt x="1094282" y="189875"/>
                  <a:pt x="1111523" y="197123"/>
                  <a:pt x="1124262" y="209862"/>
                </a:cubicBezTo>
                <a:cubicBezTo>
                  <a:pt x="1268602" y="354202"/>
                  <a:pt x="1115044" y="208483"/>
                  <a:pt x="1229193" y="299803"/>
                </a:cubicBezTo>
                <a:cubicBezTo>
                  <a:pt x="1335991" y="385242"/>
                  <a:pt x="1165734" y="267490"/>
                  <a:pt x="1304144" y="359764"/>
                </a:cubicBezTo>
                <a:cubicBezTo>
                  <a:pt x="1314137" y="374754"/>
                  <a:pt x="1322870" y="390666"/>
                  <a:pt x="1334124" y="404734"/>
                </a:cubicBezTo>
                <a:cubicBezTo>
                  <a:pt x="1342953" y="415770"/>
                  <a:pt x="1358538" y="421725"/>
                  <a:pt x="1364105" y="434715"/>
                </a:cubicBezTo>
                <a:cubicBezTo>
                  <a:pt x="1376318" y="463211"/>
                  <a:pt x="1392818" y="620295"/>
                  <a:pt x="1394085" y="629587"/>
                </a:cubicBezTo>
                <a:cubicBezTo>
                  <a:pt x="1422871" y="840688"/>
                  <a:pt x="1411935" y="778805"/>
                  <a:pt x="1439056" y="914400"/>
                </a:cubicBezTo>
                <a:cubicBezTo>
                  <a:pt x="1434059" y="1009338"/>
                  <a:pt x="1432672" y="1104534"/>
                  <a:pt x="1424065" y="1199213"/>
                </a:cubicBezTo>
                <a:cubicBezTo>
                  <a:pt x="1422634" y="1214949"/>
                  <a:pt x="1420248" y="1233011"/>
                  <a:pt x="1409075" y="1244184"/>
                </a:cubicBezTo>
                <a:cubicBezTo>
                  <a:pt x="1397902" y="1255357"/>
                  <a:pt x="1379095" y="1254177"/>
                  <a:pt x="1364105" y="1259174"/>
                </a:cubicBezTo>
                <a:cubicBezTo>
                  <a:pt x="1313732" y="1410294"/>
                  <a:pt x="1390588" y="1175893"/>
                  <a:pt x="1334124" y="1364105"/>
                </a:cubicBezTo>
                <a:cubicBezTo>
                  <a:pt x="1325043" y="1394374"/>
                  <a:pt x="1334124" y="1444053"/>
                  <a:pt x="1304144" y="1454046"/>
                </a:cubicBezTo>
                <a:lnTo>
                  <a:pt x="1259174" y="1469036"/>
                </a:lnTo>
                <a:cubicBezTo>
                  <a:pt x="1222292" y="1505918"/>
                  <a:pt x="1192063" y="1528307"/>
                  <a:pt x="1169233" y="1573967"/>
                </a:cubicBezTo>
                <a:cubicBezTo>
                  <a:pt x="1162166" y="1588100"/>
                  <a:pt x="1165415" y="1607765"/>
                  <a:pt x="1154242" y="1618938"/>
                </a:cubicBezTo>
                <a:cubicBezTo>
                  <a:pt x="1143069" y="1630111"/>
                  <a:pt x="1123405" y="1626862"/>
                  <a:pt x="1109272" y="1633928"/>
                </a:cubicBezTo>
                <a:cubicBezTo>
                  <a:pt x="1093158" y="1641985"/>
                  <a:pt x="1080415" y="1655851"/>
                  <a:pt x="1064301" y="1663908"/>
                </a:cubicBezTo>
                <a:cubicBezTo>
                  <a:pt x="1014074" y="1689021"/>
                  <a:pt x="927167" y="1689138"/>
                  <a:pt x="884419" y="1693888"/>
                </a:cubicBezTo>
                <a:cubicBezTo>
                  <a:pt x="874426" y="1703882"/>
                  <a:pt x="866558" y="1716598"/>
                  <a:pt x="854439" y="1723869"/>
                </a:cubicBezTo>
                <a:cubicBezTo>
                  <a:pt x="814487" y="1747840"/>
                  <a:pt x="687881" y="1752369"/>
                  <a:pt x="674557" y="1753849"/>
                </a:cubicBezTo>
                <a:cubicBezTo>
                  <a:pt x="634583" y="1748852"/>
                  <a:pt x="594027" y="1747300"/>
                  <a:pt x="554636" y="1738859"/>
                </a:cubicBezTo>
                <a:cubicBezTo>
                  <a:pt x="523735" y="1732238"/>
                  <a:pt x="464695" y="1708879"/>
                  <a:pt x="464695" y="1708879"/>
                </a:cubicBezTo>
                <a:cubicBezTo>
                  <a:pt x="406138" y="1650320"/>
                  <a:pt x="467581" y="1702826"/>
                  <a:pt x="389744" y="1663908"/>
                </a:cubicBezTo>
                <a:cubicBezTo>
                  <a:pt x="273508" y="1605791"/>
                  <a:pt x="412840" y="1656616"/>
                  <a:pt x="299803" y="1618938"/>
                </a:cubicBezTo>
                <a:cubicBezTo>
                  <a:pt x="284813" y="1608944"/>
                  <a:pt x="271296" y="1596274"/>
                  <a:pt x="254833" y="1588957"/>
                </a:cubicBezTo>
                <a:cubicBezTo>
                  <a:pt x="225955" y="1576122"/>
                  <a:pt x="164892" y="1558977"/>
                  <a:pt x="164892" y="1558977"/>
                </a:cubicBezTo>
                <a:cubicBezTo>
                  <a:pt x="92192" y="1486277"/>
                  <a:pt x="128450" y="1514695"/>
                  <a:pt x="59960" y="1469036"/>
                </a:cubicBezTo>
                <a:cubicBezTo>
                  <a:pt x="30411" y="1380387"/>
                  <a:pt x="12538" y="1371459"/>
                  <a:pt x="44970" y="1274164"/>
                </a:cubicBezTo>
                <a:cubicBezTo>
                  <a:pt x="49439" y="1260756"/>
                  <a:pt x="64957" y="1254177"/>
                  <a:pt x="74951" y="1244184"/>
                </a:cubicBezTo>
                <a:cubicBezTo>
                  <a:pt x="83509" y="1201393"/>
                  <a:pt x="92230" y="1151611"/>
                  <a:pt x="104931" y="1109272"/>
                </a:cubicBezTo>
                <a:cubicBezTo>
                  <a:pt x="114012" y="1079003"/>
                  <a:pt x="124918" y="1049311"/>
                  <a:pt x="134911" y="1019331"/>
                </a:cubicBezTo>
                <a:cubicBezTo>
                  <a:pt x="154370" y="960953"/>
                  <a:pt x="138728" y="985534"/>
                  <a:pt x="179882" y="944380"/>
                </a:cubicBezTo>
                <a:cubicBezTo>
                  <a:pt x="171481" y="885572"/>
                  <a:pt x="186441" y="840387"/>
                  <a:pt x="134911" y="809469"/>
                </a:cubicBezTo>
                <a:cubicBezTo>
                  <a:pt x="121362" y="801340"/>
                  <a:pt x="104931" y="799476"/>
                  <a:pt x="89941" y="794479"/>
                </a:cubicBezTo>
                <a:cubicBezTo>
                  <a:pt x="79947" y="784485"/>
                  <a:pt x="70996" y="773327"/>
                  <a:pt x="59960" y="764498"/>
                </a:cubicBezTo>
                <a:cubicBezTo>
                  <a:pt x="45892" y="753244"/>
                  <a:pt x="26244" y="748586"/>
                  <a:pt x="14990" y="734518"/>
                </a:cubicBezTo>
                <a:cubicBezTo>
                  <a:pt x="5119" y="722180"/>
                  <a:pt x="4997" y="704538"/>
                  <a:pt x="0" y="689548"/>
                </a:cubicBezTo>
                <a:cubicBezTo>
                  <a:pt x="4803" y="670337"/>
                  <a:pt x="19228" y="606121"/>
                  <a:pt x="29980" y="584616"/>
                </a:cubicBezTo>
                <a:cubicBezTo>
                  <a:pt x="88101" y="468372"/>
                  <a:pt x="37268" y="607719"/>
                  <a:pt x="74951" y="494675"/>
                </a:cubicBezTo>
                <a:cubicBezTo>
                  <a:pt x="79948" y="464695"/>
                  <a:pt x="89941" y="435128"/>
                  <a:pt x="89941" y="404734"/>
                </a:cubicBezTo>
                <a:cubicBezTo>
                  <a:pt x="89941" y="304321"/>
                  <a:pt x="83416" y="295216"/>
                  <a:pt x="59960" y="224852"/>
                </a:cubicBezTo>
                <a:cubicBezTo>
                  <a:pt x="64957" y="209862"/>
                  <a:pt x="70610" y="195075"/>
                  <a:pt x="74951" y="179882"/>
                </a:cubicBezTo>
                <a:cubicBezTo>
                  <a:pt x="80611" y="160073"/>
                  <a:pt x="78513" y="137063"/>
                  <a:pt x="89941" y="119921"/>
                </a:cubicBezTo>
                <a:cubicBezTo>
                  <a:pt x="106546" y="95013"/>
                  <a:pt x="154229" y="83502"/>
                  <a:pt x="179882" y="74951"/>
                </a:cubicBezTo>
                <a:lnTo>
                  <a:pt x="239842" y="14990"/>
                </a:ln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TextBox 79"/>
          <p:cNvSpPr/>
          <p:nvPr/>
        </p:nvSpPr>
        <p:spPr>
          <a:xfrm>
            <a:off x="5940000" y="2025360"/>
            <a:ext cx="18000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直接连接符 75"/>
          <p:cNvCxnSpPr/>
          <p:nvPr/>
        </p:nvCxnSpPr>
        <p:spPr>
          <a:xfrm>
            <a:off x="4607280" y="1517040"/>
            <a:ext cx="360" cy="22593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278" name="直接连接符 80"/>
          <p:cNvCxnSpPr/>
          <p:nvPr/>
        </p:nvCxnSpPr>
        <p:spPr>
          <a:xfrm>
            <a:off x="4139640" y="1530000"/>
            <a:ext cx="360" cy="22593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279" name="直接连接符 81"/>
          <p:cNvCxnSpPr/>
          <p:nvPr/>
        </p:nvCxnSpPr>
        <p:spPr>
          <a:xfrm>
            <a:off x="3707640" y="1556640"/>
            <a:ext cx="360" cy="33847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280" name="直接连接符 82"/>
          <p:cNvCxnSpPr/>
          <p:nvPr/>
        </p:nvCxnSpPr>
        <p:spPr>
          <a:xfrm>
            <a:off x="3261240" y="1556640"/>
            <a:ext cx="22320" cy="33847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0000">
              <a:srgbClr val="f2f2f2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椭圆 2"/>
          <p:cNvSpPr/>
          <p:nvPr/>
        </p:nvSpPr>
        <p:spPr>
          <a:xfrm>
            <a:off x="5208120" y="3465720"/>
            <a:ext cx="575640" cy="567720"/>
          </a:xfrm>
          <a:prstGeom prst="ellipse">
            <a:avLst/>
          </a:pr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任意多边形 3"/>
          <p:cNvSpPr/>
          <p:nvPr/>
        </p:nvSpPr>
        <p:spPr>
          <a:xfrm>
            <a:off x="5470920" y="1622880"/>
            <a:ext cx="2773080" cy="3174120"/>
          </a:xfrm>
          <a:custGeom>
            <a:avLst/>
            <a:gdLst>
              <a:gd name="textAreaLeft" fmla="*/ 0 w 2773080"/>
              <a:gd name="textAreaRight" fmla="*/ 2773440 w 2773080"/>
              <a:gd name="textAreaTop" fmla="*/ 0 h 3174120"/>
              <a:gd name="textAreaBottom" fmla="*/ 3174480 h 3174120"/>
            </a:gdLst>
            <a:ahLst/>
            <a:rect l="textAreaLeft" t="textAreaTop" r="textAreaRight" b="textAreaBottom"/>
            <a:pathLst>
              <a:path w="3028013" h="2908092">
                <a:moveTo>
                  <a:pt x="239843" y="914400"/>
                </a:moveTo>
                <a:cubicBezTo>
                  <a:pt x="237680" y="925216"/>
                  <a:pt x="223033" y="1014565"/>
                  <a:pt x="209862" y="1034322"/>
                </a:cubicBezTo>
                <a:cubicBezTo>
                  <a:pt x="198103" y="1051961"/>
                  <a:pt x="179882" y="1064302"/>
                  <a:pt x="164892" y="1079292"/>
                </a:cubicBezTo>
                <a:cubicBezTo>
                  <a:pt x="159895" y="1094282"/>
                  <a:pt x="149902" y="1108462"/>
                  <a:pt x="149902" y="1124263"/>
                </a:cubicBezTo>
                <a:cubicBezTo>
                  <a:pt x="149902" y="1154657"/>
                  <a:pt x="158931" y="1184400"/>
                  <a:pt x="164892" y="1214204"/>
                </a:cubicBezTo>
                <a:cubicBezTo>
                  <a:pt x="169987" y="1239679"/>
                  <a:pt x="200303" y="1354546"/>
                  <a:pt x="209862" y="1364105"/>
                </a:cubicBezTo>
                <a:lnTo>
                  <a:pt x="239843" y="1394086"/>
                </a:lnTo>
                <a:cubicBezTo>
                  <a:pt x="249836" y="1424066"/>
                  <a:pt x="247477" y="1461681"/>
                  <a:pt x="269823" y="1484027"/>
                </a:cubicBezTo>
                <a:cubicBezTo>
                  <a:pt x="284813" y="1499017"/>
                  <a:pt x="298508" y="1515426"/>
                  <a:pt x="314794" y="1528997"/>
                </a:cubicBezTo>
                <a:cubicBezTo>
                  <a:pt x="428235" y="1623530"/>
                  <a:pt x="302536" y="1501747"/>
                  <a:pt x="389744" y="1588958"/>
                </a:cubicBezTo>
                <a:cubicBezTo>
                  <a:pt x="384747" y="1613942"/>
                  <a:pt x="381458" y="1639328"/>
                  <a:pt x="374754" y="1663909"/>
                </a:cubicBezTo>
                <a:cubicBezTo>
                  <a:pt x="366439" y="1694398"/>
                  <a:pt x="344774" y="1753850"/>
                  <a:pt x="344774" y="1753850"/>
                </a:cubicBezTo>
                <a:cubicBezTo>
                  <a:pt x="344025" y="1768832"/>
                  <a:pt x="356430" y="2058654"/>
                  <a:pt x="299803" y="2143594"/>
                </a:cubicBezTo>
                <a:lnTo>
                  <a:pt x="269823" y="2188564"/>
                </a:lnTo>
                <a:cubicBezTo>
                  <a:pt x="264826" y="2203554"/>
                  <a:pt x="261899" y="2219402"/>
                  <a:pt x="254833" y="2233535"/>
                </a:cubicBezTo>
                <a:cubicBezTo>
                  <a:pt x="221082" y="2301039"/>
                  <a:pt x="191264" y="2274134"/>
                  <a:pt x="239843" y="2383437"/>
                </a:cubicBezTo>
                <a:cubicBezTo>
                  <a:pt x="247160" y="2399900"/>
                  <a:pt x="268350" y="2406100"/>
                  <a:pt x="284813" y="2413417"/>
                </a:cubicBezTo>
                <a:cubicBezTo>
                  <a:pt x="313691" y="2426252"/>
                  <a:pt x="374754" y="2443397"/>
                  <a:pt x="374754" y="2443397"/>
                </a:cubicBezTo>
                <a:cubicBezTo>
                  <a:pt x="433313" y="2501954"/>
                  <a:pt x="371869" y="2449449"/>
                  <a:pt x="449705" y="2488368"/>
                </a:cubicBezTo>
                <a:cubicBezTo>
                  <a:pt x="565932" y="2546482"/>
                  <a:pt x="426620" y="2495663"/>
                  <a:pt x="539646" y="2533338"/>
                </a:cubicBezTo>
                <a:cubicBezTo>
                  <a:pt x="551838" y="2569916"/>
                  <a:pt x="555556" y="2594219"/>
                  <a:pt x="584617" y="2623279"/>
                </a:cubicBezTo>
                <a:cubicBezTo>
                  <a:pt x="597356" y="2636018"/>
                  <a:pt x="615908" y="2641535"/>
                  <a:pt x="629587" y="2653259"/>
                </a:cubicBezTo>
                <a:cubicBezTo>
                  <a:pt x="651048" y="2671654"/>
                  <a:pt x="666029" y="2697541"/>
                  <a:pt x="689548" y="2713220"/>
                </a:cubicBezTo>
                <a:lnTo>
                  <a:pt x="824459" y="2803161"/>
                </a:lnTo>
                <a:lnTo>
                  <a:pt x="914400" y="2863122"/>
                </a:lnTo>
                <a:cubicBezTo>
                  <a:pt x="929390" y="2873116"/>
                  <a:pt x="941893" y="2888732"/>
                  <a:pt x="959371" y="2893102"/>
                </a:cubicBezTo>
                <a:lnTo>
                  <a:pt x="1019331" y="2908092"/>
                </a:lnTo>
                <a:cubicBezTo>
                  <a:pt x="1079292" y="2903095"/>
                  <a:pt x="1139572" y="2901054"/>
                  <a:pt x="1199213" y="2893102"/>
                </a:cubicBezTo>
                <a:cubicBezTo>
                  <a:pt x="1214876" y="2891014"/>
                  <a:pt x="1228690" y="2881211"/>
                  <a:pt x="1244184" y="2878112"/>
                </a:cubicBezTo>
                <a:cubicBezTo>
                  <a:pt x="1278830" y="2871183"/>
                  <a:pt x="1314194" y="2868494"/>
                  <a:pt x="1349115" y="2863122"/>
                </a:cubicBezTo>
                <a:cubicBezTo>
                  <a:pt x="1379155" y="2858500"/>
                  <a:pt x="1408721" y="2850028"/>
                  <a:pt x="1439056" y="2848132"/>
                </a:cubicBezTo>
                <a:cubicBezTo>
                  <a:pt x="1568814" y="2840022"/>
                  <a:pt x="1698960" y="2839800"/>
                  <a:pt x="1828800" y="2833141"/>
                </a:cubicBezTo>
                <a:cubicBezTo>
                  <a:pt x="1893864" y="2829804"/>
                  <a:pt x="1958715" y="2823148"/>
                  <a:pt x="2023672" y="2818151"/>
                </a:cubicBezTo>
                <a:cubicBezTo>
                  <a:pt x="2189068" y="2785072"/>
                  <a:pt x="2125232" y="2804285"/>
                  <a:pt x="2218544" y="2773181"/>
                </a:cubicBezTo>
                <a:cubicBezTo>
                  <a:pt x="2228538" y="2763187"/>
                  <a:pt x="2237489" y="2752029"/>
                  <a:pt x="2248525" y="2743200"/>
                </a:cubicBezTo>
                <a:cubicBezTo>
                  <a:pt x="2296962" y="2704450"/>
                  <a:pt x="2312216" y="2715119"/>
                  <a:pt x="2353456" y="2653259"/>
                </a:cubicBezTo>
                <a:lnTo>
                  <a:pt x="2413417" y="2563318"/>
                </a:lnTo>
                <a:cubicBezTo>
                  <a:pt x="2418414" y="2548328"/>
                  <a:pt x="2420733" y="2532160"/>
                  <a:pt x="2428407" y="2518348"/>
                </a:cubicBezTo>
                <a:cubicBezTo>
                  <a:pt x="2445905" y="2486851"/>
                  <a:pt x="2476972" y="2462589"/>
                  <a:pt x="2488367" y="2428407"/>
                </a:cubicBezTo>
                <a:cubicBezTo>
                  <a:pt x="2507827" y="2370029"/>
                  <a:pt x="2492185" y="2394610"/>
                  <a:pt x="2533338" y="2353456"/>
                </a:cubicBezTo>
                <a:cubicBezTo>
                  <a:pt x="2557152" y="2282014"/>
                  <a:pt x="2545728" y="2271591"/>
                  <a:pt x="2593299" y="2233535"/>
                </a:cubicBezTo>
                <a:cubicBezTo>
                  <a:pt x="2607367" y="2222281"/>
                  <a:pt x="2623279" y="2213548"/>
                  <a:pt x="2638269" y="2203555"/>
                </a:cubicBezTo>
                <a:cubicBezTo>
                  <a:pt x="2648262" y="2188565"/>
                  <a:pt x="2656994" y="2172652"/>
                  <a:pt x="2668249" y="2158584"/>
                </a:cubicBezTo>
                <a:cubicBezTo>
                  <a:pt x="2705433" y="2112104"/>
                  <a:pt x="2697448" y="2145158"/>
                  <a:pt x="2728210" y="2083633"/>
                </a:cubicBezTo>
                <a:cubicBezTo>
                  <a:pt x="2735276" y="2069500"/>
                  <a:pt x="2734016" y="2051521"/>
                  <a:pt x="2743200" y="2038663"/>
                </a:cubicBezTo>
                <a:cubicBezTo>
                  <a:pt x="2759629" y="2015662"/>
                  <a:pt x="2787482" y="2002221"/>
                  <a:pt x="2803161" y="1978702"/>
                </a:cubicBezTo>
                <a:cubicBezTo>
                  <a:pt x="2813154" y="1963712"/>
                  <a:pt x="2821417" y="1947411"/>
                  <a:pt x="2833141" y="1933732"/>
                </a:cubicBezTo>
                <a:cubicBezTo>
                  <a:pt x="2851536" y="1912271"/>
                  <a:pt x="2877423" y="1897290"/>
                  <a:pt x="2893102" y="1873771"/>
                </a:cubicBezTo>
                <a:cubicBezTo>
                  <a:pt x="2960901" y="1772071"/>
                  <a:pt x="2927583" y="1809308"/>
                  <a:pt x="2983043" y="1753850"/>
                </a:cubicBezTo>
                <a:cubicBezTo>
                  <a:pt x="3022634" y="1635075"/>
                  <a:pt x="3007828" y="1695081"/>
                  <a:pt x="3028013" y="1573968"/>
                </a:cubicBezTo>
                <a:cubicBezTo>
                  <a:pt x="3023016" y="1474033"/>
                  <a:pt x="3031745" y="1372456"/>
                  <a:pt x="3013023" y="1274164"/>
                </a:cubicBezTo>
                <a:cubicBezTo>
                  <a:pt x="3010067" y="1258642"/>
                  <a:pt x="2981602" y="1267303"/>
                  <a:pt x="2968053" y="1259174"/>
                </a:cubicBezTo>
                <a:cubicBezTo>
                  <a:pt x="2864996" y="1197341"/>
                  <a:pt x="3072292" y="1248368"/>
                  <a:pt x="2833141" y="1214204"/>
                </a:cubicBezTo>
                <a:cubicBezTo>
                  <a:pt x="2823148" y="1199214"/>
                  <a:pt x="2814416" y="1183301"/>
                  <a:pt x="2803161" y="1169233"/>
                </a:cubicBezTo>
                <a:cubicBezTo>
                  <a:pt x="2772010" y="1130294"/>
                  <a:pt x="2766272" y="1146194"/>
                  <a:pt x="2743200" y="1094282"/>
                </a:cubicBezTo>
                <a:cubicBezTo>
                  <a:pt x="2730365" y="1065404"/>
                  <a:pt x="2723213" y="1034321"/>
                  <a:pt x="2713220" y="1004341"/>
                </a:cubicBezTo>
                <a:lnTo>
                  <a:pt x="2638269" y="779489"/>
                </a:lnTo>
                <a:lnTo>
                  <a:pt x="2578308" y="599607"/>
                </a:lnTo>
                <a:cubicBezTo>
                  <a:pt x="2573311" y="584617"/>
                  <a:pt x="2574491" y="565810"/>
                  <a:pt x="2563318" y="554637"/>
                </a:cubicBezTo>
                <a:cubicBezTo>
                  <a:pt x="2446409" y="437724"/>
                  <a:pt x="2635750" y="630991"/>
                  <a:pt x="2503358" y="479686"/>
                </a:cubicBezTo>
                <a:cubicBezTo>
                  <a:pt x="2480092" y="453096"/>
                  <a:pt x="2453391" y="429719"/>
                  <a:pt x="2428407" y="404735"/>
                </a:cubicBezTo>
                <a:cubicBezTo>
                  <a:pt x="2418413" y="394742"/>
                  <a:pt x="2406265" y="386514"/>
                  <a:pt x="2398426" y="374755"/>
                </a:cubicBezTo>
                <a:cubicBezTo>
                  <a:pt x="2388433" y="359765"/>
                  <a:pt x="2381185" y="342523"/>
                  <a:pt x="2368446" y="329784"/>
                </a:cubicBezTo>
                <a:cubicBezTo>
                  <a:pt x="2355707" y="317045"/>
                  <a:pt x="2337034" y="311667"/>
                  <a:pt x="2323476" y="299804"/>
                </a:cubicBezTo>
                <a:cubicBezTo>
                  <a:pt x="2296886" y="276538"/>
                  <a:pt x="2273509" y="249837"/>
                  <a:pt x="2248525" y="224853"/>
                </a:cubicBezTo>
                <a:lnTo>
                  <a:pt x="2218544" y="194873"/>
                </a:lnTo>
                <a:cubicBezTo>
                  <a:pt x="2208550" y="184879"/>
                  <a:pt x="2201972" y="169361"/>
                  <a:pt x="2188564" y="164892"/>
                </a:cubicBezTo>
                <a:cubicBezTo>
                  <a:pt x="2173574" y="159895"/>
                  <a:pt x="2157727" y="156968"/>
                  <a:pt x="2143594" y="149902"/>
                </a:cubicBezTo>
                <a:cubicBezTo>
                  <a:pt x="2027359" y="91785"/>
                  <a:pt x="2166686" y="142610"/>
                  <a:pt x="2053653" y="104932"/>
                </a:cubicBezTo>
                <a:cubicBezTo>
                  <a:pt x="2043659" y="94938"/>
                  <a:pt x="2035791" y="82223"/>
                  <a:pt x="2023672" y="74951"/>
                </a:cubicBezTo>
                <a:cubicBezTo>
                  <a:pt x="2008943" y="66113"/>
                  <a:pt x="1929118" y="47277"/>
                  <a:pt x="1918741" y="44971"/>
                </a:cubicBezTo>
                <a:cubicBezTo>
                  <a:pt x="1800080" y="18602"/>
                  <a:pt x="1833072" y="31102"/>
                  <a:pt x="1663908" y="14991"/>
                </a:cubicBezTo>
                <a:cubicBezTo>
                  <a:pt x="1618865" y="10701"/>
                  <a:pt x="1573967" y="4997"/>
                  <a:pt x="1528997" y="0"/>
                </a:cubicBezTo>
                <a:cubicBezTo>
                  <a:pt x="1384092" y="4997"/>
                  <a:pt x="1238743" y="2608"/>
                  <a:pt x="1094282" y="14991"/>
                </a:cubicBezTo>
                <a:cubicBezTo>
                  <a:pt x="1062795" y="17690"/>
                  <a:pt x="1035513" y="39776"/>
                  <a:pt x="1004341" y="44971"/>
                </a:cubicBezTo>
                <a:lnTo>
                  <a:pt x="914400" y="59961"/>
                </a:lnTo>
                <a:cubicBezTo>
                  <a:pt x="806558" y="95908"/>
                  <a:pt x="941252" y="52288"/>
                  <a:pt x="809469" y="89941"/>
                </a:cubicBezTo>
                <a:cubicBezTo>
                  <a:pt x="794276" y="94282"/>
                  <a:pt x="779489" y="99935"/>
                  <a:pt x="764499" y="104932"/>
                </a:cubicBezTo>
                <a:cubicBezTo>
                  <a:pt x="688533" y="180895"/>
                  <a:pt x="786845" y="91524"/>
                  <a:pt x="689548" y="149902"/>
                </a:cubicBezTo>
                <a:cubicBezTo>
                  <a:pt x="677429" y="157173"/>
                  <a:pt x="669561" y="169889"/>
                  <a:pt x="659567" y="179882"/>
                </a:cubicBezTo>
                <a:cubicBezTo>
                  <a:pt x="444245" y="170910"/>
                  <a:pt x="365711" y="145713"/>
                  <a:pt x="194872" y="179882"/>
                </a:cubicBezTo>
                <a:cubicBezTo>
                  <a:pt x="179378" y="182981"/>
                  <a:pt x="164892" y="189876"/>
                  <a:pt x="149902" y="194873"/>
                </a:cubicBezTo>
                <a:cubicBezTo>
                  <a:pt x="63987" y="323741"/>
                  <a:pt x="166988" y="160699"/>
                  <a:pt x="104931" y="284814"/>
                </a:cubicBezTo>
                <a:cubicBezTo>
                  <a:pt x="84062" y="326553"/>
                  <a:pt x="63132" y="341603"/>
                  <a:pt x="29980" y="374755"/>
                </a:cubicBezTo>
                <a:cubicBezTo>
                  <a:pt x="24983" y="394742"/>
                  <a:pt x="20650" y="414906"/>
                  <a:pt x="14990" y="434715"/>
                </a:cubicBezTo>
                <a:cubicBezTo>
                  <a:pt x="10649" y="449908"/>
                  <a:pt x="0" y="463885"/>
                  <a:pt x="0" y="479686"/>
                </a:cubicBezTo>
                <a:cubicBezTo>
                  <a:pt x="0" y="492527"/>
                  <a:pt x="7759" y="697304"/>
                  <a:pt x="44971" y="734518"/>
                </a:cubicBezTo>
                <a:lnTo>
                  <a:pt x="74951" y="764499"/>
                </a:lnTo>
                <a:lnTo>
                  <a:pt x="104931" y="854440"/>
                </a:lnTo>
                <a:cubicBezTo>
                  <a:pt x="109928" y="869430"/>
                  <a:pt x="116089" y="884081"/>
                  <a:pt x="119921" y="899410"/>
                </a:cubicBezTo>
                <a:cubicBezTo>
                  <a:pt x="122721" y="910608"/>
                  <a:pt x="140687" y="988982"/>
                  <a:pt x="149902" y="1004341"/>
                </a:cubicBezTo>
                <a:cubicBezTo>
                  <a:pt x="157173" y="1016460"/>
                  <a:pt x="168846" y="1025493"/>
                  <a:pt x="179882" y="1034322"/>
                </a:cubicBezTo>
                <a:cubicBezTo>
                  <a:pt x="193950" y="1045577"/>
                  <a:pt x="224853" y="1064302"/>
                  <a:pt x="224853" y="1064302"/>
                </a:cubicBezTo>
              </a:path>
            </a:pathLst>
          </a:cu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任意多边形 4"/>
          <p:cNvSpPr/>
          <p:nvPr/>
        </p:nvSpPr>
        <p:spPr>
          <a:xfrm>
            <a:off x="5759640" y="1772640"/>
            <a:ext cx="2196360" cy="2751120"/>
          </a:xfrm>
          <a:custGeom>
            <a:avLst/>
            <a:gdLst>
              <a:gd name="textAreaLeft" fmla="*/ 0 w 2196360"/>
              <a:gd name="textAreaRight" fmla="*/ 2196720 w 2196360"/>
              <a:gd name="textAreaTop" fmla="*/ 0 h 2751120"/>
              <a:gd name="textAreaBottom" fmla="*/ 2751480 h 2751120"/>
            </a:gdLst>
            <a:ahLst/>
            <a:rect l="textAreaLeft" t="textAreaTop" r="textAreaRight" b="textAreaBottom"/>
            <a:pathLst>
              <a:path w="1439056" h="1753849">
                <a:moveTo>
                  <a:pt x="89941" y="119921"/>
                </a:moveTo>
                <a:cubicBezTo>
                  <a:pt x="99934" y="94937"/>
                  <a:pt x="102695" y="65641"/>
                  <a:pt x="119921" y="44970"/>
                </a:cubicBezTo>
                <a:cubicBezTo>
                  <a:pt x="130037" y="32831"/>
                  <a:pt x="150759" y="37046"/>
                  <a:pt x="164892" y="29980"/>
                </a:cubicBezTo>
                <a:cubicBezTo>
                  <a:pt x="181006" y="21923"/>
                  <a:pt x="194872" y="9993"/>
                  <a:pt x="209862" y="0"/>
                </a:cubicBezTo>
                <a:cubicBezTo>
                  <a:pt x="369757" y="4997"/>
                  <a:pt x="530022" y="3026"/>
                  <a:pt x="689547" y="14990"/>
                </a:cubicBezTo>
                <a:cubicBezTo>
                  <a:pt x="730636" y="18072"/>
                  <a:pt x="770380" y="31939"/>
                  <a:pt x="809469" y="44970"/>
                </a:cubicBezTo>
                <a:cubicBezTo>
                  <a:pt x="824459" y="49967"/>
                  <a:pt x="840306" y="52895"/>
                  <a:pt x="854439" y="59961"/>
                </a:cubicBezTo>
                <a:cubicBezTo>
                  <a:pt x="870553" y="68018"/>
                  <a:pt x="882947" y="82624"/>
                  <a:pt x="899410" y="89941"/>
                </a:cubicBezTo>
                <a:cubicBezTo>
                  <a:pt x="928288" y="102776"/>
                  <a:pt x="989351" y="119921"/>
                  <a:pt x="989351" y="119921"/>
                </a:cubicBezTo>
                <a:lnTo>
                  <a:pt x="1079292" y="179882"/>
                </a:lnTo>
                <a:cubicBezTo>
                  <a:pt x="1094282" y="189875"/>
                  <a:pt x="1111523" y="197123"/>
                  <a:pt x="1124262" y="209862"/>
                </a:cubicBezTo>
                <a:cubicBezTo>
                  <a:pt x="1268602" y="354202"/>
                  <a:pt x="1115044" y="208483"/>
                  <a:pt x="1229193" y="299803"/>
                </a:cubicBezTo>
                <a:cubicBezTo>
                  <a:pt x="1335991" y="385242"/>
                  <a:pt x="1165734" y="267490"/>
                  <a:pt x="1304144" y="359764"/>
                </a:cubicBezTo>
                <a:cubicBezTo>
                  <a:pt x="1314137" y="374754"/>
                  <a:pt x="1322870" y="390666"/>
                  <a:pt x="1334124" y="404734"/>
                </a:cubicBezTo>
                <a:cubicBezTo>
                  <a:pt x="1342953" y="415770"/>
                  <a:pt x="1358538" y="421725"/>
                  <a:pt x="1364105" y="434715"/>
                </a:cubicBezTo>
                <a:cubicBezTo>
                  <a:pt x="1376318" y="463211"/>
                  <a:pt x="1392818" y="620295"/>
                  <a:pt x="1394085" y="629587"/>
                </a:cubicBezTo>
                <a:cubicBezTo>
                  <a:pt x="1422871" y="840688"/>
                  <a:pt x="1411935" y="778805"/>
                  <a:pt x="1439056" y="914400"/>
                </a:cubicBezTo>
                <a:cubicBezTo>
                  <a:pt x="1434059" y="1009338"/>
                  <a:pt x="1432672" y="1104534"/>
                  <a:pt x="1424065" y="1199213"/>
                </a:cubicBezTo>
                <a:cubicBezTo>
                  <a:pt x="1422634" y="1214949"/>
                  <a:pt x="1420248" y="1233011"/>
                  <a:pt x="1409075" y="1244184"/>
                </a:cubicBezTo>
                <a:cubicBezTo>
                  <a:pt x="1397902" y="1255357"/>
                  <a:pt x="1379095" y="1254177"/>
                  <a:pt x="1364105" y="1259174"/>
                </a:cubicBezTo>
                <a:cubicBezTo>
                  <a:pt x="1313732" y="1410294"/>
                  <a:pt x="1390588" y="1175893"/>
                  <a:pt x="1334124" y="1364105"/>
                </a:cubicBezTo>
                <a:cubicBezTo>
                  <a:pt x="1325043" y="1394374"/>
                  <a:pt x="1334124" y="1444053"/>
                  <a:pt x="1304144" y="1454046"/>
                </a:cubicBezTo>
                <a:lnTo>
                  <a:pt x="1259174" y="1469036"/>
                </a:lnTo>
                <a:cubicBezTo>
                  <a:pt x="1222292" y="1505918"/>
                  <a:pt x="1192063" y="1528307"/>
                  <a:pt x="1169233" y="1573967"/>
                </a:cubicBezTo>
                <a:cubicBezTo>
                  <a:pt x="1162166" y="1588100"/>
                  <a:pt x="1165415" y="1607765"/>
                  <a:pt x="1154242" y="1618938"/>
                </a:cubicBezTo>
                <a:cubicBezTo>
                  <a:pt x="1143069" y="1630111"/>
                  <a:pt x="1123405" y="1626862"/>
                  <a:pt x="1109272" y="1633928"/>
                </a:cubicBezTo>
                <a:cubicBezTo>
                  <a:pt x="1093158" y="1641985"/>
                  <a:pt x="1080415" y="1655851"/>
                  <a:pt x="1064301" y="1663908"/>
                </a:cubicBezTo>
                <a:cubicBezTo>
                  <a:pt x="1014074" y="1689021"/>
                  <a:pt x="927167" y="1689138"/>
                  <a:pt x="884419" y="1693888"/>
                </a:cubicBezTo>
                <a:cubicBezTo>
                  <a:pt x="874426" y="1703882"/>
                  <a:pt x="866558" y="1716598"/>
                  <a:pt x="854439" y="1723869"/>
                </a:cubicBezTo>
                <a:cubicBezTo>
                  <a:pt x="814487" y="1747840"/>
                  <a:pt x="687881" y="1752369"/>
                  <a:pt x="674557" y="1753849"/>
                </a:cubicBezTo>
                <a:cubicBezTo>
                  <a:pt x="634583" y="1748852"/>
                  <a:pt x="594027" y="1747300"/>
                  <a:pt x="554636" y="1738859"/>
                </a:cubicBezTo>
                <a:cubicBezTo>
                  <a:pt x="523735" y="1732238"/>
                  <a:pt x="464695" y="1708879"/>
                  <a:pt x="464695" y="1708879"/>
                </a:cubicBezTo>
                <a:cubicBezTo>
                  <a:pt x="406138" y="1650320"/>
                  <a:pt x="467581" y="1702826"/>
                  <a:pt x="389744" y="1663908"/>
                </a:cubicBezTo>
                <a:cubicBezTo>
                  <a:pt x="273508" y="1605791"/>
                  <a:pt x="412840" y="1656616"/>
                  <a:pt x="299803" y="1618938"/>
                </a:cubicBezTo>
                <a:cubicBezTo>
                  <a:pt x="284813" y="1608944"/>
                  <a:pt x="271296" y="1596274"/>
                  <a:pt x="254833" y="1588957"/>
                </a:cubicBezTo>
                <a:cubicBezTo>
                  <a:pt x="225955" y="1576122"/>
                  <a:pt x="164892" y="1558977"/>
                  <a:pt x="164892" y="1558977"/>
                </a:cubicBezTo>
                <a:cubicBezTo>
                  <a:pt x="92192" y="1486277"/>
                  <a:pt x="128450" y="1514695"/>
                  <a:pt x="59960" y="1469036"/>
                </a:cubicBezTo>
                <a:cubicBezTo>
                  <a:pt x="30411" y="1380387"/>
                  <a:pt x="12538" y="1371459"/>
                  <a:pt x="44970" y="1274164"/>
                </a:cubicBezTo>
                <a:cubicBezTo>
                  <a:pt x="49439" y="1260756"/>
                  <a:pt x="64957" y="1254177"/>
                  <a:pt x="74951" y="1244184"/>
                </a:cubicBezTo>
                <a:cubicBezTo>
                  <a:pt x="83509" y="1201393"/>
                  <a:pt x="92230" y="1151611"/>
                  <a:pt x="104931" y="1109272"/>
                </a:cubicBezTo>
                <a:cubicBezTo>
                  <a:pt x="114012" y="1079003"/>
                  <a:pt x="124918" y="1049311"/>
                  <a:pt x="134911" y="1019331"/>
                </a:cubicBezTo>
                <a:cubicBezTo>
                  <a:pt x="154370" y="960953"/>
                  <a:pt x="138728" y="985534"/>
                  <a:pt x="179882" y="944380"/>
                </a:cubicBezTo>
                <a:cubicBezTo>
                  <a:pt x="171481" y="885572"/>
                  <a:pt x="186441" y="840387"/>
                  <a:pt x="134911" y="809469"/>
                </a:cubicBezTo>
                <a:cubicBezTo>
                  <a:pt x="121362" y="801340"/>
                  <a:pt x="104931" y="799476"/>
                  <a:pt x="89941" y="794479"/>
                </a:cubicBezTo>
                <a:cubicBezTo>
                  <a:pt x="79947" y="784485"/>
                  <a:pt x="70996" y="773327"/>
                  <a:pt x="59960" y="764498"/>
                </a:cubicBezTo>
                <a:cubicBezTo>
                  <a:pt x="45892" y="753244"/>
                  <a:pt x="26244" y="748586"/>
                  <a:pt x="14990" y="734518"/>
                </a:cubicBezTo>
                <a:cubicBezTo>
                  <a:pt x="5119" y="722180"/>
                  <a:pt x="4997" y="704538"/>
                  <a:pt x="0" y="689548"/>
                </a:cubicBezTo>
                <a:cubicBezTo>
                  <a:pt x="4803" y="670337"/>
                  <a:pt x="19228" y="606121"/>
                  <a:pt x="29980" y="584616"/>
                </a:cubicBezTo>
                <a:cubicBezTo>
                  <a:pt x="88101" y="468372"/>
                  <a:pt x="37268" y="607719"/>
                  <a:pt x="74951" y="494675"/>
                </a:cubicBezTo>
                <a:cubicBezTo>
                  <a:pt x="79948" y="464695"/>
                  <a:pt x="89941" y="435128"/>
                  <a:pt x="89941" y="404734"/>
                </a:cubicBezTo>
                <a:cubicBezTo>
                  <a:pt x="89941" y="304321"/>
                  <a:pt x="83416" y="295216"/>
                  <a:pt x="59960" y="224852"/>
                </a:cubicBezTo>
                <a:cubicBezTo>
                  <a:pt x="64957" y="209862"/>
                  <a:pt x="70610" y="195075"/>
                  <a:pt x="74951" y="179882"/>
                </a:cubicBezTo>
                <a:cubicBezTo>
                  <a:pt x="80611" y="160073"/>
                  <a:pt x="78513" y="137063"/>
                  <a:pt x="89941" y="119921"/>
                </a:cubicBezTo>
                <a:cubicBezTo>
                  <a:pt x="106546" y="95013"/>
                  <a:pt x="154229" y="83502"/>
                  <a:pt x="179882" y="74951"/>
                </a:cubicBezTo>
                <a:lnTo>
                  <a:pt x="239842" y="14990"/>
                </a:ln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5940000" y="2025360"/>
            <a:ext cx="18000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6"/>
          <p:cNvSpPr/>
          <p:nvPr/>
        </p:nvSpPr>
        <p:spPr>
          <a:xfrm rot="3941400">
            <a:off x="5230440" y="3472200"/>
            <a:ext cx="575640" cy="635040"/>
          </a:xfrm>
          <a:custGeom>
            <a:avLst/>
            <a:gdLst>
              <a:gd name="textAreaLeft" fmla="*/ 0 w 575640"/>
              <a:gd name="textAreaRight" fmla="*/ 576000 w 57564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311178" h="259978">
                <a:moveTo>
                  <a:pt x="172195" y="5145"/>
                </a:moveTo>
                <a:cubicBezTo>
                  <a:pt x="127225" y="10142"/>
                  <a:pt x="62383" y="-17513"/>
                  <a:pt x="37284" y="20135"/>
                </a:cubicBezTo>
                <a:cubicBezTo>
                  <a:pt x="-52571" y="154918"/>
                  <a:pt x="41110" y="170099"/>
                  <a:pt x="97245" y="215007"/>
                </a:cubicBezTo>
                <a:cubicBezTo>
                  <a:pt x="108281" y="223836"/>
                  <a:pt x="114235" y="239421"/>
                  <a:pt x="127225" y="244988"/>
                </a:cubicBezTo>
                <a:cubicBezTo>
                  <a:pt x="150643" y="255025"/>
                  <a:pt x="177192" y="254981"/>
                  <a:pt x="202176" y="259978"/>
                </a:cubicBezTo>
                <a:cubicBezTo>
                  <a:pt x="227160" y="254981"/>
                  <a:pt x="255006" y="257629"/>
                  <a:pt x="277127" y="244988"/>
                </a:cubicBezTo>
                <a:cubicBezTo>
                  <a:pt x="328437" y="215668"/>
                  <a:pt x="311613" y="107947"/>
                  <a:pt x="292117" y="80096"/>
                </a:cubicBezTo>
                <a:cubicBezTo>
                  <a:pt x="273994" y="54207"/>
                  <a:pt x="232156" y="60109"/>
                  <a:pt x="202176" y="50115"/>
                </a:cubicBezTo>
                <a:cubicBezTo>
                  <a:pt x="166537" y="38235"/>
                  <a:pt x="134885" y="26408"/>
                  <a:pt x="97245" y="20135"/>
                </a:cubicBezTo>
                <a:cubicBezTo>
                  <a:pt x="87387" y="18492"/>
                  <a:pt x="77258" y="20135"/>
                  <a:pt x="67264" y="20135"/>
                </a:cubicBez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TextBox 93"/>
          <p:cNvSpPr/>
          <p:nvPr/>
        </p:nvSpPr>
        <p:spPr>
          <a:xfrm>
            <a:off x="3132000" y="1628640"/>
            <a:ext cx="23389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94"/>
          <p:cNvGrpSpPr/>
          <p:nvPr/>
        </p:nvGrpSpPr>
        <p:grpSpPr>
          <a:xfrm>
            <a:off x="0" y="6588000"/>
            <a:ext cx="9143640" cy="297000"/>
            <a:chOff x="0" y="6588000"/>
            <a:chExt cx="9143640" cy="297000"/>
          </a:xfrm>
        </p:grpSpPr>
        <p:sp>
          <p:nvSpPr>
            <p:cNvPr id="28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矩形 127"/>
            <p:cNvSpPr/>
            <p:nvPr/>
          </p:nvSpPr>
          <p:spPr>
            <a:xfrm>
              <a:off x="2204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矩形 139"/>
            <p:cNvSpPr/>
            <p:nvPr/>
          </p:nvSpPr>
          <p:spPr>
            <a:xfrm>
              <a:off x="8396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6" name="矩形 140"/>
            <p:cNvSpPr/>
            <p:nvPr/>
          </p:nvSpPr>
          <p:spPr>
            <a:xfrm>
              <a:off x="8757000" y="6781680"/>
              <a:ext cx="38664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矩形 141"/>
            <p:cNvSpPr/>
            <p:nvPr/>
          </p:nvSpPr>
          <p:spPr>
            <a:xfrm>
              <a:off x="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矩形 143"/>
            <p:cNvSpPr/>
            <p:nvPr/>
          </p:nvSpPr>
          <p:spPr>
            <a:xfrm>
              <a:off x="53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0" name="矩形 154"/>
            <p:cNvSpPr/>
            <p:nvPr/>
          </p:nvSpPr>
          <p:spPr>
            <a:xfrm>
              <a:off x="6156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2" name="矩形 156"/>
            <p:cNvSpPr/>
            <p:nvPr/>
          </p:nvSpPr>
          <p:spPr>
            <a:xfrm>
              <a:off x="719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4" name="矩形 158"/>
            <p:cNvSpPr/>
            <p:nvPr/>
          </p:nvSpPr>
          <p:spPr>
            <a:xfrm>
              <a:off x="824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5" name="矩形 159"/>
            <p:cNvSpPr/>
            <p:nvPr/>
          </p:nvSpPr>
          <p:spPr>
            <a:xfrm>
              <a:off x="860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6" name="矩形 160"/>
            <p:cNvSpPr/>
            <p:nvPr/>
          </p:nvSpPr>
          <p:spPr>
            <a:xfrm>
              <a:off x="342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7" name="矩形 161"/>
            <p:cNvSpPr/>
            <p:nvPr/>
          </p:nvSpPr>
          <p:spPr>
            <a:xfrm>
              <a:off x="89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矩形 162"/>
            <p:cNvSpPr/>
            <p:nvPr/>
          </p:nvSpPr>
          <p:spPr>
            <a:xfrm>
              <a:off x="140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矩形 163"/>
            <p:cNvSpPr/>
            <p:nvPr/>
          </p:nvSpPr>
          <p:spPr>
            <a:xfrm>
              <a:off x="1943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矩形 164"/>
            <p:cNvSpPr/>
            <p:nvPr/>
          </p:nvSpPr>
          <p:spPr>
            <a:xfrm>
              <a:off x="2447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矩形 165"/>
            <p:cNvSpPr/>
            <p:nvPr/>
          </p:nvSpPr>
          <p:spPr>
            <a:xfrm>
              <a:off x="2951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2" name="矩形 166"/>
            <p:cNvSpPr/>
            <p:nvPr/>
          </p:nvSpPr>
          <p:spPr>
            <a:xfrm>
              <a:off x="342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矩形 167"/>
            <p:cNvSpPr/>
            <p:nvPr/>
          </p:nvSpPr>
          <p:spPr>
            <a:xfrm>
              <a:off x="3959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矩形 168"/>
            <p:cNvSpPr/>
            <p:nvPr/>
          </p:nvSpPr>
          <p:spPr>
            <a:xfrm>
              <a:off x="446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矩形 169"/>
            <p:cNvSpPr/>
            <p:nvPr/>
          </p:nvSpPr>
          <p:spPr>
            <a:xfrm>
              <a:off x="496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矩形 170"/>
            <p:cNvSpPr/>
            <p:nvPr/>
          </p:nvSpPr>
          <p:spPr>
            <a:xfrm>
              <a:off x="5436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矩形 171"/>
            <p:cNvSpPr/>
            <p:nvPr/>
          </p:nvSpPr>
          <p:spPr>
            <a:xfrm>
              <a:off x="594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8" name="矩形 172"/>
            <p:cNvSpPr/>
            <p:nvPr/>
          </p:nvSpPr>
          <p:spPr>
            <a:xfrm>
              <a:off x="647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9" name="矩形 173"/>
            <p:cNvSpPr/>
            <p:nvPr/>
          </p:nvSpPr>
          <p:spPr>
            <a:xfrm>
              <a:off x="698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0" name="矩形 174"/>
            <p:cNvSpPr/>
            <p:nvPr/>
          </p:nvSpPr>
          <p:spPr>
            <a:xfrm>
              <a:off x="748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1" name="矩形 175"/>
            <p:cNvSpPr/>
            <p:nvPr/>
          </p:nvSpPr>
          <p:spPr>
            <a:xfrm>
              <a:off x="7956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2" name="矩形 176"/>
            <p:cNvSpPr/>
            <p:nvPr/>
          </p:nvSpPr>
          <p:spPr>
            <a:xfrm>
              <a:off x="824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3" name="矩形 177"/>
            <p:cNvSpPr/>
            <p:nvPr/>
          </p:nvSpPr>
          <p:spPr>
            <a:xfrm>
              <a:off x="860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44" name="组合 178"/>
          <p:cNvGrpSpPr/>
          <p:nvPr/>
        </p:nvGrpSpPr>
        <p:grpSpPr>
          <a:xfrm>
            <a:off x="107640" y="116640"/>
            <a:ext cx="1699560" cy="2507760"/>
            <a:chOff x="107640" y="116640"/>
            <a:chExt cx="1699560" cy="2507760"/>
          </a:xfrm>
        </p:grpSpPr>
        <p:sp>
          <p:nvSpPr>
            <p:cNvPr id="345" name="任意多边形 179"/>
            <p:cNvSpPr/>
            <p:nvPr/>
          </p:nvSpPr>
          <p:spPr>
            <a:xfrm>
              <a:off x="144720" y="269280"/>
              <a:ext cx="1283040" cy="2043360"/>
            </a:xfrm>
            <a:custGeom>
              <a:avLst/>
              <a:gdLst>
                <a:gd name="textAreaLeft" fmla="*/ 0 w 1283040"/>
                <a:gd name="textAreaRight" fmla="*/ 1283400 w 1283040"/>
                <a:gd name="textAreaTop" fmla="*/ 0 h 2043360"/>
                <a:gd name="textAreaBottom" fmla="*/ 2043720 h 2043360"/>
              </a:gdLst>
              <a:ahLst/>
              <a:rect l="textAreaLeft" t="textAreaTop" r="textAreaRight" b="textAreaBottom"/>
              <a:pathLst>
                <a:path w="2024293" h="2473377">
                  <a:moveTo>
                    <a:pt x="1319755" y="74951"/>
                  </a:moveTo>
                  <a:cubicBezTo>
                    <a:pt x="1402002" y="42053"/>
                    <a:pt x="1426338" y="18650"/>
                    <a:pt x="1529618" y="59961"/>
                  </a:cubicBezTo>
                  <a:cubicBezTo>
                    <a:pt x="1544289" y="65829"/>
                    <a:pt x="1536479" y="91382"/>
                    <a:pt x="1544608" y="104931"/>
                  </a:cubicBezTo>
                  <a:cubicBezTo>
                    <a:pt x="1551879" y="117050"/>
                    <a:pt x="1564595" y="124918"/>
                    <a:pt x="1574588" y="134912"/>
                  </a:cubicBezTo>
                  <a:cubicBezTo>
                    <a:pt x="1579585" y="149902"/>
                    <a:pt x="1581448" y="166333"/>
                    <a:pt x="1589578" y="179882"/>
                  </a:cubicBezTo>
                  <a:cubicBezTo>
                    <a:pt x="1622761" y="235187"/>
                    <a:pt x="1677604" y="217118"/>
                    <a:pt x="1739480" y="224853"/>
                  </a:cubicBezTo>
                  <a:cubicBezTo>
                    <a:pt x="1754470" y="229850"/>
                    <a:pt x="1770901" y="231714"/>
                    <a:pt x="1784450" y="239843"/>
                  </a:cubicBezTo>
                  <a:cubicBezTo>
                    <a:pt x="1887333" y="301572"/>
                    <a:pt x="1732009" y="242349"/>
                    <a:pt x="1859401" y="284813"/>
                  </a:cubicBezTo>
                  <a:cubicBezTo>
                    <a:pt x="1869395" y="294807"/>
                    <a:pt x="1878346" y="305965"/>
                    <a:pt x="1889382" y="314794"/>
                  </a:cubicBezTo>
                  <a:cubicBezTo>
                    <a:pt x="1903450" y="326048"/>
                    <a:pt x="1923098" y="330706"/>
                    <a:pt x="1934352" y="344774"/>
                  </a:cubicBezTo>
                  <a:cubicBezTo>
                    <a:pt x="1943328" y="355994"/>
                    <a:pt x="1961846" y="443904"/>
                    <a:pt x="1964332" y="449705"/>
                  </a:cubicBezTo>
                  <a:cubicBezTo>
                    <a:pt x="1971429" y="466264"/>
                    <a:pt x="1984319" y="479685"/>
                    <a:pt x="1994313" y="494675"/>
                  </a:cubicBezTo>
                  <a:cubicBezTo>
                    <a:pt x="2020689" y="573805"/>
                    <a:pt x="2019416" y="549045"/>
                    <a:pt x="1994313" y="674557"/>
                  </a:cubicBezTo>
                  <a:cubicBezTo>
                    <a:pt x="1988115" y="705545"/>
                    <a:pt x="1964332" y="764498"/>
                    <a:pt x="1964332" y="764498"/>
                  </a:cubicBezTo>
                  <a:cubicBezTo>
                    <a:pt x="1983243" y="915777"/>
                    <a:pt x="1966584" y="846203"/>
                    <a:pt x="2009303" y="974361"/>
                  </a:cubicBezTo>
                  <a:lnTo>
                    <a:pt x="2024293" y="1019331"/>
                  </a:lnTo>
                  <a:cubicBezTo>
                    <a:pt x="2019296" y="1114269"/>
                    <a:pt x="2015233" y="1209260"/>
                    <a:pt x="2009303" y="1304144"/>
                  </a:cubicBezTo>
                  <a:cubicBezTo>
                    <a:pt x="2005239" y="1369166"/>
                    <a:pt x="2016225" y="1437662"/>
                    <a:pt x="1994313" y="1499016"/>
                  </a:cubicBezTo>
                  <a:cubicBezTo>
                    <a:pt x="1987384" y="1518418"/>
                    <a:pt x="1954339" y="1509010"/>
                    <a:pt x="1934352" y="1514007"/>
                  </a:cubicBezTo>
                  <a:cubicBezTo>
                    <a:pt x="1929355" y="1528997"/>
                    <a:pt x="1923194" y="1543648"/>
                    <a:pt x="1919362" y="1558977"/>
                  </a:cubicBezTo>
                  <a:cubicBezTo>
                    <a:pt x="1913183" y="1583695"/>
                    <a:pt x="1914409" y="1610510"/>
                    <a:pt x="1904372" y="1633928"/>
                  </a:cubicBezTo>
                  <a:cubicBezTo>
                    <a:pt x="1898805" y="1646918"/>
                    <a:pt x="1884385" y="1653915"/>
                    <a:pt x="1874391" y="1663908"/>
                  </a:cubicBezTo>
                  <a:cubicBezTo>
                    <a:pt x="1858558" y="1711408"/>
                    <a:pt x="1862631" y="1712335"/>
                    <a:pt x="1829421" y="1753849"/>
                  </a:cubicBezTo>
                  <a:cubicBezTo>
                    <a:pt x="1820592" y="1764885"/>
                    <a:pt x="1808270" y="1772794"/>
                    <a:pt x="1799441" y="1783830"/>
                  </a:cubicBezTo>
                  <a:cubicBezTo>
                    <a:pt x="1715963" y="1888177"/>
                    <a:pt x="1831311" y="1766947"/>
                    <a:pt x="1724490" y="1873771"/>
                  </a:cubicBezTo>
                  <a:cubicBezTo>
                    <a:pt x="1709647" y="1918299"/>
                    <a:pt x="1700161" y="1973050"/>
                    <a:pt x="1664529" y="2008682"/>
                  </a:cubicBezTo>
                  <a:cubicBezTo>
                    <a:pt x="1605527" y="2067684"/>
                    <a:pt x="1634081" y="2009306"/>
                    <a:pt x="1589578" y="2068643"/>
                  </a:cubicBezTo>
                  <a:cubicBezTo>
                    <a:pt x="1583486" y="2076765"/>
                    <a:pt x="1530893" y="2169811"/>
                    <a:pt x="1499637" y="2188564"/>
                  </a:cubicBezTo>
                  <a:cubicBezTo>
                    <a:pt x="1486088" y="2196693"/>
                    <a:pt x="1469657" y="2198557"/>
                    <a:pt x="1454667" y="2203554"/>
                  </a:cubicBezTo>
                  <a:cubicBezTo>
                    <a:pt x="1361305" y="2296919"/>
                    <a:pt x="1496466" y="2170692"/>
                    <a:pt x="1379716" y="2248525"/>
                  </a:cubicBezTo>
                  <a:cubicBezTo>
                    <a:pt x="1267429" y="2323382"/>
                    <a:pt x="1396706" y="2272842"/>
                    <a:pt x="1289775" y="2308485"/>
                  </a:cubicBezTo>
                  <a:cubicBezTo>
                    <a:pt x="1274785" y="2318479"/>
                    <a:pt x="1261268" y="2331149"/>
                    <a:pt x="1244805" y="2338466"/>
                  </a:cubicBezTo>
                  <a:cubicBezTo>
                    <a:pt x="1180687" y="2366963"/>
                    <a:pt x="1155946" y="2365996"/>
                    <a:pt x="1094903" y="2383436"/>
                  </a:cubicBezTo>
                  <a:cubicBezTo>
                    <a:pt x="1079710" y="2387777"/>
                    <a:pt x="1064922" y="2393429"/>
                    <a:pt x="1049932" y="2398426"/>
                  </a:cubicBezTo>
                  <a:cubicBezTo>
                    <a:pt x="1039939" y="2408420"/>
                    <a:pt x="1032071" y="2421136"/>
                    <a:pt x="1019952" y="2428407"/>
                  </a:cubicBezTo>
                  <a:cubicBezTo>
                    <a:pt x="922649" y="2486790"/>
                    <a:pt x="1020971" y="2397409"/>
                    <a:pt x="945001" y="2473377"/>
                  </a:cubicBezTo>
                  <a:cubicBezTo>
                    <a:pt x="830889" y="2435340"/>
                    <a:pt x="886048" y="2449595"/>
                    <a:pt x="780109" y="2428407"/>
                  </a:cubicBezTo>
                  <a:cubicBezTo>
                    <a:pt x="707717" y="2356012"/>
                    <a:pt x="795794" y="2448012"/>
                    <a:pt x="720149" y="2353456"/>
                  </a:cubicBezTo>
                  <a:cubicBezTo>
                    <a:pt x="711320" y="2342420"/>
                    <a:pt x="698648" y="2334782"/>
                    <a:pt x="690168" y="2323475"/>
                  </a:cubicBezTo>
                  <a:cubicBezTo>
                    <a:pt x="668549" y="2294650"/>
                    <a:pt x="630208" y="2233535"/>
                    <a:pt x="630208" y="2233535"/>
                  </a:cubicBezTo>
                  <a:cubicBezTo>
                    <a:pt x="603824" y="2154381"/>
                    <a:pt x="623983" y="2201712"/>
                    <a:pt x="555257" y="2098623"/>
                  </a:cubicBezTo>
                  <a:cubicBezTo>
                    <a:pt x="545264" y="2083633"/>
                    <a:pt x="538016" y="2066392"/>
                    <a:pt x="525277" y="2053653"/>
                  </a:cubicBezTo>
                  <a:cubicBezTo>
                    <a:pt x="515283" y="2043659"/>
                    <a:pt x="504125" y="2034708"/>
                    <a:pt x="495296" y="2023672"/>
                  </a:cubicBezTo>
                  <a:cubicBezTo>
                    <a:pt x="456547" y="1975235"/>
                    <a:pt x="467214" y="1959980"/>
                    <a:pt x="405355" y="1918741"/>
                  </a:cubicBezTo>
                  <a:cubicBezTo>
                    <a:pt x="390365" y="1908748"/>
                    <a:pt x="374064" y="1900485"/>
                    <a:pt x="360385" y="1888761"/>
                  </a:cubicBezTo>
                  <a:cubicBezTo>
                    <a:pt x="338924" y="1870366"/>
                    <a:pt x="323943" y="1844479"/>
                    <a:pt x="300424" y="1828800"/>
                  </a:cubicBezTo>
                  <a:cubicBezTo>
                    <a:pt x="285434" y="1818807"/>
                    <a:pt x="269522" y="1810074"/>
                    <a:pt x="255454" y="1798820"/>
                  </a:cubicBezTo>
                  <a:cubicBezTo>
                    <a:pt x="244418" y="1789991"/>
                    <a:pt x="237592" y="1776111"/>
                    <a:pt x="225473" y="1768839"/>
                  </a:cubicBezTo>
                  <a:cubicBezTo>
                    <a:pt x="211924" y="1760709"/>
                    <a:pt x="195493" y="1758846"/>
                    <a:pt x="180503" y="1753849"/>
                  </a:cubicBezTo>
                  <a:cubicBezTo>
                    <a:pt x="160516" y="1723869"/>
                    <a:pt x="150522" y="1683895"/>
                    <a:pt x="120542" y="1663908"/>
                  </a:cubicBezTo>
                  <a:cubicBezTo>
                    <a:pt x="63813" y="1626088"/>
                    <a:pt x="88311" y="1646667"/>
                    <a:pt x="45591" y="1603948"/>
                  </a:cubicBezTo>
                  <a:cubicBezTo>
                    <a:pt x="40594" y="1588958"/>
                    <a:pt x="37667" y="1573110"/>
                    <a:pt x="30601" y="1558977"/>
                  </a:cubicBezTo>
                  <a:cubicBezTo>
                    <a:pt x="22544" y="1542863"/>
                    <a:pt x="2610" y="1531913"/>
                    <a:pt x="621" y="1514007"/>
                  </a:cubicBezTo>
                  <a:cubicBezTo>
                    <a:pt x="-2735" y="1483799"/>
                    <a:pt x="8239" y="1453552"/>
                    <a:pt x="15611" y="1424066"/>
                  </a:cubicBezTo>
                  <a:cubicBezTo>
                    <a:pt x="23276" y="1393408"/>
                    <a:pt x="45591" y="1334125"/>
                    <a:pt x="45591" y="1334125"/>
                  </a:cubicBezTo>
                  <a:cubicBezTo>
                    <a:pt x="47231" y="1316090"/>
                    <a:pt x="56987" y="1143843"/>
                    <a:pt x="75572" y="1094282"/>
                  </a:cubicBezTo>
                  <a:cubicBezTo>
                    <a:pt x="81898" y="1077413"/>
                    <a:pt x="95559" y="1064302"/>
                    <a:pt x="105552" y="1049312"/>
                  </a:cubicBezTo>
                  <a:lnTo>
                    <a:pt x="135532" y="959371"/>
                  </a:lnTo>
                  <a:lnTo>
                    <a:pt x="150523" y="914400"/>
                  </a:lnTo>
                  <a:cubicBezTo>
                    <a:pt x="155520" y="799475"/>
                    <a:pt x="156690" y="684320"/>
                    <a:pt x="165513" y="569626"/>
                  </a:cubicBezTo>
                  <a:cubicBezTo>
                    <a:pt x="166725" y="553872"/>
                    <a:pt x="172374" y="538205"/>
                    <a:pt x="180503" y="524656"/>
                  </a:cubicBezTo>
                  <a:cubicBezTo>
                    <a:pt x="187774" y="512537"/>
                    <a:pt x="200490" y="504669"/>
                    <a:pt x="210483" y="494675"/>
                  </a:cubicBezTo>
                  <a:lnTo>
                    <a:pt x="255454" y="359764"/>
                  </a:lnTo>
                  <a:cubicBezTo>
                    <a:pt x="260451" y="344774"/>
                    <a:pt x="259271" y="325967"/>
                    <a:pt x="270444" y="314794"/>
                  </a:cubicBezTo>
                  <a:lnTo>
                    <a:pt x="330405" y="254833"/>
                  </a:lnTo>
                  <a:cubicBezTo>
                    <a:pt x="363556" y="221682"/>
                    <a:pt x="384486" y="206630"/>
                    <a:pt x="405355" y="164892"/>
                  </a:cubicBezTo>
                  <a:cubicBezTo>
                    <a:pt x="412422" y="150759"/>
                    <a:pt x="410475" y="132260"/>
                    <a:pt x="420346" y="119921"/>
                  </a:cubicBezTo>
                  <a:cubicBezTo>
                    <a:pt x="431600" y="105853"/>
                    <a:pt x="451476" y="101474"/>
                    <a:pt x="465316" y="89941"/>
                  </a:cubicBezTo>
                  <a:cubicBezTo>
                    <a:pt x="502917" y="58607"/>
                    <a:pt x="503997" y="33184"/>
                    <a:pt x="555257" y="29980"/>
                  </a:cubicBezTo>
                  <a:cubicBezTo>
                    <a:pt x="699966" y="20935"/>
                    <a:pt x="845067" y="19987"/>
                    <a:pt x="989972" y="14990"/>
                  </a:cubicBezTo>
                  <a:cubicBezTo>
                    <a:pt x="1004962" y="9993"/>
                    <a:pt x="1019141" y="0"/>
                    <a:pt x="1034942" y="0"/>
                  </a:cubicBezTo>
                  <a:cubicBezTo>
                    <a:pt x="1072128" y="0"/>
                    <a:pt x="1172267" y="21469"/>
                    <a:pt x="1214824" y="29980"/>
                  </a:cubicBezTo>
                  <a:cubicBezTo>
                    <a:pt x="1253257" y="55603"/>
                    <a:pt x="1281354" y="82578"/>
                    <a:pt x="1334746" y="74951"/>
                  </a:cubicBezTo>
                  <a:cubicBezTo>
                    <a:pt x="1348737" y="72952"/>
                    <a:pt x="1354733" y="54964"/>
                    <a:pt x="1364726" y="44971"/>
                  </a:cubicBezTo>
                </a:path>
              </a:pathLst>
            </a:custGeom>
            <a:solidFill>
              <a:schemeClr val="bg1">
                <a:lumMod val="65000"/>
                <a:alpha val="50000"/>
              </a:schemeClr>
            </a:solidFill>
            <a:ln>
              <a:noFill/>
            </a:ln>
            <a:effectLst>
              <a:softEdge rad="633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46" name="直接连接符 180"/>
            <p:cNvCxnSpPr/>
            <p:nvPr/>
          </p:nvCxnSpPr>
          <p:spPr>
            <a:xfrm>
              <a:off x="414360" y="2624400"/>
              <a:ext cx="36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347" name="TextBox 181"/>
            <p:cNvSpPr/>
            <p:nvPr/>
          </p:nvSpPr>
          <p:spPr>
            <a:xfrm>
              <a:off x="107640" y="116640"/>
              <a:ext cx="169956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182"/>
            <p:cNvSpPr/>
            <p:nvPr/>
          </p:nvSpPr>
          <p:spPr>
            <a:xfrm>
              <a:off x="726120" y="692640"/>
              <a:ext cx="7736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83"/>
            <p:cNvSpPr/>
            <p:nvPr/>
          </p:nvSpPr>
          <p:spPr>
            <a:xfrm>
              <a:off x="475200" y="1268640"/>
              <a:ext cx="720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任意多边形 184"/>
          <p:cNvSpPr/>
          <p:nvPr/>
        </p:nvSpPr>
        <p:spPr>
          <a:xfrm>
            <a:off x="1171800" y="1622880"/>
            <a:ext cx="915120" cy="1373760"/>
          </a:xfrm>
          <a:custGeom>
            <a:avLst/>
            <a:gdLst>
              <a:gd name="textAreaLeft" fmla="*/ 0 w 915120"/>
              <a:gd name="textAreaRight" fmla="*/ 915480 w 915120"/>
              <a:gd name="textAreaTop" fmla="*/ 0 h 1373760"/>
              <a:gd name="textAreaBottom" fmla="*/ 1374120 h 1373760"/>
            </a:gdLst>
            <a:ahLst/>
            <a:rect l="textAreaLeft" t="textAreaTop" r="textAreaRight" b="textAreaBottom"/>
            <a:pathLst>
              <a:path w="1538094" h="1111942">
                <a:moveTo>
                  <a:pt x="538237" y="227"/>
                </a:moveTo>
                <a:cubicBezTo>
                  <a:pt x="504370" y="2646"/>
                  <a:pt x="489598" y="8758"/>
                  <a:pt x="465665" y="14741"/>
                </a:cubicBezTo>
                <a:cubicBezTo>
                  <a:pt x="450823" y="18452"/>
                  <a:pt x="437125" y="26255"/>
                  <a:pt x="422123" y="29255"/>
                </a:cubicBezTo>
                <a:cubicBezTo>
                  <a:pt x="388577" y="35964"/>
                  <a:pt x="354390" y="38931"/>
                  <a:pt x="320523" y="43769"/>
                </a:cubicBezTo>
                <a:cubicBezTo>
                  <a:pt x="306009" y="48607"/>
                  <a:pt x="289710" y="49797"/>
                  <a:pt x="276980" y="58284"/>
                </a:cubicBezTo>
                <a:cubicBezTo>
                  <a:pt x="259901" y="69670"/>
                  <a:pt x="246039" y="85624"/>
                  <a:pt x="233437" y="101827"/>
                </a:cubicBezTo>
                <a:cubicBezTo>
                  <a:pt x="212018" y="129366"/>
                  <a:pt x="204408" y="169560"/>
                  <a:pt x="175380" y="188912"/>
                </a:cubicBezTo>
                <a:lnTo>
                  <a:pt x="131837" y="217941"/>
                </a:lnTo>
                <a:cubicBezTo>
                  <a:pt x="122161" y="232455"/>
                  <a:pt x="113975" y="248083"/>
                  <a:pt x="102808" y="261484"/>
                </a:cubicBezTo>
                <a:cubicBezTo>
                  <a:pt x="9680" y="373236"/>
                  <a:pt x="102307" y="240465"/>
                  <a:pt x="30237" y="348569"/>
                </a:cubicBezTo>
                <a:cubicBezTo>
                  <a:pt x="-7935" y="463085"/>
                  <a:pt x="-6656" y="417497"/>
                  <a:pt x="15723" y="551769"/>
                </a:cubicBezTo>
                <a:cubicBezTo>
                  <a:pt x="19003" y="571446"/>
                  <a:pt x="21316" y="591985"/>
                  <a:pt x="30237" y="609827"/>
                </a:cubicBezTo>
                <a:cubicBezTo>
                  <a:pt x="45839" y="641032"/>
                  <a:pt x="88294" y="696912"/>
                  <a:pt x="88294" y="696912"/>
                </a:cubicBezTo>
                <a:cubicBezTo>
                  <a:pt x="93132" y="711426"/>
                  <a:pt x="95378" y="727081"/>
                  <a:pt x="102808" y="740455"/>
                </a:cubicBezTo>
                <a:cubicBezTo>
                  <a:pt x="119751" y="770953"/>
                  <a:pt x="149832" y="794443"/>
                  <a:pt x="160865" y="827541"/>
                </a:cubicBezTo>
                <a:cubicBezTo>
                  <a:pt x="172670" y="862953"/>
                  <a:pt x="176273" y="886492"/>
                  <a:pt x="204408" y="914627"/>
                </a:cubicBezTo>
                <a:cubicBezTo>
                  <a:pt x="216743" y="926962"/>
                  <a:pt x="232349" y="935854"/>
                  <a:pt x="247951" y="943655"/>
                </a:cubicBezTo>
                <a:cubicBezTo>
                  <a:pt x="261635" y="950497"/>
                  <a:pt x="276980" y="953331"/>
                  <a:pt x="291494" y="958169"/>
                </a:cubicBezTo>
                <a:cubicBezTo>
                  <a:pt x="318838" y="985513"/>
                  <a:pt x="342208" y="1014575"/>
                  <a:pt x="378580" y="1030741"/>
                </a:cubicBezTo>
                <a:cubicBezTo>
                  <a:pt x="406541" y="1043168"/>
                  <a:pt x="465665" y="1059769"/>
                  <a:pt x="465665" y="1059769"/>
                </a:cubicBezTo>
                <a:cubicBezTo>
                  <a:pt x="480179" y="1069445"/>
                  <a:pt x="493606" y="1080997"/>
                  <a:pt x="509208" y="1088798"/>
                </a:cubicBezTo>
                <a:cubicBezTo>
                  <a:pt x="612657" y="1140523"/>
                  <a:pt x="870601" y="1089493"/>
                  <a:pt x="886580" y="1088798"/>
                </a:cubicBezTo>
                <a:cubicBezTo>
                  <a:pt x="921087" y="1077296"/>
                  <a:pt x="951737" y="1065843"/>
                  <a:pt x="988180" y="1059769"/>
                </a:cubicBezTo>
                <a:cubicBezTo>
                  <a:pt x="1192056" y="1025789"/>
                  <a:pt x="1031693" y="1063405"/>
                  <a:pt x="1162351" y="1030741"/>
                </a:cubicBezTo>
                <a:cubicBezTo>
                  <a:pt x="1176865" y="1021065"/>
                  <a:pt x="1190292" y="1009513"/>
                  <a:pt x="1205894" y="1001712"/>
                </a:cubicBezTo>
                <a:cubicBezTo>
                  <a:pt x="1219578" y="994870"/>
                  <a:pt x="1236707" y="995685"/>
                  <a:pt x="1249437" y="987198"/>
                </a:cubicBezTo>
                <a:cubicBezTo>
                  <a:pt x="1266516" y="975812"/>
                  <a:pt x="1277211" y="956796"/>
                  <a:pt x="1292980" y="943655"/>
                </a:cubicBezTo>
                <a:cubicBezTo>
                  <a:pt x="1306381" y="932488"/>
                  <a:pt x="1322009" y="924303"/>
                  <a:pt x="1336523" y="914627"/>
                </a:cubicBezTo>
                <a:cubicBezTo>
                  <a:pt x="1346199" y="900113"/>
                  <a:pt x="1353216" y="883419"/>
                  <a:pt x="1365551" y="871084"/>
                </a:cubicBezTo>
                <a:cubicBezTo>
                  <a:pt x="1377886" y="858749"/>
                  <a:pt x="1397607" y="855183"/>
                  <a:pt x="1409094" y="842055"/>
                </a:cubicBezTo>
                <a:cubicBezTo>
                  <a:pt x="1527625" y="706590"/>
                  <a:pt x="1412723" y="791253"/>
                  <a:pt x="1510694" y="725941"/>
                </a:cubicBezTo>
                <a:cubicBezTo>
                  <a:pt x="1557562" y="585333"/>
                  <a:pt x="1535224" y="669717"/>
                  <a:pt x="1510694" y="363084"/>
                </a:cubicBezTo>
                <a:cubicBezTo>
                  <a:pt x="1509474" y="347833"/>
                  <a:pt x="1499499" y="334476"/>
                  <a:pt x="1496180" y="319541"/>
                </a:cubicBezTo>
                <a:cubicBezTo>
                  <a:pt x="1495964" y="318568"/>
                  <a:pt x="1482230" y="207761"/>
                  <a:pt x="1467151" y="188912"/>
                </a:cubicBezTo>
                <a:cubicBezTo>
                  <a:pt x="1443325" y="159129"/>
                  <a:pt x="1360912" y="136952"/>
                  <a:pt x="1336523" y="130855"/>
                </a:cubicBezTo>
                <a:cubicBezTo>
                  <a:pt x="1317170" y="126017"/>
                  <a:pt x="1297646" y="121821"/>
                  <a:pt x="1278465" y="116341"/>
                </a:cubicBezTo>
                <a:cubicBezTo>
                  <a:pt x="1263755" y="112138"/>
                  <a:pt x="1250165" y="103152"/>
                  <a:pt x="1234923" y="101827"/>
                </a:cubicBezTo>
                <a:cubicBezTo>
                  <a:pt x="1138404" y="93434"/>
                  <a:pt x="1041399" y="92150"/>
                  <a:pt x="944637" y="87312"/>
                </a:cubicBezTo>
                <a:lnTo>
                  <a:pt x="814008" y="43769"/>
                </a:lnTo>
                <a:cubicBezTo>
                  <a:pt x="799494" y="38931"/>
                  <a:pt x="785308" y="32966"/>
                  <a:pt x="770465" y="29255"/>
                </a:cubicBezTo>
                <a:cubicBezTo>
                  <a:pt x="697565" y="11030"/>
                  <a:pt x="731332" y="21049"/>
                  <a:pt x="668865" y="227"/>
                </a:cubicBezTo>
                <a:cubicBezTo>
                  <a:pt x="528620" y="15810"/>
                  <a:pt x="572104" y="-2192"/>
                  <a:pt x="538237" y="227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TextBox 185"/>
          <p:cNvSpPr/>
          <p:nvPr/>
        </p:nvSpPr>
        <p:spPr>
          <a:xfrm>
            <a:off x="1259640" y="1917000"/>
            <a:ext cx="92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7" descr=""/>
          <p:cNvPicPr/>
          <p:nvPr/>
        </p:nvPicPr>
        <p:blipFill>
          <a:blip r:embed="rId1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cxnSp>
        <p:nvCxnSpPr>
          <p:cNvPr id="353" name="直接连接符 73"/>
          <p:cNvCxnSpPr/>
          <p:nvPr/>
        </p:nvCxnSpPr>
        <p:spPr>
          <a:xfrm>
            <a:off x="5004000" y="1653480"/>
            <a:ext cx="360" cy="16315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354" name="直接连接符 75"/>
          <p:cNvCxnSpPr/>
          <p:nvPr/>
        </p:nvCxnSpPr>
        <p:spPr>
          <a:xfrm>
            <a:off x="4572000" y="1700640"/>
            <a:ext cx="360" cy="163188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355" name="直接连接符 76"/>
          <p:cNvCxnSpPr/>
          <p:nvPr/>
        </p:nvCxnSpPr>
        <p:spPr>
          <a:xfrm>
            <a:off x="4139640" y="1700640"/>
            <a:ext cx="360" cy="163188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356" name="直接连接符 77"/>
          <p:cNvCxnSpPr/>
          <p:nvPr/>
        </p:nvCxnSpPr>
        <p:spPr>
          <a:xfrm flipH="1">
            <a:off x="3689640" y="1700640"/>
            <a:ext cx="18360" cy="257148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357" name="直接连接符 79"/>
          <p:cNvCxnSpPr/>
          <p:nvPr/>
        </p:nvCxnSpPr>
        <p:spPr>
          <a:xfrm>
            <a:off x="3251520" y="1723320"/>
            <a:ext cx="360" cy="163188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0000">
              <a:srgbClr val="f2f2f2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椭圆 2"/>
          <p:cNvSpPr/>
          <p:nvPr/>
        </p:nvSpPr>
        <p:spPr>
          <a:xfrm>
            <a:off x="5208120" y="3465720"/>
            <a:ext cx="575640" cy="567720"/>
          </a:xfrm>
          <a:prstGeom prst="ellipse">
            <a:avLst/>
          </a:pr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任意多边形 3"/>
          <p:cNvSpPr/>
          <p:nvPr/>
        </p:nvSpPr>
        <p:spPr>
          <a:xfrm>
            <a:off x="5470920" y="1622880"/>
            <a:ext cx="2773080" cy="3174120"/>
          </a:xfrm>
          <a:custGeom>
            <a:avLst/>
            <a:gdLst>
              <a:gd name="textAreaLeft" fmla="*/ 0 w 2773080"/>
              <a:gd name="textAreaRight" fmla="*/ 2773440 w 2773080"/>
              <a:gd name="textAreaTop" fmla="*/ 0 h 3174120"/>
              <a:gd name="textAreaBottom" fmla="*/ 3174480 h 3174120"/>
            </a:gdLst>
            <a:ahLst/>
            <a:rect l="textAreaLeft" t="textAreaTop" r="textAreaRight" b="textAreaBottom"/>
            <a:pathLst>
              <a:path w="3028013" h="2908092">
                <a:moveTo>
                  <a:pt x="239843" y="914400"/>
                </a:moveTo>
                <a:cubicBezTo>
                  <a:pt x="237680" y="925216"/>
                  <a:pt x="223033" y="1014565"/>
                  <a:pt x="209862" y="1034322"/>
                </a:cubicBezTo>
                <a:cubicBezTo>
                  <a:pt x="198103" y="1051961"/>
                  <a:pt x="179882" y="1064302"/>
                  <a:pt x="164892" y="1079292"/>
                </a:cubicBezTo>
                <a:cubicBezTo>
                  <a:pt x="159895" y="1094282"/>
                  <a:pt x="149902" y="1108462"/>
                  <a:pt x="149902" y="1124263"/>
                </a:cubicBezTo>
                <a:cubicBezTo>
                  <a:pt x="149902" y="1154657"/>
                  <a:pt x="158931" y="1184400"/>
                  <a:pt x="164892" y="1214204"/>
                </a:cubicBezTo>
                <a:cubicBezTo>
                  <a:pt x="169987" y="1239679"/>
                  <a:pt x="200303" y="1354546"/>
                  <a:pt x="209862" y="1364105"/>
                </a:cubicBezTo>
                <a:lnTo>
                  <a:pt x="239843" y="1394086"/>
                </a:lnTo>
                <a:cubicBezTo>
                  <a:pt x="249836" y="1424066"/>
                  <a:pt x="247477" y="1461681"/>
                  <a:pt x="269823" y="1484027"/>
                </a:cubicBezTo>
                <a:cubicBezTo>
                  <a:pt x="284813" y="1499017"/>
                  <a:pt x="298508" y="1515426"/>
                  <a:pt x="314794" y="1528997"/>
                </a:cubicBezTo>
                <a:cubicBezTo>
                  <a:pt x="428235" y="1623530"/>
                  <a:pt x="302536" y="1501747"/>
                  <a:pt x="389744" y="1588958"/>
                </a:cubicBezTo>
                <a:cubicBezTo>
                  <a:pt x="384747" y="1613942"/>
                  <a:pt x="381458" y="1639328"/>
                  <a:pt x="374754" y="1663909"/>
                </a:cubicBezTo>
                <a:cubicBezTo>
                  <a:pt x="366439" y="1694398"/>
                  <a:pt x="344774" y="1753850"/>
                  <a:pt x="344774" y="1753850"/>
                </a:cubicBezTo>
                <a:cubicBezTo>
                  <a:pt x="344025" y="1768832"/>
                  <a:pt x="356430" y="2058654"/>
                  <a:pt x="299803" y="2143594"/>
                </a:cubicBezTo>
                <a:lnTo>
                  <a:pt x="269823" y="2188564"/>
                </a:lnTo>
                <a:cubicBezTo>
                  <a:pt x="264826" y="2203554"/>
                  <a:pt x="261899" y="2219402"/>
                  <a:pt x="254833" y="2233535"/>
                </a:cubicBezTo>
                <a:cubicBezTo>
                  <a:pt x="221082" y="2301039"/>
                  <a:pt x="191264" y="2274134"/>
                  <a:pt x="239843" y="2383437"/>
                </a:cubicBezTo>
                <a:cubicBezTo>
                  <a:pt x="247160" y="2399900"/>
                  <a:pt x="268350" y="2406100"/>
                  <a:pt x="284813" y="2413417"/>
                </a:cubicBezTo>
                <a:cubicBezTo>
                  <a:pt x="313691" y="2426252"/>
                  <a:pt x="374754" y="2443397"/>
                  <a:pt x="374754" y="2443397"/>
                </a:cubicBezTo>
                <a:cubicBezTo>
                  <a:pt x="433313" y="2501954"/>
                  <a:pt x="371869" y="2449449"/>
                  <a:pt x="449705" y="2488368"/>
                </a:cubicBezTo>
                <a:cubicBezTo>
                  <a:pt x="565932" y="2546482"/>
                  <a:pt x="426620" y="2495663"/>
                  <a:pt x="539646" y="2533338"/>
                </a:cubicBezTo>
                <a:cubicBezTo>
                  <a:pt x="551838" y="2569916"/>
                  <a:pt x="555556" y="2594219"/>
                  <a:pt x="584617" y="2623279"/>
                </a:cubicBezTo>
                <a:cubicBezTo>
                  <a:pt x="597356" y="2636018"/>
                  <a:pt x="615908" y="2641535"/>
                  <a:pt x="629587" y="2653259"/>
                </a:cubicBezTo>
                <a:cubicBezTo>
                  <a:pt x="651048" y="2671654"/>
                  <a:pt x="666029" y="2697541"/>
                  <a:pt x="689548" y="2713220"/>
                </a:cubicBezTo>
                <a:lnTo>
                  <a:pt x="824459" y="2803161"/>
                </a:lnTo>
                <a:lnTo>
                  <a:pt x="914400" y="2863122"/>
                </a:lnTo>
                <a:cubicBezTo>
                  <a:pt x="929390" y="2873116"/>
                  <a:pt x="941893" y="2888732"/>
                  <a:pt x="959371" y="2893102"/>
                </a:cubicBezTo>
                <a:lnTo>
                  <a:pt x="1019331" y="2908092"/>
                </a:lnTo>
                <a:cubicBezTo>
                  <a:pt x="1079292" y="2903095"/>
                  <a:pt x="1139572" y="2901054"/>
                  <a:pt x="1199213" y="2893102"/>
                </a:cubicBezTo>
                <a:cubicBezTo>
                  <a:pt x="1214876" y="2891014"/>
                  <a:pt x="1228690" y="2881211"/>
                  <a:pt x="1244184" y="2878112"/>
                </a:cubicBezTo>
                <a:cubicBezTo>
                  <a:pt x="1278830" y="2871183"/>
                  <a:pt x="1314194" y="2868494"/>
                  <a:pt x="1349115" y="2863122"/>
                </a:cubicBezTo>
                <a:cubicBezTo>
                  <a:pt x="1379155" y="2858500"/>
                  <a:pt x="1408721" y="2850028"/>
                  <a:pt x="1439056" y="2848132"/>
                </a:cubicBezTo>
                <a:cubicBezTo>
                  <a:pt x="1568814" y="2840022"/>
                  <a:pt x="1698960" y="2839800"/>
                  <a:pt x="1828800" y="2833141"/>
                </a:cubicBezTo>
                <a:cubicBezTo>
                  <a:pt x="1893864" y="2829804"/>
                  <a:pt x="1958715" y="2823148"/>
                  <a:pt x="2023672" y="2818151"/>
                </a:cubicBezTo>
                <a:cubicBezTo>
                  <a:pt x="2189068" y="2785072"/>
                  <a:pt x="2125232" y="2804285"/>
                  <a:pt x="2218544" y="2773181"/>
                </a:cubicBezTo>
                <a:cubicBezTo>
                  <a:pt x="2228538" y="2763187"/>
                  <a:pt x="2237489" y="2752029"/>
                  <a:pt x="2248525" y="2743200"/>
                </a:cubicBezTo>
                <a:cubicBezTo>
                  <a:pt x="2296962" y="2704450"/>
                  <a:pt x="2312216" y="2715119"/>
                  <a:pt x="2353456" y="2653259"/>
                </a:cubicBezTo>
                <a:lnTo>
                  <a:pt x="2413417" y="2563318"/>
                </a:lnTo>
                <a:cubicBezTo>
                  <a:pt x="2418414" y="2548328"/>
                  <a:pt x="2420733" y="2532160"/>
                  <a:pt x="2428407" y="2518348"/>
                </a:cubicBezTo>
                <a:cubicBezTo>
                  <a:pt x="2445905" y="2486851"/>
                  <a:pt x="2476972" y="2462589"/>
                  <a:pt x="2488367" y="2428407"/>
                </a:cubicBezTo>
                <a:cubicBezTo>
                  <a:pt x="2507827" y="2370029"/>
                  <a:pt x="2492185" y="2394610"/>
                  <a:pt x="2533338" y="2353456"/>
                </a:cubicBezTo>
                <a:cubicBezTo>
                  <a:pt x="2557152" y="2282014"/>
                  <a:pt x="2545728" y="2271591"/>
                  <a:pt x="2593299" y="2233535"/>
                </a:cubicBezTo>
                <a:cubicBezTo>
                  <a:pt x="2607367" y="2222281"/>
                  <a:pt x="2623279" y="2213548"/>
                  <a:pt x="2638269" y="2203555"/>
                </a:cubicBezTo>
                <a:cubicBezTo>
                  <a:pt x="2648262" y="2188565"/>
                  <a:pt x="2656994" y="2172652"/>
                  <a:pt x="2668249" y="2158584"/>
                </a:cubicBezTo>
                <a:cubicBezTo>
                  <a:pt x="2705433" y="2112104"/>
                  <a:pt x="2697448" y="2145158"/>
                  <a:pt x="2728210" y="2083633"/>
                </a:cubicBezTo>
                <a:cubicBezTo>
                  <a:pt x="2735276" y="2069500"/>
                  <a:pt x="2734016" y="2051521"/>
                  <a:pt x="2743200" y="2038663"/>
                </a:cubicBezTo>
                <a:cubicBezTo>
                  <a:pt x="2759629" y="2015662"/>
                  <a:pt x="2787482" y="2002221"/>
                  <a:pt x="2803161" y="1978702"/>
                </a:cubicBezTo>
                <a:cubicBezTo>
                  <a:pt x="2813154" y="1963712"/>
                  <a:pt x="2821417" y="1947411"/>
                  <a:pt x="2833141" y="1933732"/>
                </a:cubicBezTo>
                <a:cubicBezTo>
                  <a:pt x="2851536" y="1912271"/>
                  <a:pt x="2877423" y="1897290"/>
                  <a:pt x="2893102" y="1873771"/>
                </a:cubicBezTo>
                <a:cubicBezTo>
                  <a:pt x="2960901" y="1772071"/>
                  <a:pt x="2927583" y="1809308"/>
                  <a:pt x="2983043" y="1753850"/>
                </a:cubicBezTo>
                <a:cubicBezTo>
                  <a:pt x="3022634" y="1635075"/>
                  <a:pt x="3007828" y="1695081"/>
                  <a:pt x="3028013" y="1573968"/>
                </a:cubicBezTo>
                <a:cubicBezTo>
                  <a:pt x="3023016" y="1474033"/>
                  <a:pt x="3031745" y="1372456"/>
                  <a:pt x="3013023" y="1274164"/>
                </a:cubicBezTo>
                <a:cubicBezTo>
                  <a:pt x="3010067" y="1258642"/>
                  <a:pt x="2981602" y="1267303"/>
                  <a:pt x="2968053" y="1259174"/>
                </a:cubicBezTo>
                <a:cubicBezTo>
                  <a:pt x="2864996" y="1197341"/>
                  <a:pt x="3072292" y="1248368"/>
                  <a:pt x="2833141" y="1214204"/>
                </a:cubicBezTo>
                <a:cubicBezTo>
                  <a:pt x="2823148" y="1199214"/>
                  <a:pt x="2814416" y="1183301"/>
                  <a:pt x="2803161" y="1169233"/>
                </a:cubicBezTo>
                <a:cubicBezTo>
                  <a:pt x="2772010" y="1130294"/>
                  <a:pt x="2766272" y="1146194"/>
                  <a:pt x="2743200" y="1094282"/>
                </a:cubicBezTo>
                <a:cubicBezTo>
                  <a:pt x="2730365" y="1065404"/>
                  <a:pt x="2723213" y="1034321"/>
                  <a:pt x="2713220" y="1004341"/>
                </a:cubicBezTo>
                <a:lnTo>
                  <a:pt x="2638269" y="779489"/>
                </a:lnTo>
                <a:lnTo>
                  <a:pt x="2578308" y="599607"/>
                </a:lnTo>
                <a:cubicBezTo>
                  <a:pt x="2573311" y="584617"/>
                  <a:pt x="2574491" y="565810"/>
                  <a:pt x="2563318" y="554637"/>
                </a:cubicBezTo>
                <a:cubicBezTo>
                  <a:pt x="2446409" y="437724"/>
                  <a:pt x="2635750" y="630991"/>
                  <a:pt x="2503358" y="479686"/>
                </a:cubicBezTo>
                <a:cubicBezTo>
                  <a:pt x="2480092" y="453096"/>
                  <a:pt x="2453391" y="429719"/>
                  <a:pt x="2428407" y="404735"/>
                </a:cubicBezTo>
                <a:cubicBezTo>
                  <a:pt x="2418413" y="394742"/>
                  <a:pt x="2406265" y="386514"/>
                  <a:pt x="2398426" y="374755"/>
                </a:cubicBezTo>
                <a:cubicBezTo>
                  <a:pt x="2388433" y="359765"/>
                  <a:pt x="2381185" y="342523"/>
                  <a:pt x="2368446" y="329784"/>
                </a:cubicBezTo>
                <a:cubicBezTo>
                  <a:pt x="2355707" y="317045"/>
                  <a:pt x="2337034" y="311667"/>
                  <a:pt x="2323476" y="299804"/>
                </a:cubicBezTo>
                <a:cubicBezTo>
                  <a:pt x="2296886" y="276538"/>
                  <a:pt x="2273509" y="249837"/>
                  <a:pt x="2248525" y="224853"/>
                </a:cubicBezTo>
                <a:lnTo>
                  <a:pt x="2218544" y="194873"/>
                </a:lnTo>
                <a:cubicBezTo>
                  <a:pt x="2208550" y="184879"/>
                  <a:pt x="2201972" y="169361"/>
                  <a:pt x="2188564" y="164892"/>
                </a:cubicBezTo>
                <a:cubicBezTo>
                  <a:pt x="2173574" y="159895"/>
                  <a:pt x="2157727" y="156968"/>
                  <a:pt x="2143594" y="149902"/>
                </a:cubicBezTo>
                <a:cubicBezTo>
                  <a:pt x="2027359" y="91785"/>
                  <a:pt x="2166686" y="142610"/>
                  <a:pt x="2053653" y="104932"/>
                </a:cubicBezTo>
                <a:cubicBezTo>
                  <a:pt x="2043659" y="94938"/>
                  <a:pt x="2035791" y="82223"/>
                  <a:pt x="2023672" y="74951"/>
                </a:cubicBezTo>
                <a:cubicBezTo>
                  <a:pt x="2008943" y="66113"/>
                  <a:pt x="1929118" y="47277"/>
                  <a:pt x="1918741" y="44971"/>
                </a:cubicBezTo>
                <a:cubicBezTo>
                  <a:pt x="1800080" y="18602"/>
                  <a:pt x="1833072" y="31102"/>
                  <a:pt x="1663908" y="14991"/>
                </a:cubicBezTo>
                <a:cubicBezTo>
                  <a:pt x="1618865" y="10701"/>
                  <a:pt x="1573967" y="4997"/>
                  <a:pt x="1528997" y="0"/>
                </a:cubicBezTo>
                <a:cubicBezTo>
                  <a:pt x="1384092" y="4997"/>
                  <a:pt x="1238743" y="2608"/>
                  <a:pt x="1094282" y="14991"/>
                </a:cubicBezTo>
                <a:cubicBezTo>
                  <a:pt x="1062795" y="17690"/>
                  <a:pt x="1035513" y="39776"/>
                  <a:pt x="1004341" y="44971"/>
                </a:cubicBezTo>
                <a:lnTo>
                  <a:pt x="914400" y="59961"/>
                </a:lnTo>
                <a:cubicBezTo>
                  <a:pt x="806558" y="95908"/>
                  <a:pt x="941252" y="52288"/>
                  <a:pt x="809469" y="89941"/>
                </a:cubicBezTo>
                <a:cubicBezTo>
                  <a:pt x="794276" y="94282"/>
                  <a:pt x="779489" y="99935"/>
                  <a:pt x="764499" y="104932"/>
                </a:cubicBezTo>
                <a:cubicBezTo>
                  <a:pt x="688533" y="180895"/>
                  <a:pt x="786845" y="91524"/>
                  <a:pt x="689548" y="149902"/>
                </a:cubicBezTo>
                <a:cubicBezTo>
                  <a:pt x="677429" y="157173"/>
                  <a:pt x="669561" y="169889"/>
                  <a:pt x="659567" y="179882"/>
                </a:cubicBezTo>
                <a:cubicBezTo>
                  <a:pt x="444245" y="170910"/>
                  <a:pt x="365711" y="145713"/>
                  <a:pt x="194872" y="179882"/>
                </a:cubicBezTo>
                <a:cubicBezTo>
                  <a:pt x="179378" y="182981"/>
                  <a:pt x="164892" y="189876"/>
                  <a:pt x="149902" y="194873"/>
                </a:cubicBezTo>
                <a:cubicBezTo>
                  <a:pt x="63987" y="323741"/>
                  <a:pt x="166988" y="160699"/>
                  <a:pt x="104931" y="284814"/>
                </a:cubicBezTo>
                <a:cubicBezTo>
                  <a:pt x="84062" y="326553"/>
                  <a:pt x="63132" y="341603"/>
                  <a:pt x="29980" y="374755"/>
                </a:cubicBezTo>
                <a:cubicBezTo>
                  <a:pt x="24983" y="394742"/>
                  <a:pt x="20650" y="414906"/>
                  <a:pt x="14990" y="434715"/>
                </a:cubicBezTo>
                <a:cubicBezTo>
                  <a:pt x="10649" y="449908"/>
                  <a:pt x="0" y="463885"/>
                  <a:pt x="0" y="479686"/>
                </a:cubicBezTo>
                <a:cubicBezTo>
                  <a:pt x="0" y="492527"/>
                  <a:pt x="7759" y="697304"/>
                  <a:pt x="44971" y="734518"/>
                </a:cubicBezTo>
                <a:lnTo>
                  <a:pt x="74951" y="764499"/>
                </a:lnTo>
                <a:lnTo>
                  <a:pt x="104931" y="854440"/>
                </a:lnTo>
                <a:cubicBezTo>
                  <a:pt x="109928" y="869430"/>
                  <a:pt x="116089" y="884081"/>
                  <a:pt x="119921" y="899410"/>
                </a:cubicBezTo>
                <a:cubicBezTo>
                  <a:pt x="122721" y="910608"/>
                  <a:pt x="140687" y="988982"/>
                  <a:pt x="149902" y="1004341"/>
                </a:cubicBezTo>
                <a:cubicBezTo>
                  <a:pt x="157173" y="1016460"/>
                  <a:pt x="168846" y="1025493"/>
                  <a:pt x="179882" y="1034322"/>
                </a:cubicBezTo>
                <a:cubicBezTo>
                  <a:pt x="193950" y="1045577"/>
                  <a:pt x="224853" y="1064302"/>
                  <a:pt x="224853" y="1064302"/>
                </a:cubicBezTo>
              </a:path>
            </a:pathLst>
          </a:cu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0" name="任意多边形 4"/>
          <p:cNvSpPr/>
          <p:nvPr/>
        </p:nvSpPr>
        <p:spPr>
          <a:xfrm>
            <a:off x="5759640" y="1772640"/>
            <a:ext cx="2196360" cy="2751120"/>
          </a:xfrm>
          <a:custGeom>
            <a:avLst/>
            <a:gdLst>
              <a:gd name="textAreaLeft" fmla="*/ 0 w 2196360"/>
              <a:gd name="textAreaRight" fmla="*/ 2196720 w 2196360"/>
              <a:gd name="textAreaTop" fmla="*/ 0 h 2751120"/>
              <a:gd name="textAreaBottom" fmla="*/ 2751480 h 2751120"/>
            </a:gdLst>
            <a:ahLst/>
            <a:rect l="textAreaLeft" t="textAreaTop" r="textAreaRight" b="textAreaBottom"/>
            <a:pathLst>
              <a:path w="1439056" h="1753849">
                <a:moveTo>
                  <a:pt x="89941" y="119921"/>
                </a:moveTo>
                <a:cubicBezTo>
                  <a:pt x="99934" y="94937"/>
                  <a:pt x="102695" y="65641"/>
                  <a:pt x="119921" y="44970"/>
                </a:cubicBezTo>
                <a:cubicBezTo>
                  <a:pt x="130037" y="32831"/>
                  <a:pt x="150759" y="37046"/>
                  <a:pt x="164892" y="29980"/>
                </a:cubicBezTo>
                <a:cubicBezTo>
                  <a:pt x="181006" y="21923"/>
                  <a:pt x="194872" y="9993"/>
                  <a:pt x="209862" y="0"/>
                </a:cubicBezTo>
                <a:cubicBezTo>
                  <a:pt x="369757" y="4997"/>
                  <a:pt x="530022" y="3026"/>
                  <a:pt x="689547" y="14990"/>
                </a:cubicBezTo>
                <a:cubicBezTo>
                  <a:pt x="730636" y="18072"/>
                  <a:pt x="770380" y="31939"/>
                  <a:pt x="809469" y="44970"/>
                </a:cubicBezTo>
                <a:cubicBezTo>
                  <a:pt x="824459" y="49967"/>
                  <a:pt x="840306" y="52895"/>
                  <a:pt x="854439" y="59961"/>
                </a:cubicBezTo>
                <a:cubicBezTo>
                  <a:pt x="870553" y="68018"/>
                  <a:pt x="882947" y="82624"/>
                  <a:pt x="899410" y="89941"/>
                </a:cubicBezTo>
                <a:cubicBezTo>
                  <a:pt x="928288" y="102776"/>
                  <a:pt x="989351" y="119921"/>
                  <a:pt x="989351" y="119921"/>
                </a:cubicBezTo>
                <a:lnTo>
                  <a:pt x="1079292" y="179882"/>
                </a:lnTo>
                <a:cubicBezTo>
                  <a:pt x="1094282" y="189875"/>
                  <a:pt x="1111523" y="197123"/>
                  <a:pt x="1124262" y="209862"/>
                </a:cubicBezTo>
                <a:cubicBezTo>
                  <a:pt x="1268602" y="354202"/>
                  <a:pt x="1115044" y="208483"/>
                  <a:pt x="1229193" y="299803"/>
                </a:cubicBezTo>
                <a:cubicBezTo>
                  <a:pt x="1335991" y="385242"/>
                  <a:pt x="1165734" y="267490"/>
                  <a:pt x="1304144" y="359764"/>
                </a:cubicBezTo>
                <a:cubicBezTo>
                  <a:pt x="1314137" y="374754"/>
                  <a:pt x="1322870" y="390666"/>
                  <a:pt x="1334124" y="404734"/>
                </a:cubicBezTo>
                <a:cubicBezTo>
                  <a:pt x="1342953" y="415770"/>
                  <a:pt x="1358538" y="421725"/>
                  <a:pt x="1364105" y="434715"/>
                </a:cubicBezTo>
                <a:cubicBezTo>
                  <a:pt x="1376318" y="463211"/>
                  <a:pt x="1392818" y="620295"/>
                  <a:pt x="1394085" y="629587"/>
                </a:cubicBezTo>
                <a:cubicBezTo>
                  <a:pt x="1422871" y="840688"/>
                  <a:pt x="1411935" y="778805"/>
                  <a:pt x="1439056" y="914400"/>
                </a:cubicBezTo>
                <a:cubicBezTo>
                  <a:pt x="1434059" y="1009338"/>
                  <a:pt x="1432672" y="1104534"/>
                  <a:pt x="1424065" y="1199213"/>
                </a:cubicBezTo>
                <a:cubicBezTo>
                  <a:pt x="1422634" y="1214949"/>
                  <a:pt x="1420248" y="1233011"/>
                  <a:pt x="1409075" y="1244184"/>
                </a:cubicBezTo>
                <a:cubicBezTo>
                  <a:pt x="1397902" y="1255357"/>
                  <a:pt x="1379095" y="1254177"/>
                  <a:pt x="1364105" y="1259174"/>
                </a:cubicBezTo>
                <a:cubicBezTo>
                  <a:pt x="1313732" y="1410294"/>
                  <a:pt x="1390588" y="1175893"/>
                  <a:pt x="1334124" y="1364105"/>
                </a:cubicBezTo>
                <a:cubicBezTo>
                  <a:pt x="1325043" y="1394374"/>
                  <a:pt x="1334124" y="1444053"/>
                  <a:pt x="1304144" y="1454046"/>
                </a:cubicBezTo>
                <a:lnTo>
                  <a:pt x="1259174" y="1469036"/>
                </a:lnTo>
                <a:cubicBezTo>
                  <a:pt x="1222292" y="1505918"/>
                  <a:pt x="1192063" y="1528307"/>
                  <a:pt x="1169233" y="1573967"/>
                </a:cubicBezTo>
                <a:cubicBezTo>
                  <a:pt x="1162166" y="1588100"/>
                  <a:pt x="1165415" y="1607765"/>
                  <a:pt x="1154242" y="1618938"/>
                </a:cubicBezTo>
                <a:cubicBezTo>
                  <a:pt x="1143069" y="1630111"/>
                  <a:pt x="1123405" y="1626862"/>
                  <a:pt x="1109272" y="1633928"/>
                </a:cubicBezTo>
                <a:cubicBezTo>
                  <a:pt x="1093158" y="1641985"/>
                  <a:pt x="1080415" y="1655851"/>
                  <a:pt x="1064301" y="1663908"/>
                </a:cubicBezTo>
                <a:cubicBezTo>
                  <a:pt x="1014074" y="1689021"/>
                  <a:pt x="927167" y="1689138"/>
                  <a:pt x="884419" y="1693888"/>
                </a:cubicBezTo>
                <a:cubicBezTo>
                  <a:pt x="874426" y="1703882"/>
                  <a:pt x="866558" y="1716598"/>
                  <a:pt x="854439" y="1723869"/>
                </a:cubicBezTo>
                <a:cubicBezTo>
                  <a:pt x="814487" y="1747840"/>
                  <a:pt x="687881" y="1752369"/>
                  <a:pt x="674557" y="1753849"/>
                </a:cubicBezTo>
                <a:cubicBezTo>
                  <a:pt x="634583" y="1748852"/>
                  <a:pt x="594027" y="1747300"/>
                  <a:pt x="554636" y="1738859"/>
                </a:cubicBezTo>
                <a:cubicBezTo>
                  <a:pt x="523735" y="1732238"/>
                  <a:pt x="464695" y="1708879"/>
                  <a:pt x="464695" y="1708879"/>
                </a:cubicBezTo>
                <a:cubicBezTo>
                  <a:pt x="406138" y="1650320"/>
                  <a:pt x="467581" y="1702826"/>
                  <a:pt x="389744" y="1663908"/>
                </a:cubicBezTo>
                <a:cubicBezTo>
                  <a:pt x="273508" y="1605791"/>
                  <a:pt x="412840" y="1656616"/>
                  <a:pt x="299803" y="1618938"/>
                </a:cubicBezTo>
                <a:cubicBezTo>
                  <a:pt x="284813" y="1608944"/>
                  <a:pt x="271296" y="1596274"/>
                  <a:pt x="254833" y="1588957"/>
                </a:cubicBezTo>
                <a:cubicBezTo>
                  <a:pt x="225955" y="1576122"/>
                  <a:pt x="164892" y="1558977"/>
                  <a:pt x="164892" y="1558977"/>
                </a:cubicBezTo>
                <a:cubicBezTo>
                  <a:pt x="92192" y="1486277"/>
                  <a:pt x="128450" y="1514695"/>
                  <a:pt x="59960" y="1469036"/>
                </a:cubicBezTo>
                <a:cubicBezTo>
                  <a:pt x="30411" y="1380387"/>
                  <a:pt x="12538" y="1371459"/>
                  <a:pt x="44970" y="1274164"/>
                </a:cubicBezTo>
                <a:cubicBezTo>
                  <a:pt x="49439" y="1260756"/>
                  <a:pt x="64957" y="1254177"/>
                  <a:pt x="74951" y="1244184"/>
                </a:cubicBezTo>
                <a:cubicBezTo>
                  <a:pt x="83509" y="1201393"/>
                  <a:pt x="92230" y="1151611"/>
                  <a:pt x="104931" y="1109272"/>
                </a:cubicBezTo>
                <a:cubicBezTo>
                  <a:pt x="114012" y="1079003"/>
                  <a:pt x="124918" y="1049311"/>
                  <a:pt x="134911" y="1019331"/>
                </a:cubicBezTo>
                <a:cubicBezTo>
                  <a:pt x="154370" y="960953"/>
                  <a:pt x="138728" y="985534"/>
                  <a:pt x="179882" y="944380"/>
                </a:cubicBezTo>
                <a:cubicBezTo>
                  <a:pt x="171481" y="885572"/>
                  <a:pt x="186441" y="840387"/>
                  <a:pt x="134911" y="809469"/>
                </a:cubicBezTo>
                <a:cubicBezTo>
                  <a:pt x="121362" y="801340"/>
                  <a:pt x="104931" y="799476"/>
                  <a:pt x="89941" y="794479"/>
                </a:cubicBezTo>
                <a:cubicBezTo>
                  <a:pt x="79947" y="784485"/>
                  <a:pt x="70996" y="773327"/>
                  <a:pt x="59960" y="764498"/>
                </a:cubicBezTo>
                <a:cubicBezTo>
                  <a:pt x="45892" y="753244"/>
                  <a:pt x="26244" y="748586"/>
                  <a:pt x="14990" y="734518"/>
                </a:cubicBezTo>
                <a:cubicBezTo>
                  <a:pt x="5119" y="722180"/>
                  <a:pt x="4997" y="704538"/>
                  <a:pt x="0" y="689548"/>
                </a:cubicBezTo>
                <a:cubicBezTo>
                  <a:pt x="4803" y="670337"/>
                  <a:pt x="19228" y="606121"/>
                  <a:pt x="29980" y="584616"/>
                </a:cubicBezTo>
                <a:cubicBezTo>
                  <a:pt x="88101" y="468372"/>
                  <a:pt x="37268" y="607719"/>
                  <a:pt x="74951" y="494675"/>
                </a:cubicBezTo>
                <a:cubicBezTo>
                  <a:pt x="79948" y="464695"/>
                  <a:pt x="89941" y="435128"/>
                  <a:pt x="89941" y="404734"/>
                </a:cubicBezTo>
                <a:cubicBezTo>
                  <a:pt x="89941" y="304321"/>
                  <a:pt x="83416" y="295216"/>
                  <a:pt x="59960" y="224852"/>
                </a:cubicBezTo>
                <a:cubicBezTo>
                  <a:pt x="64957" y="209862"/>
                  <a:pt x="70610" y="195075"/>
                  <a:pt x="74951" y="179882"/>
                </a:cubicBezTo>
                <a:cubicBezTo>
                  <a:pt x="80611" y="160073"/>
                  <a:pt x="78513" y="137063"/>
                  <a:pt x="89941" y="119921"/>
                </a:cubicBezTo>
                <a:cubicBezTo>
                  <a:pt x="106546" y="95013"/>
                  <a:pt x="154229" y="83502"/>
                  <a:pt x="179882" y="74951"/>
                </a:cubicBezTo>
                <a:lnTo>
                  <a:pt x="239842" y="14990"/>
                </a:ln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5940000" y="2025360"/>
            <a:ext cx="18000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6"/>
          <p:cNvSpPr/>
          <p:nvPr/>
        </p:nvSpPr>
        <p:spPr>
          <a:xfrm rot="3941400">
            <a:off x="5230440" y="3472200"/>
            <a:ext cx="575640" cy="635040"/>
          </a:xfrm>
          <a:custGeom>
            <a:avLst/>
            <a:gdLst>
              <a:gd name="textAreaLeft" fmla="*/ 0 w 575640"/>
              <a:gd name="textAreaRight" fmla="*/ 576000 w 57564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311178" h="259978">
                <a:moveTo>
                  <a:pt x="172195" y="5145"/>
                </a:moveTo>
                <a:cubicBezTo>
                  <a:pt x="127225" y="10142"/>
                  <a:pt x="62383" y="-17513"/>
                  <a:pt x="37284" y="20135"/>
                </a:cubicBezTo>
                <a:cubicBezTo>
                  <a:pt x="-52571" y="154918"/>
                  <a:pt x="41110" y="170099"/>
                  <a:pt x="97245" y="215007"/>
                </a:cubicBezTo>
                <a:cubicBezTo>
                  <a:pt x="108281" y="223836"/>
                  <a:pt x="114235" y="239421"/>
                  <a:pt x="127225" y="244988"/>
                </a:cubicBezTo>
                <a:cubicBezTo>
                  <a:pt x="150643" y="255025"/>
                  <a:pt x="177192" y="254981"/>
                  <a:pt x="202176" y="259978"/>
                </a:cubicBezTo>
                <a:cubicBezTo>
                  <a:pt x="227160" y="254981"/>
                  <a:pt x="255006" y="257629"/>
                  <a:pt x="277127" y="244988"/>
                </a:cubicBezTo>
                <a:cubicBezTo>
                  <a:pt x="328437" y="215668"/>
                  <a:pt x="311613" y="107947"/>
                  <a:pt x="292117" y="80096"/>
                </a:cubicBezTo>
                <a:cubicBezTo>
                  <a:pt x="273994" y="54207"/>
                  <a:pt x="232156" y="60109"/>
                  <a:pt x="202176" y="50115"/>
                </a:cubicBezTo>
                <a:cubicBezTo>
                  <a:pt x="166537" y="38235"/>
                  <a:pt x="134885" y="26408"/>
                  <a:pt x="97245" y="20135"/>
                </a:cubicBezTo>
                <a:cubicBezTo>
                  <a:pt x="87387" y="18492"/>
                  <a:pt x="77258" y="20135"/>
                  <a:pt x="67264" y="20135"/>
                </a:cubicBez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3" name="TextBox 93"/>
          <p:cNvSpPr/>
          <p:nvPr/>
        </p:nvSpPr>
        <p:spPr>
          <a:xfrm>
            <a:off x="2667600" y="1700640"/>
            <a:ext cx="276948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94"/>
          <p:cNvGrpSpPr/>
          <p:nvPr/>
        </p:nvGrpSpPr>
        <p:grpSpPr>
          <a:xfrm>
            <a:off x="0" y="6588000"/>
            <a:ext cx="9143640" cy="297000"/>
            <a:chOff x="0" y="6588000"/>
            <a:chExt cx="9143640" cy="297000"/>
          </a:xfrm>
        </p:grpSpPr>
        <p:sp>
          <p:nvSpPr>
            <p:cNvPr id="365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6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7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8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9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0" name="矩形 127"/>
            <p:cNvSpPr/>
            <p:nvPr/>
          </p:nvSpPr>
          <p:spPr>
            <a:xfrm>
              <a:off x="2204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1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5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6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7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8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0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1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2" name="矩形 139"/>
            <p:cNvSpPr/>
            <p:nvPr/>
          </p:nvSpPr>
          <p:spPr>
            <a:xfrm>
              <a:off x="8396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3" name="矩形 140"/>
            <p:cNvSpPr/>
            <p:nvPr/>
          </p:nvSpPr>
          <p:spPr>
            <a:xfrm>
              <a:off x="8757000" y="6781680"/>
              <a:ext cx="38664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4" name="矩形 141"/>
            <p:cNvSpPr/>
            <p:nvPr/>
          </p:nvSpPr>
          <p:spPr>
            <a:xfrm>
              <a:off x="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5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6" name="矩形 143"/>
            <p:cNvSpPr/>
            <p:nvPr/>
          </p:nvSpPr>
          <p:spPr>
            <a:xfrm>
              <a:off x="53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7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2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3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4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7" name="矩形 154"/>
            <p:cNvSpPr/>
            <p:nvPr/>
          </p:nvSpPr>
          <p:spPr>
            <a:xfrm>
              <a:off x="6156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8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9" name="矩形 156"/>
            <p:cNvSpPr/>
            <p:nvPr/>
          </p:nvSpPr>
          <p:spPr>
            <a:xfrm>
              <a:off x="719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0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1" name="矩形 158"/>
            <p:cNvSpPr/>
            <p:nvPr/>
          </p:nvSpPr>
          <p:spPr>
            <a:xfrm>
              <a:off x="824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2" name="矩形 159"/>
            <p:cNvSpPr/>
            <p:nvPr/>
          </p:nvSpPr>
          <p:spPr>
            <a:xfrm>
              <a:off x="860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3" name="矩形 160"/>
            <p:cNvSpPr/>
            <p:nvPr/>
          </p:nvSpPr>
          <p:spPr>
            <a:xfrm>
              <a:off x="342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4" name="矩形 161"/>
            <p:cNvSpPr/>
            <p:nvPr/>
          </p:nvSpPr>
          <p:spPr>
            <a:xfrm>
              <a:off x="89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5" name="矩形 162"/>
            <p:cNvSpPr/>
            <p:nvPr/>
          </p:nvSpPr>
          <p:spPr>
            <a:xfrm>
              <a:off x="140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6" name="矩形 163"/>
            <p:cNvSpPr/>
            <p:nvPr/>
          </p:nvSpPr>
          <p:spPr>
            <a:xfrm>
              <a:off x="1943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7" name="矩形 164"/>
            <p:cNvSpPr/>
            <p:nvPr/>
          </p:nvSpPr>
          <p:spPr>
            <a:xfrm>
              <a:off x="2447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8" name="矩形 165"/>
            <p:cNvSpPr/>
            <p:nvPr/>
          </p:nvSpPr>
          <p:spPr>
            <a:xfrm>
              <a:off x="2951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9" name="矩形 166"/>
            <p:cNvSpPr/>
            <p:nvPr/>
          </p:nvSpPr>
          <p:spPr>
            <a:xfrm>
              <a:off x="342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0" name="矩形 167"/>
            <p:cNvSpPr/>
            <p:nvPr/>
          </p:nvSpPr>
          <p:spPr>
            <a:xfrm>
              <a:off x="3959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1" name="矩形 168"/>
            <p:cNvSpPr/>
            <p:nvPr/>
          </p:nvSpPr>
          <p:spPr>
            <a:xfrm>
              <a:off x="446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矩形 169"/>
            <p:cNvSpPr/>
            <p:nvPr/>
          </p:nvSpPr>
          <p:spPr>
            <a:xfrm>
              <a:off x="496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3" name="矩形 170"/>
            <p:cNvSpPr/>
            <p:nvPr/>
          </p:nvSpPr>
          <p:spPr>
            <a:xfrm>
              <a:off x="5436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4" name="矩形 171"/>
            <p:cNvSpPr/>
            <p:nvPr/>
          </p:nvSpPr>
          <p:spPr>
            <a:xfrm>
              <a:off x="594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5" name="矩形 172"/>
            <p:cNvSpPr/>
            <p:nvPr/>
          </p:nvSpPr>
          <p:spPr>
            <a:xfrm>
              <a:off x="647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6" name="矩形 173"/>
            <p:cNvSpPr/>
            <p:nvPr/>
          </p:nvSpPr>
          <p:spPr>
            <a:xfrm>
              <a:off x="698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7" name="矩形 174"/>
            <p:cNvSpPr/>
            <p:nvPr/>
          </p:nvSpPr>
          <p:spPr>
            <a:xfrm>
              <a:off x="748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8" name="矩形 175"/>
            <p:cNvSpPr/>
            <p:nvPr/>
          </p:nvSpPr>
          <p:spPr>
            <a:xfrm>
              <a:off x="7956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9" name="矩形 176"/>
            <p:cNvSpPr/>
            <p:nvPr/>
          </p:nvSpPr>
          <p:spPr>
            <a:xfrm>
              <a:off x="824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0" name="矩形 177"/>
            <p:cNvSpPr/>
            <p:nvPr/>
          </p:nvSpPr>
          <p:spPr>
            <a:xfrm>
              <a:off x="860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21" name="组合 178"/>
          <p:cNvGrpSpPr/>
          <p:nvPr/>
        </p:nvGrpSpPr>
        <p:grpSpPr>
          <a:xfrm>
            <a:off x="107640" y="116640"/>
            <a:ext cx="1699560" cy="2507760"/>
            <a:chOff x="107640" y="116640"/>
            <a:chExt cx="1699560" cy="2507760"/>
          </a:xfrm>
        </p:grpSpPr>
        <p:sp>
          <p:nvSpPr>
            <p:cNvPr id="422" name="任意多边形 179"/>
            <p:cNvSpPr/>
            <p:nvPr/>
          </p:nvSpPr>
          <p:spPr>
            <a:xfrm>
              <a:off x="144720" y="269280"/>
              <a:ext cx="1283040" cy="2043360"/>
            </a:xfrm>
            <a:custGeom>
              <a:avLst/>
              <a:gdLst>
                <a:gd name="textAreaLeft" fmla="*/ 0 w 1283040"/>
                <a:gd name="textAreaRight" fmla="*/ 1283400 w 1283040"/>
                <a:gd name="textAreaTop" fmla="*/ 0 h 2043360"/>
                <a:gd name="textAreaBottom" fmla="*/ 2043720 h 2043360"/>
              </a:gdLst>
              <a:ahLst/>
              <a:rect l="textAreaLeft" t="textAreaTop" r="textAreaRight" b="textAreaBottom"/>
              <a:pathLst>
                <a:path w="2024293" h="2473377">
                  <a:moveTo>
                    <a:pt x="1319755" y="74951"/>
                  </a:moveTo>
                  <a:cubicBezTo>
                    <a:pt x="1402002" y="42053"/>
                    <a:pt x="1426338" y="18650"/>
                    <a:pt x="1529618" y="59961"/>
                  </a:cubicBezTo>
                  <a:cubicBezTo>
                    <a:pt x="1544289" y="65829"/>
                    <a:pt x="1536479" y="91382"/>
                    <a:pt x="1544608" y="104931"/>
                  </a:cubicBezTo>
                  <a:cubicBezTo>
                    <a:pt x="1551879" y="117050"/>
                    <a:pt x="1564595" y="124918"/>
                    <a:pt x="1574588" y="134912"/>
                  </a:cubicBezTo>
                  <a:cubicBezTo>
                    <a:pt x="1579585" y="149902"/>
                    <a:pt x="1581448" y="166333"/>
                    <a:pt x="1589578" y="179882"/>
                  </a:cubicBezTo>
                  <a:cubicBezTo>
                    <a:pt x="1622761" y="235187"/>
                    <a:pt x="1677604" y="217118"/>
                    <a:pt x="1739480" y="224853"/>
                  </a:cubicBezTo>
                  <a:cubicBezTo>
                    <a:pt x="1754470" y="229850"/>
                    <a:pt x="1770901" y="231714"/>
                    <a:pt x="1784450" y="239843"/>
                  </a:cubicBezTo>
                  <a:cubicBezTo>
                    <a:pt x="1887333" y="301572"/>
                    <a:pt x="1732009" y="242349"/>
                    <a:pt x="1859401" y="284813"/>
                  </a:cubicBezTo>
                  <a:cubicBezTo>
                    <a:pt x="1869395" y="294807"/>
                    <a:pt x="1878346" y="305965"/>
                    <a:pt x="1889382" y="314794"/>
                  </a:cubicBezTo>
                  <a:cubicBezTo>
                    <a:pt x="1903450" y="326048"/>
                    <a:pt x="1923098" y="330706"/>
                    <a:pt x="1934352" y="344774"/>
                  </a:cubicBezTo>
                  <a:cubicBezTo>
                    <a:pt x="1943328" y="355994"/>
                    <a:pt x="1961846" y="443904"/>
                    <a:pt x="1964332" y="449705"/>
                  </a:cubicBezTo>
                  <a:cubicBezTo>
                    <a:pt x="1971429" y="466264"/>
                    <a:pt x="1984319" y="479685"/>
                    <a:pt x="1994313" y="494675"/>
                  </a:cubicBezTo>
                  <a:cubicBezTo>
                    <a:pt x="2020689" y="573805"/>
                    <a:pt x="2019416" y="549045"/>
                    <a:pt x="1994313" y="674557"/>
                  </a:cubicBezTo>
                  <a:cubicBezTo>
                    <a:pt x="1988115" y="705545"/>
                    <a:pt x="1964332" y="764498"/>
                    <a:pt x="1964332" y="764498"/>
                  </a:cubicBezTo>
                  <a:cubicBezTo>
                    <a:pt x="1983243" y="915777"/>
                    <a:pt x="1966584" y="846203"/>
                    <a:pt x="2009303" y="974361"/>
                  </a:cubicBezTo>
                  <a:lnTo>
                    <a:pt x="2024293" y="1019331"/>
                  </a:lnTo>
                  <a:cubicBezTo>
                    <a:pt x="2019296" y="1114269"/>
                    <a:pt x="2015233" y="1209260"/>
                    <a:pt x="2009303" y="1304144"/>
                  </a:cubicBezTo>
                  <a:cubicBezTo>
                    <a:pt x="2005239" y="1369166"/>
                    <a:pt x="2016225" y="1437662"/>
                    <a:pt x="1994313" y="1499016"/>
                  </a:cubicBezTo>
                  <a:cubicBezTo>
                    <a:pt x="1987384" y="1518418"/>
                    <a:pt x="1954339" y="1509010"/>
                    <a:pt x="1934352" y="1514007"/>
                  </a:cubicBezTo>
                  <a:cubicBezTo>
                    <a:pt x="1929355" y="1528997"/>
                    <a:pt x="1923194" y="1543648"/>
                    <a:pt x="1919362" y="1558977"/>
                  </a:cubicBezTo>
                  <a:cubicBezTo>
                    <a:pt x="1913183" y="1583695"/>
                    <a:pt x="1914409" y="1610510"/>
                    <a:pt x="1904372" y="1633928"/>
                  </a:cubicBezTo>
                  <a:cubicBezTo>
                    <a:pt x="1898805" y="1646918"/>
                    <a:pt x="1884385" y="1653915"/>
                    <a:pt x="1874391" y="1663908"/>
                  </a:cubicBezTo>
                  <a:cubicBezTo>
                    <a:pt x="1858558" y="1711408"/>
                    <a:pt x="1862631" y="1712335"/>
                    <a:pt x="1829421" y="1753849"/>
                  </a:cubicBezTo>
                  <a:cubicBezTo>
                    <a:pt x="1820592" y="1764885"/>
                    <a:pt x="1808270" y="1772794"/>
                    <a:pt x="1799441" y="1783830"/>
                  </a:cubicBezTo>
                  <a:cubicBezTo>
                    <a:pt x="1715963" y="1888177"/>
                    <a:pt x="1831311" y="1766947"/>
                    <a:pt x="1724490" y="1873771"/>
                  </a:cubicBezTo>
                  <a:cubicBezTo>
                    <a:pt x="1709647" y="1918299"/>
                    <a:pt x="1700161" y="1973050"/>
                    <a:pt x="1664529" y="2008682"/>
                  </a:cubicBezTo>
                  <a:cubicBezTo>
                    <a:pt x="1605527" y="2067684"/>
                    <a:pt x="1634081" y="2009306"/>
                    <a:pt x="1589578" y="2068643"/>
                  </a:cubicBezTo>
                  <a:cubicBezTo>
                    <a:pt x="1583486" y="2076765"/>
                    <a:pt x="1530893" y="2169811"/>
                    <a:pt x="1499637" y="2188564"/>
                  </a:cubicBezTo>
                  <a:cubicBezTo>
                    <a:pt x="1486088" y="2196693"/>
                    <a:pt x="1469657" y="2198557"/>
                    <a:pt x="1454667" y="2203554"/>
                  </a:cubicBezTo>
                  <a:cubicBezTo>
                    <a:pt x="1361305" y="2296919"/>
                    <a:pt x="1496466" y="2170692"/>
                    <a:pt x="1379716" y="2248525"/>
                  </a:cubicBezTo>
                  <a:cubicBezTo>
                    <a:pt x="1267429" y="2323382"/>
                    <a:pt x="1396706" y="2272842"/>
                    <a:pt x="1289775" y="2308485"/>
                  </a:cubicBezTo>
                  <a:cubicBezTo>
                    <a:pt x="1274785" y="2318479"/>
                    <a:pt x="1261268" y="2331149"/>
                    <a:pt x="1244805" y="2338466"/>
                  </a:cubicBezTo>
                  <a:cubicBezTo>
                    <a:pt x="1180687" y="2366963"/>
                    <a:pt x="1155946" y="2365996"/>
                    <a:pt x="1094903" y="2383436"/>
                  </a:cubicBezTo>
                  <a:cubicBezTo>
                    <a:pt x="1079710" y="2387777"/>
                    <a:pt x="1064922" y="2393429"/>
                    <a:pt x="1049932" y="2398426"/>
                  </a:cubicBezTo>
                  <a:cubicBezTo>
                    <a:pt x="1039939" y="2408420"/>
                    <a:pt x="1032071" y="2421136"/>
                    <a:pt x="1019952" y="2428407"/>
                  </a:cubicBezTo>
                  <a:cubicBezTo>
                    <a:pt x="922649" y="2486790"/>
                    <a:pt x="1020971" y="2397409"/>
                    <a:pt x="945001" y="2473377"/>
                  </a:cubicBezTo>
                  <a:cubicBezTo>
                    <a:pt x="830889" y="2435340"/>
                    <a:pt x="886048" y="2449595"/>
                    <a:pt x="780109" y="2428407"/>
                  </a:cubicBezTo>
                  <a:cubicBezTo>
                    <a:pt x="707717" y="2356012"/>
                    <a:pt x="795794" y="2448012"/>
                    <a:pt x="720149" y="2353456"/>
                  </a:cubicBezTo>
                  <a:cubicBezTo>
                    <a:pt x="711320" y="2342420"/>
                    <a:pt x="698648" y="2334782"/>
                    <a:pt x="690168" y="2323475"/>
                  </a:cubicBezTo>
                  <a:cubicBezTo>
                    <a:pt x="668549" y="2294650"/>
                    <a:pt x="630208" y="2233535"/>
                    <a:pt x="630208" y="2233535"/>
                  </a:cubicBezTo>
                  <a:cubicBezTo>
                    <a:pt x="603824" y="2154381"/>
                    <a:pt x="623983" y="2201712"/>
                    <a:pt x="555257" y="2098623"/>
                  </a:cubicBezTo>
                  <a:cubicBezTo>
                    <a:pt x="545264" y="2083633"/>
                    <a:pt x="538016" y="2066392"/>
                    <a:pt x="525277" y="2053653"/>
                  </a:cubicBezTo>
                  <a:cubicBezTo>
                    <a:pt x="515283" y="2043659"/>
                    <a:pt x="504125" y="2034708"/>
                    <a:pt x="495296" y="2023672"/>
                  </a:cubicBezTo>
                  <a:cubicBezTo>
                    <a:pt x="456547" y="1975235"/>
                    <a:pt x="467214" y="1959980"/>
                    <a:pt x="405355" y="1918741"/>
                  </a:cubicBezTo>
                  <a:cubicBezTo>
                    <a:pt x="390365" y="1908748"/>
                    <a:pt x="374064" y="1900485"/>
                    <a:pt x="360385" y="1888761"/>
                  </a:cubicBezTo>
                  <a:cubicBezTo>
                    <a:pt x="338924" y="1870366"/>
                    <a:pt x="323943" y="1844479"/>
                    <a:pt x="300424" y="1828800"/>
                  </a:cubicBezTo>
                  <a:cubicBezTo>
                    <a:pt x="285434" y="1818807"/>
                    <a:pt x="269522" y="1810074"/>
                    <a:pt x="255454" y="1798820"/>
                  </a:cubicBezTo>
                  <a:cubicBezTo>
                    <a:pt x="244418" y="1789991"/>
                    <a:pt x="237592" y="1776111"/>
                    <a:pt x="225473" y="1768839"/>
                  </a:cubicBezTo>
                  <a:cubicBezTo>
                    <a:pt x="211924" y="1760709"/>
                    <a:pt x="195493" y="1758846"/>
                    <a:pt x="180503" y="1753849"/>
                  </a:cubicBezTo>
                  <a:cubicBezTo>
                    <a:pt x="160516" y="1723869"/>
                    <a:pt x="150522" y="1683895"/>
                    <a:pt x="120542" y="1663908"/>
                  </a:cubicBezTo>
                  <a:cubicBezTo>
                    <a:pt x="63813" y="1626088"/>
                    <a:pt x="88311" y="1646667"/>
                    <a:pt x="45591" y="1603948"/>
                  </a:cubicBezTo>
                  <a:cubicBezTo>
                    <a:pt x="40594" y="1588958"/>
                    <a:pt x="37667" y="1573110"/>
                    <a:pt x="30601" y="1558977"/>
                  </a:cubicBezTo>
                  <a:cubicBezTo>
                    <a:pt x="22544" y="1542863"/>
                    <a:pt x="2610" y="1531913"/>
                    <a:pt x="621" y="1514007"/>
                  </a:cubicBezTo>
                  <a:cubicBezTo>
                    <a:pt x="-2735" y="1483799"/>
                    <a:pt x="8239" y="1453552"/>
                    <a:pt x="15611" y="1424066"/>
                  </a:cubicBezTo>
                  <a:cubicBezTo>
                    <a:pt x="23276" y="1393408"/>
                    <a:pt x="45591" y="1334125"/>
                    <a:pt x="45591" y="1334125"/>
                  </a:cubicBezTo>
                  <a:cubicBezTo>
                    <a:pt x="47231" y="1316090"/>
                    <a:pt x="56987" y="1143843"/>
                    <a:pt x="75572" y="1094282"/>
                  </a:cubicBezTo>
                  <a:cubicBezTo>
                    <a:pt x="81898" y="1077413"/>
                    <a:pt x="95559" y="1064302"/>
                    <a:pt x="105552" y="1049312"/>
                  </a:cubicBezTo>
                  <a:lnTo>
                    <a:pt x="135532" y="959371"/>
                  </a:lnTo>
                  <a:lnTo>
                    <a:pt x="150523" y="914400"/>
                  </a:lnTo>
                  <a:cubicBezTo>
                    <a:pt x="155520" y="799475"/>
                    <a:pt x="156690" y="684320"/>
                    <a:pt x="165513" y="569626"/>
                  </a:cubicBezTo>
                  <a:cubicBezTo>
                    <a:pt x="166725" y="553872"/>
                    <a:pt x="172374" y="538205"/>
                    <a:pt x="180503" y="524656"/>
                  </a:cubicBezTo>
                  <a:cubicBezTo>
                    <a:pt x="187774" y="512537"/>
                    <a:pt x="200490" y="504669"/>
                    <a:pt x="210483" y="494675"/>
                  </a:cubicBezTo>
                  <a:lnTo>
                    <a:pt x="255454" y="359764"/>
                  </a:lnTo>
                  <a:cubicBezTo>
                    <a:pt x="260451" y="344774"/>
                    <a:pt x="259271" y="325967"/>
                    <a:pt x="270444" y="314794"/>
                  </a:cubicBezTo>
                  <a:lnTo>
                    <a:pt x="330405" y="254833"/>
                  </a:lnTo>
                  <a:cubicBezTo>
                    <a:pt x="363556" y="221682"/>
                    <a:pt x="384486" y="206630"/>
                    <a:pt x="405355" y="164892"/>
                  </a:cubicBezTo>
                  <a:cubicBezTo>
                    <a:pt x="412422" y="150759"/>
                    <a:pt x="410475" y="132260"/>
                    <a:pt x="420346" y="119921"/>
                  </a:cubicBezTo>
                  <a:cubicBezTo>
                    <a:pt x="431600" y="105853"/>
                    <a:pt x="451476" y="101474"/>
                    <a:pt x="465316" y="89941"/>
                  </a:cubicBezTo>
                  <a:cubicBezTo>
                    <a:pt x="502917" y="58607"/>
                    <a:pt x="503997" y="33184"/>
                    <a:pt x="555257" y="29980"/>
                  </a:cubicBezTo>
                  <a:cubicBezTo>
                    <a:pt x="699966" y="20935"/>
                    <a:pt x="845067" y="19987"/>
                    <a:pt x="989972" y="14990"/>
                  </a:cubicBezTo>
                  <a:cubicBezTo>
                    <a:pt x="1004962" y="9993"/>
                    <a:pt x="1019141" y="0"/>
                    <a:pt x="1034942" y="0"/>
                  </a:cubicBezTo>
                  <a:cubicBezTo>
                    <a:pt x="1072128" y="0"/>
                    <a:pt x="1172267" y="21469"/>
                    <a:pt x="1214824" y="29980"/>
                  </a:cubicBezTo>
                  <a:cubicBezTo>
                    <a:pt x="1253257" y="55603"/>
                    <a:pt x="1281354" y="82578"/>
                    <a:pt x="1334746" y="74951"/>
                  </a:cubicBezTo>
                  <a:cubicBezTo>
                    <a:pt x="1348737" y="72952"/>
                    <a:pt x="1354733" y="54964"/>
                    <a:pt x="1364726" y="44971"/>
                  </a:cubicBezTo>
                </a:path>
              </a:pathLst>
            </a:custGeom>
            <a:solidFill>
              <a:schemeClr val="bg1">
                <a:lumMod val="65000"/>
                <a:alpha val="50000"/>
              </a:schemeClr>
            </a:solidFill>
            <a:ln>
              <a:noFill/>
            </a:ln>
            <a:effectLst>
              <a:softEdge rad="633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23" name="直接连接符 180"/>
            <p:cNvCxnSpPr/>
            <p:nvPr/>
          </p:nvCxnSpPr>
          <p:spPr>
            <a:xfrm>
              <a:off x="414360" y="2624400"/>
              <a:ext cx="36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424" name="TextBox 181"/>
            <p:cNvSpPr/>
            <p:nvPr/>
          </p:nvSpPr>
          <p:spPr>
            <a:xfrm>
              <a:off x="107640" y="116640"/>
              <a:ext cx="169956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182"/>
            <p:cNvSpPr/>
            <p:nvPr/>
          </p:nvSpPr>
          <p:spPr>
            <a:xfrm>
              <a:off x="726120" y="692640"/>
              <a:ext cx="7736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183"/>
            <p:cNvSpPr/>
            <p:nvPr/>
          </p:nvSpPr>
          <p:spPr>
            <a:xfrm>
              <a:off x="475200" y="1268640"/>
              <a:ext cx="720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任意多边形 184"/>
          <p:cNvSpPr/>
          <p:nvPr/>
        </p:nvSpPr>
        <p:spPr>
          <a:xfrm>
            <a:off x="1171800" y="1622880"/>
            <a:ext cx="915120" cy="1373760"/>
          </a:xfrm>
          <a:custGeom>
            <a:avLst/>
            <a:gdLst>
              <a:gd name="textAreaLeft" fmla="*/ 0 w 915120"/>
              <a:gd name="textAreaRight" fmla="*/ 915480 w 915120"/>
              <a:gd name="textAreaTop" fmla="*/ 0 h 1373760"/>
              <a:gd name="textAreaBottom" fmla="*/ 1374120 h 1373760"/>
            </a:gdLst>
            <a:ahLst/>
            <a:rect l="textAreaLeft" t="textAreaTop" r="textAreaRight" b="textAreaBottom"/>
            <a:pathLst>
              <a:path w="1538094" h="1111942">
                <a:moveTo>
                  <a:pt x="538237" y="227"/>
                </a:moveTo>
                <a:cubicBezTo>
                  <a:pt x="504370" y="2646"/>
                  <a:pt x="489598" y="8758"/>
                  <a:pt x="465665" y="14741"/>
                </a:cubicBezTo>
                <a:cubicBezTo>
                  <a:pt x="450823" y="18452"/>
                  <a:pt x="437125" y="26255"/>
                  <a:pt x="422123" y="29255"/>
                </a:cubicBezTo>
                <a:cubicBezTo>
                  <a:pt x="388577" y="35964"/>
                  <a:pt x="354390" y="38931"/>
                  <a:pt x="320523" y="43769"/>
                </a:cubicBezTo>
                <a:cubicBezTo>
                  <a:pt x="306009" y="48607"/>
                  <a:pt x="289710" y="49797"/>
                  <a:pt x="276980" y="58284"/>
                </a:cubicBezTo>
                <a:cubicBezTo>
                  <a:pt x="259901" y="69670"/>
                  <a:pt x="246039" y="85624"/>
                  <a:pt x="233437" y="101827"/>
                </a:cubicBezTo>
                <a:cubicBezTo>
                  <a:pt x="212018" y="129366"/>
                  <a:pt x="204408" y="169560"/>
                  <a:pt x="175380" y="188912"/>
                </a:cubicBezTo>
                <a:lnTo>
                  <a:pt x="131837" y="217941"/>
                </a:lnTo>
                <a:cubicBezTo>
                  <a:pt x="122161" y="232455"/>
                  <a:pt x="113975" y="248083"/>
                  <a:pt x="102808" y="261484"/>
                </a:cubicBezTo>
                <a:cubicBezTo>
                  <a:pt x="9680" y="373236"/>
                  <a:pt x="102307" y="240465"/>
                  <a:pt x="30237" y="348569"/>
                </a:cubicBezTo>
                <a:cubicBezTo>
                  <a:pt x="-7935" y="463085"/>
                  <a:pt x="-6656" y="417497"/>
                  <a:pt x="15723" y="551769"/>
                </a:cubicBezTo>
                <a:cubicBezTo>
                  <a:pt x="19003" y="571446"/>
                  <a:pt x="21316" y="591985"/>
                  <a:pt x="30237" y="609827"/>
                </a:cubicBezTo>
                <a:cubicBezTo>
                  <a:pt x="45839" y="641032"/>
                  <a:pt x="88294" y="696912"/>
                  <a:pt x="88294" y="696912"/>
                </a:cubicBezTo>
                <a:cubicBezTo>
                  <a:pt x="93132" y="711426"/>
                  <a:pt x="95378" y="727081"/>
                  <a:pt x="102808" y="740455"/>
                </a:cubicBezTo>
                <a:cubicBezTo>
                  <a:pt x="119751" y="770953"/>
                  <a:pt x="149832" y="794443"/>
                  <a:pt x="160865" y="827541"/>
                </a:cubicBezTo>
                <a:cubicBezTo>
                  <a:pt x="172670" y="862953"/>
                  <a:pt x="176273" y="886492"/>
                  <a:pt x="204408" y="914627"/>
                </a:cubicBezTo>
                <a:cubicBezTo>
                  <a:pt x="216743" y="926962"/>
                  <a:pt x="232349" y="935854"/>
                  <a:pt x="247951" y="943655"/>
                </a:cubicBezTo>
                <a:cubicBezTo>
                  <a:pt x="261635" y="950497"/>
                  <a:pt x="276980" y="953331"/>
                  <a:pt x="291494" y="958169"/>
                </a:cubicBezTo>
                <a:cubicBezTo>
                  <a:pt x="318838" y="985513"/>
                  <a:pt x="342208" y="1014575"/>
                  <a:pt x="378580" y="1030741"/>
                </a:cubicBezTo>
                <a:cubicBezTo>
                  <a:pt x="406541" y="1043168"/>
                  <a:pt x="465665" y="1059769"/>
                  <a:pt x="465665" y="1059769"/>
                </a:cubicBezTo>
                <a:cubicBezTo>
                  <a:pt x="480179" y="1069445"/>
                  <a:pt x="493606" y="1080997"/>
                  <a:pt x="509208" y="1088798"/>
                </a:cubicBezTo>
                <a:cubicBezTo>
                  <a:pt x="612657" y="1140523"/>
                  <a:pt x="870601" y="1089493"/>
                  <a:pt x="886580" y="1088798"/>
                </a:cubicBezTo>
                <a:cubicBezTo>
                  <a:pt x="921087" y="1077296"/>
                  <a:pt x="951737" y="1065843"/>
                  <a:pt x="988180" y="1059769"/>
                </a:cubicBezTo>
                <a:cubicBezTo>
                  <a:pt x="1192056" y="1025789"/>
                  <a:pt x="1031693" y="1063405"/>
                  <a:pt x="1162351" y="1030741"/>
                </a:cubicBezTo>
                <a:cubicBezTo>
                  <a:pt x="1176865" y="1021065"/>
                  <a:pt x="1190292" y="1009513"/>
                  <a:pt x="1205894" y="1001712"/>
                </a:cubicBezTo>
                <a:cubicBezTo>
                  <a:pt x="1219578" y="994870"/>
                  <a:pt x="1236707" y="995685"/>
                  <a:pt x="1249437" y="987198"/>
                </a:cubicBezTo>
                <a:cubicBezTo>
                  <a:pt x="1266516" y="975812"/>
                  <a:pt x="1277211" y="956796"/>
                  <a:pt x="1292980" y="943655"/>
                </a:cubicBezTo>
                <a:cubicBezTo>
                  <a:pt x="1306381" y="932488"/>
                  <a:pt x="1322009" y="924303"/>
                  <a:pt x="1336523" y="914627"/>
                </a:cubicBezTo>
                <a:cubicBezTo>
                  <a:pt x="1346199" y="900113"/>
                  <a:pt x="1353216" y="883419"/>
                  <a:pt x="1365551" y="871084"/>
                </a:cubicBezTo>
                <a:cubicBezTo>
                  <a:pt x="1377886" y="858749"/>
                  <a:pt x="1397607" y="855183"/>
                  <a:pt x="1409094" y="842055"/>
                </a:cubicBezTo>
                <a:cubicBezTo>
                  <a:pt x="1527625" y="706590"/>
                  <a:pt x="1412723" y="791253"/>
                  <a:pt x="1510694" y="725941"/>
                </a:cubicBezTo>
                <a:cubicBezTo>
                  <a:pt x="1557562" y="585333"/>
                  <a:pt x="1535224" y="669717"/>
                  <a:pt x="1510694" y="363084"/>
                </a:cubicBezTo>
                <a:cubicBezTo>
                  <a:pt x="1509474" y="347833"/>
                  <a:pt x="1499499" y="334476"/>
                  <a:pt x="1496180" y="319541"/>
                </a:cubicBezTo>
                <a:cubicBezTo>
                  <a:pt x="1495964" y="318568"/>
                  <a:pt x="1482230" y="207761"/>
                  <a:pt x="1467151" y="188912"/>
                </a:cubicBezTo>
                <a:cubicBezTo>
                  <a:pt x="1443325" y="159129"/>
                  <a:pt x="1360912" y="136952"/>
                  <a:pt x="1336523" y="130855"/>
                </a:cubicBezTo>
                <a:cubicBezTo>
                  <a:pt x="1317170" y="126017"/>
                  <a:pt x="1297646" y="121821"/>
                  <a:pt x="1278465" y="116341"/>
                </a:cubicBezTo>
                <a:cubicBezTo>
                  <a:pt x="1263755" y="112138"/>
                  <a:pt x="1250165" y="103152"/>
                  <a:pt x="1234923" y="101827"/>
                </a:cubicBezTo>
                <a:cubicBezTo>
                  <a:pt x="1138404" y="93434"/>
                  <a:pt x="1041399" y="92150"/>
                  <a:pt x="944637" y="87312"/>
                </a:cubicBezTo>
                <a:lnTo>
                  <a:pt x="814008" y="43769"/>
                </a:lnTo>
                <a:cubicBezTo>
                  <a:pt x="799494" y="38931"/>
                  <a:pt x="785308" y="32966"/>
                  <a:pt x="770465" y="29255"/>
                </a:cubicBezTo>
                <a:cubicBezTo>
                  <a:pt x="697565" y="11030"/>
                  <a:pt x="731332" y="21049"/>
                  <a:pt x="668865" y="227"/>
                </a:cubicBezTo>
                <a:cubicBezTo>
                  <a:pt x="528620" y="15810"/>
                  <a:pt x="572104" y="-2192"/>
                  <a:pt x="538237" y="227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TextBox 185"/>
          <p:cNvSpPr/>
          <p:nvPr/>
        </p:nvSpPr>
        <p:spPr>
          <a:xfrm>
            <a:off x="1259640" y="1917000"/>
            <a:ext cx="92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7" descr=""/>
          <p:cNvPicPr/>
          <p:nvPr/>
        </p:nvPicPr>
        <p:blipFill>
          <a:blip r:embed="rId1"/>
          <a:stretch/>
        </p:blipFill>
        <p:spPr>
          <a:xfrm>
            <a:off x="-21960" y="4221000"/>
            <a:ext cx="3152520" cy="270144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cxnSp>
        <p:nvCxnSpPr>
          <p:cNvPr id="430" name="直接连接符 73"/>
          <p:cNvCxnSpPr/>
          <p:nvPr/>
        </p:nvCxnSpPr>
        <p:spPr>
          <a:xfrm>
            <a:off x="4932000" y="1653480"/>
            <a:ext cx="360" cy="209664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431" name="直接连接符 75"/>
          <p:cNvCxnSpPr/>
          <p:nvPr/>
        </p:nvCxnSpPr>
        <p:spPr>
          <a:xfrm flipH="1">
            <a:off x="4499640" y="1758600"/>
            <a:ext cx="1440" cy="10944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432" name="直接连接符 76"/>
          <p:cNvCxnSpPr/>
          <p:nvPr/>
        </p:nvCxnSpPr>
        <p:spPr>
          <a:xfrm flipH="1">
            <a:off x="4067640" y="1772640"/>
            <a:ext cx="1440" cy="10947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433" name="直接连接符 77"/>
          <p:cNvCxnSpPr/>
          <p:nvPr/>
        </p:nvCxnSpPr>
        <p:spPr>
          <a:xfrm>
            <a:off x="3635640" y="1772640"/>
            <a:ext cx="360" cy="241128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434" name="直接连接符 78"/>
          <p:cNvCxnSpPr/>
          <p:nvPr/>
        </p:nvCxnSpPr>
        <p:spPr>
          <a:xfrm>
            <a:off x="3204720" y="1772640"/>
            <a:ext cx="360" cy="143748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435" name="直接连接符 80"/>
          <p:cNvCxnSpPr/>
          <p:nvPr/>
        </p:nvCxnSpPr>
        <p:spPr>
          <a:xfrm>
            <a:off x="2743560" y="1784880"/>
            <a:ext cx="360" cy="142524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0000">
              <a:srgbClr val="f2f2f2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椭圆 2"/>
          <p:cNvSpPr/>
          <p:nvPr/>
        </p:nvSpPr>
        <p:spPr>
          <a:xfrm>
            <a:off x="5208120" y="3465720"/>
            <a:ext cx="575640" cy="567720"/>
          </a:xfrm>
          <a:prstGeom prst="ellipse">
            <a:avLst/>
          </a:pr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7" name="任意多边形 3"/>
          <p:cNvSpPr/>
          <p:nvPr/>
        </p:nvSpPr>
        <p:spPr>
          <a:xfrm>
            <a:off x="5470920" y="1622880"/>
            <a:ext cx="2773080" cy="3174120"/>
          </a:xfrm>
          <a:custGeom>
            <a:avLst/>
            <a:gdLst>
              <a:gd name="textAreaLeft" fmla="*/ 0 w 2773080"/>
              <a:gd name="textAreaRight" fmla="*/ 2773440 w 2773080"/>
              <a:gd name="textAreaTop" fmla="*/ 0 h 3174120"/>
              <a:gd name="textAreaBottom" fmla="*/ 3174480 h 3174120"/>
            </a:gdLst>
            <a:ahLst/>
            <a:rect l="textAreaLeft" t="textAreaTop" r="textAreaRight" b="textAreaBottom"/>
            <a:pathLst>
              <a:path w="3028013" h="2908092">
                <a:moveTo>
                  <a:pt x="239843" y="914400"/>
                </a:moveTo>
                <a:cubicBezTo>
                  <a:pt x="237680" y="925216"/>
                  <a:pt x="223033" y="1014565"/>
                  <a:pt x="209862" y="1034322"/>
                </a:cubicBezTo>
                <a:cubicBezTo>
                  <a:pt x="198103" y="1051961"/>
                  <a:pt x="179882" y="1064302"/>
                  <a:pt x="164892" y="1079292"/>
                </a:cubicBezTo>
                <a:cubicBezTo>
                  <a:pt x="159895" y="1094282"/>
                  <a:pt x="149902" y="1108462"/>
                  <a:pt x="149902" y="1124263"/>
                </a:cubicBezTo>
                <a:cubicBezTo>
                  <a:pt x="149902" y="1154657"/>
                  <a:pt x="158931" y="1184400"/>
                  <a:pt x="164892" y="1214204"/>
                </a:cubicBezTo>
                <a:cubicBezTo>
                  <a:pt x="169987" y="1239679"/>
                  <a:pt x="200303" y="1354546"/>
                  <a:pt x="209862" y="1364105"/>
                </a:cubicBezTo>
                <a:lnTo>
                  <a:pt x="239843" y="1394086"/>
                </a:lnTo>
                <a:cubicBezTo>
                  <a:pt x="249836" y="1424066"/>
                  <a:pt x="247477" y="1461681"/>
                  <a:pt x="269823" y="1484027"/>
                </a:cubicBezTo>
                <a:cubicBezTo>
                  <a:pt x="284813" y="1499017"/>
                  <a:pt x="298508" y="1515426"/>
                  <a:pt x="314794" y="1528997"/>
                </a:cubicBezTo>
                <a:cubicBezTo>
                  <a:pt x="428235" y="1623530"/>
                  <a:pt x="302536" y="1501747"/>
                  <a:pt x="389744" y="1588958"/>
                </a:cubicBezTo>
                <a:cubicBezTo>
                  <a:pt x="384747" y="1613942"/>
                  <a:pt x="381458" y="1639328"/>
                  <a:pt x="374754" y="1663909"/>
                </a:cubicBezTo>
                <a:cubicBezTo>
                  <a:pt x="366439" y="1694398"/>
                  <a:pt x="344774" y="1753850"/>
                  <a:pt x="344774" y="1753850"/>
                </a:cubicBezTo>
                <a:cubicBezTo>
                  <a:pt x="344025" y="1768832"/>
                  <a:pt x="356430" y="2058654"/>
                  <a:pt x="299803" y="2143594"/>
                </a:cubicBezTo>
                <a:lnTo>
                  <a:pt x="269823" y="2188564"/>
                </a:lnTo>
                <a:cubicBezTo>
                  <a:pt x="264826" y="2203554"/>
                  <a:pt x="261899" y="2219402"/>
                  <a:pt x="254833" y="2233535"/>
                </a:cubicBezTo>
                <a:cubicBezTo>
                  <a:pt x="221082" y="2301039"/>
                  <a:pt x="191264" y="2274134"/>
                  <a:pt x="239843" y="2383437"/>
                </a:cubicBezTo>
                <a:cubicBezTo>
                  <a:pt x="247160" y="2399900"/>
                  <a:pt x="268350" y="2406100"/>
                  <a:pt x="284813" y="2413417"/>
                </a:cubicBezTo>
                <a:cubicBezTo>
                  <a:pt x="313691" y="2426252"/>
                  <a:pt x="374754" y="2443397"/>
                  <a:pt x="374754" y="2443397"/>
                </a:cubicBezTo>
                <a:cubicBezTo>
                  <a:pt x="433313" y="2501954"/>
                  <a:pt x="371869" y="2449449"/>
                  <a:pt x="449705" y="2488368"/>
                </a:cubicBezTo>
                <a:cubicBezTo>
                  <a:pt x="565932" y="2546482"/>
                  <a:pt x="426620" y="2495663"/>
                  <a:pt x="539646" y="2533338"/>
                </a:cubicBezTo>
                <a:cubicBezTo>
                  <a:pt x="551838" y="2569916"/>
                  <a:pt x="555556" y="2594219"/>
                  <a:pt x="584617" y="2623279"/>
                </a:cubicBezTo>
                <a:cubicBezTo>
                  <a:pt x="597356" y="2636018"/>
                  <a:pt x="615908" y="2641535"/>
                  <a:pt x="629587" y="2653259"/>
                </a:cubicBezTo>
                <a:cubicBezTo>
                  <a:pt x="651048" y="2671654"/>
                  <a:pt x="666029" y="2697541"/>
                  <a:pt x="689548" y="2713220"/>
                </a:cubicBezTo>
                <a:lnTo>
                  <a:pt x="824459" y="2803161"/>
                </a:lnTo>
                <a:lnTo>
                  <a:pt x="914400" y="2863122"/>
                </a:lnTo>
                <a:cubicBezTo>
                  <a:pt x="929390" y="2873116"/>
                  <a:pt x="941893" y="2888732"/>
                  <a:pt x="959371" y="2893102"/>
                </a:cubicBezTo>
                <a:lnTo>
                  <a:pt x="1019331" y="2908092"/>
                </a:lnTo>
                <a:cubicBezTo>
                  <a:pt x="1079292" y="2903095"/>
                  <a:pt x="1139572" y="2901054"/>
                  <a:pt x="1199213" y="2893102"/>
                </a:cubicBezTo>
                <a:cubicBezTo>
                  <a:pt x="1214876" y="2891014"/>
                  <a:pt x="1228690" y="2881211"/>
                  <a:pt x="1244184" y="2878112"/>
                </a:cubicBezTo>
                <a:cubicBezTo>
                  <a:pt x="1278830" y="2871183"/>
                  <a:pt x="1314194" y="2868494"/>
                  <a:pt x="1349115" y="2863122"/>
                </a:cubicBezTo>
                <a:cubicBezTo>
                  <a:pt x="1379155" y="2858500"/>
                  <a:pt x="1408721" y="2850028"/>
                  <a:pt x="1439056" y="2848132"/>
                </a:cubicBezTo>
                <a:cubicBezTo>
                  <a:pt x="1568814" y="2840022"/>
                  <a:pt x="1698960" y="2839800"/>
                  <a:pt x="1828800" y="2833141"/>
                </a:cubicBezTo>
                <a:cubicBezTo>
                  <a:pt x="1893864" y="2829804"/>
                  <a:pt x="1958715" y="2823148"/>
                  <a:pt x="2023672" y="2818151"/>
                </a:cubicBezTo>
                <a:cubicBezTo>
                  <a:pt x="2189068" y="2785072"/>
                  <a:pt x="2125232" y="2804285"/>
                  <a:pt x="2218544" y="2773181"/>
                </a:cubicBezTo>
                <a:cubicBezTo>
                  <a:pt x="2228538" y="2763187"/>
                  <a:pt x="2237489" y="2752029"/>
                  <a:pt x="2248525" y="2743200"/>
                </a:cubicBezTo>
                <a:cubicBezTo>
                  <a:pt x="2296962" y="2704450"/>
                  <a:pt x="2312216" y="2715119"/>
                  <a:pt x="2353456" y="2653259"/>
                </a:cubicBezTo>
                <a:lnTo>
                  <a:pt x="2413417" y="2563318"/>
                </a:lnTo>
                <a:cubicBezTo>
                  <a:pt x="2418414" y="2548328"/>
                  <a:pt x="2420733" y="2532160"/>
                  <a:pt x="2428407" y="2518348"/>
                </a:cubicBezTo>
                <a:cubicBezTo>
                  <a:pt x="2445905" y="2486851"/>
                  <a:pt x="2476972" y="2462589"/>
                  <a:pt x="2488367" y="2428407"/>
                </a:cubicBezTo>
                <a:cubicBezTo>
                  <a:pt x="2507827" y="2370029"/>
                  <a:pt x="2492185" y="2394610"/>
                  <a:pt x="2533338" y="2353456"/>
                </a:cubicBezTo>
                <a:cubicBezTo>
                  <a:pt x="2557152" y="2282014"/>
                  <a:pt x="2545728" y="2271591"/>
                  <a:pt x="2593299" y="2233535"/>
                </a:cubicBezTo>
                <a:cubicBezTo>
                  <a:pt x="2607367" y="2222281"/>
                  <a:pt x="2623279" y="2213548"/>
                  <a:pt x="2638269" y="2203555"/>
                </a:cubicBezTo>
                <a:cubicBezTo>
                  <a:pt x="2648262" y="2188565"/>
                  <a:pt x="2656994" y="2172652"/>
                  <a:pt x="2668249" y="2158584"/>
                </a:cubicBezTo>
                <a:cubicBezTo>
                  <a:pt x="2705433" y="2112104"/>
                  <a:pt x="2697448" y="2145158"/>
                  <a:pt x="2728210" y="2083633"/>
                </a:cubicBezTo>
                <a:cubicBezTo>
                  <a:pt x="2735276" y="2069500"/>
                  <a:pt x="2734016" y="2051521"/>
                  <a:pt x="2743200" y="2038663"/>
                </a:cubicBezTo>
                <a:cubicBezTo>
                  <a:pt x="2759629" y="2015662"/>
                  <a:pt x="2787482" y="2002221"/>
                  <a:pt x="2803161" y="1978702"/>
                </a:cubicBezTo>
                <a:cubicBezTo>
                  <a:pt x="2813154" y="1963712"/>
                  <a:pt x="2821417" y="1947411"/>
                  <a:pt x="2833141" y="1933732"/>
                </a:cubicBezTo>
                <a:cubicBezTo>
                  <a:pt x="2851536" y="1912271"/>
                  <a:pt x="2877423" y="1897290"/>
                  <a:pt x="2893102" y="1873771"/>
                </a:cubicBezTo>
                <a:cubicBezTo>
                  <a:pt x="2960901" y="1772071"/>
                  <a:pt x="2927583" y="1809308"/>
                  <a:pt x="2983043" y="1753850"/>
                </a:cubicBezTo>
                <a:cubicBezTo>
                  <a:pt x="3022634" y="1635075"/>
                  <a:pt x="3007828" y="1695081"/>
                  <a:pt x="3028013" y="1573968"/>
                </a:cubicBezTo>
                <a:cubicBezTo>
                  <a:pt x="3023016" y="1474033"/>
                  <a:pt x="3031745" y="1372456"/>
                  <a:pt x="3013023" y="1274164"/>
                </a:cubicBezTo>
                <a:cubicBezTo>
                  <a:pt x="3010067" y="1258642"/>
                  <a:pt x="2981602" y="1267303"/>
                  <a:pt x="2968053" y="1259174"/>
                </a:cubicBezTo>
                <a:cubicBezTo>
                  <a:pt x="2864996" y="1197341"/>
                  <a:pt x="3072292" y="1248368"/>
                  <a:pt x="2833141" y="1214204"/>
                </a:cubicBezTo>
                <a:cubicBezTo>
                  <a:pt x="2823148" y="1199214"/>
                  <a:pt x="2814416" y="1183301"/>
                  <a:pt x="2803161" y="1169233"/>
                </a:cubicBezTo>
                <a:cubicBezTo>
                  <a:pt x="2772010" y="1130294"/>
                  <a:pt x="2766272" y="1146194"/>
                  <a:pt x="2743200" y="1094282"/>
                </a:cubicBezTo>
                <a:cubicBezTo>
                  <a:pt x="2730365" y="1065404"/>
                  <a:pt x="2723213" y="1034321"/>
                  <a:pt x="2713220" y="1004341"/>
                </a:cubicBezTo>
                <a:lnTo>
                  <a:pt x="2638269" y="779489"/>
                </a:lnTo>
                <a:lnTo>
                  <a:pt x="2578308" y="599607"/>
                </a:lnTo>
                <a:cubicBezTo>
                  <a:pt x="2573311" y="584617"/>
                  <a:pt x="2574491" y="565810"/>
                  <a:pt x="2563318" y="554637"/>
                </a:cubicBezTo>
                <a:cubicBezTo>
                  <a:pt x="2446409" y="437724"/>
                  <a:pt x="2635750" y="630991"/>
                  <a:pt x="2503358" y="479686"/>
                </a:cubicBezTo>
                <a:cubicBezTo>
                  <a:pt x="2480092" y="453096"/>
                  <a:pt x="2453391" y="429719"/>
                  <a:pt x="2428407" y="404735"/>
                </a:cubicBezTo>
                <a:cubicBezTo>
                  <a:pt x="2418413" y="394742"/>
                  <a:pt x="2406265" y="386514"/>
                  <a:pt x="2398426" y="374755"/>
                </a:cubicBezTo>
                <a:cubicBezTo>
                  <a:pt x="2388433" y="359765"/>
                  <a:pt x="2381185" y="342523"/>
                  <a:pt x="2368446" y="329784"/>
                </a:cubicBezTo>
                <a:cubicBezTo>
                  <a:pt x="2355707" y="317045"/>
                  <a:pt x="2337034" y="311667"/>
                  <a:pt x="2323476" y="299804"/>
                </a:cubicBezTo>
                <a:cubicBezTo>
                  <a:pt x="2296886" y="276538"/>
                  <a:pt x="2273509" y="249837"/>
                  <a:pt x="2248525" y="224853"/>
                </a:cubicBezTo>
                <a:lnTo>
                  <a:pt x="2218544" y="194873"/>
                </a:lnTo>
                <a:cubicBezTo>
                  <a:pt x="2208550" y="184879"/>
                  <a:pt x="2201972" y="169361"/>
                  <a:pt x="2188564" y="164892"/>
                </a:cubicBezTo>
                <a:cubicBezTo>
                  <a:pt x="2173574" y="159895"/>
                  <a:pt x="2157727" y="156968"/>
                  <a:pt x="2143594" y="149902"/>
                </a:cubicBezTo>
                <a:cubicBezTo>
                  <a:pt x="2027359" y="91785"/>
                  <a:pt x="2166686" y="142610"/>
                  <a:pt x="2053653" y="104932"/>
                </a:cubicBezTo>
                <a:cubicBezTo>
                  <a:pt x="2043659" y="94938"/>
                  <a:pt x="2035791" y="82223"/>
                  <a:pt x="2023672" y="74951"/>
                </a:cubicBezTo>
                <a:cubicBezTo>
                  <a:pt x="2008943" y="66113"/>
                  <a:pt x="1929118" y="47277"/>
                  <a:pt x="1918741" y="44971"/>
                </a:cubicBezTo>
                <a:cubicBezTo>
                  <a:pt x="1800080" y="18602"/>
                  <a:pt x="1833072" y="31102"/>
                  <a:pt x="1663908" y="14991"/>
                </a:cubicBezTo>
                <a:cubicBezTo>
                  <a:pt x="1618865" y="10701"/>
                  <a:pt x="1573967" y="4997"/>
                  <a:pt x="1528997" y="0"/>
                </a:cubicBezTo>
                <a:cubicBezTo>
                  <a:pt x="1384092" y="4997"/>
                  <a:pt x="1238743" y="2608"/>
                  <a:pt x="1094282" y="14991"/>
                </a:cubicBezTo>
                <a:cubicBezTo>
                  <a:pt x="1062795" y="17690"/>
                  <a:pt x="1035513" y="39776"/>
                  <a:pt x="1004341" y="44971"/>
                </a:cubicBezTo>
                <a:lnTo>
                  <a:pt x="914400" y="59961"/>
                </a:lnTo>
                <a:cubicBezTo>
                  <a:pt x="806558" y="95908"/>
                  <a:pt x="941252" y="52288"/>
                  <a:pt x="809469" y="89941"/>
                </a:cubicBezTo>
                <a:cubicBezTo>
                  <a:pt x="794276" y="94282"/>
                  <a:pt x="779489" y="99935"/>
                  <a:pt x="764499" y="104932"/>
                </a:cubicBezTo>
                <a:cubicBezTo>
                  <a:pt x="688533" y="180895"/>
                  <a:pt x="786845" y="91524"/>
                  <a:pt x="689548" y="149902"/>
                </a:cubicBezTo>
                <a:cubicBezTo>
                  <a:pt x="677429" y="157173"/>
                  <a:pt x="669561" y="169889"/>
                  <a:pt x="659567" y="179882"/>
                </a:cubicBezTo>
                <a:cubicBezTo>
                  <a:pt x="444245" y="170910"/>
                  <a:pt x="365711" y="145713"/>
                  <a:pt x="194872" y="179882"/>
                </a:cubicBezTo>
                <a:cubicBezTo>
                  <a:pt x="179378" y="182981"/>
                  <a:pt x="164892" y="189876"/>
                  <a:pt x="149902" y="194873"/>
                </a:cubicBezTo>
                <a:cubicBezTo>
                  <a:pt x="63987" y="323741"/>
                  <a:pt x="166988" y="160699"/>
                  <a:pt x="104931" y="284814"/>
                </a:cubicBezTo>
                <a:cubicBezTo>
                  <a:pt x="84062" y="326553"/>
                  <a:pt x="63132" y="341603"/>
                  <a:pt x="29980" y="374755"/>
                </a:cubicBezTo>
                <a:cubicBezTo>
                  <a:pt x="24983" y="394742"/>
                  <a:pt x="20650" y="414906"/>
                  <a:pt x="14990" y="434715"/>
                </a:cubicBezTo>
                <a:cubicBezTo>
                  <a:pt x="10649" y="449908"/>
                  <a:pt x="0" y="463885"/>
                  <a:pt x="0" y="479686"/>
                </a:cubicBezTo>
                <a:cubicBezTo>
                  <a:pt x="0" y="492527"/>
                  <a:pt x="7759" y="697304"/>
                  <a:pt x="44971" y="734518"/>
                </a:cubicBezTo>
                <a:lnTo>
                  <a:pt x="74951" y="764499"/>
                </a:lnTo>
                <a:lnTo>
                  <a:pt x="104931" y="854440"/>
                </a:lnTo>
                <a:cubicBezTo>
                  <a:pt x="109928" y="869430"/>
                  <a:pt x="116089" y="884081"/>
                  <a:pt x="119921" y="899410"/>
                </a:cubicBezTo>
                <a:cubicBezTo>
                  <a:pt x="122721" y="910608"/>
                  <a:pt x="140687" y="988982"/>
                  <a:pt x="149902" y="1004341"/>
                </a:cubicBezTo>
                <a:cubicBezTo>
                  <a:pt x="157173" y="1016460"/>
                  <a:pt x="168846" y="1025493"/>
                  <a:pt x="179882" y="1034322"/>
                </a:cubicBezTo>
                <a:cubicBezTo>
                  <a:pt x="193950" y="1045577"/>
                  <a:pt x="224853" y="1064302"/>
                  <a:pt x="224853" y="1064302"/>
                </a:cubicBezTo>
              </a:path>
            </a:pathLst>
          </a:cu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8" name="任意多边形 4"/>
          <p:cNvSpPr/>
          <p:nvPr/>
        </p:nvSpPr>
        <p:spPr>
          <a:xfrm>
            <a:off x="5759640" y="1772640"/>
            <a:ext cx="2196360" cy="2751120"/>
          </a:xfrm>
          <a:custGeom>
            <a:avLst/>
            <a:gdLst>
              <a:gd name="textAreaLeft" fmla="*/ 0 w 2196360"/>
              <a:gd name="textAreaRight" fmla="*/ 2196720 w 2196360"/>
              <a:gd name="textAreaTop" fmla="*/ 0 h 2751120"/>
              <a:gd name="textAreaBottom" fmla="*/ 2751480 h 2751120"/>
            </a:gdLst>
            <a:ahLst/>
            <a:rect l="textAreaLeft" t="textAreaTop" r="textAreaRight" b="textAreaBottom"/>
            <a:pathLst>
              <a:path w="1439056" h="1753849">
                <a:moveTo>
                  <a:pt x="89941" y="119921"/>
                </a:moveTo>
                <a:cubicBezTo>
                  <a:pt x="99934" y="94937"/>
                  <a:pt x="102695" y="65641"/>
                  <a:pt x="119921" y="44970"/>
                </a:cubicBezTo>
                <a:cubicBezTo>
                  <a:pt x="130037" y="32831"/>
                  <a:pt x="150759" y="37046"/>
                  <a:pt x="164892" y="29980"/>
                </a:cubicBezTo>
                <a:cubicBezTo>
                  <a:pt x="181006" y="21923"/>
                  <a:pt x="194872" y="9993"/>
                  <a:pt x="209862" y="0"/>
                </a:cubicBezTo>
                <a:cubicBezTo>
                  <a:pt x="369757" y="4997"/>
                  <a:pt x="530022" y="3026"/>
                  <a:pt x="689547" y="14990"/>
                </a:cubicBezTo>
                <a:cubicBezTo>
                  <a:pt x="730636" y="18072"/>
                  <a:pt x="770380" y="31939"/>
                  <a:pt x="809469" y="44970"/>
                </a:cubicBezTo>
                <a:cubicBezTo>
                  <a:pt x="824459" y="49967"/>
                  <a:pt x="840306" y="52895"/>
                  <a:pt x="854439" y="59961"/>
                </a:cubicBezTo>
                <a:cubicBezTo>
                  <a:pt x="870553" y="68018"/>
                  <a:pt x="882947" y="82624"/>
                  <a:pt x="899410" y="89941"/>
                </a:cubicBezTo>
                <a:cubicBezTo>
                  <a:pt x="928288" y="102776"/>
                  <a:pt x="989351" y="119921"/>
                  <a:pt x="989351" y="119921"/>
                </a:cubicBezTo>
                <a:lnTo>
                  <a:pt x="1079292" y="179882"/>
                </a:lnTo>
                <a:cubicBezTo>
                  <a:pt x="1094282" y="189875"/>
                  <a:pt x="1111523" y="197123"/>
                  <a:pt x="1124262" y="209862"/>
                </a:cubicBezTo>
                <a:cubicBezTo>
                  <a:pt x="1268602" y="354202"/>
                  <a:pt x="1115044" y="208483"/>
                  <a:pt x="1229193" y="299803"/>
                </a:cubicBezTo>
                <a:cubicBezTo>
                  <a:pt x="1335991" y="385242"/>
                  <a:pt x="1165734" y="267490"/>
                  <a:pt x="1304144" y="359764"/>
                </a:cubicBezTo>
                <a:cubicBezTo>
                  <a:pt x="1314137" y="374754"/>
                  <a:pt x="1322870" y="390666"/>
                  <a:pt x="1334124" y="404734"/>
                </a:cubicBezTo>
                <a:cubicBezTo>
                  <a:pt x="1342953" y="415770"/>
                  <a:pt x="1358538" y="421725"/>
                  <a:pt x="1364105" y="434715"/>
                </a:cubicBezTo>
                <a:cubicBezTo>
                  <a:pt x="1376318" y="463211"/>
                  <a:pt x="1392818" y="620295"/>
                  <a:pt x="1394085" y="629587"/>
                </a:cubicBezTo>
                <a:cubicBezTo>
                  <a:pt x="1422871" y="840688"/>
                  <a:pt x="1411935" y="778805"/>
                  <a:pt x="1439056" y="914400"/>
                </a:cubicBezTo>
                <a:cubicBezTo>
                  <a:pt x="1434059" y="1009338"/>
                  <a:pt x="1432672" y="1104534"/>
                  <a:pt x="1424065" y="1199213"/>
                </a:cubicBezTo>
                <a:cubicBezTo>
                  <a:pt x="1422634" y="1214949"/>
                  <a:pt x="1420248" y="1233011"/>
                  <a:pt x="1409075" y="1244184"/>
                </a:cubicBezTo>
                <a:cubicBezTo>
                  <a:pt x="1397902" y="1255357"/>
                  <a:pt x="1379095" y="1254177"/>
                  <a:pt x="1364105" y="1259174"/>
                </a:cubicBezTo>
                <a:cubicBezTo>
                  <a:pt x="1313732" y="1410294"/>
                  <a:pt x="1390588" y="1175893"/>
                  <a:pt x="1334124" y="1364105"/>
                </a:cubicBezTo>
                <a:cubicBezTo>
                  <a:pt x="1325043" y="1394374"/>
                  <a:pt x="1334124" y="1444053"/>
                  <a:pt x="1304144" y="1454046"/>
                </a:cubicBezTo>
                <a:lnTo>
                  <a:pt x="1259174" y="1469036"/>
                </a:lnTo>
                <a:cubicBezTo>
                  <a:pt x="1222292" y="1505918"/>
                  <a:pt x="1192063" y="1528307"/>
                  <a:pt x="1169233" y="1573967"/>
                </a:cubicBezTo>
                <a:cubicBezTo>
                  <a:pt x="1162166" y="1588100"/>
                  <a:pt x="1165415" y="1607765"/>
                  <a:pt x="1154242" y="1618938"/>
                </a:cubicBezTo>
                <a:cubicBezTo>
                  <a:pt x="1143069" y="1630111"/>
                  <a:pt x="1123405" y="1626862"/>
                  <a:pt x="1109272" y="1633928"/>
                </a:cubicBezTo>
                <a:cubicBezTo>
                  <a:pt x="1093158" y="1641985"/>
                  <a:pt x="1080415" y="1655851"/>
                  <a:pt x="1064301" y="1663908"/>
                </a:cubicBezTo>
                <a:cubicBezTo>
                  <a:pt x="1014074" y="1689021"/>
                  <a:pt x="927167" y="1689138"/>
                  <a:pt x="884419" y="1693888"/>
                </a:cubicBezTo>
                <a:cubicBezTo>
                  <a:pt x="874426" y="1703882"/>
                  <a:pt x="866558" y="1716598"/>
                  <a:pt x="854439" y="1723869"/>
                </a:cubicBezTo>
                <a:cubicBezTo>
                  <a:pt x="814487" y="1747840"/>
                  <a:pt x="687881" y="1752369"/>
                  <a:pt x="674557" y="1753849"/>
                </a:cubicBezTo>
                <a:cubicBezTo>
                  <a:pt x="634583" y="1748852"/>
                  <a:pt x="594027" y="1747300"/>
                  <a:pt x="554636" y="1738859"/>
                </a:cubicBezTo>
                <a:cubicBezTo>
                  <a:pt x="523735" y="1732238"/>
                  <a:pt x="464695" y="1708879"/>
                  <a:pt x="464695" y="1708879"/>
                </a:cubicBezTo>
                <a:cubicBezTo>
                  <a:pt x="406138" y="1650320"/>
                  <a:pt x="467581" y="1702826"/>
                  <a:pt x="389744" y="1663908"/>
                </a:cubicBezTo>
                <a:cubicBezTo>
                  <a:pt x="273508" y="1605791"/>
                  <a:pt x="412840" y="1656616"/>
                  <a:pt x="299803" y="1618938"/>
                </a:cubicBezTo>
                <a:cubicBezTo>
                  <a:pt x="284813" y="1608944"/>
                  <a:pt x="271296" y="1596274"/>
                  <a:pt x="254833" y="1588957"/>
                </a:cubicBezTo>
                <a:cubicBezTo>
                  <a:pt x="225955" y="1576122"/>
                  <a:pt x="164892" y="1558977"/>
                  <a:pt x="164892" y="1558977"/>
                </a:cubicBezTo>
                <a:cubicBezTo>
                  <a:pt x="92192" y="1486277"/>
                  <a:pt x="128450" y="1514695"/>
                  <a:pt x="59960" y="1469036"/>
                </a:cubicBezTo>
                <a:cubicBezTo>
                  <a:pt x="30411" y="1380387"/>
                  <a:pt x="12538" y="1371459"/>
                  <a:pt x="44970" y="1274164"/>
                </a:cubicBezTo>
                <a:cubicBezTo>
                  <a:pt x="49439" y="1260756"/>
                  <a:pt x="64957" y="1254177"/>
                  <a:pt x="74951" y="1244184"/>
                </a:cubicBezTo>
                <a:cubicBezTo>
                  <a:pt x="83509" y="1201393"/>
                  <a:pt x="92230" y="1151611"/>
                  <a:pt x="104931" y="1109272"/>
                </a:cubicBezTo>
                <a:cubicBezTo>
                  <a:pt x="114012" y="1079003"/>
                  <a:pt x="124918" y="1049311"/>
                  <a:pt x="134911" y="1019331"/>
                </a:cubicBezTo>
                <a:cubicBezTo>
                  <a:pt x="154370" y="960953"/>
                  <a:pt x="138728" y="985534"/>
                  <a:pt x="179882" y="944380"/>
                </a:cubicBezTo>
                <a:cubicBezTo>
                  <a:pt x="171481" y="885572"/>
                  <a:pt x="186441" y="840387"/>
                  <a:pt x="134911" y="809469"/>
                </a:cubicBezTo>
                <a:cubicBezTo>
                  <a:pt x="121362" y="801340"/>
                  <a:pt x="104931" y="799476"/>
                  <a:pt x="89941" y="794479"/>
                </a:cubicBezTo>
                <a:cubicBezTo>
                  <a:pt x="79947" y="784485"/>
                  <a:pt x="70996" y="773327"/>
                  <a:pt x="59960" y="764498"/>
                </a:cubicBezTo>
                <a:cubicBezTo>
                  <a:pt x="45892" y="753244"/>
                  <a:pt x="26244" y="748586"/>
                  <a:pt x="14990" y="734518"/>
                </a:cubicBezTo>
                <a:cubicBezTo>
                  <a:pt x="5119" y="722180"/>
                  <a:pt x="4997" y="704538"/>
                  <a:pt x="0" y="689548"/>
                </a:cubicBezTo>
                <a:cubicBezTo>
                  <a:pt x="4803" y="670337"/>
                  <a:pt x="19228" y="606121"/>
                  <a:pt x="29980" y="584616"/>
                </a:cubicBezTo>
                <a:cubicBezTo>
                  <a:pt x="88101" y="468372"/>
                  <a:pt x="37268" y="607719"/>
                  <a:pt x="74951" y="494675"/>
                </a:cubicBezTo>
                <a:cubicBezTo>
                  <a:pt x="79948" y="464695"/>
                  <a:pt x="89941" y="435128"/>
                  <a:pt x="89941" y="404734"/>
                </a:cubicBezTo>
                <a:cubicBezTo>
                  <a:pt x="89941" y="304321"/>
                  <a:pt x="83416" y="295216"/>
                  <a:pt x="59960" y="224852"/>
                </a:cubicBezTo>
                <a:cubicBezTo>
                  <a:pt x="64957" y="209862"/>
                  <a:pt x="70610" y="195075"/>
                  <a:pt x="74951" y="179882"/>
                </a:cubicBezTo>
                <a:cubicBezTo>
                  <a:pt x="80611" y="160073"/>
                  <a:pt x="78513" y="137063"/>
                  <a:pt x="89941" y="119921"/>
                </a:cubicBezTo>
                <a:cubicBezTo>
                  <a:pt x="106546" y="95013"/>
                  <a:pt x="154229" y="83502"/>
                  <a:pt x="179882" y="74951"/>
                </a:cubicBezTo>
                <a:lnTo>
                  <a:pt x="239842" y="14990"/>
                </a:ln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5940000" y="2025360"/>
            <a:ext cx="18000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6"/>
          <p:cNvSpPr/>
          <p:nvPr/>
        </p:nvSpPr>
        <p:spPr>
          <a:xfrm rot="3941400">
            <a:off x="5230440" y="3472200"/>
            <a:ext cx="575640" cy="635040"/>
          </a:xfrm>
          <a:custGeom>
            <a:avLst/>
            <a:gdLst>
              <a:gd name="textAreaLeft" fmla="*/ 0 w 575640"/>
              <a:gd name="textAreaRight" fmla="*/ 576000 w 57564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311178" h="259978">
                <a:moveTo>
                  <a:pt x="172195" y="5145"/>
                </a:moveTo>
                <a:cubicBezTo>
                  <a:pt x="127225" y="10142"/>
                  <a:pt x="62383" y="-17513"/>
                  <a:pt x="37284" y="20135"/>
                </a:cubicBezTo>
                <a:cubicBezTo>
                  <a:pt x="-52571" y="154918"/>
                  <a:pt x="41110" y="170099"/>
                  <a:pt x="97245" y="215007"/>
                </a:cubicBezTo>
                <a:cubicBezTo>
                  <a:pt x="108281" y="223836"/>
                  <a:pt x="114235" y="239421"/>
                  <a:pt x="127225" y="244988"/>
                </a:cubicBezTo>
                <a:cubicBezTo>
                  <a:pt x="150643" y="255025"/>
                  <a:pt x="177192" y="254981"/>
                  <a:pt x="202176" y="259978"/>
                </a:cubicBezTo>
                <a:cubicBezTo>
                  <a:pt x="227160" y="254981"/>
                  <a:pt x="255006" y="257629"/>
                  <a:pt x="277127" y="244988"/>
                </a:cubicBezTo>
                <a:cubicBezTo>
                  <a:pt x="328437" y="215668"/>
                  <a:pt x="311613" y="107947"/>
                  <a:pt x="292117" y="80096"/>
                </a:cubicBezTo>
                <a:cubicBezTo>
                  <a:pt x="273994" y="54207"/>
                  <a:pt x="232156" y="60109"/>
                  <a:pt x="202176" y="50115"/>
                </a:cubicBezTo>
                <a:cubicBezTo>
                  <a:pt x="166537" y="38235"/>
                  <a:pt x="134885" y="26408"/>
                  <a:pt x="97245" y="20135"/>
                </a:cubicBezTo>
                <a:cubicBezTo>
                  <a:pt x="87387" y="18492"/>
                  <a:pt x="77258" y="20135"/>
                  <a:pt x="67264" y="20135"/>
                </a:cubicBez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1" name="TextBox 93"/>
          <p:cNvSpPr/>
          <p:nvPr/>
        </p:nvSpPr>
        <p:spPr>
          <a:xfrm>
            <a:off x="2946240" y="1675080"/>
            <a:ext cx="23389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94"/>
          <p:cNvGrpSpPr/>
          <p:nvPr/>
        </p:nvGrpSpPr>
        <p:grpSpPr>
          <a:xfrm>
            <a:off x="0" y="6588000"/>
            <a:ext cx="9143640" cy="297000"/>
            <a:chOff x="0" y="6588000"/>
            <a:chExt cx="9143640" cy="297000"/>
          </a:xfrm>
        </p:grpSpPr>
        <p:sp>
          <p:nvSpPr>
            <p:cNvPr id="44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8" name="矩形 127"/>
            <p:cNvSpPr/>
            <p:nvPr/>
          </p:nvSpPr>
          <p:spPr>
            <a:xfrm>
              <a:off x="2204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0" name="矩形 139"/>
            <p:cNvSpPr/>
            <p:nvPr/>
          </p:nvSpPr>
          <p:spPr>
            <a:xfrm>
              <a:off x="8396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1" name="矩形 140"/>
            <p:cNvSpPr/>
            <p:nvPr/>
          </p:nvSpPr>
          <p:spPr>
            <a:xfrm>
              <a:off x="8757000" y="6781680"/>
              <a:ext cx="38664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2" name="矩形 141"/>
            <p:cNvSpPr/>
            <p:nvPr/>
          </p:nvSpPr>
          <p:spPr>
            <a:xfrm>
              <a:off x="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4" name="矩形 143"/>
            <p:cNvSpPr/>
            <p:nvPr/>
          </p:nvSpPr>
          <p:spPr>
            <a:xfrm>
              <a:off x="53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5" name="矩形 154"/>
            <p:cNvSpPr/>
            <p:nvPr/>
          </p:nvSpPr>
          <p:spPr>
            <a:xfrm>
              <a:off x="6156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7" name="矩形 156"/>
            <p:cNvSpPr/>
            <p:nvPr/>
          </p:nvSpPr>
          <p:spPr>
            <a:xfrm>
              <a:off x="719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9" name="矩形 158"/>
            <p:cNvSpPr/>
            <p:nvPr/>
          </p:nvSpPr>
          <p:spPr>
            <a:xfrm>
              <a:off x="824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0" name="矩形 159"/>
            <p:cNvSpPr/>
            <p:nvPr/>
          </p:nvSpPr>
          <p:spPr>
            <a:xfrm>
              <a:off x="860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1" name="矩形 160"/>
            <p:cNvSpPr/>
            <p:nvPr/>
          </p:nvSpPr>
          <p:spPr>
            <a:xfrm>
              <a:off x="342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2" name="矩形 161"/>
            <p:cNvSpPr/>
            <p:nvPr/>
          </p:nvSpPr>
          <p:spPr>
            <a:xfrm>
              <a:off x="89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3" name="矩形 162"/>
            <p:cNvSpPr/>
            <p:nvPr/>
          </p:nvSpPr>
          <p:spPr>
            <a:xfrm>
              <a:off x="140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4" name="矩形 163"/>
            <p:cNvSpPr/>
            <p:nvPr/>
          </p:nvSpPr>
          <p:spPr>
            <a:xfrm>
              <a:off x="1943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5" name="矩形 164"/>
            <p:cNvSpPr/>
            <p:nvPr/>
          </p:nvSpPr>
          <p:spPr>
            <a:xfrm>
              <a:off x="2447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6" name="矩形 165"/>
            <p:cNvSpPr/>
            <p:nvPr/>
          </p:nvSpPr>
          <p:spPr>
            <a:xfrm>
              <a:off x="2951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7" name="矩形 166"/>
            <p:cNvSpPr/>
            <p:nvPr/>
          </p:nvSpPr>
          <p:spPr>
            <a:xfrm>
              <a:off x="342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8" name="矩形 167"/>
            <p:cNvSpPr/>
            <p:nvPr/>
          </p:nvSpPr>
          <p:spPr>
            <a:xfrm>
              <a:off x="3959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9" name="矩形 168"/>
            <p:cNvSpPr/>
            <p:nvPr/>
          </p:nvSpPr>
          <p:spPr>
            <a:xfrm>
              <a:off x="446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0" name="矩形 169"/>
            <p:cNvSpPr/>
            <p:nvPr/>
          </p:nvSpPr>
          <p:spPr>
            <a:xfrm>
              <a:off x="496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1" name="矩形 170"/>
            <p:cNvSpPr/>
            <p:nvPr/>
          </p:nvSpPr>
          <p:spPr>
            <a:xfrm>
              <a:off x="5436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2" name="矩形 171"/>
            <p:cNvSpPr/>
            <p:nvPr/>
          </p:nvSpPr>
          <p:spPr>
            <a:xfrm>
              <a:off x="594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3" name="矩形 172"/>
            <p:cNvSpPr/>
            <p:nvPr/>
          </p:nvSpPr>
          <p:spPr>
            <a:xfrm>
              <a:off x="647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4" name="矩形 173"/>
            <p:cNvSpPr/>
            <p:nvPr/>
          </p:nvSpPr>
          <p:spPr>
            <a:xfrm>
              <a:off x="698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5" name="矩形 174"/>
            <p:cNvSpPr/>
            <p:nvPr/>
          </p:nvSpPr>
          <p:spPr>
            <a:xfrm>
              <a:off x="748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6" name="矩形 175"/>
            <p:cNvSpPr/>
            <p:nvPr/>
          </p:nvSpPr>
          <p:spPr>
            <a:xfrm>
              <a:off x="7956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7" name="矩形 176"/>
            <p:cNvSpPr/>
            <p:nvPr/>
          </p:nvSpPr>
          <p:spPr>
            <a:xfrm>
              <a:off x="824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8" name="矩形 177"/>
            <p:cNvSpPr/>
            <p:nvPr/>
          </p:nvSpPr>
          <p:spPr>
            <a:xfrm>
              <a:off x="860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99" name="组合 178"/>
          <p:cNvGrpSpPr/>
          <p:nvPr/>
        </p:nvGrpSpPr>
        <p:grpSpPr>
          <a:xfrm>
            <a:off x="107640" y="116640"/>
            <a:ext cx="1699560" cy="2507760"/>
            <a:chOff x="107640" y="116640"/>
            <a:chExt cx="1699560" cy="2507760"/>
          </a:xfrm>
        </p:grpSpPr>
        <p:sp>
          <p:nvSpPr>
            <p:cNvPr id="500" name="任意多边形 179"/>
            <p:cNvSpPr/>
            <p:nvPr/>
          </p:nvSpPr>
          <p:spPr>
            <a:xfrm>
              <a:off x="144720" y="269280"/>
              <a:ext cx="1283040" cy="2043360"/>
            </a:xfrm>
            <a:custGeom>
              <a:avLst/>
              <a:gdLst>
                <a:gd name="textAreaLeft" fmla="*/ 0 w 1283040"/>
                <a:gd name="textAreaRight" fmla="*/ 1283400 w 1283040"/>
                <a:gd name="textAreaTop" fmla="*/ 0 h 2043360"/>
                <a:gd name="textAreaBottom" fmla="*/ 2043720 h 2043360"/>
              </a:gdLst>
              <a:ahLst/>
              <a:rect l="textAreaLeft" t="textAreaTop" r="textAreaRight" b="textAreaBottom"/>
              <a:pathLst>
                <a:path w="2024293" h="2473377">
                  <a:moveTo>
                    <a:pt x="1319755" y="74951"/>
                  </a:moveTo>
                  <a:cubicBezTo>
                    <a:pt x="1402002" y="42053"/>
                    <a:pt x="1426338" y="18650"/>
                    <a:pt x="1529618" y="59961"/>
                  </a:cubicBezTo>
                  <a:cubicBezTo>
                    <a:pt x="1544289" y="65829"/>
                    <a:pt x="1536479" y="91382"/>
                    <a:pt x="1544608" y="104931"/>
                  </a:cubicBezTo>
                  <a:cubicBezTo>
                    <a:pt x="1551879" y="117050"/>
                    <a:pt x="1564595" y="124918"/>
                    <a:pt x="1574588" y="134912"/>
                  </a:cubicBezTo>
                  <a:cubicBezTo>
                    <a:pt x="1579585" y="149902"/>
                    <a:pt x="1581448" y="166333"/>
                    <a:pt x="1589578" y="179882"/>
                  </a:cubicBezTo>
                  <a:cubicBezTo>
                    <a:pt x="1622761" y="235187"/>
                    <a:pt x="1677604" y="217118"/>
                    <a:pt x="1739480" y="224853"/>
                  </a:cubicBezTo>
                  <a:cubicBezTo>
                    <a:pt x="1754470" y="229850"/>
                    <a:pt x="1770901" y="231714"/>
                    <a:pt x="1784450" y="239843"/>
                  </a:cubicBezTo>
                  <a:cubicBezTo>
                    <a:pt x="1887333" y="301572"/>
                    <a:pt x="1732009" y="242349"/>
                    <a:pt x="1859401" y="284813"/>
                  </a:cubicBezTo>
                  <a:cubicBezTo>
                    <a:pt x="1869395" y="294807"/>
                    <a:pt x="1878346" y="305965"/>
                    <a:pt x="1889382" y="314794"/>
                  </a:cubicBezTo>
                  <a:cubicBezTo>
                    <a:pt x="1903450" y="326048"/>
                    <a:pt x="1923098" y="330706"/>
                    <a:pt x="1934352" y="344774"/>
                  </a:cubicBezTo>
                  <a:cubicBezTo>
                    <a:pt x="1943328" y="355994"/>
                    <a:pt x="1961846" y="443904"/>
                    <a:pt x="1964332" y="449705"/>
                  </a:cubicBezTo>
                  <a:cubicBezTo>
                    <a:pt x="1971429" y="466264"/>
                    <a:pt x="1984319" y="479685"/>
                    <a:pt x="1994313" y="494675"/>
                  </a:cubicBezTo>
                  <a:cubicBezTo>
                    <a:pt x="2020689" y="573805"/>
                    <a:pt x="2019416" y="549045"/>
                    <a:pt x="1994313" y="674557"/>
                  </a:cubicBezTo>
                  <a:cubicBezTo>
                    <a:pt x="1988115" y="705545"/>
                    <a:pt x="1964332" y="764498"/>
                    <a:pt x="1964332" y="764498"/>
                  </a:cubicBezTo>
                  <a:cubicBezTo>
                    <a:pt x="1983243" y="915777"/>
                    <a:pt x="1966584" y="846203"/>
                    <a:pt x="2009303" y="974361"/>
                  </a:cubicBezTo>
                  <a:lnTo>
                    <a:pt x="2024293" y="1019331"/>
                  </a:lnTo>
                  <a:cubicBezTo>
                    <a:pt x="2019296" y="1114269"/>
                    <a:pt x="2015233" y="1209260"/>
                    <a:pt x="2009303" y="1304144"/>
                  </a:cubicBezTo>
                  <a:cubicBezTo>
                    <a:pt x="2005239" y="1369166"/>
                    <a:pt x="2016225" y="1437662"/>
                    <a:pt x="1994313" y="1499016"/>
                  </a:cubicBezTo>
                  <a:cubicBezTo>
                    <a:pt x="1987384" y="1518418"/>
                    <a:pt x="1954339" y="1509010"/>
                    <a:pt x="1934352" y="1514007"/>
                  </a:cubicBezTo>
                  <a:cubicBezTo>
                    <a:pt x="1929355" y="1528997"/>
                    <a:pt x="1923194" y="1543648"/>
                    <a:pt x="1919362" y="1558977"/>
                  </a:cubicBezTo>
                  <a:cubicBezTo>
                    <a:pt x="1913183" y="1583695"/>
                    <a:pt x="1914409" y="1610510"/>
                    <a:pt x="1904372" y="1633928"/>
                  </a:cubicBezTo>
                  <a:cubicBezTo>
                    <a:pt x="1898805" y="1646918"/>
                    <a:pt x="1884385" y="1653915"/>
                    <a:pt x="1874391" y="1663908"/>
                  </a:cubicBezTo>
                  <a:cubicBezTo>
                    <a:pt x="1858558" y="1711408"/>
                    <a:pt x="1862631" y="1712335"/>
                    <a:pt x="1829421" y="1753849"/>
                  </a:cubicBezTo>
                  <a:cubicBezTo>
                    <a:pt x="1820592" y="1764885"/>
                    <a:pt x="1808270" y="1772794"/>
                    <a:pt x="1799441" y="1783830"/>
                  </a:cubicBezTo>
                  <a:cubicBezTo>
                    <a:pt x="1715963" y="1888177"/>
                    <a:pt x="1831311" y="1766947"/>
                    <a:pt x="1724490" y="1873771"/>
                  </a:cubicBezTo>
                  <a:cubicBezTo>
                    <a:pt x="1709647" y="1918299"/>
                    <a:pt x="1700161" y="1973050"/>
                    <a:pt x="1664529" y="2008682"/>
                  </a:cubicBezTo>
                  <a:cubicBezTo>
                    <a:pt x="1605527" y="2067684"/>
                    <a:pt x="1634081" y="2009306"/>
                    <a:pt x="1589578" y="2068643"/>
                  </a:cubicBezTo>
                  <a:cubicBezTo>
                    <a:pt x="1583486" y="2076765"/>
                    <a:pt x="1530893" y="2169811"/>
                    <a:pt x="1499637" y="2188564"/>
                  </a:cubicBezTo>
                  <a:cubicBezTo>
                    <a:pt x="1486088" y="2196693"/>
                    <a:pt x="1469657" y="2198557"/>
                    <a:pt x="1454667" y="2203554"/>
                  </a:cubicBezTo>
                  <a:cubicBezTo>
                    <a:pt x="1361305" y="2296919"/>
                    <a:pt x="1496466" y="2170692"/>
                    <a:pt x="1379716" y="2248525"/>
                  </a:cubicBezTo>
                  <a:cubicBezTo>
                    <a:pt x="1267429" y="2323382"/>
                    <a:pt x="1396706" y="2272842"/>
                    <a:pt x="1289775" y="2308485"/>
                  </a:cubicBezTo>
                  <a:cubicBezTo>
                    <a:pt x="1274785" y="2318479"/>
                    <a:pt x="1261268" y="2331149"/>
                    <a:pt x="1244805" y="2338466"/>
                  </a:cubicBezTo>
                  <a:cubicBezTo>
                    <a:pt x="1180687" y="2366963"/>
                    <a:pt x="1155946" y="2365996"/>
                    <a:pt x="1094903" y="2383436"/>
                  </a:cubicBezTo>
                  <a:cubicBezTo>
                    <a:pt x="1079710" y="2387777"/>
                    <a:pt x="1064922" y="2393429"/>
                    <a:pt x="1049932" y="2398426"/>
                  </a:cubicBezTo>
                  <a:cubicBezTo>
                    <a:pt x="1039939" y="2408420"/>
                    <a:pt x="1032071" y="2421136"/>
                    <a:pt x="1019952" y="2428407"/>
                  </a:cubicBezTo>
                  <a:cubicBezTo>
                    <a:pt x="922649" y="2486790"/>
                    <a:pt x="1020971" y="2397409"/>
                    <a:pt x="945001" y="2473377"/>
                  </a:cubicBezTo>
                  <a:cubicBezTo>
                    <a:pt x="830889" y="2435340"/>
                    <a:pt x="886048" y="2449595"/>
                    <a:pt x="780109" y="2428407"/>
                  </a:cubicBezTo>
                  <a:cubicBezTo>
                    <a:pt x="707717" y="2356012"/>
                    <a:pt x="795794" y="2448012"/>
                    <a:pt x="720149" y="2353456"/>
                  </a:cubicBezTo>
                  <a:cubicBezTo>
                    <a:pt x="711320" y="2342420"/>
                    <a:pt x="698648" y="2334782"/>
                    <a:pt x="690168" y="2323475"/>
                  </a:cubicBezTo>
                  <a:cubicBezTo>
                    <a:pt x="668549" y="2294650"/>
                    <a:pt x="630208" y="2233535"/>
                    <a:pt x="630208" y="2233535"/>
                  </a:cubicBezTo>
                  <a:cubicBezTo>
                    <a:pt x="603824" y="2154381"/>
                    <a:pt x="623983" y="2201712"/>
                    <a:pt x="555257" y="2098623"/>
                  </a:cubicBezTo>
                  <a:cubicBezTo>
                    <a:pt x="545264" y="2083633"/>
                    <a:pt x="538016" y="2066392"/>
                    <a:pt x="525277" y="2053653"/>
                  </a:cubicBezTo>
                  <a:cubicBezTo>
                    <a:pt x="515283" y="2043659"/>
                    <a:pt x="504125" y="2034708"/>
                    <a:pt x="495296" y="2023672"/>
                  </a:cubicBezTo>
                  <a:cubicBezTo>
                    <a:pt x="456547" y="1975235"/>
                    <a:pt x="467214" y="1959980"/>
                    <a:pt x="405355" y="1918741"/>
                  </a:cubicBezTo>
                  <a:cubicBezTo>
                    <a:pt x="390365" y="1908748"/>
                    <a:pt x="374064" y="1900485"/>
                    <a:pt x="360385" y="1888761"/>
                  </a:cubicBezTo>
                  <a:cubicBezTo>
                    <a:pt x="338924" y="1870366"/>
                    <a:pt x="323943" y="1844479"/>
                    <a:pt x="300424" y="1828800"/>
                  </a:cubicBezTo>
                  <a:cubicBezTo>
                    <a:pt x="285434" y="1818807"/>
                    <a:pt x="269522" y="1810074"/>
                    <a:pt x="255454" y="1798820"/>
                  </a:cubicBezTo>
                  <a:cubicBezTo>
                    <a:pt x="244418" y="1789991"/>
                    <a:pt x="237592" y="1776111"/>
                    <a:pt x="225473" y="1768839"/>
                  </a:cubicBezTo>
                  <a:cubicBezTo>
                    <a:pt x="211924" y="1760709"/>
                    <a:pt x="195493" y="1758846"/>
                    <a:pt x="180503" y="1753849"/>
                  </a:cubicBezTo>
                  <a:cubicBezTo>
                    <a:pt x="160516" y="1723869"/>
                    <a:pt x="150522" y="1683895"/>
                    <a:pt x="120542" y="1663908"/>
                  </a:cubicBezTo>
                  <a:cubicBezTo>
                    <a:pt x="63813" y="1626088"/>
                    <a:pt x="88311" y="1646667"/>
                    <a:pt x="45591" y="1603948"/>
                  </a:cubicBezTo>
                  <a:cubicBezTo>
                    <a:pt x="40594" y="1588958"/>
                    <a:pt x="37667" y="1573110"/>
                    <a:pt x="30601" y="1558977"/>
                  </a:cubicBezTo>
                  <a:cubicBezTo>
                    <a:pt x="22544" y="1542863"/>
                    <a:pt x="2610" y="1531913"/>
                    <a:pt x="621" y="1514007"/>
                  </a:cubicBezTo>
                  <a:cubicBezTo>
                    <a:pt x="-2735" y="1483799"/>
                    <a:pt x="8239" y="1453552"/>
                    <a:pt x="15611" y="1424066"/>
                  </a:cubicBezTo>
                  <a:cubicBezTo>
                    <a:pt x="23276" y="1393408"/>
                    <a:pt x="45591" y="1334125"/>
                    <a:pt x="45591" y="1334125"/>
                  </a:cubicBezTo>
                  <a:cubicBezTo>
                    <a:pt x="47231" y="1316090"/>
                    <a:pt x="56987" y="1143843"/>
                    <a:pt x="75572" y="1094282"/>
                  </a:cubicBezTo>
                  <a:cubicBezTo>
                    <a:pt x="81898" y="1077413"/>
                    <a:pt x="95559" y="1064302"/>
                    <a:pt x="105552" y="1049312"/>
                  </a:cubicBezTo>
                  <a:lnTo>
                    <a:pt x="135532" y="959371"/>
                  </a:lnTo>
                  <a:lnTo>
                    <a:pt x="150523" y="914400"/>
                  </a:lnTo>
                  <a:cubicBezTo>
                    <a:pt x="155520" y="799475"/>
                    <a:pt x="156690" y="684320"/>
                    <a:pt x="165513" y="569626"/>
                  </a:cubicBezTo>
                  <a:cubicBezTo>
                    <a:pt x="166725" y="553872"/>
                    <a:pt x="172374" y="538205"/>
                    <a:pt x="180503" y="524656"/>
                  </a:cubicBezTo>
                  <a:cubicBezTo>
                    <a:pt x="187774" y="512537"/>
                    <a:pt x="200490" y="504669"/>
                    <a:pt x="210483" y="494675"/>
                  </a:cubicBezTo>
                  <a:lnTo>
                    <a:pt x="255454" y="359764"/>
                  </a:lnTo>
                  <a:cubicBezTo>
                    <a:pt x="260451" y="344774"/>
                    <a:pt x="259271" y="325967"/>
                    <a:pt x="270444" y="314794"/>
                  </a:cubicBezTo>
                  <a:lnTo>
                    <a:pt x="330405" y="254833"/>
                  </a:lnTo>
                  <a:cubicBezTo>
                    <a:pt x="363556" y="221682"/>
                    <a:pt x="384486" y="206630"/>
                    <a:pt x="405355" y="164892"/>
                  </a:cubicBezTo>
                  <a:cubicBezTo>
                    <a:pt x="412422" y="150759"/>
                    <a:pt x="410475" y="132260"/>
                    <a:pt x="420346" y="119921"/>
                  </a:cubicBezTo>
                  <a:cubicBezTo>
                    <a:pt x="431600" y="105853"/>
                    <a:pt x="451476" y="101474"/>
                    <a:pt x="465316" y="89941"/>
                  </a:cubicBezTo>
                  <a:cubicBezTo>
                    <a:pt x="502917" y="58607"/>
                    <a:pt x="503997" y="33184"/>
                    <a:pt x="555257" y="29980"/>
                  </a:cubicBezTo>
                  <a:cubicBezTo>
                    <a:pt x="699966" y="20935"/>
                    <a:pt x="845067" y="19987"/>
                    <a:pt x="989972" y="14990"/>
                  </a:cubicBezTo>
                  <a:cubicBezTo>
                    <a:pt x="1004962" y="9993"/>
                    <a:pt x="1019141" y="0"/>
                    <a:pt x="1034942" y="0"/>
                  </a:cubicBezTo>
                  <a:cubicBezTo>
                    <a:pt x="1072128" y="0"/>
                    <a:pt x="1172267" y="21469"/>
                    <a:pt x="1214824" y="29980"/>
                  </a:cubicBezTo>
                  <a:cubicBezTo>
                    <a:pt x="1253257" y="55603"/>
                    <a:pt x="1281354" y="82578"/>
                    <a:pt x="1334746" y="74951"/>
                  </a:cubicBezTo>
                  <a:cubicBezTo>
                    <a:pt x="1348737" y="72952"/>
                    <a:pt x="1354733" y="54964"/>
                    <a:pt x="1364726" y="44971"/>
                  </a:cubicBezTo>
                </a:path>
              </a:pathLst>
            </a:custGeom>
            <a:solidFill>
              <a:schemeClr val="bg1">
                <a:lumMod val="65000"/>
                <a:alpha val="50000"/>
              </a:schemeClr>
            </a:solidFill>
            <a:ln>
              <a:noFill/>
            </a:ln>
            <a:effectLst>
              <a:softEdge rad="633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01" name="直接连接符 180"/>
            <p:cNvCxnSpPr/>
            <p:nvPr/>
          </p:nvCxnSpPr>
          <p:spPr>
            <a:xfrm>
              <a:off x="414360" y="2624400"/>
              <a:ext cx="36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502" name="TextBox 181"/>
            <p:cNvSpPr/>
            <p:nvPr/>
          </p:nvSpPr>
          <p:spPr>
            <a:xfrm>
              <a:off x="107640" y="116640"/>
              <a:ext cx="169956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Box 182"/>
            <p:cNvSpPr/>
            <p:nvPr/>
          </p:nvSpPr>
          <p:spPr>
            <a:xfrm>
              <a:off x="726120" y="692640"/>
              <a:ext cx="7736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183"/>
            <p:cNvSpPr/>
            <p:nvPr/>
          </p:nvSpPr>
          <p:spPr>
            <a:xfrm>
              <a:off x="475200" y="1268640"/>
              <a:ext cx="720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任意多边形 184"/>
          <p:cNvSpPr/>
          <p:nvPr/>
        </p:nvSpPr>
        <p:spPr>
          <a:xfrm>
            <a:off x="1171800" y="1622880"/>
            <a:ext cx="915120" cy="1373760"/>
          </a:xfrm>
          <a:custGeom>
            <a:avLst/>
            <a:gdLst>
              <a:gd name="textAreaLeft" fmla="*/ 0 w 915120"/>
              <a:gd name="textAreaRight" fmla="*/ 915480 w 915120"/>
              <a:gd name="textAreaTop" fmla="*/ 0 h 1373760"/>
              <a:gd name="textAreaBottom" fmla="*/ 1374120 h 1373760"/>
            </a:gdLst>
            <a:ahLst/>
            <a:rect l="textAreaLeft" t="textAreaTop" r="textAreaRight" b="textAreaBottom"/>
            <a:pathLst>
              <a:path w="1538094" h="1111942">
                <a:moveTo>
                  <a:pt x="538237" y="227"/>
                </a:moveTo>
                <a:cubicBezTo>
                  <a:pt x="504370" y="2646"/>
                  <a:pt x="489598" y="8758"/>
                  <a:pt x="465665" y="14741"/>
                </a:cubicBezTo>
                <a:cubicBezTo>
                  <a:pt x="450823" y="18452"/>
                  <a:pt x="437125" y="26255"/>
                  <a:pt x="422123" y="29255"/>
                </a:cubicBezTo>
                <a:cubicBezTo>
                  <a:pt x="388577" y="35964"/>
                  <a:pt x="354390" y="38931"/>
                  <a:pt x="320523" y="43769"/>
                </a:cubicBezTo>
                <a:cubicBezTo>
                  <a:pt x="306009" y="48607"/>
                  <a:pt x="289710" y="49797"/>
                  <a:pt x="276980" y="58284"/>
                </a:cubicBezTo>
                <a:cubicBezTo>
                  <a:pt x="259901" y="69670"/>
                  <a:pt x="246039" y="85624"/>
                  <a:pt x="233437" y="101827"/>
                </a:cubicBezTo>
                <a:cubicBezTo>
                  <a:pt x="212018" y="129366"/>
                  <a:pt x="204408" y="169560"/>
                  <a:pt x="175380" y="188912"/>
                </a:cubicBezTo>
                <a:lnTo>
                  <a:pt x="131837" y="217941"/>
                </a:lnTo>
                <a:cubicBezTo>
                  <a:pt x="122161" y="232455"/>
                  <a:pt x="113975" y="248083"/>
                  <a:pt x="102808" y="261484"/>
                </a:cubicBezTo>
                <a:cubicBezTo>
                  <a:pt x="9680" y="373236"/>
                  <a:pt x="102307" y="240465"/>
                  <a:pt x="30237" y="348569"/>
                </a:cubicBezTo>
                <a:cubicBezTo>
                  <a:pt x="-7935" y="463085"/>
                  <a:pt x="-6656" y="417497"/>
                  <a:pt x="15723" y="551769"/>
                </a:cubicBezTo>
                <a:cubicBezTo>
                  <a:pt x="19003" y="571446"/>
                  <a:pt x="21316" y="591985"/>
                  <a:pt x="30237" y="609827"/>
                </a:cubicBezTo>
                <a:cubicBezTo>
                  <a:pt x="45839" y="641032"/>
                  <a:pt x="88294" y="696912"/>
                  <a:pt x="88294" y="696912"/>
                </a:cubicBezTo>
                <a:cubicBezTo>
                  <a:pt x="93132" y="711426"/>
                  <a:pt x="95378" y="727081"/>
                  <a:pt x="102808" y="740455"/>
                </a:cubicBezTo>
                <a:cubicBezTo>
                  <a:pt x="119751" y="770953"/>
                  <a:pt x="149832" y="794443"/>
                  <a:pt x="160865" y="827541"/>
                </a:cubicBezTo>
                <a:cubicBezTo>
                  <a:pt x="172670" y="862953"/>
                  <a:pt x="176273" y="886492"/>
                  <a:pt x="204408" y="914627"/>
                </a:cubicBezTo>
                <a:cubicBezTo>
                  <a:pt x="216743" y="926962"/>
                  <a:pt x="232349" y="935854"/>
                  <a:pt x="247951" y="943655"/>
                </a:cubicBezTo>
                <a:cubicBezTo>
                  <a:pt x="261635" y="950497"/>
                  <a:pt x="276980" y="953331"/>
                  <a:pt x="291494" y="958169"/>
                </a:cubicBezTo>
                <a:cubicBezTo>
                  <a:pt x="318838" y="985513"/>
                  <a:pt x="342208" y="1014575"/>
                  <a:pt x="378580" y="1030741"/>
                </a:cubicBezTo>
                <a:cubicBezTo>
                  <a:pt x="406541" y="1043168"/>
                  <a:pt x="465665" y="1059769"/>
                  <a:pt x="465665" y="1059769"/>
                </a:cubicBezTo>
                <a:cubicBezTo>
                  <a:pt x="480179" y="1069445"/>
                  <a:pt x="493606" y="1080997"/>
                  <a:pt x="509208" y="1088798"/>
                </a:cubicBezTo>
                <a:cubicBezTo>
                  <a:pt x="612657" y="1140523"/>
                  <a:pt x="870601" y="1089493"/>
                  <a:pt x="886580" y="1088798"/>
                </a:cubicBezTo>
                <a:cubicBezTo>
                  <a:pt x="921087" y="1077296"/>
                  <a:pt x="951737" y="1065843"/>
                  <a:pt x="988180" y="1059769"/>
                </a:cubicBezTo>
                <a:cubicBezTo>
                  <a:pt x="1192056" y="1025789"/>
                  <a:pt x="1031693" y="1063405"/>
                  <a:pt x="1162351" y="1030741"/>
                </a:cubicBezTo>
                <a:cubicBezTo>
                  <a:pt x="1176865" y="1021065"/>
                  <a:pt x="1190292" y="1009513"/>
                  <a:pt x="1205894" y="1001712"/>
                </a:cubicBezTo>
                <a:cubicBezTo>
                  <a:pt x="1219578" y="994870"/>
                  <a:pt x="1236707" y="995685"/>
                  <a:pt x="1249437" y="987198"/>
                </a:cubicBezTo>
                <a:cubicBezTo>
                  <a:pt x="1266516" y="975812"/>
                  <a:pt x="1277211" y="956796"/>
                  <a:pt x="1292980" y="943655"/>
                </a:cubicBezTo>
                <a:cubicBezTo>
                  <a:pt x="1306381" y="932488"/>
                  <a:pt x="1322009" y="924303"/>
                  <a:pt x="1336523" y="914627"/>
                </a:cubicBezTo>
                <a:cubicBezTo>
                  <a:pt x="1346199" y="900113"/>
                  <a:pt x="1353216" y="883419"/>
                  <a:pt x="1365551" y="871084"/>
                </a:cubicBezTo>
                <a:cubicBezTo>
                  <a:pt x="1377886" y="858749"/>
                  <a:pt x="1397607" y="855183"/>
                  <a:pt x="1409094" y="842055"/>
                </a:cubicBezTo>
                <a:cubicBezTo>
                  <a:pt x="1527625" y="706590"/>
                  <a:pt x="1412723" y="791253"/>
                  <a:pt x="1510694" y="725941"/>
                </a:cubicBezTo>
                <a:cubicBezTo>
                  <a:pt x="1557562" y="585333"/>
                  <a:pt x="1535224" y="669717"/>
                  <a:pt x="1510694" y="363084"/>
                </a:cubicBezTo>
                <a:cubicBezTo>
                  <a:pt x="1509474" y="347833"/>
                  <a:pt x="1499499" y="334476"/>
                  <a:pt x="1496180" y="319541"/>
                </a:cubicBezTo>
                <a:cubicBezTo>
                  <a:pt x="1495964" y="318568"/>
                  <a:pt x="1482230" y="207761"/>
                  <a:pt x="1467151" y="188912"/>
                </a:cubicBezTo>
                <a:cubicBezTo>
                  <a:pt x="1443325" y="159129"/>
                  <a:pt x="1360912" y="136952"/>
                  <a:pt x="1336523" y="130855"/>
                </a:cubicBezTo>
                <a:cubicBezTo>
                  <a:pt x="1317170" y="126017"/>
                  <a:pt x="1297646" y="121821"/>
                  <a:pt x="1278465" y="116341"/>
                </a:cubicBezTo>
                <a:cubicBezTo>
                  <a:pt x="1263755" y="112138"/>
                  <a:pt x="1250165" y="103152"/>
                  <a:pt x="1234923" y="101827"/>
                </a:cubicBezTo>
                <a:cubicBezTo>
                  <a:pt x="1138404" y="93434"/>
                  <a:pt x="1041399" y="92150"/>
                  <a:pt x="944637" y="87312"/>
                </a:cubicBezTo>
                <a:lnTo>
                  <a:pt x="814008" y="43769"/>
                </a:lnTo>
                <a:cubicBezTo>
                  <a:pt x="799494" y="38931"/>
                  <a:pt x="785308" y="32966"/>
                  <a:pt x="770465" y="29255"/>
                </a:cubicBezTo>
                <a:cubicBezTo>
                  <a:pt x="697565" y="11030"/>
                  <a:pt x="731332" y="21049"/>
                  <a:pt x="668865" y="227"/>
                </a:cubicBezTo>
                <a:cubicBezTo>
                  <a:pt x="528620" y="15810"/>
                  <a:pt x="572104" y="-2192"/>
                  <a:pt x="538237" y="227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TextBox 185"/>
          <p:cNvSpPr/>
          <p:nvPr/>
        </p:nvSpPr>
        <p:spPr>
          <a:xfrm>
            <a:off x="1259640" y="1917000"/>
            <a:ext cx="92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图片 1" descr=""/>
          <p:cNvPicPr/>
          <p:nvPr/>
        </p:nvPicPr>
        <p:blipFill>
          <a:blip r:embed="rId1"/>
          <a:stretch/>
        </p:blipFill>
        <p:spPr>
          <a:xfrm>
            <a:off x="-9720" y="4581000"/>
            <a:ext cx="3292560" cy="230832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cxnSp>
        <p:nvCxnSpPr>
          <p:cNvPr id="508" name="直接连接符 73"/>
          <p:cNvCxnSpPr/>
          <p:nvPr/>
        </p:nvCxnSpPr>
        <p:spPr>
          <a:xfrm>
            <a:off x="4788000" y="1758600"/>
            <a:ext cx="360" cy="276588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509" name="直接连接符 75"/>
          <p:cNvCxnSpPr/>
          <p:nvPr/>
        </p:nvCxnSpPr>
        <p:spPr>
          <a:xfrm>
            <a:off x="4356720" y="1758600"/>
            <a:ext cx="360" cy="16387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510" name="直接连接符 77"/>
          <p:cNvCxnSpPr/>
          <p:nvPr/>
        </p:nvCxnSpPr>
        <p:spPr>
          <a:xfrm>
            <a:off x="3924720" y="1758600"/>
            <a:ext cx="360" cy="12384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511" name="直接连接符 79"/>
          <p:cNvCxnSpPr/>
          <p:nvPr/>
        </p:nvCxnSpPr>
        <p:spPr>
          <a:xfrm>
            <a:off x="3491640" y="1758600"/>
            <a:ext cx="360" cy="24253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512" name="直接连接符 81"/>
          <p:cNvCxnSpPr/>
          <p:nvPr/>
        </p:nvCxnSpPr>
        <p:spPr>
          <a:xfrm>
            <a:off x="2987640" y="1830600"/>
            <a:ext cx="360" cy="17427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513" name="Text Box 8"/>
          <p:cNvSpPr/>
          <p:nvPr/>
        </p:nvSpPr>
        <p:spPr>
          <a:xfrm>
            <a:off x="1521000" y="61488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0000">
              <a:srgbClr val="f2f2f2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椭圆 2"/>
          <p:cNvSpPr/>
          <p:nvPr/>
        </p:nvSpPr>
        <p:spPr>
          <a:xfrm>
            <a:off x="5208120" y="3465720"/>
            <a:ext cx="575640" cy="567720"/>
          </a:xfrm>
          <a:prstGeom prst="ellipse">
            <a:avLst/>
          </a:pr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5" name="任意多边形 3"/>
          <p:cNvSpPr/>
          <p:nvPr/>
        </p:nvSpPr>
        <p:spPr>
          <a:xfrm>
            <a:off x="5470920" y="1622880"/>
            <a:ext cx="2773080" cy="3174120"/>
          </a:xfrm>
          <a:custGeom>
            <a:avLst/>
            <a:gdLst>
              <a:gd name="textAreaLeft" fmla="*/ 0 w 2773080"/>
              <a:gd name="textAreaRight" fmla="*/ 2773440 w 2773080"/>
              <a:gd name="textAreaTop" fmla="*/ 0 h 3174120"/>
              <a:gd name="textAreaBottom" fmla="*/ 3174480 h 3174120"/>
            </a:gdLst>
            <a:ahLst/>
            <a:rect l="textAreaLeft" t="textAreaTop" r="textAreaRight" b="textAreaBottom"/>
            <a:pathLst>
              <a:path w="3028013" h="2908092">
                <a:moveTo>
                  <a:pt x="239843" y="914400"/>
                </a:moveTo>
                <a:cubicBezTo>
                  <a:pt x="237680" y="925216"/>
                  <a:pt x="223033" y="1014565"/>
                  <a:pt x="209862" y="1034322"/>
                </a:cubicBezTo>
                <a:cubicBezTo>
                  <a:pt x="198103" y="1051961"/>
                  <a:pt x="179882" y="1064302"/>
                  <a:pt x="164892" y="1079292"/>
                </a:cubicBezTo>
                <a:cubicBezTo>
                  <a:pt x="159895" y="1094282"/>
                  <a:pt x="149902" y="1108462"/>
                  <a:pt x="149902" y="1124263"/>
                </a:cubicBezTo>
                <a:cubicBezTo>
                  <a:pt x="149902" y="1154657"/>
                  <a:pt x="158931" y="1184400"/>
                  <a:pt x="164892" y="1214204"/>
                </a:cubicBezTo>
                <a:cubicBezTo>
                  <a:pt x="169987" y="1239679"/>
                  <a:pt x="200303" y="1354546"/>
                  <a:pt x="209862" y="1364105"/>
                </a:cubicBezTo>
                <a:lnTo>
                  <a:pt x="239843" y="1394086"/>
                </a:lnTo>
                <a:cubicBezTo>
                  <a:pt x="249836" y="1424066"/>
                  <a:pt x="247477" y="1461681"/>
                  <a:pt x="269823" y="1484027"/>
                </a:cubicBezTo>
                <a:cubicBezTo>
                  <a:pt x="284813" y="1499017"/>
                  <a:pt x="298508" y="1515426"/>
                  <a:pt x="314794" y="1528997"/>
                </a:cubicBezTo>
                <a:cubicBezTo>
                  <a:pt x="428235" y="1623530"/>
                  <a:pt x="302536" y="1501747"/>
                  <a:pt x="389744" y="1588958"/>
                </a:cubicBezTo>
                <a:cubicBezTo>
                  <a:pt x="384747" y="1613942"/>
                  <a:pt x="381458" y="1639328"/>
                  <a:pt x="374754" y="1663909"/>
                </a:cubicBezTo>
                <a:cubicBezTo>
                  <a:pt x="366439" y="1694398"/>
                  <a:pt x="344774" y="1753850"/>
                  <a:pt x="344774" y="1753850"/>
                </a:cubicBezTo>
                <a:cubicBezTo>
                  <a:pt x="344025" y="1768832"/>
                  <a:pt x="356430" y="2058654"/>
                  <a:pt x="299803" y="2143594"/>
                </a:cubicBezTo>
                <a:lnTo>
                  <a:pt x="269823" y="2188564"/>
                </a:lnTo>
                <a:cubicBezTo>
                  <a:pt x="264826" y="2203554"/>
                  <a:pt x="261899" y="2219402"/>
                  <a:pt x="254833" y="2233535"/>
                </a:cubicBezTo>
                <a:cubicBezTo>
                  <a:pt x="221082" y="2301039"/>
                  <a:pt x="191264" y="2274134"/>
                  <a:pt x="239843" y="2383437"/>
                </a:cubicBezTo>
                <a:cubicBezTo>
                  <a:pt x="247160" y="2399900"/>
                  <a:pt x="268350" y="2406100"/>
                  <a:pt x="284813" y="2413417"/>
                </a:cubicBezTo>
                <a:cubicBezTo>
                  <a:pt x="313691" y="2426252"/>
                  <a:pt x="374754" y="2443397"/>
                  <a:pt x="374754" y="2443397"/>
                </a:cubicBezTo>
                <a:cubicBezTo>
                  <a:pt x="433313" y="2501954"/>
                  <a:pt x="371869" y="2449449"/>
                  <a:pt x="449705" y="2488368"/>
                </a:cubicBezTo>
                <a:cubicBezTo>
                  <a:pt x="565932" y="2546482"/>
                  <a:pt x="426620" y="2495663"/>
                  <a:pt x="539646" y="2533338"/>
                </a:cubicBezTo>
                <a:cubicBezTo>
                  <a:pt x="551838" y="2569916"/>
                  <a:pt x="555556" y="2594219"/>
                  <a:pt x="584617" y="2623279"/>
                </a:cubicBezTo>
                <a:cubicBezTo>
                  <a:pt x="597356" y="2636018"/>
                  <a:pt x="615908" y="2641535"/>
                  <a:pt x="629587" y="2653259"/>
                </a:cubicBezTo>
                <a:cubicBezTo>
                  <a:pt x="651048" y="2671654"/>
                  <a:pt x="666029" y="2697541"/>
                  <a:pt x="689548" y="2713220"/>
                </a:cubicBezTo>
                <a:lnTo>
                  <a:pt x="824459" y="2803161"/>
                </a:lnTo>
                <a:lnTo>
                  <a:pt x="914400" y="2863122"/>
                </a:lnTo>
                <a:cubicBezTo>
                  <a:pt x="929390" y="2873116"/>
                  <a:pt x="941893" y="2888732"/>
                  <a:pt x="959371" y="2893102"/>
                </a:cubicBezTo>
                <a:lnTo>
                  <a:pt x="1019331" y="2908092"/>
                </a:lnTo>
                <a:cubicBezTo>
                  <a:pt x="1079292" y="2903095"/>
                  <a:pt x="1139572" y="2901054"/>
                  <a:pt x="1199213" y="2893102"/>
                </a:cubicBezTo>
                <a:cubicBezTo>
                  <a:pt x="1214876" y="2891014"/>
                  <a:pt x="1228690" y="2881211"/>
                  <a:pt x="1244184" y="2878112"/>
                </a:cubicBezTo>
                <a:cubicBezTo>
                  <a:pt x="1278830" y="2871183"/>
                  <a:pt x="1314194" y="2868494"/>
                  <a:pt x="1349115" y="2863122"/>
                </a:cubicBezTo>
                <a:cubicBezTo>
                  <a:pt x="1379155" y="2858500"/>
                  <a:pt x="1408721" y="2850028"/>
                  <a:pt x="1439056" y="2848132"/>
                </a:cubicBezTo>
                <a:cubicBezTo>
                  <a:pt x="1568814" y="2840022"/>
                  <a:pt x="1698960" y="2839800"/>
                  <a:pt x="1828800" y="2833141"/>
                </a:cubicBezTo>
                <a:cubicBezTo>
                  <a:pt x="1893864" y="2829804"/>
                  <a:pt x="1958715" y="2823148"/>
                  <a:pt x="2023672" y="2818151"/>
                </a:cubicBezTo>
                <a:cubicBezTo>
                  <a:pt x="2189068" y="2785072"/>
                  <a:pt x="2125232" y="2804285"/>
                  <a:pt x="2218544" y="2773181"/>
                </a:cubicBezTo>
                <a:cubicBezTo>
                  <a:pt x="2228538" y="2763187"/>
                  <a:pt x="2237489" y="2752029"/>
                  <a:pt x="2248525" y="2743200"/>
                </a:cubicBezTo>
                <a:cubicBezTo>
                  <a:pt x="2296962" y="2704450"/>
                  <a:pt x="2312216" y="2715119"/>
                  <a:pt x="2353456" y="2653259"/>
                </a:cubicBezTo>
                <a:lnTo>
                  <a:pt x="2413417" y="2563318"/>
                </a:lnTo>
                <a:cubicBezTo>
                  <a:pt x="2418414" y="2548328"/>
                  <a:pt x="2420733" y="2532160"/>
                  <a:pt x="2428407" y="2518348"/>
                </a:cubicBezTo>
                <a:cubicBezTo>
                  <a:pt x="2445905" y="2486851"/>
                  <a:pt x="2476972" y="2462589"/>
                  <a:pt x="2488367" y="2428407"/>
                </a:cubicBezTo>
                <a:cubicBezTo>
                  <a:pt x="2507827" y="2370029"/>
                  <a:pt x="2492185" y="2394610"/>
                  <a:pt x="2533338" y="2353456"/>
                </a:cubicBezTo>
                <a:cubicBezTo>
                  <a:pt x="2557152" y="2282014"/>
                  <a:pt x="2545728" y="2271591"/>
                  <a:pt x="2593299" y="2233535"/>
                </a:cubicBezTo>
                <a:cubicBezTo>
                  <a:pt x="2607367" y="2222281"/>
                  <a:pt x="2623279" y="2213548"/>
                  <a:pt x="2638269" y="2203555"/>
                </a:cubicBezTo>
                <a:cubicBezTo>
                  <a:pt x="2648262" y="2188565"/>
                  <a:pt x="2656994" y="2172652"/>
                  <a:pt x="2668249" y="2158584"/>
                </a:cubicBezTo>
                <a:cubicBezTo>
                  <a:pt x="2705433" y="2112104"/>
                  <a:pt x="2697448" y="2145158"/>
                  <a:pt x="2728210" y="2083633"/>
                </a:cubicBezTo>
                <a:cubicBezTo>
                  <a:pt x="2735276" y="2069500"/>
                  <a:pt x="2734016" y="2051521"/>
                  <a:pt x="2743200" y="2038663"/>
                </a:cubicBezTo>
                <a:cubicBezTo>
                  <a:pt x="2759629" y="2015662"/>
                  <a:pt x="2787482" y="2002221"/>
                  <a:pt x="2803161" y="1978702"/>
                </a:cubicBezTo>
                <a:cubicBezTo>
                  <a:pt x="2813154" y="1963712"/>
                  <a:pt x="2821417" y="1947411"/>
                  <a:pt x="2833141" y="1933732"/>
                </a:cubicBezTo>
                <a:cubicBezTo>
                  <a:pt x="2851536" y="1912271"/>
                  <a:pt x="2877423" y="1897290"/>
                  <a:pt x="2893102" y="1873771"/>
                </a:cubicBezTo>
                <a:cubicBezTo>
                  <a:pt x="2960901" y="1772071"/>
                  <a:pt x="2927583" y="1809308"/>
                  <a:pt x="2983043" y="1753850"/>
                </a:cubicBezTo>
                <a:cubicBezTo>
                  <a:pt x="3022634" y="1635075"/>
                  <a:pt x="3007828" y="1695081"/>
                  <a:pt x="3028013" y="1573968"/>
                </a:cubicBezTo>
                <a:cubicBezTo>
                  <a:pt x="3023016" y="1474033"/>
                  <a:pt x="3031745" y="1372456"/>
                  <a:pt x="3013023" y="1274164"/>
                </a:cubicBezTo>
                <a:cubicBezTo>
                  <a:pt x="3010067" y="1258642"/>
                  <a:pt x="2981602" y="1267303"/>
                  <a:pt x="2968053" y="1259174"/>
                </a:cubicBezTo>
                <a:cubicBezTo>
                  <a:pt x="2864996" y="1197341"/>
                  <a:pt x="3072292" y="1248368"/>
                  <a:pt x="2833141" y="1214204"/>
                </a:cubicBezTo>
                <a:cubicBezTo>
                  <a:pt x="2823148" y="1199214"/>
                  <a:pt x="2814416" y="1183301"/>
                  <a:pt x="2803161" y="1169233"/>
                </a:cubicBezTo>
                <a:cubicBezTo>
                  <a:pt x="2772010" y="1130294"/>
                  <a:pt x="2766272" y="1146194"/>
                  <a:pt x="2743200" y="1094282"/>
                </a:cubicBezTo>
                <a:cubicBezTo>
                  <a:pt x="2730365" y="1065404"/>
                  <a:pt x="2723213" y="1034321"/>
                  <a:pt x="2713220" y="1004341"/>
                </a:cubicBezTo>
                <a:lnTo>
                  <a:pt x="2638269" y="779489"/>
                </a:lnTo>
                <a:lnTo>
                  <a:pt x="2578308" y="599607"/>
                </a:lnTo>
                <a:cubicBezTo>
                  <a:pt x="2573311" y="584617"/>
                  <a:pt x="2574491" y="565810"/>
                  <a:pt x="2563318" y="554637"/>
                </a:cubicBezTo>
                <a:cubicBezTo>
                  <a:pt x="2446409" y="437724"/>
                  <a:pt x="2635750" y="630991"/>
                  <a:pt x="2503358" y="479686"/>
                </a:cubicBezTo>
                <a:cubicBezTo>
                  <a:pt x="2480092" y="453096"/>
                  <a:pt x="2453391" y="429719"/>
                  <a:pt x="2428407" y="404735"/>
                </a:cubicBezTo>
                <a:cubicBezTo>
                  <a:pt x="2418413" y="394742"/>
                  <a:pt x="2406265" y="386514"/>
                  <a:pt x="2398426" y="374755"/>
                </a:cubicBezTo>
                <a:cubicBezTo>
                  <a:pt x="2388433" y="359765"/>
                  <a:pt x="2381185" y="342523"/>
                  <a:pt x="2368446" y="329784"/>
                </a:cubicBezTo>
                <a:cubicBezTo>
                  <a:pt x="2355707" y="317045"/>
                  <a:pt x="2337034" y="311667"/>
                  <a:pt x="2323476" y="299804"/>
                </a:cubicBezTo>
                <a:cubicBezTo>
                  <a:pt x="2296886" y="276538"/>
                  <a:pt x="2273509" y="249837"/>
                  <a:pt x="2248525" y="224853"/>
                </a:cubicBezTo>
                <a:lnTo>
                  <a:pt x="2218544" y="194873"/>
                </a:lnTo>
                <a:cubicBezTo>
                  <a:pt x="2208550" y="184879"/>
                  <a:pt x="2201972" y="169361"/>
                  <a:pt x="2188564" y="164892"/>
                </a:cubicBezTo>
                <a:cubicBezTo>
                  <a:pt x="2173574" y="159895"/>
                  <a:pt x="2157727" y="156968"/>
                  <a:pt x="2143594" y="149902"/>
                </a:cubicBezTo>
                <a:cubicBezTo>
                  <a:pt x="2027359" y="91785"/>
                  <a:pt x="2166686" y="142610"/>
                  <a:pt x="2053653" y="104932"/>
                </a:cubicBezTo>
                <a:cubicBezTo>
                  <a:pt x="2043659" y="94938"/>
                  <a:pt x="2035791" y="82223"/>
                  <a:pt x="2023672" y="74951"/>
                </a:cubicBezTo>
                <a:cubicBezTo>
                  <a:pt x="2008943" y="66113"/>
                  <a:pt x="1929118" y="47277"/>
                  <a:pt x="1918741" y="44971"/>
                </a:cubicBezTo>
                <a:cubicBezTo>
                  <a:pt x="1800080" y="18602"/>
                  <a:pt x="1833072" y="31102"/>
                  <a:pt x="1663908" y="14991"/>
                </a:cubicBezTo>
                <a:cubicBezTo>
                  <a:pt x="1618865" y="10701"/>
                  <a:pt x="1573967" y="4997"/>
                  <a:pt x="1528997" y="0"/>
                </a:cubicBezTo>
                <a:cubicBezTo>
                  <a:pt x="1384092" y="4997"/>
                  <a:pt x="1238743" y="2608"/>
                  <a:pt x="1094282" y="14991"/>
                </a:cubicBezTo>
                <a:cubicBezTo>
                  <a:pt x="1062795" y="17690"/>
                  <a:pt x="1035513" y="39776"/>
                  <a:pt x="1004341" y="44971"/>
                </a:cubicBezTo>
                <a:lnTo>
                  <a:pt x="914400" y="59961"/>
                </a:lnTo>
                <a:cubicBezTo>
                  <a:pt x="806558" y="95908"/>
                  <a:pt x="941252" y="52288"/>
                  <a:pt x="809469" y="89941"/>
                </a:cubicBezTo>
                <a:cubicBezTo>
                  <a:pt x="794276" y="94282"/>
                  <a:pt x="779489" y="99935"/>
                  <a:pt x="764499" y="104932"/>
                </a:cubicBezTo>
                <a:cubicBezTo>
                  <a:pt x="688533" y="180895"/>
                  <a:pt x="786845" y="91524"/>
                  <a:pt x="689548" y="149902"/>
                </a:cubicBezTo>
                <a:cubicBezTo>
                  <a:pt x="677429" y="157173"/>
                  <a:pt x="669561" y="169889"/>
                  <a:pt x="659567" y="179882"/>
                </a:cubicBezTo>
                <a:cubicBezTo>
                  <a:pt x="444245" y="170910"/>
                  <a:pt x="365711" y="145713"/>
                  <a:pt x="194872" y="179882"/>
                </a:cubicBezTo>
                <a:cubicBezTo>
                  <a:pt x="179378" y="182981"/>
                  <a:pt x="164892" y="189876"/>
                  <a:pt x="149902" y="194873"/>
                </a:cubicBezTo>
                <a:cubicBezTo>
                  <a:pt x="63987" y="323741"/>
                  <a:pt x="166988" y="160699"/>
                  <a:pt x="104931" y="284814"/>
                </a:cubicBezTo>
                <a:cubicBezTo>
                  <a:pt x="84062" y="326553"/>
                  <a:pt x="63132" y="341603"/>
                  <a:pt x="29980" y="374755"/>
                </a:cubicBezTo>
                <a:cubicBezTo>
                  <a:pt x="24983" y="394742"/>
                  <a:pt x="20650" y="414906"/>
                  <a:pt x="14990" y="434715"/>
                </a:cubicBezTo>
                <a:cubicBezTo>
                  <a:pt x="10649" y="449908"/>
                  <a:pt x="0" y="463885"/>
                  <a:pt x="0" y="479686"/>
                </a:cubicBezTo>
                <a:cubicBezTo>
                  <a:pt x="0" y="492527"/>
                  <a:pt x="7759" y="697304"/>
                  <a:pt x="44971" y="734518"/>
                </a:cubicBezTo>
                <a:lnTo>
                  <a:pt x="74951" y="764499"/>
                </a:lnTo>
                <a:lnTo>
                  <a:pt x="104931" y="854440"/>
                </a:lnTo>
                <a:cubicBezTo>
                  <a:pt x="109928" y="869430"/>
                  <a:pt x="116089" y="884081"/>
                  <a:pt x="119921" y="899410"/>
                </a:cubicBezTo>
                <a:cubicBezTo>
                  <a:pt x="122721" y="910608"/>
                  <a:pt x="140687" y="988982"/>
                  <a:pt x="149902" y="1004341"/>
                </a:cubicBezTo>
                <a:cubicBezTo>
                  <a:pt x="157173" y="1016460"/>
                  <a:pt x="168846" y="1025493"/>
                  <a:pt x="179882" y="1034322"/>
                </a:cubicBezTo>
                <a:cubicBezTo>
                  <a:pt x="193950" y="1045577"/>
                  <a:pt x="224853" y="1064302"/>
                  <a:pt x="224853" y="1064302"/>
                </a:cubicBezTo>
              </a:path>
            </a:pathLst>
          </a:custGeom>
          <a:solidFill>
            <a:schemeClr val="bg1">
              <a:lumMod val="65000"/>
              <a:alpha val="50000"/>
            </a:schemeClr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6" name="任意多边形 4"/>
          <p:cNvSpPr/>
          <p:nvPr/>
        </p:nvSpPr>
        <p:spPr>
          <a:xfrm>
            <a:off x="5759640" y="1772640"/>
            <a:ext cx="2196360" cy="2751120"/>
          </a:xfrm>
          <a:custGeom>
            <a:avLst/>
            <a:gdLst>
              <a:gd name="textAreaLeft" fmla="*/ 0 w 2196360"/>
              <a:gd name="textAreaRight" fmla="*/ 2196720 w 2196360"/>
              <a:gd name="textAreaTop" fmla="*/ 0 h 2751120"/>
              <a:gd name="textAreaBottom" fmla="*/ 2751480 h 2751120"/>
            </a:gdLst>
            <a:ahLst/>
            <a:rect l="textAreaLeft" t="textAreaTop" r="textAreaRight" b="textAreaBottom"/>
            <a:pathLst>
              <a:path w="1439056" h="1753849">
                <a:moveTo>
                  <a:pt x="89941" y="119921"/>
                </a:moveTo>
                <a:cubicBezTo>
                  <a:pt x="99934" y="94937"/>
                  <a:pt x="102695" y="65641"/>
                  <a:pt x="119921" y="44970"/>
                </a:cubicBezTo>
                <a:cubicBezTo>
                  <a:pt x="130037" y="32831"/>
                  <a:pt x="150759" y="37046"/>
                  <a:pt x="164892" y="29980"/>
                </a:cubicBezTo>
                <a:cubicBezTo>
                  <a:pt x="181006" y="21923"/>
                  <a:pt x="194872" y="9993"/>
                  <a:pt x="209862" y="0"/>
                </a:cubicBezTo>
                <a:cubicBezTo>
                  <a:pt x="369757" y="4997"/>
                  <a:pt x="530022" y="3026"/>
                  <a:pt x="689547" y="14990"/>
                </a:cubicBezTo>
                <a:cubicBezTo>
                  <a:pt x="730636" y="18072"/>
                  <a:pt x="770380" y="31939"/>
                  <a:pt x="809469" y="44970"/>
                </a:cubicBezTo>
                <a:cubicBezTo>
                  <a:pt x="824459" y="49967"/>
                  <a:pt x="840306" y="52895"/>
                  <a:pt x="854439" y="59961"/>
                </a:cubicBezTo>
                <a:cubicBezTo>
                  <a:pt x="870553" y="68018"/>
                  <a:pt x="882947" y="82624"/>
                  <a:pt x="899410" y="89941"/>
                </a:cubicBezTo>
                <a:cubicBezTo>
                  <a:pt x="928288" y="102776"/>
                  <a:pt x="989351" y="119921"/>
                  <a:pt x="989351" y="119921"/>
                </a:cubicBezTo>
                <a:lnTo>
                  <a:pt x="1079292" y="179882"/>
                </a:lnTo>
                <a:cubicBezTo>
                  <a:pt x="1094282" y="189875"/>
                  <a:pt x="1111523" y="197123"/>
                  <a:pt x="1124262" y="209862"/>
                </a:cubicBezTo>
                <a:cubicBezTo>
                  <a:pt x="1268602" y="354202"/>
                  <a:pt x="1115044" y="208483"/>
                  <a:pt x="1229193" y="299803"/>
                </a:cubicBezTo>
                <a:cubicBezTo>
                  <a:pt x="1335991" y="385242"/>
                  <a:pt x="1165734" y="267490"/>
                  <a:pt x="1304144" y="359764"/>
                </a:cubicBezTo>
                <a:cubicBezTo>
                  <a:pt x="1314137" y="374754"/>
                  <a:pt x="1322870" y="390666"/>
                  <a:pt x="1334124" y="404734"/>
                </a:cubicBezTo>
                <a:cubicBezTo>
                  <a:pt x="1342953" y="415770"/>
                  <a:pt x="1358538" y="421725"/>
                  <a:pt x="1364105" y="434715"/>
                </a:cubicBezTo>
                <a:cubicBezTo>
                  <a:pt x="1376318" y="463211"/>
                  <a:pt x="1392818" y="620295"/>
                  <a:pt x="1394085" y="629587"/>
                </a:cubicBezTo>
                <a:cubicBezTo>
                  <a:pt x="1422871" y="840688"/>
                  <a:pt x="1411935" y="778805"/>
                  <a:pt x="1439056" y="914400"/>
                </a:cubicBezTo>
                <a:cubicBezTo>
                  <a:pt x="1434059" y="1009338"/>
                  <a:pt x="1432672" y="1104534"/>
                  <a:pt x="1424065" y="1199213"/>
                </a:cubicBezTo>
                <a:cubicBezTo>
                  <a:pt x="1422634" y="1214949"/>
                  <a:pt x="1420248" y="1233011"/>
                  <a:pt x="1409075" y="1244184"/>
                </a:cubicBezTo>
                <a:cubicBezTo>
                  <a:pt x="1397902" y="1255357"/>
                  <a:pt x="1379095" y="1254177"/>
                  <a:pt x="1364105" y="1259174"/>
                </a:cubicBezTo>
                <a:cubicBezTo>
                  <a:pt x="1313732" y="1410294"/>
                  <a:pt x="1390588" y="1175893"/>
                  <a:pt x="1334124" y="1364105"/>
                </a:cubicBezTo>
                <a:cubicBezTo>
                  <a:pt x="1325043" y="1394374"/>
                  <a:pt x="1334124" y="1444053"/>
                  <a:pt x="1304144" y="1454046"/>
                </a:cubicBezTo>
                <a:lnTo>
                  <a:pt x="1259174" y="1469036"/>
                </a:lnTo>
                <a:cubicBezTo>
                  <a:pt x="1222292" y="1505918"/>
                  <a:pt x="1192063" y="1528307"/>
                  <a:pt x="1169233" y="1573967"/>
                </a:cubicBezTo>
                <a:cubicBezTo>
                  <a:pt x="1162166" y="1588100"/>
                  <a:pt x="1165415" y="1607765"/>
                  <a:pt x="1154242" y="1618938"/>
                </a:cubicBezTo>
                <a:cubicBezTo>
                  <a:pt x="1143069" y="1630111"/>
                  <a:pt x="1123405" y="1626862"/>
                  <a:pt x="1109272" y="1633928"/>
                </a:cubicBezTo>
                <a:cubicBezTo>
                  <a:pt x="1093158" y="1641985"/>
                  <a:pt x="1080415" y="1655851"/>
                  <a:pt x="1064301" y="1663908"/>
                </a:cubicBezTo>
                <a:cubicBezTo>
                  <a:pt x="1014074" y="1689021"/>
                  <a:pt x="927167" y="1689138"/>
                  <a:pt x="884419" y="1693888"/>
                </a:cubicBezTo>
                <a:cubicBezTo>
                  <a:pt x="874426" y="1703882"/>
                  <a:pt x="866558" y="1716598"/>
                  <a:pt x="854439" y="1723869"/>
                </a:cubicBezTo>
                <a:cubicBezTo>
                  <a:pt x="814487" y="1747840"/>
                  <a:pt x="687881" y="1752369"/>
                  <a:pt x="674557" y="1753849"/>
                </a:cubicBezTo>
                <a:cubicBezTo>
                  <a:pt x="634583" y="1748852"/>
                  <a:pt x="594027" y="1747300"/>
                  <a:pt x="554636" y="1738859"/>
                </a:cubicBezTo>
                <a:cubicBezTo>
                  <a:pt x="523735" y="1732238"/>
                  <a:pt x="464695" y="1708879"/>
                  <a:pt x="464695" y="1708879"/>
                </a:cubicBezTo>
                <a:cubicBezTo>
                  <a:pt x="406138" y="1650320"/>
                  <a:pt x="467581" y="1702826"/>
                  <a:pt x="389744" y="1663908"/>
                </a:cubicBezTo>
                <a:cubicBezTo>
                  <a:pt x="273508" y="1605791"/>
                  <a:pt x="412840" y="1656616"/>
                  <a:pt x="299803" y="1618938"/>
                </a:cubicBezTo>
                <a:cubicBezTo>
                  <a:pt x="284813" y="1608944"/>
                  <a:pt x="271296" y="1596274"/>
                  <a:pt x="254833" y="1588957"/>
                </a:cubicBezTo>
                <a:cubicBezTo>
                  <a:pt x="225955" y="1576122"/>
                  <a:pt x="164892" y="1558977"/>
                  <a:pt x="164892" y="1558977"/>
                </a:cubicBezTo>
                <a:cubicBezTo>
                  <a:pt x="92192" y="1486277"/>
                  <a:pt x="128450" y="1514695"/>
                  <a:pt x="59960" y="1469036"/>
                </a:cubicBezTo>
                <a:cubicBezTo>
                  <a:pt x="30411" y="1380387"/>
                  <a:pt x="12538" y="1371459"/>
                  <a:pt x="44970" y="1274164"/>
                </a:cubicBezTo>
                <a:cubicBezTo>
                  <a:pt x="49439" y="1260756"/>
                  <a:pt x="64957" y="1254177"/>
                  <a:pt x="74951" y="1244184"/>
                </a:cubicBezTo>
                <a:cubicBezTo>
                  <a:pt x="83509" y="1201393"/>
                  <a:pt x="92230" y="1151611"/>
                  <a:pt x="104931" y="1109272"/>
                </a:cubicBezTo>
                <a:cubicBezTo>
                  <a:pt x="114012" y="1079003"/>
                  <a:pt x="124918" y="1049311"/>
                  <a:pt x="134911" y="1019331"/>
                </a:cubicBezTo>
                <a:cubicBezTo>
                  <a:pt x="154370" y="960953"/>
                  <a:pt x="138728" y="985534"/>
                  <a:pt x="179882" y="944380"/>
                </a:cubicBezTo>
                <a:cubicBezTo>
                  <a:pt x="171481" y="885572"/>
                  <a:pt x="186441" y="840387"/>
                  <a:pt x="134911" y="809469"/>
                </a:cubicBezTo>
                <a:cubicBezTo>
                  <a:pt x="121362" y="801340"/>
                  <a:pt x="104931" y="799476"/>
                  <a:pt x="89941" y="794479"/>
                </a:cubicBezTo>
                <a:cubicBezTo>
                  <a:pt x="79947" y="784485"/>
                  <a:pt x="70996" y="773327"/>
                  <a:pt x="59960" y="764498"/>
                </a:cubicBezTo>
                <a:cubicBezTo>
                  <a:pt x="45892" y="753244"/>
                  <a:pt x="26244" y="748586"/>
                  <a:pt x="14990" y="734518"/>
                </a:cubicBezTo>
                <a:cubicBezTo>
                  <a:pt x="5119" y="722180"/>
                  <a:pt x="4997" y="704538"/>
                  <a:pt x="0" y="689548"/>
                </a:cubicBezTo>
                <a:cubicBezTo>
                  <a:pt x="4803" y="670337"/>
                  <a:pt x="19228" y="606121"/>
                  <a:pt x="29980" y="584616"/>
                </a:cubicBezTo>
                <a:cubicBezTo>
                  <a:pt x="88101" y="468372"/>
                  <a:pt x="37268" y="607719"/>
                  <a:pt x="74951" y="494675"/>
                </a:cubicBezTo>
                <a:cubicBezTo>
                  <a:pt x="79948" y="464695"/>
                  <a:pt x="89941" y="435128"/>
                  <a:pt x="89941" y="404734"/>
                </a:cubicBezTo>
                <a:cubicBezTo>
                  <a:pt x="89941" y="304321"/>
                  <a:pt x="83416" y="295216"/>
                  <a:pt x="59960" y="224852"/>
                </a:cubicBezTo>
                <a:cubicBezTo>
                  <a:pt x="64957" y="209862"/>
                  <a:pt x="70610" y="195075"/>
                  <a:pt x="74951" y="179882"/>
                </a:cubicBezTo>
                <a:cubicBezTo>
                  <a:pt x="80611" y="160073"/>
                  <a:pt x="78513" y="137063"/>
                  <a:pt x="89941" y="119921"/>
                </a:cubicBezTo>
                <a:cubicBezTo>
                  <a:pt x="106546" y="95013"/>
                  <a:pt x="154229" y="83502"/>
                  <a:pt x="179882" y="74951"/>
                </a:cubicBezTo>
                <a:lnTo>
                  <a:pt x="239842" y="14990"/>
                </a:ln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5940000" y="2025360"/>
            <a:ext cx="18000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任意多边形 6"/>
          <p:cNvSpPr/>
          <p:nvPr/>
        </p:nvSpPr>
        <p:spPr>
          <a:xfrm rot="3941400">
            <a:off x="5230440" y="3472200"/>
            <a:ext cx="575640" cy="635040"/>
          </a:xfrm>
          <a:custGeom>
            <a:avLst/>
            <a:gdLst>
              <a:gd name="textAreaLeft" fmla="*/ 0 w 575640"/>
              <a:gd name="textAreaRight" fmla="*/ 576000 w 57564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311178" h="259978">
                <a:moveTo>
                  <a:pt x="172195" y="5145"/>
                </a:moveTo>
                <a:cubicBezTo>
                  <a:pt x="127225" y="10142"/>
                  <a:pt x="62383" y="-17513"/>
                  <a:pt x="37284" y="20135"/>
                </a:cubicBezTo>
                <a:cubicBezTo>
                  <a:pt x="-52571" y="154918"/>
                  <a:pt x="41110" y="170099"/>
                  <a:pt x="97245" y="215007"/>
                </a:cubicBezTo>
                <a:cubicBezTo>
                  <a:pt x="108281" y="223836"/>
                  <a:pt x="114235" y="239421"/>
                  <a:pt x="127225" y="244988"/>
                </a:cubicBezTo>
                <a:cubicBezTo>
                  <a:pt x="150643" y="255025"/>
                  <a:pt x="177192" y="254981"/>
                  <a:pt x="202176" y="259978"/>
                </a:cubicBezTo>
                <a:cubicBezTo>
                  <a:pt x="227160" y="254981"/>
                  <a:pt x="255006" y="257629"/>
                  <a:pt x="277127" y="244988"/>
                </a:cubicBezTo>
                <a:cubicBezTo>
                  <a:pt x="328437" y="215668"/>
                  <a:pt x="311613" y="107947"/>
                  <a:pt x="292117" y="80096"/>
                </a:cubicBezTo>
                <a:cubicBezTo>
                  <a:pt x="273994" y="54207"/>
                  <a:pt x="232156" y="60109"/>
                  <a:pt x="202176" y="50115"/>
                </a:cubicBezTo>
                <a:cubicBezTo>
                  <a:pt x="166537" y="38235"/>
                  <a:pt x="134885" y="26408"/>
                  <a:pt x="97245" y="20135"/>
                </a:cubicBezTo>
                <a:cubicBezTo>
                  <a:pt x="87387" y="18492"/>
                  <a:pt x="77258" y="20135"/>
                  <a:pt x="67264" y="20135"/>
                </a:cubicBezTo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9" name="TextBox 93"/>
          <p:cNvSpPr/>
          <p:nvPr/>
        </p:nvSpPr>
        <p:spPr>
          <a:xfrm>
            <a:off x="3132000" y="1628640"/>
            <a:ext cx="23389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94"/>
          <p:cNvGrpSpPr/>
          <p:nvPr/>
        </p:nvGrpSpPr>
        <p:grpSpPr>
          <a:xfrm>
            <a:off x="0" y="6588000"/>
            <a:ext cx="9143640" cy="297000"/>
            <a:chOff x="0" y="6588000"/>
            <a:chExt cx="9143640" cy="297000"/>
          </a:xfrm>
        </p:grpSpPr>
        <p:sp>
          <p:nvSpPr>
            <p:cNvPr id="52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6" name="矩形 127"/>
            <p:cNvSpPr/>
            <p:nvPr/>
          </p:nvSpPr>
          <p:spPr>
            <a:xfrm>
              <a:off x="2204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8" name="矩形 139"/>
            <p:cNvSpPr/>
            <p:nvPr/>
          </p:nvSpPr>
          <p:spPr>
            <a:xfrm>
              <a:off x="8396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9" name="矩形 140"/>
            <p:cNvSpPr/>
            <p:nvPr/>
          </p:nvSpPr>
          <p:spPr>
            <a:xfrm>
              <a:off x="8757000" y="6781680"/>
              <a:ext cx="38664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0" name="矩形 141"/>
            <p:cNvSpPr/>
            <p:nvPr/>
          </p:nvSpPr>
          <p:spPr>
            <a:xfrm>
              <a:off x="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2" name="矩形 143"/>
            <p:cNvSpPr/>
            <p:nvPr/>
          </p:nvSpPr>
          <p:spPr>
            <a:xfrm>
              <a:off x="53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3" name="矩形 154"/>
            <p:cNvSpPr/>
            <p:nvPr/>
          </p:nvSpPr>
          <p:spPr>
            <a:xfrm>
              <a:off x="6156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5" name="矩形 156"/>
            <p:cNvSpPr/>
            <p:nvPr/>
          </p:nvSpPr>
          <p:spPr>
            <a:xfrm>
              <a:off x="7199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7" name="矩形 158"/>
            <p:cNvSpPr/>
            <p:nvPr/>
          </p:nvSpPr>
          <p:spPr>
            <a:xfrm>
              <a:off x="824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8" name="矩形 159"/>
            <p:cNvSpPr/>
            <p:nvPr/>
          </p:nvSpPr>
          <p:spPr>
            <a:xfrm>
              <a:off x="8604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9" name="矩形 160"/>
            <p:cNvSpPr/>
            <p:nvPr/>
          </p:nvSpPr>
          <p:spPr>
            <a:xfrm>
              <a:off x="342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0" name="矩形 161"/>
            <p:cNvSpPr/>
            <p:nvPr/>
          </p:nvSpPr>
          <p:spPr>
            <a:xfrm>
              <a:off x="89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1" name="矩形 162"/>
            <p:cNvSpPr/>
            <p:nvPr/>
          </p:nvSpPr>
          <p:spPr>
            <a:xfrm>
              <a:off x="140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2" name="矩形 163"/>
            <p:cNvSpPr/>
            <p:nvPr/>
          </p:nvSpPr>
          <p:spPr>
            <a:xfrm>
              <a:off x="1943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3" name="矩形 164"/>
            <p:cNvSpPr/>
            <p:nvPr/>
          </p:nvSpPr>
          <p:spPr>
            <a:xfrm>
              <a:off x="2447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4" name="矩形 165"/>
            <p:cNvSpPr/>
            <p:nvPr/>
          </p:nvSpPr>
          <p:spPr>
            <a:xfrm>
              <a:off x="2951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5" name="矩形 166"/>
            <p:cNvSpPr/>
            <p:nvPr/>
          </p:nvSpPr>
          <p:spPr>
            <a:xfrm>
              <a:off x="342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6" name="矩形 167"/>
            <p:cNvSpPr/>
            <p:nvPr/>
          </p:nvSpPr>
          <p:spPr>
            <a:xfrm>
              <a:off x="395928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7" name="矩形 168"/>
            <p:cNvSpPr/>
            <p:nvPr/>
          </p:nvSpPr>
          <p:spPr>
            <a:xfrm>
              <a:off x="446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8" name="矩形 169"/>
            <p:cNvSpPr/>
            <p:nvPr/>
          </p:nvSpPr>
          <p:spPr>
            <a:xfrm>
              <a:off x="496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9" name="矩形 170"/>
            <p:cNvSpPr/>
            <p:nvPr/>
          </p:nvSpPr>
          <p:spPr>
            <a:xfrm>
              <a:off x="5436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0" name="矩形 171"/>
            <p:cNvSpPr/>
            <p:nvPr/>
          </p:nvSpPr>
          <p:spPr>
            <a:xfrm>
              <a:off x="594000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1" name="矩形 172"/>
            <p:cNvSpPr/>
            <p:nvPr/>
          </p:nvSpPr>
          <p:spPr>
            <a:xfrm>
              <a:off x="6479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2" name="矩形 173"/>
            <p:cNvSpPr/>
            <p:nvPr/>
          </p:nvSpPr>
          <p:spPr>
            <a:xfrm>
              <a:off x="6983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3" name="矩形 174"/>
            <p:cNvSpPr/>
            <p:nvPr/>
          </p:nvSpPr>
          <p:spPr>
            <a:xfrm>
              <a:off x="748764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4" name="矩形 175"/>
            <p:cNvSpPr/>
            <p:nvPr/>
          </p:nvSpPr>
          <p:spPr>
            <a:xfrm>
              <a:off x="7956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5" name="矩形 176"/>
            <p:cNvSpPr/>
            <p:nvPr/>
          </p:nvSpPr>
          <p:spPr>
            <a:xfrm>
              <a:off x="824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" name="矩形 177"/>
            <p:cNvSpPr/>
            <p:nvPr/>
          </p:nvSpPr>
          <p:spPr>
            <a:xfrm>
              <a:off x="8604360" y="6691680"/>
              <a:ext cx="539280" cy="103320"/>
            </a:xfrm>
            <a:prstGeom prst="rect">
              <a:avLst/>
            </a:prstGeom>
            <a:solidFill>
              <a:srgbClr val="3b4141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77" name="组合 178"/>
          <p:cNvGrpSpPr/>
          <p:nvPr/>
        </p:nvGrpSpPr>
        <p:grpSpPr>
          <a:xfrm>
            <a:off x="107640" y="116640"/>
            <a:ext cx="1699560" cy="2507760"/>
            <a:chOff x="107640" y="116640"/>
            <a:chExt cx="1699560" cy="2507760"/>
          </a:xfrm>
        </p:grpSpPr>
        <p:sp>
          <p:nvSpPr>
            <p:cNvPr id="578" name="任意多边形 179"/>
            <p:cNvSpPr/>
            <p:nvPr/>
          </p:nvSpPr>
          <p:spPr>
            <a:xfrm>
              <a:off x="144720" y="269280"/>
              <a:ext cx="1283040" cy="2043360"/>
            </a:xfrm>
            <a:custGeom>
              <a:avLst/>
              <a:gdLst>
                <a:gd name="textAreaLeft" fmla="*/ 0 w 1283040"/>
                <a:gd name="textAreaRight" fmla="*/ 1283400 w 1283040"/>
                <a:gd name="textAreaTop" fmla="*/ 0 h 2043360"/>
                <a:gd name="textAreaBottom" fmla="*/ 2043720 h 2043360"/>
              </a:gdLst>
              <a:ahLst/>
              <a:rect l="textAreaLeft" t="textAreaTop" r="textAreaRight" b="textAreaBottom"/>
              <a:pathLst>
                <a:path w="2024293" h="2473377">
                  <a:moveTo>
                    <a:pt x="1319755" y="74951"/>
                  </a:moveTo>
                  <a:cubicBezTo>
                    <a:pt x="1402002" y="42053"/>
                    <a:pt x="1426338" y="18650"/>
                    <a:pt x="1529618" y="59961"/>
                  </a:cubicBezTo>
                  <a:cubicBezTo>
                    <a:pt x="1544289" y="65829"/>
                    <a:pt x="1536479" y="91382"/>
                    <a:pt x="1544608" y="104931"/>
                  </a:cubicBezTo>
                  <a:cubicBezTo>
                    <a:pt x="1551879" y="117050"/>
                    <a:pt x="1564595" y="124918"/>
                    <a:pt x="1574588" y="134912"/>
                  </a:cubicBezTo>
                  <a:cubicBezTo>
                    <a:pt x="1579585" y="149902"/>
                    <a:pt x="1581448" y="166333"/>
                    <a:pt x="1589578" y="179882"/>
                  </a:cubicBezTo>
                  <a:cubicBezTo>
                    <a:pt x="1622761" y="235187"/>
                    <a:pt x="1677604" y="217118"/>
                    <a:pt x="1739480" y="224853"/>
                  </a:cubicBezTo>
                  <a:cubicBezTo>
                    <a:pt x="1754470" y="229850"/>
                    <a:pt x="1770901" y="231714"/>
                    <a:pt x="1784450" y="239843"/>
                  </a:cubicBezTo>
                  <a:cubicBezTo>
                    <a:pt x="1887333" y="301572"/>
                    <a:pt x="1732009" y="242349"/>
                    <a:pt x="1859401" y="284813"/>
                  </a:cubicBezTo>
                  <a:cubicBezTo>
                    <a:pt x="1869395" y="294807"/>
                    <a:pt x="1878346" y="305965"/>
                    <a:pt x="1889382" y="314794"/>
                  </a:cubicBezTo>
                  <a:cubicBezTo>
                    <a:pt x="1903450" y="326048"/>
                    <a:pt x="1923098" y="330706"/>
                    <a:pt x="1934352" y="344774"/>
                  </a:cubicBezTo>
                  <a:cubicBezTo>
                    <a:pt x="1943328" y="355994"/>
                    <a:pt x="1961846" y="443904"/>
                    <a:pt x="1964332" y="449705"/>
                  </a:cubicBezTo>
                  <a:cubicBezTo>
                    <a:pt x="1971429" y="466264"/>
                    <a:pt x="1984319" y="479685"/>
                    <a:pt x="1994313" y="494675"/>
                  </a:cubicBezTo>
                  <a:cubicBezTo>
                    <a:pt x="2020689" y="573805"/>
                    <a:pt x="2019416" y="549045"/>
                    <a:pt x="1994313" y="674557"/>
                  </a:cubicBezTo>
                  <a:cubicBezTo>
                    <a:pt x="1988115" y="705545"/>
                    <a:pt x="1964332" y="764498"/>
                    <a:pt x="1964332" y="764498"/>
                  </a:cubicBezTo>
                  <a:cubicBezTo>
                    <a:pt x="1983243" y="915777"/>
                    <a:pt x="1966584" y="846203"/>
                    <a:pt x="2009303" y="974361"/>
                  </a:cubicBezTo>
                  <a:lnTo>
                    <a:pt x="2024293" y="1019331"/>
                  </a:lnTo>
                  <a:cubicBezTo>
                    <a:pt x="2019296" y="1114269"/>
                    <a:pt x="2015233" y="1209260"/>
                    <a:pt x="2009303" y="1304144"/>
                  </a:cubicBezTo>
                  <a:cubicBezTo>
                    <a:pt x="2005239" y="1369166"/>
                    <a:pt x="2016225" y="1437662"/>
                    <a:pt x="1994313" y="1499016"/>
                  </a:cubicBezTo>
                  <a:cubicBezTo>
                    <a:pt x="1987384" y="1518418"/>
                    <a:pt x="1954339" y="1509010"/>
                    <a:pt x="1934352" y="1514007"/>
                  </a:cubicBezTo>
                  <a:cubicBezTo>
                    <a:pt x="1929355" y="1528997"/>
                    <a:pt x="1923194" y="1543648"/>
                    <a:pt x="1919362" y="1558977"/>
                  </a:cubicBezTo>
                  <a:cubicBezTo>
                    <a:pt x="1913183" y="1583695"/>
                    <a:pt x="1914409" y="1610510"/>
                    <a:pt x="1904372" y="1633928"/>
                  </a:cubicBezTo>
                  <a:cubicBezTo>
                    <a:pt x="1898805" y="1646918"/>
                    <a:pt x="1884385" y="1653915"/>
                    <a:pt x="1874391" y="1663908"/>
                  </a:cubicBezTo>
                  <a:cubicBezTo>
                    <a:pt x="1858558" y="1711408"/>
                    <a:pt x="1862631" y="1712335"/>
                    <a:pt x="1829421" y="1753849"/>
                  </a:cubicBezTo>
                  <a:cubicBezTo>
                    <a:pt x="1820592" y="1764885"/>
                    <a:pt x="1808270" y="1772794"/>
                    <a:pt x="1799441" y="1783830"/>
                  </a:cubicBezTo>
                  <a:cubicBezTo>
                    <a:pt x="1715963" y="1888177"/>
                    <a:pt x="1831311" y="1766947"/>
                    <a:pt x="1724490" y="1873771"/>
                  </a:cubicBezTo>
                  <a:cubicBezTo>
                    <a:pt x="1709647" y="1918299"/>
                    <a:pt x="1700161" y="1973050"/>
                    <a:pt x="1664529" y="2008682"/>
                  </a:cubicBezTo>
                  <a:cubicBezTo>
                    <a:pt x="1605527" y="2067684"/>
                    <a:pt x="1634081" y="2009306"/>
                    <a:pt x="1589578" y="2068643"/>
                  </a:cubicBezTo>
                  <a:cubicBezTo>
                    <a:pt x="1583486" y="2076765"/>
                    <a:pt x="1530893" y="2169811"/>
                    <a:pt x="1499637" y="2188564"/>
                  </a:cubicBezTo>
                  <a:cubicBezTo>
                    <a:pt x="1486088" y="2196693"/>
                    <a:pt x="1469657" y="2198557"/>
                    <a:pt x="1454667" y="2203554"/>
                  </a:cubicBezTo>
                  <a:cubicBezTo>
                    <a:pt x="1361305" y="2296919"/>
                    <a:pt x="1496466" y="2170692"/>
                    <a:pt x="1379716" y="2248525"/>
                  </a:cubicBezTo>
                  <a:cubicBezTo>
                    <a:pt x="1267429" y="2323382"/>
                    <a:pt x="1396706" y="2272842"/>
                    <a:pt x="1289775" y="2308485"/>
                  </a:cubicBezTo>
                  <a:cubicBezTo>
                    <a:pt x="1274785" y="2318479"/>
                    <a:pt x="1261268" y="2331149"/>
                    <a:pt x="1244805" y="2338466"/>
                  </a:cubicBezTo>
                  <a:cubicBezTo>
                    <a:pt x="1180687" y="2366963"/>
                    <a:pt x="1155946" y="2365996"/>
                    <a:pt x="1094903" y="2383436"/>
                  </a:cubicBezTo>
                  <a:cubicBezTo>
                    <a:pt x="1079710" y="2387777"/>
                    <a:pt x="1064922" y="2393429"/>
                    <a:pt x="1049932" y="2398426"/>
                  </a:cubicBezTo>
                  <a:cubicBezTo>
                    <a:pt x="1039939" y="2408420"/>
                    <a:pt x="1032071" y="2421136"/>
                    <a:pt x="1019952" y="2428407"/>
                  </a:cubicBezTo>
                  <a:cubicBezTo>
                    <a:pt x="922649" y="2486790"/>
                    <a:pt x="1020971" y="2397409"/>
                    <a:pt x="945001" y="2473377"/>
                  </a:cubicBezTo>
                  <a:cubicBezTo>
                    <a:pt x="830889" y="2435340"/>
                    <a:pt x="886048" y="2449595"/>
                    <a:pt x="780109" y="2428407"/>
                  </a:cubicBezTo>
                  <a:cubicBezTo>
                    <a:pt x="707717" y="2356012"/>
                    <a:pt x="795794" y="2448012"/>
                    <a:pt x="720149" y="2353456"/>
                  </a:cubicBezTo>
                  <a:cubicBezTo>
                    <a:pt x="711320" y="2342420"/>
                    <a:pt x="698648" y="2334782"/>
                    <a:pt x="690168" y="2323475"/>
                  </a:cubicBezTo>
                  <a:cubicBezTo>
                    <a:pt x="668549" y="2294650"/>
                    <a:pt x="630208" y="2233535"/>
                    <a:pt x="630208" y="2233535"/>
                  </a:cubicBezTo>
                  <a:cubicBezTo>
                    <a:pt x="603824" y="2154381"/>
                    <a:pt x="623983" y="2201712"/>
                    <a:pt x="555257" y="2098623"/>
                  </a:cubicBezTo>
                  <a:cubicBezTo>
                    <a:pt x="545264" y="2083633"/>
                    <a:pt x="538016" y="2066392"/>
                    <a:pt x="525277" y="2053653"/>
                  </a:cubicBezTo>
                  <a:cubicBezTo>
                    <a:pt x="515283" y="2043659"/>
                    <a:pt x="504125" y="2034708"/>
                    <a:pt x="495296" y="2023672"/>
                  </a:cubicBezTo>
                  <a:cubicBezTo>
                    <a:pt x="456547" y="1975235"/>
                    <a:pt x="467214" y="1959980"/>
                    <a:pt x="405355" y="1918741"/>
                  </a:cubicBezTo>
                  <a:cubicBezTo>
                    <a:pt x="390365" y="1908748"/>
                    <a:pt x="374064" y="1900485"/>
                    <a:pt x="360385" y="1888761"/>
                  </a:cubicBezTo>
                  <a:cubicBezTo>
                    <a:pt x="338924" y="1870366"/>
                    <a:pt x="323943" y="1844479"/>
                    <a:pt x="300424" y="1828800"/>
                  </a:cubicBezTo>
                  <a:cubicBezTo>
                    <a:pt x="285434" y="1818807"/>
                    <a:pt x="269522" y="1810074"/>
                    <a:pt x="255454" y="1798820"/>
                  </a:cubicBezTo>
                  <a:cubicBezTo>
                    <a:pt x="244418" y="1789991"/>
                    <a:pt x="237592" y="1776111"/>
                    <a:pt x="225473" y="1768839"/>
                  </a:cubicBezTo>
                  <a:cubicBezTo>
                    <a:pt x="211924" y="1760709"/>
                    <a:pt x="195493" y="1758846"/>
                    <a:pt x="180503" y="1753849"/>
                  </a:cubicBezTo>
                  <a:cubicBezTo>
                    <a:pt x="160516" y="1723869"/>
                    <a:pt x="150522" y="1683895"/>
                    <a:pt x="120542" y="1663908"/>
                  </a:cubicBezTo>
                  <a:cubicBezTo>
                    <a:pt x="63813" y="1626088"/>
                    <a:pt x="88311" y="1646667"/>
                    <a:pt x="45591" y="1603948"/>
                  </a:cubicBezTo>
                  <a:cubicBezTo>
                    <a:pt x="40594" y="1588958"/>
                    <a:pt x="37667" y="1573110"/>
                    <a:pt x="30601" y="1558977"/>
                  </a:cubicBezTo>
                  <a:cubicBezTo>
                    <a:pt x="22544" y="1542863"/>
                    <a:pt x="2610" y="1531913"/>
                    <a:pt x="621" y="1514007"/>
                  </a:cubicBezTo>
                  <a:cubicBezTo>
                    <a:pt x="-2735" y="1483799"/>
                    <a:pt x="8239" y="1453552"/>
                    <a:pt x="15611" y="1424066"/>
                  </a:cubicBezTo>
                  <a:cubicBezTo>
                    <a:pt x="23276" y="1393408"/>
                    <a:pt x="45591" y="1334125"/>
                    <a:pt x="45591" y="1334125"/>
                  </a:cubicBezTo>
                  <a:cubicBezTo>
                    <a:pt x="47231" y="1316090"/>
                    <a:pt x="56987" y="1143843"/>
                    <a:pt x="75572" y="1094282"/>
                  </a:cubicBezTo>
                  <a:cubicBezTo>
                    <a:pt x="81898" y="1077413"/>
                    <a:pt x="95559" y="1064302"/>
                    <a:pt x="105552" y="1049312"/>
                  </a:cubicBezTo>
                  <a:lnTo>
                    <a:pt x="135532" y="959371"/>
                  </a:lnTo>
                  <a:lnTo>
                    <a:pt x="150523" y="914400"/>
                  </a:lnTo>
                  <a:cubicBezTo>
                    <a:pt x="155520" y="799475"/>
                    <a:pt x="156690" y="684320"/>
                    <a:pt x="165513" y="569626"/>
                  </a:cubicBezTo>
                  <a:cubicBezTo>
                    <a:pt x="166725" y="553872"/>
                    <a:pt x="172374" y="538205"/>
                    <a:pt x="180503" y="524656"/>
                  </a:cubicBezTo>
                  <a:cubicBezTo>
                    <a:pt x="187774" y="512537"/>
                    <a:pt x="200490" y="504669"/>
                    <a:pt x="210483" y="494675"/>
                  </a:cubicBezTo>
                  <a:lnTo>
                    <a:pt x="255454" y="359764"/>
                  </a:lnTo>
                  <a:cubicBezTo>
                    <a:pt x="260451" y="344774"/>
                    <a:pt x="259271" y="325967"/>
                    <a:pt x="270444" y="314794"/>
                  </a:cubicBezTo>
                  <a:lnTo>
                    <a:pt x="330405" y="254833"/>
                  </a:lnTo>
                  <a:cubicBezTo>
                    <a:pt x="363556" y="221682"/>
                    <a:pt x="384486" y="206630"/>
                    <a:pt x="405355" y="164892"/>
                  </a:cubicBezTo>
                  <a:cubicBezTo>
                    <a:pt x="412422" y="150759"/>
                    <a:pt x="410475" y="132260"/>
                    <a:pt x="420346" y="119921"/>
                  </a:cubicBezTo>
                  <a:cubicBezTo>
                    <a:pt x="431600" y="105853"/>
                    <a:pt x="451476" y="101474"/>
                    <a:pt x="465316" y="89941"/>
                  </a:cubicBezTo>
                  <a:cubicBezTo>
                    <a:pt x="502917" y="58607"/>
                    <a:pt x="503997" y="33184"/>
                    <a:pt x="555257" y="29980"/>
                  </a:cubicBezTo>
                  <a:cubicBezTo>
                    <a:pt x="699966" y="20935"/>
                    <a:pt x="845067" y="19987"/>
                    <a:pt x="989972" y="14990"/>
                  </a:cubicBezTo>
                  <a:cubicBezTo>
                    <a:pt x="1004962" y="9993"/>
                    <a:pt x="1019141" y="0"/>
                    <a:pt x="1034942" y="0"/>
                  </a:cubicBezTo>
                  <a:cubicBezTo>
                    <a:pt x="1072128" y="0"/>
                    <a:pt x="1172267" y="21469"/>
                    <a:pt x="1214824" y="29980"/>
                  </a:cubicBezTo>
                  <a:cubicBezTo>
                    <a:pt x="1253257" y="55603"/>
                    <a:pt x="1281354" y="82578"/>
                    <a:pt x="1334746" y="74951"/>
                  </a:cubicBezTo>
                  <a:cubicBezTo>
                    <a:pt x="1348737" y="72952"/>
                    <a:pt x="1354733" y="54964"/>
                    <a:pt x="1364726" y="44971"/>
                  </a:cubicBezTo>
                </a:path>
              </a:pathLst>
            </a:custGeom>
            <a:solidFill>
              <a:schemeClr val="bg1">
                <a:lumMod val="65000"/>
                <a:alpha val="50000"/>
              </a:schemeClr>
            </a:solidFill>
            <a:ln>
              <a:noFill/>
            </a:ln>
            <a:effectLst>
              <a:softEdge rad="633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79" name="直接连接符 180"/>
            <p:cNvCxnSpPr/>
            <p:nvPr/>
          </p:nvCxnSpPr>
          <p:spPr>
            <a:xfrm>
              <a:off x="414360" y="2624400"/>
              <a:ext cx="36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580" name="TextBox 181"/>
            <p:cNvSpPr/>
            <p:nvPr/>
          </p:nvSpPr>
          <p:spPr>
            <a:xfrm>
              <a:off x="107640" y="116640"/>
              <a:ext cx="169956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182"/>
            <p:cNvSpPr/>
            <p:nvPr/>
          </p:nvSpPr>
          <p:spPr>
            <a:xfrm>
              <a:off x="726120" y="692640"/>
              <a:ext cx="7736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183"/>
            <p:cNvSpPr/>
            <p:nvPr/>
          </p:nvSpPr>
          <p:spPr>
            <a:xfrm>
              <a:off x="475200" y="1268640"/>
              <a:ext cx="720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任意多边形 184"/>
          <p:cNvSpPr/>
          <p:nvPr/>
        </p:nvSpPr>
        <p:spPr>
          <a:xfrm>
            <a:off x="1171800" y="1622880"/>
            <a:ext cx="915120" cy="1373760"/>
          </a:xfrm>
          <a:custGeom>
            <a:avLst/>
            <a:gdLst>
              <a:gd name="textAreaLeft" fmla="*/ 0 w 915120"/>
              <a:gd name="textAreaRight" fmla="*/ 915480 w 915120"/>
              <a:gd name="textAreaTop" fmla="*/ 0 h 1373760"/>
              <a:gd name="textAreaBottom" fmla="*/ 1374120 h 1373760"/>
            </a:gdLst>
            <a:ahLst/>
            <a:rect l="textAreaLeft" t="textAreaTop" r="textAreaRight" b="textAreaBottom"/>
            <a:pathLst>
              <a:path w="1538094" h="1111942">
                <a:moveTo>
                  <a:pt x="538237" y="227"/>
                </a:moveTo>
                <a:cubicBezTo>
                  <a:pt x="504370" y="2646"/>
                  <a:pt x="489598" y="8758"/>
                  <a:pt x="465665" y="14741"/>
                </a:cubicBezTo>
                <a:cubicBezTo>
                  <a:pt x="450823" y="18452"/>
                  <a:pt x="437125" y="26255"/>
                  <a:pt x="422123" y="29255"/>
                </a:cubicBezTo>
                <a:cubicBezTo>
                  <a:pt x="388577" y="35964"/>
                  <a:pt x="354390" y="38931"/>
                  <a:pt x="320523" y="43769"/>
                </a:cubicBezTo>
                <a:cubicBezTo>
                  <a:pt x="306009" y="48607"/>
                  <a:pt x="289710" y="49797"/>
                  <a:pt x="276980" y="58284"/>
                </a:cubicBezTo>
                <a:cubicBezTo>
                  <a:pt x="259901" y="69670"/>
                  <a:pt x="246039" y="85624"/>
                  <a:pt x="233437" y="101827"/>
                </a:cubicBezTo>
                <a:cubicBezTo>
                  <a:pt x="212018" y="129366"/>
                  <a:pt x="204408" y="169560"/>
                  <a:pt x="175380" y="188912"/>
                </a:cubicBezTo>
                <a:lnTo>
                  <a:pt x="131837" y="217941"/>
                </a:lnTo>
                <a:cubicBezTo>
                  <a:pt x="122161" y="232455"/>
                  <a:pt x="113975" y="248083"/>
                  <a:pt x="102808" y="261484"/>
                </a:cubicBezTo>
                <a:cubicBezTo>
                  <a:pt x="9680" y="373236"/>
                  <a:pt x="102307" y="240465"/>
                  <a:pt x="30237" y="348569"/>
                </a:cubicBezTo>
                <a:cubicBezTo>
                  <a:pt x="-7935" y="463085"/>
                  <a:pt x="-6656" y="417497"/>
                  <a:pt x="15723" y="551769"/>
                </a:cubicBezTo>
                <a:cubicBezTo>
                  <a:pt x="19003" y="571446"/>
                  <a:pt x="21316" y="591985"/>
                  <a:pt x="30237" y="609827"/>
                </a:cubicBezTo>
                <a:cubicBezTo>
                  <a:pt x="45839" y="641032"/>
                  <a:pt x="88294" y="696912"/>
                  <a:pt x="88294" y="696912"/>
                </a:cubicBezTo>
                <a:cubicBezTo>
                  <a:pt x="93132" y="711426"/>
                  <a:pt x="95378" y="727081"/>
                  <a:pt x="102808" y="740455"/>
                </a:cubicBezTo>
                <a:cubicBezTo>
                  <a:pt x="119751" y="770953"/>
                  <a:pt x="149832" y="794443"/>
                  <a:pt x="160865" y="827541"/>
                </a:cubicBezTo>
                <a:cubicBezTo>
                  <a:pt x="172670" y="862953"/>
                  <a:pt x="176273" y="886492"/>
                  <a:pt x="204408" y="914627"/>
                </a:cubicBezTo>
                <a:cubicBezTo>
                  <a:pt x="216743" y="926962"/>
                  <a:pt x="232349" y="935854"/>
                  <a:pt x="247951" y="943655"/>
                </a:cubicBezTo>
                <a:cubicBezTo>
                  <a:pt x="261635" y="950497"/>
                  <a:pt x="276980" y="953331"/>
                  <a:pt x="291494" y="958169"/>
                </a:cubicBezTo>
                <a:cubicBezTo>
                  <a:pt x="318838" y="985513"/>
                  <a:pt x="342208" y="1014575"/>
                  <a:pt x="378580" y="1030741"/>
                </a:cubicBezTo>
                <a:cubicBezTo>
                  <a:pt x="406541" y="1043168"/>
                  <a:pt x="465665" y="1059769"/>
                  <a:pt x="465665" y="1059769"/>
                </a:cubicBezTo>
                <a:cubicBezTo>
                  <a:pt x="480179" y="1069445"/>
                  <a:pt x="493606" y="1080997"/>
                  <a:pt x="509208" y="1088798"/>
                </a:cubicBezTo>
                <a:cubicBezTo>
                  <a:pt x="612657" y="1140523"/>
                  <a:pt x="870601" y="1089493"/>
                  <a:pt x="886580" y="1088798"/>
                </a:cubicBezTo>
                <a:cubicBezTo>
                  <a:pt x="921087" y="1077296"/>
                  <a:pt x="951737" y="1065843"/>
                  <a:pt x="988180" y="1059769"/>
                </a:cubicBezTo>
                <a:cubicBezTo>
                  <a:pt x="1192056" y="1025789"/>
                  <a:pt x="1031693" y="1063405"/>
                  <a:pt x="1162351" y="1030741"/>
                </a:cubicBezTo>
                <a:cubicBezTo>
                  <a:pt x="1176865" y="1021065"/>
                  <a:pt x="1190292" y="1009513"/>
                  <a:pt x="1205894" y="1001712"/>
                </a:cubicBezTo>
                <a:cubicBezTo>
                  <a:pt x="1219578" y="994870"/>
                  <a:pt x="1236707" y="995685"/>
                  <a:pt x="1249437" y="987198"/>
                </a:cubicBezTo>
                <a:cubicBezTo>
                  <a:pt x="1266516" y="975812"/>
                  <a:pt x="1277211" y="956796"/>
                  <a:pt x="1292980" y="943655"/>
                </a:cubicBezTo>
                <a:cubicBezTo>
                  <a:pt x="1306381" y="932488"/>
                  <a:pt x="1322009" y="924303"/>
                  <a:pt x="1336523" y="914627"/>
                </a:cubicBezTo>
                <a:cubicBezTo>
                  <a:pt x="1346199" y="900113"/>
                  <a:pt x="1353216" y="883419"/>
                  <a:pt x="1365551" y="871084"/>
                </a:cubicBezTo>
                <a:cubicBezTo>
                  <a:pt x="1377886" y="858749"/>
                  <a:pt x="1397607" y="855183"/>
                  <a:pt x="1409094" y="842055"/>
                </a:cubicBezTo>
                <a:cubicBezTo>
                  <a:pt x="1527625" y="706590"/>
                  <a:pt x="1412723" y="791253"/>
                  <a:pt x="1510694" y="725941"/>
                </a:cubicBezTo>
                <a:cubicBezTo>
                  <a:pt x="1557562" y="585333"/>
                  <a:pt x="1535224" y="669717"/>
                  <a:pt x="1510694" y="363084"/>
                </a:cubicBezTo>
                <a:cubicBezTo>
                  <a:pt x="1509474" y="347833"/>
                  <a:pt x="1499499" y="334476"/>
                  <a:pt x="1496180" y="319541"/>
                </a:cubicBezTo>
                <a:cubicBezTo>
                  <a:pt x="1495964" y="318568"/>
                  <a:pt x="1482230" y="207761"/>
                  <a:pt x="1467151" y="188912"/>
                </a:cubicBezTo>
                <a:cubicBezTo>
                  <a:pt x="1443325" y="159129"/>
                  <a:pt x="1360912" y="136952"/>
                  <a:pt x="1336523" y="130855"/>
                </a:cubicBezTo>
                <a:cubicBezTo>
                  <a:pt x="1317170" y="126017"/>
                  <a:pt x="1297646" y="121821"/>
                  <a:pt x="1278465" y="116341"/>
                </a:cubicBezTo>
                <a:cubicBezTo>
                  <a:pt x="1263755" y="112138"/>
                  <a:pt x="1250165" y="103152"/>
                  <a:pt x="1234923" y="101827"/>
                </a:cubicBezTo>
                <a:cubicBezTo>
                  <a:pt x="1138404" y="93434"/>
                  <a:pt x="1041399" y="92150"/>
                  <a:pt x="944637" y="87312"/>
                </a:cubicBezTo>
                <a:lnTo>
                  <a:pt x="814008" y="43769"/>
                </a:lnTo>
                <a:cubicBezTo>
                  <a:pt x="799494" y="38931"/>
                  <a:pt x="785308" y="32966"/>
                  <a:pt x="770465" y="29255"/>
                </a:cubicBezTo>
                <a:cubicBezTo>
                  <a:pt x="697565" y="11030"/>
                  <a:pt x="731332" y="21049"/>
                  <a:pt x="668865" y="227"/>
                </a:cubicBezTo>
                <a:cubicBezTo>
                  <a:pt x="528620" y="15810"/>
                  <a:pt x="572104" y="-2192"/>
                  <a:pt x="538237" y="227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TextBox 185"/>
          <p:cNvSpPr/>
          <p:nvPr/>
        </p:nvSpPr>
        <p:spPr>
          <a:xfrm>
            <a:off x="1259640" y="1917000"/>
            <a:ext cx="92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片 1" descr=""/>
          <p:cNvPicPr/>
          <p:nvPr/>
        </p:nvPicPr>
        <p:blipFill>
          <a:blip r:embed="rId1"/>
          <a:stretch/>
        </p:blipFill>
        <p:spPr>
          <a:xfrm>
            <a:off x="-19080" y="4079880"/>
            <a:ext cx="3032280" cy="282384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cxnSp>
        <p:nvCxnSpPr>
          <p:cNvPr id="586" name="直接连接符 73"/>
          <p:cNvCxnSpPr/>
          <p:nvPr/>
        </p:nvCxnSpPr>
        <p:spPr>
          <a:xfrm>
            <a:off x="5004000" y="1758600"/>
            <a:ext cx="360" cy="14515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587" name="直接连接符 75"/>
          <p:cNvCxnSpPr/>
          <p:nvPr/>
        </p:nvCxnSpPr>
        <p:spPr>
          <a:xfrm>
            <a:off x="4572000" y="1758600"/>
            <a:ext cx="360" cy="17071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588" name="直接连接符 77"/>
          <p:cNvCxnSpPr/>
          <p:nvPr/>
        </p:nvCxnSpPr>
        <p:spPr>
          <a:xfrm>
            <a:off x="4140720" y="1758600"/>
            <a:ext cx="360" cy="14515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589" name="直接连接符 79"/>
          <p:cNvCxnSpPr/>
          <p:nvPr/>
        </p:nvCxnSpPr>
        <p:spPr>
          <a:xfrm>
            <a:off x="3707640" y="1758600"/>
            <a:ext cx="360" cy="13903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590" name="直接连接符 81"/>
          <p:cNvCxnSpPr/>
          <p:nvPr/>
        </p:nvCxnSpPr>
        <p:spPr>
          <a:xfrm>
            <a:off x="3276720" y="1758600"/>
            <a:ext cx="360" cy="25135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自定义 1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自定义 1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  <Words>188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8Z</dcterms:created>
  <dc:creator>Administrator</dc:creator>
  <dc:description/>
  <dc:language>en-US</dc:language>
  <cp:lastModifiedBy>a</cp:lastModifiedBy>
  <dcterms:modified xsi:type="dcterms:W3CDTF">2015-07-26T03:07:18Z</dcterms:modified>
  <cp:revision>1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