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DCD3-CDD6-48B2-A9DD-DBBB9876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7E2-692B-4BD8-8F4B-D18A0D68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FB7-6108-4CDB-8B3F-29261DB3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07F-79B3-432D-BAB3-C2153662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6698-BE65-44D6-BDA0-F88204CA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ABA-5C98-4755-A592-3F5BB5A4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B34C-97A6-4EE6-8DF1-8096BD58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52AB-7D45-44B8-8031-B6714CD9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0C7-F442-42F4-96C7-E8ABF776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C88-68BA-4A24-87E1-CC1BA92E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140-D827-4E0D-8282-898787CE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A54-F2B8-42BE-8185-3AF2031C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FCFD14-838E-4270-A09A-0618BB49978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429160"/>
            <a:ext cx="41428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幻及相关类别演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" name="直接连接符 5"/>
          <p:cNvCxnSpPr/>
          <p:nvPr/>
        </p:nvCxnSpPr>
        <p:spPr>
          <a:xfrm>
            <a:off x="3643200" y="5445000"/>
            <a:ext cx="2429280" cy="180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sp>
        <p:nvSpPr>
          <p:cNvPr id="43" name="TextBox 7"/>
          <p:cNvSpPr/>
          <p:nvPr/>
        </p:nvSpPr>
        <p:spPr>
          <a:xfrm>
            <a:off x="1691640" y="4752000"/>
            <a:ext cx="70563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中国风恭贺新春喜庆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73368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21180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199728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464040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45687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49748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28328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44974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87660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99752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206856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99760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28336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714240" y="35712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42628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364032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42832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714240" y="35712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614052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8544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568760" y="5286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87660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21164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/>
          <p:cNvSpPr/>
          <p:nvPr/>
        </p:nvSpPr>
        <p:spPr>
          <a:xfrm>
            <a:off x="163980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78348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116244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42584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635472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271152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80532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606888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442584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242568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4640400" y="5214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00120" y="65476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73368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4497480" y="5214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664056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221148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206856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  <Words>143</Words>
  <Paragraphs>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7-26T02:50:20Z</dcterms:modified>
  <cp:revision>1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