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hdphoto1.wdp" ContentType="image/vnd.ms-photo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555-0F53-40A9-BA43-6865BFFB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438-52FA-4FD9-B84B-5D0305D3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6F9-8746-47B6-9DE9-B3BBE34C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9B8-050E-4CE4-839D-D54578EF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307-18CD-4ED4-A71D-063223BB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71B-558F-43E5-924D-EB64721B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9C0-7CAF-47ED-A6EC-1D9F2A0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F9D-38DB-4F8E-8B42-10348805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FF6-6DFD-4E22-B64D-044BE4F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B73-13CB-4726-AFC7-90D1F90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729-50AC-4107-86C1-1C87AAD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1D1-6B9D-4761-AB81-F9E507E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microsoft.com/office/2007/relationships/hdphoto" Target="../media/hdphoto1.wdp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colorTemp="112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68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F97738-0A6E-4CFE-A639-B2F8C569408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/>
          <a:srcRect l="23295" t="5238" r="0" b="34175"/>
          <a:stretch/>
        </p:blipFill>
        <p:spPr>
          <a:xfrm>
            <a:off x="323640" y="-34920"/>
            <a:ext cx="1178640" cy="5000760"/>
          </a:xfrm>
          <a:prstGeom prst="rect">
            <a:avLst/>
          </a:prstGeom>
          <a:ln w="0">
            <a:noFill/>
          </a:ln>
        </p:spPr>
      </p:pic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1383840" y="4088520"/>
            <a:ext cx="704160" cy="7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 txBox="1"/>
          <p:nvPr/>
        </p:nvSpPr>
        <p:spPr>
          <a:xfrm>
            <a:off x="-1897200" y="-72000"/>
            <a:ext cx="1875600" cy="128736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en-US" sz="1800" spc="-1002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---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 txBox="1"/>
          <p:nvPr/>
        </p:nvSpPr>
        <p:spPr>
          <a:xfrm>
            <a:off x="-2201040" y="1268640"/>
            <a:ext cx="2232000" cy="935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en-US" sz="1800" spc="-1002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---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25555 -0.12067 L 1.50834 -0.12067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719 0.2589 L 1.19201 0.27462 E">
                                      <p:cBhvr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  <Words>8</Words>
  <Paragraphs>3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8:50:09Z</dcterms:created>
  <dc:creator/>
  <dc:description/>
  <dc:language>en-US</dc:language>
  <cp:lastModifiedBy>a</cp:lastModifiedBy>
  <dcterms:modified xsi:type="dcterms:W3CDTF">2015-07-25T11:19:4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</vt:r8>
  </property>
</Properties>
</file>