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685-A856-469D-A1CE-A52996CD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B5A-1994-4B01-8998-5ACAF449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EE6-F89E-436C-8C51-4519436F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FA9-B05F-4ACF-8F2D-9FCF093F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B13A-23B3-4063-A987-22357F5F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5E7B-133A-4EF9-B414-D148EE8B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99E9-3C4A-4723-88F8-C38702E1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11F9-204F-4EDD-A7DD-D656AB49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0C7-0394-47AF-82EA-03365DE2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CBD-146C-455B-98BE-5C9316D9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4679-2B88-48E6-A023-D07AF28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7EB-338D-466F-B004-02370819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7E4A-BA64-4B80-AF7A-15957F7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87BA-F09F-416B-907A-8A64BA4F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9881-862A-4DF8-BEF8-D935C1C3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4D8F-5D54-4FCC-9504-73A1633D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C2F7-7274-4762-B1DF-28A55167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464-7CC9-4FEC-91A4-8B8FD84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71C-1F68-4F91-AAB3-8CE877C6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12F-3C99-48F1-ACB6-9E01971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8EE-AE2E-4E64-98A5-EB06DAF4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8A9-8EE5-4E6C-8BE8-1C3D04B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D9B-2A9B-4E0C-BE73-40BEFE0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156-9639-474A-8C0B-AFEAB2FA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58F6-2B5E-4365-A719-0E40895CA46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AFF-24C3-4852-A44D-581F73C60F0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727280" y="42973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炫酷箭头商务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8758080" y="3981600"/>
            <a:ext cx="3697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f5f5f"/>
                </a:solidFill>
                <a:latin typeface="Arial"/>
                <a:ea typeface="黑体"/>
              </a:rPr>
              <a:t>PPT</a:t>
            </a:r>
            <a:r>
              <a:rPr b="0" lang="zh-CN" sz="100" spc="-1" strike="noStrike">
                <a:solidFill>
                  <a:srgbClr val="5f5f5f"/>
                </a:solidFill>
                <a:latin typeface="Arial"/>
                <a:ea typeface="黑体"/>
              </a:rPr>
              <a:t>模板下载：</a:t>
            </a:r>
            <a:r>
              <a:rPr b="0" lang="en-US" sz="100" spc="-1" strike="noStrike">
                <a:solidFill>
                  <a:srgbClr val="5f5f5f"/>
                </a:solidFill>
                <a:latin typeface="Arial"/>
                <a:ea typeface="黑体"/>
              </a:rPr>
              <a:t>www.1ppt.com/mob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93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95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96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97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02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07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08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13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8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9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20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5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30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1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6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41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4d4d4d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43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44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45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50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55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56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61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7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8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3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8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9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4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8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9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69696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1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2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3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8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3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4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9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4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5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6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7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2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7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8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3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7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8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9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40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5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50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51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6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0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1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333333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4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5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70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75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76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81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6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7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8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9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4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8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99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300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05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9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0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1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2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7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22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23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28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2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6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8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9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40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5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50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1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6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0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1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2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3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4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9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3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4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5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80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5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6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7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2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7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8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3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7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4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3333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7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4d4d4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30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3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2"/>
          <p:cNvSpPr/>
          <p:nvPr/>
        </p:nvSpPr>
        <p:spPr>
          <a:xfrm>
            <a:off x="1710000" y="422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谢谢观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1"/>
          <p:cNvSpPr/>
          <p:nvPr/>
        </p:nvSpPr>
        <p:spPr>
          <a:xfrm>
            <a:off x="1548360" y="481500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  <a:ea typeface="迷你简综艺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6Z</dcterms:created>
  <dc:creator>北京锐得幻演广告有限公司</dc:creator>
  <dc:description/>
  <cp:keywords/>
  <dc:language>en-US</dc:language>
  <cp:lastModifiedBy>a</cp:lastModifiedBy>
  <dcterms:modified xsi:type="dcterms:W3CDTF">2015-07-25T01:55:17Z</dcterms:modified>
  <cp:revision>351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