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8996135566117"/>
          <c:y val="0.0197722726573319"/>
          <c:w val="0.959978678985475"/>
          <c:h val="0.97968918295122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gradFill>
                <a:gsLst>
                  <a:gs pos="0">
                    <a:srgbClr val="b3b3b3"/>
                  </a:gs>
                  <a:gs pos="100000">
                    <a:srgbClr val="e6e6e6"/>
                  </a:gs>
                </a:gsLst>
                <a:lin ang="5400000"/>
              </a:gradFill>
              <a:ln w="0">
                <a:solidFill>
                  <a:srgbClr val="c0c0c0"/>
                </a:solidFill>
              </a:ln>
            </c:spPr>
          </c:dPt>
          <c:dPt>
            <c:idx val="1"/>
            <c:invertIfNegative val="0"/>
            <c:spPr>
              <a:gradFill>
                <a:gsLst>
                  <a:gs pos="0">
                    <a:srgbClr val="b3b3b3"/>
                  </a:gs>
                  <a:gs pos="100000">
                    <a:srgbClr val="e6e6e6"/>
                  </a:gs>
                </a:gsLst>
                <a:lin ang="5400000"/>
              </a:gradFill>
              <a:ln w="0">
                <a:solidFill>
                  <a:srgbClr val="c0c0c0"/>
                </a:solidFill>
              </a:ln>
            </c:spPr>
          </c:dPt>
          <c:dPt>
            <c:idx val="2"/>
            <c:invertIfNegative val="0"/>
            <c:spPr>
              <a:gradFill>
                <a:gsLst>
                  <a:gs pos="0">
                    <a:srgbClr val="ffd320"/>
                  </a:gs>
                  <a:gs pos="100000">
                    <a:srgbClr val="ffffcc"/>
                  </a:gs>
                </a:gsLst>
                <a:lin ang="5400000"/>
              </a:gradFill>
              <a:ln w="36000">
                <a:solidFill>
                  <a:srgbClr val="ffd320"/>
                </a:solidFill>
                <a:round/>
              </a:ln>
            </c:spPr>
          </c:dPt>
          <c:dPt>
            <c:idx val="3"/>
            <c:invertIfNegative val="0"/>
            <c:spPr>
              <a:gradFill>
                <a:gsLst>
                  <a:gs pos="0">
                    <a:srgbClr val="b3b3b3"/>
                  </a:gs>
                  <a:gs pos="100000">
                    <a:srgbClr val="e6e6e6"/>
                  </a:gs>
                </a:gsLst>
                <a:lin ang="5400000"/>
              </a:gradFill>
              <a:ln w="0">
                <a:solidFill>
                  <a:srgbClr val="c0c0c0"/>
                </a:solidFill>
              </a:ln>
            </c:spPr>
          </c:dPt>
          <c:dPt>
            <c:idx val="4"/>
            <c:invertIfNegative val="0"/>
            <c:spPr>
              <a:gradFill>
                <a:gsLst>
                  <a:gs pos="0">
                    <a:srgbClr val="ff950e"/>
                  </a:gs>
                  <a:gs pos="100000">
                    <a:srgbClr val="ffd320"/>
                  </a:gs>
                </a:gsLst>
                <a:lin ang="5400000"/>
              </a:gradFill>
              <a:ln w="36000">
                <a:solidFill>
                  <a:srgbClr val="ff950e"/>
                </a:solidFill>
                <a:round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Times New Roman"/>
                    <a:ea typeface="宋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01</c:v>
                </c:pt>
                <c:pt idx="1">
                  <c:v>02</c:v>
                </c:pt>
                <c:pt idx="2">
                  <c:v>03</c:v>
                </c:pt>
                <c:pt idx="3">
                  <c:v>04</c:v>
                </c:pt>
                <c:pt idx="4">
                  <c:v>05</c:v>
                </c:pt>
                <c:pt idx="5">
                  <c:v>06</c:v>
                </c:pt>
                <c:pt idx="6">
                  <c:v>07</c:v>
                </c:pt>
                <c:pt idx="7">
                  <c:v>08</c:v>
                </c:pt>
                <c:pt idx="8">
                  <c:v>09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993366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984b99"/>
              </a:solidFill>
              <a:ln w="18000">
                <a:noFill/>
              </a:ln>
            </c:spPr>
          </c:dPt>
          <c:dPt>
            <c:idx val="1"/>
            <c:invertIfNegative val="0"/>
            <c:spPr>
              <a:solidFill>
                <a:srgbClr val="984b99"/>
              </a:solidFill>
              <a:ln w="18000">
                <a:noFill/>
              </a:ln>
            </c:spPr>
          </c:dPt>
          <c:dPt>
            <c:idx val="2"/>
            <c:invertIfNegative val="0"/>
            <c:spPr>
              <a:solidFill>
                <a:srgbClr val="984b99"/>
              </a:solidFill>
              <a:ln w="18000">
                <a:noFill/>
              </a:ln>
            </c:spPr>
          </c:dPt>
          <c:dPt>
            <c:idx val="3"/>
            <c:invertIfNegative val="0"/>
            <c:spPr>
              <a:solidFill>
                <a:srgbClr val="984b99"/>
              </a:solidFill>
              <a:ln w="18000">
                <a:noFill/>
              </a:ln>
            </c:spPr>
          </c:dPt>
          <c:dPt>
            <c:idx val="4"/>
            <c:invertIfNegative val="0"/>
            <c:spPr>
              <a:solidFill>
                <a:srgbClr val="4d3574"/>
              </a:solidFill>
              <a:ln w="18000">
                <a:noFill/>
              </a:ln>
            </c:spPr>
          </c:dPt>
          <c:dPt>
            <c:idx val="5"/>
            <c:invertIfNegative val="0"/>
            <c:spPr>
              <a:solidFill>
                <a:srgbClr val="984b99"/>
              </a:solidFill>
              <a:ln w="18000">
                <a:noFill/>
              </a:ln>
            </c:spPr>
          </c:dPt>
          <c:dPt>
            <c:idx val="6"/>
            <c:invertIfNegative val="0"/>
            <c:spPr>
              <a:solidFill>
                <a:srgbClr val="984b99"/>
              </a:solidFill>
              <a:ln w="18000">
                <a:noFill/>
              </a:ln>
            </c:spPr>
          </c:dPt>
          <c:dPt>
            <c:idx val="7"/>
            <c:invertIfNegative val="0"/>
            <c:spPr>
              <a:solidFill>
                <a:srgbClr val="984b99"/>
              </a:solidFill>
              <a:ln w="18000">
                <a:noFill/>
              </a:ln>
            </c:spPr>
          </c:dPt>
          <c:dPt>
            <c:idx val="8"/>
            <c:invertIfNegative val="0"/>
            <c:spPr>
              <a:solidFill>
                <a:srgbClr val="4d3574"/>
              </a:solidFill>
              <a:ln w="1800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5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6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7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8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110" spc="-1" strike="noStrike">
                    <a:solidFill>
                      <a:srgbClr val="000000"/>
                    </a:solidFill>
                    <a:latin typeface="Times New Roman"/>
                    <a:ea typeface="宋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01</c:v>
                </c:pt>
                <c:pt idx="1">
                  <c:v>02</c:v>
                </c:pt>
                <c:pt idx="2">
                  <c:v>03</c:v>
                </c:pt>
                <c:pt idx="3">
                  <c:v>04</c:v>
                </c:pt>
                <c:pt idx="4">
                  <c:v>05</c:v>
                </c:pt>
                <c:pt idx="5">
                  <c:v>06</c:v>
                </c:pt>
                <c:pt idx="6">
                  <c:v>07</c:v>
                </c:pt>
                <c:pt idx="7">
                  <c:v>08</c:v>
                </c:pt>
                <c:pt idx="8">
                  <c:v>09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9"/>
                <c:pt idx="0">
                  <c:v>2</c:v>
                </c:pt>
                <c:pt idx="1">
                  <c:v>3</c:v>
                </c:pt>
                <c:pt idx="2">
                  <c:v>4</c:v>
                </c:pt>
                <c:pt idx="3">
                  <c:v>5</c:v>
                </c:pt>
                <c:pt idx="4">
                  <c:v>6</c:v>
                </c:pt>
                <c:pt idx="5">
                  <c:v>7</c:v>
                </c:pt>
                <c:pt idx="6">
                  <c:v>8</c:v>
                </c:pt>
                <c:pt idx="7">
                  <c:v>9</c:v>
                </c:pt>
                <c:pt idx="8">
                  <c:v>10</c:v>
                </c:pt>
              </c:numCache>
            </c:numRef>
          </c:val>
        </c:ser>
        <c:gapWidth val="100"/>
        <c:overlap val="0"/>
        <c:axId val="49160895"/>
        <c:axId val="71922024"/>
      </c:barChart>
      <c:catAx>
        <c:axId val="49160895"/>
        <c:scaling>
          <c:orientation val="minMax"/>
        </c:scaling>
        <c:delete val="0"/>
        <c:axPos val="b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0"/>
        <c:majorTickMark val="out"/>
        <c:minorTickMark val="none"/>
        <c:tickLblPos val="low"/>
        <c:spPr>
          <a:ln w="36000">
            <a:solidFill>
              <a:srgbClr val="4d3574"/>
            </a:solidFill>
            <a:round/>
          </a:ln>
        </c:spPr>
        <c:txPr>
          <a:bodyPr/>
          <a:lstStyle/>
          <a:p>
            <a:pPr>
              <a:defRPr b="1" sz="1800" spc="-1" strike="noStrike">
                <a:solidFill>
                  <a:srgbClr val="000000"/>
                </a:solidFill>
                <a:latin typeface="Times New Roman"/>
                <a:ea typeface="宋体"/>
              </a:defRPr>
            </a:pPr>
          </a:p>
        </c:txPr>
        <c:crossAx val="71922024"/>
        <c:crossesAt val="0"/>
        <c:auto val="1"/>
        <c:lblAlgn val="ctr"/>
        <c:lblOffset val="100"/>
        <c:noMultiLvlLbl val="0"/>
      </c:catAx>
      <c:valAx>
        <c:axId val="71922024"/>
        <c:scaling>
          <c:orientation val="minMax"/>
          <c:max val="10"/>
          <c:min val="1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36000">
            <a:solidFill>
              <a:srgbClr val="4d3574"/>
            </a:solidFill>
            <a:round/>
          </a:ln>
        </c:spPr>
        <c:txPr>
          <a:bodyPr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  <a:ea typeface="宋体"/>
              </a:defRPr>
            </a:pPr>
          </a:p>
        </c:txPr>
        <c:crossAx val="49160895"/>
        <c:crosses val="min"/>
        <c:crossBetween val="between"/>
        <c:majorUnit val="1"/>
        <c:minorUnit val="1"/>
      </c:valAx>
      <c:spPr>
        <a:noFill/>
        <a:ln w="0">
          <a:solidFill>
            <a:srgbClr val="000000"/>
          </a:solidFill>
        </a:ln>
      </c:spPr>
    </c:plotArea>
    <c:plotVisOnly val="0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8D920-1753-4540-B2AE-5E865AB11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2F769-1C63-47C6-9E02-C32A71A2E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68CDB-6919-42BE-AF60-CA85EBBA7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C1279-4405-4D0E-9D9A-E92A0D946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08CE2-847C-4931-89D5-EFA888D0D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16469-2CAF-4010-915F-F6E6C9030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9E796-B943-4B73-BE4B-739A8F7D7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3F752-BB07-4D25-B808-9669EFE40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94F77-0082-464A-8A21-1A67CEDCA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E5478-8FF8-4AB2-ACB8-9C0FA2C6A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C5E81-3E97-42D2-84B5-BD542D820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4167-40C2-4814-BDD6-0DB90D11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F31-9F10-40DB-A51C-63275026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693E-00FD-4F12-883C-5A6554A28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2B77-77E8-4A2C-A159-B2424EA4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A4B2-CC58-4259-B21A-E923A520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502E-3361-4E7D-B04C-21F0FD62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8BE-B2C6-462B-9DD7-01679A1E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E3A4-7B18-4316-8C1E-9136AC59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1B0-3C1C-4313-B02F-A414AA59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559C-4FC3-4CF4-ABB0-B54A3B1B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CE3-B004-4D1A-9372-9F955641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4A32-890F-40E2-8504-9B78A6AA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D24FC-6D12-4903-9952-F254DBB72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360" y="638280"/>
            <a:ext cx="90709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紫色唯美简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商务模板</a:t>
            </a:r>
            <a:br>
              <a:rPr sz="40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ert Presentation Summary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6280" y="7020000"/>
            <a:ext cx="29923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504720" y="817200"/>
            <a:ext cx="907092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2360520" y="2320920"/>
            <a:ext cx="6429600" cy="898560"/>
          </a:xfrm>
          <a:prstGeom prst="roundRect">
            <a:avLst>
              <a:gd name="adj" fmla="val 11741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2360520" y="3648240"/>
            <a:ext cx="6432480" cy="879480"/>
          </a:xfrm>
          <a:prstGeom prst="roundRect">
            <a:avLst>
              <a:gd name="adj" fmla="val 11741"/>
            </a:avLst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2360520" y="4995720"/>
            <a:ext cx="6432480" cy="903600"/>
          </a:xfrm>
          <a:prstGeom prst="roundRect">
            <a:avLst>
              <a:gd name="adj" fmla="val 11741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1263600" y="2314440"/>
            <a:ext cx="917640" cy="868320"/>
          </a:xfrm>
          <a:prstGeom prst="roundRect">
            <a:avLst>
              <a:gd name="adj" fmla="val 16667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263600" y="3660840"/>
            <a:ext cx="917640" cy="882720"/>
          </a:xfrm>
          <a:prstGeom prst="roundRect">
            <a:avLst>
              <a:gd name="adj" fmla="val 16667"/>
            </a:avLst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1263600" y="5011560"/>
            <a:ext cx="917640" cy="906480"/>
          </a:xfrm>
          <a:prstGeom prst="roundRect">
            <a:avLst>
              <a:gd name="adj" fmla="val 16667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1"/>
          <p:cNvSpPr/>
          <p:nvPr/>
        </p:nvSpPr>
        <p:spPr>
          <a:xfrm>
            <a:off x="1320840" y="2257560"/>
            <a:ext cx="7364520" cy="784080"/>
          </a:xfrm>
          <a:prstGeom prst="roundRect">
            <a:avLst>
              <a:gd name="adj" fmla="val 11741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"/>
          <p:cNvSpPr/>
          <p:nvPr/>
        </p:nvSpPr>
        <p:spPr>
          <a:xfrm>
            <a:off x="1339920" y="4292640"/>
            <a:ext cx="7326360" cy="714240"/>
          </a:xfrm>
          <a:prstGeom prst="roundRect">
            <a:avLst>
              <a:gd name="adj" fmla="val 11741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395360" y="318780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395360" y="516888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1"/>
          <p:cNvSpPr/>
          <p:nvPr/>
        </p:nvSpPr>
        <p:spPr>
          <a:xfrm>
            <a:off x="4444920" y="3719520"/>
            <a:ext cx="1569960" cy="1569960"/>
          </a:xfrm>
          <a:prstGeom prst="ellipse">
            <a:avLst/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"/>
          <p:cNvSpPr/>
          <p:nvPr/>
        </p:nvSpPr>
        <p:spPr>
          <a:xfrm>
            <a:off x="4676760" y="2212920"/>
            <a:ext cx="1136520" cy="1136880"/>
          </a:xfrm>
          <a:prstGeom prst="ellipse">
            <a:avLst/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"/>
          <p:cNvSpPr/>
          <p:nvPr/>
        </p:nvSpPr>
        <p:spPr>
          <a:xfrm>
            <a:off x="6391440" y="5013360"/>
            <a:ext cx="1136520" cy="1136520"/>
          </a:xfrm>
          <a:prstGeom prst="ellipse">
            <a:avLst/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"/>
          <p:cNvSpPr/>
          <p:nvPr/>
        </p:nvSpPr>
        <p:spPr>
          <a:xfrm>
            <a:off x="2855880" y="5013360"/>
            <a:ext cx="1136520" cy="1136520"/>
          </a:xfrm>
          <a:prstGeom prst="ellipse">
            <a:avLst/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AutoShape 5"/>
          <p:cNvCxnSpPr>
            <a:stCxn id="65" idx="0"/>
            <a:endCxn id="63" idx="3"/>
          </p:cNvCxnSpPr>
          <p:nvPr/>
        </p:nvCxnSpPr>
        <p:spPr>
          <a:xfrm flipV="1">
            <a:off x="3424320" y="3180960"/>
            <a:ext cx="1419840" cy="183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AutoShape 6"/>
          <p:cNvCxnSpPr>
            <a:stCxn id="63" idx="5"/>
            <a:endCxn id="64" idx="0"/>
          </p:cNvCxnSpPr>
          <p:nvPr/>
        </p:nvCxnSpPr>
        <p:spPr>
          <a:xfrm>
            <a:off x="5644800" y="3180960"/>
            <a:ext cx="13150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AutoShape 7"/>
          <p:cNvCxnSpPr/>
          <p:nvPr/>
        </p:nvCxnSpPr>
        <p:spPr>
          <a:xfrm flipH="1">
            <a:off x="3978000" y="5694480"/>
            <a:ext cx="2426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AutoShape 8"/>
          <p:cNvSpPr/>
          <p:nvPr/>
        </p:nvSpPr>
        <p:spPr>
          <a:xfrm>
            <a:off x="2467080" y="232740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984b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9"/>
          <p:cNvSpPr/>
          <p:nvPr/>
        </p:nvSpPr>
        <p:spPr>
          <a:xfrm>
            <a:off x="2482920" y="2286000"/>
            <a:ext cx="2581200" cy="155520"/>
          </a:xfrm>
          <a:custGeom>
            <a:avLst/>
            <a:gdLst>
              <a:gd name="textAreaLeft" fmla="*/ 0 w 2581200"/>
              <a:gd name="textAreaRight" fmla="*/ 2581560 w 25812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7169" h="434">
                <a:moveTo>
                  <a:pt x="7168" y="433"/>
                </a:moveTo>
                <a:lnTo>
                  <a:pt x="662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7648560" y="4211640"/>
            <a:ext cx="1908360" cy="720720"/>
          </a:xfrm>
          <a:prstGeom prst="roundRect">
            <a:avLst>
              <a:gd name="adj" fmla="val 11741"/>
            </a:avLst>
          </a:prstGeom>
          <a:solidFill>
            <a:srgbClr val="984b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546120" y="499428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984b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533520" y="5761080"/>
            <a:ext cx="2600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3"/>
          <p:cNvSpPr/>
          <p:nvPr/>
        </p:nvSpPr>
        <p:spPr>
          <a:xfrm>
            <a:off x="7104240" y="4989600"/>
            <a:ext cx="2492280" cy="237960"/>
          </a:xfrm>
          <a:custGeom>
            <a:avLst/>
            <a:gdLst>
              <a:gd name="textAreaLeft" fmla="*/ 0 w 2492280"/>
              <a:gd name="textAreaRight" fmla="*/ 2492640 w 24922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6924" h="662">
                <a:moveTo>
                  <a:pt x="0" y="661"/>
                </a:moveTo>
                <a:lnTo>
                  <a:pt x="661" y="0"/>
                </a:lnTo>
                <a:lnTo>
                  <a:pt x="692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1"/>
          <p:cNvSpPr/>
          <p:nvPr/>
        </p:nvSpPr>
        <p:spPr>
          <a:xfrm>
            <a:off x="1179360" y="3357720"/>
            <a:ext cx="1686240" cy="1685880"/>
          </a:xfrm>
          <a:prstGeom prst="ellipse">
            <a:avLst/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"/>
          <p:cNvSpPr/>
          <p:nvPr/>
        </p:nvSpPr>
        <p:spPr>
          <a:xfrm>
            <a:off x="3827520" y="3622680"/>
            <a:ext cx="1168200" cy="1168560"/>
          </a:xfrm>
          <a:prstGeom prst="ellipse">
            <a:avLst/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"/>
          <p:cNvSpPr/>
          <p:nvPr/>
        </p:nvSpPr>
        <p:spPr>
          <a:xfrm>
            <a:off x="3575160" y="5183280"/>
            <a:ext cx="1168200" cy="1168200"/>
          </a:xfrm>
          <a:prstGeom prst="ellipse">
            <a:avLst/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3575160" y="2055960"/>
            <a:ext cx="1168200" cy="1168200"/>
          </a:xfrm>
          <a:prstGeom prst="ellipse">
            <a:avLst/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5180040" y="2057400"/>
            <a:ext cx="3535200" cy="1117440"/>
          </a:xfrm>
          <a:prstGeom prst="roundRect">
            <a:avLst>
              <a:gd name="adj" fmla="val 8153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6"/>
          <p:cNvCxnSpPr>
            <a:stCxn id="76" idx="7"/>
            <a:endCxn id="79" idx="2"/>
          </p:cNvCxnSpPr>
          <p:nvPr/>
        </p:nvCxnSpPr>
        <p:spPr>
          <a:xfrm flipV="1">
            <a:off x="2616120" y="2639160"/>
            <a:ext cx="959760" cy="96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AutoShape 7"/>
          <p:cNvCxnSpPr>
            <a:stCxn id="76" idx="5"/>
            <a:endCxn id="78" idx="2"/>
          </p:cNvCxnSpPr>
          <p:nvPr/>
        </p:nvCxnSpPr>
        <p:spPr>
          <a:xfrm>
            <a:off x="2616120" y="4794120"/>
            <a:ext cx="959760" cy="97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AutoShape 8"/>
          <p:cNvCxnSpPr>
            <a:stCxn id="76" idx="6"/>
            <a:endCxn id="77" idx="2"/>
          </p:cNvCxnSpPr>
          <p:nvPr/>
        </p:nvCxnSpPr>
        <p:spPr>
          <a:xfrm>
            <a:off x="2863440" y="4199040"/>
            <a:ext cx="9644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AutoShape 9"/>
          <p:cNvSpPr/>
          <p:nvPr/>
        </p:nvSpPr>
        <p:spPr>
          <a:xfrm>
            <a:off x="5180040" y="3621240"/>
            <a:ext cx="3535200" cy="1117440"/>
          </a:xfrm>
          <a:prstGeom prst="roundRect">
            <a:avLst>
              <a:gd name="adj" fmla="val 8153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5180040" y="5153040"/>
            <a:ext cx="3535200" cy="1117440"/>
          </a:xfrm>
          <a:prstGeom prst="roundRect">
            <a:avLst>
              <a:gd name="adj" fmla="val 8153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1"/>
          <p:cNvSpPr/>
          <p:nvPr/>
        </p:nvSpPr>
        <p:spPr>
          <a:xfrm>
            <a:off x="2457360" y="208440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"/>
          <p:cNvSpPr/>
          <p:nvPr/>
        </p:nvSpPr>
        <p:spPr>
          <a:xfrm>
            <a:off x="1233360" y="2768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1233360" y="417204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3681360" y="2768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2457360" y="348768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2457360" y="4892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3679920" y="4172040"/>
            <a:ext cx="1517400" cy="1323720"/>
          </a:xfrm>
          <a:prstGeom prst="hexagon">
            <a:avLst>
              <a:gd name="adj" fmla="val 28658"/>
              <a:gd name="vf" fmla="val 115470"/>
            </a:avLst>
          </a:prstGeom>
          <a:noFill/>
          <a:ln w="9360">
            <a:solidFill>
              <a:srgbClr val="984b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6245280" y="3719520"/>
            <a:ext cx="2600280" cy="2216160"/>
          </a:xfrm>
          <a:prstGeom prst="hexagon">
            <a:avLst>
              <a:gd name="adj" fmla="val 29333"/>
              <a:gd name="vf" fmla="val 115470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9"/>
          <p:cNvCxnSpPr>
            <a:stCxn id="93" idx="2"/>
            <a:endCxn id="94" idx="2"/>
          </p:cNvCxnSpPr>
          <p:nvPr/>
        </p:nvCxnSpPr>
        <p:spPr>
          <a:xfrm>
            <a:off x="4427280" y="4822560"/>
            <a:ext cx="18198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Text Box 10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17600" y="7178760"/>
            <a:ext cx="582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1"/>
          <p:cNvSpPr/>
          <p:nvPr/>
        </p:nvSpPr>
        <p:spPr>
          <a:xfrm>
            <a:off x="3882960" y="4173480"/>
            <a:ext cx="2400480" cy="2401920"/>
          </a:xfrm>
          <a:prstGeom prst="ellipse">
            <a:avLst/>
          </a:prstGeom>
          <a:solidFill>
            <a:srgbClr val="97979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"/>
          <p:cNvSpPr/>
          <p:nvPr/>
        </p:nvSpPr>
        <p:spPr>
          <a:xfrm>
            <a:off x="7369200" y="44560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901800" y="25732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879480" y="48592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2968560" y="2700360"/>
            <a:ext cx="2401920" cy="2401920"/>
          </a:xfrm>
          <a:prstGeom prst="ellipse">
            <a:avLst/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 flipH="1">
            <a:off x="871560" y="4808520"/>
            <a:ext cx="3633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4856040" y="2698920"/>
            <a:ext cx="2401920" cy="2401560"/>
          </a:xfrm>
          <a:prstGeom prst="ellipse">
            <a:avLst/>
          </a:prstGeom>
          <a:solidFill>
            <a:srgbClr val="4d357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8"/>
          <p:cNvSpPr/>
          <p:nvPr/>
        </p:nvSpPr>
        <p:spPr>
          <a:xfrm>
            <a:off x="5738760" y="4686480"/>
            <a:ext cx="3618000" cy="733320"/>
          </a:xfrm>
          <a:custGeom>
            <a:avLst/>
            <a:gdLst>
              <a:gd name="textAreaLeft" fmla="*/ 0 w 3618000"/>
              <a:gd name="textAreaRight" fmla="*/ 3618360 w 361800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w="10050" h="2036">
                <a:moveTo>
                  <a:pt x="0" y="0"/>
                </a:moveTo>
                <a:lnTo>
                  <a:pt x="2699" y="2035"/>
                </a:lnTo>
                <a:lnTo>
                  <a:pt x="10049" y="20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9"/>
          <p:cNvSpPr/>
          <p:nvPr/>
        </p:nvSpPr>
        <p:spPr>
          <a:xfrm>
            <a:off x="905040" y="2517840"/>
            <a:ext cx="4174920" cy="1166760"/>
          </a:xfrm>
          <a:custGeom>
            <a:avLst/>
            <a:gdLst>
              <a:gd name="textAreaLeft" fmla="*/ 0 w 4174920"/>
              <a:gd name="textAreaRight" fmla="*/ 4175280 w 4174920"/>
              <a:gd name="textAreaTop" fmla="*/ 0 h 1166760"/>
              <a:gd name="textAreaBottom" fmla="*/ 1166760 h 1166760"/>
            </a:gdLst>
            <a:ahLst/>
            <a:rect l="textAreaLeft" t="textAreaTop" r="textAreaRight" b="textAreaBottom"/>
            <a:pathLst>
              <a:path w="11596" h="3239">
                <a:moveTo>
                  <a:pt x="11595" y="3238"/>
                </a:moveTo>
                <a:lnTo>
                  <a:pt x="910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1"/>
          <p:cNvSpPr/>
          <p:nvPr/>
        </p:nvSpPr>
        <p:spPr>
          <a:xfrm>
            <a:off x="4233960" y="2111400"/>
            <a:ext cx="4682880" cy="1111320"/>
          </a:xfrm>
          <a:prstGeom prst="pie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"/>
          <p:cNvSpPr/>
          <p:nvPr/>
        </p:nvSpPr>
        <p:spPr>
          <a:xfrm flipV="1">
            <a:off x="1030320" y="5295240"/>
            <a:ext cx="4683240" cy="1111320"/>
          </a:xfrm>
          <a:custGeom>
            <a:avLst/>
            <a:gdLst>
              <a:gd name="textAreaLeft" fmla="*/ 707760 w 4683240"/>
              <a:gd name="textAreaRight" fmla="*/ 3975480 w 4683240"/>
              <a:gd name="textAreaTop" fmla="*/ 167760 h 1111320"/>
              <a:gd name="textAreaBottom" fmla="*/ 94356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930" y="21600"/>
                </a:lnTo>
                <a:lnTo>
                  <a:pt x="186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4900680" y="3308400"/>
            <a:ext cx="3370320" cy="1079280"/>
          </a:xfrm>
          <a:prstGeom prst="pie">
            <a:avLst/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 flipV="1">
            <a:off x="1697040" y="4132440"/>
            <a:ext cx="3370320" cy="1079280"/>
          </a:xfrm>
          <a:custGeom>
            <a:avLst/>
            <a:gdLst>
              <a:gd name="textAreaLeft" fmla="*/ 576720 w 3370320"/>
              <a:gd name="textAreaRight" fmla="*/ 2793600 w 3370320"/>
              <a:gd name="textAreaTop" fmla="*/ 184680 h 1079280"/>
              <a:gd name="textAreaBottom" fmla="*/ 8946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1" y="21600"/>
                </a:lnTo>
                <a:lnTo>
                  <a:pt x="1780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658960" y="451152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 flipV="1">
            <a:off x="5527800" y="448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2324160" y="214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658960" y="569916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5899320" y="4979880"/>
            <a:ext cx="14731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2687760" y="3421080"/>
            <a:ext cx="13683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1"/>
          <p:cNvGraphicFramePr/>
          <p:nvPr/>
        </p:nvGraphicFramePr>
        <p:xfrm>
          <a:off x="684360" y="2173320"/>
          <a:ext cx="8103960" cy="46782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120" name="AutoShape 2"/>
          <p:cNvCxnSpPr>
            <a:endCxn id="121" idx="1"/>
          </p:cNvCxnSpPr>
          <p:nvPr/>
        </p:nvCxnSpPr>
        <p:spPr>
          <a:xfrm flipV="1">
            <a:off x="5033520" y="2088360"/>
            <a:ext cx="11880" cy="2148840"/>
          </a:xfrm>
          <a:prstGeom prst="straightConnector1">
            <a:avLst/>
          </a:prstGeom>
          <a:ln w="43200">
            <a:solidFill>
              <a:srgbClr val="4d3574"/>
            </a:solidFill>
            <a:miter/>
            <a:tailEnd len="med" type="triangle" w="med"/>
          </a:ln>
        </p:spPr>
      </p:cxnSp>
      <p:sp>
        <p:nvSpPr>
          <p:cNvPr id="121" name="Text Box 3"/>
          <p:cNvSpPr/>
          <p:nvPr/>
        </p:nvSpPr>
        <p:spPr>
          <a:xfrm>
            <a:off x="5767920" y="1913040"/>
            <a:ext cx="1694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7f7e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 rot="16140000">
            <a:off x="8527680" y="4438080"/>
            <a:ext cx="11592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848382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AutoShape 5"/>
          <p:cNvCxnSpPr>
            <a:stCxn id="122" idx="0"/>
            <a:endCxn id="122" idx="0"/>
          </p:cNvCxnSpPr>
          <p:nvPr/>
        </p:nvCxnSpPr>
        <p:spPr>
          <a:xfrm>
            <a:off x="8926560" y="462132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" name="AutoShape 6"/>
          <p:cNvCxnSpPr>
            <a:endCxn id="122" idx="0"/>
          </p:cNvCxnSpPr>
          <p:nvPr/>
        </p:nvCxnSpPr>
        <p:spPr>
          <a:xfrm>
            <a:off x="8788320" y="4511160"/>
            <a:ext cx="138960" cy="110520"/>
          </a:xfrm>
          <a:prstGeom prst="straightConnector1">
            <a:avLst/>
          </a:prstGeom>
          <a:ln w="0">
            <a:noFill/>
          </a:ln>
        </p:spPr>
      </p:cxnSp>
      <p:sp>
        <p:nvSpPr>
          <p:cNvPr id="125" name="Text Box 7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5:59:39Z</dcterms:created>
  <dc:creator>User</dc:creator>
  <dc:description>A glass ball lying on a &lt;a href="http://templates.redoffice.com/template/cateShow.php?class=mb&amp;categoryid=117&amp;sid=5809"&gt;finacial&lt;/a&gt; report. Nice template for presentations on finance, global finance, investment, commercial, etc.&lt;a href="http://templates.redoffice.com/template/cateShow.php?class=mb&amp;categoryid=117&amp;sid=5809"&gt;more about Finance Impress Templates&lt;/a&gt;.</dc:description>
  <cp:keywords>presentation background Presentation RedOfficeTemplates Purple Earth Report Finance Redoffice Templates Redoffice.com</cp:keywords>
  <dc:language>en-US</dc:language>
  <cp:lastModifiedBy>a</cp:lastModifiedBy>
  <dcterms:modified xsi:type="dcterms:W3CDTF">2015-07-24T09:11:06Z</dcterms:modified>
  <cp:revision>9</cp:revision>
  <dc:subject>&lt;a href="http://templates.redoffice.com/template/cateShow.php?class=mb&amp;categoryid=117&amp;sid=5809"&gt;Finance&lt;/a&gt;</dc:subject>
  <dc:title>Glob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icense">
    <vt:lpwstr>&lt;a href="http://templates.services.openoffice.org/bsd-license"&gt;BSD&lt;/a&gt;</vt:lpwstr>
  </property>
</Properties>
</file>