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3.png" ContentType="image/png"/>
  <Override PartName="/ppt/media/hdphoto3.wdp" ContentType="image/vnd.ms-photo"/>
  <Override PartName="/ppt/media/image17.jpeg" ContentType="image/jpeg"/>
  <Override PartName="/ppt/media/image3.png" ContentType="image/png"/>
  <Override PartName="/ppt/media/hdphoto9.wdp" ContentType="image/vnd.ms-photo"/>
  <Override PartName="/ppt/media/image19.png" ContentType="image/png"/>
  <Override PartName="/ppt/media/hdphoto4.wdp" ContentType="image/vnd.ms-photo"/>
  <Override PartName="/ppt/media/image21.png" ContentType="image/png"/>
  <Override PartName="/ppt/media/image5.png" ContentType="image/png"/>
  <Override PartName="/ppt/media/image7.png" ContentType="image/png"/>
  <Override PartName="/ppt/media/hdphoto5.wdp" ContentType="image/vnd.ms-photo"/>
  <Override PartName="/ppt/media/image4.png" ContentType="image/png"/>
  <Override PartName="/ppt/media/image6.png" ContentType="image/png"/>
  <Override PartName="/ppt/media/image23.png" ContentType="image/png"/>
  <Override PartName="/ppt/media/hdphoto6.wdp" ContentType="image/vnd.ms-photo"/>
  <Override PartName="/ppt/media/hdphoto10.wdp" ContentType="image/vnd.ms-photo"/>
  <Override PartName="/ppt/media/image10.png" ContentType="image/png"/>
  <Override PartName="/ppt/media/image20.png" ContentType="image/png"/>
  <Override PartName="/ppt/media/image2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.png" ContentType="image/png"/>
  <Override PartName="/ppt/media/hdphoto7.wdp" ContentType="image/vnd.ms-photo"/>
  <Override PartName="/ppt/media/image22.jpeg" ContentType="image/jpeg"/>
  <Override PartName="/ppt/media/image9.png" ContentType="image/png"/>
  <Override PartName="/ppt/media/hdphoto1.wdp" ContentType="image/vnd.ms-photo"/>
  <Override PartName="/ppt/media/image11.png" ContentType="image/png"/>
  <Override PartName="/ppt/media/image18.png" ContentType="image/png"/>
  <Override PartName="/ppt/media/hdphoto8.wdp" ContentType="image/vnd.ms-photo"/>
  <Override PartName="/ppt/media/image12.png" ContentType="image/png"/>
  <Override PartName="/ppt/media/hdphoto2.wdp" ContentType="image/vnd.ms-photo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795DD8-26A0-4C92-B465-8FDB4C9B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0C734B-C456-4B9E-877F-B868905E58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E2489-CCC9-4299-809D-451754DDC5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C7F-ABA5-45C8-8AC7-3DF7D52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AA9-92E3-4A5C-BF0E-EEE5ED7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7A4-E27D-40C7-96CD-6CFADB7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5AC-1651-41E5-A77B-467C868C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631-7A37-4D69-A827-FF8BAB1E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0417-2AB0-403D-876C-F50AD697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31AA-B042-4A61-BC1A-56D1FD44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444-4FBB-4CBB-84CE-618EE607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E7FC-27FC-431E-849F-D3E2A8E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72C1-D5EA-4264-B74C-3EAC62A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3BD5-EE91-4759-B8EF-9265CB5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D1C-D6FF-4050-890B-8E7B76A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39EE-0BA5-446B-848F-75D1040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EE0E-AEB7-4721-84FC-650AFA3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94B6-733F-4735-8F68-448CA431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62E-8E39-430A-B81F-13D8FDA2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245-2DD2-4DA9-96E6-4808F21A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450-1EAE-4464-88CD-E66ABB7E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1A3-CA68-4C2E-9D2C-B64F833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FCF-7374-4EFD-AC49-74A02805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FD2-FAEC-4096-A7CB-CCF6AC7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7FB-222E-426D-B1EF-91643FC4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385-A272-434A-BDE6-64B8053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270-946E-4ADA-9A4A-898849A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5BA861-3E57-4077-9EA0-CD8C2C7373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F3C9F7-59CD-4D9B-B09B-35B22CB10D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microsoft.com/office/2007/relationships/hdphoto" Target="../media/hdphoto10.wdp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4.wdp"/><Relationship Id="rId3" Type="http://schemas.openxmlformats.org/officeDocument/2006/relationships/image" Target="../media/image7.png"/><Relationship Id="rId4" Type="http://schemas.microsoft.com/office/2007/relationships/hdphoto" Target="../media/hdphoto5.wdp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microsoft.com/office/2007/relationships/hdphoto" Target="../media/hdphoto6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microsoft.com/office/2007/relationships/hdphoto" Target="../media/hdphoto7.wdp"/><Relationship Id="rId3" Type="http://schemas.openxmlformats.org/officeDocument/2006/relationships/image" Target="../media/image11.png"/><Relationship Id="rId4" Type="http://schemas.microsoft.com/office/2007/relationships/hdphoto" Target="../media/hdphoto8.wdp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9.wdp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lorTemp="7200" contrast="-40000"/>
                    </a14:imgEffect>
                  </a14:imgLayer>
                </a14:imgProps>
              </a:ext>
            </a:extLst>
          </a:blip>
          <a:stretch/>
        </p:blipFill>
        <p:spPr>
          <a:xfrm rot="20665200">
            <a:off x="589680" y="1988640"/>
            <a:ext cx="5294160" cy="5294160"/>
          </a:xfrm>
          <a:prstGeom prst="rect">
            <a:avLst/>
          </a:prstGeom>
          <a:ln w="0">
            <a:noFill/>
          </a:ln>
          <a:effectLst>
            <a:softEdge rad="12600"/>
          </a:effectLst>
        </p:spPr>
      </p:pic>
      <p:sp>
        <p:nvSpPr>
          <p:cNvPr id="89" name="文本框 1"/>
          <p:cNvSpPr/>
          <p:nvPr/>
        </p:nvSpPr>
        <p:spPr>
          <a:xfrm rot="21065400">
            <a:off x="5167080" y="2031120"/>
            <a:ext cx="848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职业转型的颠覆性路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连接符 9"/>
          <p:cNvCxnSpPr/>
          <p:nvPr/>
        </p:nvCxnSpPr>
        <p:spPr>
          <a:xfrm flipV="1">
            <a:off x="5184360" y="1528200"/>
            <a:ext cx="7092000" cy="116064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91" name="文本框 3"/>
          <p:cNvSpPr/>
          <p:nvPr/>
        </p:nvSpPr>
        <p:spPr>
          <a:xfrm rot="21049800">
            <a:off x="4881240" y="412560"/>
            <a:ext cx="68734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11500" spc="-1" strike="noStrike">
                <a:solidFill>
                  <a:srgbClr val="404040"/>
                </a:solidFill>
                <a:latin typeface="MStiffHeiHK-UltraBold"/>
                <a:ea typeface="MStiffHeiHK-UltraBold"/>
              </a:rPr>
              <a:t>先做后想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角三角形 16"/>
          <p:cNvSpPr/>
          <p:nvPr/>
        </p:nvSpPr>
        <p:spPr>
          <a:xfrm>
            <a:off x="-15120" y="4366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直角三角形 17"/>
          <p:cNvSpPr/>
          <p:nvPr/>
        </p:nvSpPr>
        <p:spPr>
          <a:xfrm>
            <a:off x="-15120" y="13258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直角三角形 18"/>
          <p:cNvSpPr/>
          <p:nvPr/>
        </p:nvSpPr>
        <p:spPr>
          <a:xfrm rot="16200000">
            <a:off x="8474040" y="31402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直角三角形 19"/>
          <p:cNvSpPr/>
          <p:nvPr/>
        </p:nvSpPr>
        <p:spPr>
          <a:xfrm rot="16200000">
            <a:off x="8988840" y="36550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任意多边形 22"/>
          <p:cNvSpPr/>
          <p:nvPr/>
        </p:nvSpPr>
        <p:spPr>
          <a:xfrm flipV="1" rot="10066200">
            <a:off x="7643880" y="4366800"/>
            <a:ext cx="4799160" cy="712800"/>
          </a:xfrm>
          <a:custGeom>
            <a:avLst/>
            <a:gdLst>
              <a:gd name="textAreaLeft" fmla="*/ 0 w 4799160"/>
              <a:gd name="textAreaRight" fmla="*/ 4799520 w 479916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9cff"/>
              </a:solidFill>
              <a:latin typeface="Calibri"/>
            </a:endParaRPr>
          </a:p>
        </p:txBody>
      </p:sp>
      <p:sp>
        <p:nvSpPr>
          <p:cNvPr id="97" name="矩形 13"/>
          <p:cNvSpPr/>
          <p:nvPr/>
        </p:nvSpPr>
        <p:spPr>
          <a:xfrm rot="21038400">
            <a:off x="8425440" y="4523400"/>
            <a:ext cx="3509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改编：</a:t>
            </a:r>
            <a:r>
              <a:rPr b="0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小巴</a:t>
            </a:r>
            <a:r>
              <a:rPr b="0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_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 rot="21127800">
            <a:off x="8061120" y="3927240"/>
            <a:ext cx="423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595959"/>
                </a:solidFill>
                <a:latin typeface="方正粗宋简体"/>
                <a:ea typeface="方正粗宋简体"/>
              </a:rPr>
              <a:t>作者</a:t>
            </a:r>
            <a:r>
              <a:rPr b="0" lang="en-US" sz="2800" spc="-1" strike="noStrike">
                <a:solidFill>
                  <a:srgbClr val="595959"/>
                </a:solidFill>
                <a:latin typeface="方正粗宋简体"/>
                <a:ea typeface="方正粗宋简体"/>
              </a:rPr>
              <a:t>: </a:t>
            </a:r>
            <a:r>
              <a:rPr b="0" lang="zh-CN" sz="2800" spc="-1" strike="noStrike">
                <a:solidFill>
                  <a:srgbClr val="595959"/>
                </a:solidFill>
                <a:latin typeface="方正粗宋简体"/>
                <a:ea typeface="方正粗宋简体"/>
              </a:rPr>
              <a:t>埃米尼亚</a:t>
            </a:r>
            <a:r>
              <a:rPr b="0" lang="ja-JP" sz="2800" spc="-1" strike="noStrike">
                <a:solidFill>
                  <a:srgbClr val="595959"/>
                </a:solidFill>
                <a:latin typeface="方正粗宋简体"/>
                <a:ea typeface="方正粗宋简体"/>
              </a:rPr>
              <a:t>・</a:t>
            </a:r>
            <a:r>
              <a:rPr b="0" lang="zh-CN" sz="2800" spc="-1" strike="noStrike">
                <a:solidFill>
                  <a:srgbClr val="595959"/>
                </a:solidFill>
                <a:latin typeface="方正粗宋简体"/>
                <a:ea typeface="方正粗宋简体"/>
              </a:rPr>
              <a:t>伊巴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 rot="20855400">
            <a:off x="8038080" y="5157720"/>
            <a:ext cx="3722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指导老师</a:t>
            </a:r>
            <a:r>
              <a:rPr b="0" lang="en-US" sz="2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: </a:t>
            </a:r>
            <a:r>
              <a:rPr b="0" lang="zh-CN" sz="2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智慧云</a:t>
            </a:r>
            <a:r>
              <a:rPr b="0" lang="en-US" sz="2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CEO</a:t>
            </a:r>
            <a:r>
              <a:rPr b="0" lang="zh-CN" sz="2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陈雪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5"/>
          <p:cNvSpPr/>
          <p:nvPr/>
        </p:nvSpPr>
        <p:spPr>
          <a:xfrm rot="21019800">
            <a:off x="1310040" y="291600"/>
            <a:ext cx="8488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ae082c"/>
                </a:solidFill>
                <a:latin typeface="冬青黑体简体中文 W3"/>
                <a:ea typeface="冬青黑体简体中文 W3"/>
              </a:rPr>
              <a:t>哈佛商业评论经典解读系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3"/>
          <a:stretch/>
        </p:blipFill>
        <p:spPr>
          <a:xfrm rot="21025200">
            <a:off x="260280" y="522720"/>
            <a:ext cx="1130040" cy="1091520"/>
          </a:xfrm>
          <a:prstGeom prst="rect">
            <a:avLst/>
          </a:prstGeom>
          <a:ln w="0">
            <a:noFill/>
          </a:ln>
        </p:spPr>
      </p:pic>
      <p:sp>
        <p:nvSpPr>
          <p:cNvPr id="10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等腰三角形 5"/>
          <p:cNvSpPr/>
          <p:nvPr/>
        </p:nvSpPr>
        <p:spPr>
          <a:xfrm rot="541200">
            <a:off x="930960" y="1131840"/>
            <a:ext cx="2820960" cy="16624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梯形 6"/>
          <p:cNvSpPr/>
          <p:nvPr/>
        </p:nvSpPr>
        <p:spPr>
          <a:xfrm rot="10800000">
            <a:off x="2470680" y="1132560"/>
            <a:ext cx="9721440" cy="3745800"/>
          </a:xfrm>
          <a:prstGeom prst="trapezoid">
            <a:avLst>
              <a:gd name="adj" fmla="val 11550"/>
            </a:avLst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等腰三角形 4"/>
          <p:cNvSpPr/>
          <p:nvPr/>
        </p:nvSpPr>
        <p:spPr>
          <a:xfrm rot="10800000">
            <a:off x="-1844280" y="4879080"/>
            <a:ext cx="9721440" cy="10692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 rot="21108600">
            <a:off x="-281160" y="2013480"/>
            <a:ext cx="3132360" cy="4191120"/>
          </a:xfrm>
          <a:prstGeom prst="rect">
            <a:avLst/>
          </a:prstGeom>
          <a:ln w="0">
            <a:noFill/>
          </a:ln>
        </p:spPr>
      </p:pic>
      <p:sp>
        <p:nvSpPr>
          <p:cNvPr id="179" name="矩形 7"/>
          <p:cNvSpPr/>
          <p:nvPr/>
        </p:nvSpPr>
        <p:spPr>
          <a:xfrm>
            <a:off x="8975880" y="1287000"/>
            <a:ext cx="97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、咨询信任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8"/>
          <p:cNvCxnSpPr/>
          <p:nvPr/>
        </p:nvCxnSpPr>
        <p:spPr>
          <a:xfrm>
            <a:off x="6868080" y="2117880"/>
            <a:ext cx="5040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181" name="矩形 9"/>
          <p:cNvSpPr/>
          <p:nvPr/>
        </p:nvSpPr>
        <p:spPr>
          <a:xfrm>
            <a:off x="4676040" y="2118240"/>
            <a:ext cx="5679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家人</a:t>
            </a:r>
            <a:r>
              <a:rPr b="0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&amp;</a:t>
            </a: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同事：</a:t>
            </a: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你现在不挺好的，你真的希望冒险丢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猎头：</a:t>
            </a: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试试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xx</a:t>
            </a: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公司的这个职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自己：</a:t>
            </a: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想做不一样的工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8781480" y="397332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谁才是对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等腰三角形 4"/>
          <p:cNvSpPr/>
          <p:nvPr/>
        </p:nvSpPr>
        <p:spPr>
          <a:xfrm rot="10800000">
            <a:off x="4328640" y="4868640"/>
            <a:ext cx="9721440" cy="10692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等腰三角形 5"/>
          <p:cNvSpPr/>
          <p:nvPr/>
        </p:nvSpPr>
        <p:spPr>
          <a:xfrm rot="20511600">
            <a:off x="8518320" y="997920"/>
            <a:ext cx="2887920" cy="14432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梯形 6"/>
          <p:cNvSpPr/>
          <p:nvPr/>
        </p:nvSpPr>
        <p:spPr>
          <a:xfrm rot="10800000">
            <a:off x="360" y="1040040"/>
            <a:ext cx="9785160" cy="3865320"/>
          </a:xfrm>
          <a:prstGeom prst="trapezoid">
            <a:avLst>
              <a:gd name="adj" fmla="val 11550"/>
            </a:avLst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1"/>
          <a:stretch/>
        </p:blipFill>
        <p:spPr>
          <a:xfrm rot="414000">
            <a:off x="9451080" y="1600200"/>
            <a:ext cx="3025440" cy="4542840"/>
          </a:xfrm>
          <a:prstGeom prst="rect">
            <a:avLst/>
          </a:prstGeom>
          <a:ln w="0">
            <a:noFill/>
          </a:ln>
        </p:spPr>
      </p:pic>
      <p:cxnSp>
        <p:nvCxnSpPr>
          <p:cNvPr id="187" name="直接连接符 7"/>
          <p:cNvCxnSpPr/>
          <p:nvPr/>
        </p:nvCxnSpPr>
        <p:spPr>
          <a:xfrm>
            <a:off x="191880" y="2014200"/>
            <a:ext cx="4968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188" name="矩形 8"/>
          <p:cNvSpPr/>
          <p:nvPr/>
        </p:nvSpPr>
        <p:spPr>
          <a:xfrm>
            <a:off x="2436120" y="1183680"/>
            <a:ext cx="97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、设立远大目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246600" y="2298600"/>
            <a:ext cx="91836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生活中的拖延、公司政治，工作压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辞职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一步到位的壮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5911920" y="3836160"/>
            <a:ext cx="79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想一步到位却回归原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5" descr=""/>
          <p:cNvPicPr/>
          <p:nvPr/>
        </p:nvPicPr>
        <p:blipFill>
          <a:blip r:embed="rId1"/>
          <a:stretch/>
        </p:blipFill>
        <p:spPr>
          <a:xfrm>
            <a:off x="8520840" y="1883520"/>
            <a:ext cx="3670920" cy="3670920"/>
          </a:xfrm>
          <a:prstGeom prst="rect">
            <a:avLst/>
          </a:prstGeom>
          <a:ln w="0">
            <a:noFill/>
          </a:ln>
        </p:spPr>
      </p:pic>
      <p:sp>
        <p:nvSpPr>
          <p:cNvPr id="192" name="矩形 6"/>
          <p:cNvSpPr/>
          <p:nvPr/>
        </p:nvSpPr>
        <p:spPr>
          <a:xfrm>
            <a:off x="0" y="1883520"/>
            <a:ext cx="8643240" cy="3670920"/>
          </a:xfrm>
          <a:prstGeom prst="rect">
            <a:avLst/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110160" y="2022480"/>
            <a:ext cx="876168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不是</a:t>
            </a: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不清楚自己不喜欢什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9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而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找不到自己真正想要做的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7" descr=""/>
          <p:cNvPicPr/>
          <p:nvPr/>
        </p:nvPicPr>
        <p:blipFill>
          <a:blip r:embed="rId2"/>
          <a:stretch/>
        </p:blipFill>
        <p:spPr>
          <a:xfrm>
            <a:off x="546840" y="3465360"/>
            <a:ext cx="58572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6"/>
          <p:cNvSpPr/>
          <p:nvPr/>
        </p:nvSpPr>
        <p:spPr>
          <a:xfrm>
            <a:off x="3548520" y="1828800"/>
            <a:ext cx="8643240" cy="3741120"/>
          </a:xfrm>
          <a:prstGeom prst="rect">
            <a:avLst/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9"/>
          <p:cNvSpPr/>
          <p:nvPr/>
        </p:nvSpPr>
        <p:spPr>
          <a:xfrm>
            <a:off x="3634920" y="1559520"/>
            <a:ext cx="1419480" cy="148680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1486800"/>
              <a:gd name="textAreaBottom" fmla="*/ 1487160 h 148680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图片 5" descr=""/>
          <p:cNvPicPr/>
          <p:nvPr/>
        </p:nvPicPr>
        <p:blipFill>
          <a:blip r:embed="rId1"/>
          <a:stretch/>
        </p:blipFill>
        <p:spPr>
          <a:xfrm>
            <a:off x="192960" y="423360"/>
            <a:ext cx="3024360" cy="4241160"/>
          </a:xfrm>
          <a:prstGeom prst="rect">
            <a:avLst/>
          </a:prstGeom>
          <a:ln w="0">
            <a:noFill/>
          </a:ln>
        </p:spPr>
      </p:pic>
      <p:sp>
        <p:nvSpPr>
          <p:cNvPr id="198" name="矩形 7"/>
          <p:cNvSpPr/>
          <p:nvPr/>
        </p:nvSpPr>
        <p:spPr>
          <a:xfrm>
            <a:off x="6480" y="4672800"/>
            <a:ext cx="3541320" cy="89712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文本框 8"/>
          <p:cNvSpPr/>
          <p:nvPr/>
        </p:nvSpPr>
        <p:spPr>
          <a:xfrm>
            <a:off x="-223920" y="4779000"/>
            <a:ext cx="3858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多重自我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5753160" y="3046680"/>
            <a:ext cx="4728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每个人都有多个不同自我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寻找真我是在不断实践中获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 rot="10800000">
            <a:off x="11332080" y="4839840"/>
            <a:ext cx="649800" cy="708840"/>
          </a:xfrm>
          <a:custGeom>
            <a:avLst/>
            <a:gdLst>
              <a:gd name="textAreaLeft" fmla="*/ 0 w 649800"/>
              <a:gd name="textAreaRight" fmla="*/ 650160 w 649800"/>
              <a:gd name="textAreaTop" fmla="*/ 0 h 708840"/>
              <a:gd name="textAreaBottom" fmla="*/ 709200 h 70884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矩形 12"/>
          <p:cNvSpPr/>
          <p:nvPr/>
        </p:nvSpPr>
        <p:spPr>
          <a:xfrm>
            <a:off x="8800920" y="4535640"/>
            <a:ext cx="226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黑兹尔</a:t>
            </a:r>
            <a:r>
              <a:rPr b="0" lang="ja-JP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马库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3"/>
          <p:cNvSpPr/>
          <p:nvPr/>
        </p:nvSpPr>
        <p:spPr>
          <a:xfrm>
            <a:off x="9388080" y="4903200"/>
            <a:ext cx="1552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斯坦福认知心理学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 rot="20874000">
            <a:off x="1627560" y="551160"/>
            <a:ext cx="4295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职业转型的全新路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7"/>
          <p:cNvGrpSpPr/>
          <p:nvPr/>
        </p:nvGrpSpPr>
        <p:grpSpPr>
          <a:xfrm>
            <a:off x="1888920" y="3647520"/>
            <a:ext cx="2713320" cy="2879640"/>
            <a:chOff x="1888920" y="3647520"/>
            <a:chExt cx="2713320" cy="2879640"/>
          </a:xfrm>
        </p:grpSpPr>
        <p:grpSp>
          <p:nvGrpSpPr>
            <p:cNvPr id="206" name="组合 8"/>
            <p:cNvGrpSpPr/>
            <p:nvPr/>
          </p:nvGrpSpPr>
          <p:grpSpPr>
            <a:xfrm>
              <a:off x="1888920" y="3647520"/>
              <a:ext cx="2713320" cy="2879640"/>
              <a:chOff x="1888920" y="3647520"/>
              <a:chExt cx="2713320" cy="2879640"/>
            </a:xfrm>
          </p:grpSpPr>
          <p:sp>
            <p:nvSpPr>
              <p:cNvPr id="207" name="矩形 6"/>
              <p:cNvSpPr/>
              <p:nvPr/>
            </p:nvSpPr>
            <p:spPr>
              <a:xfrm>
                <a:off x="2446200" y="3647520"/>
                <a:ext cx="2156040" cy="2156040"/>
              </a:xfrm>
              <a:prstGeom prst="rect">
                <a:avLst/>
              </a:prstGeom>
              <a:noFill/>
              <a:ln w="28575">
                <a:solidFill>
                  <a:srgbClr val="009cff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08" name="图片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888920" y="4358160"/>
                <a:ext cx="2117160" cy="2169000"/>
              </a:xfrm>
              <a:prstGeom prst="rect">
                <a:avLst/>
              </a:prstGeom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</p:pic>
          <p:sp>
            <p:nvSpPr>
              <p:cNvPr id="209" name="矩形 7"/>
              <p:cNvSpPr/>
              <p:nvPr/>
            </p:nvSpPr>
            <p:spPr>
              <a:xfrm>
                <a:off x="2865960" y="3685680"/>
                <a:ext cx="12783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009cff"/>
                    </a:solidFill>
                    <a:latin typeface="方正粗宋简体"/>
                    <a:ea typeface="方正粗宋简体"/>
                  </a:rPr>
                  <a:t>精心实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矩形 18"/>
            <p:cNvSpPr/>
            <p:nvPr/>
          </p:nvSpPr>
          <p:spPr>
            <a:xfrm>
              <a:off x="4118760" y="435816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矩形 19"/>
            <p:cNvSpPr/>
            <p:nvPr/>
          </p:nvSpPr>
          <p:spPr>
            <a:xfrm>
              <a:off x="4118760" y="484632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20"/>
            <p:cNvSpPr/>
            <p:nvPr/>
          </p:nvSpPr>
          <p:spPr>
            <a:xfrm>
              <a:off x="4118760" y="533448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3" name="组合 29"/>
          <p:cNvGrpSpPr/>
          <p:nvPr/>
        </p:nvGrpSpPr>
        <p:grpSpPr>
          <a:xfrm>
            <a:off x="5358600" y="2597400"/>
            <a:ext cx="2752560" cy="2918160"/>
            <a:chOff x="5358600" y="2597400"/>
            <a:chExt cx="2752560" cy="2918160"/>
          </a:xfrm>
        </p:grpSpPr>
        <p:grpSp>
          <p:nvGrpSpPr>
            <p:cNvPr id="214" name="组合 17"/>
            <p:cNvGrpSpPr/>
            <p:nvPr/>
          </p:nvGrpSpPr>
          <p:grpSpPr>
            <a:xfrm>
              <a:off x="5358600" y="2597400"/>
              <a:ext cx="2752560" cy="2918160"/>
              <a:chOff x="5358600" y="2597400"/>
              <a:chExt cx="2752560" cy="2918160"/>
            </a:xfrm>
          </p:grpSpPr>
          <p:sp>
            <p:nvSpPr>
              <p:cNvPr id="215" name="矩形 11"/>
              <p:cNvSpPr/>
              <p:nvPr/>
            </p:nvSpPr>
            <p:spPr>
              <a:xfrm>
                <a:off x="5955120" y="2597400"/>
                <a:ext cx="2156040" cy="2156040"/>
              </a:xfrm>
              <a:prstGeom prst="rect">
                <a:avLst/>
              </a:prstGeom>
              <a:noFill/>
              <a:ln w="28575">
                <a:solidFill>
                  <a:srgbClr val="009cff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" name="矩形 12"/>
              <p:cNvSpPr/>
              <p:nvPr/>
            </p:nvSpPr>
            <p:spPr>
              <a:xfrm>
                <a:off x="6393960" y="2627640"/>
                <a:ext cx="12783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009cff"/>
                    </a:solidFill>
                    <a:latin typeface="方正粗宋简体"/>
                    <a:ea typeface="方正粗宋简体"/>
                  </a:rPr>
                  <a:t>社交转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58600" y="3320280"/>
                <a:ext cx="2060280" cy="2195280"/>
              </a:xfrm>
              <a:prstGeom prst="rect">
                <a:avLst/>
              </a:prstGeom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</p:pic>
        </p:grpSp>
        <p:sp>
          <p:nvSpPr>
            <p:cNvPr id="218" name="矩形 21"/>
            <p:cNvSpPr/>
            <p:nvPr/>
          </p:nvSpPr>
          <p:spPr>
            <a:xfrm>
              <a:off x="7644600" y="331200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矩形 22"/>
            <p:cNvSpPr/>
            <p:nvPr/>
          </p:nvSpPr>
          <p:spPr>
            <a:xfrm>
              <a:off x="7644600" y="380016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矩形 23"/>
            <p:cNvSpPr/>
            <p:nvPr/>
          </p:nvSpPr>
          <p:spPr>
            <a:xfrm>
              <a:off x="7644600" y="428832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1" name="组合 31"/>
          <p:cNvGrpSpPr/>
          <p:nvPr/>
        </p:nvGrpSpPr>
        <p:grpSpPr>
          <a:xfrm>
            <a:off x="8787960" y="1761840"/>
            <a:ext cx="2912040" cy="2891880"/>
            <a:chOff x="8787960" y="1761840"/>
            <a:chExt cx="2912040" cy="2891880"/>
          </a:xfrm>
        </p:grpSpPr>
        <p:grpSp>
          <p:nvGrpSpPr>
            <p:cNvPr id="222" name="组合 15"/>
            <p:cNvGrpSpPr/>
            <p:nvPr/>
          </p:nvGrpSpPr>
          <p:grpSpPr>
            <a:xfrm>
              <a:off x="8787960" y="1761840"/>
              <a:ext cx="2912040" cy="2891880"/>
              <a:chOff x="8787960" y="1761840"/>
              <a:chExt cx="2912040" cy="2891880"/>
            </a:xfrm>
          </p:grpSpPr>
          <p:sp>
            <p:nvSpPr>
              <p:cNvPr id="223" name="矩形 13"/>
              <p:cNvSpPr/>
              <p:nvPr/>
            </p:nvSpPr>
            <p:spPr>
              <a:xfrm>
                <a:off x="9543960" y="1761840"/>
                <a:ext cx="2156040" cy="2156040"/>
              </a:xfrm>
              <a:prstGeom prst="rect">
                <a:avLst/>
              </a:prstGeom>
              <a:noFill/>
              <a:ln w="28575">
                <a:solidFill>
                  <a:srgbClr val="009cff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" name="矩形 14"/>
              <p:cNvSpPr/>
              <p:nvPr/>
            </p:nvSpPr>
            <p:spPr>
              <a:xfrm>
                <a:off x="9982440" y="1792080"/>
                <a:ext cx="12783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600" spc="-1" strike="noStrike">
                    <a:solidFill>
                      <a:srgbClr val="009cff"/>
                    </a:solidFill>
                    <a:latin typeface="方正粗宋简体"/>
                    <a:ea typeface="方正粗宋简体"/>
                  </a:rPr>
                  <a:t>赋予意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" name="图片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8787960" y="2484720"/>
                <a:ext cx="2132640" cy="2169000"/>
              </a:xfrm>
              <a:prstGeom prst="rect">
                <a:avLst/>
              </a:prstGeom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</p:pic>
        </p:grpSp>
        <p:sp>
          <p:nvSpPr>
            <p:cNvPr id="226" name="矩形 24"/>
            <p:cNvSpPr/>
            <p:nvPr/>
          </p:nvSpPr>
          <p:spPr>
            <a:xfrm>
              <a:off x="11112120" y="243540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矩形 25"/>
            <p:cNvSpPr/>
            <p:nvPr/>
          </p:nvSpPr>
          <p:spPr>
            <a:xfrm>
              <a:off x="11112120" y="292356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矩形 26"/>
            <p:cNvSpPr/>
            <p:nvPr/>
          </p:nvSpPr>
          <p:spPr>
            <a:xfrm>
              <a:off x="11112120" y="3411720"/>
              <a:ext cx="370800" cy="37080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9" name="直角三角形 48"/>
          <p:cNvSpPr/>
          <p:nvPr/>
        </p:nvSpPr>
        <p:spPr>
          <a:xfrm>
            <a:off x="-15120" y="4366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直角三角形 49"/>
          <p:cNvSpPr/>
          <p:nvPr/>
        </p:nvSpPr>
        <p:spPr>
          <a:xfrm>
            <a:off x="-15120" y="13258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直角三角形 50"/>
          <p:cNvSpPr/>
          <p:nvPr/>
        </p:nvSpPr>
        <p:spPr>
          <a:xfrm rot="16200000">
            <a:off x="8474040" y="31402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直角三角形 51"/>
          <p:cNvSpPr/>
          <p:nvPr/>
        </p:nvSpPr>
        <p:spPr>
          <a:xfrm rot="16200000">
            <a:off x="8988840" y="36550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矩形 52"/>
          <p:cNvSpPr/>
          <p:nvPr/>
        </p:nvSpPr>
        <p:spPr>
          <a:xfrm rot="20784000">
            <a:off x="4275720" y="756720"/>
            <a:ext cx="4069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实验</a:t>
            </a:r>
            <a:r>
              <a:rPr b="1" i="1" lang="en-US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+</a:t>
            </a:r>
            <a:r>
              <a:rPr b="1" i="1" lang="zh-CN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学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201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8"/>
          <p:cNvSpPr/>
          <p:nvPr/>
        </p:nvSpPr>
        <p:spPr>
          <a:xfrm rot="20943000">
            <a:off x="4715640" y="3690720"/>
            <a:ext cx="8081280" cy="13266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14"/>
          <p:cNvSpPr/>
          <p:nvPr/>
        </p:nvSpPr>
        <p:spPr>
          <a:xfrm rot="20943000">
            <a:off x="2750040" y="2153160"/>
            <a:ext cx="9628560" cy="13266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 rot="20943000">
            <a:off x="4628880" y="166320"/>
            <a:ext cx="7867080" cy="13266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8" name="组合 13"/>
          <p:cNvGrpSpPr/>
          <p:nvPr/>
        </p:nvGrpSpPr>
        <p:grpSpPr>
          <a:xfrm>
            <a:off x="2607840" y="213120"/>
            <a:ext cx="2610000" cy="2623680"/>
            <a:chOff x="2607840" y="213120"/>
            <a:chExt cx="2610000" cy="2623680"/>
          </a:xfrm>
        </p:grpSpPr>
        <p:sp>
          <p:nvSpPr>
            <p:cNvPr id="239" name="菱形 7"/>
            <p:cNvSpPr/>
            <p:nvPr/>
          </p:nvSpPr>
          <p:spPr>
            <a:xfrm rot="18258000">
              <a:off x="2957760" y="596520"/>
              <a:ext cx="1909800" cy="1856520"/>
            </a:xfrm>
            <a:prstGeom prst="diamond">
              <a:avLst/>
            </a:prstGeom>
            <a:solidFill>
              <a:srgbClr val="009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矩形 3"/>
            <p:cNvSpPr/>
            <p:nvPr/>
          </p:nvSpPr>
          <p:spPr>
            <a:xfrm rot="21028200">
              <a:off x="3429360" y="783000"/>
              <a:ext cx="8517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精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实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4"/>
          <p:cNvSpPr/>
          <p:nvPr/>
        </p:nvSpPr>
        <p:spPr>
          <a:xfrm rot="20914800">
            <a:off x="6142680" y="308520"/>
            <a:ext cx="43264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下决心开始另辟新路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先小规模地尝试心得活动及专业角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"/>
          <p:cNvSpPr/>
          <p:nvPr/>
        </p:nvSpPr>
        <p:spPr>
          <a:xfrm rot="20951400">
            <a:off x="4630680" y="2304360"/>
            <a:ext cx="554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构建通往全新世界的人际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通过角色榜样和新参考群体指导并衡量你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 rot="20942400">
            <a:off x="6144120" y="3882600"/>
            <a:ext cx="43264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寻找或创造推动改变的催化剂和诱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并借机重写人生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角三角形 9"/>
          <p:cNvSpPr/>
          <p:nvPr/>
        </p:nvSpPr>
        <p:spPr>
          <a:xfrm>
            <a:off x="-15120" y="4366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直角三角形 10"/>
          <p:cNvSpPr/>
          <p:nvPr/>
        </p:nvSpPr>
        <p:spPr>
          <a:xfrm>
            <a:off x="-15120" y="13258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直角三角形 11"/>
          <p:cNvSpPr/>
          <p:nvPr/>
        </p:nvSpPr>
        <p:spPr>
          <a:xfrm rot="16200000">
            <a:off x="8474040" y="31402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直角三角形 12"/>
          <p:cNvSpPr/>
          <p:nvPr/>
        </p:nvSpPr>
        <p:spPr>
          <a:xfrm rot="16200000">
            <a:off x="8988840" y="36550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8" name="组合 15"/>
          <p:cNvGrpSpPr/>
          <p:nvPr/>
        </p:nvGrpSpPr>
        <p:grpSpPr>
          <a:xfrm>
            <a:off x="693360" y="2314440"/>
            <a:ext cx="2610000" cy="2623680"/>
            <a:chOff x="693360" y="2314440"/>
            <a:chExt cx="2610000" cy="2623680"/>
          </a:xfrm>
        </p:grpSpPr>
        <p:sp>
          <p:nvSpPr>
            <p:cNvPr id="249" name="菱形 16"/>
            <p:cNvSpPr/>
            <p:nvPr/>
          </p:nvSpPr>
          <p:spPr>
            <a:xfrm rot="18258000">
              <a:off x="1043280" y="2697840"/>
              <a:ext cx="1909800" cy="1856520"/>
            </a:xfrm>
            <a:prstGeom prst="diamond">
              <a:avLst/>
            </a:prstGeom>
            <a:solidFill>
              <a:srgbClr val="009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矩形 17"/>
            <p:cNvSpPr/>
            <p:nvPr/>
          </p:nvSpPr>
          <p:spPr>
            <a:xfrm rot="21028200">
              <a:off x="1514880" y="2884320"/>
              <a:ext cx="8517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社交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转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19"/>
          <p:cNvGrpSpPr/>
          <p:nvPr/>
        </p:nvGrpSpPr>
        <p:grpSpPr>
          <a:xfrm>
            <a:off x="2659320" y="3753000"/>
            <a:ext cx="2610000" cy="2623680"/>
            <a:chOff x="2659320" y="3753000"/>
            <a:chExt cx="2610000" cy="2623680"/>
          </a:xfrm>
        </p:grpSpPr>
        <p:sp>
          <p:nvSpPr>
            <p:cNvPr id="252" name="菱形 20"/>
            <p:cNvSpPr/>
            <p:nvPr/>
          </p:nvSpPr>
          <p:spPr>
            <a:xfrm rot="18258000">
              <a:off x="3009240" y="4136400"/>
              <a:ext cx="1909800" cy="1856520"/>
            </a:xfrm>
            <a:prstGeom prst="diamond">
              <a:avLst/>
            </a:prstGeom>
            <a:solidFill>
              <a:srgbClr val="009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矩形 21"/>
            <p:cNvSpPr/>
            <p:nvPr/>
          </p:nvSpPr>
          <p:spPr>
            <a:xfrm rot="21028200">
              <a:off x="3481200" y="4322880"/>
              <a:ext cx="85176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赋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ff"/>
                  </a:solidFill>
                  <a:latin typeface="汉仪菱心体简"/>
                  <a:ea typeface="汉仪菱心体简"/>
                </a:rPr>
                <a:t>意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 rot="21011400">
            <a:off x="4635360" y="753480"/>
            <a:ext cx="6014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“</a:t>
            </a:r>
            <a:r>
              <a:rPr b="0" lang="zh-CN" sz="4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实验</a:t>
            </a:r>
            <a:r>
              <a:rPr b="0" lang="en-US" sz="4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+</a:t>
            </a:r>
            <a:r>
              <a:rPr b="0" lang="zh-CN" sz="4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学习”对</a:t>
            </a: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职场新人</a:t>
            </a:r>
            <a:r>
              <a:rPr b="0" lang="zh-CN" sz="4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是否适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"/>
          <p:cNvSpPr/>
          <p:nvPr/>
        </p:nvSpPr>
        <p:spPr>
          <a:xfrm rot="21029400">
            <a:off x="4344840" y="2244600"/>
            <a:ext cx="6377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不适用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1001800">
            <a:off x="4720320" y="3168720"/>
            <a:ext cx="9002880" cy="2596320"/>
          </a:xfrm>
          <a:prstGeom prst="rect">
            <a:avLst/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矩形 6"/>
          <p:cNvSpPr/>
          <p:nvPr/>
        </p:nvSpPr>
        <p:spPr>
          <a:xfrm rot="20971800">
            <a:off x="4676760" y="3521160"/>
            <a:ext cx="77781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职场信任需要做的是“完善”履历，在职业生涯初期，好的工作岗位和学习机会非常重要，因此年轻人的求职过程要更直接，目的明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 rot="20634000">
            <a:off x="-294480" y="543600"/>
            <a:ext cx="6346440" cy="5237280"/>
          </a:xfrm>
          <a:prstGeom prst="rect">
            <a:avLst/>
          </a:prstGeom>
          <a:ln w="0">
            <a:noFill/>
          </a:ln>
        </p:spPr>
      </p:pic>
      <p:sp>
        <p:nvSpPr>
          <p:cNvPr id="259" name="直角三角形 8"/>
          <p:cNvSpPr/>
          <p:nvPr/>
        </p:nvSpPr>
        <p:spPr>
          <a:xfrm>
            <a:off x="-15120" y="4366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直角三角形 9"/>
          <p:cNvSpPr/>
          <p:nvPr/>
        </p:nvSpPr>
        <p:spPr>
          <a:xfrm>
            <a:off x="-15120" y="13258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直角三角形 10"/>
          <p:cNvSpPr/>
          <p:nvPr/>
        </p:nvSpPr>
        <p:spPr>
          <a:xfrm rot="16200000">
            <a:off x="8474040" y="3140280"/>
            <a:ext cx="1014120" cy="642096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直角三角形 11"/>
          <p:cNvSpPr/>
          <p:nvPr/>
        </p:nvSpPr>
        <p:spPr>
          <a:xfrm rot="16200000">
            <a:off x="8988840" y="3655080"/>
            <a:ext cx="873720" cy="5531760"/>
          </a:xfrm>
          <a:prstGeom prst="rtTriangl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6"/>
          <p:cNvSpPr/>
          <p:nvPr/>
        </p:nvSpPr>
        <p:spPr>
          <a:xfrm>
            <a:off x="6595920" y="4766760"/>
            <a:ext cx="4487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一个</a:t>
            </a:r>
            <a:r>
              <a:rPr b="1" lang="en-US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IBM</a:t>
            </a:r>
            <a:r>
              <a:rPr b="1" lang="zh-CN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人的离职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伟大公司，</a:t>
            </a:r>
            <a:r>
              <a:rPr b="1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SB</a:t>
            </a:r>
            <a:r>
              <a:rPr b="1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老板，苦逼员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8"/>
          <p:cNvGrpSpPr/>
          <p:nvPr/>
        </p:nvGrpSpPr>
        <p:grpSpPr>
          <a:xfrm>
            <a:off x="0" y="584280"/>
            <a:ext cx="5414400" cy="4183560"/>
            <a:chOff x="0" y="584280"/>
            <a:chExt cx="5414400" cy="4183560"/>
          </a:xfrm>
        </p:grpSpPr>
        <p:sp>
          <p:nvSpPr>
            <p:cNvPr id="105" name="图片 7"/>
            <p:cNvSpPr/>
            <p:nvPr/>
          </p:nvSpPr>
          <p:spPr>
            <a:xfrm>
              <a:off x="3290760" y="584280"/>
              <a:ext cx="2123640" cy="818640"/>
            </a:xfrm>
            <a:prstGeom prst="roundRect">
              <a:avLst>
                <a:gd name="adj" fmla="val 8594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reflection algn="bl" blurRad="12700" dir="5400000" dist="5000" endPos="28000" rotWithShape="0" stA="38000" sy="-10000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片 3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-40000" sat="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0" y="1403280"/>
              <a:ext cx="5414400" cy="33645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07" name="直接连接符 10"/>
          <p:cNvCxnSpPr/>
          <p:nvPr/>
        </p:nvCxnSpPr>
        <p:spPr>
          <a:xfrm flipV="1">
            <a:off x="3259080" y="2502000"/>
            <a:ext cx="4690080" cy="4356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08" name="直接连接符 15"/>
          <p:cNvCxnSpPr/>
          <p:nvPr/>
        </p:nvCxnSpPr>
        <p:spPr>
          <a:xfrm>
            <a:off x="7948800" y="2524680"/>
            <a:ext cx="867960" cy="161064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09" name="直接连接符 17"/>
          <p:cNvCxnSpPr/>
          <p:nvPr/>
        </p:nvCxnSpPr>
        <p:spPr>
          <a:xfrm flipV="1">
            <a:off x="8809200" y="3196440"/>
            <a:ext cx="777240" cy="97884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10" name="直接连接符 19"/>
          <p:cNvCxnSpPr/>
          <p:nvPr/>
        </p:nvCxnSpPr>
        <p:spPr>
          <a:xfrm>
            <a:off x="9676800" y="3196440"/>
            <a:ext cx="1010520" cy="1242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sp>
        <p:nvSpPr>
          <p:cNvPr id="111" name="椭圆 25"/>
          <p:cNvSpPr/>
          <p:nvPr/>
        </p:nvSpPr>
        <p:spPr>
          <a:xfrm>
            <a:off x="7724520" y="2333880"/>
            <a:ext cx="354600" cy="35460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26"/>
          <p:cNvSpPr/>
          <p:nvPr/>
        </p:nvSpPr>
        <p:spPr>
          <a:xfrm>
            <a:off x="8718840" y="4019040"/>
            <a:ext cx="231840" cy="23184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3" name="组合 34"/>
          <p:cNvGrpSpPr/>
          <p:nvPr/>
        </p:nvGrpSpPr>
        <p:grpSpPr>
          <a:xfrm>
            <a:off x="10315800" y="4084920"/>
            <a:ext cx="741960" cy="741960"/>
            <a:chOff x="10315800" y="4084920"/>
            <a:chExt cx="741960" cy="741960"/>
          </a:xfrm>
        </p:grpSpPr>
        <p:sp>
          <p:nvSpPr>
            <p:cNvPr id="114" name="椭圆 28"/>
            <p:cNvSpPr/>
            <p:nvPr/>
          </p:nvSpPr>
          <p:spPr>
            <a:xfrm>
              <a:off x="10315800" y="4084920"/>
              <a:ext cx="741960" cy="74196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椭圆 27"/>
            <p:cNvSpPr/>
            <p:nvPr/>
          </p:nvSpPr>
          <p:spPr>
            <a:xfrm>
              <a:off x="10452240" y="4223160"/>
              <a:ext cx="468720" cy="46872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10374480" y="4143960"/>
              <a:ext cx="624600" cy="62460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椭圆 30"/>
            <p:cNvSpPr/>
            <p:nvPr/>
          </p:nvSpPr>
          <p:spPr>
            <a:xfrm>
              <a:off x="10571040" y="4361400"/>
              <a:ext cx="231840" cy="2318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椭圆 31"/>
            <p:cNvSpPr/>
            <p:nvPr/>
          </p:nvSpPr>
          <p:spPr>
            <a:xfrm>
              <a:off x="10532520" y="4313520"/>
              <a:ext cx="308520" cy="30852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9" name="椭圆 32"/>
          <p:cNvSpPr/>
          <p:nvPr/>
        </p:nvSpPr>
        <p:spPr>
          <a:xfrm>
            <a:off x="9293760" y="2819520"/>
            <a:ext cx="601200" cy="60120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79040" y="3465360"/>
            <a:ext cx="6012720" cy="2842920"/>
          </a:xfrm>
          <a:prstGeom prst="rect">
            <a:avLst/>
          </a:prstGeom>
          <a:ln w="0">
            <a:noFill/>
          </a:ln>
        </p:spPr>
      </p:pic>
      <p:cxnSp>
        <p:nvCxnSpPr>
          <p:cNvPr id="121" name="直接连接符 5"/>
          <p:cNvCxnSpPr/>
          <p:nvPr/>
        </p:nvCxnSpPr>
        <p:spPr>
          <a:xfrm flipV="1">
            <a:off x="1533240" y="1418760"/>
            <a:ext cx="5923440" cy="561528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22" name="直接连接符 6"/>
          <p:cNvCxnSpPr/>
          <p:nvPr/>
        </p:nvCxnSpPr>
        <p:spPr>
          <a:xfrm>
            <a:off x="7456320" y="1441440"/>
            <a:ext cx="867960" cy="161064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23" name="直接连接符 7"/>
          <p:cNvCxnSpPr/>
          <p:nvPr/>
        </p:nvCxnSpPr>
        <p:spPr>
          <a:xfrm flipV="1">
            <a:off x="8317080" y="2113200"/>
            <a:ext cx="776880" cy="97884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cxnSp>
        <p:nvCxnSpPr>
          <p:cNvPr id="124" name="直接连接符 8"/>
          <p:cNvCxnSpPr/>
          <p:nvPr/>
        </p:nvCxnSpPr>
        <p:spPr>
          <a:xfrm>
            <a:off x="9184680" y="2113200"/>
            <a:ext cx="1010160" cy="1242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sp>
        <p:nvSpPr>
          <p:cNvPr id="125" name="椭圆 9"/>
          <p:cNvSpPr/>
          <p:nvPr/>
        </p:nvSpPr>
        <p:spPr>
          <a:xfrm>
            <a:off x="7232400" y="1250640"/>
            <a:ext cx="354600" cy="35460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0"/>
          <p:cNvSpPr/>
          <p:nvPr/>
        </p:nvSpPr>
        <p:spPr>
          <a:xfrm>
            <a:off x="8226360" y="2936160"/>
            <a:ext cx="231840" cy="23184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7" name="组合 11"/>
          <p:cNvGrpSpPr/>
          <p:nvPr/>
        </p:nvGrpSpPr>
        <p:grpSpPr>
          <a:xfrm>
            <a:off x="9823320" y="3001680"/>
            <a:ext cx="741960" cy="741960"/>
            <a:chOff x="9823320" y="3001680"/>
            <a:chExt cx="741960" cy="741960"/>
          </a:xfrm>
        </p:grpSpPr>
        <p:sp>
          <p:nvSpPr>
            <p:cNvPr id="128" name="椭圆 12"/>
            <p:cNvSpPr/>
            <p:nvPr/>
          </p:nvSpPr>
          <p:spPr>
            <a:xfrm>
              <a:off x="9823320" y="3001680"/>
              <a:ext cx="741960" cy="74196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椭圆 13"/>
            <p:cNvSpPr/>
            <p:nvPr/>
          </p:nvSpPr>
          <p:spPr>
            <a:xfrm>
              <a:off x="9960120" y="3139920"/>
              <a:ext cx="468720" cy="46872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椭圆 14"/>
            <p:cNvSpPr/>
            <p:nvPr/>
          </p:nvSpPr>
          <p:spPr>
            <a:xfrm>
              <a:off x="9882000" y="3060720"/>
              <a:ext cx="624600" cy="62460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15"/>
            <p:cNvSpPr/>
            <p:nvPr/>
          </p:nvSpPr>
          <p:spPr>
            <a:xfrm>
              <a:off x="10078560" y="3278160"/>
              <a:ext cx="231840" cy="2318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 16"/>
            <p:cNvSpPr/>
            <p:nvPr/>
          </p:nvSpPr>
          <p:spPr>
            <a:xfrm>
              <a:off x="10040040" y="3230280"/>
              <a:ext cx="308520" cy="308520"/>
            </a:xfrm>
            <a:prstGeom prst="ellipse">
              <a:avLst/>
            </a:prstGeom>
            <a:noFill/>
            <a:ln>
              <a:solidFill>
                <a:srgbClr val="009c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3" name="椭圆 17"/>
          <p:cNvSpPr/>
          <p:nvPr/>
        </p:nvSpPr>
        <p:spPr>
          <a:xfrm>
            <a:off x="8801640" y="1736280"/>
            <a:ext cx="601200" cy="60120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813600" y="270000"/>
            <a:ext cx="48078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14</a:t>
            </a:r>
            <a:r>
              <a:rPr b="1" lang="zh-CN" sz="13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年，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付出了青春，换来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Blur/>
                    </a14:imgEffect>
                  </a14:imgLayer>
                </a14:imgProps>
              </a:ext>
            </a:extLst>
          </a:blip>
          <a:stretch/>
        </p:blipFill>
        <p:spPr>
          <a:xfrm>
            <a:off x="-232200" y="-1313640"/>
            <a:ext cx="7482960" cy="6799680"/>
          </a:xfrm>
          <a:prstGeom prst="rect">
            <a:avLst/>
          </a:prstGeom>
          <a:ln w="0">
            <a:noFill/>
          </a:ln>
        </p:spPr>
      </p:pic>
      <p:sp>
        <p:nvSpPr>
          <p:cNvPr id="136" name="正五边形 2"/>
          <p:cNvSpPr/>
          <p:nvPr/>
        </p:nvSpPr>
        <p:spPr>
          <a:xfrm rot="10336800">
            <a:off x="-486000" y="-1333080"/>
            <a:ext cx="7538760" cy="6539400"/>
          </a:xfrm>
          <a:prstGeom prst="pentagon">
            <a:avLst>
              <a:gd name="hf" fmla="val 105146"/>
              <a:gd name="vf" fmla="val 110557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平行四边形 11"/>
          <p:cNvSpPr/>
          <p:nvPr/>
        </p:nvSpPr>
        <p:spPr>
          <a:xfrm>
            <a:off x="-651600" y="1109520"/>
            <a:ext cx="6918120" cy="1936440"/>
          </a:xfrm>
          <a:prstGeom prst="parallelogram">
            <a:avLst>
              <a:gd name="adj" fmla="val 25000"/>
            </a:avLst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1228680" y="48852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步入职业中期的你，是否疑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1266120" y="1200600"/>
            <a:ext cx="3884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是否仍在正轨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是否应该改变方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13040" y="333360"/>
            <a:ext cx="4669560" cy="652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8" descr=""/>
          <p:cNvPicPr/>
          <p:nvPr/>
        </p:nvPicPr>
        <p:blipFill>
          <a:blip r:embed="rId1"/>
          <a:stretch/>
        </p:blipFill>
        <p:spPr>
          <a:xfrm>
            <a:off x="4045320" y="584280"/>
            <a:ext cx="7809120" cy="6120720"/>
          </a:xfrm>
          <a:prstGeom prst="rect">
            <a:avLst/>
          </a:prstGeom>
          <a:ln w="0">
            <a:noFill/>
          </a:ln>
        </p:spPr>
      </p:pic>
      <p:sp>
        <p:nvSpPr>
          <p:cNvPr id="142" name="等腰三角形 5"/>
          <p:cNvSpPr/>
          <p:nvPr/>
        </p:nvSpPr>
        <p:spPr>
          <a:xfrm rot="16200000">
            <a:off x="5227920" y="-402120"/>
            <a:ext cx="6119640" cy="7813800"/>
          </a:xfrm>
          <a:prstGeom prst="triangle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3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53960" y="1080720"/>
            <a:ext cx="3501720" cy="5776920"/>
          </a:xfrm>
          <a:prstGeom prst="rect">
            <a:avLst/>
          </a:prstGeom>
          <a:ln w="0">
            <a:noFill/>
          </a:ln>
        </p:spPr>
      </p:pic>
      <p:sp>
        <p:nvSpPr>
          <p:cNvPr id="144" name="等腰三角形 6"/>
          <p:cNvSpPr/>
          <p:nvPr/>
        </p:nvSpPr>
        <p:spPr>
          <a:xfrm>
            <a:off x="5634720" y="1139040"/>
            <a:ext cx="6706800" cy="3650760"/>
          </a:xfrm>
          <a:prstGeom prst="triangle">
            <a:avLst>
              <a:gd name="adj" fmla="val 50000"/>
            </a:avLst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8588520" y="2095200"/>
            <a:ext cx="21927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改变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却无一奏效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5964120" y="4231440"/>
            <a:ext cx="684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惧怕改变？准备不足？不愿做出牺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 flipH="1" rot="801000">
            <a:off x="6108480" y="2325240"/>
            <a:ext cx="6809760" cy="45399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"/>
          <p:cNvSpPr/>
          <p:nvPr/>
        </p:nvSpPr>
        <p:spPr>
          <a:xfrm rot="665400">
            <a:off x="-643320" y="715680"/>
            <a:ext cx="7126560" cy="3684600"/>
          </a:xfrm>
          <a:prstGeom prst="rect">
            <a:avLst/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artisticBlur/>
                    </a14:imgEffect>
                  </a14:imgLayer>
                </a14:imgProps>
              </a:ext>
            </a:extLst>
          </a:blip>
          <a:stretch/>
        </p:blipFill>
        <p:spPr>
          <a:xfrm>
            <a:off x="-228960" y="262440"/>
            <a:ext cx="7644600" cy="3785760"/>
          </a:xfrm>
          <a:prstGeom prst="rect">
            <a:avLst/>
          </a:prstGeom>
          <a:ln w="0">
            <a:noFill/>
          </a:ln>
        </p:spPr>
      </p:pic>
      <p:sp>
        <p:nvSpPr>
          <p:cNvPr id="150" name="梯形 2"/>
          <p:cNvSpPr/>
          <p:nvPr/>
        </p:nvSpPr>
        <p:spPr>
          <a:xfrm rot="21178800">
            <a:off x="-432720" y="363600"/>
            <a:ext cx="7697160" cy="2952360"/>
          </a:xfrm>
          <a:prstGeom prst="trapezoid">
            <a:avLst>
              <a:gd name="adj" fmla="val 25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1496160" y="809280"/>
            <a:ext cx="38386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是什么让进行方向性的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知易行难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2"/>
          <p:cNvGrpSpPr/>
          <p:nvPr/>
        </p:nvGrpSpPr>
        <p:grpSpPr>
          <a:xfrm>
            <a:off x="0" y="1569600"/>
            <a:ext cx="4771080" cy="2915640"/>
            <a:chOff x="0" y="1569600"/>
            <a:chExt cx="4771080" cy="2915640"/>
          </a:xfrm>
        </p:grpSpPr>
        <p:sp>
          <p:nvSpPr>
            <p:cNvPr id="153" name="等腰三角形 6"/>
            <p:cNvSpPr/>
            <p:nvPr/>
          </p:nvSpPr>
          <p:spPr>
            <a:xfrm>
              <a:off x="0" y="1569600"/>
              <a:ext cx="934560" cy="188316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458640" y="1569600"/>
              <a:ext cx="4312440" cy="2915640"/>
            </a:xfrm>
            <a:custGeom>
              <a:avLst/>
              <a:gdLst>
                <a:gd name="textAreaLeft" fmla="*/ 0 w 4312440"/>
                <a:gd name="textAreaRight" fmla="*/ 4312800 w 4312440"/>
                <a:gd name="textAreaTop" fmla="*/ 0 h 2915640"/>
                <a:gd name="textAreaBottom" fmla="*/ 2916000 h 2915640"/>
              </a:gdLst>
              <a:ahLst/>
              <a:rect l="textAreaLeft" t="textAreaTop" r="textAreaRight" b="textAreaBottom"/>
              <a:pathLst>
                <a:path w="4312693" h="2915903">
                  <a:moveTo>
                    <a:pt x="0" y="0"/>
                  </a:moveTo>
                  <a:lnTo>
                    <a:pt x="4217159" y="1364776"/>
                  </a:lnTo>
                  <a:lnTo>
                    <a:pt x="4312693" y="2915903"/>
                  </a:lnTo>
                  <a:lnTo>
                    <a:pt x="122830" y="2915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6240960" y="2703960"/>
            <a:ext cx="44481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人们遭遇失败，最可能的原因是沿用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完全错误的方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49080" y="1201320"/>
            <a:ext cx="4407840" cy="3283560"/>
          </a:xfrm>
          <a:prstGeom prst="rect">
            <a:avLst/>
          </a:prstGeom>
          <a:ln w="0">
            <a:noFill/>
          </a:ln>
        </p:spPr>
      </p:pic>
      <p:cxnSp>
        <p:nvCxnSpPr>
          <p:cNvPr id="157" name="直接连接符 9"/>
          <p:cNvCxnSpPr/>
          <p:nvPr/>
        </p:nvCxnSpPr>
        <p:spPr>
          <a:xfrm>
            <a:off x="0" y="4485240"/>
            <a:ext cx="122403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8" name="Freeform 9"/>
          <p:cNvSpPr/>
          <p:nvPr/>
        </p:nvSpPr>
        <p:spPr>
          <a:xfrm>
            <a:off x="4894920" y="1202040"/>
            <a:ext cx="1463760" cy="130896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308960"/>
              <a:gd name="textAreaBottom" fmla="*/ 1309320 h 130896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9"/>
          <p:cNvSpPr/>
          <p:nvPr/>
        </p:nvSpPr>
        <p:spPr>
          <a:xfrm rot="10800000">
            <a:off x="11219400" y="4592880"/>
            <a:ext cx="817200" cy="925200"/>
          </a:xfrm>
          <a:custGeom>
            <a:avLst/>
            <a:gdLst>
              <a:gd name="textAreaLeft" fmla="*/ 0 w 817200"/>
              <a:gd name="textAreaRight" fmla="*/ 817560 w 81720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rgbClr val="009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文本框 12"/>
          <p:cNvSpPr/>
          <p:nvPr/>
        </p:nvSpPr>
        <p:spPr>
          <a:xfrm>
            <a:off x="4782240" y="4519800"/>
            <a:ext cx="792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Research From Herminia Ibarra And H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"/>
          <p:cNvSpPr/>
          <p:nvPr/>
        </p:nvSpPr>
        <p:spPr>
          <a:xfrm>
            <a:off x="131400" y="420480"/>
            <a:ext cx="84639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9cff"/>
                </a:solidFill>
                <a:latin typeface="方正粗宋简体"/>
                <a:ea typeface="方正粗宋简体"/>
              </a:rPr>
              <a:t>职业转型的传统路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zh-CN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计划</a:t>
            </a:r>
            <a:r>
              <a:rPr b="1" i="1" lang="en-US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+</a:t>
            </a:r>
            <a:r>
              <a:rPr b="1" i="1" lang="zh-CN" sz="8800" spc="-1" strike="noStrike">
                <a:solidFill>
                  <a:srgbClr val="404040"/>
                </a:solidFill>
                <a:latin typeface="汉仪菱心体简"/>
                <a:ea typeface="汉仪菱心体简"/>
              </a:rPr>
              <a:t>执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5196600" y="3465360"/>
            <a:ext cx="99612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认识你自己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咨询信任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设立远大的目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5" descr=""/>
          <p:cNvPicPr/>
          <p:nvPr/>
        </p:nvPicPr>
        <p:blipFill>
          <a:blip r:embed="rId1"/>
          <a:stretch/>
        </p:blipFill>
        <p:spPr>
          <a:xfrm>
            <a:off x="8595720" y="0"/>
            <a:ext cx="3772800" cy="5676120"/>
          </a:xfrm>
          <a:prstGeom prst="rect">
            <a:avLst/>
          </a:prstGeom>
          <a:ln w="0">
            <a:noFill/>
          </a:ln>
        </p:spPr>
      </p:pic>
      <p:sp>
        <p:nvSpPr>
          <p:cNvPr id="164" name="矩形 6"/>
          <p:cNvSpPr/>
          <p:nvPr/>
        </p:nvSpPr>
        <p:spPr>
          <a:xfrm>
            <a:off x="8910720" y="4888800"/>
            <a:ext cx="30081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808080"/>
                </a:solidFill>
                <a:latin typeface="Impact"/>
              </a:rPr>
              <a:t>BUT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0" y="3465360"/>
            <a:ext cx="3370680" cy="2354040"/>
          </a:xfrm>
          <a:prstGeom prst="rect">
            <a:avLst/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201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等腰三角形 8"/>
          <p:cNvSpPr/>
          <p:nvPr/>
        </p:nvSpPr>
        <p:spPr>
          <a:xfrm rot="10800000">
            <a:off x="4203720" y="4858920"/>
            <a:ext cx="9721440" cy="10692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等腰三角形 7"/>
          <p:cNvSpPr/>
          <p:nvPr/>
        </p:nvSpPr>
        <p:spPr>
          <a:xfrm>
            <a:off x="8203680" y="1002600"/>
            <a:ext cx="2426040" cy="174060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梯形 4"/>
          <p:cNvSpPr/>
          <p:nvPr/>
        </p:nvSpPr>
        <p:spPr>
          <a:xfrm rot="10800000">
            <a:off x="360" y="1002600"/>
            <a:ext cx="9416520" cy="3855600"/>
          </a:xfrm>
          <a:prstGeom prst="trapezoid">
            <a:avLst>
              <a:gd name="adj" fmla="val 11550"/>
            </a:avLst>
          </a:prstGeom>
          <a:solidFill>
            <a:srgbClr val="009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0" name="图片 3" descr=""/>
          <p:cNvPicPr/>
          <p:nvPr/>
        </p:nvPicPr>
        <p:blipFill>
          <a:blip r:embed="rId1"/>
          <a:stretch/>
        </p:blipFill>
        <p:spPr>
          <a:xfrm rot="469800">
            <a:off x="9014400" y="2470680"/>
            <a:ext cx="3505680" cy="3670560"/>
          </a:xfrm>
          <a:prstGeom prst="rect">
            <a:avLst/>
          </a:prstGeom>
          <a:ln w="0">
            <a:noFill/>
          </a:ln>
        </p:spPr>
      </p:pic>
      <p:sp>
        <p:nvSpPr>
          <p:cNvPr id="171" name="矩形 5"/>
          <p:cNvSpPr/>
          <p:nvPr/>
        </p:nvSpPr>
        <p:spPr>
          <a:xfrm>
            <a:off x="2128320" y="1183680"/>
            <a:ext cx="97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、认识你自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2197440" y="3205440"/>
            <a:ext cx="685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测试只看到过去的自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未来的自我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直接连接符 11"/>
          <p:cNvCxnSpPr/>
          <p:nvPr/>
        </p:nvCxnSpPr>
        <p:spPr>
          <a:xfrm>
            <a:off x="191880" y="2014200"/>
            <a:ext cx="4464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174" name="矩形 12"/>
          <p:cNvSpPr/>
          <p:nvPr/>
        </p:nvSpPr>
        <p:spPr>
          <a:xfrm>
            <a:off x="3046680" y="2298600"/>
            <a:ext cx="32018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性格测试、问卷调查、反思</a:t>
            </a:r>
            <a:r>
              <a:rPr b="0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……对外求助，个人内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  <Words>477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2:07:18Z</dcterms:created>
  <dc:creator>xiaoba ba</dc:creator>
  <dc:description/>
  <dc:language>en-US</dc:language>
  <cp:lastModifiedBy>王玉清</cp:lastModifiedBy>
  <dcterms:modified xsi:type="dcterms:W3CDTF">2016-02-23T02:38:47Z</dcterms:modified>
  <cp:revision>4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