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9F2-03D5-4AEF-8FA0-D66DFFF3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C3A-5F12-4D2C-85BC-8DDDA6FA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2B4-5262-4192-B2D8-6CFE7373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7E7-13D4-496B-BC00-D1B6F0E9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A38-9A8D-4D91-AD10-B0FC1256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F6C-F20D-4189-8DB5-DF82B70E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438-0E42-47A3-8734-1AF352E4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006-25B4-420C-81BF-AB990001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36F-E330-4902-9205-BA6F5465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23D-05FD-4DA1-B4D8-C085E245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A97-43CB-41B3-BBCC-C64A851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136-5AA6-4D84-9B36-B9DE534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A78E13-F2BB-41C2-8AE9-85F5AE0F095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燕尾形 33"/>
          <p:cNvSpPr/>
          <p:nvPr/>
        </p:nvSpPr>
        <p:spPr>
          <a:xfrm>
            <a:off x="2643120" y="5143680"/>
            <a:ext cx="999720" cy="785520"/>
          </a:xfrm>
          <a:prstGeom prst="chevron">
            <a:avLst>
              <a:gd name="adj" fmla="val 28572"/>
            </a:avLst>
          </a:prstGeom>
          <a:solidFill>
            <a:schemeClr val="bg1">
              <a:alpha val="52000"/>
            </a:schemeClr>
          </a:solidFill>
          <a:ln w="0">
            <a:solidFill>
              <a:srgbClr val="ffffff">
                <a:alpha val="54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组合 39"/>
          <p:cNvGrpSpPr/>
          <p:nvPr/>
        </p:nvGrpSpPr>
        <p:grpSpPr>
          <a:xfrm>
            <a:off x="2228760" y="382320"/>
            <a:ext cx="4932360" cy="4943160"/>
            <a:chOff x="2228760" y="382320"/>
            <a:chExt cx="4932360" cy="4943160"/>
          </a:xfrm>
        </p:grpSpPr>
        <p:grpSp>
          <p:nvGrpSpPr>
            <p:cNvPr id="43" name="组合 30"/>
            <p:cNvGrpSpPr/>
            <p:nvPr/>
          </p:nvGrpSpPr>
          <p:grpSpPr>
            <a:xfrm>
              <a:off x="2228760" y="382320"/>
              <a:ext cx="4932360" cy="4943160"/>
              <a:chOff x="2228760" y="382320"/>
              <a:chExt cx="4932360" cy="4943160"/>
            </a:xfrm>
          </p:grpSpPr>
          <p:sp>
            <p:nvSpPr>
              <p:cNvPr id="44" name="八角星 17"/>
              <p:cNvSpPr/>
              <p:nvPr/>
            </p:nvSpPr>
            <p:spPr>
              <a:xfrm rot="1389000">
                <a:off x="2946600" y="114156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5" name="八角星 23"/>
              <p:cNvSpPr/>
              <p:nvPr/>
            </p:nvSpPr>
            <p:spPr>
              <a:xfrm rot="1765200">
                <a:off x="2936880" y="115992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" name="八角星 24"/>
              <p:cNvSpPr/>
              <p:nvPr/>
            </p:nvSpPr>
            <p:spPr>
              <a:xfrm rot="2125800">
                <a:off x="2928600" y="115128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" name="八角星 25"/>
              <p:cNvSpPr/>
              <p:nvPr/>
            </p:nvSpPr>
            <p:spPr>
              <a:xfrm rot="2517000">
                <a:off x="2930040" y="114048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" name="八角星 26"/>
              <p:cNvSpPr/>
              <p:nvPr/>
            </p:nvSpPr>
            <p:spPr>
              <a:xfrm rot="2860200">
                <a:off x="2938680" y="112104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" name="八角星 27"/>
              <p:cNvSpPr/>
              <p:nvPr/>
            </p:nvSpPr>
            <p:spPr>
              <a:xfrm rot="3231600">
                <a:off x="2952360" y="110772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" name="八角星 28"/>
              <p:cNvSpPr/>
              <p:nvPr/>
            </p:nvSpPr>
            <p:spPr>
              <a:xfrm rot="3628800">
                <a:off x="2957760" y="115164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1" name="组合 31"/>
            <p:cNvGrpSpPr/>
            <p:nvPr/>
          </p:nvGrpSpPr>
          <p:grpSpPr>
            <a:xfrm>
              <a:off x="3430440" y="1654560"/>
              <a:ext cx="2537640" cy="2414160"/>
              <a:chOff x="3430440" y="1654560"/>
              <a:chExt cx="2537640" cy="2414160"/>
            </a:xfrm>
          </p:grpSpPr>
          <p:sp useBgFill="1">
            <p:nvSpPr>
              <p:cNvPr id="52" name="椭圆 3"/>
              <p:cNvSpPr/>
              <p:nvPr/>
            </p:nvSpPr>
            <p:spPr>
              <a:xfrm>
                <a:off x="3430440" y="1654560"/>
                <a:ext cx="2537640" cy="2401200"/>
              </a:xfrm>
              <a:prstGeom prst="ellipse">
                <a:avLst/>
              </a:prstGeom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" name="椭圆 21"/>
              <p:cNvSpPr/>
              <p:nvPr/>
            </p:nvSpPr>
            <p:spPr>
              <a:xfrm>
                <a:off x="3470400" y="1654560"/>
                <a:ext cx="2453040" cy="2414160"/>
              </a:xfrm>
              <a:prstGeom prst="ellipse">
                <a:avLst/>
              </a:prstGeom>
              <a:solidFill>
                <a:schemeClr val="tx1">
                  <a:alpha val="61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3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梯形 32"/>
          <p:cNvSpPr/>
          <p:nvPr/>
        </p:nvSpPr>
        <p:spPr>
          <a:xfrm>
            <a:off x="3143160" y="4929120"/>
            <a:ext cx="3071520" cy="856800"/>
          </a:xfrm>
          <a:prstGeom prst="trapezoid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燕尾形 34"/>
          <p:cNvSpPr/>
          <p:nvPr/>
        </p:nvSpPr>
        <p:spPr>
          <a:xfrm flipH="1">
            <a:off x="5714280" y="5143680"/>
            <a:ext cx="999720" cy="785520"/>
          </a:xfrm>
          <a:prstGeom prst="chevron">
            <a:avLst>
              <a:gd name="adj" fmla="val 28572"/>
            </a:avLst>
          </a:prstGeom>
          <a:solidFill>
            <a:schemeClr val="bg1">
              <a:alpha val="52000"/>
            </a:schemeClr>
          </a:solidFill>
          <a:ln w="0">
            <a:solidFill>
              <a:srgbClr val="ffffff">
                <a:alpha val="54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249080" y="5286240"/>
            <a:ext cx="179640" cy="179640"/>
          </a:xfrm>
          <a:prstGeom prst="ellipse">
            <a:avLst/>
          </a:prstGeom>
          <a:noFill/>
          <a:ln w="15875">
            <a:solidFill>
              <a:srgbClr val="c0504d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606200" y="5286240"/>
            <a:ext cx="179640" cy="179640"/>
          </a:xfrm>
          <a:prstGeom prst="ellipse">
            <a:avLst/>
          </a:prstGeom>
          <a:solidFill>
            <a:schemeClr val="accent2">
              <a:lumMod val="50000"/>
            </a:schemeClr>
          </a:solidFill>
          <a:ln w="15875">
            <a:solidFill>
              <a:srgbClr val="c0504d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椭圆 37"/>
          <p:cNvSpPr/>
          <p:nvPr/>
        </p:nvSpPr>
        <p:spPr>
          <a:xfrm>
            <a:off x="4963680" y="5286240"/>
            <a:ext cx="179640" cy="179640"/>
          </a:xfrm>
          <a:prstGeom prst="ellipse">
            <a:avLst/>
          </a:prstGeom>
          <a:noFill/>
          <a:ln w="15875">
            <a:solidFill>
              <a:srgbClr val="c0504d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1875600" y="253944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半透明图标漂亮的紫色商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组合 3"/>
          <p:cNvGrpSpPr/>
          <p:nvPr/>
        </p:nvGrpSpPr>
        <p:grpSpPr>
          <a:xfrm>
            <a:off x="533880" y="252720"/>
            <a:ext cx="856800" cy="818280"/>
            <a:chOff x="533880" y="252720"/>
            <a:chExt cx="856800" cy="818280"/>
          </a:xfrm>
        </p:grpSpPr>
        <p:sp>
          <p:nvSpPr>
            <p:cNvPr id="264" name="AutoShape 4"/>
            <p:cNvSpPr/>
            <p:nvPr/>
          </p:nvSpPr>
          <p:spPr>
            <a:xfrm>
              <a:off x="544320" y="25272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>
              <a:off x="718560" y="36108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877320" y="25272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1036080" y="35964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1194480" y="48636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533880" y="61308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52680" y="51552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15"/>
          <p:cNvGrpSpPr/>
          <p:nvPr/>
        </p:nvGrpSpPr>
        <p:grpSpPr>
          <a:xfrm>
            <a:off x="857160" y="2428920"/>
            <a:ext cx="1785600" cy="1785600"/>
            <a:chOff x="857160" y="2428920"/>
            <a:chExt cx="1785600" cy="1785600"/>
          </a:xfrm>
        </p:grpSpPr>
        <p:sp>
          <p:nvSpPr>
            <p:cNvPr id="272" name="椭圆 11"/>
            <p:cNvSpPr/>
            <p:nvPr/>
          </p:nvSpPr>
          <p:spPr>
            <a:xfrm>
              <a:off x="980280" y="2552040"/>
              <a:ext cx="1539360" cy="153936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73" name="椭圆 12"/>
            <p:cNvSpPr/>
            <p:nvPr/>
          </p:nvSpPr>
          <p:spPr>
            <a:xfrm>
              <a:off x="1045080" y="2649240"/>
              <a:ext cx="1357200" cy="13572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68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空心弧 13"/>
            <p:cNvSpPr/>
            <p:nvPr/>
          </p:nvSpPr>
          <p:spPr>
            <a:xfrm>
              <a:off x="857160" y="2428920"/>
              <a:ext cx="1785600" cy="1785600"/>
            </a:xfrm>
            <a:prstGeom prst="blockArc">
              <a:avLst>
                <a:gd name="adj1" fmla="val 1934552"/>
                <a:gd name="adj2" fmla="val 16605261"/>
                <a:gd name="adj3" fmla="val 12078"/>
              </a:avLst>
            </a:prstGeom>
            <a:solidFill>
              <a:schemeClr val="bg1">
                <a:alpha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矩形 14"/>
          <p:cNvSpPr/>
          <p:nvPr/>
        </p:nvSpPr>
        <p:spPr>
          <a:xfrm>
            <a:off x="357120" y="435780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组合 16"/>
          <p:cNvGrpSpPr/>
          <p:nvPr/>
        </p:nvGrpSpPr>
        <p:grpSpPr>
          <a:xfrm>
            <a:off x="3643200" y="4214880"/>
            <a:ext cx="1785600" cy="1785600"/>
            <a:chOff x="3643200" y="4214880"/>
            <a:chExt cx="1785600" cy="1785600"/>
          </a:xfrm>
        </p:grpSpPr>
        <p:sp>
          <p:nvSpPr>
            <p:cNvPr id="277" name="椭圆 17"/>
            <p:cNvSpPr/>
            <p:nvPr/>
          </p:nvSpPr>
          <p:spPr>
            <a:xfrm>
              <a:off x="3766320" y="4338000"/>
              <a:ext cx="1539360" cy="153936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78" name="椭圆 18"/>
            <p:cNvSpPr/>
            <p:nvPr/>
          </p:nvSpPr>
          <p:spPr>
            <a:xfrm>
              <a:off x="3831120" y="4435200"/>
              <a:ext cx="1357200" cy="13572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45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空心弧 19"/>
            <p:cNvSpPr/>
            <p:nvPr/>
          </p:nvSpPr>
          <p:spPr>
            <a:xfrm>
              <a:off x="3643200" y="4214880"/>
              <a:ext cx="1785600" cy="1785600"/>
            </a:xfrm>
            <a:prstGeom prst="blockArc">
              <a:avLst>
                <a:gd name="adj1" fmla="val 7059502"/>
                <a:gd name="adj2" fmla="val 16605261"/>
                <a:gd name="adj3" fmla="val 12078"/>
              </a:avLst>
            </a:prstGeom>
            <a:solidFill>
              <a:schemeClr val="bg1">
                <a:alpha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矩形 20"/>
          <p:cNvSpPr/>
          <p:nvPr/>
        </p:nvSpPr>
        <p:spPr>
          <a:xfrm>
            <a:off x="3143160" y="300024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1"/>
          <p:cNvGrpSpPr/>
          <p:nvPr/>
        </p:nvGrpSpPr>
        <p:grpSpPr>
          <a:xfrm>
            <a:off x="6500880" y="2500200"/>
            <a:ext cx="1785600" cy="1785600"/>
            <a:chOff x="6500880" y="2500200"/>
            <a:chExt cx="1785600" cy="1785600"/>
          </a:xfrm>
        </p:grpSpPr>
        <p:sp>
          <p:nvSpPr>
            <p:cNvPr id="282" name="椭圆 22"/>
            <p:cNvSpPr/>
            <p:nvPr/>
          </p:nvSpPr>
          <p:spPr>
            <a:xfrm>
              <a:off x="6624000" y="2623320"/>
              <a:ext cx="1539360" cy="153936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83" name="椭圆 23"/>
            <p:cNvSpPr/>
            <p:nvPr/>
          </p:nvSpPr>
          <p:spPr>
            <a:xfrm>
              <a:off x="6701400" y="2733120"/>
              <a:ext cx="1357200" cy="13572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75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空心弧 24"/>
            <p:cNvSpPr/>
            <p:nvPr/>
          </p:nvSpPr>
          <p:spPr>
            <a:xfrm>
              <a:off x="6500880" y="2500200"/>
              <a:ext cx="1785600" cy="1785600"/>
            </a:xfrm>
            <a:prstGeom prst="blockArc">
              <a:avLst>
                <a:gd name="adj1" fmla="val 49819"/>
                <a:gd name="adj2" fmla="val 16605261"/>
                <a:gd name="adj3" fmla="val 12078"/>
              </a:avLst>
            </a:prstGeom>
            <a:solidFill>
              <a:schemeClr val="bg1">
                <a:alpha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矩形 25"/>
          <p:cNvSpPr/>
          <p:nvPr/>
        </p:nvSpPr>
        <p:spPr>
          <a:xfrm>
            <a:off x="6000840" y="442908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组合 3"/>
          <p:cNvGrpSpPr/>
          <p:nvPr/>
        </p:nvGrpSpPr>
        <p:grpSpPr>
          <a:xfrm>
            <a:off x="533880" y="252720"/>
            <a:ext cx="856800" cy="818280"/>
            <a:chOff x="533880" y="252720"/>
            <a:chExt cx="856800" cy="818280"/>
          </a:xfrm>
        </p:grpSpPr>
        <p:sp>
          <p:nvSpPr>
            <p:cNvPr id="289" name="AutoShape 4"/>
            <p:cNvSpPr/>
            <p:nvPr/>
          </p:nvSpPr>
          <p:spPr>
            <a:xfrm>
              <a:off x="544320" y="25272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718560" y="36108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877320" y="25272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036080" y="35964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1194480" y="48636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533880" y="61308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52680" y="51552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6" name="矩形 15"/>
          <p:cNvSpPr/>
          <p:nvPr/>
        </p:nvSpPr>
        <p:spPr>
          <a:xfrm>
            <a:off x="1214280" y="2214720"/>
            <a:ext cx="3357360" cy="178560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7"/>
          <p:cNvSpPr/>
          <p:nvPr/>
        </p:nvSpPr>
        <p:spPr>
          <a:xfrm>
            <a:off x="4572000" y="2214720"/>
            <a:ext cx="3357360" cy="178560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9"/>
          <p:cNvSpPr/>
          <p:nvPr/>
        </p:nvSpPr>
        <p:spPr>
          <a:xfrm>
            <a:off x="1214280" y="4000680"/>
            <a:ext cx="3357360" cy="178560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0"/>
          <p:cNvSpPr/>
          <p:nvPr/>
        </p:nvSpPr>
        <p:spPr>
          <a:xfrm>
            <a:off x="4572000" y="4000680"/>
            <a:ext cx="3357360" cy="178560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00" name="流程图: 或者 16"/>
          <p:cNvSpPr/>
          <p:nvPr/>
        </p:nvSpPr>
        <p:spPr>
          <a:xfrm>
            <a:off x="4012920" y="3429000"/>
            <a:ext cx="1134000" cy="1134000"/>
          </a:xfrm>
          <a:prstGeom prst="flowChartOr">
            <a:avLst/>
          </a:prstGeom>
          <a:ln>
            <a:solidFill>
              <a:srgbClr val="ffffff">
                <a:alpha val="47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矩形 21"/>
          <p:cNvSpPr/>
          <p:nvPr/>
        </p:nvSpPr>
        <p:spPr>
          <a:xfrm>
            <a:off x="4158720" y="3502440"/>
            <a:ext cx="37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矩形 22"/>
          <p:cNvSpPr/>
          <p:nvPr/>
        </p:nvSpPr>
        <p:spPr>
          <a:xfrm>
            <a:off x="4618440" y="3500280"/>
            <a:ext cx="37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23"/>
          <p:cNvSpPr/>
          <p:nvPr/>
        </p:nvSpPr>
        <p:spPr>
          <a:xfrm>
            <a:off x="4158720" y="4002480"/>
            <a:ext cx="37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矩形 24"/>
          <p:cNvSpPr/>
          <p:nvPr/>
        </p:nvSpPr>
        <p:spPr>
          <a:xfrm>
            <a:off x="4618440" y="4000680"/>
            <a:ext cx="37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06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组合 3"/>
          <p:cNvGrpSpPr/>
          <p:nvPr/>
        </p:nvGrpSpPr>
        <p:grpSpPr>
          <a:xfrm>
            <a:off x="533880" y="252720"/>
            <a:ext cx="856800" cy="818280"/>
            <a:chOff x="533880" y="252720"/>
            <a:chExt cx="856800" cy="818280"/>
          </a:xfrm>
        </p:grpSpPr>
        <p:sp>
          <p:nvSpPr>
            <p:cNvPr id="308" name="AutoShape 4"/>
            <p:cNvSpPr/>
            <p:nvPr/>
          </p:nvSpPr>
          <p:spPr>
            <a:xfrm>
              <a:off x="544320" y="25272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718560" y="36108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877320" y="25272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1036080" y="35964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1194480" y="48636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533880" y="61308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652680" y="51552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椭圆 12"/>
          <p:cNvSpPr/>
          <p:nvPr/>
        </p:nvSpPr>
        <p:spPr>
          <a:xfrm>
            <a:off x="1596600" y="2916360"/>
            <a:ext cx="1285560" cy="1285560"/>
          </a:xfrm>
          <a:prstGeom prst="ellipse">
            <a:avLst/>
          </a:prstGeom>
          <a:noFill/>
          <a:ln cap="rnd" w="127000">
            <a:solidFill>
              <a:srgbClr val="ffffff">
                <a:alpha val="77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6" name="椭圆 13"/>
          <p:cNvSpPr/>
          <p:nvPr/>
        </p:nvSpPr>
        <p:spPr>
          <a:xfrm>
            <a:off x="1071360" y="2403720"/>
            <a:ext cx="2356920" cy="2356920"/>
          </a:xfrm>
          <a:prstGeom prst="ellipse">
            <a:avLst/>
          </a:prstGeom>
          <a:noFill/>
          <a:ln cap="rnd" w="133350">
            <a:solidFill>
              <a:srgbClr val="ffffff">
                <a:alpha val="77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17" name="组合 16"/>
          <p:cNvGrpSpPr/>
          <p:nvPr/>
        </p:nvGrpSpPr>
        <p:grpSpPr>
          <a:xfrm>
            <a:off x="2739600" y="2467080"/>
            <a:ext cx="646560" cy="642600"/>
            <a:chOff x="2739600" y="2467080"/>
            <a:chExt cx="646560" cy="642600"/>
          </a:xfrm>
        </p:grpSpPr>
        <p:sp useBgFill="1">
          <p:nvSpPr>
            <p:cNvPr id="318" name="椭圆 15"/>
            <p:cNvSpPr/>
            <p:nvPr/>
          </p:nvSpPr>
          <p:spPr>
            <a:xfrm>
              <a:off x="2743560" y="2467080"/>
              <a:ext cx="642600" cy="6426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9" name="椭圆 14"/>
            <p:cNvSpPr/>
            <p:nvPr/>
          </p:nvSpPr>
          <p:spPr>
            <a:xfrm>
              <a:off x="2739600" y="2467080"/>
              <a:ext cx="642600" cy="64260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7"/>
          <p:cNvGrpSpPr/>
          <p:nvPr/>
        </p:nvGrpSpPr>
        <p:grpSpPr>
          <a:xfrm>
            <a:off x="1277640" y="3092400"/>
            <a:ext cx="646200" cy="642600"/>
            <a:chOff x="1277640" y="3092400"/>
            <a:chExt cx="646200" cy="642600"/>
          </a:xfrm>
        </p:grpSpPr>
        <p:sp useBgFill="1">
          <p:nvSpPr>
            <p:cNvPr id="321" name="椭圆 18"/>
            <p:cNvSpPr/>
            <p:nvPr/>
          </p:nvSpPr>
          <p:spPr>
            <a:xfrm>
              <a:off x="1281240" y="3092400"/>
              <a:ext cx="642600" cy="6426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2" name="椭圆 19"/>
            <p:cNvSpPr/>
            <p:nvPr/>
          </p:nvSpPr>
          <p:spPr>
            <a:xfrm>
              <a:off x="1277640" y="3092400"/>
              <a:ext cx="642600" cy="64260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20"/>
          <p:cNvGrpSpPr/>
          <p:nvPr/>
        </p:nvGrpSpPr>
        <p:grpSpPr>
          <a:xfrm>
            <a:off x="1613520" y="4357800"/>
            <a:ext cx="646200" cy="642600"/>
            <a:chOff x="1613520" y="4357800"/>
            <a:chExt cx="646200" cy="642600"/>
          </a:xfrm>
        </p:grpSpPr>
        <p:sp useBgFill="1">
          <p:nvSpPr>
            <p:cNvPr id="324" name="椭圆 21"/>
            <p:cNvSpPr/>
            <p:nvPr/>
          </p:nvSpPr>
          <p:spPr>
            <a:xfrm>
              <a:off x="1617120" y="4357800"/>
              <a:ext cx="642600" cy="6426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5" name="椭圆 22"/>
            <p:cNvSpPr/>
            <p:nvPr/>
          </p:nvSpPr>
          <p:spPr>
            <a:xfrm>
              <a:off x="1613520" y="4357800"/>
              <a:ext cx="642600" cy="64260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29"/>
          <p:cNvGrpSpPr/>
          <p:nvPr/>
        </p:nvGrpSpPr>
        <p:grpSpPr>
          <a:xfrm>
            <a:off x="3070800" y="2000160"/>
            <a:ext cx="1215360" cy="357840"/>
            <a:chOff x="3070800" y="2000160"/>
            <a:chExt cx="1215360" cy="357840"/>
          </a:xfrm>
        </p:grpSpPr>
        <p:cxnSp>
          <p:nvCxnSpPr>
            <p:cNvPr id="327" name="直接连接符 26"/>
            <p:cNvCxnSpPr/>
            <p:nvPr/>
          </p:nvCxnSpPr>
          <p:spPr>
            <a:xfrm flipH="1">
              <a:off x="3070800" y="2000880"/>
              <a:ext cx="1800" cy="35748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28" name="直接连接符 28"/>
            <p:cNvCxnSpPr/>
            <p:nvPr/>
          </p:nvCxnSpPr>
          <p:spPr>
            <a:xfrm>
              <a:off x="3071520" y="2000160"/>
              <a:ext cx="1215000" cy="180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329" name="矩形 30"/>
          <p:cNvSpPr/>
          <p:nvPr/>
        </p:nvSpPr>
        <p:spPr>
          <a:xfrm>
            <a:off x="4357800" y="1714320"/>
            <a:ext cx="40003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" name="直接连接符 32"/>
          <p:cNvCxnSpPr/>
          <p:nvPr/>
        </p:nvCxnSpPr>
        <p:spPr>
          <a:xfrm>
            <a:off x="1643040" y="3786120"/>
            <a:ext cx="2643480" cy="180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331" name="矩形 33"/>
          <p:cNvSpPr/>
          <p:nvPr/>
        </p:nvSpPr>
        <p:spPr>
          <a:xfrm>
            <a:off x="4357800" y="3500280"/>
            <a:ext cx="40003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34"/>
          <p:cNvGrpSpPr/>
          <p:nvPr/>
        </p:nvGrpSpPr>
        <p:grpSpPr>
          <a:xfrm>
            <a:off x="1928520" y="5072040"/>
            <a:ext cx="2304720" cy="357840"/>
            <a:chOff x="1928520" y="5072040"/>
            <a:chExt cx="2304720" cy="357840"/>
          </a:xfrm>
        </p:grpSpPr>
        <p:cxnSp>
          <p:nvCxnSpPr>
            <p:cNvPr id="333" name="直接连接符 35"/>
            <p:cNvCxnSpPr/>
            <p:nvPr/>
          </p:nvCxnSpPr>
          <p:spPr>
            <a:xfrm flipH="1" flipV="1">
              <a:off x="1928520" y="5072040"/>
              <a:ext cx="2160" cy="35748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34" name="直接连接符 36"/>
            <p:cNvCxnSpPr/>
            <p:nvPr/>
          </p:nvCxnSpPr>
          <p:spPr>
            <a:xfrm flipV="1">
              <a:off x="1929240" y="5428440"/>
              <a:ext cx="2304360" cy="180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335" name="矩形 37"/>
          <p:cNvSpPr/>
          <p:nvPr/>
        </p:nvSpPr>
        <p:spPr>
          <a:xfrm>
            <a:off x="4357800" y="5143680"/>
            <a:ext cx="40003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组合 1"/>
          <p:cNvGrpSpPr/>
          <p:nvPr/>
        </p:nvGrpSpPr>
        <p:grpSpPr>
          <a:xfrm>
            <a:off x="347760" y="1712160"/>
            <a:ext cx="3085200" cy="3091680"/>
            <a:chOff x="347760" y="1712160"/>
            <a:chExt cx="3085200" cy="3091680"/>
          </a:xfrm>
        </p:grpSpPr>
        <p:grpSp>
          <p:nvGrpSpPr>
            <p:cNvPr id="337" name="组合 30"/>
            <p:cNvGrpSpPr/>
            <p:nvPr/>
          </p:nvGrpSpPr>
          <p:grpSpPr>
            <a:xfrm>
              <a:off x="347760" y="1712160"/>
              <a:ext cx="3085200" cy="3091680"/>
              <a:chOff x="347760" y="1712160"/>
              <a:chExt cx="3085200" cy="3091680"/>
            </a:xfrm>
          </p:grpSpPr>
          <p:sp>
            <p:nvSpPr>
              <p:cNvPr id="338" name="八角星 6"/>
              <p:cNvSpPr/>
              <p:nvPr/>
            </p:nvSpPr>
            <p:spPr>
              <a:xfrm rot="1389000">
                <a:off x="796680" y="218700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9" name="八角星 7"/>
              <p:cNvSpPr/>
              <p:nvPr/>
            </p:nvSpPr>
            <p:spPr>
              <a:xfrm rot="1765200">
                <a:off x="790560" y="21981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0" name="八角星 8"/>
              <p:cNvSpPr/>
              <p:nvPr/>
            </p:nvSpPr>
            <p:spPr>
              <a:xfrm rot="2125800">
                <a:off x="785520" y="21927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1" name="八角星 9"/>
              <p:cNvSpPr/>
              <p:nvPr/>
            </p:nvSpPr>
            <p:spPr>
              <a:xfrm rot="2517000">
                <a:off x="786600" y="218628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2" name="八角星 10"/>
              <p:cNvSpPr/>
              <p:nvPr/>
            </p:nvSpPr>
            <p:spPr>
              <a:xfrm rot="2860200">
                <a:off x="792000" y="217404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3" name="八角星 11"/>
              <p:cNvSpPr/>
              <p:nvPr/>
            </p:nvSpPr>
            <p:spPr>
              <a:xfrm rot="3231600">
                <a:off x="800280" y="2166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4" name="八角星 12"/>
              <p:cNvSpPr/>
              <p:nvPr/>
            </p:nvSpPr>
            <p:spPr>
              <a:xfrm rot="3628800">
                <a:off x="803520" y="2193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345" name="椭圆 3"/>
            <p:cNvSpPr/>
            <p:nvPr/>
          </p:nvSpPr>
          <p:spPr>
            <a:xfrm>
              <a:off x="1272240" y="2683080"/>
              <a:ext cx="1219320" cy="115380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6" name="矩形 34"/>
          <p:cNvSpPr/>
          <p:nvPr/>
        </p:nvSpPr>
        <p:spPr>
          <a:xfrm>
            <a:off x="3286080" y="2428920"/>
            <a:ext cx="42858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 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组合 45"/>
          <p:cNvGrpSpPr/>
          <p:nvPr/>
        </p:nvGrpSpPr>
        <p:grpSpPr>
          <a:xfrm>
            <a:off x="3382560" y="3286080"/>
            <a:ext cx="5261040" cy="785520"/>
            <a:chOff x="3382560" y="3286080"/>
            <a:chExt cx="5261040" cy="785520"/>
          </a:xfrm>
        </p:grpSpPr>
        <p:sp>
          <p:nvSpPr>
            <p:cNvPr id="348" name="燕尾形 42"/>
            <p:cNvSpPr/>
            <p:nvPr/>
          </p:nvSpPr>
          <p:spPr>
            <a:xfrm>
              <a:off x="3786120" y="3286080"/>
              <a:ext cx="4857480" cy="785520"/>
            </a:xfrm>
            <a:prstGeom prst="chevron">
              <a:avLst>
                <a:gd name="adj" fmla="val 24496"/>
              </a:avLst>
            </a:prstGeom>
            <a:solidFill>
              <a:schemeClr val="bg1">
                <a:alpha val="61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It is a temple here. Please add your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燕尾形 43"/>
            <p:cNvSpPr/>
            <p:nvPr/>
          </p:nvSpPr>
          <p:spPr>
            <a:xfrm>
              <a:off x="358452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4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燕尾形 44"/>
            <p:cNvSpPr/>
            <p:nvPr/>
          </p:nvSpPr>
          <p:spPr>
            <a:xfrm>
              <a:off x="338256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3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组合 29"/>
          <p:cNvGrpSpPr/>
          <p:nvPr/>
        </p:nvGrpSpPr>
        <p:grpSpPr>
          <a:xfrm>
            <a:off x="1428840" y="2928960"/>
            <a:ext cx="1142640" cy="946800"/>
            <a:chOff x="1428840" y="2928960"/>
            <a:chExt cx="1142640" cy="946800"/>
          </a:xfrm>
        </p:grpSpPr>
        <p:sp>
          <p:nvSpPr>
            <p:cNvPr id="352" name="AutoShape 24"/>
            <p:cNvSpPr/>
            <p:nvPr/>
          </p:nvSpPr>
          <p:spPr>
            <a:xfrm>
              <a:off x="1428840" y="292896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26"/>
            <p:cNvSpPr/>
            <p:nvPr/>
          </p:nvSpPr>
          <p:spPr>
            <a:xfrm>
              <a:off x="2149200" y="296352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9"/>
            <p:cNvSpPr/>
            <p:nvPr/>
          </p:nvSpPr>
          <p:spPr>
            <a:xfrm>
              <a:off x="1812600" y="292896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189880" y="29556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>
              <a:off x="2049120" y="296172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2"/>
            <p:cNvSpPr/>
            <p:nvPr/>
          </p:nvSpPr>
          <p:spPr>
            <a:xfrm>
              <a:off x="1663560" y="320436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3"/>
            <p:cNvSpPr/>
            <p:nvPr/>
          </p:nvSpPr>
          <p:spPr>
            <a:xfrm>
              <a:off x="1430640" y="316764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60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组合 34"/>
          <p:cNvGrpSpPr/>
          <p:nvPr/>
        </p:nvGrpSpPr>
        <p:grpSpPr>
          <a:xfrm>
            <a:off x="487440" y="292680"/>
            <a:ext cx="1142640" cy="946800"/>
            <a:chOff x="487440" y="292680"/>
            <a:chExt cx="1142640" cy="946800"/>
          </a:xfrm>
        </p:grpSpPr>
        <p:sp>
          <p:nvSpPr>
            <p:cNvPr id="362" name="AutoShape 24"/>
            <p:cNvSpPr/>
            <p:nvPr/>
          </p:nvSpPr>
          <p:spPr>
            <a:xfrm>
              <a:off x="487440" y="29268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6"/>
            <p:cNvSpPr/>
            <p:nvPr/>
          </p:nvSpPr>
          <p:spPr>
            <a:xfrm>
              <a:off x="1207800" y="32760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9"/>
            <p:cNvSpPr/>
            <p:nvPr/>
          </p:nvSpPr>
          <p:spPr>
            <a:xfrm>
              <a:off x="871200" y="29268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1248480" y="3193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1107720" y="32544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2"/>
            <p:cNvSpPr/>
            <p:nvPr/>
          </p:nvSpPr>
          <p:spPr>
            <a:xfrm>
              <a:off x="722160" y="56844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3"/>
            <p:cNvSpPr/>
            <p:nvPr/>
          </p:nvSpPr>
          <p:spPr>
            <a:xfrm>
              <a:off x="489240" y="53172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任意多边形 45"/>
          <p:cNvSpPr/>
          <p:nvPr/>
        </p:nvSpPr>
        <p:spPr>
          <a:xfrm rot="3325800">
            <a:off x="1422000" y="28789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0" name="圆角矩形 47"/>
          <p:cNvSpPr/>
          <p:nvPr/>
        </p:nvSpPr>
        <p:spPr>
          <a:xfrm>
            <a:off x="2063880" y="3571920"/>
            <a:ext cx="109080" cy="2231640"/>
          </a:xfrm>
          <a:prstGeom prst="roundRect">
            <a:avLst>
              <a:gd name="adj" fmla="val 33260"/>
            </a:avLst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1" name="同心圆 46"/>
          <p:cNvSpPr/>
          <p:nvPr/>
        </p:nvSpPr>
        <p:spPr>
          <a:xfrm>
            <a:off x="1933920" y="3214800"/>
            <a:ext cx="356760" cy="356760"/>
          </a:xfrm>
          <a:prstGeom prst="donut">
            <a:avLst>
              <a:gd name="adj" fmla="val 24730"/>
            </a:avLst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2" name="任意多边形 48"/>
          <p:cNvSpPr/>
          <p:nvPr/>
        </p:nvSpPr>
        <p:spPr>
          <a:xfrm rot="5400000">
            <a:off x="1806480" y="268668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3" name="任意多边形 49"/>
          <p:cNvSpPr/>
          <p:nvPr/>
        </p:nvSpPr>
        <p:spPr>
          <a:xfrm rot="7687800">
            <a:off x="2242080" y="28375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4" name="任意多边形 50"/>
          <p:cNvSpPr/>
          <p:nvPr/>
        </p:nvSpPr>
        <p:spPr>
          <a:xfrm rot="11012400">
            <a:off x="2441160" y="32695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5" name="任意多边形 52"/>
          <p:cNvSpPr/>
          <p:nvPr/>
        </p:nvSpPr>
        <p:spPr>
          <a:xfrm rot="10186800">
            <a:off x="1252440" y="33822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6" name="任意多边形 54"/>
          <p:cNvSpPr/>
          <p:nvPr/>
        </p:nvSpPr>
        <p:spPr>
          <a:xfrm rot="7410600">
            <a:off x="1552320" y="37746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7" name="任意多边形 55"/>
          <p:cNvSpPr/>
          <p:nvPr/>
        </p:nvSpPr>
        <p:spPr>
          <a:xfrm rot="13891800">
            <a:off x="2242800" y="371196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8" name="任意多边形 56"/>
          <p:cNvSpPr/>
          <p:nvPr/>
        </p:nvSpPr>
        <p:spPr>
          <a:xfrm rot="4201200">
            <a:off x="1460880" y="24066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9" name="任意多边形 57"/>
          <p:cNvSpPr/>
          <p:nvPr/>
        </p:nvSpPr>
        <p:spPr>
          <a:xfrm rot="6660000">
            <a:off x="2166480" y="23821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0" name="任意多边形 58"/>
          <p:cNvSpPr/>
          <p:nvPr/>
        </p:nvSpPr>
        <p:spPr>
          <a:xfrm rot="9501600">
            <a:off x="2747520" y="28753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1" name="任意多边形 59"/>
          <p:cNvSpPr/>
          <p:nvPr/>
        </p:nvSpPr>
        <p:spPr>
          <a:xfrm rot="681600">
            <a:off x="947880" y="30150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2" name="任意多边形 60"/>
          <p:cNvSpPr/>
          <p:nvPr/>
        </p:nvSpPr>
        <p:spPr>
          <a:xfrm rot="11898600">
            <a:off x="2734560" y="36360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3" name="任意多边形 61"/>
          <p:cNvSpPr/>
          <p:nvPr/>
        </p:nvSpPr>
        <p:spPr>
          <a:xfrm rot="15006600">
            <a:off x="2090160" y="402516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4" name="矩形 62"/>
          <p:cNvSpPr/>
          <p:nvPr/>
        </p:nvSpPr>
        <p:spPr>
          <a:xfrm>
            <a:off x="4000320" y="2000160"/>
            <a:ext cx="4000320" cy="392868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86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组合 34"/>
          <p:cNvGrpSpPr/>
          <p:nvPr/>
        </p:nvGrpSpPr>
        <p:grpSpPr>
          <a:xfrm>
            <a:off x="487440" y="292680"/>
            <a:ext cx="1142640" cy="946800"/>
            <a:chOff x="487440" y="292680"/>
            <a:chExt cx="1142640" cy="946800"/>
          </a:xfrm>
        </p:grpSpPr>
        <p:sp>
          <p:nvSpPr>
            <p:cNvPr id="388" name="AutoShape 24"/>
            <p:cNvSpPr/>
            <p:nvPr/>
          </p:nvSpPr>
          <p:spPr>
            <a:xfrm>
              <a:off x="487440" y="29268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26"/>
            <p:cNvSpPr/>
            <p:nvPr/>
          </p:nvSpPr>
          <p:spPr>
            <a:xfrm>
              <a:off x="1207800" y="32760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9"/>
            <p:cNvSpPr/>
            <p:nvPr/>
          </p:nvSpPr>
          <p:spPr>
            <a:xfrm>
              <a:off x="871200" y="29268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0"/>
            <p:cNvSpPr/>
            <p:nvPr/>
          </p:nvSpPr>
          <p:spPr>
            <a:xfrm>
              <a:off x="1248480" y="3193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1"/>
            <p:cNvSpPr/>
            <p:nvPr/>
          </p:nvSpPr>
          <p:spPr>
            <a:xfrm>
              <a:off x="1107720" y="32544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2"/>
            <p:cNvSpPr/>
            <p:nvPr/>
          </p:nvSpPr>
          <p:spPr>
            <a:xfrm>
              <a:off x="722160" y="56844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3"/>
            <p:cNvSpPr/>
            <p:nvPr/>
          </p:nvSpPr>
          <p:spPr>
            <a:xfrm>
              <a:off x="489240" y="53172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组合 34"/>
          <p:cNvGrpSpPr/>
          <p:nvPr/>
        </p:nvGrpSpPr>
        <p:grpSpPr>
          <a:xfrm>
            <a:off x="1050840" y="4118040"/>
            <a:ext cx="785520" cy="650880"/>
            <a:chOff x="1050840" y="4118040"/>
            <a:chExt cx="785520" cy="650880"/>
          </a:xfrm>
        </p:grpSpPr>
        <p:sp>
          <p:nvSpPr>
            <p:cNvPr id="396" name="AutoShape 24"/>
            <p:cNvSpPr/>
            <p:nvPr/>
          </p:nvSpPr>
          <p:spPr>
            <a:xfrm>
              <a:off x="1050840" y="4118040"/>
              <a:ext cx="78552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6"/>
            <p:cNvSpPr/>
            <p:nvPr/>
          </p:nvSpPr>
          <p:spPr>
            <a:xfrm>
              <a:off x="1546200" y="4141800"/>
              <a:ext cx="27720" cy="12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9"/>
            <p:cNvSpPr/>
            <p:nvPr/>
          </p:nvSpPr>
          <p:spPr>
            <a:xfrm>
              <a:off x="1314720" y="4118040"/>
              <a:ext cx="231120" cy="33768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30"/>
            <p:cNvSpPr/>
            <p:nvPr/>
          </p:nvSpPr>
          <p:spPr>
            <a:xfrm>
              <a:off x="1574280" y="4136400"/>
              <a:ext cx="10800" cy="5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1"/>
            <p:cNvSpPr/>
            <p:nvPr/>
          </p:nvSpPr>
          <p:spPr>
            <a:xfrm>
              <a:off x="1477440" y="4140360"/>
              <a:ext cx="207360" cy="3182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2"/>
            <p:cNvSpPr/>
            <p:nvPr/>
          </p:nvSpPr>
          <p:spPr>
            <a:xfrm>
              <a:off x="1212120" y="4307400"/>
              <a:ext cx="21960" cy="55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3"/>
            <p:cNvSpPr/>
            <p:nvPr/>
          </p:nvSpPr>
          <p:spPr>
            <a:xfrm>
              <a:off x="1052280" y="4282200"/>
              <a:ext cx="295560" cy="2703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69"/>
          <p:cNvGrpSpPr/>
          <p:nvPr/>
        </p:nvGrpSpPr>
        <p:grpSpPr>
          <a:xfrm>
            <a:off x="2857320" y="2975040"/>
            <a:ext cx="537480" cy="513000"/>
            <a:chOff x="2857320" y="2975040"/>
            <a:chExt cx="537480" cy="513000"/>
          </a:xfrm>
        </p:grpSpPr>
        <p:sp>
          <p:nvSpPr>
            <p:cNvPr id="404" name="AutoShape 4"/>
            <p:cNvSpPr/>
            <p:nvPr/>
          </p:nvSpPr>
          <p:spPr>
            <a:xfrm>
              <a:off x="2864160" y="2975040"/>
              <a:ext cx="530640" cy="51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2973240" y="3042720"/>
              <a:ext cx="47520" cy="18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7"/>
            <p:cNvSpPr/>
            <p:nvPr/>
          </p:nvSpPr>
          <p:spPr>
            <a:xfrm>
              <a:off x="3072960" y="2975040"/>
              <a:ext cx="47160" cy="263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8"/>
            <p:cNvSpPr/>
            <p:nvPr/>
          </p:nvSpPr>
          <p:spPr>
            <a:xfrm>
              <a:off x="3172320" y="3042000"/>
              <a:ext cx="47160" cy="238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>
              <a:off x="3272040" y="3121560"/>
              <a:ext cx="47520" cy="12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857320" y="3201120"/>
              <a:ext cx="529200" cy="286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2931840" y="3139560"/>
              <a:ext cx="436320" cy="22320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组合 77"/>
          <p:cNvGrpSpPr/>
          <p:nvPr/>
        </p:nvGrpSpPr>
        <p:grpSpPr>
          <a:xfrm>
            <a:off x="4643280" y="1903320"/>
            <a:ext cx="499680" cy="730440"/>
            <a:chOff x="4643280" y="1903320"/>
            <a:chExt cx="499680" cy="730440"/>
          </a:xfrm>
        </p:grpSpPr>
        <p:sp>
          <p:nvSpPr>
            <p:cNvPr id="412" name="饼形 78"/>
            <p:cNvSpPr/>
            <p:nvPr/>
          </p:nvSpPr>
          <p:spPr>
            <a:xfrm>
              <a:off x="4643280" y="2134080"/>
              <a:ext cx="499680" cy="49968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菱形 79"/>
            <p:cNvSpPr/>
            <p:nvPr/>
          </p:nvSpPr>
          <p:spPr>
            <a:xfrm>
              <a:off x="4869000" y="2152080"/>
              <a:ext cx="54720" cy="232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4" name="菱形 80"/>
            <p:cNvSpPr/>
            <p:nvPr/>
          </p:nvSpPr>
          <p:spPr>
            <a:xfrm>
              <a:off x="4855320" y="2128320"/>
              <a:ext cx="77400" cy="7308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5" name="椭圆 81"/>
            <p:cNvSpPr/>
            <p:nvPr/>
          </p:nvSpPr>
          <p:spPr>
            <a:xfrm>
              <a:off x="4790520" y="1903320"/>
              <a:ext cx="204840" cy="2048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16" name="组合 104"/>
          <p:cNvGrpSpPr/>
          <p:nvPr/>
        </p:nvGrpSpPr>
        <p:grpSpPr>
          <a:xfrm>
            <a:off x="4643280" y="2475000"/>
            <a:ext cx="3571560" cy="1071000"/>
            <a:chOff x="4643280" y="2475000"/>
            <a:chExt cx="3571560" cy="1071000"/>
          </a:xfrm>
        </p:grpSpPr>
        <p:grpSp>
          <p:nvGrpSpPr>
            <p:cNvPr id="417" name="组合 31"/>
            <p:cNvGrpSpPr/>
            <p:nvPr/>
          </p:nvGrpSpPr>
          <p:grpSpPr>
            <a:xfrm>
              <a:off x="4643280" y="2475000"/>
              <a:ext cx="3571560" cy="1071000"/>
              <a:chOff x="4643280" y="2475000"/>
              <a:chExt cx="3571560" cy="1071000"/>
            </a:xfrm>
          </p:grpSpPr>
          <p:sp>
            <p:nvSpPr>
              <p:cNvPr id="418" name="矩形 29"/>
              <p:cNvSpPr/>
              <p:nvPr/>
            </p:nvSpPr>
            <p:spPr>
              <a:xfrm>
                <a:off x="4643280" y="2475000"/>
                <a:ext cx="3571560" cy="785520"/>
              </a:xfrm>
              <a:prstGeom prst="rect">
                <a:avLst/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EXT HE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t is a temple here. Please add your tex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等腰三角形 30"/>
              <p:cNvSpPr/>
              <p:nvPr/>
            </p:nvSpPr>
            <p:spPr>
              <a:xfrm flipV="1">
                <a:off x="6220080" y="3260160"/>
                <a:ext cx="394200" cy="28548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420" name="组合 101"/>
            <p:cNvGrpSpPr/>
            <p:nvPr/>
          </p:nvGrpSpPr>
          <p:grpSpPr>
            <a:xfrm>
              <a:off x="6224400" y="3225240"/>
              <a:ext cx="395640" cy="46080"/>
              <a:chOff x="6224400" y="3225240"/>
              <a:chExt cx="395640" cy="46080"/>
            </a:xfrm>
          </p:grpSpPr>
          <p:sp useBgFill="1">
            <p:nvSpPr>
              <p:cNvPr id="421" name="圆角矩形 102"/>
              <p:cNvSpPr/>
              <p:nvPr/>
            </p:nvSpPr>
            <p:spPr>
              <a:xfrm>
                <a:off x="6224400" y="3225960"/>
                <a:ext cx="395640" cy="45360"/>
              </a:xfrm>
              <a:prstGeom prst="roundRect">
                <a:avLst>
                  <a:gd name="adj" fmla="val 16667"/>
                </a:avLst>
              </a:prstGeom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22" name="圆角矩形 103"/>
              <p:cNvSpPr/>
              <p:nvPr/>
            </p:nvSpPr>
            <p:spPr>
              <a:xfrm>
                <a:off x="6224400" y="3225240"/>
                <a:ext cx="39564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alpha val="58000"/>
                </a:schemeClr>
              </a:solidFill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423" name="组合 105"/>
          <p:cNvGrpSpPr/>
          <p:nvPr/>
        </p:nvGrpSpPr>
        <p:grpSpPr>
          <a:xfrm>
            <a:off x="2857320" y="3571920"/>
            <a:ext cx="3571560" cy="1071000"/>
            <a:chOff x="2857320" y="3571920"/>
            <a:chExt cx="3571560" cy="1071000"/>
          </a:xfrm>
        </p:grpSpPr>
        <p:grpSp>
          <p:nvGrpSpPr>
            <p:cNvPr id="424" name="组合 106"/>
            <p:cNvGrpSpPr/>
            <p:nvPr/>
          </p:nvGrpSpPr>
          <p:grpSpPr>
            <a:xfrm>
              <a:off x="2857320" y="3571920"/>
              <a:ext cx="3571560" cy="1071000"/>
              <a:chOff x="2857320" y="3571920"/>
              <a:chExt cx="3571560" cy="1071000"/>
            </a:xfrm>
          </p:grpSpPr>
          <p:sp>
            <p:nvSpPr>
              <p:cNvPr id="425" name="矩形 110"/>
              <p:cNvSpPr/>
              <p:nvPr/>
            </p:nvSpPr>
            <p:spPr>
              <a:xfrm>
                <a:off x="2857320" y="3571920"/>
                <a:ext cx="3571560" cy="785520"/>
              </a:xfrm>
              <a:prstGeom prst="rect">
                <a:avLst/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EXT HE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t is a temple here. Please add your tex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等腰三角形 111"/>
              <p:cNvSpPr/>
              <p:nvPr/>
            </p:nvSpPr>
            <p:spPr>
              <a:xfrm flipV="1">
                <a:off x="4434120" y="4357080"/>
                <a:ext cx="394200" cy="28548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427" name="组合 107"/>
            <p:cNvGrpSpPr/>
            <p:nvPr/>
          </p:nvGrpSpPr>
          <p:grpSpPr>
            <a:xfrm>
              <a:off x="4438440" y="4322520"/>
              <a:ext cx="395640" cy="45720"/>
              <a:chOff x="4438440" y="4322520"/>
              <a:chExt cx="395640" cy="45720"/>
            </a:xfrm>
          </p:grpSpPr>
          <p:sp useBgFill="1">
            <p:nvSpPr>
              <p:cNvPr id="428" name="圆角矩形 108"/>
              <p:cNvSpPr/>
              <p:nvPr/>
            </p:nvSpPr>
            <p:spPr>
              <a:xfrm>
                <a:off x="4438440" y="4322880"/>
                <a:ext cx="395640" cy="45360"/>
              </a:xfrm>
              <a:prstGeom prst="roundRect">
                <a:avLst>
                  <a:gd name="adj" fmla="val 16667"/>
                </a:avLst>
              </a:prstGeom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29" name="圆角矩形 109"/>
              <p:cNvSpPr/>
              <p:nvPr/>
            </p:nvSpPr>
            <p:spPr>
              <a:xfrm>
                <a:off x="4438440" y="4322520"/>
                <a:ext cx="39564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alpha val="58000"/>
                </a:schemeClr>
              </a:solidFill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430" name="组合 112"/>
          <p:cNvGrpSpPr/>
          <p:nvPr/>
        </p:nvGrpSpPr>
        <p:grpSpPr>
          <a:xfrm>
            <a:off x="1071360" y="4668840"/>
            <a:ext cx="3571560" cy="1071000"/>
            <a:chOff x="1071360" y="4668840"/>
            <a:chExt cx="3571560" cy="1071000"/>
          </a:xfrm>
        </p:grpSpPr>
        <p:grpSp>
          <p:nvGrpSpPr>
            <p:cNvPr id="431" name="组合 113"/>
            <p:cNvGrpSpPr/>
            <p:nvPr/>
          </p:nvGrpSpPr>
          <p:grpSpPr>
            <a:xfrm>
              <a:off x="1071360" y="4668840"/>
              <a:ext cx="3571560" cy="1071000"/>
              <a:chOff x="1071360" y="4668840"/>
              <a:chExt cx="3571560" cy="1071000"/>
            </a:xfrm>
          </p:grpSpPr>
          <p:sp>
            <p:nvSpPr>
              <p:cNvPr id="432" name="矩形 117"/>
              <p:cNvSpPr/>
              <p:nvPr/>
            </p:nvSpPr>
            <p:spPr>
              <a:xfrm>
                <a:off x="1071360" y="4668840"/>
                <a:ext cx="3571560" cy="785520"/>
              </a:xfrm>
              <a:prstGeom prst="rect">
                <a:avLst/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EXT HE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t is a temple here. Please add your tex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等腰三角形 118"/>
              <p:cNvSpPr/>
              <p:nvPr/>
            </p:nvSpPr>
            <p:spPr>
              <a:xfrm flipV="1">
                <a:off x="2648160" y="5454000"/>
                <a:ext cx="394200" cy="28548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434" name="组合 114"/>
            <p:cNvGrpSpPr/>
            <p:nvPr/>
          </p:nvGrpSpPr>
          <p:grpSpPr>
            <a:xfrm>
              <a:off x="2652480" y="5419440"/>
              <a:ext cx="395640" cy="46080"/>
              <a:chOff x="2652480" y="5419440"/>
              <a:chExt cx="395640" cy="46080"/>
            </a:xfrm>
          </p:grpSpPr>
          <p:sp useBgFill="1">
            <p:nvSpPr>
              <p:cNvPr id="435" name="圆角矩形 115"/>
              <p:cNvSpPr/>
              <p:nvPr/>
            </p:nvSpPr>
            <p:spPr>
              <a:xfrm>
                <a:off x="2652480" y="5420160"/>
                <a:ext cx="395640" cy="45360"/>
              </a:xfrm>
              <a:prstGeom prst="roundRect">
                <a:avLst>
                  <a:gd name="adj" fmla="val 16667"/>
                </a:avLst>
              </a:prstGeom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36" name="圆角矩形 116"/>
              <p:cNvSpPr/>
              <p:nvPr/>
            </p:nvSpPr>
            <p:spPr>
              <a:xfrm>
                <a:off x="2652480" y="5419440"/>
                <a:ext cx="39564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alpha val="58000"/>
                </a:schemeClr>
              </a:solidFill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sp>
        <p:nvSpPr>
          <p:cNvPr id="437" name="Text Box 3"/>
          <p:cNvSpPr/>
          <p:nvPr/>
        </p:nvSpPr>
        <p:spPr>
          <a:xfrm>
            <a:off x="456480" y="6358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39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34"/>
          <p:cNvGrpSpPr/>
          <p:nvPr/>
        </p:nvGrpSpPr>
        <p:grpSpPr>
          <a:xfrm>
            <a:off x="487440" y="292680"/>
            <a:ext cx="1142640" cy="946800"/>
            <a:chOff x="487440" y="292680"/>
            <a:chExt cx="1142640" cy="946800"/>
          </a:xfrm>
        </p:grpSpPr>
        <p:sp>
          <p:nvSpPr>
            <p:cNvPr id="441" name="AutoShape 24"/>
            <p:cNvSpPr/>
            <p:nvPr/>
          </p:nvSpPr>
          <p:spPr>
            <a:xfrm>
              <a:off x="487440" y="29268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6"/>
            <p:cNvSpPr/>
            <p:nvPr/>
          </p:nvSpPr>
          <p:spPr>
            <a:xfrm>
              <a:off x="1207800" y="32760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9"/>
            <p:cNvSpPr/>
            <p:nvPr/>
          </p:nvSpPr>
          <p:spPr>
            <a:xfrm>
              <a:off x="871200" y="29268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0"/>
            <p:cNvSpPr/>
            <p:nvPr/>
          </p:nvSpPr>
          <p:spPr>
            <a:xfrm>
              <a:off x="1248480" y="3193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1"/>
            <p:cNvSpPr/>
            <p:nvPr/>
          </p:nvSpPr>
          <p:spPr>
            <a:xfrm>
              <a:off x="1107720" y="32544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2"/>
            <p:cNvSpPr/>
            <p:nvPr/>
          </p:nvSpPr>
          <p:spPr>
            <a:xfrm>
              <a:off x="722160" y="56844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33"/>
            <p:cNvSpPr/>
            <p:nvPr/>
          </p:nvSpPr>
          <p:spPr>
            <a:xfrm>
              <a:off x="489240" y="53172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8" name="椭圆 11"/>
          <p:cNvSpPr/>
          <p:nvPr/>
        </p:nvSpPr>
        <p:spPr>
          <a:xfrm>
            <a:off x="1143000" y="2857320"/>
            <a:ext cx="1928520" cy="1928520"/>
          </a:xfrm>
          <a:prstGeom prst="ellipse">
            <a:avLst/>
          </a:prstGeom>
          <a:blipFill rotWithShape="0">
            <a:blip r:embed="rId1"/>
            <a:srcRect/>
            <a:tile tx="7099437" ty="5224050" sx="44995" sy="44995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椭圆 12"/>
          <p:cNvSpPr/>
          <p:nvPr/>
        </p:nvSpPr>
        <p:spPr>
          <a:xfrm>
            <a:off x="714240" y="2428920"/>
            <a:ext cx="2785680" cy="2785680"/>
          </a:xfrm>
          <a:prstGeom prst="ellipse">
            <a:avLst/>
          </a:prstGeom>
          <a:noFill/>
          <a:ln w="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450" name="组合 14"/>
          <p:cNvGrpSpPr/>
          <p:nvPr/>
        </p:nvGrpSpPr>
        <p:grpSpPr>
          <a:xfrm>
            <a:off x="2571840" y="2143080"/>
            <a:ext cx="831600" cy="826920"/>
            <a:chOff x="2571840" y="2143080"/>
            <a:chExt cx="831600" cy="826920"/>
          </a:xfrm>
        </p:grpSpPr>
        <p:sp useBgFill="1">
          <p:nvSpPr>
            <p:cNvPr id="451" name="椭圆 15"/>
            <p:cNvSpPr/>
            <p:nvPr/>
          </p:nvSpPr>
          <p:spPr>
            <a:xfrm>
              <a:off x="2576520" y="2143080"/>
              <a:ext cx="826920" cy="82692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2" name="椭圆 16"/>
            <p:cNvSpPr/>
            <p:nvPr/>
          </p:nvSpPr>
          <p:spPr>
            <a:xfrm>
              <a:off x="2571840" y="2143080"/>
              <a:ext cx="826920" cy="82692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53" name="组合 17"/>
          <p:cNvGrpSpPr/>
          <p:nvPr/>
        </p:nvGrpSpPr>
        <p:grpSpPr>
          <a:xfrm>
            <a:off x="2747880" y="2269440"/>
            <a:ext cx="499680" cy="730440"/>
            <a:chOff x="2747880" y="2269440"/>
            <a:chExt cx="499680" cy="730440"/>
          </a:xfrm>
        </p:grpSpPr>
        <p:sp>
          <p:nvSpPr>
            <p:cNvPr id="454" name="饼形 18"/>
            <p:cNvSpPr/>
            <p:nvPr/>
          </p:nvSpPr>
          <p:spPr>
            <a:xfrm>
              <a:off x="2747880" y="2500200"/>
              <a:ext cx="499680" cy="49968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菱形 19"/>
            <p:cNvSpPr/>
            <p:nvPr/>
          </p:nvSpPr>
          <p:spPr>
            <a:xfrm>
              <a:off x="2973600" y="2518200"/>
              <a:ext cx="54720" cy="232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6" name="菱形 20"/>
            <p:cNvSpPr/>
            <p:nvPr/>
          </p:nvSpPr>
          <p:spPr>
            <a:xfrm>
              <a:off x="2959920" y="2494440"/>
              <a:ext cx="77400" cy="7308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7" name="椭圆 21"/>
            <p:cNvSpPr/>
            <p:nvPr/>
          </p:nvSpPr>
          <p:spPr>
            <a:xfrm>
              <a:off x="2895120" y="2269440"/>
              <a:ext cx="204840" cy="2048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58" name="组合 22"/>
          <p:cNvGrpSpPr/>
          <p:nvPr/>
        </p:nvGrpSpPr>
        <p:grpSpPr>
          <a:xfrm>
            <a:off x="3239640" y="3357720"/>
            <a:ext cx="831960" cy="826920"/>
            <a:chOff x="3239640" y="3357720"/>
            <a:chExt cx="831960" cy="826920"/>
          </a:xfrm>
        </p:grpSpPr>
        <p:sp useBgFill="1">
          <p:nvSpPr>
            <p:cNvPr id="459" name="椭圆 23"/>
            <p:cNvSpPr/>
            <p:nvPr/>
          </p:nvSpPr>
          <p:spPr>
            <a:xfrm>
              <a:off x="3244680" y="3357720"/>
              <a:ext cx="826920" cy="82692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0" name="椭圆 24"/>
            <p:cNvSpPr/>
            <p:nvPr/>
          </p:nvSpPr>
          <p:spPr>
            <a:xfrm>
              <a:off x="3239640" y="3357720"/>
              <a:ext cx="826920" cy="82692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61" name="组合 30"/>
          <p:cNvGrpSpPr/>
          <p:nvPr/>
        </p:nvGrpSpPr>
        <p:grpSpPr>
          <a:xfrm>
            <a:off x="2596680" y="4643280"/>
            <a:ext cx="831960" cy="826920"/>
            <a:chOff x="2596680" y="4643280"/>
            <a:chExt cx="831960" cy="826920"/>
          </a:xfrm>
        </p:grpSpPr>
        <p:sp useBgFill="1">
          <p:nvSpPr>
            <p:cNvPr id="462" name="椭圆 31"/>
            <p:cNvSpPr/>
            <p:nvPr/>
          </p:nvSpPr>
          <p:spPr>
            <a:xfrm>
              <a:off x="2601720" y="4643280"/>
              <a:ext cx="826920" cy="82692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3" name="椭圆 32"/>
            <p:cNvSpPr/>
            <p:nvPr/>
          </p:nvSpPr>
          <p:spPr>
            <a:xfrm>
              <a:off x="2596680" y="4643280"/>
              <a:ext cx="826920" cy="82692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64" name="组合 34"/>
          <p:cNvGrpSpPr/>
          <p:nvPr/>
        </p:nvGrpSpPr>
        <p:grpSpPr>
          <a:xfrm>
            <a:off x="2709720" y="4857840"/>
            <a:ext cx="785520" cy="650880"/>
            <a:chOff x="2709720" y="4857840"/>
            <a:chExt cx="785520" cy="650880"/>
          </a:xfrm>
        </p:grpSpPr>
        <p:sp>
          <p:nvSpPr>
            <p:cNvPr id="465" name="AutoShape 24"/>
            <p:cNvSpPr/>
            <p:nvPr/>
          </p:nvSpPr>
          <p:spPr>
            <a:xfrm>
              <a:off x="2709720" y="4857840"/>
              <a:ext cx="78552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3205080" y="4881600"/>
              <a:ext cx="27720" cy="12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9"/>
            <p:cNvSpPr/>
            <p:nvPr/>
          </p:nvSpPr>
          <p:spPr>
            <a:xfrm>
              <a:off x="2973600" y="4857840"/>
              <a:ext cx="231120" cy="33768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30"/>
            <p:cNvSpPr/>
            <p:nvPr/>
          </p:nvSpPr>
          <p:spPr>
            <a:xfrm>
              <a:off x="3233160" y="4875840"/>
              <a:ext cx="10800" cy="5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31"/>
            <p:cNvSpPr/>
            <p:nvPr/>
          </p:nvSpPr>
          <p:spPr>
            <a:xfrm>
              <a:off x="3136320" y="4880160"/>
              <a:ext cx="207360" cy="3182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32"/>
            <p:cNvSpPr/>
            <p:nvPr/>
          </p:nvSpPr>
          <p:spPr>
            <a:xfrm>
              <a:off x="2871360" y="5047200"/>
              <a:ext cx="21960" cy="55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3"/>
            <p:cNvSpPr/>
            <p:nvPr/>
          </p:nvSpPr>
          <p:spPr>
            <a:xfrm>
              <a:off x="2711160" y="5022000"/>
              <a:ext cx="295560" cy="2703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6"/>
          <p:cNvGrpSpPr/>
          <p:nvPr/>
        </p:nvGrpSpPr>
        <p:grpSpPr>
          <a:xfrm>
            <a:off x="3378240" y="3500280"/>
            <a:ext cx="537120" cy="513000"/>
            <a:chOff x="3378240" y="3500280"/>
            <a:chExt cx="537120" cy="513000"/>
          </a:xfrm>
        </p:grpSpPr>
        <p:sp>
          <p:nvSpPr>
            <p:cNvPr id="473" name="AutoShape 4"/>
            <p:cNvSpPr/>
            <p:nvPr/>
          </p:nvSpPr>
          <p:spPr>
            <a:xfrm>
              <a:off x="3384720" y="3500280"/>
              <a:ext cx="530640" cy="51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3494160" y="3568320"/>
              <a:ext cx="47520" cy="18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7"/>
            <p:cNvSpPr/>
            <p:nvPr/>
          </p:nvSpPr>
          <p:spPr>
            <a:xfrm>
              <a:off x="3593520" y="3500280"/>
              <a:ext cx="47160" cy="263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8"/>
            <p:cNvSpPr/>
            <p:nvPr/>
          </p:nvSpPr>
          <p:spPr>
            <a:xfrm>
              <a:off x="3692880" y="3567240"/>
              <a:ext cx="47160" cy="238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9"/>
            <p:cNvSpPr/>
            <p:nvPr/>
          </p:nvSpPr>
          <p:spPr>
            <a:xfrm>
              <a:off x="3792600" y="3646800"/>
              <a:ext cx="47520" cy="12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0"/>
            <p:cNvSpPr/>
            <p:nvPr/>
          </p:nvSpPr>
          <p:spPr>
            <a:xfrm>
              <a:off x="3378240" y="3726360"/>
              <a:ext cx="529200" cy="286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1"/>
            <p:cNvSpPr/>
            <p:nvPr/>
          </p:nvSpPr>
          <p:spPr>
            <a:xfrm>
              <a:off x="3452760" y="3665160"/>
              <a:ext cx="436320" cy="22320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矩形 54"/>
          <p:cNvSpPr/>
          <p:nvPr/>
        </p:nvSpPr>
        <p:spPr>
          <a:xfrm>
            <a:off x="3500280" y="1928880"/>
            <a:ext cx="521460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矩形 55"/>
          <p:cNvSpPr/>
          <p:nvPr/>
        </p:nvSpPr>
        <p:spPr>
          <a:xfrm>
            <a:off x="4071960" y="3286080"/>
            <a:ext cx="521460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矩形 56"/>
          <p:cNvSpPr/>
          <p:nvPr/>
        </p:nvSpPr>
        <p:spPr>
          <a:xfrm>
            <a:off x="3429000" y="4643280"/>
            <a:ext cx="521460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84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组合 34"/>
          <p:cNvGrpSpPr/>
          <p:nvPr/>
        </p:nvGrpSpPr>
        <p:grpSpPr>
          <a:xfrm>
            <a:off x="487440" y="292680"/>
            <a:ext cx="1142640" cy="946800"/>
            <a:chOff x="487440" y="292680"/>
            <a:chExt cx="1142640" cy="946800"/>
          </a:xfrm>
        </p:grpSpPr>
        <p:sp>
          <p:nvSpPr>
            <p:cNvPr id="486" name="AutoShape 24"/>
            <p:cNvSpPr/>
            <p:nvPr/>
          </p:nvSpPr>
          <p:spPr>
            <a:xfrm>
              <a:off x="487440" y="29268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6"/>
            <p:cNvSpPr/>
            <p:nvPr/>
          </p:nvSpPr>
          <p:spPr>
            <a:xfrm>
              <a:off x="1207800" y="32760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9"/>
            <p:cNvSpPr/>
            <p:nvPr/>
          </p:nvSpPr>
          <p:spPr>
            <a:xfrm>
              <a:off x="871200" y="29268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0"/>
            <p:cNvSpPr/>
            <p:nvPr/>
          </p:nvSpPr>
          <p:spPr>
            <a:xfrm>
              <a:off x="1248480" y="3193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1"/>
            <p:cNvSpPr/>
            <p:nvPr/>
          </p:nvSpPr>
          <p:spPr>
            <a:xfrm>
              <a:off x="1107720" y="32544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2"/>
            <p:cNvSpPr/>
            <p:nvPr/>
          </p:nvSpPr>
          <p:spPr>
            <a:xfrm>
              <a:off x="722160" y="56844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3"/>
            <p:cNvSpPr/>
            <p:nvPr/>
          </p:nvSpPr>
          <p:spPr>
            <a:xfrm>
              <a:off x="489240" y="53172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矩形 11"/>
          <p:cNvSpPr/>
          <p:nvPr/>
        </p:nvSpPr>
        <p:spPr>
          <a:xfrm>
            <a:off x="1428840" y="2189160"/>
            <a:ext cx="3928680" cy="66816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2"/>
          <p:cNvSpPr/>
          <p:nvPr/>
        </p:nvSpPr>
        <p:spPr>
          <a:xfrm>
            <a:off x="2428920" y="3546360"/>
            <a:ext cx="3928680" cy="66816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3"/>
          <p:cNvSpPr/>
          <p:nvPr/>
        </p:nvSpPr>
        <p:spPr>
          <a:xfrm>
            <a:off x="3429000" y="4903920"/>
            <a:ext cx="5759640" cy="66816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34"/>
          <p:cNvGrpSpPr/>
          <p:nvPr/>
        </p:nvGrpSpPr>
        <p:grpSpPr>
          <a:xfrm>
            <a:off x="2714760" y="5063760"/>
            <a:ext cx="785520" cy="650880"/>
            <a:chOff x="2714760" y="5063760"/>
            <a:chExt cx="785520" cy="650880"/>
          </a:xfrm>
        </p:grpSpPr>
        <p:sp>
          <p:nvSpPr>
            <p:cNvPr id="497" name="AutoShape 24"/>
            <p:cNvSpPr/>
            <p:nvPr/>
          </p:nvSpPr>
          <p:spPr>
            <a:xfrm>
              <a:off x="2714760" y="5063760"/>
              <a:ext cx="78552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6"/>
            <p:cNvSpPr/>
            <p:nvPr/>
          </p:nvSpPr>
          <p:spPr>
            <a:xfrm>
              <a:off x="3210120" y="5087880"/>
              <a:ext cx="27720" cy="12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29"/>
            <p:cNvSpPr/>
            <p:nvPr/>
          </p:nvSpPr>
          <p:spPr>
            <a:xfrm>
              <a:off x="2978280" y="5063760"/>
              <a:ext cx="231120" cy="33768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0"/>
            <p:cNvSpPr/>
            <p:nvPr/>
          </p:nvSpPr>
          <p:spPr>
            <a:xfrm>
              <a:off x="3238200" y="5082120"/>
              <a:ext cx="10800" cy="5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1"/>
            <p:cNvSpPr/>
            <p:nvPr/>
          </p:nvSpPr>
          <p:spPr>
            <a:xfrm>
              <a:off x="3141360" y="5086440"/>
              <a:ext cx="207360" cy="3182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2"/>
            <p:cNvSpPr/>
            <p:nvPr/>
          </p:nvSpPr>
          <p:spPr>
            <a:xfrm>
              <a:off x="2876040" y="5253480"/>
              <a:ext cx="21960" cy="55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3"/>
            <p:cNvSpPr/>
            <p:nvPr/>
          </p:nvSpPr>
          <p:spPr>
            <a:xfrm>
              <a:off x="2715840" y="5227920"/>
              <a:ext cx="295560" cy="2703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组合 22"/>
          <p:cNvGrpSpPr/>
          <p:nvPr/>
        </p:nvGrpSpPr>
        <p:grpSpPr>
          <a:xfrm>
            <a:off x="1785960" y="3643200"/>
            <a:ext cx="537120" cy="513000"/>
            <a:chOff x="1785960" y="3643200"/>
            <a:chExt cx="537120" cy="513000"/>
          </a:xfrm>
        </p:grpSpPr>
        <p:sp>
          <p:nvSpPr>
            <p:cNvPr id="505" name="AutoShape 4"/>
            <p:cNvSpPr/>
            <p:nvPr/>
          </p:nvSpPr>
          <p:spPr>
            <a:xfrm>
              <a:off x="1792440" y="3643200"/>
              <a:ext cx="530640" cy="51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901880" y="3711240"/>
              <a:ext cx="47520" cy="18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2001240" y="3643200"/>
              <a:ext cx="47160" cy="263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00960" y="3710160"/>
              <a:ext cx="47160" cy="238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200320" y="3789720"/>
              <a:ext cx="47520" cy="12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1785960" y="3869280"/>
              <a:ext cx="529200" cy="286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1860480" y="3808080"/>
              <a:ext cx="436320" cy="22320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30"/>
          <p:cNvGrpSpPr/>
          <p:nvPr/>
        </p:nvGrpSpPr>
        <p:grpSpPr>
          <a:xfrm>
            <a:off x="785880" y="2286000"/>
            <a:ext cx="499680" cy="730440"/>
            <a:chOff x="785880" y="2286000"/>
            <a:chExt cx="499680" cy="730440"/>
          </a:xfrm>
        </p:grpSpPr>
        <p:sp>
          <p:nvSpPr>
            <p:cNvPr id="513" name="饼形 31"/>
            <p:cNvSpPr/>
            <p:nvPr/>
          </p:nvSpPr>
          <p:spPr>
            <a:xfrm>
              <a:off x="785880" y="2516760"/>
              <a:ext cx="499680" cy="49968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菱形 32"/>
            <p:cNvSpPr/>
            <p:nvPr/>
          </p:nvSpPr>
          <p:spPr>
            <a:xfrm>
              <a:off x="1011600" y="2534760"/>
              <a:ext cx="54720" cy="232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5" name="菱形 33"/>
            <p:cNvSpPr/>
            <p:nvPr/>
          </p:nvSpPr>
          <p:spPr>
            <a:xfrm>
              <a:off x="997920" y="2510640"/>
              <a:ext cx="77400" cy="7308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6" name="椭圆 34"/>
            <p:cNvSpPr/>
            <p:nvPr/>
          </p:nvSpPr>
          <p:spPr>
            <a:xfrm>
              <a:off x="932760" y="2286000"/>
              <a:ext cx="204840" cy="2048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17" name="平行四边形 35"/>
          <p:cNvSpPr/>
          <p:nvPr/>
        </p:nvSpPr>
        <p:spPr>
          <a:xfrm>
            <a:off x="2428920" y="2857320"/>
            <a:ext cx="2928600" cy="690840"/>
          </a:xfrm>
          <a:prstGeom prst="parallelogram">
            <a:avLst>
              <a:gd name="adj" fmla="val 112618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8" name="平行四边形 36"/>
          <p:cNvSpPr/>
          <p:nvPr/>
        </p:nvSpPr>
        <p:spPr>
          <a:xfrm>
            <a:off x="3429000" y="4216320"/>
            <a:ext cx="2928600" cy="690840"/>
          </a:xfrm>
          <a:prstGeom prst="parallelogram">
            <a:avLst>
              <a:gd name="adj" fmla="val 112618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组合 39"/>
          <p:cNvGrpSpPr/>
          <p:nvPr/>
        </p:nvGrpSpPr>
        <p:grpSpPr>
          <a:xfrm>
            <a:off x="1852560" y="650160"/>
            <a:ext cx="5572800" cy="5585040"/>
            <a:chOff x="1852560" y="650160"/>
            <a:chExt cx="5572800" cy="5585040"/>
          </a:xfrm>
        </p:grpSpPr>
        <p:grpSp>
          <p:nvGrpSpPr>
            <p:cNvPr id="520" name="组合 30"/>
            <p:cNvGrpSpPr/>
            <p:nvPr/>
          </p:nvGrpSpPr>
          <p:grpSpPr>
            <a:xfrm>
              <a:off x="1852560" y="650160"/>
              <a:ext cx="5572800" cy="5585040"/>
              <a:chOff x="1852560" y="650160"/>
              <a:chExt cx="5572800" cy="5585040"/>
            </a:xfrm>
          </p:grpSpPr>
          <p:sp>
            <p:nvSpPr>
              <p:cNvPr id="521" name="八角星 17"/>
              <p:cNvSpPr/>
              <p:nvPr/>
            </p:nvSpPr>
            <p:spPr>
              <a:xfrm rot="1389000">
                <a:off x="2663280" y="150804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" name="八角星 23"/>
              <p:cNvSpPr/>
              <p:nvPr/>
            </p:nvSpPr>
            <p:spPr>
              <a:xfrm rot="1765200">
                <a:off x="2652120" y="152892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" name="八角星 24"/>
              <p:cNvSpPr/>
              <p:nvPr/>
            </p:nvSpPr>
            <p:spPr>
              <a:xfrm rot="2125800">
                <a:off x="2642760" y="151884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" name="八角星 25"/>
              <p:cNvSpPr/>
              <p:nvPr/>
            </p:nvSpPr>
            <p:spPr>
              <a:xfrm rot="2517000">
                <a:off x="2644920" y="150696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" name="八角星 26"/>
              <p:cNvSpPr/>
              <p:nvPr/>
            </p:nvSpPr>
            <p:spPr>
              <a:xfrm rot="2860200">
                <a:off x="2654280" y="148500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" name="八角星 27"/>
              <p:cNvSpPr/>
              <p:nvPr/>
            </p:nvSpPr>
            <p:spPr>
              <a:xfrm rot="3231600">
                <a:off x="2669400" y="147024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" name="八角星 28"/>
              <p:cNvSpPr/>
              <p:nvPr/>
            </p:nvSpPr>
            <p:spPr>
              <a:xfrm rot="3628800">
                <a:off x="2675160" y="151920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28" name="组合 31"/>
            <p:cNvGrpSpPr/>
            <p:nvPr/>
          </p:nvGrpSpPr>
          <p:grpSpPr>
            <a:xfrm>
              <a:off x="3209760" y="2087280"/>
              <a:ext cx="2867040" cy="2727360"/>
              <a:chOff x="3209760" y="2087280"/>
              <a:chExt cx="2867040" cy="2727360"/>
            </a:xfrm>
          </p:grpSpPr>
          <p:sp useBgFill="1">
            <p:nvSpPr>
              <p:cNvPr id="529" name="椭圆 3"/>
              <p:cNvSpPr/>
              <p:nvPr/>
            </p:nvSpPr>
            <p:spPr>
              <a:xfrm>
                <a:off x="3209760" y="2087280"/>
                <a:ext cx="2867040" cy="2712960"/>
              </a:xfrm>
              <a:prstGeom prst="ellipse">
                <a:avLst/>
              </a:prstGeom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" name="椭圆 21"/>
              <p:cNvSpPr/>
              <p:nvPr/>
            </p:nvSpPr>
            <p:spPr>
              <a:xfrm>
                <a:off x="3255120" y="2087280"/>
                <a:ext cx="2771280" cy="2727360"/>
              </a:xfrm>
              <a:prstGeom prst="ellipse">
                <a:avLst/>
              </a:prstGeom>
              <a:solidFill>
                <a:schemeClr val="tx1">
                  <a:alpha val="61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400" spc="-1" strike="noStrike">
                    <a:solidFill>
                      <a:schemeClr val="lt1"/>
                    </a:solidFill>
                    <a:latin typeface="Calibri"/>
                  </a:rPr>
                  <a:t>THANKS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3200" spc="-1" strike="noStrike">
                    <a:solidFill>
                      <a:schemeClr val="lt1"/>
                    </a:solidFill>
                    <a:latin typeface="Calibri"/>
                  </a:rPr>
                  <a:t> </a:t>
                </a:r>
                <a:r>
                  <a:rPr b="1" lang="en-US" sz="3200" spc="-1" strike="noStrike">
                    <a:solidFill>
                      <a:schemeClr val="lt1"/>
                    </a:solidFill>
                    <a:latin typeface="Calibri"/>
                  </a:rPr>
                  <a:t>slid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椭圆 19"/>
          <p:cNvSpPr/>
          <p:nvPr/>
        </p:nvSpPr>
        <p:spPr>
          <a:xfrm>
            <a:off x="4214880" y="3423600"/>
            <a:ext cx="179640" cy="179640"/>
          </a:xfrm>
          <a:prstGeom prst="ellipse">
            <a:avLst/>
          </a:prstGeom>
          <a:noFill/>
          <a:ln w="158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2" name="椭圆 20"/>
          <p:cNvSpPr/>
          <p:nvPr/>
        </p:nvSpPr>
        <p:spPr>
          <a:xfrm>
            <a:off x="4572000" y="3423600"/>
            <a:ext cx="179640" cy="179640"/>
          </a:xfrm>
          <a:prstGeom prst="ellipse">
            <a:avLst/>
          </a:prstGeom>
          <a:solidFill>
            <a:schemeClr val="bg1"/>
          </a:solidFill>
          <a:ln w="158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3" name="椭圆 22"/>
          <p:cNvSpPr/>
          <p:nvPr/>
        </p:nvSpPr>
        <p:spPr>
          <a:xfrm>
            <a:off x="4929120" y="3423600"/>
            <a:ext cx="179640" cy="179640"/>
          </a:xfrm>
          <a:prstGeom prst="ellipse">
            <a:avLst/>
          </a:prstGeom>
          <a:noFill/>
          <a:ln w="158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1"/>
          <p:cNvGrpSpPr/>
          <p:nvPr/>
        </p:nvGrpSpPr>
        <p:grpSpPr>
          <a:xfrm>
            <a:off x="1488600" y="1420560"/>
            <a:ext cx="1591920" cy="1595520"/>
            <a:chOff x="1488600" y="1420560"/>
            <a:chExt cx="1591920" cy="1595520"/>
          </a:xfrm>
        </p:grpSpPr>
        <p:grpSp>
          <p:nvGrpSpPr>
            <p:cNvPr id="62" name="组合 30"/>
            <p:cNvGrpSpPr/>
            <p:nvPr/>
          </p:nvGrpSpPr>
          <p:grpSpPr>
            <a:xfrm>
              <a:off x="1488600" y="1420560"/>
              <a:ext cx="1591920" cy="1595520"/>
              <a:chOff x="1488600" y="1420560"/>
              <a:chExt cx="1591920" cy="1595520"/>
            </a:xfrm>
          </p:grpSpPr>
          <p:sp>
            <p:nvSpPr>
              <p:cNvPr id="63" name="八角星 6"/>
              <p:cNvSpPr/>
              <p:nvPr/>
            </p:nvSpPr>
            <p:spPr>
              <a:xfrm rot="1389000">
                <a:off x="1720440" y="16657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" name="八角星 7"/>
              <p:cNvSpPr/>
              <p:nvPr/>
            </p:nvSpPr>
            <p:spPr>
              <a:xfrm rot="1765200">
                <a:off x="1716840" y="167148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" name="八角星 8"/>
              <p:cNvSpPr/>
              <p:nvPr/>
            </p:nvSpPr>
            <p:spPr>
              <a:xfrm rot="2125800">
                <a:off x="1714320" y="166860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" name="八角星 9"/>
              <p:cNvSpPr/>
              <p:nvPr/>
            </p:nvSpPr>
            <p:spPr>
              <a:xfrm rot="2517000">
                <a:off x="1714680" y="16653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" name="八角星 10"/>
              <p:cNvSpPr/>
              <p:nvPr/>
            </p:nvSpPr>
            <p:spPr>
              <a:xfrm rot="2860200">
                <a:off x="1717560" y="165888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" name="八角星 11"/>
              <p:cNvSpPr/>
              <p:nvPr/>
            </p:nvSpPr>
            <p:spPr>
              <a:xfrm rot="3231600">
                <a:off x="1722240" y="16545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" name="八角星 12"/>
              <p:cNvSpPr/>
              <p:nvPr/>
            </p:nvSpPr>
            <p:spPr>
              <a:xfrm rot="3628800">
                <a:off x="1723680" y="166860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70" name="椭圆 3"/>
            <p:cNvSpPr/>
            <p:nvPr/>
          </p:nvSpPr>
          <p:spPr>
            <a:xfrm>
              <a:off x="1965600" y="1921680"/>
              <a:ext cx="628920" cy="59544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1" name="矩形 13"/>
          <p:cNvSpPr/>
          <p:nvPr/>
        </p:nvSpPr>
        <p:spPr>
          <a:xfrm>
            <a:off x="571320" y="428760"/>
            <a:ext cx="3071520" cy="713880"/>
          </a:xfrm>
          <a:prstGeom prst="rect">
            <a:avLst/>
          </a:prstGeom>
          <a:noFill/>
          <a:ln w="15875">
            <a:solidFill>
              <a:srgbClr val="ffffff">
                <a:alpha val="56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FrankRueh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组合 14"/>
          <p:cNvGrpSpPr/>
          <p:nvPr/>
        </p:nvGrpSpPr>
        <p:grpSpPr>
          <a:xfrm>
            <a:off x="1488600" y="2992320"/>
            <a:ext cx="1591920" cy="1595160"/>
            <a:chOff x="1488600" y="2992320"/>
            <a:chExt cx="1591920" cy="1595160"/>
          </a:xfrm>
        </p:grpSpPr>
        <p:grpSp>
          <p:nvGrpSpPr>
            <p:cNvPr id="73" name="组合 30"/>
            <p:cNvGrpSpPr/>
            <p:nvPr/>
          </p:nvGrpSpPr>
          <p:grpSpPr>
            <a:xfrm>
              <a:off x="1488600" y="2992320"/>
              <a:ext cx="1591920" cy="1595160"/>
              <a:chOff x="1488600" y="2992320"/>
              <a:chExt cx="1591920" cy="1595160"/>
            </a:xfrm>
          </p:grpSpPr>
          <p:sp>
            <p:nvSpPr>
              <p:cNvPr id="74" name="八角星 17"/>
              <p:cNvSpPr/>
              <p:nvPr/>
            </p:nvSpPr>
            <p:spPr>
              <a:xfrm rot="1389000">
                <a:off x="1720440" y="32371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" name="八角星 18"/>
              <p:cNvSpPr/>
              <p:nvPr/>
            </p:nvSpPr>
            <p:spPr>
              <a:xfrm rot="1765200">
                <a:off x="1716840" y="324324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" name="八角星 19"/>
              <p:cNvSpPr/>
              <p:nvPr/>
            </p:nvSpPr>
            <p:spPr>
              <a:xfrm rot="2125800">
                <a:off x="1714320" y="32403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" name="八角星 20"/>
              <p:cNvSpPr/>
              <p:nvPr/>
            </p:nvSpPr>
            <p:spPr>
              <a:xfrm rot="2517000">
                <a:off x="1714680" y="32367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8" name="八角星 21"/>
              <p:cNvSpPr/>
              <p:nvPr/>
            </p:nvSpPr>
            <p:spPr>
              <a:xfrm rot="2860200">
                <a:off x="1717560" y="323064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" name="八角星 22"/>
              <p:cNvSpPr/>
              <p:nvPr/>
            </p:nvSpPr>
            <p:spPr>
              <a:xfrm rot="3231600">
                <a:off x="1722240" y="32259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" name="八角星 23"/>
              <p:cNvSpPr/>
              <p:nvPr/>
            </p:nvSpPr>
            <p:spPr>
              <a:xfrm rot="3628800">
                <a:off x="1723680" y="32403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81" name="椭圆 3"/>
            <p:cNvSpPr/>
            <p:nvPr/>
          </p:nvSpPr>
          <p:spPr>
            <a:xfrm>
              <a:off x="1965600" y="3493440"/>
              <a:ext cx="628920" cy="59544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2" name="组合 24"/>
          <p:cNvGrpSpPr/>
          <p:nvPr/>
        </p:nvGrpSpPr>
        <p:grpSpPr>
          <a:xfrm>
            <a:off x="1488600" y="4563720"/>
            <a:ext cx="1591920" cy="1595520"/>
            <a:chOff x="1488600" y="4563720"/>
            <a:chExt cx="1591920" cy="1595520"/>
          </a:xfrm>
        </p:grpSpPr>
        <p:grpSp>
          <p:nvGrpSpPr>
            <p:cNvPr id="83" name="组合 30"/>
            <p:cNvGrpSpPr/>
            <p:nvPr/>
          </p:nvGrpSpPr>
          <p:grpSpPr>
            <a:xfrm>
              <a:off x="1488600" y="4563720"/>
              <a:ext cx="1591920" cy="1595520"/>
              <a:chOff x="1488600" y="4563720"/>
              <a:chExt cx="1591920" cy="1595520"/>
            </a:xfrm>
          </p:grpSpPr>
          <p:sp>
            <p:nvSpPr>
              <p:cNvPr id="84" name="八角星 27"/>
              <p:cNvSpPr/>
              <p:nvPr/>
            </p:nvSpPr>
            <p:spPr>
              <a:xfrm rot="1389000">
                <a:off x="1720440" y="480888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" name="八角星 28"/>
              <p:cNvSpPr/>
              <p:nvPr/>
            </p:nvSpPr>
            <p:spPr>
              <a:xfrm rot="1765200">
                <a:off x="1716840" y="481464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" name="八角星 29"/>
              <p:cNvSpPr/>
              <p:nvPr/>
            </p:nvSpPr>
            <p:spPr>
              <a:xfrm rot="2125800">
                <a:off x="1714320" y="48121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" name="八角星 30"/>
              <p:cNvSpPr/>
              <p:nvPr/>
            </p:nvSpPr>
            <p:spPr>
              <a:xfrm rot="2517000">
                <a:off x="1714680" y="48085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" name="八角星 31"/>
              <p:cNvSpPr/>
              <p:nvPr/>
            </p:nvSpPr>
            <p:spPr>
              <a:xfrm rot="2860200">
                <a:off x="1717560" y="480204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9" name="八角星 32"/>
              <p:cNvSpPr/>
              <p:nvPr/>
            </p:nvSpPr>
            <p:spPr>
              <a:xfrm rot="3231600">
                <a:off x="1722240" y="47977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0" name="八角星 33"/>
              <p:cNvSpPr/>
              <p:nvPr/>
            </p:nvSpPr>
            <p:spPr>
              <a:xfrm rot="3628800">
                <a:off x="1723680" y="48117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91" name="椭圆 3"/>
            <p:cNvSpPr/>
            <p:nvPr/>
          </p:nvSpPr>
          <p:spPr>
            <a:xfrm>
              <a:off x="1965600" y="5065200"/>
              <a:ext cx="628920" cy="59544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2" name="矩形 34"/>
          <p:cNvSpPr/>
          <p:nvPr/>
        </p:nvSpPr>
        <p:spPr>
          <a:xfrm>
            <a:off x="3071880" y="1857240"/>
            <a:ext cx="557172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矩形 35"/>
          <p:cNvSpPr/>
          <p:nvPr/>
        </p:nvSpPr>
        <p:spPr>
          <a:xfrm>
            <a:off x="3071880" y="3429000"/>
            <a:ext cx="557172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矩形 36"/>
          <p:cNvSpPr/>
          <p:nvPr/>
        </p:nvSpPr>
        <p:spPr>
          <a:xfrm>
            <a:off x="3071880" y="5000760"/>
            <a:ext cx="557172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组合 37"/>
          <p:cNvGrpSpPr/>
          <p:nvPr/>
        </p:nvGrpSpPr>
        <p:grpSpPr>
          <a:xfrm>
            <a:off x="2096640" y="2021400"/>
            <a:ext cx="365760" cy="534960"/>
            <a:chOff x="2096640" y="2021400"/>
            <a:chExt cx="365760" cy="534960"/>
          </a:xfrm>
        </p:grpSpPr>
        <p:sp>
          <p:nvSpPr>
            <p:cNvPr id="96" name="饼形 38"/>
            <p:cNvSpPr/>
            <p:nvPr/>
          </p:nvSpPr>
          <p:spPr>
            <a:xfrm>
              <a:off x="2096640" y="2190600"/>
              <a:ext cx="365760" cy="36576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r" blurRad="101520" dir="8100000" dist="88586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菱形 39"/>
            <p:cNvSpPr/>
            <p:nvPr/>
          </p:nvSpPr>
          <p:spPr>
            <a:xfrm>
              <a:off x="2261880" y="2203560"/>
              <a:ext cx="39960" cy="16992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菱形 40"/>
            <p:cNvSpPr/>
            <p:nvPr/>
          </p:nvSpPr>
          <p:spPr>
            <a:xfrm>
              <a:off x="2251800" y="2186280"/>
              <a:ext cx="56520" cy="5328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椭圆 41"/>
            <p:cNvSpPr/>
            <p:nvPr/>
          </p:nvSpPr>
          <p:spPr>
            <a:xfrm>
              <a:off x="2204280" y="2021400"/>
              <a:ext cx="149760" cy="149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r" blurRad="127080" dir="81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0" name="组合 56"/>
          <p:cNvGrpSpPr/>
          <p:nvPr/>
        </p:nvGrpSpPr>
        <p:grpSpPr>
          <a:xfrm>
            <a:off x="2071800" y="3571920"/>
            <a:ext cx="428040" cy="408960"/>
            <a:chOff x="2071800" y="3571920"/>
            <a:chExt cx="428040" cy="408960"/>
          </a:xfrm>
        </p:grpSpPr>
        <p:sp>
          <p:nvSpPr>
            <p:cNvPr id="101" name="AutoShape 4"/>
            <p:cNvSpPr/>
            <p:nvPr/>
          </p:nvSpPr>
          <p:spPr>
            <a:xfrm>
              <a:off x="2076840" y="3571920"/>
              <a:ext cx="423000" cy="408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2163960" y="3625920"/>
              <a:ext cx="37800" cy="145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2243520" y="3571920"/>
              <a:ext cx="37440" cy="209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2322720" y="3625200"/>
              <a:ext cx="37440" cy="1897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2401920" y="3688560"/>
              <a:ext cx="37800" cy="10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2071800" y="3751920"/>
              <a:ext cx="421920" cy="22896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2130840" y="3702960"/>
              <a:ext cx="347760" cy="1778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合 73"/>
          <p:cNvGrpSpPr/>
          <p:nvPr/>
        </p:nvGrpSpPr>
        <p:grpSpPr>
          <a:xfrm>
            <a:off x="2058840" y="5213880"/>
            <a:ext cx="571320" cy="473040"/>
            <a:chOff x="2058840" y="5213880"/>
            <a:chExt cx="571320" cy="473040"/>
          </a:xfrm>
        </p:grpSpPr>
        <p:sp>
          <p:nvSpPr>
            <p:cNvPr id="109" name="AutoShape 24"/>
            <p:cNvSpPr/>
            <p:nvPr/>
          </p:nvSpPr>
          <p:spPr>
            <a:xfrm>
              <a:off x="2058840" y="5213880"/>
              <a:ext cx="571320" cy="473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6"/>
            <p:cNvSpPr/>
            <p:nvPr/>
          </p:nvSpPr>
          <p:spPr>
            <a:xfrm>
              <a:off x="2419200" y="5231160"/>
              <a:ext cx="20160" cy="9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9"/>
            <p:cNvSpPr/>
            <p:nvPr/>
          </p:nvSpPr>
          <p:spPr>
            <a:xfrm>
              <a:off x="2250720" y="5213880"/>
              <a:ext cx="168120" cy="245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>
              <a:off x="2439360" y="5227200"/>
              <a:ext cx="7920" cy="3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31"/>
            <p:cNvSpPr/>
            <p:nvPr/>
          </p:nvSpPr>
          <p:spPr>
            <a:xfrm>
              <a:off x="2369160" y="523044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>
              <a:off x="2176200" y="5351760"/>
              <a:ext cx="15840" cy="40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2059920" y="5333400"/>
              <a:ext cx="214920" cy="19656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1"/>
          <p:cNvGrpSpPr/>
          <p:nvPr/>
        </p:nvGrpSpPr>
        <p:grpSpPr>
          <a:xfrm>
            <a:off x="347760" y="1712160"/>
            <a:ext cx="3085200" cy="3091680"/>
            <a:chOff x="347760" y="1712160"/>
            <a:chExt cx="3085200" cy="3091680"/>
          </a:xfrm>
        </p:grpSpPr>
        <p:grpSp>
          <p:nvGrpSpPr>
            <p:cNvPr id="117" name="组合 30"/>
            <p:cNvGrpSpPr/>
            <p:nvPr/>
          </p:nvGrpSpPr>
          <p:grpSpPr>
            <a:xfrm>
              <a:off x="347760" y="1712160"/>
              <a:ext cx="3085200" cy="3091680"/>
              <a:chOff x="347760" y="1712160"/>
              <a:chExt cx="3085200" cy="3091680"/>
            </a:xfrm>
          </p:grpSpPr>
          <p:sp>
            <p:nvSpPr>
              <p:cNvPr id="118" name="八角星 6"/>
              <p:cNvSpPr/>
              <p:nvPr/>
            </p:nvSpPr>
            <p:spPr>
              <a:xfrm rot="1389000">
                <a:off x="796680" y="218700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9" name="八角星 7"/>
              <p:cNvSpPr/>
              <p:nvPr/>
            </p:nvSpPr>
            <p:spPr>
              <a:xfrm rot="1765200">
                <a:off x="790560" y="21981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0" name="八角星 8"/>
              <p:cNvSpPr/>
              <p:nvPr/>
            </p:nvSpPr>
            <p:spPr>
              <a:xfrm rot="2125800">
                <a:off x="785520" y="21927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1" name="八角星 9"/>
              <p:cNvSpPr/>
              <p:nvPr/>
            </p:nvSpPr>
            <p:spPr>
              <a:xfrm rot="2517000">
                <a:off x="786600" y="218628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2" name="八角星 10"/>
              <p:cNvSpPr/>
              <p:nvPr/>
            </p:nvSpPr>
            <p:spPr>
              <a:xfrm rot="2860200">
                <a:off x="792000" y="217404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" name="八角星 11"/>
              <p:cNvSpPr/>
              <p:nvPr/>
            </p:nvSpPr>
            <p:spPr>
              <a:xfrm rot="3231600">
                <a:off x="800280" y="2166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4" name="八角星 12"/>
              <p:cNvSpPr/>
              <p:nvPr/>
            </p:nvSpPr>
            <p:spPr>
              <a:xfrm rot="3628800">
                <a:off x="803520" y="2193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125" name="椭圆 3"/>
            <p:cNvSpPr/>
            <p:nvPr/>
          </p:nvSpPr>
          <p:spPr>
            <a:xfrm>
              <a:off x="1272240" y="2683080"/>
              <a:ext cx="1219320" cy="115380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6" name="矩形 34"/>
          <p:cNvSpPr/>
          <p:nvPr/>
        </p:nvSpPr>
        <p:spPr>
          <a:xfrm>
            <a:off x="3286080" y="2428920"/>
            <a:ext cx="42858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 0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组合 37"/>
          <p:cNvGrpSpPr/>
          <p:nvPr/>
        </p:nvGrpSpPr>
        <p:grpSpPr>
          <a:xfrm>
            <a:off x="1491480" y="2845080"/>
            <a:ext cx="785520" cy="1148040"/>
            <a:chOff x="1491480" y="2845080"/>
            <a:chExt cx="785520" cy="1148040"/>
          </a:xfrm>
        </p:grpSpPr>
        <p:sp>
          <p:nvSpPr>
            <p:cNvPr id="128" name="饼形 38"/>
            <p:cNvSpPr/>
            <p:nvPr/>
          </p:nvSpPr>
          <p:spPr>
            <a:xfrm>
              <a:off x="1491480" y="320760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r" blurRad="101520" dir="8100000" dist="88586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菱形 39"/>
            <p:cNvSpPr/>
            <p:nvPr/>
          </p:nvSpPr>
          <p:spPr>
            <a:xfrm>
              <a:off x="1846080" y="323604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菱形 40"/>
            <p:cNvSpPr/>
            <p:nvPr/>
          </p:nvSpPr>
          <p:spPr>
            <a:xfrm>
              <a:off x="1824480" y="319824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椭圆 41"/>
            <p:cNvSpPr/>
            <p:nvPr/>
          </p:nvSpPr>
          <p:spPr>
            <a:xfrm>
              <a:off x="1722240" y="284508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r" blurRad="127080" dir="81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2" name="组合 45"/>
          <p:cNvGrpSpPr/>
          <p:nvPr/>
        </p:nvGrpSpPr>
        <p:grpSpPr>
          <a:xfrm>
            <a:off x="3382560" y="3286080"/>
            <a:ext cx="5261040" cy="785520"/>
            <a:chOff x="3382560" y="3286080"/>
            <a:chExt cx="5261040" cy="785520"/>
          </a:xfrm>
        </p:grpSpPr>
        <p:sp>
          <p:nvSpPr>
            <p:cNvPr id="133" name="燕尾形 42"/>
            <p:cNvSpPr/>
            <p:nvPr/>
          </p:nvSpPr>
          <p:spPr>
            <a:xfrm>
              <a:off x="3786120" y="3286080"/>
              <a:ext cx="4857480" cy="785520"/>
            </a:xfrm>
            <a:prstGeom prst="chevron">
              <a:avLst>
                <a:gd name="adj" fmla="val 24496"/>
              </a:avLst>
            </a:prstGeom>
            <a:solidFill>
              <a:schemeClr val="bg1">
                <a:alpha val="61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It is a temple here. Please add your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燕尾形 43"/>
            <p:cNvSpPr/>
            <p:nvPr/>
          </p:nvSpPr>
          <p:spPr>
            <a:xfrm>
              <a:off x="358452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4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燕尾形 44"/>
            <p:cNvSpPr/>
            <p:nvPr/>
          </p:nvSpPr>
          <p:spPr>
            <a:xfrm>
              <a:off x="338256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3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grpSp>
        <p:nvGrpSpPr>
          <p:cNvPr id="137" name="组合 2"/>
          <p:cNvGrpSpPr/>
          <p:nvPr/>
        </p:nvGrpSpPr>
        <p:grpSpPr>
          <a:xfrm>
            <a:off x="571320" y="285840"/>
            <a:ext cx="785520" cy="1148040"/>
            <a:chOff x="571320" y="285840"/>
            <a:chExt cx="785520" cy="1148040"/>
          </a:xfrm>
        </p:grpSpPr>
        <p:sp>
          <p:nvSpPr>
            <p:cNvPr id="138" name="饼形 3"/>
            <p:cNvSpPr/>
            <p:nvPr/>
          </p:nvSpPr>
          <p:spPr>
            <a:xfrm>
              <a:off x="571320" y="64836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菱形 4"/>
            <p:cNvSpPr/>
            <p:nvPr/>
          </p:nvSpPr>
          <p:spPr>
            <a:xfrm>
              <a:off x="925920" y="67680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菱形 5"/>
            <p:cNvSpPr/>
            <p:nvPr/>
          </p:nvSpPr>
          <p:spPr>
            <a:xfrm>
              <a:off x="904680" y="63900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椭圆 6"/>
            <p:cNvSpPr/>
            <p:nvPr/>
          </p:nvSpPr>
          <p:spPr>
            <a:xfrm>
              <a:off x="802440" y="28584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2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组合 10"/>
          <p:cNvGrpSpPr/>
          <p:nvPr/>
        </p:nvGrpSpPr>
        <p:grpSpPr>
          <a:xfrm>
            <a:off x="6643800" y="2000160"/>
            <a:ext cx="2071440" cy="2071440"/>
            <a:chOff x="6643800" y="2000160"/>
            <a:chExt cx="2071440" cy="2071440"/>
          </a:xfrm>
        </p:grpSpPr>
        <p:sp>
          <p:nvSpPr>
            <p:cNvPr id="144" name="椭圆 9"/>
            <p:cNvSpPr/>
            <p:nvPr/>
          </p:nvSpPr>
          <p:spPr>
            <a:xfrm>
              <a:off x="6643800" y="2000160"/>
              <a:ext cx="2071440" cy="207144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椭圆 8"/>
            <p:cNvSpPr/>
            <p:nvPr/>
          </p:nvSpPr>
          <p:spPr>
            <a:xfrm>
              <a:off x="6858000" y="2214720"/>
              <a:ext cx="1642680" cy="1642680"/>
            </a:xfrm>
            <a:prstGeom prst="ellipse">
              <a:avLst/>
            </a:prstGeom>
            <a:blipFill rotWithShape="0">
              <a:blip r:embed="rId1"/>
              <a:srcRect/>
              <a:tile tx="8090056" ty="0" sx="39998" sy="40000" algn="ctr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6" name="组合 11"/>
          <p:cNvGrpSpPr/>
          <p:nvPr/>
        </p:nvGrpSpPr>
        <p:grpSpPr>
          <a:xfrm>
            <a:off x="3714840" y="2286000"/>
            <a:ext cx="1213920" cy="1213920"/>
            <a:chOff x="3714840" y="2286000"/>
            <a:chExt cx="1213920" cy="1213920"/>
          </a:xfrm>
        </p:grpSpPr>
        <p:sp>
          <p:nvSpPr>
            <p:cNvPr id="147" name="椭圆 12"/>
            <p:cNvSpPr/>
            <p:nvPr/>
          </p:nvSpPr>
          <p:spPr>
            <a:xfrm>
              <a:off x="3714840" y="2286000"/>
              <a:ext cx="1213920" cy="121392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椭圆 13"/>
            <p:cNvSpPr/>
            <p:nvPr/>
          </p:nvSpPr>
          <p:spPr>
            <a:xfrm>
              <a:off x="3840480" y="2411640"/>
              <a:ext cx="963000" cy="963000"/>
            </a:xfrm>
            <a:prstGeom prst="ellipse">
              <a:avLst/>
            </a:prstGeom>
            <a:blipFill rotWithShape="0">
              <a:blip r:embed="rId2"/>
              <a:srcRect/>
              <a:tile tx="9178369" ty="0" sx="18999" sy="18996" algn="ctr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9" name="组合 14"/>
          <p:cNvGrpSpPr/>
          <p:nvPr/>
        </p:nvGrpSpPr>
        <p:grpSpPr>
          <a:xfrm>
            <a:off x="5286240" y="4500720"/>
            <a:ext cx="1571400" cy="1571400"/>
            <a:chOff x="5286240" y="4500720"/>
            <a:chExt cx="1571400" cy="1571400"/>
          </a:xfrm>
        </p:grpSpPr>
        <p:sp>
          <p:nvSpPr>
            <p:cNvPr id="150" name="椭圆 15"/>
            <p:cNvSpPr/>
            <p:nvPr/>
          </p:nvSpPr>
          <p:spPr>
            <a:xfrm>
              <a:off x="5286240" y="4500720"/>
              <a:ext cx="1571400" cy="157140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椭圆 16"/>
            <p:cNvSpPr/>
            <p:nvPr/>
          </p:nvSpPr>
          <p:spPr>
            <a:xfrm>
              <a:off x="5448960" y="4663080"/>
              <a:ext cx="1245960" cy="1245960"/>
            </a:xfrm>
            <a:prstGeom prst="ellipse">
              <a:avLst/>
            </a:prstGeom>
            <a:blipFill rotWithShape="0">
              <a:blip r:embed="rId3"/>
              <a:srcRect/>
              <a:tile tx="9085658" ty="0" sx="32998" sy="32995" algn="ctr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2" name="矩形 17"/>
          <p:cNvSpPr/>
          <p:nvPr/>
        </p:nvSpPr>
        <p:spPr>
          <a:xfrm>
            <a:off x="357120" y="2928960"/>
            <a:ext cx="4857480" cy="299988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2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00040" y="63334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grpSp>
        <p:nvGrpSpPr>
          <p:cNvPr id="155" name="组合 2"/>
          <p:cNvGrpSpPr/>
          <p:nvPr/>
        </p:nvGrpSpPr>
        <p:grpSpPr>
          <a:xfrm>
            <a:off x="571320" y="285840"/>
            <a:ext cx="785520" cy="1148040"/>
            <a:chOff x="571320" y="285840"/>
            <a:chExt cx="785520" cy="1148040"/>
          </a:xfrm>
        </p:grpSpPr>
        <p:sp>
          <p:nvSpPr>
            <p:cNvPr id="156" name="饼形 3"/>
            <p:cNvSpPr/>
            <p:nvPr/>
          </p:nvSpPr>
          <p:spPr>
            <a:xfrm>
              <a:off x="571320" y="64836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菱形 4"/>
            <p:cNvSpPr/>
            <p:nvPr/>
          </p:nvSpPr>
          <p:spPr>
            <a:xfrm>
              <a:off x="925920" y="67680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菱形 5"/>
            <p:cNvSpPr/>
            <p:nvPr/>
          </p:nvSpPr>
          <p:spPr>
            <a:xfrm>
              <a:off x="904680" y="63900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椭圆 6"/>
            <p:cNvSpPr/>
            <p:nvPr/>
          </p:nvSpPr>
          <p:spPr>
            <a:xfrm>
              <a:off x="802440" y="28584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0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组合 8"/>
          <p:cNvGrpSpPr/>
          <p:nvPr/>
        </p:nvGrpSpPr>
        <p:grpSpPr>
          <a:xfrm>
            <a:off x="285840" y="2291760"/>
            <a:ext cx="3080880" cy="3494520"/>
            <a:chOff x="285840" y="2291760"/>
            <a:chExt cx="3080880" cy="3494520"/>
          </a:xfrm>
        </p:grpSpPr>
        <p:grpSp>
          <p:nvGrpSpPr>
            <p:cNvPr id="162" name="组合 39"/>
            <p:cNvGrpSpPr/>
            <p:nvPr/>
          </p:nvGrpSpPr>
          <p:grpSpPr>
            <a:xfrm>
              <a:off x="285840" y="2291760"/>
              <a:ext cx="3080880" cy="3080880"/>
              <a:chOff x="285840" y="2291760"/>
              <a:chExt cx="3080880" cy="3080880"/>
            </a:xfrm>
          </p:grpSpPr>
          <p:sp>
            <p:nvSpPr>
              <p:cNvPr id="163" name="菱形 14"/>
              <p:cNvSpPr/>
              <p:nvPr/>
            </p:nvSpPr>
            <p:spPr>
              <a:xfrm>
                <a:off x="545760" y="2571840"/>
                <a:ext cx="2571480" cy="2571480"/>
              </a:xfrm>
              <a:prstGeom prst="diamond">
                <a:avLst/>
              </a:prstGeom>
              <a:solidFill>
                <a:schemeClr val="bg1">
                  <a:alpha val="5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4" name="Text Box 5"/>
              <p:cNvSpPr/>
              <p:nvPr/>
            </p:nvSpPr>
            <p:spPr>
              <a:xfrm>
                <a:off x="831600" y="3000240"/>
                <a:ext cx="2071440" cy="1785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400"/>
                  </a:spcBef>
                  <a:tabLst>
                    <a:tab algn="l" pos="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It is a temple here. Please add your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菱形 16"/>
              <p:cNvSpPr/>
              <p:nvPr/>
            </p:nvSpPr>
            <p:spPr>
              <a:xfrm>
                <a:off x="285840" y="2291760"/>
                <a:ext cx="3080880" cy="3080880"/>
              </a:xfrm>
              <a:prstGeom prst="diamond">
                <a:avLst/>
              </a:prstGeom>
              <a:noFill/>
              <a:ln w="9525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166" name="组合 42"/>
            <p:cNvGrpSpPr/>
            <p:nvPr/>
          </p:nvGrpSpPr>
          <p:grpSpPr>
            <a:xfrm>
              <a:off x="768600" y="5643720"/>
              <a:ext cx="2160000" cy="142560"/>
              <a:chOff x="768600" y="5643720"/>
              <a:chExt cx="2160000" cy="142560"/>
            </a:xfrm>
          </p:grpSpPr>
          <p:cxnSp>
            <p:nvCxnSpPr>
              <p:cNvPr id="167" name="直接连接符 12"/>
              <p:cNvCxnSpPr/>
              <p:nvPr/>
            </p:nvCxnSpPr>
            <p:spPr>
              <a:xfrm>
                <a:off x="768600" y="5784840"/>
                <a:ext cx="2160360" cy="1800"/>
              </a:xfrm>
              <a:prstGeom prst="straightConnector1">
                <a:avLst/>
              </a:prstGeom>
              <a:ln w="9525">
                <a:solidFill>
                  <a:srgbClr val="a6a6a6"/>
                </a:solidFill>
                <a:round/>
              </a:ln>
            </p:spPr>
          </p:cxnSp>
          <p:sp>
            <p:nvSpPr>
              <p:cNvPr id="168" name="等腰三角形 13"/>
              <p:cNvSpPr/>
              <p:nvPr/>
            </p:nvSpPr>
            <p:spPr>
              <a:xfrm>
                <a:off x="1627920" y="5643720"/>
                <a:ext cx="428400" cy="14256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6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169" name="组合 33"/>
          <p:cNvGrpSpPr/>
          <p:nvPr/>
        </p:nvGrpSpPr>
        <p:grpSpPr>
          <a:xfrm>
            <a:off x="2990880" y="2286000"/>
            <a:ext cx="3080880" cy="3494520"/>
            <a:chOff x="2990880" y="2286000"/>
            <a:chExt cx="3080880" cy="3494520"/>
          </a:xfrm>
        </p:grpSpPr>
        <p:grpSp>
          <p:nvGrpSpPr>
            <p:cNvPr id="170" name="组合 39"/>
            <p:cNvGrpSpPr/>
            <p:nvPr/>
          </p:nvGrpSpPr>
          <p:grpSpPr>
            <a:xfrm>
              <a:off x="2990880" y="2286000"/>
              <a:ext cx="3080880" cy="3080880"/>
              <a:chOff x="2990880" y="2286000"/>
              <a:chExt cx="3080880" cy="3080880"/>
            </a:xfrm>
          </p:grpSpPr>
          <p:sp>
            <p:nvSpPr>
              <p:cNvPr id="171" name="菱形 38"/>
              <p:cNvSpPr/>
              <p:nvPr/>
            </p:nvSpPr>
            <p:spPr>
              <a:xfrm>
                <a:off x="3250800" y="2566080"/>
                <a:ext cx="2571480" cy="2571480"/>
              </a:xfrm>
              <a:prstGeom prst="diamond">
                <a:avLst/>
              </a:prstGeom>
              <a:solidFill>
                <a:schemeClr val="bg1">
                  <a:alpha val="5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2" name="Text Box 5"/>
              <p:cNvSpPr/>
              <p:nvPr/>
            </p:nvSpPr>
            <p:spPr>
              <a:xfrm>
                <a:off x="3536640" y="2994480"/>
                <a:ext cx="2071440" cy="1785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400"/>
                  </a:spcBef>
                  <a:tabLst>
                    <a:tab algn="l" pos="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It is a temple here. Please add your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菱形 40"/>
              <p:cNvSpPr/>
              <p:nvPr/>
            </p:nvSpPr>
            <p:spPr>
              <a:xfrm>
                <a:off x="2990880" y="2286000"/>
                <a:ext cx="3080880" cy="3080880"/>
              </a:xfrm>
              <a:prstGeom prst="diamond">
                <a:avLst/>
              </a:prstGeom>
              <a:noFill/>
              <a:ln w="9525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174" name="组合 42"/>
            <p:cNvGrpSpPr/>
            <p:nvPr/>
          </p:nvGrpSpPr>
          <p:grpSpPr>
            <a:xfrm>
              <a:off x="3474000" y="5637960"/>
              <a:ext cx="2160000" cy="142560"/>
              <a:chOff x="3474000" y="5637960"/>
              <a:chExt cx="2160000" cy="142560"/>
            </a:xfrm>
          </p:grpSpPr>
          <p:cxnSp>
            <p:nvCxnSpPr>
              <p:cNvPr id="175" name="直接连接符 36"/>
              <p:cNvCxnSpPr/>
              <p:nvPr/>
            </p:nvCxnSpPr>
            <p:spPr>
              <a:xfrm>
                <a:off x="3474000" y="5779080"/>
                <a:ext cx="2160360" cy="1800"/>
              </a:xfrm>
              <a:prstGeom prst="straightConnector1">
                <a:avLst/>
              </a:prstGeom>
              <a:ln w="9525">
                <a:solidFill>
                  <a:srgbClr val="a6a6a6"/>
                </a:solidFill>
                <a:round/>
              </a:ln>
            </p:spPr>
          </p:cxnSp>
          <p:sp>
            <p:nvSpPr>
              <p:cNvPr id="176" name="等腰三角形 37"/>
              <p:cNvSpPr/>
              <p:nvPr/>
            </p:nvSpPr>
            <p:spPr>
              <a:xfrm>
                <a:off x="4332960" y="5637960"/>
                <a:ext cx="428400" cy="14256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6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177" name="组合 41"/>
          <p:cNvGrpSpPr/>
          <p:nvPr/>
        </p:nvGrpSpPr>
        <p:grpSpPr>
          <a:xfrm>
            <a:off x="5695920" y="2280240"/>
            <a:ext cx="3080880" cy="3494520"/>
            <a:chOff x="5695920" y="2280240"/>
            <a:chExt cx="3080880" cy="3494520"/>
          </a:xfrm>
        </p:grpSpPr>
        <p:grpSp>
          <p:nvGrpSpPr>
            <p:cNvPr id="178" name="组合 39"/>
            <p:cNvGrpSpPr/>
            <p:nvPr/>
          </p:nvGrpSpPr>
          <p:grpSpPr>
            <a:xfrm>
              <a:off x="5695920" y="2280240"/>
              <a:ext cx="3080880" cy="3080880"/>
              <a:chOff x="5695920" y="2280240"/>
              <a:chExt cx="3080880" cy="3080880"/>
            </a:xfrm>
          </p:grpSpPr>
          <p:sp>
            <p:nvSpPr>
              <p:cNvPr id="179" name="菱形 46"/>
              <p:cNvSpPr/>
              <p:nvPr/>
            </p:nvSpPr>
            <p:spPr>
              <a:xfrm>
                <a:off x="5955840" y="2560320"/>
                <a:ext cx="2571480" cy="2571480"/>
              </a:xfrm>
              <a:prstGeom prst="diamond">
                <a:avLst/>
              </a:prstGeom>
              <a:solidFill>
                <a:schemeClr val="bg1">
                  <a:alpha val="5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80" name="Text Box 5"/>
              <p:cNvSpPr/>
              <p:nvPr/>
            </p:nvSpPr>
            <p:spPr>
              <a:xfrm>
                <a:off x="6241680" y="2989080"/>
                <a:ext cx="2071440" cy="1785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400"/>
                  </a:spcBef>
                  <a:tabLst>
                    <a:tab algn="l" pos="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It is a temple here. Please add your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菱形 48"/>
              <p:cNvSpPr/>
              <p:nvPr/>
            </p:nvSpPr>
            <p:spPr>
              <a:xfrm>
                <a:off x="5695920" y="2280240"/>
                <a:ext cx="3080880" cy="3080880"/>
              </a:xfrm>
              <a:prstGeom prst="diamond">
                <a:avLst/>
              </a:prstGeom>
              <a:noFill/>
              <a:ln w="9525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182" name="组合 42"/>
            <p:cNvGrpSpPr/>
            <p:nvPr/>
          </p:nvGrpSpPr>
          <p:grpSpPr>
            <a:xfrm>
              <a:off x="6179040" y="5632200"/>
              <a:ext cx="2160000" cy="142560"/>
              <a:chOff x="6179040" y="5632200"/>
              <a:chExt cx="2160000" cy="142560"/>
            </a:xfrm>
          </p:grpSpPr>
          <p:cxnSp>
            <p:nvCxnSpPr>
              <p:cNvPr id="183" name="直接连接符 44"/>
              <p:cNvCxnSpPr/>
              <p:nvPr/>
            </p:nvCxnSpPr>
            <p:spPr>
              <a:xfrm>
                <a:off x="6179040" y="5773320"/>
                <a:ext cx="2160360" cy="1800"/>
              </a:xfrm>
              <a:prstGeom prst="straightConnector1">
                <a:avLst/>
              </a:prstGeom>
              <a:ln w="9525">
                <a:solidFill>
                  <a:srgbClr val="a6a6a6"/>
                </a:solidFill>
                <a:round/>
              </a:ln>
            </p:spPr>
          </p:cxnSp>
          <p:sp>
            <p:nvSpPr>
              <p:cNvPr id="184" name="等腰三角形 45"/>
              <p:cNvSpPr/>
              <p:nvPr/>
            </p:nvSpPr>
            <p:spPr>
              <a:xfrm>
                <a:off x="7038000" y="5632200"/>
                <a:ext cx="428400" cy="14256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6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grpSp>
        <p:nvGrpSpPr>
          <p:cNvPr id="186" name="组合 2"/>
          <p:cNvGrpSpPr/>
          <p:nvPr/>
        </p:nvGrpSpPr>
        <p:grpSpPr>
          <a:xfrm>
            <a:off x="571320" y="285840"/>
            <a:ext cx="785520" cy="1148040"/>
            <a:chOff x="571320" y="285840"/>
            <a:chExt cx="785520" cy="1148040"/>
          </a:xfrm>
        </p:grpSpPr>
        <p:sp>
          <p:nvSpPr>
            <p:cNvPr id="187" name="饼形 3"/>
            <p:cNvSpPr/>
            <p:nvPr/>
          </p:nvSpPr>
          <p:spPr>
            <a:xfrm>
              <a:off x="571320" y="64836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菱形 4"/>
            <p:cNvSpPr/>
            <p:nvPr/>
          </p:nvSpPr>
          <p:spPr>
            <a:xfrm>
              <a:off x="925920" y="67680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菱形 5"/>
            <p:cNvSpPr/>
            <p:nvPr/>
          </p:nvSpPr>
          <p:spPr>
            <a:xfrm>
              <a:off x="904680" y="63900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椭圆 6"/>
            <p:cNvSpPr/>
            <p:nvPr/>
          </p:nvSpPr>
          <p:spPr>
            <a:xfrm>
              <a:off x="802440" y="28584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1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椭圆 8"/>
          <p:cNvSpPr/>
          <p:nvPr/>
        </p:nvSpPr>
        <p:spPr>
          <a:xfrm>
            <a:off x="3500280" y="1928880"/>
            <a:ext cx="1928520" cy="192852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1643040" y="3857760"/>
            <a:ext cx="55717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椭圆 10"/>
          <p:cNvSpPr/>
          <p:nvPr/>
        </p:nvSpPr>
        <p:spPr>
          <a:xfrm>
            <a:off x="1357200" y="5000760"/>
            <a:ext cx="999720" cy="999720"/>
          </a:xfrm>
          <a:prstGeom prst="ellipse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4000320" y="5000760"/>
            <a:ext cx="999720" cy="999720"/>
          </a:xfrm>
          <a:prstGeom prst="ellipse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2"/>
          <p:cNvSpPr/>
          <p:nvPr/>
        </p:nvSpPr>
        <p:spPr>
          <a:xfrm>
            <a:off x="6643800" y="5000760"/>
            <a:ext cx="999720" cy="999720"/>
          </a:xfrm>
          <a:prstGeom prst="ellipse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grpSp>
        <p:nvGrpSpPr>
          <p:cNvPr id="198" name="组合 2"/>
          <p:cNvGrpSpPr/>
          <p:nvPr/>
        </p:nvGrpSpPr>
        <p:grpSpPr>
          <a:xfrm>
            <a:off x="571320" y="285840"/>
            <a:ext cx="785520" cy="1148040"/>
            <a:chOff x="571320" y="285840"/>
            <a:chExt cx="785520" cy="1148040"/>
          </a:xfrm>
        </p:grpSpPr>
        <p:sp>
          <p:nvSpPr>
            <p:cNvPr id="199" name="饼形 3"/>
            <p:cNvSpPr/>
            <p:nvPr/>
          </p:nvSpPr>
          <p:spPr>
            <a:xfrm>
              <a:off x="571320" y="64836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菱形 4"/>
            <p:cNvSpPr/>
            <p:nvPr/>
          </p:nvSpPr>
          <p:spPr>
            <a:xfrm>
              <a:off x="925920" y="67680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1" name="菱形 5"/>
            <p:cNvSpPr/>
            <p:nvPr/>
          </p:nvSpPr>
          <p:spPr>
            <a:xfrm>
              <a:off x="904680" y="63900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椭圆 6"/>
            <p:cNvSpPr/>
            <p:nvPr/>
          </p:nvSpPr>
          <p:spPr>
            <a:xfrm>
              <a:off x="802440" y="28584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3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组合 16"/>
          <p:cNvGrpSpPr/>
          <p:nvPr/>
        </p:nvGrpSpPr>
        <p:grpSpPr>
          <a:xfrm>
            <a:off x="2607120" y="1756080"/>
            <a:ext cx="3876120" cy="4208760"/>
            <a:chOff x="2607120" y="1756080"/>
            <a:chExt cx="3876120" cy="4208760"/>
          </a:xfrm>
        </p:grpSpPr>
        <p:sp>
          <p:nvSpPr>
            <p:cNvPr id="205" name="任意多边形 8"/>
            <p:cNvSpPr/>
            <p:nvPr/>
          </p:nvSpPr>
          <p:spPr>
            <a:xfrm rot="15242400">
              <a:off x="2788920" y="2346480"/>
              <a:ext cx="3511800" cy="3027240"/>
            </a:xfrm>
            <a:custGeom>
              <a:avLst/>
              <a:gdLst>
                <a:gd name="textAreaLeft" fmla="*/ 0 w 3511800"/>
                <a:gd name="textAreaRight" fmla="*/ 3512160 w 35118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4250560" h="3664277">
                  <a:moveTo>
                    <a:pt x="303611" y="3140809"/>
                  </a:moveTo>
                  <a:cubicBezTo>
                    <a:pt x="0" y="2617341"/>
                    <a:pt x="1518057" y="0"/>
                    <a:pt x="2125280" y="0"/>
                  </a:cubicBezTo>
                  <a:cubicBezTo>
                    <a:pt x="2732503" y="0"/>
                    <a:pt x="4250560" y="2617341"/>
                    <a:pt x="3946949" y="3140809"/>
                  </a:cubicBezTo>
                  <a:cubicBezTo>
                    <a:pt x="3643338" y="3664277"/>
                    <a:pt x="607222" y="3664277"/>
                    <a:pt x="303611" y="3140809"/>
                  </a:cubicBezTo>
                  <a:close/>
                </a:path>
              </a:pathLst>
            </a:cu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06" name="任意多边形 9"/>
            <p:cNvSpPr/>
            <p:nvPr/>
          </p:nvSpPr>
          <p:spPr>
            <a:xfrm rot="15242400">
              <a:off x="3633120" y="2958840"/>
              <a:ext cx="2035080" cy="1754640"/>
            </a:xfrm>
            <a:custGeom>
              <a:avLst/>
              <a:gdLst>
                <a:gd name="textAreaLeft" fmla="*/ 0 w 2035080"/>
                <a:gd name="textAreaRight" fmla="*/ 2035440 w 2035080"/>
                <a:gd name="textAreaTop" fmla="*/ 0 h 1754640"/>
                <a:gd name="textAreaBottom" fmla="*/ 1755000 h 1754640"/>
              </a:gdLst>
              <a:ahLst/>
              <a:rect l="textAreaLeft" t="textAreaTop" r="textAreaRight" b="textAreaBottom"/>
              <a:pathLst>
                <a:path w="4250560" h="3664277">
                  <a:moveTo>
                    <a:pt x="303611" y="3140809"/>
                  </a:moveTo>
                  <a:cubicBezTo>
                    <a:pt x="0" y="2617341"/>
                    <a:pt x="1518057" y="0"/>
                    <a:pt x="2125280" y="0"/>
                  </a:cubicBezTo>
                  <a:cubicBezTo>
                    <a:pt x="2732503" y="0"/>
                    <a:pt x="4250560" y="2617341"/>
                    <a:pt x="3946949" y="3140809"/>
                  </a:cubicBezTo>
                  <a:cubicBezTo>
                    <a:pt x="3643338" y="3664277"/>
                    <a:pt x="607222" y="3664277"/>
                    <a:pt x="303611" y="3140809"/>
                  </a:cubicBezTo>
                  <a:close/>
                </a:path>
              </a:pathLst>
            </a:cu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07" name="矩形 10"/>
            <p:cNvSpPr/>
            <p:nvPr/>
          </p:nvSpPr>
          <p:spPr>
            <a:xfrm rot="18341400">
              <a:off x="3888720" y="2734560"/>
              <a:ext cx="356760" cy="856800"/>
            </a:xfrm>
            <a:prstGeom prst="rect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 useBgFill="1">
          <p:nvSpPr>
            <p:cNvPr id="208" name="矩形 11"/>
            <p:cNvSpPr/>
            <p:nvPr/>
          </p:nvSpPr>
          <p:spPr>
            <a:xfrm rot="3499800">
              <a:off x="5499720" y="3031920"/>
              <a:ext cx="356760" cy="856800"/>
            </a:xfrm>
            <a:prstGeom prst="rect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矩形 12"/>
            <p:cNvSpPr/>
            <p:nvPr/>
          </p:nvSpPr>
          <p:spPr>
            <a:xfrm rot="20443200">
              <a:off x="4011480" y="3510720"/>
              <a:ext cx="1404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 useBgFill="1">
          <p:nvSpPr>
            <p:cNvPr id="210" name="矩形 17"/>
            <p:cNvSpPr/>
            <p:nvPr/>
          </p:nvSpPr>
          <p:spPr>
            <a:xfrm rot="459600">
              <a:off x="4016160" y="4250160"/>
              <a:ext cx="356760" cy="856800"/>
            </a:xfrm>
            <a:prstGeom prst="rect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1" name="矩形 13"/>
          <p:cNvSpPr/>
          <p:nvPr/>
        </p:nvSpPr>
        <p:spPr>
          <a:xfrm>
            <a:off x="5715000" y="171432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矩形 14"/>
          <p:cNvSpPr/>
          <p:nvPr/>
        </p:nvSpPr>
        <p:spPr>
          <a:xfrm>
            <a:off x="4143240" y="528624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矩形 15"/>
          <p:cNvSpPr/>
          <p:nvPr/>
        </p:nvSpPr>
        <p:spPr>
          <a:xfrm>
            <a:off x="500040" y="292896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1"/>
          <p:cNvGrpSpPr/>
          <p:nvPr/>
        </p:nvGrpSpPr>
        <p:grpSpPr>
          <a:xfrm>
            <a:off x="347760" y="1712160"/>
            <a:ext cx="3085200" cy="3091680"/>
            <a:chOff x="347760" y="1712160"/>
            <a:chExt cx="3085200" cy="3091680"/>
          </a:xfrm>
        </p:grpSpPr>
        <p:grpSp>
          <p:nvGrpSpPr>
            <p:cNvPr id="215" name="组合 30"/>
            <p:cNvGrpSpPr/>
            <p:nvPr/>
          </p:nvGrpSpPr>
          <p:grpSpPr>
            <a:xfrm>
              <a:off x="347760" y="1712160"/>
              <a:ext cx="3085200" cy="3091680"/>
              <a:chOff x="347760" y="1712160"/>
              <a:chExt cx="3085200" cy="3091680"/>
            </a:xfrm>
          </p:grpSpPr>
          <p:sp>
            <p:nvSpPr>
              <p:cNvPr id="216" name="八角星 6"/>
              <p:cNvSpPr/>
              <p:nvPr/>
            </p:nvSpPr>
            <p:spPr>
              <a:xfrm rot="1389000">
                <a:off x="796680" y="218700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" name="八角星 7"/>
              <p:cNvSpPr/>
              <p:nvPr/>
            </p:nvSpPr>
            <p:spPr>
              <a:xfrm rot="1765200">
                <a:off x="790560" y="21981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" name="八角星 8"/>
              <p:cNvSpPr/>
              <p:nvPr/>
            </p:nvSpPr>
            <p:spPr>
              <a:xfrm rot="2125800">
                <a:off x="785520" y="21927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" name="八角星 9"/>
              <p:cNvSpPr/>
              <p:nvPr/>
            </p:nvSpPr>
            <p:spPr>
              <a:xfrm rot="2517000">
                <a:off x="786600" y="218628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" name="八角星 10"/>
              <p:cNvSpPr/>
              <p:nvPr/>
            </p:nvSpPr>
            <p:spPr>
              <a:xfrm rot="2860200">
                <a:off x="792000" y="217404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" name="八角星 11"/>
              <p:cNvSpPr/>
              <p:nvPr/>
            </p:nvSpPr>
            <p:spPr>
              <a:xfrm rot="3231600">
                <a:off x="800280" y="2166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" name="八角星 12"/>
              <p:cNvSpPr/>
              <p:nvPr/>
            </p:nvSpPr>
            <p:spPr>
              <a:xfrm rot="3628800">
                <a:off x="803520" y="2193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223" name="椭圆 3"/>
            <p:cNvSpPr/>
            <p:nvPr/>
          </p:nvSpPr>
          <p:spPr>
            <a:xfrm>
              <a:off x="1272240" y="2683080"/>
              <a:ext cx="1219320" cy="115380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4" name="矩形 34"/>
          <p:cNvSpPr/>
          <p:nvPr/>
        </p:nvSpPr>
        <p:spPr>
          <a:xfrm>
            <a:off x="3286080" y="2428920"/>
            <a:ext cx="42858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 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组合 45"/>
          <p:cNvGrpSpPr/>
          <p:nvPr/>
        </p:nvGrpSpPr>
        <p:grpSpPr>
          <a:xfrm>
            <a:off x="3382560" y="3286080"/>
            <a:ext cx="5261040" cy="785520"/>
            <a:chOff x="3382560" y="3286080"/>
            <a:chExt cx="5261040" cy="785520"/>
          </a:xfrm>
        </p:grpSpPr>
        <p:sp>
          <p:nvSpPr>
            <p:cNvPr id="226" name="燕尾形 42"/>
            <p:cNvSpPr/>
            <p:nvPr/>
          </p:nvSpPr>
          <p:spPr>
            <a:xfrm>
              <a:off x="3786120" y="3286080"/>
              <a:ext cx="4857480" cy="785520"/>
            </a:xfrm>
            <a:prstGeom prst="chevron">
              <a:avLst>
                <a:gd name="adj" fmla="val 24496"/>
              </a:avLst>
            </a:prstGeom>
            <a:solidFill>
              <a:schemeClr val="bg1">
                <a:alpha val="61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It is a temple here. Please add your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燕尾形 43"/>
            <p:cNvSpPr/>
            <p:nvPr/>
          </p:nvSpPr>
          <p:spPr>
            <a:xfrm>
              <a:off x="358452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4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燕尾形 44"/>
            <p:cNvSpPr/>
            <p:nvPr/>
          </p:nvSpPr>
          <p:spPr>
            <a:xfrm>
              <a:off x="338256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3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组合 21"/>
          <p:cNvGrpSpPr/>
          <p:nvPr/>
        </p:nvGrpSpPr>
        <p:grpSpPr>
          <a:xfrm>
            <a:off x="1462680" y="2786040"/>
            <a:ext cx="856800" cy="818280"/>
            <a:chOff x="1462680" y="2786040"/>
            <a:chExt cx="856800" cy="818280"/>
          </a:xfrm>
        </p:grpSpPr>
        <p:sp>
          <p:nvSpPr>
            <p:cNvPr id="230" name="AutoShape 4"/>
            <p:cNvSpPr/>
            <p:nvPr/>
          </p:nvSpPr>
          <p:spPr>
            <a:xfrm>
              <a:off x="1473120" y="278604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1647360" y="289440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1805760" y="278604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1964520" y="289296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2123280" y="301968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1462680" y="314640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1581120" y="304848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38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533880" y="252720"/>
            <a:ext cx="856800" cy="818280"/>
            <a:chOff x="533880" y="252720"/>
            <a:chExt cx="856800" cy="818280"/>
          </a:xfrm>
        </p:grpSpPr>
        <p:sp>
          <p:nvSpPr>
            <p:cNvPr id="240" name="AutoShape 4"/>
            <p:cNvSpPr/>
            <p:nvPr/>
          </p:nvSpPr>
          <p:spPr>
            <a:xfrm>
              <a:off x="544320" y="25272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718560" y="36108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877320" y="25272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1036080" y="35964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1194480" y="48636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533880" y="61308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652680" y="51552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任意多边形 16"/>
          <p:cNvSpPr/>
          <p:nvPr/>
        </p:nvSpPr>
        <p:spPr>
          <a:xfrm>
            <a:off x="3798720" y="3357720"/>
            <a:ext cx="3285720" cy="1571400"/>
          </a:xfrm>
          <a:custGeom>
            <a:avLst/>
            <a:gdLst>
              <a:gd name="textAreaLeft" fmla="*/ 0 w 3285720"/>
              <a:gd name="textAreaRight" fmla="*/ 3286080 w 328572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3573139" h="3457905">
                <a:moveTo>
                  <a:pt x="1239" y="3079224"/>
                </a:moveTo>
                <a:lnTo>
                  <a:pt x="1787189" y="0"/>
                </a:lnTo>
                <a:lnTo>
                  <a:pt x="3573139" y="3079224"/>
                </a:lnTo>
                <a:cubicBezTo>
                  <a:pt x="3571900" y="3457905"/>
                  <a:pt x="2375070" y="2272086"/>
                  <a:pt x="1779753" y="2272086"/>
                </a:cubicBezTo>
                <a:cubicBezTo>
                  <a:pt x="1184436" y="2272086"/>
                  <a:pt x="0" y="3457905"/>
                  <a:pt x="1239" y="307922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48" name="任意多边形 17"/>
          <p:cNvSpPr/>
          <p:nvPr/>
        </p:nvSpPr>
        <p:spPr>
          <a:xfrm flipV="1">
            <a:off x="2071800" y="3096000"/>
            <a:ext cx="3285720" cy="1571400"/>
          </a:xfrm>
          <a:custGeom>
            <a:avLst/>
            <a:gdLst>
              <a:gd name="textAreaLeft" fmla="*/ 0 w 3285720"/>
              <a:gd name="textAreaRight" fmla="*/ 3286080 w 3285720"/>
              <a:gd name="textAreaTop" fmla="*/ -360 h 1571400"/>
              <a:gd name="textAreaBottom" fmla="*/ 1571400 h 1571400"/>
            </a:gdLst>
            <a:ahLst/>
            <a:rect l="textAreaLeft" t="textAreaTop" r="textAreaRight" b="textAreaBottom"/>
            <a:pathLst>
              <a:path w="3573139" h="3457905">
                <a:moveTo>
                  <a:pt x="1239" y="3079224"/>
                </a:moveTo>
                <a:lnTo>
                  <a:pt x="1787189" y="0"/>
                </a:lnTo>
                <a:lnTo>
                  <a:pt x="3573139" y="3079224"/>
                </a:lnTo>
                <a:cubicBezTo>
                  <a:pt x="3571900" y="3457905"/>
                  <a:pt x="2375070" y="2272086"/>
                  <a:pt x="1779753" y="2272086"/>
                </a:cubicBezTo>
                <a:cubicBezTo>
                  <a:pt x="1184436" y="2272086"/>
                  <a:pt x="0" y="3457905"/>
                  <a:pt x="1239" y="307922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49" name="矩形 18"/>
          <p:cNvSpPr/>
          <p:nvPr/>
        </p:nvSpPr>
        <p:spPr>
          <a:xfrm>
            <a:off x="714240" y="2143080"/>
            <a:ext cx="62863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矩形 19"/>
          <p:cNvSpPr/>
          <p:nvPr/>
        </p:nvSpPr>
        <p:spPr>
          <a:xfrm>
            <a:off x="3714840" y="4857840"/>
            <a:ext cx="542880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组合 33"/>
          <p:cNvGrpSpPr/>
          <p:nvPr/>
        </p:nvGrpSpPr>
        <p:grpSpPr>
          <a:xfrm>
            <a:off x="3475440" y="3857760"/>
            <a:ext cx="499680" cy="499680"/>
            <a:chOff x="3475440" y="3857760"/>
            <a:chExt cx="499680" cy="499680"/>
          </a:xfrm>
        </p:grpSpPr>
        <p:sp>
          <p:nvSpPr>
            <p:cNvPr id="252" name="Freeform 10"/>
            <p:cNvSpPr/>
            <p:nvPr/>
          </p:nvSpPr>
          <p:spPr>
            <a:xfrm>
              <a:off x="3475440" y="3857760"/>
              <a:ext cx="499680" cy="38448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684" h="1045">
                  <a:moveTo>
                    <a:pt x="593" y="71"/>
                  </a:moveTo>
                  <a:lnTo>
                    <a:pt x="580" y="63"/>
                  </a:lnTo>
                  <a:lnTo>
                    <a:pt x="568" y="55"/>
                  </a:lnTo>
                  <a:lnTo>
                    <a:pt x="556" y="46"/>
                  </a:lnTo>
                  <a:lnTo>
                    <a:pt x="542" y="40"/>
                  </a:lnTo>
                  <a:lnTo>
                    <a:pt x="527" y="33"/>
                  </a:lnTo>
                  <a:lnTo>
                    <a:pt x="513" y="27"/>
                  </a:lnTo>
                  <a:lnTo>
                    <a:pt x="498" y="22"/>
                  </a:lnTo>
                  <a:lnTo>
                    <a:pt x="483" y="18"/>
                  </a:lnTo>
                  <a:lnTo>
                    <a:pt x="467" y="14"/>
                  </a:lnTo>
                  <a:lnTo>
                    <a:pt x="451" y="10"/>
                  </a:lnTo>
                  <a:lnTo>
                    <a:pt x="434" y="7"/>
                  </a:lnTo>
                  <a:lnTo>
                    <a:pt x="416" y="4"/>
                  </a:lnTo>
                  <a:lnTo>
                    <a:pt x="399" y="3"/>
                  </a:lnTo>
                  <a:lnTo>
                    <a:pt x="381" y="1"/>
                  </a:lnTo>
                  <a:lnTo>
                    <a:pt x="362" y="0"/>
                  </a:lnTo>
                  <a:lnTo>
                    <a:pt x="343" y="0"/>
                  </a:lnTo>
                  <a:lnTo>
                    <a:pt x="324" y="0"/>
                  </a:lnTo>
                  <a:lnTo>
                    <a:pt x="304" y="1"/>
                  </a:lnTo>
                  <a:lnTo>
                    <a:pt x="285" y="3"/>
                  </a:lnTo>
                  <a:lnTo>
                    <a:pt x="268" y="4"/>
                  </a:lnTo>
                  <a:lnTo>
                    <a:pt x="251" y="7"/>
                  </a:lnTo>
                  <a:lnTo>
                    <a:pt x="233" y="10"/>
                  </a:lnTo>
                  <a:lnTo>
                    <a:pt x="217" y="14"/>
                  </a:lnTo>
                  <a:lnTo>
                    <a:pt x="202" y="18"/>
                  </a:lnTo>
                  <a:lnTo>
                    <a:pt x="186" y="22"/>
                  </a:lnTo>
                  <a:lnTo>
                    <a:pt x="171" y="27"/>
                  </a:lnTo>
                  <a:lnTo>
                    <a:pt x="157" y="33"/>
                  </a:lnTo>
                  <a:lnTo>
                    <a:pt x="143" y="40"/>
                  </a:lnTo>
                  <a:lnTo>
                    <a:pt x="130" y="46"/>
                  </a:lnTo>
                  <a:lnTo>
                    <a:pt x="117" y="55"/>
                  </a:lnTo>
                  <a:lnTo>
                    <a:pt x="105" y="63"/>
                  </a:lnTo>
                  <a:lnTo>
                    <a:pt x="93" y="71"/>
                  </a:lnTo>
                  <a:lnTo>
                    <a:pt x="71" y="90"/>
                  </a:lnTo>
                  <a:lnTo>
                    <a:pt x="52" y="111"/>
                  </a:lnTo>
                  <a:lnTo>
                    <a:pt x="37" y="131"/>
                  </a:lnTo>
                  <a:lnTo>
                    <a:pt x="23" y="156"/>
                  </a:lnTo>
                  <a:lnTo>
                    <a:pt x="14" y="180"/>
                  </a:lnTo>
                  <a:lnTo>
                    <a:pt x="5" y="206"/>
                  </a:lnTo>
                  <a:lnTo>
                    <a:pt x="1" y="235"/>
                  </a:lnTo>
                  <a:lnTo>
                    <a:pt x="0" y="265"/>
                  </a:lnTo>
                  <a:lnTo>
                    <a:pt x="1" y="294"/>
                  </a:lnTo>
                  <a:lnTo>
                    <a:pt x="7" y="325"/>
                  </a:lnTo>
                  <a:lnTo>
                    <a:pt x="15" y="361"/>
                  </a:lnTo>
                  <a:lnTo>
                    <a:pt x="26" y="400"/>
                  </a:lnTo>
                  <a:lnTo>
                    <a:pt x="41" y="443"/>
                  </a:lnTo>
                  <a:lnTo>
                    <a:pt x="59" y="489"/>
                  </a:lnTo>
                  <a:lnTo>
                    <a:pt x="81" y="540"/>
                  </a:lnTo>
                  <a:lnTo>
                    <a:pt x="105" y="593"/>
                  </a:lnTo>
                  <a:lnTo>
                    <a:pt x="130" y="645"/>
                  </a:lnTo>
                  <a:lnTo>
                    <a:pt x="152" y="694"/>
                  </a:lnTo>
                  <a:lnTo>
                    <a:pt x="169" y="738"/>
                  </a:lnTo>
                  <a:lnTo>
                    <a:pt x="184" y="776"/>
                  </a:lnTo>
                  <a:lnTo>
                    <a:pt x="195" y="812"/>
                  </a:lnTo>
                  <a:lnTo>
                    <a:pt x="203" y="842"/>
                  </a:lnTo>
                  <a:lnTo>
                    <a:pt x="209" y="866"/>
                  </a:lnTo>
                  <a:lnTo>
                    <a:pt x="210" y="888"/>
                  </a:lnTo>
                  <a:lnTo>
                    <a:pt x="212" y="921"/>
                  </a:lnTo>
                  <a:lnTo>
                    <a:pt x="213" y="954"/>
                  </a:lnTo>
                  <a:lnTo>
                    <a:pt x="210" y="984"/>
                  </a:lnTo>
                  <a:lnTo>
                    <a:pt x="198" y="1012"/>
                  </a:lnTo>
                  <a:lnTo>
                    <a:pt x="193" y="1021"/>
                  </a:lnTo>
                  <a:lnTo>
                    <a:pt x="186" y="1029"/>
                  </a:lnTo>
                  <a:lnTo>
                    <a:pt x="179" y="1037"/>
                  </a:lnTo>
                  <a:lnTo>
                    <a:pt x="172" y="1045"/>
                  </a:lnTo>
                  <a:lnTo>
                    <a:pt x="180" y="1040"/>
                  </a:lnTo>
                  <a:lnTo>
                    <a:pt x="188" y="1034"/>
                  </a:lnTo>
                  <a:lnTo>
                    <a:pt x="195" y="1026"/>
                  </a:lnTo>
                  <a:lnTo>
                    <a:pt x="202" y="1019"/>
                  </a:lnTo>
                  <a:lnTo>
                    <a:pt x="209" y="1011"/>
                  </a:lnTo>
                  <a:lnTo>
                    <a:pt x="214" y="1003"/>
                  </a:lnTo>
                  <a:lnTo>
                    <a:pt x="220" y="995"/>
                  </a:lnTo>
                  <a:lnTo>
                    <a:pt x="225" y="988"/>
                  </a:lnTo>
                  <a:lnTo>
                    <a:pt x="236" y="963"/>
                  </a:lnTo>
                  <a:lnTo>
                    <a:pt x="239" y="936"/>
                  </a:lnTo>
                  <a:lnTo>
                    <a:pt x="238" y="909"/>
                  </a:lnTo>
                  <a:lnTo>
                    <a:pt x="236" y="880"/>
                  </a:lnTo>
                  <a:lnTo>
                    <a:pt x="235" y="861"/>
                  </a:lnTo>
                  <a:lnTo>
                    <a:pt x="231" y="839"/>
                  </a:lnTo>
                  <a:lnTo>
                    <a:pt x="224" y="812"/>
                  </a:lnTo>
                  <a:lnTo>
                    <a:pt x="214" y="781"/>
                  </a:lnTo>
                  <a:lnTo>
                    <a:pt x="202" y="747"/>
                  </a:lnTo>
                  <a:lnTo>
                    <a:pt x="188" y="709"/>
                  </a:lnTo>
                  <a:lnTo>
                    <a:pt x="171" y="667"/>
                  </a:lnTo>
                  <a:lnTo>
                    <a:pt x="150" y="620"/>
                  </a:lnTo>
                  <a:lnTo>
                    <a:pt x="131" y="574"/>
                  </a:lnTo>
                  <a:lnTo>
                    <a:pt x="113" y="530"/>
                  </a:lnTo>
                  <a:lnTo>
                    <a:pt x="98" y="489"/>
                  </a:lnTo>
                  <a:lnTo>
                    <a:pt x="87" y="452"/>
                  </a:lnTo>
                  <a:lnTo>
                    <a:pt x="78" y="418"/>
                  </a:lnTo>
                  <a:lnTo>
                    <a:pt x="71" y="387"/>
                  </a:lnTo>
                  <a:lnTo>
                    <a:pt x="67" y="358"/>
                  </a:lnTo>
                  <a:lnTo>
                    <a:pt x="66" y="333"/>
                  </a:lnTo>
                  <a:lnTo>
                    <a:pt x="67" y="307"/>
                  </a:lnTo>
                  <a:lnTo>
                    <a:pt x="70" y="283"/>
                  </a:lnTo>
                  <a:lnTo>
                    <a:pt x="76" y="260"/>
                  </a:lnTo>
                  <a:lnTo>
                    <a:pt x="85" y="238"/>
                  </a:lnTo>
                  <a:lnTo>
                    <a:pt x="94" y="217"/>
                  </a:lnTo>
                  <a:lnTo>
                    <a:pt x="108" y="198"/>
                  </a:lnTo>
                  <a:lnTo>
                    <a:pt x="123" y="180"/>
                  </a:lnTo>
                  <a:lnTo>
                    <a:pt x="141" y="164"/>
                  </a:lnTo>
                  <a:lnTo>
                    <a:pt x="160" y="149"/>
                  </a:lnTo>
                  <a:lnTo>
                    <a:pt x="182" y="137"/>
                  </a:lnTo>
                  <a:lnTo>
                    <a:pt x="205" y="126"/>
                  </a:lnTo>
                  <a:lnTo>
                    <a:pt x="229" y="117"/>
                  </a:lnTo>
                  <a:lnTo>
                    <a:pt x="255" y="111"/>
                  </a:lnTo>
                  <a:lnTo>
                    <a:pt x="283" y="105"/>
                  </a:lnTo>
                  <a:lnTo>
                    <a:pt x="313" y="102"/>
                  </a:lnTo>
                  <a:lnTo>
                    <a:pt x="344" y="101"/>
                  </a:lnTo>
                  <a:lnTo>
                    <a:pt x="374" y="102"/>
                  </a:lnTo>
                  <a:lnTo>
                    <a:pt x="404" y="105"/>
                  </a:lnTo>
                  <a:lnTo>
                    <a:pt x="431" y="111"/>
                  </a:lnTo>
                  <a:lnTo>
                    <a:pt x="457" y="117"/>
                  </a:lnTo>
                  <a:lnTo>
                    <a:pt x="481" y="126"/>
                  </a:lnTo>
                  <a:lnTo>
                    <a:pt x="504" y="137"/>
                  </a:lnTo>
                  <a:lnTo>
                    <a:pt x="526" y="149"/>
                  </a:lnTo>
                  <a:lnTo>
                    <a:pt x="545" y="164"/>
                  </a:lnTo>
                  <a:lnTo>
                    <a:pt x="562" y="180"/>
                  </a:lnTo>
                  <a:lnTo>
                    <a:pt x="578" y="198"/>
                  </a:lnTo>
                  <a:lnTo>
                    <a:pt x="591" y="217"/>
                  </a:lnTo>
                  <a:lnTo>
                    <a:pt x="601" y="238"/>
                  </a:lnTo>
                  <a:lnTo>
                    <a:pt x="609" y="260"/>
                  </a:lnTo>
                  <a:lnTo>
                    <a:pt x="616" y="283"/>
                  </a:lnTo>
                  <a:lnTo>
                    <a:pt x="618" y="307"/>
                  </a:lnTo>
                  <a:lnTo>
                    <a:pt x="620" y="333"/>
                  </a:lnTo>
                  <a:lnTo>
                    <a:pt x="618" y="358"/>
                  </a:lnTo>
                  <a:lnTo>
                    <a:pt x="614" y="387"/>
                  </a:lnTo>
                  <a:lnTo>
                    <a:pt x="608" y="418"/>
                  </a:lnTo>
                  <a:lnTo>
                    <a:pt x="598" y="452"/>
                  </a:lnTo>
                  <a:lnTo>
                    <a:pt x="587" y="489"/>
                  </a:lnTo>
                  <a:lnTo>
                    <a:pt x="572" y="530"/>
                  </a:lnTo>
                  <a:lnTo>
                    <a:pt x="554" y="574"/>
                  </a:lnTo>
                  <a:lnTo>
                    <a:pt x="535" y="620"/>
                  </a:lnTo>
                  <a:lnTo>
                    <a:pt x="515" y="667"/>
                  </a:lnTo>
                  <a:lnTo>
                    <a:pt x="497" y="709"/>
                  </a:lnTo>
                  <a:lnTo>
                    <a:pt x="483" y="747"/>
                  </a:lnTo>
                  <a:lnTo>
                    <a:pt x="471" y="781"/>
                  </a:lnTo>
                  <a:lnTo>
                    <a:pt x="461" y="812"/>
                  </a:lnTo>
                  <a:lnTo>
                    <a:pt x="455" y="839"/>
                  </a:lnTo>
                  <a:lnTo>
                    <a:pt x="451" y="861"/>
                  </a:lnTo>
                  <a:lnTo>
                    <a:pt x="449" y="880"/>
                  </a:lnTo>
                  <a:lnTo>
                    <a:pt x="448" y="909"/>
                  </a:lnTo>
                  <a:lnTo>
                    <a:pt x="446" y="936"/>
                  </a:lnTo>
                  <a:lnTo>
                    <a:pt x="449" y="963"/>
                  </a:lnTo>
                  <a:lnTo>
                    <a:pt x="460" y="988"/>
                  </a:lnTo>
                  <a:lnTo>
                    <a:pt x="466" y="995"/>
                  </a:lnTo>
                  <a:lnTo>
                    <a:pt x="471" y="1003"/>
                  </a:lnTo>
                  <a:lnTo>
                    <a:pt x="476" y="1011"/>
                  </a:lnTo>
                  <a:lnTo>
                    <a:pt x="483" y="1018"/>
                  </a:lnTo>
                  <a:lnTo>
                    <a:pt x="490" y="1026"/>
                  </a:lnTo>
                  <a:lnTo>
                    <a:pt x="497" y="1033"/>
                  </a:lnTo>
                  <a:lnTo>
                    <a:pt x="505" y="1038"/>
                  </a:lnTo>
                  <a:lnTo>
                    <a:pt x="513" y="1044"/>
                  </a:lnTo>
                  <a:lnTo>
                    <a:pt x="505" y="1036"/>
                  </a:lnTo>
                  <a:lnTo>
                    <a:pt x="498" y="1027"/>
                  </a:lnTo>
                  <a:lnTo>
                    <a:pt x="493" y="1019"/>
                  </a:lnTo>
                  <a:lnTo>
                    <a:pt x="487" y="1012"/>
                  </a:lnTo>
                  <a:lnTo>
                    <a:pt x="475" y="984"/>
                  </a:lnTo>
                  <a:lnTo>
                    <a:pt x="472" y="954"/>
                  </a:lnTo>
                  <a:lnTo>
                    <a:pt x="474" y="921"/>
                  </a:lnTo>
                  <a:lnTo>
                    <a:pt x="475" y="888"/>
                  </a:lnTo>
                  <a:lnTo>
                    <a:pt x="476" y="866"/>
                  </a:lnTo>
                  <a:lnTo>
                    <a:pt x="482" y="842"/>
                  </a:lnTo>
                  <a:lnTo>
                    <a:pt x="490" y="812"/>
                  </a:lnTo>
                  <a:lnTo>
                    <a:pt x="501" y="776"/>
                  </a:lnTo>
                  <a:lnTo>
                    <a:pt x="516" y="738"/>
                  </a:lnTo>
                  <a:lnTo>
                    <a:pt x="534" y="694"/>
                  </a:lnTo>
                  <a:lnTo>
                    <a:pt x="554" y="645"/>
                  </a:lnTo>
                  <a:lnTo>
                    <a:pt x="579" y="593"/>
                  </a:lnTo>
                  <a:lnTo>
                    <a:pt x="603" y="540"/>
                  </a:lnTo>
                  <a:lnTo>
                    <a:pt x="625" y="489"/>
                  </a:lnTo>
                  <a:lnTo>
                    <a:pt x="643" y="443"/>
                  </a:lnTo>
                  <a:lnTo>
                    <a:pt x="658" y="400"/>
                  </a:lnTo>
                  <a:lnTo>
                    <a:pt x="669" y="361"/>
                  </a:lnTo>
                  <a:lnTo>
                    <a:pt x="677" y="325"/>
                  </a:lnTo>
                  <a:lnTo>
                    <a:pt x="683" y="294"/>
                  </a:lnTo>
                  <a:lnTo>
                    <a:pt x="684" y="265"/>
                  </a:lnTo>
                  <a:lnTo>
                    <a:pt x="683" y="235"/>
                  </a:lnTo>
                  <a:lnTo>
                    <a:pt x="679" y="206"/>
                  </a:lnTo>
                  <a:lnTo>
                    <a:pt x="672" y="180"/>
                  </a:lnTo>
                  <a:lnTo>
                    <a:pt x="661" y="156"/>
                  </a:lnTo>
                  <a:lnTo>
                    <a:pt x="649" y="131"/>
                  </a:lnTo>
                  <a:lnTo>
                    <a:pt x="632" y="111"/>
                  </a:lnTo>
                  <a:lnTo>
                    <a:pt x="614" y="90"/>
                  </a:lnTo>
                  <a:lnTo>
                    <a:pt x="593" y="7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3612240" y="3993840"/>
              <a:ext cx="206640" cy="25632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283" h="697">
                  <a:moveTo>
                    <a:pt x="227" y="638"/>
                  </a:moveTo>
                  <a:lnTo>
                    <a:pt x="208" y="615"/>
                  </a:lnTo>
                  <a:lnTo>
                    <a:pt x="197" y="589"/>
                  </a:lnTo>
                  <a:lnTo>
                    <a:pt x="191" y="562"/>
                  </a:lnTo>
                  <a:lnTo>
                    <a:pt x="190" y="533"/>
                  </a:lnTo>
                  <a:lnTo>
                    <a:pt x="193" y="503"/>
                  </a:lnTo>
                  <a:lnTo>
                    <a:pt x="197" y="473"/>
                  </a:lnTo>
                  <a:lnTo>
                    <a:pt x="202" y="442"/>
                  </a:lnTo>
                  <a:lnTo>
                    <a:pt x="206" y="410"/>
                  </a:lnTo>
                  <a:lnTo>
                    <a:pt x="210" y="391"/>
                  </a:lnTo>
                  <a:lnTo>
                    <a:pt x="217" y="366"/>
                  </a:lnTo>
                  <a:lnTo>
                    <a:pt x="227" y="332"/>
                  </a:lnTo>
                  <a:lnTo>
                    <a:pt x="243" y="287"/>
                  </a:lnTo>
                  <a:lnTo>
                    <a:pt x="261" y="238"/>
                  </a:lnTo>
                  <a:lnTo>
                    <a:pt x="273" y="194"/>
                  </a:lnTo>
                  <a:lnTo>
                    <a:pt x="280" y="159"/>
                  </a:lnTo>
                  <a:lnTo>
                    <a:pt x="283" y="129"/>
                  </a:lnTo>
                  <a:lnTo>
                    <a:pt x="280" y="101"/>
                  </a:lnTo>
                  <a:lnTo>
                    <a:pt x="274" y="75"/>
                  </a:lnTo>
                  <a:lnTo>
                    <a:pt x="264" y="55"/>
                  </a:lnTo>
                  <a:lnTo>
                    <a:pt x="249" y="36"/>
                  </a:lnTo>
                  <a:lnTo>
                    <a:pt x="240" y="28"/>
                  </a:lnTo>
                  <a:lnTo>
                    <a:pt x="231" y="21"/>
                  </a:lnTo>
                  <a:lnTo>
                    <a:pt x="220" y="14"/>
                  </a:lnTo>
                  <a:lnTo>
                    <a:pt x="209" y="10"/>
                  </a:lnTo>
                  <a:lnTo>
                    <a:pt x="197" y="6"/>
                  </a:lnTo>
                  <a:lnTo>
                    <a:pt x="184" y="3"/>
                  </a:lnTo>
                  <a:lnTo>
                    <a:pt x="171" y="0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0" y="3"/>
                  </a:lnTo>
                  <a:lnTo>
                    <a:pt x="116" y="6"/>
                  </a:lnTo>
                  <a:lnTo>
                    <a:pt x="105" y="10"/>
                  </a:lnTo>
                  <a:lnTo>
                    <a:pt x="93" y="14"/>
                  </a:lnTo>
                  <a:lnTo>
                    <a:pt x="83" y="21"/>
                  </a:lnTo>
                  <a:lnTo>
                    <a:pt x="74" y="28"/>
                  </a:lnTo>
                  <a:lnTo>
                    <a:pt x="64" y="36"/>
                  </a:lnTo>
                  <a:lnTo>
                    <a:pt x="49" y="55"/>
                  </a:lnTo>
                  <a:lnTo>
                    <a:pt x="38" y="75"/>
                  </a:lnTo>
                  <a:lnTo>
                    <a:pt x="33" y="101"/>
                  </a:lnTo>
                  <a:lnTo>
                    <a:pt x="30" y="129"/>
                  </a:lnTo>
                  <a:lnTo>
                    <a:pt x="30" y="138"/>
                  </a:lnTo>
                  <a:lnTo>
                    <a:pt x="31" y="149"/>
                  </a:lnTo>
                  <a:lnTo>
                    <a:pt x="33" y="160"/>
                  </a:lnTo>
                  <a:lnTo>
                    <a:pt x="34" y="172"/>
                  </a:lnTo>
                  <a:lnTo>
                    <a:pt x="16" y="172"/>
                  </a:lnTo>
                  <a:lnTo>
                    <a:pt x="10" y="174"/>
                  </a:lnTo>
                  <a:lnTo>
                    <a:pt x="4" y="178"/>
                  </a:lnTo>
                  <a:lnTo>
                    <a:pt x="1" y="183"/>
                  </a:lnTo>
                  <a:lnTo>
                    <a:pt x="0" y="190"/>
                  </a:lnTo>
                  <a:lnTo>
                    <a:pt x="1" y="197"/>
                  </a:lnTo>
                  <a:lnTo>
                    <a:pt x="4" y="202"/>
                  </a:lnTo>
                  <a:lnTo>
                    <a:pt x="10" y="207"/>
                  </a:lnTo>
                  <a:lnTo>
                    <a:pt x="16" y="208"/>
                  </a:lnTo>
                  <a:lnTo>
                    <a:pt x="36" y="208"/>
                  </a:lnTo>
                  <a:lnTo>
                    <a:pt x="37" y="208"/>
                  </a:lnTo>
                  <a:lnTo>
                    <a:pt x="38" y="207"/>
                  </a:lnTo>
                  <a:lnTo>
                    <a:pt x="41" y="207"/>
                  </a:lnTo>
                  <a:lnTo>
                    <a:pt x="42" y="205"/>
                  </a:lnTo>
                  <a:lnTo>
                    <a:pt x="48" y="224"/>
                  </a:lnTo>
                  <a:lnTo>
                    <a:pt x="53" y="243"/>
                  </a:lnTo>
                  <a:lnTo>
                    <a:pt x="60" y="265"/>
                  </a:lnTo>
                  <a:lnTo>
                    <a:pt x="68" y="287"/>
                  </a:lnTo>
                  <a:lnTo>
                    <a:pt x="85" y="332"/>
                  </a:lnTo>
                  <a:lnTo>
                    <a:pt x="97" y="366"/>
                  </a:lnTo>
                  <a:lnTo>
                    <a:pt x="104" y="391"/>
                  </a:lnTo>
                  <a:lnTo>
                    <a:pt x="108" y="410"/>
                  </a:lnTo>
                  <a:lnTo>
                    <a:pt x="112" y="442"/>
                  </a:lnTo>
                  <a:lnTo>
                    <a:pt x="116" y="473"/>
                  </a:lnTo>
                  <a:lnTo>
                    <a:pt x="120" y="504"/>
                  </a:lnTo>
                  <a:lnTo>
                    <a:pt x="122" y="536"/>
                  </a:lnTo>
                  <a:lnTo>
                    <a:pt x="122" y="566"/>
                  </a:lnTo>
                  <a:lnTo>
                    <a:pt x="115" y="595"/>
                  </a:lnTo>
                  <a:lnTo>
                    <a:pt x="104" y="622"/>
                  </a:lnTo>
                  <a:lnTo>
                    <a:pt x="86" y="646"/>
                  </a:lnTo>
                  <a:lnTo>
                    <a:pt x="81" y="652"/>
                  </a:lnTo>
                  <a:lnTo>
                    <a:pt x="74" y="659"/>
                  </a:lnTo>
                  <a:lnTo>
                    <a:pt x="67" y="666"/>
                  </a:lnTo>
                  <a:lnTo>
                    <a:pt x="59" y="672"/>
                  </a:lnTo>
                  <a:lnTo>
                    <a:pt x="49" y="681"/>
                  </a:lnTo>
                  <a:lnTo>
                    <a:pt x="41" y="687"/>
                  </a:lnTo>
                  <a:lnTo>
                    <a:pt x="33" y="693"/>
                  </a:lnTo>
                  <a:lnTo>
                    <a:pt x="26" y="697"/>
                  </a:lnTo>
                  <a:lnTo>
                    <a:pt x="264" y="677"/>
                  </a:lnTo>
                  <a:lnTo>
                    <a:pt x="255" y="667"/>
                  </a:lnTo>
                  <a:lnTo>
                    <a:pt x="246" y="657"/>
                  </a:lnTo>
                  <a:lnTo>
                    <a:pt x="236" y="648"/>
                  </a:lnTo>
                  <a:lnTo>
                    <a:pt x="227" y="63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3593160" y="4311360"/>
              <a:ext cx="267120" cy="4608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66" h="126">
                  <a:moveTo>
                    <a:pt x="0" y="32"/>
                  </a:moveTo>
                  <a:lnTo>
                    <a:pt x="1" y="41"/>
                  </a:lnTo>
                  <a:lnTo>
                    <a:pt x="4" y="49"/>
                  </a:lnTo>
                  <a:lnTo>
                    <a:pt x="8" y="56"/>
                  </a:lnTo>
                  <a:lnTo>
                    <a:pt x="15" y="63"/>
                  </a:lnTo>
                  <a:lnTo>
                    <a:pt x="22" y="69"/>
                  </a:lnTo>
                  <a:lnTo>
                    <a:pt x="29" y="73"/>
                  </a:lnTo>
                  <a:lnTo>
                    <a:pt x="37" y="74"/>
                  </a:lnTo>
                  <a:lnTo>
                    <a:pt x="47" y="75"/>
                  </a:lnTo>
                  <a:lnTo>
                    <a:pt x="105" y="75"/>
                  </a:lnTo>
                  <a:lnTo>
                    <a:pt x="111" y="86"/>
                  </a:lnTo>
                  <a:lnTo>
                    <a:pt x="119" y="96"/>
                  </a:lnTo>
                  <a:lnTo>
                    <a:pt x="127" y="104"/>
                  </a:lnTo>
                  <a:lnTo>
                    <a:pt x="137" y="112"/>
                  </a:lnTo>
                  <a:lnTo>
                    <a:pt x="148" y="118"/>
                  </a:lnTo>
                  <a:lnTo>
                    <a:pt x="158" y="122"/>
                  </a:lnTo>
                  <a:lnTo>
                    <a:pt x="171" y="125"/>
                  </a:lnTo>
                  <a:lnTo>
                    <a:pt x="183" y="126"/>
                  </a:lnTo>
                  <a:lnTo>
                    <a:pt x="195" y="125"/>
                  </a:lnTo>
                  <a:lnTo>
                    <a:pt x="208" y="122"/>
                  </a:lnTo>
                  <a:lnTo>
                    <a:pt x="219" y="118"/>
                  </a:lnTo>
                  <a:lnTo>
                    <a:pt x="229" y="112"/>
                  </a:lnTo>
                  <a:lnTo>
                    <a:pt x="239" y="104"/>
                  </a:lnTo>
                  <a:lnTo>
                    <a:pt x="247" y="96"/>
                  </a:lnTo>
                  <a:lnTo>
                    <a:pt x="254" y="86"/>
                  </a:lnTo>
                  <a:lnTo>
                    <a:pt x="260" y="75"/>
                  </a:lnTo>
                  <a:lnTo>
                    <a:pt x="318" y="75"/>
                  </a:lnTo>
                  <a:lnTo>
                    <a:pt x="328" y="74"/>
                  </a:lnTo>
                  <a:lnTo>
                    <a:pt x="336" y="71"/>
                  </a:lnTo>
                  <a:lnTo>
                    <a:pt x="344" y="67"/>
                  </a:lnTo>
                  <a:lnTo>
                    <a:pt x="352" y="62"/>
                  </a:lnTo>
                  <a:lnTo>
                    <a:pt x="358" y="55"/>
                  </a:lnTo>
                  <a:lnTo>
                    <a:pt x="362" y="47"/>
                  </a:lnTo>
                  <a:lnTo>
                    <a:pt x="365" y="37"/>
                  </a:lnTo>
                  <a:lnTo>
                    <a:pt x="366" y="28"/>
                  </a:lnTo>
                  <a:lnTo>
                    <a:pt x="36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3592440" y="4282200"/>
              <a:ext cx="267840" cy="28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67" h="78">
                  <a:moveTo>
                    <a:pt x="0" y="78"/>
                  </a:moveTo>
                  <a:lnTo>
                    <a:pt x="367" y="45"/>
                  </a:lnTo>
                  <a:lnTo>
                    <a:pt x="367" y="0"/>
                  </a:lnTo>
                  <a:lnTo>
                    <a:pt x="0" y="3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3592440" y="4253040"/>
              <a:ext cx="267840" cy="28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67" h="78">
                  <a:moveTo>
                    <a:pt x="0" y="78"/>
                  </a:moveTo>
                  <a:lnTo>
                    <a:pt x="367" y="45"/>
                  </a:lnTo>
                  <a:lnTo>
                    <a:pt x="367" y="0"/>
                  </a:lnTo>
                  <a:lnTo>
                    <a:pt x="0" y="3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3705120" y="4038120"/>
              <a:ext cx="44280" cy="22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1" h="62">
                  <a:moveTo>
                    <a:pt x="30" y="62"/>
                  </a:moveTo>
                  <a:lnTo>
                    <a:pt x="42" y="59"/>
                  </a:lnTo>
                  <a:lnTo>
                    <a:pt x="52" y="52"/>
                  </a:lnTo>
                  <a:lnTo>
                    <a:pt x="59" y="43"/>
                  </a:lnTo>
                  <a:lnTo>
                    <a:pt x="61" y="32"/>
                  </a:lnTo>
                  <a:lnTo>
                    <a:pt x="59" y="20"/>
                  </a:lnTo>
                  <a:lnTo>
                    <a:pt x="52" y="10"/>
                  </a:lnTo>
                  <a:lnTo>
                    <a:pt x="42" y="3"/>
                  </a:lnTo>
                  <a:lnTo>
                    <a:pt x="30" y="0"/>
                  </a:lnTo>
                  <a:lnTo>
                    <a:pt x="19" y="3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3"/>
                  </a:lnTo>
                  <a:lnTo>
                    <a:pt x="10" y="52"/>
                  </a:lnTo>
                  <a:lnTo>
                    <a:pt x="19" y="59"/>
                  </a:lnTo>
                  <a:lnTo>
                    <a:pt x="30" y="6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组合 39"/>
          <p:cNvGrpSpPr/>
          <p:nvPr/>
        </p:nvGrpSpPr>
        <p:grpSpPr>
          <a:xfrm>
            <a:off x="5208480" y="3714840"/>
            <a:ext cx="506160" cy="506160"/>
            <a:chOff x="5208480" y="3714840"/>
            <a:chExt cx="506160" cy="506160"/>
          </a:xfrm>
        </p:grpSpPr>
        <p:sp>
          <p:nvSpPr>
            <p:cNvPr id="259" name="AutoShape 19"/>
            <p:cNvSpPr/>
            <p:nvPr/>
          </p:nvSpPr>
          <p:spPr>
            <a:xfrm>
              <a:off x="5208480" y="3714840"/>
              <a:ext cx="506160" cy="506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5208480" y="3714840"/>
              <a:ext cx="506160" cy="5061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76" h="2176">
                  <a:moveTo>
                    <a:pt x="1017" y="268"/>
                  </a:moveTo>
                  <a:lnTo>
                    <a:pt x="961" y="268"/>
                  </a:lnTo>
                  <a:lnTo>
                    <a:pt x="961" y="443"/>
                  </a:lnTo>
                  <a:lnTo>
                    <a:pt x="950" y="444"/>
                  </a:lnTo>
                  <a:lnTo>
                    <a:pt x="937" y="447"/>
                  </a:lnTo>
                  <a:lnTo>
                    <a:pt x="923" y="449"/>
                  </a:lnTo>
                  <a:lnTo>
                    <a:pt x="910" y="451"/>
                  </a:lnTo>
                  <a:lnTo>
                    <a:pt x="895" y="455"/>
                  </a:lnTo>
                  <a:lnTo>
                    <a:pt x="880" y="458"/>
                  </a:lnTo>
                  <a:lnTo>
                    <a:pt x="865" y="463"/>
                  </a:lnTo>
                  <a:lnTo>
                    <a:pt x="849" y="469"/>
                  </a:lnTo>
                  <a:lnTo>
                    <a:pt x="832" y="475"/>
                  </a:lnTo>
                  <a:lnTo>
                    <a:pt x="816" y="482"/>
                  </a:lnTo>
                  <a:lnTo>
                    <a:pt x="800" y="492"/>
                  </a:lnTo>
                  <a:lnTo>
                    <a:pt x="783" y="501"/>
                  </a:lnTo>
                  <a:lnTo>
                    <a:pt x="767" y="512"/>
                  </a:lnTo>
                  <a:lnTo>
                    <a:pt x="752" y="525"/>
                  </a:lnTo>
                  <a:lnTo>
                    <a:pt x="736" y="540"/>
                  </a:lnTo>
                  <a:lnTo>
                    <a:pt x="721" y="556"/>
                  </a:lnTo>
                  <a:lnTo>
                    <a:pt x="699" y="584"/>
                  </a:lnTo>
                  <a:lnTo>
                    <a:pt x="680" y="613"/>
                  </a:lnTo>
                  <a:lnTo>
                    <a:pt x="665" y="641"/>
                  </a:lnTo>
                  <a:lnTo>
                    <a:pt x="655" y="671"/>
                  </a:lnTo>
                  <a:lnTo>
                    <a:pt x="646" y="701"/>
                  </a:lnTo>
                  <a:lnTo>
                    <a:pt x="641" y="731"/>
                  </a:lnTo>
                  <a:lnTo>
                    <a:pt x="638" y="760"/>
                  </a:lnTo>
                  <a:lnTo>
                    <a:pt x="637" y="789"/>
                  </a:lnTo>
                  <a:lnTo>
                    <a:pt x="639" y="829"/>
                  </a:lnTo>
                  <a:lnTo>
                    <a:pt x="645" y="866"/>
                  </a:lnTo>
                  <a:lnTo>
                    <a:pt x="654" y="900"/>
                  </a:lnTo>
                  <a:lnTo>
                    <a:pt x="668" y="931"/>
                  </a:lnTo>
                  <a:lnTo>
                    <a:pt x="683" y="959"/>
                  </a:lnTo>
                  <a:lnTo>
                    <a:pt x="702" y="984"/>
                  </a:lnTo>
                  <a:lnTo>
                    <a:pt x="723" y="1007"/>
                  </a:lnTo>
                  <a:lnTo>
                    <a:pt x="746" y="1028"/>
                  </a:lnTo>
                  <a:lnTo>
                    <a:pt x="771" y="1048"/>
                  </a:lnTo>
                  <a:lnTo>
                    <a:pt x="798" y="1065"/>
                  </a:lnTo>
                  <a:lnTo>
                    <a:pt x="825" y="1080"/>
                  </a:lnTo>
                  <a:lnTo>
                    <a:pt x="854" y="1094"/>
                  </a:lnTo>
                  <a:lnTo>
                    <a:pt x="883" y="1108"/>
                  </a:lnTo>
                  <a:lnTo>
                    <a:pt x="912" y="1119"/>
                  </a:lnTo>
                  <a:lnTo>
                    <a:pt x="942" y="1131"/>
                  </a:lnTo>
                  <a:lnTo>
                    <a:pt x="971" y="1141"/>
                  </a:lnTo>
                  <a:lnTo>
                    <a:pt x="994" y="1150"/>
                  </a:lnTo>
                  <a:lnTo>
                    <a:pt x="1015" y="1158"/>
                  </a:lnTo>
                  <a:lnTo>
                    <a:pt x="1036" y="1166"/>
                  </a:lnTo>
                  <a:lnTo>
                    <a:pt x="1056" y="1173"/>
                  </a:lnTo>
                  <a:lnTo>
                    <a:pt x="1074" y="1180"/>
                  </a:lnTo>
                  <a:lnTo>
                    <a:pt x="1090" y="1187"/>
                  </a:lnTo>
                  <a:lnTo>
                    <a:pt x="1106" y="1194"/>
                  </a:lnTo>
                  <a:lnTo>
                    <a:pt x="1120" y="1201"/>
                  </a:lnTo>
                  <a:lnTo>
                    <a:pt x="1134" y="1207"/>
                  </a:lnTo>
                  <a:lnTo>
                    <a:pt x="1147" y="1213"/>
                  </a:lnTo>
                  <a:lnTo>
                    <a:pt x="1157" y="1220"/>
                  </a:lnTo>
                  <a:lnTo>
                    <a:pt x="1167" y="1226"/>
                  </a:lnTo>
                  <a:lnTo>
                    <a:pt x="1178" y="1233"/>
                  </a:lnTo>
                  <a:lnTo>
                    <a:pt x="1186" y="1240"/>
                  </a:lnTo>
                  <a:lnTo>
                    <a:pt x="1194" y="1247"/>
                  </a:lnTo>
                  <a:lnTo>
                    <a:pt x="1201" y="1255"/>
                  </a:lnTo>
                  <a:lnTo>
                    <a:pt x="1209" y="1265"/>
                  </a:lnTo>
                  <a:lnTo>
                    <a:pt x="1216" y="1278"/>
                  </a:lnTo>
                  <a:lnTo>
                    <a:pt x="1223" y="1291"/>
                  </a:lnTo>
                  <a:lnTo>
                    <a:pt x="1228" y="1304"/>
                  </a:lnTo>
                  <a:lnTo>
                    <a:pt x="1232" y="1318"/>
                  </a:lnTo>
                  <a:lnTo>
                    <a:pt x="1235" y="1333"/>
                  </a:lnTo>
                  <a:lnTo>
                    <a:pt x="1237" y="1348"/>
                  </a:lnTo>
                  <a:lnTo>
                    <a:pt x="1238" y="1363"/>
                  </a:lnTo>
                  <a:lnTo>
                    <a:pt x="1234" y="1400"/>
                  </a:lnTo>
                  <a:lnTo>
                    <a:pt x="1223" y="1432"/>
                  </a:lnTo>
                  <a:lnTo>
                    <a:pt x="1205" y="1459"/>
                  </a:lnTo>
                  <a:lnTo>
                    <a:pt x="1184" y="1481"/>
                  </a:lnTo>
                  <a:lnTo>
                    <a:pt x="1158" y="1498"/>
                  </a:lnTo>
                  <a:lnTo>
                    <a:pt x="1129" y="1511"/>
                  </a:lnTo>
                  <a:lnTo>
                    <a:pt x="1100" y="1517"/>
                  </a:lnTo>
                  <a:lnTo>
                    <a:pt x="1068" y="1520"/>
                  </a:lnTo>
                  <a:lnTo>
                    <a:pt x="1053" y="1520"/>
                  </a:lnTo>
                  <a:lnTo>
                    <a:pt x="1040" y="1517"/>
                  </a:lnTo>
                  <a:lnTo>
                    <a:pt x="1026" y="1515"/>
                  </a:lnTo>
                  <a:lnTo>
                    <a:pt x="1012" y="1513"/>
                  </a:lnTo>
                  <a:lnTo>
                    <a:pt x="998" y="1508"/>
                  </a:lnTo>
                  <a:lnTo>
                    <a:pt x="984" y="1504"/>
                  </a:lnTo>
                  <a:lnTo>
                    <a:pt x="972" y="1498"/>
                  </a:lnTo>
                  <a:lnTo>
                    <a:pt x="960" y="1492"/>
                  </a:lnTo>
                  <a:lnTo>
                    <a:pt x="948" y="1485"/>
                  </a:lnTo>
                  <a:lnTo>
                    <a:pt x="936" y="1477"/>
                  </a:lnTo>
                  <a:lnTo>
                    <a:pt x="926" y="1469"/>
                  </a:lnTo>
                  <a:lnTo>
                    <a:pt x="915" y="1461"/>
                  </a:lnTo>
                  <a:lnTo>
                    <a:pt x="905" y="1452"/>
                  </a:lnTo>
                  <a:lnTo>
                    <a:pt x="896" y="1441"/>
                  </a:lnTo>
                  <a:lnTo>
                    <a:pt x="888" y="1431"/>
                  </a:lnTo>
                  <a:lnTo>
                    <a:pt x="880" y="1421"/>
                  </a:lnTo>
                  <a:lnTo>
                    <a:pt x="866" y="1398"/>
                  </a:lnTo>
                  <a:lnTo>
                    <a:pt x="854" y="1375"/>
                  </a:lnTo>
                  <a:lnTo>
                    <a:pt x="845" y="1351"/>
                  </a:lnTo>
                  <a:lnTo>
                    <a:pt x="838" y="1326"/>
                  </a:lnTo>
                  <a:lnTo>
                    <a:pt x="832" y="1303"/>
                  </a:lnTo>
                  <a:lnTo>
                    <a:pt x="829" y="1283"/>
                  </a:lnTo>
                  <a:lnTo>
                    <a:pt x="825" y="1264"/>
                  </a:lnTo>
                  <a:lnTo>
                    <a:pt x="823" y="1249"/>
                  </a:lnTo>
                  <a:lnTo>
                    <a:pt x="634" y="1249"/>
                  </a:lnTo>
                  <a:lnTo>
                    <a:pt x="634" y="1680"/>
                  </a:lnTo>
                  <a:lnTo>
                    <a:pt x="822" y="1680"/>
                  </a:lnTo>
                  <a:lnTo>
                    <a:pt x="825" y="1570"/>
                  </a:lnTo>
                  <a:lnTo>
                    <a:pt x="839" y="1588"/>
                  </a:lnTo>
                  <a:lnTo>
                    <a:pt x="852" y="1604"/>
                  </a:lnTo>
                  <a:lnTo>
                    <a:pt x="866" y="1618"/>
                  </a:lnTo>
                  <a:lnTo>
                    <a:pt x="880" y="1630"/>
                  </a:lnTo>
                  <a:lnTo>
                    <a:pt x="896" y="1643"/>
                  </a:lnTo>
                  <a:lnTo>
                    <a:pt x="914" y="1654"/>
                  </a:lnTo>
                  <a:lnTo>
                    <a:pt x="936" y="1665"/>
                  </a:lnTo>
                  <a:lnTo>
                    <a:pt x="961" y="1674"/>
                  </a:lnTo>
                  <a:lnTo>
                    <a:pt x="961" y="1878"/>
                  </a:lnTo>
                  <a:lnTo>
                    <a:pt x="1154" y="1878"/>
                  </a:lnTo>
                  <a:lnTo>
                    <a:pt x="1154" y="1697"/>
                  </a:lnTo>
                  <a:lnTo>
                    <a:pt x="1169" y="1695"/>
                  </a:lnTo>
                  <a:lnTo>
                    <a:pt x="1182" y="1692"/>
                  </a:lnTo>
                  <a:lnTo>
                    <a:pt x="1197" y="1689"/>
                  </a:lnTo>
                  <a:lnTo>
                    <a:pt x="1212" y="1686"/>
                  </a:lnTo>
                  <a:lnTo>
                    <a:pt x="1227" y="1682"/>
                  </a:lnTo>
                  <a:lnTo>
                    <a:pt x="1242" y="1677"/>
                  </a:lnTo>
                  <a:lnTo>
                    <a:pt x="1257" y="1672"/>
                  </a:lnTo>
                  <a:lnTo>
                    <a:pt x="1272" y="1666"/>
                  </a:lnTo>
                  <a:lnTo>
                    <a:pt x="1286" y="1659"/>
                  </a:lnTo>
                  <a:lnTo>
                    <a:pt x="1300" y="1652"/>
                  </a:lnTo>
                  <a:lnTo>
                    <a:pt x="1315" y="1644"/>
                  </a:lnTo>
                  <a:lnTo>
                    <a:pt x="1329" y="1635"/>
                  </a:lnTo>
                  <a:lnTo>
                    <a:pt x="1341" y="1626"/>
                  </a:lnTo>
                  <a:lnTo>
                    <a:pt x="1355" y="1615"/>
                  </a:lnTo>
                  <a:lnTo>
                    <a:pt x="1367" y="1604"/>
                  </a:lnTo>
                  <a:lnTo>
                    <a:pt x="1379" y="1591"/>
                  </a:lnTo>
                  <a:lnTo>
                    <a:pt x="1399" y="1567"/>
                  </a:lnTo>
                  <a:lnTo>
                    <a:pt x="1417" y="1540"/>
                  </a:lnTo>
                  <a:lnTo>
                    <a:pt x="1432" y="1513"/>
                  </a:lnTo>
                  <a:lnTo>
                    <a:pt x="1446" y="1482"/>
                  </a:lnTo>
                  <a:lnTo>
                    <a:pt x="1456" y="1450"/>
                  </a:lnTo>
                  <a:lnTo>
                    <a:pt x="1464" y="1416"/>
                  </a:lnTo>
                  <a:lnTo>
                    <a:pt x="1470" y="1383"/>
                  </a:lnTo>
                  <a:lnTo>
                    <a:pt x="1471" y="1347"/>
                  </a:lnTo>
                  <a:lnTo>
                    <a:pt x="1470" y="1319"/>
                  </a:lnTo>
                  <a:lnTo>
                    <a:pt x="1468" y="1292"/>
                  </a:lnTo>
                  <a:lnTo>
                    <a:pt x="1463" y="1265"/>
                  </a:lnTo>
                  <a:lnTo>
                    <a:pt x="1456" y="1238"/>
                  </a:lnTo>
                  <a:lnTo>
                    <a:pt x="1448" y="1211"/>
                  </a:lnTo>
                  <a:lnTo>
                    <a:pt x="1438" y="1186"/>
                  </a:lnTo>
                  <a:lnTo>
                    <a:pt x="1426" y="1163"/>
                  </a:lnTo>
                  <a:lnTo>
                    <a:pt x="1414" y="1141"/>
                  </a:lnTo>
                  <a:lnTo>
                    <a:pt x="1402" y="1125"/>
                  </a:lnTo>
                  <a:lnTo>
                    <a:pt x="1388" y="1109"/>
                  </a:lnTo>
                  <a:lnTo>
                    <a:pt x="1375" y="1095"/>
                  </a:lnTo>
                  <a:lnTo>
                    <a:pt x="1360" y="1081"/>
                  </a:lnTo>
                  <a:lnTo>
                    <a:pt x="1344" y="1068"/>
                  </a:lnTo>
                  <a:lnTo>
                    <a:pt x="1326" y="1056"/>
                  </a:lnTo>
                  <a:lnTo>
                    <a:pt x="1307" y="1044"/>
                  </a:lnTo>
                  <a:lnTo>
                    <a:pt x="1287" y="1033"/>
                  </a:lnTo>
                  <a:lnTo>
                    <a:pt x="1266" y="1022"/>
                  </a:lnTo>
                  <a:lnTo>
                    <a:pt x="1245" y="1011"/>
                  </a:lnTo>
                  <a:lnTo>
                    <a:pt x="1222" y="1000"/>
                  </a:lnTo>
                  <a:lnTo>
                    <a:pt x="1197" y="990"/>
                  </a:lnTo>
                  <a:lnTo>
                    <a:pt x="1171" y="980"/>
                  </a:lnTo>
                  <a:lnTo>
                    <a:pt x="1144" y="969"/>
                  </a:lnTo>
                  <a:lnTo>
                    <a:pt x="1117" y="958"/>
                  </a:lnTo>
                  <a:lnTo>
                    <a:pt x="1087" y="946"/>
                  </a:lnTo>
                  <a:lnTo>
                    <a:pt x="1065" y="938"/>
                  </a:lnTo>
                  <a:lnTo>
                    <a:pt x="1044" y="929"/>
                  </a:lnTo>
                  <a:lnTo>
                    <a:pt x="1025" y="921"/>
                  </a:lnTo>
                  <a:lnTo>
                    <a:pt x="1005" y="912"/>
                  </a:lnTo>
                  <a:lnTo>
                    <a:pt x="986" y="903"/>
                  </a:lnTo>
                  <a:lnTo>
                    <a:pt x="968" y="893"/>
                  </a:lnTo>
                  <a:lnTo>
                    <a:pt x="951" y="884"/>
                  </a:lnTo>
                  <a:lnTo>
                    <a:pt x="936" y="874"/>
                  </a:lnTo>
                  <a:lnTo>
                    <a:pt x="922" y="862"/>
                  </a:lnTo>
                  <a:lnTo>
                    <a:pt x="910" y="851"/>
                  </a:lnTo>
                  <a:lnTo>
                    <a:pt x="898" y="839"/>
                  </a:lnTo>
                  <a:lnTo>
                    <a:pt x="889" y="825"/>
                  </a:lnTo>
                  <a:lnTo>
                    <a:pt x="882" y="812"/>
                  </a:lnTo>
                  <a:lnTo>
                    <a:pt x="876" y="797"/>
                  </a:lnTo>
                  <a:lnTo>
                    <a:pt x="873" y="781"/>
                  </a:lnTo>
                  <a:lnTo>
                    <a:pt x="872" y="763"/>
                  </a:lnTo>
                  <a:lnTo>
                    <a:pt x="874" y="740"/>
                  </a:lnTo>
                  <a:lnTo>
                    <a:pt x="881" y="716"/>
                  </a:lnTo>
                  <a:lnTo>
                    <a:pt x="892" y="694"/>
                  </a:lnTo>
                  <a:lnTo>
                    <a:pt x="910" y="674"/>
                  </a:lnTo>
                  <a:lnTo>
                    <a:pt x="931" y="655"/>
                  </a:lnTo>
                  <a:lnTo>
                    <a:pt x="958" y="641"/>
                  </a:lnTo>
                  <a:lnTo>
                    <a:pt x="989" y="632"/>
                  </a:lnTo>
                  <a:lnTo>
                    <a:pt x="1026" y="629"/>
                  </a:lnTo>
                  <a:lnTo>
                    <a:pt x="1057" y="630"/>
                  </a:lnTo>
                  <a:lnTo>
                    <a:pt x="1085" y="636"/>
                  </a:lnTo>
                  <a:lnTo>
                    <a:pt x="1108" y="642"/>
                  </a:lnTo>
                  <a:lnTo>
                    <a:pt x="1128" y="650"/>
                  </a:lnTo>
                  <a:lnTo>
                    <a:pt x="1146" y="661"/>
                  </a:lnTo>
                  <a:lnTo>
                    <a:pt x="1161" y="671"/>
                  </a:lnTo>
                  <a:lnTo>
                    <a:pt x="1173" y="680"/>
                  </a:lnTo>
                  <a:lnTo>
                    <a:pt x="1182" y="690"/>
                  </a:lnTo>
                  <a:lnTo>
                    <a:pt x="1200" y="712"/>
                  </a:lnTo>
                  <a:lnTo>
                    <a:pt x="1215" y="736"/>
                  </a:lnTo>
                  <a:lnTo>
                    <a:pt x="1226" y="760"/>
                  </a:lnTo>
                  <a:lnTo>
                    <a:pt x="1235" y="784"/>
                  </a:lnTo>
                  <a:lnTo>
                    <a:pt x="1243" y="809"/>
                  </a:lnTo>
                  <a:lnTo>
                    <a:pt x="1249" y="832"/>
                  </a:lnTo>
                  <a:lnTo>
                    <a:pt x="1254" y="855"/>
                  </a:lnTo>
                  <a:lnTo>
                    <a:pt x="1257" y="877"/>
                  </a:lnTo>
                  <a:lnTo>
                    <a:pt x="1445" y="877"/>
                  </a:lnTo>
                  <a:lnTo>
                    <a:pt x="1445" y="469"/>
                  </a:lnTo>
                  <a:lnTo>
                    <a:pt x="1260" y="469"/>
                  </a:lnTo>
                  <a:lnTo>
                    <a:pt x="1256" y="553"/>
                  </a:lnTo>
                  <a:lnTo>
                    <a:pt x="1246" y="539"/>
                  </a:lnTo>
                  <a:lnTo>
                    <a:pt x="1235" y="526"/>
                  </a:lnTo>
                  <a:lnTo>
                    <a:pt x="1225" y="515"/>
                  </a:lnTo>
                  <a:lnTo>
                    <a:pt x="1215" y="504"/>
                  </a:lnTo>
                  <a:lnTo>
                    <a:pt x="1202" y="495"/>
                  </a:lnTo>
                  <a:lnTo>
                    <a:pt x="1188" y="486"/>
                  </a:lnTo>
                  <a:lnTo>
                    <a:pt x="1172" y="477"/>
                  </a:lnTo>
                  <a:lnTo>
                    <a:pt x="1154" y="469"/>
                  </a:lnTo>
                  <a:lnTo>
                    <a:pt x="1154" y="268"/>
                  </a:lnTo>
                  <a:lnTo>
                    <a:pt x="1017" y="268"/>
                  </a:lnTo>
                  <a:lnTo>
                    <a:pt x="876" y="22"/>
                  </a:lnTo>
                  <a:lnTo>
                    <a:pt x="889" y="20"/>
                  </a:lnTo>
                  <a:lnTo>
                    <a:pt x="901" y="17"/>
                  </a:lnTo>
                  <a:lnTo>
                    <a:pt x="914" y="15"/>
                  </a:lnTo>
                  <a:lnTo>
                    <a:pt x="928" y="13"/>
                  </a:lnTo>
                  <a:lnTo>
                    <a:pt x="941" y="10"/>
                  </a:lnTo>
                  <a:lnTo>
                    <a:pt x="954" y="9"/>
                  </a:lnTo>
                  <a:lnTo>
                    <a:pt x="967" y="7"/>
                  </a:lnTo>
                  <a:lnTo>
                    <a:pt x="981" y="6"/>
                  </a:lnTo>
                  <a:lnTo>
                    <a:pt x="994" y="5"/>
                  </a:lnTo>
                  <a:lnTo>
                    <a:pt x="1007" y="3"/>
                  </a:lnTo>
                  <a:lnTo>
                    <a:pt x="1021" y="2"/>
                  </a:lnTo>
                  <a:lnTo>
                    <a:pt x="1034" y="1"/>
                  </a:lnTo>
                  <a:lnTo>
                    <a:pt x="1048" y="1"/>
                  </a:lnTo>
                  <a:lnTo>
                    <a:pt x="1062" y="0"/>
                  </a:lnTo>
                  <a:lnTo>
                    <a:pt x="1075" y="0"/>
                  </a:lnTo>
                  <a:lnTo>
                    <a:pt x="1089" y="0"/>
                  </a:lnTo>
                  <a:lnTo>
                    <a:pt x="1146" y="1"/>
                  </a:lnTo>
                  <a:lnTo>
                    <a:pt x="1200" y="6"/>
                  </a:lnTo>
                  <a:lnTo>
                    <a:pt x="1255" y="13"/>
                  </a:lnTo>
                  <a:lnTo>
                    <a:pt x="1308" y="22"/>
                  </a:lnTo>
                  <a:lnTo>
                    <a:pt x="1361" y="35"/>
                  </a:lnTo>
                  <a:lnTo>
                    <a:pt x="1413" y="50"/>
                  </a:lnTo>
                  <a:lnTo>
                    <a:pt x="1462" y="66"/>
                  </a:lnTo>
                  <a:lnTo>
                    <a:pt x="1512" y="85"/>
                  </a:lnTo>
                  <a:lnTo>
                    <a:pt x="1560" y="107"/>
                  </a:lnTo>
                  <a:lnTo>
                    <a:pt x="1607" y="131"/>
                  </a:lnTo>
                  <a:lnTo>
                    <a:pt x="1652" y="158"/>
                  </a:lnTo>
                  <a:lnTo>
                    <a:pt x="1697" y="187"/>
                  </a:lnTo>
                  <a:lnTo>
                    <a:pt x="1740" y="216"/>
                  </a:lnTo>
                  <a:lnTo>
                    <a:pt x="1780" y="249"/>
                  </a:lnTo>
                  <a:lnTo>
                    <a:pt x="1820" y="283"/>
                  </a:lnTo>
                  <a:lnTo>
                    <a:pt x="1857" y="319"/>
                  </a:lnTo>
                  <a:lnTo>
                    <a:pt x="1894" y="357"/>
                  </a:lnTo>
                  <a:lnTo>
                    <a:pt x="1927" y="396"/>
                  </a:lnTo>
                  <a:lnTo>
                    <a:pt x="1960" y="438"/>
                  </a:lnTo>
                  <a:lnTo>
                    <a:pt x="1991" y="480"/>
                  </a:lnTo>
                  <a:lnTo>
                    <a:pt x="2018" y="525"/>
                  </a:lnTo>
                  <a:lnTo>
                    <a:pt x="2045" y="570"/>
                  </a:lnTo>
                  <a:lnTo>
                    <a:pt x="2069" y="617"/>
                  </a:lnTo>
                  <a:lnTo>
                    <a:pt x="2091" y="665"/>
                  </a:lnTo>
                  <a:lnTo>
                    <a:pt x="2110" y="715"/>
                  </a:lnTo>
                  <a:lnTo>
                    <a:pt x="2128" y="766"/>
                  </a:lnTo>
                  <a:lnTo>
                    <a:pt x="2141" y="817"/>
                  </a:lnTo>
                  <a:lnTo>
                    <a:pt x="2154" y="869"/>
                  </a:lnTo>
                  <a:lnTo>
                    <a:pt x="2163" y="923"/>
                  </a:lnTo>
                  <a:lnTo>
                    <a:pt x="2170" y="977"/>
                  </a:lnTo>
                  <a:lnTo>
                    <a:pt x="2175" y="1033"/>
                  </a:lnTo>
                  <a:lnTo>
                    <a:pt x="2176" y="1089"/>
                  </a:lnTo>
                  <a:lnTo>
                    <a:pt x="2175" y="1146"/>
                  </a:lnTo>
                  <a:lnTo>
                    <a:pt x="2170" y="1200"/>
                  </a:lnTo>
                  <a:lnTo>
                    <a:pt x="2163" y="1255"/>
                  </a:lnTo>
                  <a:lnTo>
                    <a:pt x="2154" y="1308"/>
                  </a:lnTo>
                  <a:lnTo>
                    <a:pt x="2141" y="1361"/>
                  </a:lnTo>
                  <a:lnTo>
                    <a:pt x="2128" y="1413"/>
                  </a:lnTo>
                  <a:lnTo>
                    <a:pt x="2110" y="1462"/>
                  </a:lnTo>
                  <a:lnTo>
                    <a:pt x="2091" y="1512"/>
                  </a:lnTo>
                  <a:lnTo>
                    <a:pt x="2069" y="1560"/>
                  </a:lnTo>
                  <a:lnTo>
                    <a:pt x="2045" y="1607"/>
                  </a:lnTo>
                  <a:lnTo>
                    <a:pt x="2018" y="1652"/>
                  </a:lnTo>
                  <a:lnTo>
                    <a:pt x="1991" y="1697"/>
                  </a:lnTo>
                  <a:lnTo>
                    <a:pt x="1960" y="1740"/>
                  </a:lnTo>
                  <a:lnTo>
                    <a:pt x="1927" y="1780"/>
                  </a:lnTo>
                  <a:lnTo>
                    <a:pt x="1894" y="1820"/>
                  </a:lnTo>
                  <a:lnTo>
                    <a:pt x="1857" y="1857"/>
                  </a:lnTo>
                  <a:lnTo>
                    <a:pt x="1820" y="1894"/>
                  </a:lnTo>
                  <a:lnTo>
                    <a:pt x="1780" y="1927"/>
                  </a:lnTo>
                  <a:lnTo>
                    <a:pt x="1740" y="1960"/>
                  </a:lnTo>
                  <a:lnTo>
                    <a:pt x="1697" y="1991"/>
                  </a:lnTo>
                  <a:lnTo>
                    <a:pt x="1652" y="2018"/>
                  </a:lnTo>
                  <a:lnTo>
                    <a:pt x="1607" y="2045"/>
                  </a:lnTo>
                  <a:lnTo>
                    <a:pt x="1560" y="2069"/>
                  </a:lnTo>
                  <a:lnTo>
                    <a:pt x="1512" y="2091"/>
                  </a:lnTo>
                  <a:lnTo>
                    <a:pt x="1462" y="2110"/>
                  </a:lnTo>
                  <a:lnTo>
                    <a:pt x="1413" y="2128"/>
                  </a:lnTo>
                  <a:lnTo>
                    <a:pt x="1361" y="2141"/>
                  </a:lnTo>
                  <a:lnTo>
                    <a:pt x="1308" y="2154"/>
                  </a:lnTo>
                  <a:lnTo>
                    <a:pt x="1255" y="2163"/>
                  </a:lnTo>
                  <a:lnTo>
                    <a:pt x="1200" y="2170"/>
                  </a:lnTo>
                  <a:lnTo>
                    <a:pt x="1146" y="2175"/>
                  </a:lnTo>
                  <a:lnTo>
                    <a:pt x="1089" y="2176"/>
                  </a:lnTo>
                  <a:lnTo>
                    <a:pt x="1033" y="2175"/>
                  </a:lnTo>
                  <a:lnTo>
                    <a:pt x="977" y="2170"/>
                  </a:lnTo>
                  <a:lnTo>
                    <a:pt x="923" y="2163"/>
                  </a:lnTo>
                  <a:lnTo>
                    <a:pt x="869" y="2154"/>
                  </a:lnTo>
                  <a:lnTo>
                    <a:pt x="817" y="2141"/>
                  </a:lnTo>
                  <a:lnTo>
                    <a:pt x="766" y="2128"/>
                  </a:lnTo>
                  <a:lnTo>
                    <a:pt x="715" y="2110"/>
                  </a:lnTo>
                  <a:lnTo>
                    <a:pt x="665" y="2091"/>
                  </a:lnTo>
                  <a:lnTo>
                    <a:pt x="617" y="2069"/>
                  </a:lnTo>
                  <a:lnTo>
                    <a:pt x="570" y="2045"/>
                  </a:lnTo>
                  <a:lnTo>
                    <a:pt x="525" y="2018"/>
                  </a:lnTo>
                  <a:lnTo>
                    <a:pt x="480" y="1991"/>
                  </a:lnTo>
                  <a:lnTo>
                    <a:pt x="438" y="1960"/>
                  </a:lnTo>
                  <a:lnTo>
                    <a:pt x="396" y="1927"/>
                  </a:lnTo>
                  <a:lnTo>
                    <a:pt x="357" y="1894"/>
                  </a:lnTo>
                  <a:lnTo>
                    <a:pt x="319" y="1857"/>
                  </a:lnTo>
                  <a:lnTo>
                    <a:pt x="283" y="1820"/>
                  </a:lnTo>
                  <a:lnTo>
                    <a:pt x="249" y="1780"/>
                  </a:lnTo>
                  <a:lnTo>
                    <a:pt x="216" y="1740"/>
                  </a:lnTo>
                  <a:lnTo>
                    <a:pt x="187" y="1697"/>
                  </a:lnTo>
                  <a:lnTo>
                    <a:pt x="158" y="1652"/>
                  </a:lnTo>
                  <a:lnTo>
                    <a:pt x="131" y="1607"/>
                  </a:lnTo>
                  <a:lnTo>
                    <a:pt x="107" y="1560"/>
                  </a:lnTo>
                  <a:lnTo>
                    <a:pt x="85" y="1512"/>
                  </a:lnTo>
                  <a:lnTo>
                    <a:pt x="66" y="1462"/>
                  </a:lnTo>
                  <a:lnTo>
                    <a:pt x="50" y="1413"/>
                  </a:lnTo>
                  <a:lnTo>
                    <a:pt x="35" y="1361"/>
                  </a:lnTo>
                  <a:lnTo>
                    <a:pt x="22" y="1308"/>
                  </a:lnTo>
                  <a:lnTo>
                    <a:pt x="13" y="1255"/>
                  </a:lnTo>
                  <a:lnTo>
                    <a:pt x="6" y="1200"/>
                  </a:lnTo>
                  <a:lnTo>
                    <a:pt x="1" y="1146"/>
                  </a:lnTo>
                  <a:lnTo>
                    <a:pt x="0" y="1089"/>
                  </a:lnTo>
                  <a:lnTo>
                    <a:pt x="1" y="1040"/>
                  </a:lnTo>
                  <a:lnTo>
                    <a:pt x="5" y="991"/>
                  </a:lnTo>
                  <a:lnTo>
                    <a:pt x="9" y="943"/>
                  </a:lnTo>
                  <a:lnTo>
                    <a:pt x="17" y="896"/>
                  </a:lnTo>
                  <a:lnTo>
                    <a:pt x="26" y="849"/>
                  </a:lnTo>
                  <a:lnTo>
                    <a:pt x="38" y="802"/>
                  </a:lnTo>
                  <a:lnTo>
                    <a:pt x="52" y="758"/>
                  </a:lnTo>
                  <a:lnTo>
                    <a:pt x="67" y="714"/>
                  </a:lnTo>
                  <a:lnTo>
                    <a:pt x="84" y="670"/>
                  </a:lnTo>
                  <a:lnTo>
                    <a:pt x="102" y="627"/>
                  </a:lnTo>
                  <a:lnTo>
                    <a:pt x="123" y="586"/>
                  </a:lnTo>
                  <a:lnTo>
                    <a:pt x="145" y="546"/>
                  </a:lnTo>
                  <a:lnTo>
                    <a:pt x="169" y="505"/>
                  </a:lnTo>
                  <a:lnTo>
                    <a:pt x="195" y="467"/>
                  </a:lnTo>
                  <a:lnTo>
                    <a:pt x="222" y="431"/>
                  </a:lnTo>
                  <a:lnTo>
                    <a:pt x="251" y="395"/>
                  </a:lnTo>
                  <a:lnTo>
                    <a:pt x="281" y="359"/>
                  </a:lnTo>
                  <a:lnTo>
                    <a:pt x="312" y="327"/>
                  </a:lnTo>
                  <a:lnTo>
                    <a:pt x="345" y="295"/>
                  </a:lnTo>
                  <a:lnTo>
                    <a:pt x="379" y="264"/>
                  </a:lnTo>
                  <a:lnTo>
                    <a:pt x="414" y="235"/>
                  </a:lnTo>
                  <a:lnTo>
                    <a:pt x="451" y="207"/>
                  </a:lnTo>
                  <a:lnTo>
                    <a:pt x="489" y="181"/>
                  </a:lnTo>
                  <a:lnTo>
                    <a:pt x="528" y="157"/>
                  </a:lnTo>
                  <a:lnTo>
                    <a:pt x="569" y="134"/>
                  </a:lnTo>
                  <a:lnTo>
                    <a:pt x="610" y="112"/>
                  </a:lnTo>
                  <a:lnTo>
                    <a:pt x="652" y="92"/>
                  </a:lnTo>
                  <a:lnTo>
                    <a:pt x="695" y="75"/>
                  </a:lnTo>
                  <a:lnTo>
                    <a:pt x="739" y="59"/>
                  </a:lnTo>
                  <a:lnTo>
                    <a:pt x="784" y="45"/>
                  </a:lnTo>
                  <a:lnTo>
                    <a:pt x="830" y="32"/>
                  </a:lnTo>
                  <a:lnTo>
                    <a:pt x="876" y="22"/>
                  </a:lnTo>
                  <a:lnTo>
                    <a:pt x="1017" y="26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  <Words>680</Words>
  <Paragraphs>1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06:20:42Z</dcterms:created>
  <dc:creator>wushaoxia(武绍霞)</dc:creator>
  <dc:description/>
  <dc:language>en-US</dc:language>
  <cp:lastModifiedBy>a</cp:lastModifiedBy>
  <dcterms:modified xsi:type="dcterms:W3CDTF">2015-07-25T07:39:54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8</vt:r8>
  </property>
</Properties>
</file>