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8E1-C761-4A00-BD1E-4FD69B59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19F-50FE-4744-B6FF-ABF25955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10B-D5C5-45E9-89E8-42A0CCFC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005-C7AD-4472-B3AD-6C78CE38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EBA-044E-4F85-A46A-4808DC4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473-46F1-4025-9FA3-61BA4A87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603-017B-4D64-9E7C-5D9D8232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0F3-CF8D-4B7F-804F-B565483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39A-4D6B-42D6-8CAD-9E3E1109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926-5A26-4A2F-BF9D-42DC0A9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BBA-6B7E-4936-A228-498A828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FE7-3D54-4389-9C4B-75A7DE5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8E2-274E-41A7-A0CC-FA8BE55991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06436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成功的欢呼商务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68360" y="602136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3382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Conten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987200"/>
            <a:ext cx="5976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50920" y="530064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50920" y="4005360"/>
            <a:ext cx="820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onsectet adipiscing elit, sed diam nonummy nibh euismod tincidunt ut laoreet dolore magna aliquam erat volutp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sed diam nonummy nibh euism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incidunt ut laoreet dolore magna aliquam erat volutp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6:58:33Z</dcterms:modified>
  <cp:revision>15</cp:revision>
  <dc:subject/>
  <dc:title>www.pptbz.com</dc:title>
</cp:coreProperties>
</file>