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11BA-DFA5-4BAA-B49A-84E7FDD43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07A7-381B-466F-BD78-E5E3D6004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71D1-C0AB-410E-BACC-209BE79BF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1E6D-C80F-4E99-995B-2E8D63AD41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D1A6-AD27-495B-A29F-D7F18A6C6C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3A8C-F87B-4718-8D68-F3B2727FB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C11E-08E3-4F5F-8784-7C33D14C7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4EAEA-917A-4212-AA0D-188060ED1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14E3-2F9C-4AFE-B2AE-C4EA9A4F8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A698-BB91-4D50-BB0D-5B9136652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EB81-3BBF-47D4-B98E-E17A88C71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0240-7EBA-4A0C-92AF-AF8DB1A95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B747-7300-4032-BB89-6BDE62882320}" type="slidenum">
              <a:rPr b="0" lang="zh-CN" sz="18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-7920" y="3933720"/>
            <a:ext cx="9151920" cy="2924280"/>
          </a:xfrm>
          <a:prstGeom prst="rect">
            <a:avLst/>
          </a:pr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10 Imagen" descr=""/>
          <p:cNvPicPr/>
          <p:nvPr/>
        </p:nvPicPr>
        <p:blipFill>
          <a:blip r:embed="rId1"/>
          <a:stretch/>
        </p:blipFill>
        <p:spPr>
          <a:xfrm>
            <a:off x="179280" y="399960"/>
            <a:ext cx="3986280" cy="3529080"/>
          </a:xfrm>
          <a:prstGeom prst="rect">
            <a:avLst/>
          </a:prstGeom>
          <a:ln w="0">
            <a:noFill/>
          </a:ln>
        </p:spPr>
      </p:pic>
      <p:sp>
        <p:nvSpPr>
          <p:cNvPr id="39" name="矩形 9"/>
          <p:cNvSpPr/>
          <p:nvPr/>
        </p:nvSpPr>
        <p:spPr>
          <a:xfrm>
            <a:off x="0" y="3968640"/>
            <a:ext cx="3240000" cy="2523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10"/>
          <p:cNvSpPr/>
          <p:nvPr/>
        </p:nvSpPr>
        <p:spPr>
          <a:xfrm>
            <a:off x="2957400" y="3968640"/>
            <a:ext cx="3240360" cy="2523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11"/>
          <p:cNvSpPr/>
          <p:nvPr/>
        </p:nvSpPr>
        <p:spPr>
          <a:xfrm>
            <a:off x="5915160" y="3968640"/>
            <a:ext cx="3240000" cy="2523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229360"/>
            <a:ext cx="792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3"/>
                </a:solidFill>
                <a:latin typeface="微软雅黑"/>
              </a:rPr>
              <a:t>橙黑蓝商务</a:t>
            </a:r>
            <a:r>
              <a:rPr b="1" lang="en-US" sz="4400" spc="-1" strike="noStrike">
                <a:solidFill>
                  <a:srgbClr val="ffcc03"/>
                </a:solidFill>
                <a:latin typeface="微软雅黑"/>
              </a:rPr>
              <a:t>PPT</a:t>
            </a:r>
            <a:r>
              <a:rPr b="1" lang="zh-CN" sz="4400" spc="-1" strike="noStrike">
                <a:solidFill>
                  <a:srgbClr val="ffcc03"/>
                </a:solidFill>
                <a:latin typeface="微软雅黑"/>
              </a:rPr>
              <a:t>模板在线下载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9 CuadroTexto"/>
          <p:cNvSpPr/>
          <p:nvPr/>
        </p:nvSpPr>
        <p:spPr>
          <a:xfrm>
            <a:off x="5435640" y="836640"/>
            <a:ext cx="302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Designed by Andyguobao.All rights Reserved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Designed by Andyguobao.All rights Reserved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</a:rPr>
              <a:t>Designed by Andyguobao.All rights Reserved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灯片编号占位符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1878-87EA-4849-BBC8-7F4082A91789}" type="slidenum">
              <a:rPr b="0" lang="zh-CN" sz="18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0" y="6122880"/>
            <a:ext cx="3240000" cy="10800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2957400" y="6122880"/>
            <a:ext cx="3240360" cy="10800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0"/>
          <p:cNvSpPr/>
          <p:nvPr/>
        </p:nvSpPr>
        <p:spPr>
          <a:xfrm>
            <a:off x="5915160" y="6122880"/>
            <a:ext cx="3240000" cy="10800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43 Image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28040" y="6348240"/>
            <a:ext cx="36504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44 Imagen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6356520"/>
            <a:ext cx="363600" cy="363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6575b"/>
                </a:solidFill>
                <a:latin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椭圆 13"/>
          <p:cNvSpPr/>
          <p:nvPr/>
        </p:nvSpPr>
        <p:spPr>
          <a:xfrm>
            <a:off x="1943280" y="2805120"/>
            <a:ext cx="642600" cy="6429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cfd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6"/>
          <p:cNvSpPr/>
          <p:nvPr/>
        </p:nvSpPr>
        <p:spPr>
          <a:xfrm>
            <a:off x="4089240" y="2805120"/>
            <a:ext cx="642960" cy="642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cfd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9"/>
          <p:cNvSpPr/>
          <p:nvPr/>
        </p:nvSpPr>
        <p:spPr>
          <a:xfrm>
            <a:off x="6235560" y="2805120"/>
            <a:ext cx="642960" cy="6429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cfd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22"/>
          <p:cNvSpPr/>
          <p:nvPr/>
        </p:nvSpPr>
        <p:spPr>
          <a:xfrm>
            <a:off x="1884240" y="5013360"/>
            <a:ext cx="642960" cy="6411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cfd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5"/>
          <p:cNvSpPr/>
          <p:nvPr/>
        </p:nvSpPr>
        <p:spPr>
          <a:xfrm>
            <a:off x="4091040" y="5018040"/>
            <a:ext cx="642960" cy="6429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cfd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灯片编号占位符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8377-7504-4E6C-B6B4-124BDCF2C73B}" type="slidenum">
              <a:rPr b="0" lang="zh-CN" sz="18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0" y="6122880"/>
            <a:ext cx="3240000" cy="10800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2957400" y="6122880"/>
            <a:ext cx="3240360" cy="10800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5915160" y="6122880"/>
            <a:ext cx="3240000" cy="10800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43 Image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28040" y="6348240"/>
            <a:ext cx="365040" cy="363600"/>
          </a:xfrm>
          <a:prstGeom prst="rect">
            <a:avLst/>
          </a:prstGeom>
          <a:ln w="0">
            <a:noFill/>
          </a:ln>
        </p:spPr>
      </p:pic>
      <p:pic>
        <p:nvPicPr>
          <p:cNvPr id="64" name="44 Imagen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6356520"/>
            <a:ext cx="363600" cy="363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6575b"/>
                </a:solidFill>
                <a:latin typeface="微软雅黑"/>
              </a:rPr>
              <a:t>关于本模板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39560"/>
            <a:ext cx="822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6575b"/>
                </a:solidFill>
                <a:latin typeface="微软雅黑"/>
              </a:rPr>
              <a:t>今天在素材中国网上看到一个时尚风格的名片模板，觉得其配色非常不错，所以就有了按这个配色做个</a:t>
            </a:r>
            <a:r>
              <a:rPr b="0" lang="en-US" sz="2000" spc="-1" strike="noStrike">
                <a:solidFill>
                  <a:srgbClr val="56575b"/>
                </a:solidFill>
                <a:latin typeface="微软雅黑"/>
              </a:rPr>
              <a:t>PPT</a:t>
            </a:r>
            <a:r>
              <a:rPr b="0" lang="zh-CN" sz="2000" spc="-1" strike="noStrike">
                <a:solidFill>
                  <a:srgbClr val="56575b"/>
                </a:solidFill>
                <a:latin typeface="微软雅黑"/>
              </a:rPr>
              <a:t>模板的想法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6575b"/>
                </a:solidFill>
                <a:latin typeface="微软雅黑"/>
              </a:rPr>
              <a:t>原图欣赏：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3"/>
          <a:stretch/>
        </p:blipFill>
        <p:spPr>
          <a:xfrm>
            <a:off x="5064120" y="3530520"/>
            <a:ext cx="3395520" cy="20066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"/>
          <p:cNvPicPr/>
          <p:nvPr/>
        </p:nvPicPr>
        <p:blipFill>
          <a:blip r:embed="rId4"/>
          <a:stretch/>
        </p:blipFill>
        <p:spPr>
          <a:xfrm>
            <a:off x="550800" y="3530520"/>
            <a:ext cx="34527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灯片编号占位符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D91D-F5C1-40CF-A4B9-F13C621784AC}" type="slidenum">
              <a:rPr b="0" lang="zh-CN" sz="18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0" y="6122880"/>
            <a:ext cx="3240000" cy="10800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957400" y="6122880"/>
            <a:ext cx="3240360" cy="10800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"/>
          <p:cNvSpPr/>
          <p:nvPr/>
        </p:nvSpPr>
        <p:spPr>
          <a:xfrm>
            <a:off x="5915160" y="6122880"/>
            <a:ext cx="3240000" cy="10800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43 Image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28040" y="6348240"/>
            <a:ext cx="365040" cy="363600"/>
          </a:xfrm>
          <a:prstGeom prst="rect">
            <a:avLst/>
          </a:prstGeom>
          <a:ln w="0">
            <a:noFill/>
          </a:ln>
        </p:spPr>
      </p:pic>
      <p:pic>
        <p:nvPicPr>
          <p:cNvPr id="75" name="44 Imagen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6356520"/>
            <a:ext cx="363600" cy="363240"/>
          </a:xfrm>
          <a:prstGeom prst="rect">
            <a:avLst/>
          </a:prstGeom>
          <a:ln w="0">
            <a:noFill/>
          </a:ln>
        </p:spPr>
      </p:pic>
      <p:sp>
        <p:nvSpPr>
          <p:cNvPr id="76" name="圆角矩形 10"/>
          <p:cNvSpPr/>
          <p:nvPr/>
        </p:nvSpPr>
        <p:spPr>
          <a:xfrm>
            <a:off x="942840" y="2898720"/>
            <a:ext cx="5759640" cy="133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11"/>
          <p:cNvSpPr/>
          <p:nvPr/>
        </p:nvSpPr>
        <p:spPr>
          <a:xfrm>
            <a:off x="942840" y="4425840"/>
            <a:ext cx="5759640" cy="133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9"/>
          <p:cNvSpPr/>
          <p:nvPr/>
        </p:nvSpPr>
        <p:spPr>
          <a:xfrm>
            <a:off x="942840" y="1371600"/>
            <a:ext cx="5759640" cy="133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6575b"/>
                </a:solidFill>
                <a:latin typeface="微软雅黑"/>
              </a:rPr>
              <a:t>颜色说明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612520" y="3219120"/>
            <a:ext cx="3025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575b"/>
                </a:solidFill>
                <a:latin typeface="微软雅黑"/>
              </a:rPr>
              <a:t>RGB</a:t>
            </a:r>
            <a:r>
              <a:rPr b="1" lang="zh-CN" sz="2800" spc="-1" strike="noStrike">
                <a:solidFill>
                  <a:srgbClr val="56575b"/>
                </a:solidFill>
                <a:latin typeface="微软雅黑"/>
              </a:rPr>
              <a:t>：</a:t>
            </a:r>
            <a:r>
              <a:rPr b="1" lang="en-US" sz="2800" spc="-1" strike="noStrike">
                <a:solidFill>
                  <a:srgbClr val="56575b"/>
                </a:solidFill>
                <a:latin typeface="微软雅黑"/>
              </a:rPr>
              <a:t>86,87,91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圆角矩形 4"/>
          <p:cNvSpPr/>
          <p:nvPr/>
        </p:nvSpPr>
        <p:spPr>
          <a:xfrm>
            <a:off x="1325520" y="1495440"/>
            <a:ext cx="1079640" cy="108108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081080"/>
              <a:gd name="textAreaBottom" fmla="*/ 1028520 h 108108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5"/>
          <p:cNvSpPr/>
          <p:nvPr/>
        </p:nvSpPr>
        <p:spPr>
          <a:xfrm>
            <a:off x="1325520" y="3009960"/>
            <a:ext cx="1079640" cy="108108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081080"/>
              <a:gd name="textAreaBottom" fmla="*/ 1028520 h 108108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2612880" y="4754520"/>
            <a:ext cx="3956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edb"/>
                </a:solidFill>
                <a:latin typeface="微软雅黑"/>
              </a:rPr>
              <a:t>RGB</a:t>
            </a:r>
            <a:r>
              <a:rPr b="1" lang="zh-CN" sz="2800" spc="-1" strike="noStrike">
                <a:solidFill>
                  <a:srgbClr val="009edb"/>
                </a:solidFill>
                <a:latin typeface="微软雅黑"/>
              </a:rPr>
              <a:t>：</a:t>
            </a:r>
            <a:r>
              <a:rPr b="1" lang="en-US" sz="2800" spc="-1" strike="noStrike">
                <a:solidFill>
                  <a:srgbClr val="009edb"/>
                </a:solidFill>
                <a:latin typeface="微软雅黑"/>
              </a:rPr>
              <a:t>0,158,2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6"/>
          <p:cNvSpPr/>
          <p:nvPr/>
        </p:nvSpPr>
        <p:spPr>
          <a:xfrm>
            <a:off x="1325520" y="4551480"/>
            <a:ext cx="1079640" cy="1079280"/>
          </a:xfrm>
          <a:prstGeom prst="roundRect">
            <a:avLst>
              <a:gd name="adj" fmla="val 16667"/>
            </a:avLst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副标题 2"/>
          <p:cNvSpPr/>
          <p:nvPr/>
        </p:nvSpPr>
        <p:spPr>
          <a:xfrm>
            <a:off x="2612880" y="1711440"/>
            <a:ext cx="3457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3"/>
                </a:solidFill>
                <a:latin typeface="Calibri"/>
              </a:rPr>
              <a:t>RGB</a:t>
            </a:r>
            <a:r>
              <a:rPr b="1" lang="zh-CN" sz="1800" spc="-1" strike="noStrike">
                <a:solidFill>
                  <a:srgbClr val="ffcc03"/>
                </a:solidFill>
                <a:latin typeface="Calibri"/>
                <a:ea typeface="宋体"/>
              </a:rPr>
              <a:t>：</a:t>
            </a:r>
            <a:r>
              <a:rPr b="1" lang="en-US" sz="1800" spc="-1" strike="noStrike">
                <a:solidFill>
                  <a:srgbClr val="ffcc03"/>
                </a:solidFill>
                <a:latin typeface="Calibri"/>
              </a:rPr>
              <a:t>255,204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灯片编号占位符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03A3-BB05-4D1A-8A08-705913A18A25}" type="slidenum">
              <a:rPr b="0" lang="zh-CN" sz="18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0" y="6122880"/>
            <a:ext cx="3240000" cy="10800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2957400" y="6122880"/>
            <a:ext cx="3240360" cy="10800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5915160" y="6122880"/>
            <a:ext cx="3240000" cy="10800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43 Image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28040" y="6348240"/>
            <a:ext cx="365040" cy="363600"/>
          </a:xfrm>
          <a:prstGeom prst="rect">
            <a:avLst/>
          </a:prstGeom>
          <a:ln w="0">
            <a:noFill/>
          </a:ln>
        </p:spPr>
      </p:pic>
      <p:pic>
        <p:nvPicPr>
          <p:cNvPr id="92" name="44 Imagen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6356520"/>
            <a:ext cx="363600" cy="363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6575b"/>
                </a:solidFill>
                <a:latin typeface="微软雅黑"/>
              </a:rPr>
              <a:t>纯文字页面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124080" y="1413000"/>
            <a:ext cx="17640" cy="4392360"/>
            <a:chOff x="3124080" y="1413000"/>
            <a:chExt cx="17640" cy="4392360"/>
          </a:xfrm>
        </p:grpSpPr>
        <p:sp>
          <p:nvSpPr>
            <p:cNvPr id="95" name="9 Conector recto"/>
            <p:cNvSpPr/>
            <p:nvPr/>
          </p:nvSpPr>
          <p:spPr>
            <a:xfrm>
              <a:off x="3124080" y="1413000"/>
              <a:ext cx="0" cy="4392360"/>
            </a:xfrm>
            <a:prstGeom prst="line">
              <a:avLst/>
            </a:prstGeom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10 Conector recto"/>
            <p:cNvSpPr/>
            <p:nvPr/>
          </p:nvSpPr>
          <p:spPr>
            <a:xfrm>
              <a:off x="3141720" y="1413000"/>
              <a:ext cx="0" cy="439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3 CuadroTexto"/>
          <p:cNvSpPr/>
          <p:nvPr/>
        </p:nvSpPr>
        <p:spPr>
          <a:xfrm>
            <a:off x="547560" y="1413000"/>
            <a:ext cx="81439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</a:rPr>
              <a:t>Lorem Ipsum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is simply dummy text of the printing and typesetting indus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It was popularised in the 1960s with the release of Letraset sheets containing. Lorem Ipsum passages, and more recently with desktop publishing software like Ald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4"/>
          <p:cNvGrpSpPr/>
          <p:nvPr/>
        </p:nvGrpSpPr>
        <p:grpSpPr>
          <a:xfrm>
            <a:off x="6012000" y="1389240"/>
            <a:ext cx="17280" cy="4392360"/>
            <a:chOff x="6012000" y="1389240"/>
            <a:chExt cx="17280" cy="4392360"/>
          </a:xfrm>
        </p:grpSpPr>
        <p:sp>
          <p:nvSpPr>
            <p:cNvPr id="99" name="21 Conector recto"/>
            <p:cNvSpPr/>
            <p:nvPr/>
          </p:nvSpPr>
          <p:spPr>
            <a:xfrm>
              <a:off x="6012000" y="1389240"/>
              <a:ext cx="0" cy="4392360"/>
            </a:xfrm>
            <a:prstGeom prst="line">
              <a:avLst/>
            </a:prstGeom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22 Conector recto"/>
            <p:cNvSpPr/>
            <p:nvPr/>
          </p:nvSpPr>
          <p:spPr>
            <a:xfrm>
              <a:off x="6029280" y="1389240"/>
              <a:ext cx="0" cy="439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"/>
          <p:cNvSpPr/>
          <p:nvPr/>
        </p:nvSpPr>
        <p:spPr>
          <a:xfrm>
            <a:off x="360360" y="634824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D650-65E3-4263-B801-B47319AB54A6}" type="slidenum">
              <a:rPr b="0" lang="zh-CN" sz="18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0" y="6122880"/>
            <a:ext cx="3240000" cy="10800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2957400" y="6122880"/>
            <a:ext cx="3240360" cy="10800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0"/>
          <p:cNvSpPr/>
          <p:nvPr/>
        </p:nvSpPr>
        <p:spPr>
          <a:xfrm>
            <a:off x="5915160" y="6122880"/>
            <a:ext cx="3240000" cy="10800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43 Image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28040" y="6348240"/>
            <a:ext cx="365040" cy="363600"/>
          </a:xfrm>
          <a:prstGeom prst="rect">
            <a:avLst/>
          </a:prstGeom>
          <a:ln w="0">
            <a:noFill/>
          </a:ln>
        </p:spPr>
      </p:pic>
      <p:pic>
        <p:nvPicPr>
          <p:cNvPr id="108" name="44 Imagen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6356520"/>
            <a:ext cx="363600" cy="363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6575b"/>
                </a:solidFill>
                <a:latin typeface="微软雅黑"/>
              </a:rPr>
              <a:t>平行关系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39640" y="2205000"/>
            <a:ext cx="3311640" cy="3384720"/>
          </a:xfrm>
          <a:prstGeom prst="rect">
            <a:avLst/>
          </a:pr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000" y="2420640"/>
            <a:ext cx="2903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edb"/>
                </a:solidFill>
                <a:latin typeface="微软雅黑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edb"/>
                </a:solidFill>
                <a:latin typeface="微软雅黑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edb"/>
                </a:solidFill>
                <a:latin typeface="微软雅黑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edb"/>
                </a:solidFill>
                <a:latin typeface="微软雅黑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edb"/>
                </a:solidFill>
                <a:latin typeface="微软雅黑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edb"/>
                </a:solidFill>
                <a:latin typeface="微软雅黑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5148360" y="2205000"/>
            <a:ext cx="3311280" cy="3384720"/>
          </a:xfrm>
          <a:prstGeom prst="rect">
            <a:avLst/>
          </a:pr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内容占位符 2"/>
          <p:cNvSpPr/>
          <p:nvPr/>
        </p:nvSpPr>
        <p:spPr>
          <a:xfrm>
            <a:off x="5342040" y="2421000"/>
            <a:ext cx="29034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3"/>
                </a:solidFill>
                <a:latin typeface="Calibri"/>
                <a:ea typeface="宋体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3"/>
                </a:solidFill>
                <a:latin typeface="Calibri"/>
                <a:ea typeface="宋体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3"/>
                </a:solidFill>
                <a:latin typeface="Calibri"/>
                <a:ea typeface="宋体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3"/>
                </a:solidFill>
                <a:latin typeface="Calibri"/>
                <a:ea typeface="宋体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3"/>
                </a:solidFill>
                <a:latin typeface="Calibri"/>
                <a:ea typeface="宋体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3"/>
                </a:solidFill>
                <a:latin typeface="Calibri"/>
                <a:ea typeface="宋体"/>
              </a:rPr>
              <a:t>单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8" descr=""/>
          <p:cNvPicPr/>
          <p:nvPr/>
        </p:nvPicPr>
        <p:blipFill>
          <a:blip r:embed="rId3"/>
          <a:stretch/>
        </p:blipFill>
        <p:spPr>
          <a:xfrm>
            <a:off x="900000" y="15699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9" descr=""/>
          <p:cNvPicPr/>
          <p:nvPr/>
        </p:nvPicPr>
        <p:blipFill>
          <a:blip r:embed="rId4"/>
          <a:stretch/>
        </p:blipFill>
        <p:spPr>
          <a:xfrm>
            <a:off x="5435640" y="1494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0"/>
          <p:cNvSpPr/>
          <p:nvPr/>
        </p:nvSpPr>
        <p:spPr>
          <a:xfrm>
            <a:off x="1440000" y="16146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nd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6045120" y="16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nd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"/>
          <p:cNvSpPr/>
          <p:nvPr/>
        </p:nvSpPr>
        <p:spPr>
          <a:xfrm>
            <a:off x="1352520" y="292248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1ppt.com/moban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5B7E-885A-4D4D-A80A-56B39CAF29D1}" type="slidenum">
              <a:rPr b="0" lang="zh-CN" sz="1800" spc="-1" strike="noStrike">
                <a:solidFill>
                  <a:srgbClr val="000000"/>
                </a:solidFill>
                <a:latin typeface="微软雅黑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/>
          <p:cNvSpPr/>
          <p:nvPr/>
        </p:nvSpPr>
        <p:spPr>
          <a:xfrm>
            <a:off x="0" y="6122880"/>
            <a:ext cx="3240000" cy="10800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2957400" y="6122880"/>
            <a:ext cx="3240360" cy="10800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5915160" y="6122880"/>
            <a:ext cx="3240000" cy="10800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43 Image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28040" y="6348240"/>
            <a:ext cx="365040" cy="363600"/>
          </a:xfrm>
          <a:prstGeom prst="rect">
            <a:avLst/>
          </a:prstGeom>
          <a:ln w="0">
            <a:noFill/>
          </a:ln>
        </p:spPr>
      </p:pic>
      <p:pic>
        <p:nvPicPr>
          <p:cNvPr id="125" name="44 Imagen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308720" y="6356520"/>
            <a:ext cx="363600" cy="363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6575b"/>
                </a:solidFill>
                <a:latin typeface="微软雅黑"/>
              </a:rPr>
              <a:t>图片展示页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5292720" y="1746360"/>
            <a:ext cx="2425680" cy="3120840"/>
            <a:chOff x="5292720" y="1746360"/>
            <a:chExt cx="2425680" cy="3120840"/>
          </a:xfrm>
        </p:grpSpPr>
        <p:sp>
          <p:nvSpPr>
            <p:cNvPr id="128" name="2 Marcador de contenido"/>
            <p:cNvSpPr/>
            <p:nvPr/>
          </p:nvSpPr>
          <p:spPr>
            <a:xfrm>
              <a:off x="5292720" y="4384800"/>
              <a:ext cx="24256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2 Marcador de contenido"/>
            <p:cNvSpPr/>
            <p:nvPr/>
          </p:nvSpPr>
          <p:spPr>
            <a:xfrm>
              <a:off x="5292720" y="3879720"/>
              <a:ext cx="24256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8"/>
            <p:cNvSpPr/>
            <p:nvPr/>
          </p:nvSpPr>
          <p:spPr>
            <a:xfrm>
              <a:off x="5292720" y="1746360"/>
              <a:ext cx="2276640" cy="1929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4"/>
          <p:cNvGrpSpPr/>
          <p:nvPr/>
        </p:nvGrpSpPr>
        <p:grpSpPr>
          <a:xfrm>
            <a:off x="1187280" y="1779480"/>
            <a:ext cx="2427480" cy="3141720"/>
            <a:chOff x="1187280" y="1779480"/>
            <a:chExt cx="2427480" cy="3141720"/>
          </a:xfrm>
        </p:grpSpPr>
        <p:sp>
          <p:nvSpPr>
            <p:cNvPr id="132" name="2 Marcador de contenido"/>
            <p:cNvSpPr/>
            <p:nvPr/>
          </p:nvSpPr>
          <p:spPr>
            <a:xfrm>
              <a:off x="1187280" y="4438800"/>
              <a:ext cx="24274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f5f5f"/>
                  </a:solidFill>
                  <a:latin typeface="Calibri"/>
                </a:rPr>
                <a:t>Lorem Ipsum is simply dummy text of the printing and typesetting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2 Marcador de contenido"/>
            <p:cNvSpPr/>
            <p:nvPr/>
          </p:nvSpPr>
          <p:spPr>
            <a:xfrm>
              <a:off x="1187280" y="3954960"/>
              <a:ext cx="24274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Calibri"/>
                </a:rPr>
                <a:t>Mr. No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6"/>
            <p:cNvSpPr/>
            <p:nvPr/>
          </p:nvSpPr>
          <p:spPr>
            <a:xfrm>
              <a:off x="1187280" y="1779480"/>
              <a:ext cx="2278080" cy="1929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6"/>
          <p:cNvSpPr/>
          <p:nvPr/>
        </p:nvSpPr>
        <p:spPr>
          <a:xfrm>
            <a:off x="-7920" y="3933720"/>
            <a:ext cx="9151920" cy="2924280"/>
          </a:xfrm>
          <a:prstGeom prst="rect">
            <a:avLst/>
          </a:prstGeom>
          <a:solidFill>
            <a:srgbClr val="56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10 Imagen" descr=""/>
          <p:cNvPicPr/>
          <p:nvPr/>
        </p:nvPicPr>
        <p:blipFill>
          <a:blip r:embed="rId1"/>
          <a:stretch/>
        </p:blipFill>
        <p:spPr>
          <a:xfrm>
            <a:off x="179280" y="399960"/>
            <a:ext cx="3986280" cy="3529080"/>
          </a:xfrm>
          <a:prstGeom prst="rect">
            <a:avLst/>
          </a:prstGeom>
          <a:ln w="0">
            <a:noFill/>
          </a:ln>
        </p:spPr>
      </p:pic>
      <p:sp>
        <p:nvSpPr>
          <p:cNvPr id="137" name="矩形 9"/>
          <p:cNvSpPr/>
          <p:nvPr/>
        </p:nvSpPr>
        <p:spPr>
          <a:xfrm>
            <a:off x="0" y="3968640"/>
            <a:ext cx="3240000" cy="2523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2957400" y="3968640"/>
            <a:ext cx="3240360" cy="25236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1"/>
          <p:cNvSpPr/>
          <p:nvPr/>
        </p:nvSpPr>
        <p:spPr>
          <a:xfrm>
            <a:off x="5915160" y="3968640"/>
            <a:ext cx="3240000" cy="25236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1640" y="620640"/>
            <a:ext cx="352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6575b"/>
                </a:solidFill>
                <a:latin typeface="Impact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4861080" y="2502000"/>
            <a:ext cx="35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你可以自由分发此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，但不得用于商业用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转发请保留此版权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5:45:00Z</dcterms:created>
  <dc:creator>Guo Baocheng</dc:creator>
  <dc:description/>
  <cp:keywords/>
  <dc:language>en-US</dc:language>
  <cp:lastModifiedBy>a</cp:lastModifiedBy>
  <cp:lastPrinted>1899-12-30T00:00:00Z</cp:lastPrinted>
  <dcterms:modified xsi:type="dcterms:W3CDTF">2015-07-25T09:19:00Z</dcterms:modified>
  <cp:revision>15</cp:revision>
  <dc:subject/>
  <dc:title>RGB：0,158,25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