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F23-09AF-46D6-88CF-3766A4A4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8CB-7108-4C58-85B6-DB57D732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E76-C9BE-4827-9878-5305C274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989-CADD-4923-B713-DADEA068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672-642D-43E7-8164-83756FED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ACA-B7BD-4874-B051-29E99370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9B0A-47B2-4657-9B71-95CBDD8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4D1A-8E32-44CC-A764-91DD9A59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B46-ADBE-44CF-9785-6CF5D071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72C-80F4-46A5-9F9E-15066607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8BB-D5EB-4B62-99CC-199F84A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284C-3A36-4E43-840A-D0AA7325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2625-2C0E-46A0-B203-86F184E951C4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4720" y="1630440"/>
            <a:ext cx="79200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橙红色热情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2257560"/>
            <a:ext cx="5395680" cy="62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  <a:ea typeface="宋体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618840"/>
            <a:ext cx="77756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ca6800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</a:t>
            </a:r>
            <a:r>
              <a:rPr b="0" lang="fr-FR" sz="2400" spc="-1" strike="noStrike">
                <a:solidFill>
                  <a:srgbClr val="b9a288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319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ca6800"/>
                </a:solidFill>
                <a:latin typeface="Arial"/>
                <a:ea typeface="宋体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a6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a680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2:45Z</dcterms:created>
  <dc:creator>ppt宝藏</dc:creator>
  <dc:description/>
  <dc:language>en-US</dc:language>
  <cp:lastModifiedBy>a</cp:lastModifiedBy>
  <dcterms:modified xsi:type="dcterms:W3CDTF">2015-07-25T06:56:03Z</dcterms:modified>
  <cp:revision>5</cp:revision>
  <dc:subject/>
  <dc:title>www.pptbz.com</dc:title>
</cp:coreProperties>
</file>