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B0BA-0B6D-4CE6-AB4A-A9743FD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6F7F3-01BD-404E-8468-9524EB9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D1CE9-BB05-453D-83A0-61460751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FFBB-EC58-481A-B99B-0B79FBC6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A497E-CA85-4ADE-B9FA-BD22E67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6E646-6FF2-4B67-B77D-9E53D9D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BA45-1255-4ACB-B277-FC8E27E3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FC08-7AAB-4724-9ED7-3659EFCD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4C5C1-53D6-4993-9960-C39D695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9DD5A-FE58-4701-ADB2-15A5A0BA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C001-5DD5-45AC-842D-D2183A2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D4C79-7366-4B04-ACEC-4990A5C9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05487-4082-4332-8354-41416B2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4628A-D297-4D4C-B5A5-B8EC2FA4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25212-1445-4B87-95EF-983EFFF8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70A85-4330-407B-859B-A192D2C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A86A5-1686-456C-BAC7-9208A75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2402-DECA-41EE-918C-1E49AF0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FE96E-C9AD-43F6-A3B0-3DDDD1E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C9881-92A0-47C0-8CE2-EF2C4265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06F5B-FC41-4744-8B8A-0AB61C70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92D11-EC0C-424C-9623-9FC33A5A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AD06C-9C7A-4E55-8AC6-9F582EA3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4F412-26DA-45E5-813A-92D2CFEA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E2EEF-6ACD-4765-9DFE-5A11D2F0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C9AFF-F8E2-4AE2-AA75-86378E70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B6219-B184-4D93-9E83-8698837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C2E0D-C82F-46F5-B243-C28F776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D0C56-E082-4662-B85E-CE3F189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D6821-E506-4616-9A57-0EDF6C8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3DD-97F5-42D3-A97E-FADBFA71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276B5-FF28-402B-AA38-2F65E48D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EA581-A6D3-4333-9F62-379150DD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8071C-1A24-4FD9-BF4E-641E48C1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FA5FC-AEAB-44CB-B2F8-F23293A5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43CF7-C932-4DE5-A55A-D5622CE7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B0AFB-4289-4445-8875-F1CF0069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43079-3933-4EF9-ADEA-1B44E129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CAB76-3393-46C5-B16E-71C935D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3383A-FC99-4644-88FB-CF3CE748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AA139-6F63-4F39-9402-2E1F42C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C35-C8C8-4F40-89F7-FD57A070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F470A-C62A-4AFD-8384-25B64AF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E13DE-7549-48EF-B091-F9FC662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F9002-B54F-4400-A90C-32B548B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89A2-8E94-43FE-ACD1-1113D470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B3985-82CF-4AB7-A9D9-CA77D26F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976-EAE5-4CC1-85D7-180A8E24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871-AC3C-4404-A9FE-D319CBF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A6E-8207-43D9-895E-8F24E676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174-795E-4E29-91F8-5132B92E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B10-345E-4F9C-834B-AF52885D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849-09E6-4163-9AAA-9F7C26C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8E9-751D-407C-A700-C1776F0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CFE-9A97-4419-8688-A42931C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99D-E3EB-47EE-AB8E-6B02553D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EE1-4A64-49B8-9BFE-311EBC92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4872-448B-44B5-965A-D8FBE26F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6DD9-60DA-4A80-BE07-FBC90E11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8955-8C1E-4924-B98C-71601D69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401-5CFD-4302-BA21-0DAAC0D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8C08-1873-4F28-A758-D1ABBAA8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6FE-89DD-4492-832D-D216012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095F-AF5D-4B0E-8BAB-15EE3D7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B9C1-FA69-40F4-937B-EA8A74C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5327-9D94-46DD-936E-276F55B0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589B-42B2-4047-A56D-15CC6B95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057-9203-4DE1-B98E-ECDFD46E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80CA-C79C-4CEF-899D-5B84764B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A5C2-4451-4FCC-A1F9-D20F88DA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5FAC-6CAE-46B9-8422-BD64EFC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22AF-8732-42C4-88BC-C97637C3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51B2-501E-496F-B4D5-0751D73F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5942-06B3-4805-984E-ED259B6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4DC0-2E98-48E0-890D-DBF638C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13D8-B365-4D1C-8BC3-8DB4AAF7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3D2A-78FB-43F8-AE91-CCAC5ED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16B1-8421-4CE8-8077-C3D3B45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CD86-FCEB-44DD-8612-68BC76D1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32D3-F4ED-4185-8D63-E7216EBF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044F-A9FA-4ECE-8B86-C8604740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5C06-524B-4950-B92A-3D44E91D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F8B5-49A5-4305-B57C-1AFDCFF8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3ADF-9716-4CAF-9FF7-9E509EE7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8780-E623-4DC0-8A43-54237402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DD69-0403-46C9-9E66-B079E7E9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4366-9B93-4C97-8892-5D8D814C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8F68-3314-4658-B650-5FDBF98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F07F-062B-4AA2-B46D-C41C9C1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DD9D-951D-49EB-B931-824C2CA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5991-F8E5-465C-9890-2DF3881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868E-B615-4607-A506-E8C4F19D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FEF3-B874-4588-ADB3-0FF66117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13AA-E42A-4686-90EF-B9804141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692C-9F0C-4915-9998-8E3D7BC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B07C-76C5-4836-A8F4-E8EC813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D557F-25EF-4E9B-A06E-10039AD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113E-943F-4B51-BC8C-06F35D4C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2D73E-FBE6-4816-B738-1D64A341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1347E-EA3C-4240-8CC3-0CEEE8E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DB11E-FAB8-4DB0-82CA-C6F793F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59222-EEB1-498A-AB1C-C2005F8E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0440-9EEE-43E2-9466-51AC7D23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37CE-839E-4A71-B4CA-58550E22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FD44-5B6E-4AAA-AFA2-E4A25696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85A4-3483-4E63-99C7-D0513EC3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BFAA3-44EE-482E-A415-13FF48AA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90B4-78DD-4A4C-A3EF-75A1BE2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8CF8-ED94-45DF-BF8E-2A2FF216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66BE-8D59-466A-B321-AB02D45A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DF0B-A9A7-4497-8AC0-AA3DA37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85B50-2AF2-49AC-A7D6-FACAC90E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07DB8-3D58-4E62-A0A2-68F8B98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2D9E-0848-4F16-B130-2ED0793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D01C-3CA6-46ED-ADC9-4010C87B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DC71-145D-4383-A24A-54D68C70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B77C-285F-410F-ADB5-F8D8CA64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D0A8F-BA2C-42F1-90D1-7BB7B11B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5376-C466-42BD-93B2-BFB7EA2E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829A-C8E2-4078-9DFE-3322E5F8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61761-8311-4537-A70D-3C03789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158D-0A64-45F0-A14C-643336F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781D4-317E-426E-850E-78469F42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43DA4-407D-4DEF-AD71-FAA0B05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8266-0C74-4E53-87F3-20601DA4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C914A-E7A3-461C-B8B2-59C971E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02268-A163-49BA-B178-D61E9750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FFE9-A91E-4AE9-8AA1-5C0DEA77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95C83-A934-493D-A13F-7C671EAC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C2282-7CCE-4BA9-A20E-1C86BEFB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59C1F-2BCF-456F-A6FF-1E141CCD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95BD5-108D-454F-8D6F-98437E7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ED83-DF09-47B1-9F0B-B5CE70A373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8C2C-B340-4988-8979-55FB1E90F31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946-9AD2-41DD-A0EF-34EDDB74E3D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6360-C9FA-41C8-887A-9733820BF4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CF3-546B-478C-B499-E6237CBF847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78B-F0AC-4270-BA77-3A01B71AC8A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30B7-B10C-4328-A6AF-103F80235B2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86E4-4764-44BE-9F95-9C5765DD62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59D6-2CD3-45B9-A771-6B11207A0E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76C0-EC13-41F6-A085-5208432A06D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200C-64A0-4D1B-9962-85838B5DF6B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2066400" y="250524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绿简洁清新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2794320" y="18046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 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www.pptbz.com</dc:creator>
  <dc:description/>
  <dc:language>en-US</dc:language>
  <cp:lastModifiedBy>a</cp:lastModifiedBy>
  <dcterms:modified xsi:type="dcterms:W3CDTF">2015-07-25T12:24:26Z</dcterms:modified>
  <cp:revision>12</cp:revision>
  <dc:subject>商务PPT模板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